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41.jpeg" ContentType="image/jpeg"/>
  <Override PartName="/ppt/media/image66.png" ContentType="image/png"/>
  <Override PartName="/ppt/media/image40.jpeg" ContentType="image/jpeg"/>
  <Override PartName="/ppt/media/image31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32.jpeg" ContentType="image/jpeg"/>
  <Override PartName="/ppt/media/image57.png" ContentType="image/png"/>
  <Override PartName="/ppt/media/image10.png" ContentType="image/png"/>
  <Override PartName="/ppt/media/image36.jpeg" ContentType="image/jpeg"/>
  <Override PartName="/ppt/media/image37.jpeg" ContentType="image/jpeg"/>
  <Override PartName="/ppt/media/image20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76.png" ContentType="image/png"/>
  <Override PartName="/ppt/media/image64.png" ContentType="image/png"/>
  <Override PartName="/ppt/media/image11.jpeg" ContentType="image/jpeg"/>
  <Override PartName="/ppt/media/image24.png" ContentType="image/png"/>
  <Override PartName="/ppt/media/image75.png" ContentType="image/png"/>
  <Override PartName="/ppt/media/image55.jpeg" ContentType="image/jpeg"/>
  <Override PartName="/ppt/media/image63.png" ContentType="image/png"/>
  <Override PartName="/ppt/media/image74.png" ContentType="image/png"/>
  <Override PartName="/ppt/media/image62.png" ContentType="image/png"/>
  <Override PartName="/ppt/media/image73.png" ContentType="image/png"/>
  <Override PartName="/ppt/media/image61.png" ContentType="image/png"/>
  <Override PartName="/ppt/media/image70.png" ContentType="image/png"/>
  <Override PartName="/ppt/media/image72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16.png" ContentType="image/png"/>
  <Override PartName="/ppt/media/image4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17.png" ContentType="image/png"/>
  <Override PartName="/ppt/media/image5.png" ContentType="image/png"/>
  <Override PartName="/ppt/media/image39.jpeg" ContentType="image/jpeg"/>
  <Override PartName="/ppt/media/image13.png" ContentType="image/png"/>
  <Override PartName="/ppt/media/image54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21C-CD6D-4260-B196-F59143AB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454-2558-4F44-8421-F4719E3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185-EE82-46DE-919D-D494B110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54140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7878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9A6-66B7-4435-B575-C17AD653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25DE-2C04-4794-AAB5-1A949806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CEE2-6E7B-4ECC-9796-FDB5104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4931-8BD2-411E-A816-A6C95E66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CDD-86B1-4488-80EB-2D4AB005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9C09-5328-40E6-8FD5-B6A9CA36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95280" y="982080"/>
            <a:ext cx="96008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8B48-90B7-4C60-B513-F0FDCC6C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142D-B104-4210-BC25-DD8BC241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BEB-19E0-4F0B-8577-2EBBD8AD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B46C-C027-4D55-8328-B0EDFAA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9067-6B9D-411A-9D04-9C0715EC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7AC9-0C29-4344-9E72-2995AF27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16BF-BEE9-4A9D-9C16-64F940C5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952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54140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77878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FCF7-40D3-4C87-B3E3-DCE8FE50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696A-0566-4F33-9BDB-B93A586B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28D2-F80C-42BD-A3DB-9A244222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2684-3F6F-4FAE-BB8B-4EE27D3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8905-F349-4DDC-AB2F-4CCBA7B6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1EDC-8138-4D92-AE6F-07A8504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C8E-3381-4FEA-8E82-D2B1B684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95280" y="982080"/>
            <a:ext cx="96008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ACEB-E329-4CF2-9152-74F9FB2D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8AC6-5094-410C-B9CD-AC8C354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23DD-DCA0-45E7-9296-02B4BA96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335D-92BC-4033-ADEA-03F126C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831B-3A29-4E6B-BBB2-A8A4D85B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CAFF-3471-429F-B706-868C8B7A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2952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454140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77878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8ECC9-BAF2-45A6-8814-20585DDB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3C1D-392C-4ED4-B1DF-0932545E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EB84-E6CC-4565-84CA-B0B9D8A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8A21-0DD4-4174-AD34-A6A5D8A8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77B-2618-4358-94F9-9D379C0B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288C-A5E9-4046-9721-866E1752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260E-72EF-47AA-BA37-C2814B5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95280" y="982080"/>
            <a:ext cx="96008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ABA8-D13C-43A2-81FD-DFF88CD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13143-57C3-4538-B526-1B09A54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3C5E-15F8-4642-ADF7-6C81AFA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E0136-B7D7-4654-BC54-F8E0A210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04C7-570F-48FB-86C4-B91DC199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14627-61B1-45E9-A12B-33616AAE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2952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54140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7878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BAC2-33E8-4BD9-B8AD-7A8164C1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72E3-578B-47CF-82BB-4906A360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8F8-CADB-4FC6-B7F8-88A15D18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2C732-F0B3-4E0B-B72B-C9CE41B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A8F3-991A-4B8B-8866-6F5D072D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A65A-E207-400A-8C0F-622CA6CF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8D65-3717-40BE-82EF-328EFE2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295280" y="982080"/>
            <a:ext cx="96008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5005-6F0E-407F-8BC8-0496604C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A8B0-2782-4FA9-A40F-9ACFCF6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BFAF-3DE7-40A9-B089-04BFA298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F6AF6-A2BD-4CC7-AFD4-C375926C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3A7B-117D-4D21-ABDB-0D52DC67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9E0A9-1459-4A98-A8FF-84C07E84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982080"/>
            <a:ext cx="960084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23C-A528-43BA-B5F8-90C51165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2952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54140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7787880" y="4290480"/>
            <a:ext cx="309132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3A00-A203-40FE-AF83-F2428121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1BA-C824-4CF9-A251-F0CAC95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15040" y="42904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871-C54C-4DFC-B9BB-68A21F8E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290480"/>
            <a:ext cx="960084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0C6-6028-4318-BD6A-C44E73E0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" name="Group 6"/>
          <p:cNvGrpSpPr/>
          <p:nvPr/>
        </p:nvGrpSpPr>
        <p:grpSpPr>
          <a:xfrm>
            <a:off x="-16920" y="0"/>
            <a:ext cx="12230640" cy="6855840"/>
            <a:chOff x="-16920" y="0"/>
            <a:chExt cx="12230640" cy="6855840"/>
          </a:xfrm>
        </p:grpSpPr>
        <p:pic>
          <p:nvPicPr>
            <p:cNvPr id="6" name="Picture 15" descr="HD-PanelTitleR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25"/>
            <p:cNvSpPr/>
            <p:nvPr/>
          </p:nvSpPr>
          <p:spPr>
            <a:xfrm>
              <a:off x="2328480" y="1540800"/>
              <a:ext cx="7543440" cy="383508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16" descr="HDRibbonTitle-UniformTrim.png"/>
            <p:cNvPicPr/>
            <p:nvPr/>
          </p:nvPicPr>
          <p:blipFill>
            <a:blip r:embed="rId7"/>
            <a:stretch/>
          </p:blipFill>
          <p:spPr>
            <a:xfrm>
              <a:off x="-1692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9" descr="HDRibbonTitle-UniformTrim.png"/>
            <p:cNvPicPr/>
            <p:nvPr/>
          </p:nvPicPr>
          <p:blipFill>
            <a:blip r:embed="rId8"/>
            <a:stretch/>
          </p:blipFill>
          <p:spPr>
            <a:xfrm>
              <a:off x="973620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92440" y="1871280"/>
            <a:ext cx="68151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262626"/>
                </a:solidFill>
                <a:latin typeface="Garamond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7983360" y="5037840"/>
            <a:ext cx="89712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2692440" y="5037840"/>
            <a:ext cx="52142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956800" y="5037840"/>
            <a:ext cx="55080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1447EC-EC1F-4155-ABA8-5A6E57F08E9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" name="Straight Connector 14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53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7" name="Straight Connector 6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Garamon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Edit Master text styles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cond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Third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Fourth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ifth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6513F-12A6-4B61-A121-82040B8EBE74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00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Garamon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2C68A4-6842-44B4-86E6-93A1035578FA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Straight Connector 13"/>
          <p:cNvCxnSpPr/>
          <p:nvPr/>
        </p:nvCxnSpPr>
        <p:spPr>
          <a:xfrm>
            <a:off x="1396080" y="2421360"/>
            <a:ext cx="940752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47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53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53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75840" y="1744920"/>
            <a:ext cx="4497840" cy="430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2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12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2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12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2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12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2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12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2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12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2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12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2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12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6285600" y="1764000"/>
            <a:ext cx="4686480" cy="463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3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0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dt" idx="11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2320" indent="0" algn="r">
              <a:lnSpc>
                <a:spcPts val="1151"/>
              </a:lnSpc>
              <a:buNone/>
              <a:defRPr b="0" lang="en-US" sz="97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marL="22320" indent="0" algn="r">
              <a:lnSpc>
                <a:spcPts val="1151"/>
              </a:lnSpc>
              <a:buNone/>
            </a:pPr>
            <a:fld id="{08E7143B-DB2D-4B8B-8A2B-FA7AA6F27E6B}" type="slidenum">
              <a:rPr b="0" lang="en-US" sz="97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97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"/>
          <p:cNvGrpSpPr/>
          <p:nvPr/>
        </p:nvGrpSpPr>
        <p:grpSpPr>
          <a:xfrm>
            <a:off x="-15840" y="0"/>
            <a:ext cx="12229560" cy="6855840"/>
            <a:chOff x="-15840" y="0"/>
            <a:chExt cx="12229560" cy="6855840"/>
          </a:xfrm>
        </p:grpSpPr>
        <p:pic>
          <p:nvPicPr>
            <p:cNvPr id="194" name="Picture 7" descr="H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8"/>
            <p:cNvSpPr/>
            <p:nvPr/>
          </p:nvSpPr>
          <p:spPr>
            <a:xfrm>
              <a:off x="608040" y="609480"/>
              <a:ext cx="10972440" cy="563832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9" descr="HDRibbonContent-UniformTrim.png"/>
            <p:cNvPicPr/>
            <p:nvPr/>
          </p:nvPicPr>
          <p:blipFill>
            <a:blip r:embed="rId4"/>
            <a:stretch/>
          </p:blipFill>
          <p:spPr>
            <a:xfrm>
              <a:off x="-15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0" descr="HDRibbonContent-UniformTrim.png"/>
            <p:cNvPicPr/>
            <p:nvPr/>
          </p:nvPicPr>
          <p:blipFill>
            <a:blip r:embed="rId5"/>
            <a:stretch/>
          </p:blipFill>
          <p:spPr>
            <a:xfrm>
              <a:off x="1143684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24280" y="589680"/>
            <a:ext cx="814320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9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8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3"/>
          </p:nvPr>
        </p:nvSpPr>
        <p:spPr>
          <a:xfrm>
            <a:off x="1295280" y="5969160"/>
            <a:ext cx="7305480" cy="2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4"/>
          </p:nvPr>
        </p:nvSpPr>
        <p:spPr>
          <a:xfrm>
            <a:off x="8677440" y="5969160"/>
            <a:ext cx="1599840" cy="2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5"/>
          </p:nvPr>
        </p:nvSpPr>
        <p:spPr>
          <a:xfrm>
            <a:off x="10353960" y="5969160"/>
            <a:ext cx="542160" cy="2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2320" indent="0" algn="r">
              <a:lnSpc>
                <a:spcPts val="1151"/>
              </a:lnSpc>
              <a:buNone/>
              <a:defRPr b="0" lang="en-US" sz="97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marL="22320" indent="0" algn="r">
              <a:lnSpc>
                <a:spcPts val="1151"/>
              </a:lnSpc>
              <a:buNone/>
            </a:pPr>
            <a:fld id="{8D3AF439-0C86-477F-93C8-D5DEC5738B21}" type="slidenum">
              <a:rPr b="0" lang="en-US" sz="97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9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ic.keeler@alexandriava.gov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image" Target="../media/image70.png"/><Relationship Id="rId15" Type="http://schemas.openxmlformats.org/officeDocument/2006/relationships/image" Target="../media/image71.png"/><Relationship Id="rId16" Type="http://schemas.openxmlformats.org/officeDocument/2006/relationships/image" Target="../media/image72.png"/><Relationship Id="rId17" Type="http://schemas.openxmlformats.org/officeDocument/2006/relationships/image" Target="../media/image73.png"/><Relationship Id="rId18" Type="http://schemas.openxmlformats.org/officeDocument/2006/relationships/image" Target="../media/image74.png"/><Relationship Id="rId19" Type="http://schemas.openxmlformats.org/officeDocument/2006/relationships/image" Target="../media/image75.png"/><Relationship Id="rId20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88120" y="1568880"/>
            <a:ext cx="6815160" cy="185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Environmental Review Session</a:t>
            </a: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NCDA 2019 </a:t>
            </a: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 Legislative Conference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688120" y="3665880"/>
            <a:ext cx="681516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lnSpc>
                <a:spcPct val="100000"/>
              </a:lnSpc>
              <a:spcBef>
                <a:spcPts val="4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ric Keeler, Deputy Directo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ffice of Housing, Alexandria 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100" spc="-1" strike="noStrike" u="sng">
                <a:solidFill>
                  <a:srgbClr val="a8bf4d"/>
                </a:solidFill>
                <a:uFillTx/>
                <a:latin typeface="Times New Roman"/>
                <a:hlinkClick r:id="rId1"/>
              </a:rPr>
              <a:t>eric.keeler@alexandriava.g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2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703-746-499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13520" y="919800"/>
            <a:ext cx="847116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2124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1" strike="noStrike">
                <a:solidFill>
                  <a:srgbClr val="262626"/>
                </a:solidFill>
                <a:latin typeface="Garamond"/>
              </a:rPr>
              <a:t>RE’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21960" indent="0" algn="ctr">
              <a:lnSpc>
                <a:spcPct val="100000"/>
              </a:lnSpc>
              <a:spcBef>
                <a:spcPts val="31"/>
              </a:spcBef>
              <a:buNone/>
            </a:pPr>
            <a:r>
              <a:rPr b="1" lang="en-US" sz="2470" spc="-1" strike="noStrike">
                <a:solidFill>
                  <a:srgbClr val="262626"/>
                </a:solidFill>
                <a:latin typeface="Garamond"/>
              </a:rPr>
              <a:t>[§58.12]</a:t>
            </a:r>
            <a:endParaRPr b="0" lang="en-US" sz="24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object 5"/>
          <p:cNvSpPr/>
          <p:nvPr/>
        </p:nvSpPr>
        <p:spPr>
          <a:xfrm>
            <a:off x="10085400" y="6149160"/>
            <a:ext cx="78120" cy="1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>
              <a:lnSpc>
                <a:spcPts val="1049"/>
              </a:lnSpc>
            </a:pPr>
            <a:r>
              <a:rPr b="0" lang="en-US" sz="880" spc="-4" strike="noStrike">
                <a:solidFill>
                  <a:srgbClr val="888888"/>
                </a:solidFill>
                <a:latin typeface="Times New Roman"/>
              </a:rPr>
              <a:t>7</a:t>
            </a:r>
            <a:endParaRPr b="0" lang="en-US" sz="8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3"/>
          <p:cNvSpPr/>
          <p:nvPr/>
        </p:nvSpPr>
        <p:spPr>
          <a:xfrm>
            <a:off x="2117880" y="2438640"/>
            <a:ext cx="9666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5520" bIns="0" anchor="t">
            <a:spAutoFit/>
          </a:bodyPr>
          <a:p>
            <a:pPr marL="414720" indent="-403560">
              <a:lnSpc>
                <a:spcPts val="3433"/>
              </a:lnSpc>
              <a:spcBef>
                <a:spcPts val="516"/>
              </a:spcBef>
              <a:tabLst>
                <a:tab algn="l" pos="0"/>
              </a:tabLst>
            </a:pP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must develop the capacity to conduct environmental</a:t>
            </a:r>
            <a:r>
              <a:rPr b="0" lang="en-US" sz="317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reviews: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marL="667440" indent="-252720">
              <a:lnSpc>
                <a:spcPct val="100000"/>
              </a:lnSpc>
              <a:spcBef>
                <a:spcPts val="303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666720"/>
                <a:tab algn="l" pos="667440"/>
              </a:tabLst>
            </a:pPr>
            <a:r>
              <a:rPr b="1" lang="en-US" sz="2830" spc="-32" strike="noStrike">
                <a:solidFill>
                  <a:srgbClr val="000000"/>
                </a:solidFill>
                <a:latin typeface="Times New Roman"/>
              </a:rPr>
              <a:t>Technical </a:t>
            </a:r>
            <a:r>
              <a:rPr b="1" lang="en-US" sz="2830" spc="-4" strike="noStrike">
                <a:solidFill>
                  <a:srgbClr val="000000"/>
                </a:solidFill>
                <a:latin typeface="Times New Roman"/>
              </a:rPr>
              <a:t>capacity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:--Professional</a:t>
            </a:r>
            <a:r>
              <a:rPr b="0" lang="en-US" sz="2830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Expertise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817920">
              <a:lnSpc>
                <a:spcPct val="100000"/>
              </a:lnSpc>
              <a:spcBef>
                <a:spcPts val="334"/>
              </a:spcBef>
              <a:tabLst>
                <a:tab algn="l" pos="666720"/>
                <a:tab algn="l" pos="667440"/>
              </a:tabLst>
            </a:pPr>
            <a:r>
              <a:rPr b="0" lang="en-US" sz="2250" spc="-1" strike="noStrike">
                <a:solidFill>
                  <a:srgbClr val="000000"/>
                </a:solidFill>
                <a:latin typeface="Times New Roman"/>
              </a:rPr>
              <a:t>‾</a:t>
            </a:r>
            <a:r>
              <a:rPr b="0" lang="en-US" sz="2250" spc="26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In-House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817920">
              <a:lnSpc>
                <a:spcPct val="100000"/>
              </a:lnSpc>
              <a:spcBef>
                <a:spcPts val="340"/>
              </a:spcBef>
              <a:tabLst>
                <a:tab algn="l" pos="666720"/>
                <a:tab algn="l" pos="667440"/>
              </a:tabLst>
            </a:pPr>
            <a:r>
              <a:rPr b="0" lang="en-US" sz="2250" spc="-1" strike="noStrike">
                <a:solidFill>
                  <a:srgbClr val="000000"/>
                </a:solidFill>
                <a:latin typeface="Times New Roman"/>
              </a:rPr>
              <a:t>‾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r>
              <a:rPr b="0" lang="en-US" sz="2830" spc="-30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667440" indent="-252720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SzPct val="84000"/>
              <a:buFont typeface="Times New Roman"/>
              <a:buChar char="•"/>
              <a:tabLst>
                <a:tab algn="l" pos="666720"/>
                <a:tab algn="l" pos="667440"/>
              </a:tabLst>
            </a:pPr>
            <a:r>
              <a:rPr b="1" lang="en-US" sz="283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r>
              <a:rPr b="1" lang="en-US" sz="283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30" spc="-4" strike="noStrike">
                <a:solidFill>
                  <a:srgbClr val="000000"/>
                </a:solidFill>
                <a:latin typeface="Times New Roman"/>
              </a:rPr>
              <a:t>capability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817920">
              <a:lnSpc>
                <a:spcPct val="100000"/>
              </a:lnSpc>
              <a:spcBef>
                <a:spcPts val="340"/>
              </a:spcBef>
              <a:tabLst>
                <a:tab algn="l" pos="666720"/>
                <a:tab algn="l" pos="667440"/>
              </a:tabLst>
            </a:pPr>
            <a:r>
              <a:rPr b="0" lang="en-US" sz="2380" spc="1" strike="noStrike">
                <a:solidFill>
                  <a:srgbClr val="000000"/>
                </a:solidFill>
                <a:latin typeface="Times New Roman"/>
              </a:rPr>
              <a:t>‾</a:t>
            </a:r>
            <a:r>
              <a:rPr b="0" lang="en-US" sz="2380" spc="18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817920">
              <a:lnSpc>
                <a:spcPct val="100000"/>
              </a:lnSpc>
              <a:spcBef>
                <a:spcPts val="334"/>
              </a:spcBef>
              <a:tabLst>
                <a:tab algn="l" pos="666720"/>
                <a:tab algn="l" pos="667440"/>
              </a:tabLst>
            </a:pPr>
            <a:r>
              <a:rPr b="0" lang="en-US" sz="2380" spc="1" strike="noStrike">
                <a:solidFill>
                  <a:srgbClr val="000000"/>
                </a:solidFill>
                <a:latin typeface="Times New Roman"/>
              </a:rPr>
              <a:t>‾</a:t>
            </a:r>
            <a:r>
              <a:rPr b="0" lang="en-US" sz="2380" spc="18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Recordkeeping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8120" y="608040"/>
            <a:ext cx="89150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onducting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nvironmental</a:t>
            </a:r>
            <a:r>
              <a:rPr b="1" lang="en-US" sz="4400" spc="2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Review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object 3"/>
          <p:cNvSpPr/>
          <p:nvPr/>
        </p:nvSpPr>
        <p:spPr>
          <a:xfrm>
            <a:off x="3819240" y="2056320"/>
            <a:ext cx="3612960" cy="2361240"/>
          </a:xfrm>
          <a:custGeom>
            <a:avLst/>
            <a:gdLst>
              <a:gd name="textAreaLeft" fmla="*/ 0 w 3612960"/>
              <a:gd name="textAreaRight" fmla="*/ 3613320 w 3612960"/>
              <a:gd name="textAreaTop" fmla="*/ 0 h 2361240"/>
              <a:gd name="textAreaBottom" fmla="*/ 2361600 h 2361240"/>
            </a:gdLst>
            <a:ahLst/>
            <a:rect l="textAreaLeft" t="textAreaTop" r="textAreaRight" b="textAreaBottom"/>
            <a:pathLst>
              <a:path w="4095115" h="2676525">
                <a:moveTo>
                  <a:pt x="2046858" y="0"/>
                </a:moveTo>
                <a:lnTo>
                  <a:pt x="0" y="2676016"/>
                </a:lnTo>
                <a:lnTo>
                  <a:pt x="4095115" y="2676016"/>
                </a:lnTo>
                <a:lnTo>
                  <a:pt x="2046858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object 4"/>
          <p:cNvSpPr/>
          <p:nvPr/>
        </p:nvSpPr>
        <p:spPr>
          <a:xfrm>
            <a:off x="3807360" y="2045160"/>
            <a:ext cx="3637080" cy="2384280"/>
          </a:xfrm>
          <a:custGeom>
            <a:avLst/>
            <a:gdLst>
              <a:gd name="textAreaLeft" fmla="*/ 0 w 3637080"/>
              <a:gd name="textAreaRight" fmla="*/ 3637440 w 363708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4122420" h="2702560">
                <a:moveTo>
                  <a:pt x="2064893" y="0"/>
                </a:moveTo>
                <a:lnTo>
                  <a:pt x="2057400" y="0"/>
                </a:lnTo>
                <a:lnTo>
                  <a:pt x="2052701" y="1651"/>
                </a:lnTo>
                <a:lnTo>
                  <a:pt x="2051303" y="4572"/>
                </a:lnTo>
                <a:lnTo>
                  <a:pt x="3047" y="2680843"/>
                </a:lnTo>
                <a:lnTo>
                  <a:pt x="0" y="2685415"/>
                </a:lnTo>
                <a:lnTo>
                  <a:pt x="0" y="2689987"/>
                </a:lnTo>
                <a:lnTo>
                  <a:pt x="1396" y="2694432"/>
                </a:lnTo>
                <a:lnTo>
                  <a:pt x="4571" y="2699004"/>
                </a:lnTo>
                <a:lnTo>
                  <a:pt x="9143" y="2702179"/>
                </a:lnTo>
                <a:lnTo>
                  <a:pt x="4113276" y="2702179"/>
                </a:lnTo>
                <a:lnTo>
                  <a:pt x="4117848" y="2699004"/>
                </a:lnTo>
                <a:lnTo>
                  <a:pt x="4119714" y="2696083"/>
                </a:lnTo>
                <a:lnTo>
                  <a:pt x="22732" y="2696083"/>
                </a:lnTo>
                <a:lnTo>
                  <a:pt x="13588" y="2676144"/>
                </a:lnTo>
                <a:lnTo>
                  <a:pt x="37993" y="2676144"/>
                </a:lnTo>
                <a:lnTo>
                  <a:pt x="2061146" y="32672"/>
                </a:lnTo>
                <a:lnTo>
                  <a:pt x="2051303" y="19812"/>
                </a:lnTo>
                <a:lnTo>
                  <a:pt x="2082653" y="19812"/>
                </a:lnTo>
                <a:lnTo>
                  <a:pt x="2070989" y="4572"/>
                </a:lnTo>
                <a:lnTo>
                  <a:pt x="2069464" y="1651"/>
                </a:lnTo>
                <a:lnTo>
                  <a:pt x="2064893" y="0"/>
                </a:lnTo>
                <a:close/>
              </a:path>
              <a:path w="4122420" h="2702560">
                <a:moveTo>
                  <a:pt x="37993" y="2676144"/>
                </a:moveTo>
                <a:lnTo>
                  <a:pt x="13588" y="2676144"/>
                </a:lnTo>
                <a:lnTo>
                  <a:pt x="22732" y="2696083"/>
                </a:lnTo>
                <a:lnTo>
                  <a:pt x="37993" y="2676144"/>
                </a:lnTo>
                <a:close/>
              </a:path>
              <a:path w="4122420" h="2702560">
                <a:moveTo>
                  <a:pt x="4084173" y="2676144"/>
                </a:moveTo>
                <a:lnTo>
                  <a:pt x="37993" y="2676144"/>
                </a:lnTo>
                <a:lnTo>
                  <a:pt x="22732" y="2696083"/>
                </a:lnTo>
                <a:lnTo>
                  <a:pt x="4099433" y="2696083"/>
                </a:lnTo>
                <a:lnTo>
                  <a:pt x="4084173" y="2676144"/>
                </a:lnTo>
                <a:close/>
              </a:path>
              <a:path w="4122420" h="2702560">
                <a:moveTo>
                  <a:pt x="2082653" y="19812"/>
                </a:moveTo>
                <a:lnTo>
                  <a:pt x="2070989" y="19812"/>
                </a:lnTo>
                <a:lnTo>
                  <a:pt x="2061146" y="32672"/>
                </a:lnTo>
                <a:lnTo>
                  <a:pt x="4099433" y="2696083"/>
                </a:lnTo>
                <a:lnTo>
                  <a:pt x="4108704" y="2676144"/>
                </a:lnTo>
                <a:lnTo>
                  <a:pt x="4115775" y="2676144"/>
                </a:lnTo>
                <a:lnTo>
                  <a:pt x="2082653" y="19812"/>
                </a:lnTo>
                <a:close/>
              </a:path>
              <a:path w="4122420" h="2702560">
                <a:moveTo>
                  <a:pt x="4115775" y="2676144"/>
                </a:moveTo>
                <a:lnTo>
                  <a:pt x="4108704" y="2676144"/>
                </a:lnTo>
                <a:lnTo>
                  <a:pt x="4099433" y="2696083"/>
                </a:lnTo>
                <a:lnTo>
                  <a:pt x="4119714" y="2696083"/>
                </a:lnTo>
                <a:lnTo>
                  <a:pt x="4120768" y="2694432"/>
                </a:lnTo>
                <a:lnTo>
                  <a:pt x="4122292" y="2689987"/>
                </a:lnTo>
                <a:lnTo>
                  <a:pt x="4122292" y="2685415"/>
                </a:lnTo>
                <a:lnTo>
                  <a:pt x="4119372" y="2680843"/>
                </a:lnTo>
                <a:lnTo>
                  <a:pt x="4115775" y="2676144"/>
                </a:lnTo>
                <a:close/>
              </a:path>
              <a:path w="4122420" h="2702560">
                <a:moveTo>
                  <a:pt x="2070989" y="19812"/>
                </a:moveTo>
                <a:lnTo>
                  <a:pt x="2051303" y="19812"/>
                </a:lnTo>
                <a:lnTo>
                  <a:pt x="2061146" y="32672"/>
                </a:lnTo>
                <a:lnTo>
                  <a:pt x="2070989" y="198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object 5"/>
          <p:cNvSpPr/>
          <p:nvPr/>
        </p:nvSpPr>
        <p:spPr>
          <a:xfrm>
            <a:off x="2734200" y="4417200"/>
            <a:ext cx="5781960" cy="1403640"/>
          </a:xfrm>
          <a:custGeom>
            <a:avLst/>
            <a:gdLst>
              <a:gd name="textAreaLeft" fmla="*/ 0 w 5781960"/>
              <a:gd name="textAreaRight" fmla="*/ 5782320 w 5781960"/>
              <a:gd name="textAreaTop" fmla="*/ 0 h 1403640"/>
              <a:gd name="textAreaBottom" fmla="*/ 1404000 h 1403640"/>
            </a:gdLst>
            <a:ahLst/>
            <a:rect l="textAreaLeft" t="textAreaTop" r="textAreaRight" b="textAreaBottom"/>
            <a:pathLst>
              <a:path w="6553200" h="1591309">
                <a:moveTo>
                  <a:pt x="5332349" y="0"/>
                </a:moveTo>
                <a:lnTo>
                  <a:pt x="1222121" y="0"/>
                </a:lnTo>
                <a:lnTo>
                  <a:pt x="0" y="1591183"/>
                </a:lnTo>
                <a:lnTo>
                  <a:pt x="6553200" y="1591183"/>
                </a:lnTo>
                <a:lnTo>
                  <a:pt x="5332349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object 6"/>
          <p:cNvSpPr/>
          <p:nvPr/>
        </p:nvSpPr>
        <p:spPr>
          <a:xfrm>
            <a:off x="2723400" y="4406760"/>
            <a:ext cx="5805000" cy="1426680"/>
          </a:xfrm>
          <a:custGeom>
            <a:avLst/>
            <a:gdLst>
              <a:gd name="textAreaLeft" fmla="*/ 0 w 5805000"/>
              <a:gd name="textAreaRight" fmla="*/ 5805360 w 5805000"/>
              <a:gd name="textAreaTop" fmla="*/ 0 h 1426680"/>
              <a:gd name="textAreaBottom" fmla="*/ 1427040 h 1426680"/>
            </a:gdLst>
            <a:ahLst/>
            <a:rect l="textAreaLeft" t="textAreaTop" r="textAreaRight" b="textAreaBottom"/>
            <a:pathLst>
              <a:path w="6579234" h="1617345">
                <a:moveTo>
                  <a:pt x="5347843" y="0"/>
                </a:moveTo>
                <a:lnTo>
                  <a:pt x="1231519" y="0"/>
                </a:lnTo>
                <a:lnTo>
                  <a:pt x="1226947" y="1523"/>
                </a:lnTo>
                <a:lnTo>
                  <a:pt x="1225296" y="4698"/>
                </a:lnTo>
                <a:lnTo>
                  <a:pt x="3174" y="1595627"/>
                </a:lnTo>
                <a:lnTo>
                  <a:pt x="0" y="1600200"/>
                </a:lnTo>
                <a:lnTo>
                  <a:pt x="0" y="1604898"/>
                </a:lnTo>
                <a:lnTo>
                  <a:pt x="1650" y="1609470"/>
                </a:lnTo>
                <a:lnTo>
                  <a:pt x="3174" y="1614042"/>
                </a:lnTo>
                <a:lnTo>
                  <a:pt x="7746" y="1616964"/>
                </a:lnTo>
                <a:lnTo>
                  <a:pt x="6571615" y="1616964"/>
                </a:lnTo>
                <a:lnTo>
                  <a:pt x="6576060" y="1614042"/>
                </a:lnTo>
                <a:lnTo>
                  <a:pt x="6577206" y="1610867"/>
                </a:lnTo>
                <a:lnTo>
                  <a:pt x="22859" y="1610867"/>
                </a:lnTo>
                <a:lnTo>
                  <a:pt x="12318" y="1591055"/>
                </a:lnTo>
                <a:lnTo>
                  <a:pt x="38080" y="1591055"/>
                </a:lnTo>
                <a:lnTo>
                  <a:pt x="1240424" y="26034"/>
                </a:lnTo>
                <a:lnTo>
                  <a:pt x="1234440" y="26034"/>
                </a:lnTo>
                <a:lnTo>
                  <a:pt x="1245108" y="19938"/>
                </a:lnTo>
                <a:lnTo>
                  <a:pt x="5365646" y="19938"/>
                </a:lnTo>
                <a:lnTo>
                  <a:pt x="5353939" y="4698"/>
                </a:lnTo>
                <a:lnTo>
                  <a:pt x="5352415" y="1523"/>
                </a:lnTo>
                <a:lnTo>
                  <a:pt x="5347843" y="0"/>
                </a:lnTo>
                <a:close/>
              </a:path>
              <a:path w="6579234" h="1617345">
                <a:moveTo>
                  <a:pt x="38080" y="1591055"/>
                </a:moveTo>
                <a:lnTo>
                  <a:pt x="12318" y="1591055"/>
                </a:lnTo>
                <a:lnTo>
                  <a:pt x="22859" y="1610867"/>
                </a:lnTo>
                <a:lnTo>
                  <a:pt x="38080" y="1591055"/>
                </a:lnTo>
                <a:close/>
              </a:path>
              <a:path w="6579234" h="1617345">
                <a:moveTo>
                  <a:pt x="6541152" y="1591055"/>
                </a:moveTo>
                <a:lnTo>
                  <a:pt x="38080" y="1591055"/>
                </a:lnTo>
                <a:lnTo>
                  <a:pt x="22859" y="1610867"/>
                </a:lnTo>
                <a:lnTo>
                  <a:pt x="6556375" y="1610867"/>
                </a:lnTo>
                <a:lnTo>
                  <a:pt x="6541152" y="1591055"/>
                </a:lnTo>
                <a:close/>
              </a:path>
              <a:path w="6579234" h="1617345">
                <a:moveTo>
                  <a:pt x="5334000" y="19938"/>
                </a:moveTo>
                <a:lnTo>
                  <a:pt x="6556375" y="1610867"/>
                </a:lnTo>
                <a:lnTo>
                  <a:pt x="6565519" y="1591055"/>
                </a:lnTo>
                <a:lnTo>
                  <a:pt x="6572547" y="1591055"/>
                </a:lnTo>
                <a:lnTo>
                  <a:pt x="5370328" y="26034"/>
                </a:lnTo>
                <a:lnTo>
                  <a:pt x="5344668" y="26034"/>
                </a:lnTo>
                <a:lnTo>
                  <a:pt x="5334000" y="19938"/>
                </a:lnTo>
                <a:close/>
              </a:path>
              <a:path w="6579234" h="1617345">
                <a:moveTo>
                  <a:pt x="6572547" y="1591055"/>
                </a:moveTo>
                <a:lnTo>
                  <a:pt x="6565519" y="1591055"/>
                </a:lnTo>
                <a:lnTo>
                  <a:pt x="6556375" y="1610867"/>
                </a:lnTo>
                <a:lnTo>
                  <a:pt x="6577206" y="1610867"/>
                </a:lnTo>
                <a:lnTo>
                  <a:pt x="6577711" y="1609470"/>
                </a:lnTo>
                <a:lnTo>
                  <a:pt x="6579108" y="1604898"/>
                </a:lnTo>
                <a:lnTo>
                  <a:pt x="6579108" y="1600200"/>
                </a:lnTo>
                <a:lnTo>
                  <a:pt x="6576060" y="1595627"/>
                </a:lnTo>
                <a:lnTo>
                  <a:pt x="6572547" y="1591055"/>
                </a:lnTo>
                <a:close/>
              </a:path>
              <a:path w="6579234" h="1617345">
                <a:moveTo>
                  <a:pt x="1245108" y="19938"/>
                </a:moveTo>
                <a:lnTo>
                  <a:pt x="1234440" y="26034"/>
                </a:lnTo>
                <a:lnTo>
                  <a:pt x="1240424" y="26034"/>
                </a:lnTo>
                <a:lnTo>
                  <a:pt x="1245108" y="19938"/>
                </a:lnTo>
                <a:close/>
              </a:path>
              <a:path w="6579234" h="1617345">
                <a:moveTo>
                  <a:pt x="5334000" y="19938"/>
                </a:moveTo>
                <a:lnTo>
                  <a:pt x="1245108" y="19938"/>
                </a:lnTo>
                <a:lnTo>
                  <a:pt x="1240424" y="26034"/>
                </a:lnTo>
                <a:lnTo>
                  <a:pt x="5338683" y="26034"/>
                </a:lnTo>
                <a:lnTo>
                  <a:pt x="5334000" y="19938"/>
                </a:lnTo>
                <a:close/>
              </a:path>
              <a:path w="6579234" h="1617345">
                <a:moveTo>
                  <a:pt x="5365646" y="19938"/>
                </a:moveTo>
                <a:lnTo>
                  <a:pt x="5334000" y="19938"/>
                </a:lnTo>
                <a:lnTo>
                  <a:pt x="5344668" y="26034"/>
                </a:lnTo>
                <a:lnTo>
                  <a:pt x="5370328" y="26034"/>
                </a:lnTo>
                <a:lnTo>
                  <a:pt x="5365646" y="199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object 7"/>
          <p:cNvSpPr/>
          <p:nvPr/>
        </p:nvSpPr>
        <p:spPr>
          <a:xfrm>
            <a:off x="3972240" y="3295440"/>
            <a:ext cx="33091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7480" bIns="0" anchor="t">
            <a:spAutoFit/>
          </a:bodyPr>
          <a:p>
            <a:pPr marL="956520" indent="-720" algn="ctr">
              <a:lnSpc>
                <a:spcPts val="3654"/>
              </a:lnSpc>
              <a:spcBef>
                <a:spcPts val="689"/>
              </a:spcBef>
              <a:tabLst>
                <a:tab algn="l" pos="0"/>
              </a:tabLst>
            </a:pPr>
            <a:r>
              <a:rPr b="1" lang="en-US" sz="3530" spc="-4" strike="noStrike">
                <a:solidFill>
                  <a:srgbClr val="ffffff"/>
                </a:solidFill>
                <a:latin typeface="Times New Roman"/>
              </a:rPr>
              <a:t>Special  Stu</a:t>
            </a:r>
            <a:r>
              <a:rPr b="1" lang="en-US" sz="3530" spc="-15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530" spc="-4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353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530" spc="-4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530" spc="-1" strike="noStrike">
              <a:solidFill>
                <a:srgbClr val="000000"/>
              </a:solidFill>
              <a:latin typeface="Arial"/>
            </a:endParaRPr>
          </a:p>
          <a:p>
            <a:pPr marL="10800" indent="-720" algn="ctr">
              <a:lnSpc>
                <a:spcPts val="3654"/>
              </a:lnSpc>
              <a:spcBef>
                <a:spcPts val="2682"/>
              </a:spcBef>
              <a:tabLst>
                <a:tab algn="l" pos="0"/>
              </a:tabLst>
            </a:pPr>
            <a:r>
              <a:rPr b="1" lang="en-US" sz="3530" spc="-4" strike="noStrike">
                <a:solidFill>
                  <a:srgbClr val="ffffff"/>
                </a:solidFill>
                <a:latin typeface="Times New Roman"/>
              </a:rPr>
              <a:t>Desk Review</a:t>
            </a:r>
            <a:r>
              <a:rPr b="1" lang="en-US" sz="3530" spc="-55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530" spc="-4" strike="noStrike">
                <a:solidFill>
                  <a:srgbClr val="ffffff"/>
                </a:solidFill>
                <a:latin typeface="Times New Roman"/>
              </a:rPr>
              <a:t>and  Site</a:t>
            </a:r>
            <a:r>
              <a:rPr b="1" lang="en-US" sz="3530" spc="-75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530" spc="-26" strike="noStrike">
                <a:solidFill>
                  <a:srgbClr val="ffffff"/>
                </a:solidFill>
                <a:latin typeface="Times New Roman"/>
              </a:rPr>
              <a:t>Visit</a:t>
            </a:r>
            <a:endParaRPr b="0" lang="en-US" sz="35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bject 8"/>
          <p:cNvSpPr/>
          <p:nvPr/>
        </p:nvSpPr>
        <p:spPr>
          <a:xfrm>
            <a:off x="9152280" y="2158920"/>
            <a:ext cx="41004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1160">
              <a:lnSpc>
                <a:spcPts val="3172"/>
              </a:lnSpc>
            </a:pPr>
            <a:r>
              <a:rPr b="1" lang="en-US" sz="2830" spc="-4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1" lang="en-US" sz="283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3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9"/>
          <p:cNvSpPr/>
          <p:nvPr/>
        </p:nvSpPr>
        <p:spPr>
          <a:xfrm>
            <a:off x="8643960" y="2010240"/>
            <a:ext cx="268560" cy="3764880"/>
          </a:xfrm>
          <a:custGeom>
            <a:avLst/>
            <a:gdLst>
              <a:gd name="textAreaLeft" fmla="*/ 0 w 268560"/>
              <a:gd name="textAreaRight" fmla="*/ 268920 w 268560"/>
              <a:gd name="textAreaTop" fmla="*/ 0 h 3764880"/>
              <a:gd name="textAreaBottom" fmla="*/ 3765240 h 3764880"/>
            </a:gdLst>
            <a:ahLst/>
            <a:rect l="textAreaLeft" t="textAreaTop" r="textAreaRight" b="textAreaBottom"/>
            <a:pathLst>
              <a:path w="304800" h="4267200">
                <a:moveTo>
                  <a:pt x="228600" y="152400"/>
                </a:moveTo>
                <a:lnTo>
                  <a:pt x="76200" y="152400"/>
                </a:lnTo>
                <a:lnTo>
                  <a:pt x="76200" y="4267200"/>
                </a:lnTo>
                <a:lnTo>
                  <a:pt x="228600" y="4267200"/>
                </a:lnTo>
                <a:lnTo>
                  <a:pt x="228600" y="152400"/>
                </a:lnTo>
                <a:close/>
              </a:path>
              <a:path w="304800" h="4267200">
                <a:moveTo>
                  <a:pt x="152400" y="0"/>
                </a:moveTo>
                <a:lnTo>
                  <a:pt x="0" y="152400"/>
                </a:lnTo>
                <a:lnTo>
                  <a:pt x="304800" y="152400"/>
                </a:lnTo>
                <a:lnTo>
                  <a:pt x="152400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object 10"/>
          <p:cNvSpPr/>
          <p:nvPr/>
        </p:nvSpPr>
        <p:spPr>
          <a:xfrm>
            <a:off x="8615880" y="1994400"/>
            <a:ext cx="324000" cy="3791880"/>
          </a:xfrm>
          <a:custGeom>
            <a:avLst/>
            <a:gdLst>
              <a:gd name="textAreaLeft" fmla="*/ 0 w 324000"/>
              <a:gd name="textAreaRight" fmla="*/ 324360 w 324000"/>
              <a:gd name="textAreaTop" fmla="*/ 0 h 3791880"/>
              <a:gd name="textAreaBottom" fmla="*/ 3792240 h 3791880"/>
            </a:gdLst>
            <a:ahLst/>
            <a:rect l="textAreaLeft" t="textAreaTop" r="textAreaRight" b="textAreaBottom"/>
            <a:pathLst>
              <a:path w="367665" h="4297680">
                <a:moveTo>
                  <a:pt x="94615" y="170560"/>
                </a:moveTo>
                <a:lnTo>
                  <a:pt x="94615" y="4297553"/>
                </a:lnTo>
                <a:lnTo>
                  <a:pt x="272796" y="4297553"/>
                </a:lnTo>
                <a:lnTo>
                  <a:pt x="272796" y="4285361"/>
                </a:lnTo>
                <a:lnTo>
                  <a:pt x="120396" y="4285361"/>
                </a:lnTo>
                <a:lnTo>
                  <a:pt x="108204" y="4273295"/>
                </a:lnTo>
                <a:lnTo>
                  <a:pt x="120396" y="4273295"/>
                </a:lnTo>
                <a:lnTo>
                  <a:pt x="120396" y="182752"/>
                </a:lnTo>
                <a:lnTo>
                  <a:pt x="108204" y="182752"/>
                </a:lnTo>
                <a:lnTo>
                  <a:pt x="94615" y="170560"/>
                </a:lnTo>
                <a:close/>
              </a:path>
              <a:path w="367665" h="4297680">
                <a:moveTo>
                  <a:pt x="120396" y="4273295"/>
                </a:moveTo>
                <a:lnTo>
                  <a:pt x="108204" y="4273295"/>
                </a:lnTo>
                <a:lnTo>
                  <a:pt x="120396" y="4285361"/>
                </a:lnTo>
                <a:lnTo>
                  <a:pt x="120396" y="4273295"/>
                </a:lnTo>
                <a:close/>
              </a:path>
              <a:path w="367665" h="4297680">
                <a:moveTo>
                  <a:pt x="247015" y="4273295"/>
                </a:moveTo>
                <a:lnTo>
                  <a:pt x="120396" y="4273295"/>
                </a:lnTo>
                <a:lnTo>
                  <a:pt x="120396" y="4285361"/>
                </a:lnTo>
                <a:lnTo>
                  <a:pt x="247015" y="4285361"/>
                </a:lnTo>
                <a:lnTo>
                  <a:pt x="247015" y="4273295"/>
                </a:lnTo>
                <a:close/>
              </a:path>
              <a:path w="367665" h="4297680">
                <a:moveTo>
                  <a:pt x="306324" y="158495"/>
                </a:moveTo>
                <a:lnTo>
                  <a:pt x="247015" y="158495"/>
                </a:lnTo>
                <a:lnTo>
                  <a:pt x="247015" y="4285361"/>
                </a:lnTo>
                <a:lnTo>
                  <a:pt x="260604" y="4273295"/>
                </a:lnTo>
                <a:lnTo>
                  <a:pt x="272796" y="4273296"/>
                </a:lnTo>
                <a:lnTo>
                  <a:pt x="272796" y="182752"/>
                </a:lnTo>
                <a:lnTo>
                  <a:pt x="260604" y="182752"/>
                </a:lnTo>
                <a:lnTo>
                  <a:pt x="272796" y="170560"/>
                </a:lnTo>
                <a:lnTo>
                  <a:pt x="318389" y="170560"/>
                </a:lnTo>
                <a:lnTo>
                  <a:pt x="306324" y="158495"/>
                </a:lnTo>
                <a:close/>
              </a:path>
              <a:path w="367665" h="4297680">
                <a:moveTo>
                  <a:pt x="272796" y="4273296"/>
                </a:moveTo>
                <a:lnTo>
                  <a:pt x="260604" y="4273295"/>
                </a:lnTo>
                <a:lnTo>
                  <a:pt x="247015" y="4285361"/>
                </a:lnTo>
                <a:lnTo>
                  <a:pt x="272796" y="4285361"/>
                </a:lnTo>
                <a:lnTo>
                  <a:pt x="272796" y="4273296"/>
                </a:lnTo>
                <a:close/>
              </a:path>
              <a:path w="367665" h="4297680">
                <a:moveTo>
                  <a:pt x="184404" y="0"/>
                </a:moveTo>
                <a:lnTo>
                  <a:pt x="0" y="182752"/>
                </a:lnTo>
                <a:lnTo>
                  <a:pt x="94615" y="182752"/>
                </a:lnTo>
                <a:lnTo>
                  <a:pt x="94615" y="179831"/>
                </a:lnTo>
                <a:lnTo>
                  <a:pt x="39751" y="179831"/>
                </a:lnTo>
                <a:lnTo>
                  <a:pt x="32004" y="158495"/>
                </a:lnTo>
                <a:lnTo>
                  <a:pt x="61087" y="158495"/>
                </a:lnTo>
                <a:lnTo>
                  <a:pt x="183705" y="35877"/>
                </a:lnTo>
                <a:lnTo>
                  <a:pt x="175260" y="27431"/>
                </a:lnTo>
                <a:lnTo>
                  <a:pt x="211874" y="27431"/>
                </a:lnTo>
                <a:lnTo>
                  <a:pt x="184404" y="0"/>
                </a:lnTo>
                <a:close/>
              </a:path>
              <a:path w="367665" h="4297680">
                <a:moveTo>
                  <a:pt x="120396" y="170560"/>
                </a:moveTo>
                <a:lnTo>
                  <a:pt x="94615" y="170560"/>
                </a:lnTo>
                <a:lnTo>
                  <a:pt x="108204" y="182752"/>
                </a:lnTo>
                <a:lnTo>
                  <a:pt x="120396" y="182752"/>
                </a:lnTo>
                <a:lnTo>
                  <a:pt x="120396" y="170560"/>
                </a:lnTo>
                <a:close/>
              </a:path>
              <a:path w="367665" h="4297680">
                <a:moveTo>
                  <a:pt x="272796" y="170560"/>
                </a:moveTo>
                <a:lnTo>
                  <a:pt x="260604" y="182752"/>
                </a:lnTo>
                <a:lnTo>
                  <a:pt x="272796" y="182752"/>
                </a:lnTo>
                <a:lnTo>
                  <a:pt x="272796" y="170560"/>
                </a:lnTo>
                <a:close/>
              </a:path>
              <a:path w="367665" h="4297680">
                <a:moveTo>
                  <a:pt x="318389" y="170560"/>
                </a:moveTo>
                <a:lnTo>
                  <a:pt x="272796" y="170560"/>
                </a:lnTo>
                <a:lnTo>
                  <a:pt x="272796" y="182752"/>
                </a:lnTo>
                <a:lnTo>
                  <a:pt x="367411" y="182752"/>
                </a:lnTo>
                <a:lnTo>
                  <a:pt x="364485" y="179831"/>
                </a:lnTo>
                <a:lnTo>
                  <a:pt x="327660" y="179831"/>
                </a:lnTo>
                <a:lnTo>
                  <a:pt x="318389" y="170560"/>
                </a:lnTo>
                <a:close/>
              </a:path>
              <a:path w="367665" h="4297680">
                <a:moveTo>
                  <a:pt x="61087" y="158495"/>
                </a:moveTo>
                <a:lnTo>
                  <a:pt x="32004" y="158495"/>
                </a:lnTo>
                <a:lnTo>
                  <a:pt x="39751" y="179831"/>
                </a:lnTo>
                <a:lnTo>
                  <a:pt x="61087" y="158495"/>
                </a:lnTo>
                <a:close/>
              </a:path>
              <a:path w="367665" h="4297680">
                <a:moveTo>
                  <a:pt x="120396" y="158495"/>
                </a:moveTo>
                <a:lnTo>
                  <a:pt x="61087" y="158495"/>
                </a:lnTo>
                <a:lnTo>
                  <a:pt x="39751" y="179831"/>
                </a:lnTo>
                <a:lnTo>
                  <a:pt x="94615" y="179831"/>
                </a:lnTo>
                <a:lnTo>
                  <a:pt x="94615" y="170560"/>
                </a:lnTo>
                <a:lnTo>
                  <a:pt x="120396" y="170560"/>
                </a:lnTo>
                <a:lnTo>
                  <a:pt x="120396" y="158495"/>
                </a:lnTo>
                <a:close/>
              </a:path>
              <a:path w="367665" h="4297680">
                <a:moveTo>
                  <a:pt x="211874" y="27431"/>
                </a:moveTo>
                <a:lnTo>
                  <a:pt x="192151" y="27431"/>
                </a:lnTo>
                <a:lnTo>
                  <a:pt x="183705" y="35877"/>
                </a:lnTo>
                <a:lnTo>
                  <a:pt x="327660" y="179831"/>
                </a:lnTo>
                <a:lnTo>
                  <a:pt x="336804" y="158495"/>
                </a:lnTo>
                <a:lnTo>
                  <a:pt x="343120" y="158495"/>
                </a:lnTo>
                <a:lnTo>
                  <a:pt x="211874" y="27431"/>
                </a:lnTo>
                <a:close/>
              </a:path>
              <a:path w="367665" h="4297680">
                <a:moveTo>
                  <a:pt x="343120" y="158495"/>
                </a:moveTo>
                <a:lnTo>
                  <a:pt x="336804" y="158495"/>
                </a:lnTo>
                <a:lnTo>
                  <a:pt x="327660" y="179831"/>
                </a:lnTo>
                <a:lnTo>
                  <a:pt x="364485" y="179831"/>
                </a:lnTo>
                <a:lnTo>
                  <a:pt x="343120" y="158495"/>
                </a:lnTo>
                <a:close/>
              </a:path>
              <a:path w="367665" h="4297680">
                <a:moveTo>
                  <a:pt x="192151" y="27431"/>
                </a:moveTo>
                <a:lnTo>
                  <a:pt x="175260" y="27431"/>
                </a:lnTo>
                <a:lnTo>
                  <a:pt x="183705" y="35877"/>
                </a:lnTo>
                <a:lnTo>
                  <a:pt x="192151" y="27431"/>
                </a:lnTo>
                <a:close/>
              </a:path>
            </a:pathLst>
          </a:custGeom>
          <a:solidFill>
            <a:srgbClr val="385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object 11"/>
          <p:cNvSpPr/>
          <p:nvPr/>
        </p:nvSpPr>
        <p:spPr>
          <a:xfrm>
            <a:off x="8325360" y="5244480"/>
            <a:ext cx="88056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object 12"/>
          <p:cNvSpPr/>
          <p:nvPr/>
        </p:nvSpPr>
        <p:spPr>
          <a:xfrm>
            <a:off x="8321400" y="5240520"/>
            <a:ext cx="892800" cy="562320"/>
          </a:xfrm>
          <a:custGeom>
            <a:avLst/>
            <a:gdLst>
              <a:gd name="textAreaLeft" fmla="*/ 0 w 892800"/>
              <a:gd name="textAreaRight" fmla="*/ 893160 w 89280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1012190" h="637540">
                <a:moveTo>
                  <a:pt x="978408" y="624713"/>
                </a:moveTo>
                <a:lnTo>
                  <a:pt x="33401" y="624713"/>
                </a:lnTo>
                <a:lnTo>
                  <a:pt x="45593" y="630936"/>
                </a:lnTo>
                <a:lnTo>
                  <a:pt x="51689" y="633857"/>
                </a:lnTo>
                <a:lnTo>
                  <a:pt x="59436" y="635381"/>
                </a:lnTo>
                <a:lnTo>
                  <a:pt x="66929" y="637032"/>
                </a:lnTo>
                <a:lnTo>
                  <a:pt x="946404" y="637032"/>
                </a:lnTo>
                <a:lnTo>
                  <a:pt x="953897" y="635381"/>
                </a:lnTo>
                <a:lnTo>
                  <a:pt x="959993" y="633857"/>
                </a:lnTo>
                <a:lnTo>
                  <a:pt x="967740" y="630936"/>
                </a:lnTo>
                <a:lnTo>
                  <a:pt x="978408" y="624713"/>
                </a:lnTo>
                <a:close/>
              </a:path>
              <a:path w="1012190" h="637540">
                <a:moveTo>
                  <a:pt x="979932" y="12192"/>
                </a:moveTo>
                <a:lnTo>
                  <a:pt x="32004" y="12192"/>
                </a:lnTo>
                <a:lnTo>
                  <a:pt x="30480" y="13589"/>
                </a:lnTo>
                <a:lnTo>
                  <a:pt x="21336" y="19685"/>
                </a:lnTo>
                <a:lnTo>
                  <a:pt x="21336" y="21336"/>
                </a:lnTo>
                <a:lnTo>
                  <a:pt x="19812" y="22860"/>
                </a:lnTo>
                <a:lnTo>
                  <a:pt x="12065" y="32004"/>
                </a:lnTo>
                <a:lnTo>
                  <a:pt x="12065" y="33528"/>
                </a:lnTo>
                <a:lnTo>
                  <a:pt x="4572" y="45593"/>
                </a:lnTo>
                <a:lnTo>
                  <a:pt x="2921" y="51689"/>
                </a:lnTo>
                <a:lnTo>
                  <a:pt x="1397" y="59436"/>
                </a:lnTo>
                <a:lnTo>
                  <a:pt x="0" y="67056"/>
                </a:lnTo>
                <a:lnTo>
                  <a:pt x="0" y="571500"/>
                </a:lnTo>
                <a:lnTo>
                  <a:pt x="1397" y="578993"/>
                </a:lnTo>
                <a:lnTo>
                  <a:pt x="2921" y="585089"/>
                </a:lnTo>
                <a:lnTo>
                  <a:pt x="5969" y="592836"/>
                </a:lnTo>
                <a:lnTo>
                  <a:pt x="12065" y="603504"/>
                </a:lnTo>
                <a:lnTo>
                  <a:pt x="12065" y="605028"/>
                </a:lnTo>
                <a:lnTo>
                  <a:pt x="19812" y="614045"/>
                </a:lnTo>
                <a:lnTo>
                  <a:pt x="21336" y="615696"/>
                </a:lnTo>
                <a:lnTo>
                  <a:pt x="30480" y="623189"/>
                </a:lnTo>
                <a:lnTo>
                  <a:pt x="32004" y="624713"/>
                </a:lnTo>
                <a:lnTo>
                  <a:pt x="979932" y="624713"/>
                </a:lnTo>
                <a:lnTo>
                  <a:pt x="979932" y="623189"/>
                </a:lnTo>
                <a:lnTo>
                  <a:pt x="989076" y="615696"/>
                </a:lnTo>
                <a:lnTo>
                  <a:pt x="990600" y="615696"/>
                </a:lnTo>
                <a:lnTo>
                  <a:pt x="990600" y="614045"/>
                </a:lnTo>
                <a:lnTo>
                  <a:pt x="993027" y="611124"/>
                </a:lnTo>
                <a:lnTo>
                  <a:pt x="62357" y="611124"/>
                </a:lnTo>
                <a:lnTo>
                  <a:pt x="57912" y="609600"/>
                </a:lnTo>
                <a:lnTo>
                  <a:pt x="53340" y="607949"/>
                </a:lnTo>
                <a:lnTo>
                  <a:pt x="45593" y="603504"/>
                </a:lnTo>
                <a:lnTo>
                  <a:pt x="47244" y="603504"/>
                </a:lnTo>
                <a:lnTo>
                  <a:pt x="40525" y="598932"/>
                </a:lnTo>
                <a:lnTo>
                  <a:pt x="39497" y="598932"/>
                </a:lnTo>
                <a:lnTo>
                  <a:pt x="38180" y="597375"/>
                </a:lnTo>
                <a:lnTo>
                  <a:pt x="32004" y="589661"/>
                </a:lnTo>
                <a:lnTo>
                  <a:pt x="32548" y="589661"/>
                </a:lnTo>
                <a:lnTo>
                  <a:pt x="27432" y="580517"/>
                </a:lnTo>
                <a:lnTo>
                  <a:pt x="27432" y="577596"/>
                </a:lnTo>
                <a:lnTo>
                  <a:pt x="25908" y="573024"/>
                </a:lnTo>
                <a:lnTo>
                  <a:pt x="24257" y="566928"/>
                </a:lnTo>
                <a:lnTo>
                  <a:pt x="24257" y="68453"/>
                </a:lnTo>
                <a:lnTo>
                  <a:pt x="25908" y="63881"/>
                </a:lnTo>
                <a:lnTo>
                  <a:pt x="27432" y="59436"/>
                </a:lnTo>
                <a:lnTo>
                  <a:pt x="28829" y="54864"/>
                </a:lnTo>
                <a:lnTo>
                  <a:pt x="32649" y="47117"/>
                </a:lnTo>
                <a:lnTo>
                  <a:pt x="32004" y="47117"/>
                </a:lnTo>
                <a:lnTo>
                  <a:pt x="38230" y="39624"/>
                </a:lnTo>
                <a:lnTo>
                  <a:pt x="38100" y="39624"/>
                </a:lnTo>
                <a:lnTo>
                  <a:pt x="39497" y="38100"/>
                </a:lnTo>
                <a:lnTo>
                  <a:pt x="40386" y="38100"/>
                </a:lnTo>
                <a:lnTo>
                  <a:pt x="47244" y="33528"/>
                </a:lnTo>
                <a:lnTo>
                  <a:pt x="45593" y="33528"/>
                </a:lnTo>
                <a:lnTo>
                  <a:pt x="54864" y="28956"/>
                </a:lnTo>
                <a:lnTo>
                  <a:pt x="59436" y="27432"/>
                </a:lnTo>
                <a:lnTo>
                  <a:pt x="64008" y="25781"/>
                </a:lnTo>
                <a:lnTo>
                  <a:pt x="992993" y="25781"/>
                </a:lnTo>
                <a:lnTo>
                  <a:pt x="990600" y="22860"/>
                </a:lnTo>
                <a:lnTo>
                  <a:pt x="990600" y="21336"/>
                </a:lnTo>
                <a:lnTo>
                  <a:pt x="989076" y="19685"/>
                </a:lnTo>
                <a:lnTo>
                  <a:pt x="979932" y="13589"/>
                </a:lnTo>
                <a:lnTo>
                  <a:pt x="979932" y="12192"/>
                </a:lnTo>
                <a:close/>
              </a:path>
              <a:path w="1012190" h="637540">
                <a:moveTo>
                  <a:pt x="973051" y="597807"/>
                </a:moveTo>
                <a:lnTo>
                  <a:pt x="964565" y="603504"/>
                </a:lnTo>
                <a:lnTo>
                  <a:pt x="966088" y="603504"/>
                </a:lnTo>
                <a:lnTo>
                  <a:pt x="955421" y="607949"/>
                </a:lnTo>
                <a:lnTo>
                  <a:pt x="952500" y="609600"/>
                </a:lnTo>
                <a:lnTo>
                  <a:pt x="947801" y="611124"/>
                </a:lnTo>
                <a:lnTo>
                  <a:pt x="993027" y="611124"/>
                </a:lnTo>
                <a:lnTo>
                  <a:pt x="998093" y="605028"/>
                </a:lnTo>
                <a:lnTo>
                  <a:pt x="999744" y="605028"/>
                </a:lnTo>
                <a:lnTo>
                  <a:pt x="999744" y="603504"/>
                </a:lnTo>
                <a:lnTo>
                  <a:pt x="1002006" y="598932"/>
                </a:lnTo>
                <a:lnTo>
                  <a:pt x="972312" y="598932"/>
                </a:lnTo>
                <a:lnTo>
                  <a:pt x="973051" y="597807"/>
                </a:lnTo>
                <a:close/>
              </a:path>
              <a:path w="1012190" h="637540">
                <a:moveTo>
                  <a:pt x="38100" y="597281"/>
                </a:moveTo>
                <a:lnTo>
                  <a:pt x="39497" y="598932"/>
                </a:lnTo>
                <a:lnTo>
                  <a:pt x="38239" y="597375"/>
                </a:lnTo>
                <a:lnTo>
                  <a:pt x="38100" y="597281"/>
                </a:lnTo>
                <a:close/>
              </a:path>
              <a:path w="1012190" h="637540">
                <a:moveTo>
                  <a:pt x="38239" y="597375"/>
                </a:moveTo>
                <a:lnTo>
                  <a:pt x="39497" y="598932"/>
                </a:lnTo>
                <a:lnTo>
                  <a:pt x="40525" y="598932"/>
                </a:lnTo>
                <a:lnTo>
                  <a:pt x="38239" y="597375"/>
                </a:lnTo>
                <a:close/>
              </a:path>
              <a:path w="1012190" h="637540">
                <a:moveTo>
                  <a:pt x="973836" y="597281"/>
                </a:moveTo>
                <a:lnTo>
                  <a:pt x="973051" y="597807"/>
                </a:lnTo>
                <a:lnTo>
                  <a:pt x="972312" y="598932"/>
                </a:lnTo>
                <a:lnTo>
                  <a:pt x="973836" y="597281"/>
                </a:lnTo>
                <a:close/>
              </a:path>
              <a:path w="1012190" h="637540">
                <a:moveTo>
                  <a:pt x="1002823" y="597281"/>
                </a:moveTo>
                <a:lnTo>
                  <a:pt x="973836" y="597281"/>
                </a:lnTo>
                <a:lnTo>
                  <a:pt x="972312" y="598932"/>
                </a:lnTo>
                <a:lnTo>
                  <a:pt x="1002006" y="598932"/>
                </a:lnTo>
                <a:lnTo>
                  <a:pt x="1002823" y="597281"/>
                </a:lnTo>
                <a:close/>
              </a:path>
              <a:path w="1012190" h="637540">
                <a:moveTo>
                  <a:pt x="978408" y="589661"/>
                </a:moveTo>
                <a:lnTo>
                  <a:pt x="973051" y="597807"/>
                </a:lnTo>
                <a:lnTo>
                  <a:pt x="973836" y="597281"/>
                </a:lnTo>
                <a:lnTo>
                  <a:pt x="1002823" y="597281"/>
                </a:lnTo>
                <a:lnTo>
                  <a:pt x="1005840" y="591185"/>
                </a:lnTo>
                <a:lnTo>
                  <a:pt x="978408" y="591185"/>
                </a:lnTo>
                <a:lnTo>
                  <a:pt x="978408" y="589661"/>
                </a:lnTo>
                <a:close/>
              </a:path>
              <a:path w="1012190" h="637540">
                <a:moveTo>
                  <a:pt x="38162" y="597281"/>
                </a:moveTo>
              </a:path>
              <a:path w="1012190" h="637540">
                <a:moveTo>
                  <a:pt x="32548" y="589661"/>
                </a:moveTo>
                <a:lnTo>
                  <a:pt x="32004" y="589661"/>
                </a:lnTo>
                <a:lnTo>
                  <a:pt x="33401" y="591185"/>
                </a:lnTo>
                <a:lnTo>
                  <a:pt x="32548" y="589661"/>
                </a:lnTo>
                <a:close/>
              </a:path>
              <a:path w="1012190" h="637540">
                <a:moveTo>
                  <a:pt x="1006384" y="45593"/>
                </a:moveTo>
                <a:lnTo>
                  <a:pt x="978408" y="45593"/>
                </a:lnTo>
                <a:lnTo>
                  <a:pt x="982980" y="56261"/>
                </a:lnTo>
                <a:lnTo>
                  <a:pt x="984504" y="59436"/>
                </a:lnTo>
                <a:lnTo>
                  <a:pt x="985901" y="63881"/>
                </a:lnTo>
                <a:lnTo>
                  <a:pt x="985901" y="573024"/>
                </a:lnTo>
                <a:lnTo>
                  <a:pt x="984504" y="577596"/>
                </a:lnTo>
                <a:lnTo>
                  <a:pt x="982980" y="582168"/>
                </a:lnTo>
                <a:lnTo>
                  <a:pt x="978408" y="591185"/>
                </a:lnTo>
                <a:lnTo>
                  <a:pt x="1005840" y="591185"/>
                </a:lnTo>
                <a:lnTo>
                  <a:pt x="1008761" y="585089"/>
                </a:lnTo>
                <a:lnTo>
                  <a:pt x="1010412" y="577596"/>
                </a:lnTo>
                <a:lnTo>
                  <a:pt x="1011936" y="569849"/>
                </a:lnTo>
                <a:lnTo>
                  <a:pt x="1011936" y="65532"/>
                </a:lnTo>
                <a:lnTo>
                  <a:pt x="1010412" y="57785"/>
                </a:lnTo>
                <a:lnTo>
                  <a:pt x="1008761" y="51689"/>
                </a:lnTo>
                <a:lnTo>
                  <a:pt x="1006384" y="45593"/>
                </a:lnTo>
                <a:close/>
              </a:path>
              <a:path w="1012190" h="637540">
                <a:moveTo>
                  <a:pt x="33401" y="45593"/>
                </a:moveTo>
                <a:lnTo>
                  <a:pt x="32004" y="47117"/>
                </a:lnTo>
                <a:lnTo>
                  <a:pt x="32649" y="47117"/>
                </a:lnTo>
                <a:lnTo>
                  <a:pt x="33401" y="45593"/>
                </a:lnTo>
                <a:close/>
              </a:path>
              <a:path w="1012190" h="637540">
                <a:moveTo>
                  <a:pt x="972947" y="39039"/>
                </a:moveTo>
                <a:lnTo>
                  <a:pt x="978408" y="47117"/>
                </a:lnTo>
                <a:lnTo>
                  <a:pt x="978408" y="45593"/>
                </a:lnTo>
                <a:lnTo>
                  <a:pt x="1006384" y="45593"/>
                </a:lnTo>
                <a:lnTo>
                  <a:pt x="1005840" y="44196"/>
                </a:lnTo>
                <a:lnTo>
                  <a:pt x="1003227" y="39624"/>
                </a:lnTo>
                <a:lnTo>
                  <a:pt x="973836" y="39624"/>
                </a:lnTo>
                <a:lnTo>
                  <a:pt x="972947" y="39039"/>
                </a:lnTo>
                <a:close/>
              </a:path>
              <a:path w="1012190" h="637540">
                <a:moveTo>
                  <a:pt x="39497" y="38100"/>
                </a:moveTo>
                <a:lnTo>
                  <a:pt x="38100" y="39624"/>
                </a:lnTo>
                <a:lnTo>
                  <a:pt x="38392" y="39428"/>
                </a:lnTo>
                <a:lnTo>
                  <a:pt x="39497" y="38100"/>
                </a:lnTo>
                <a:close/>
              </a:path>
              <a:path w="1012190" h="637540">
                <a:moveTo>
                  <a:pt x="38392" y="39428"/>
                </a:moveTo>
                <a:lnTo>
                  <a:pt x="38100" y="39624"/>
                </a:lnTo>
                <a:lnTo>
                  <a:pt x="38230" y="39624"/>
                </a:lnTo>
                <a:lnTo>
                  <a:pt x="38392" y="39428"/>
                </a:lnTo>
                <a:close/>
              </a:path>
              <a:path w="1012190" h="637540">
                <a:moveTo>
                  <a:pt x="972312" y="38100"/>
                </a:moveTo>
                <a:lnTo>
                  <a:pt x="972947" y="39039"/>
                </a:lnTo>
                <a:lnTo>
                  <a:pt x="973836" y="39624"/>
                </a:lnTo>
                <a:lnTo>
                  <a:pt x="972312" y="38100"/>
                </a:lnTo>
                <a:close/>
              </a:path>
              <a:path w="1012190" h="637540">
                <a:moveTo>
                  <a:pt x="1002356" y="38100"/>
                </a:moveTo>
                <a:lnTo>
                  <a:pt x="972312" y="38100"/>
                </a:lnTo>
                <a:lnTo>
                  <a:pt x="973836" y="39624"/>
                </a:lnTo>
                <a:lnTo>
                  <a:pt x="1003227" y="39624"/>
                </a:lnTo>
                <a:lnTo>
                  <a:pt x="1002356" y="38100"/>
                </a:lnTo>
                <a:close/>
              </a:path>
              <a:path w="1012190" h="637540">
                <a:moveTo>
                  <a:pt x="40386" y="38100"/>
                </a:moveTo>
                <a:lnTo>
                  <a:pt x="39497" y="38100"/>
                </a:lnTo>
                <a:lnTo>
                  <a:pt x="38392" y="39428"/>
                </a:lnTo>
                <a:lnTo>
                  <a:pt x="40386" y="38100"/>
                </a:lnTo>
                <a:close/>
              </a:path>
              <a:path w="1012190" h="637540">
                <a:moveTo>
                  <a:pt x="992993" y="25781"/>
                </a:moveTo>
                <a:lnTo>
                  <a:pt x="947801" y="25781"/>
                </a:lnTo>
                <a:lnTo>
                  <a:pt x="952500" y="27432"/>
                </a:lnTo>
                <a:lnTo>
                  <a:pt x="957072" y="28956"/>
                </a:lnTo>
                <a:lnTo>
                  <a:pt x="966088" y="33528"/>
                </a:lnTo>
                <a:lnTo>
                  <a:pt x="964565" y="33528"/>
                </a:lnTo>
                <a:lnTo>
                  <a:pt x="972947" y="39039"/>
                </a:lnTo>
                <a:lnTo>
                  <a:pt x="972312" y="38100"/>
                </a:lnTo>
                <a:lnTo>
                  <a:pt x="1002356" y="38100"/>
                </a:lnTo>
                <a:lnTo>
                  <a:pt x="999744" y="33528"/>
                </a:lnTo>
                <a:lnTo>
                  <a:pt x="999744" y="32004"/>
                </a:lnTo>
                <a:lnTo>
                  <a:pt x="998093" y="32004"/>
                </a:lnTo>
                <a:lnTo>
                  <a:pt x="992993" y="25781"/>
                </a:lnTo>
                <a:close/>
              </a:path>
              <a:path w="1012190" h="637540">
                <a:moveTo>
                  <a:pt x="944880" y="0"/>
                </a:moveTo>
                <a:lnTo>
                  <a:pt x="65532" y="0"/>
                </a:lnTo>
                <a:lnTo>
                  <a:pt x="57912" y="1524"/>
                </a:lnTo>
                <a:lnTo>
                  <a:pt x="50165" y="2921"/>
                </a:lnTo>
                <a:lnTo>
                  <a:pt x="44069" y="6096"/>
                </a:lnTo>
                <a:lnTo>
                  <a:pt x="33401" y="12192"/>
                </a:lnTo>
                <a:lnTo>
                  <a:pt x="978408" y="12192"/>
                </a:lnTo>
                <a:lnTo>
                  <a:pt x="966088" y="6096"/>
                </a:lnTo>
                <a:lnTo>
                  <a:pt x="959993" y="2921"/>
                </a:lnTo>
                <a:lnTo>
                  <a:pt x="952500" y="1524"/>
                </a:lnTo>
                <a:lnTo>
                  <a:pt x="944880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object 13"/>
          <p:cNvSpPr/>
          <p:nvPr/>
        </p:nvSpPr>
        <p:spPr>
          <a:xfrm>
            <a:off x="8565840" y="5420160"/>
            <a:ext cx="4042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xe</a:t>
            </a:r>
            <a:r>
              <a:rPr b="0" lang="en-US" sz="970" spc="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bject 14"/>
          <p:cNvSpPr/>
          <p:nvPr/>
        </p:nvSpPr>
        <p:spPr>
          <a:xfrm>
            <a:off x="8325360" y="4531680"/>
            <a:ext cx="880560" cy="552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object 15"/>
          <p:cNvSpPr/>
          <p:nvPr/>
        </p:nvSpPr>
        <p:spPr>
          <a:xfrm>
            <a:off x="8321400" y="4527720"/>
            <a:ext cx="892800" cy="562320"/>
          </a:xfrm>
          <a:custGeom>
            <a:avLst/>
            <a:gdLst>
              <a:gd name="textAreaLeft" fmla="*/ 0 w 892800"/>
              <a:gd name="textAreaRight" fmla="*/ 893160 w 89280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1012190" h="637539">
                <a:moveTo>
                  <a:pt x="978408" y="624839"/>
                </a:moveTo>
                <a:lnTo>
                  <a:pt x="33401" y="624839"/>
                </a:lnTo>
                <a:lnTo>
                  <a:pt x="45593" y="632459"/>
                </a:lnTo>
                <a:lnTo>
                  <a:pt x="51689" y="634110"/>
                </a:lnTo>
                <a:lnTo>
                  <a:pt x="59436" y="635507"/>
                </a:lnTo>
                <a:lnTo>
                  <a:pt x="66929" y="637031"/>
                </a:lnTo>
                <a:lnTo>
                  <a:pt x="946404" y="637031"/>
                </a:lnTo>
                <a:lnTo>
                  <a:pt x="953897" y="635507"/>
                </a:lnTo>
                <a:lnTo>
                  <a:pt x="959993" y="634110"/>
                </a:lnTo>
                <a:lnTo>
                  <a:pt x="967740" y="630935"/>
                </a:lnTo>
                <a:lnTo>
                  <a:pt x="978408" y="624839"/>
                </a:lnTo>
                <a:close/>
              </a:path>
              <a:path w="1012190" h="637539">
                <a:moveTo>
                  <a:pt x="944880" y="0"/>
                </a:moveTo>
                <a:lnTo>
                  <a:pt x="65532" y="0"/>
                </a:lnTo>
                <a:lnTo>
                  <a:pt x="57912" y="1650"/>
                </a:lnTo>
                <a:lnTo>
                  <a:pt x="50165" y="3174"/>
                </a:lnTo>
                <a:lnTo>
                  <a:pt x="44069" y="6095"/>
                </a:lnTo>
                <a:lnTo>
                  <a:pt x="33401" y="12191"/>
                </a:lnTo>
                <a:lnTo>
                  <a:pt x="32004" y="12191"/>
                </a:lnTo>
                <a:lnTo>
                  <a:pt x="32004" y="13842"/>
                </a:lnTo>
                <a:lnTo>
                  <a:pt x="30480" y="13842"/>
                </a:lnTo>
                <a:lnTo>
                  <a:pt x="21336" y="21335"/>
                </a:lnTo>
                <a:lnTo>
                  <a:pt x="21336" y="22859"/>
                </a:lnTo>
                <a:lnTo>
                  <a:pt x="19812" y="22859"/>
                </a:lnTo>
                <a:lnTo>
                  <a:pt x="12065" y="32003"/>
                </a:lnTo>
                <a:lnTo>
                  <a:pt x="12065" y="33527"/>
                </a:lnTo>
                <a:lnTo>
                  <a:pt x="4572" y="45846"/>
                </a:lnTo>
                <a:lnTo>
                  <a:pt x="2921" y="53339"/>
                </a:lnTo>
                <a:lnTo>
                  <a:pt x="1397" y="59435"/>
                </a:lnTo>
                <a:lnTo>
                  <a:pt x="0" y="67182"/>
                </a:lnTo>
                <a:lnTo>
                  <a:pt x="0" y="571499"/>
                </a:lnTo>
                <a:lnTo>
                  <a:pt x="1397" y="579246"/>
                </a:lnTo>
                <a:lnTo>
                  <a:pt x="2921" y="586739"/>
                </a:lnTo>
                <a:lnTo>
                  <a:pt x="5969" y="592835"/>
                </a:lnTo>
                <a:lnTo>
                  <a:pt x="12065" y="603503"/>
                </a:lnTo>
                <a:lnTo>
                  <a:pt x="12065" y="606678"/>
                </a:lnTo>
                <a:lnTo>
                  <a:pt x="19812" y="615695"/>
                </a:lnTo>
                <a:lnTo>
                  <a:pt x="21336" y="615695"/>
                </a:lnTo>
                <a:lnTo>
                  <a:pt x="21336" y="617346"/>
                </a:lnTo>
                <a:lnTo>
                  <a:pt x="30480" y="624839"/>
                </a:lnTo>
                <a:lnTo>
                  <a:pt x="979932" y="624839"/>
                </a:lnTo>
                <a:lnTo>
                  <a:pt x="989076" y="617346"/>
                </a:lnTo>
                <a:lnTo>
                  <a:pt x="990600" y="615695"/>
                </a:lnTo>
                <a:lnTo>
                  <a:pt x="993027" y="612774"/>
                </a:lnTo>
                <a:lnTo>
                  <a:pt x="66929" y="612774"/>
                </a:lnTo>
                <a:lnTo>
                  <a:pt x="62357" y="611250"/>
                </a:lnTo>
                <a:lnTo>
                  <a:pt x="57912" y="609599"/>
                </a:lnTo>
                <a:lnTo>
                  <a:pt x="53340" y="608202"/>
                </a:lnTo>
                <a:lnTo>
                  <a:pt x="48105" y="605027"/>
                </a:lnTo>
                <a:lnTo>
                  <a:pt x="47244" y="605027"/>
                </a:lnTo>
                <a:lnTo>
                  <a:pt x="39928" y="598931"/>
                </a:lnTo>
                <a:lnTo>
                  <a:pt x="39497" y="598931"/>
                </a:lnTo>
                <a:lnTo>
                  <a:pt x="38100" y="597407"/>
                </a:lnTo>
                <a:lnTo>
                  <a:pt x="38230" y="597407"/>
                </a:lnTo>
                <a:lnTo>
                  <a:pt x="32004" y="589914"/>
                </a:lnTo>
                <a:lnTo>
                  <a:pt x="32419" y="589914"/>
                </a:lnTo>
                <a:lnTo>
                  <a:pt x="27432" y="582167"/>
                </a:lnTo>
                <a:lnTo>
                  <a:pt x="27432" y="577595"/>
                </a:lnTo>
                <a:lnTo>
                  <a:pt x="25908" y="573150"/>
                </a:lnTo>
                <a:lnTo>
                  <a:pt x="24257" y="568578"/>
                </a:lnTo>
                <a:lnTo>
                  <a:pt x="24257" y="68706"/>
                </a:lnTo>
                <a:lnTo>
                  <a:pt x="25908" y="64007"/>
                </a:lnTo>
                <a:lnTo>
                  <a:pt x="27432" y="59435"/>
                </a:lnTo>
                <a:lnTo>
                  <a:pt x="28829" y="54863"/>
                </a:lnTo>
                <a:lnTo>
                  <a:pt x="32628" y="47370"/>
                </a:lnTo>
                <a:lnTo>
                  <a:pt x="32004" y="47370"/>
                </a:lnTo>
                <a:lnTo>
                  <a:pt x="39497" y="38099"/>
                </a:lnTo>
                <a:lnTo>
                  <a:pt x="41847" y="38099"/>
                </a:lnTo>
                <a:lnTo>
                  <a:pt x="47244" y="33527"/>
                </a:lnTo>
                <a:lnTo>
                  <a:pt x="48103" y="33527"/>
                </a:lnTo>
                <a:lnTo>
                  <a:pt x="54864" y="29082"/>
                </a:lnTo>
                <a:lnTo>
                  <a:pt x="59436" y="27431"/>
                </a:lnTo>
                <a:lnTo>
                  <a:pt x="64008" y="25907"/>
                </a:lnTo>
                <a:lnTo>
                  <a:pt x="993097" y="25907"/>
                </a:lnTo>
                <a:lnTo>
                  <a:pt x="990600" y="22859"/>
                </a:lnTo>
                <a:lnTo>
                  <a:pt x="990600" y="21335"/>
                </a:lnTo>
                <a:lnTo>
                  <a:pt x="989076" y="21335"/>
                </a:lnTo>
                <a:lnTo>
                  <a:pt x="979932" y="13842"/>
                </a:lnTo>
                <a:lnTo>
                  <a:pt x="978408" y="12191"/>
                </a:lnTo>
                <a:lnTo>
                  <a:pt x="966088" y="6095"/>
                </a:lnTo>
                <a:lnTo>
                  <a:pt x="959993" y="3174"/>
                </a:lnTo>
                <a:lnTo>
                  <a:pt x="952500" y="1650"/>
                </a:lnTo>
                <a:lnTo>
                  <a:pt x="944880" y="0"/>
                </a:lnTo>
                <a:close/>
              </a:path>
              <a:path w="1012190" h="637539">
                <a:moveTo>
                  <a:pt x="966088" y="603503"/>
                </a:moveTo>
                <a:lnTo>
                  <a:pt x="955421" y="609599"/>
                </a:lnTo>
                <a:lnTo>
                  <a:pt x="952500" y="609599"/>
                </a:lnTo>
                <a:lnTo>
                  <a:pt x="947801" y="611250"/>
                </a:lnTo>
                <a:lnTo>
                  <a:pt x="941832" y="612774"/>
                </a:lnTo>
                <a:lnTo>
                  <a:pt x="993027" y="612774"/>
                </a:lnTo>
                <a:lnTo>
                  <a:pt x="998093" y="606678"/>
                </a:lnTo>
                <a:lnTo>
                  <a:pt x="999744" y="605027"/>
                </a:lnTo>
                <a:lnTo>
                  <a:pt x="964565" y="605027"/>
                </a:lnTo>
                <a:lnTo>
                  <a:pt x="966088" y="603503"/>
                </a:lnTo>
                <a:close/>
              </a:path>
              <a:path w="1012190" h="637539">
                <a:moveTo>
                  <a:pt x="45593" y="603503"/>
                </a:moveTo>
                <a:lnTo>
                  <a:pt x="47244" y="605027"/>
                </a:lnTo>
                <a:lnTo>
                  <a:pt x="48105" y="605027"/>
                </a:lnTo>
                <a:lnTo>
                  <a:pt x="45593" y="603503"/>
                </a:lnTo>
                <a:close/>
              </a:path>
              <a:path w="1012190" h="637539">
                <a:moveTo>
                  <a:pt x="972724" y="598321"/>
                </a:moveTo>
                <a:lnTo>
                  <a:pt x="964565" y="605027"/>
                </a:lnTo>
                <a:lnTo>
                  <a:pt x="999744" y="605027"/>
                </a:lnTo>
                <a:lnTo>
                  <a:pt x="999744" y="603503"/>
                </a:lnTo>
                <a:lnTo>
                  <a:pt x="1002054" y="598931"/>
                </a:lnTo>
                <a:lnTo>
                  <a:pt x="972312" y="598931"/>
                </a:lnTo>
                <a:lnTo>
                  <a:pt x="972724" y="598321"/>
                </a:lnTo>
                <a:close/>
              </a:path>
              <a:path w="1012190" h="637539">
                <a:moveTo>
                  <a:pt x="38100" y="597407"/>
                </a:moveTo>
                <a:lnTo>
                  <a:pt x="39497" y="598931"/>
                </a:lnTo>
                <a:lnTo>
                  <a:pt x="38524" y="597761"/>
                </a:lnTo>
                <a:lnTo>
                  <a:pt x="38100" y="597407"/>
                </a:lnTo>
                <a:close/>
              </a:path>
              <a:path w="1012190" h="637539">
                <a:moveTo>
                  <a:pt x="38524" y="597761"/>
                </a:moveTo>
                <a:lnTo>
                  <a:pt x="39497" y="598931"/>
                </a:lnTo>
                <a:lnTo>
                  <a:pt x="39928" y="598931"/>
                </a:lnTo>
                <a:lnTo>
                  <a:pt x="38524" y="597761"/>
                </a:lnTo>
                <a:close/>
              </a:path>
              <a:path w="1012190" h="637539">
                <a:moveTo>
                  <a:pt x="973836" y="597407"/>
                </a:moveTo>
                <a:lnTo>
                  <a:pt x="972724" y="598321"/>
                </a:lnTo>
                <a:lnTo>
                  <a:pt x="972312" y="598931"/>
                </a:lnTo>
                <a:lnTo>
                  <a:pt x="973836" y="597407"/>
                </a:lnTo>
                <a:close/>
              </a:path>
              <a:path w="1012190" h="637539">
                <a:moveTo>
                  <a:pt x="1002824" y="597407"/>
                </a:moveTo>
                <a:lnTo>
                  <a:pt x="973836" y="597407"/>
                </a:lnTo>
                <a:lnTo>
                  <a:pt x="972312" y="598931"/>
                </a:lnTo>
                <a:lnTo>
                  <a:pt x="1002054" y="598931"/>
                </a:lnTo>
                <a:lnTo>
                  <a:pt x="1002824" y="597407"/>
                </a:lnTo>
                <a:close/>
              </a:path>
              <a:path w="1012190" h="637539">
                <a:moveTo>
                  <a:pt x="978408" y="589914"/>
                </a:moveTo>
                <a:lnTo>
                  <a:pt x="972724" y="598321"/>
                </a:lnTo>
                <a:lnTo>
                  <a:pt x="973836" y="597407"/>
                </a:lnTo>
                <a:lnTo>
                  <a:pt x="1002824" y="597407"/>
                </a:lnTo>
                <a:lnTo>
                  <a:pt x="1005840" y="591438"/>
                </a:lnTo>
                <a:lnTo>
                  <a:pt x="978408" y="591438"/>
                </a:lnTo>
                <a:lnTo>
                  <a:pt x="978408" y="589914"/>
                </a:lnTo>
                <a:close/>
              </a:path>
              <a:path w="1012190" h="637539">
                <a:moveTo>
                  <a:pt x="38230" y="597407"/>
                </a:moveTo>
                <a:lnTo>
                  <a:pt x="38100" y="597407"/>
                </a:lnTo>
                <a:lnTo>
                  <a:pt x="38524" y="597761"/>
                </a:lnTo>
                <a:lnTo>
                  <a:pt x="38230" y="597407"/>
                </a:lnTo>
                <a:close/>
              </a:path>
              <a:path w="1012190" h="637539">
                <a:moveTo>
                  <a:pt x="32419" y="589914"/>
                </a:moveTo>
                <a:lnTo>
                  <a:pt x="32004" y="589914"/>
                </a:lnTo>
                <a:lnTo>
                  <a:pt x="33401" y="591438"/>
                </a:lnTo>
                <a:lnTo>
                  <a:pt x="32419" y="589914"/>
                </a:lnTo>
                <a:close/>
              </a:path>
              <a:path w="1012190" h="637539">
                <a:moveTo>
                  <a:pt x="1006462" y="45846"/>
                </a:moveTo>
                <a:lnTo>
                  <a:pt x="978408" y="45846"/>
                </a:lnTo>
                <a:lnTo>
                  <a:pt x="982980" y="56514"/>
                </a:lnTo>
                <a:lnTo>
                  <a:pt x="984504" y="60959"/>
                </a:lnTo>
                <a:lnTo>
                  <a:pt x="985901" y="65531"/>
                </a:lnTo>
                <a:lnTo>
                  <a:pt x="985901" y="574674"/>
                </a:lnTo>
                <a:lnTo>
                  <a:pt x="984504" y="579246"/>
                </a:lnTo>
                <a:lnTo>
                  <a:pt x="982980" y="583691"/>
                </a:lnTo>
                <a:lnTo>
                  <a:pt x="978408" y="591438"/>
                </a:lnTo>
                <a:lnTo>
                  <a:pt x="1005840" y="591438"/>
                </a:lnTo>
                <a:lnTo>
                  <a:pt x="1008761" y="585342"/>
                </a:lnTo>
                <a:lnTo>
                  <a:pt x="1010412" y="577595"/>
                </a:lnTo>
                <a:lnTo>
                  <a:pt x="1011936" y="570102"/>
                </a:lnTo>
                <a:lnTo>
                  <a:pt x="1011936" y="65531"/>
                </a:lnTo>
                <a:lnTo>
                  <a:pt x="1010412" y="58038"/>
                </a:lnTo>
                <a:lnTo>
                  <a:pt x="1008761" y="51942"/>
                </a:lnTo>
                <a:lnTo>
                  <a:pt x="1006462" y="45846"/>
                </a:lnTo>
                <a:close/>
              </a:path>
              <a:path w="1012190" h="637539">
                <a:moveTo>
                  <a:pt x="33401" y="45846"/>
                </a:moveTo>
                <a:lnTo>
                  <a:pt x="32004" y="47370"/>
                </a:lnTo>
                <a:lnTo>
                  <a:pt x="32628" y="47370"/>
                </a:lnTo>
                <a:lnTo>
                  <a:pt x="33401" y="45846"/>
                </a:lnTo>
                <a:close/>
              </a:path>
              <a:path w="1012190" h="637539">
                <a:moveTo>
                  <a:pt x="1002356" y="38099"/>
                </a:moveTo>
                <a:lnTo>
                  <a:pt x="972312" y="38099"/>
                </a:lnTo>
                <a:lnTo>
                  <a:pt x="978408" y="47370"/>
                </a:lnTo>
                <a:lnTo>
                  <a:pt x="978408" y="45846"/>
                </a:lnTo>
                <a:lnTo>
                  <a:pt x="1006462" y="45846"/>
                </a:lnTo>
                <a:lnTo>
                  <a:pt x="1005840" y="44195"/>
                </a:lnTo>
                <a:lnTo>
                  <a:pt x="1002356" y="38099"/>
                </a:lnTo>
                <a:close/>
              </a:path>
              <a:path w="1012190" h="637539">
                <a:moveTo>
                  <a:pt x="41847" y="38099"/>
                </a:moveTo>
                <a:lnTo>
                  <a:pt x="39497" y="38099"/>
                </a:lnTo>
                <a:lnTo>
                  <a:pt x="38100" y="41274"/>
                </a:lnTo>
                <a:lnTo>
                  <a:pt x="41847" y="38099"/>
                </a:lnTo>
                <a:close/>
              </a:path>
              <a:path w="1012190" h="637539">
                <a:moveTo>
                  <a:pt x="999744" y="33527"/>
                </a:moveTo>
                <a:lnTo>
                  <a:pt x="964565" y="33527"/>
                </a:lnTo>
                <a:lnTo>
                  <a:pt x="973836" y="41274"/>
                </a:lnTo>
                <a:lnTo>
                  <a:pt x="972312" y="38099"/>
                </a:lnTo>
                <a:lnTo>
                  <a:pt x="1002356" y="38099"/>
                </a:lnTo>
                <a:lnTo>
                  <a:pt x="999744" y="33527"/>
                </a:lnTo>
                <a:close/>
              </a:path>
              <a:path w="1012190" h="637539">
                <a:moveTo>
                  <a:pt x="48103" y="33527"/>
                </a:moveTo>
                <a:lnTo>
                  <a:pt x="47244" y="33527"/>
                </a:lnTo>
                <a:lnTo>
                  <a:pt x="45593" y="35178"/>
                </a:lnTo>
                <a:lnTo>
                  <a:pt x="48103" y="33527"/>
                </a:lnTo>
                <a:close/>
              </a:path>
              <a:path w="1012190" h="637539">
                <a:moveTo>
                  <a:pt x="993097" y="25907"/>
                </a:moveTo>
                <a:lnTo>
                  <a:pt x="943229" y="25907"/>
                </a:lnTo>
                <a:lnTo>
                  <a:pt x="947801" y="27431"/>
                </a:lnTo>
                <a:lnTo>
                  <a:pt x="952500" y="27431"/>
                </a:lnTo>
                <a:lnTo>
                  <a:pt x="957072" y="29082"/>
                </a:lnTo>
                <a:lnTo>
                  <a:pt x="966088" y="35178"/>
                </a:lnTo>
                <a:lnTo>
                  <a:pt x="964565" y="33527"/>
                </a:lnTo>
                <a:lnTo>
                  <a:pt x="999744" y="33527"/>
                </a:lnTo>
                <a:lnTo>
                  <a:pt x="999744" y="32003"/>
                </a:lnTo>
                <a:lnTo>
                  <a:pt x="998093" y="32003"/>
                </a:lnTo>
                <a:lnTo>
                  <a:pt x="993097" y="25907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object 16"/>
          <p:cNvSpPr/>
          <p:nvPr/>
        </p:nvSpPr>
        <p:spPr>
          <a:xfrm>
            <a:off x="8595360" y="4707720"/>
            <a:ext cx="3448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bject 17"/>
          <p:cNvSpPr/>
          <p:nvPr/>
        </p:nvSpPr>
        <p:spPr>
          <a:xfrm>
            <a:off x="8325360" y="3765240"/>
            <a:ext cx="880560" cy="55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object 18"/>
          <p:cNvSpPr/>
          <p:nvPr/>
        </p:nvSpPr>
        <p:spPr>
          <a:xfrm>
            <a:off x="8321400" y="3759840"/>
            <a:ext cx="892800" cy="563400"/>
          </a:xfrm>
          <a:custGeom>
            <a:avLst/>
            <a:gdLst>
              <a:gd name="textAreaLeft" fmla="*/ 0 w 892800"/>
              <a:gd name="textAreaRight" fmla="*/ 893160 w 89280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2190" h="638810">
                <a:moveTo>
                  <a:pt x="946404" y="637032"/>
                </a:moveTo>
                <a:lnTo>
                  <a:pt x="66929" y="637032"/>
                </a:lnTo>
                <a:lnTo>
                  <a:pt x="73025" y="638682"/>
                </a:lnTo>
                <a:lnTo>
                  <a:pt x="938657" y="638682"/>
                </a:lnTo>
                <a:lnTo>
                  <a:pt x="946404" y="637032"/>
                </a:lnTo>
                <a:close/>
              </a:path>
              <a:path w="1012190" h="638810">
                <a:moveTo>
                  <a:pt x="978408" y="624840"/>
                </a:moveTo>
                <a:lnTo>
                  <a:pt x="32004" y="624840"/>
                </a:lnTo>
                <a:lnTo>
                  <a:pt x="33401" y="626363"/>
                </a:lnTo>
                <a:lnTo>
                  <a:pt x="45593" y="632586"/>
                </a:lnTo>
                <a:lnTo>
                  <a:pt x="51689" y="635507"/>
                </a:lnTo>
                <a:lnTo>
                  <a:pt x="59436" y="637032"/>
                </a:lnTo>
                <a:lnTo>
                  <a:pt x="953897" y="637032"/>
                </a:lnTo>
                <a:lnTo>
                  <a:pt x="959993" y="634110"/>
                </a:lnTo>
                <a:lnTo>
                  <a:pt x="967740" y="630935"/>
                </a:lnTo>
                <a:lnTo>
                  <a:pt x="978408" y="626363"/>
                </a:lnTo>
                <a:lnTo>
                  <a:pt x="978408" y="624840"/>
                </a:lnTo>
                <a:close/>
              </a:path>
              <a:path w="1012190" h="638810">
                <a:moveTo>
                  <a:pt x="979932" y="13842"/>
                </a:moveTo>
                <a:lnTo>
                  <a:pt x="30480" y="13842"/>
                </a:lnTo>
                <a:lnTo>
                  <a:pt x="21336" y="21335"/>
                </a:lnTo>
                <a:lnTo>
                  <a:pt x="21336" y="22986"/>
                </a:lnTo>
                <a:lnTo>
                  <a:pt x="19812" y="22986"/>
                </a:lnTo>
                <a:lnTo>
                  <a:pt x="12065" y="32003"/>
                </a:lnTo>
                <a:lnTo>
                  <a:pt x="12065" y="35178"/>
                </a:lnTo>
                <a:lnTo>
                  <a:pt x="4572" y="45846"/>
                </a:lnTo>
                <a:lnTo>
                  <a:pt x="2921" y="53339"/>
                </a:lnTo>
                <a:lnTo>
                  <a:pt x="1397" y="61086"/>
                </a:lnTo>
                <a:lnTo>
                  <a:pt x="0" y="67182"/>
                </a:lnTo>
                <a:lnTo>
                  <a:pt x="0" y="573151"/>
                </a:lnTo>
                <a:lnTo>
                  <a:pt x="1397" y="579246"/>
                </a:lnTo>
                <a:lnTo>
                  <a:pt x="2921" y="586740"/>
                </a:lnTo>
                <a:lnTo>
                  <a:pt x="5969" y="594486"/>
                </a:lnTo>
                <a:lnTo>
                  <a:pt x="12065" y="605155"/>
                </a:lnTo>
                <a:lnTo>
                  <a:pt x="12065" y="606679"/>
                </a:lnTo>
                <a:lnTo>
                  <a:pt x="19812" y="615696"/>
                </a:lnTo>
                <a:lnTo>
                  <a:pt x="21336" y="615696"/>
                </a:lnTo>
                <a:lnTo>
                  <a:pt x="21336" y="617346"/>
                </a:lnTo>
                <a:lnTo>
                  <a:pt x="30480" y="624840"/>
                </a:lnTo>
                <a:lnTo>
                  <a:pt x="979932" y="624840"/>
                </a:lnTo>
                <a:lnTo>
                  <a:pt x="989076" y="617346"/>
                </a:lnTo>
                <a:lnTo>
                  <a:pt x="990600" y="617346"/>
                </a:lnTo>
                <a:lnTo>
                  <a:pt x="990600" y="615696"/>
                </a:lnTo>
                <a:lnTo>
                  <a:pt x="993027" y="612774"/>
                </a:lnTo>
                <a:lnTo>
                  <a:pt x="66929" y="612774"/>
                </a:lnTo>
                <a:lnTo>
                  <a:pt x="62357" y="611251"/>
                </a:lnTo>
                <a:lnTo>
                  <a:pt x="57912" y="609599"/>
                </a:lnTo>
                <a:lnTo>
                  <a:pt x="53340" y="608076"/>
                </a:lnTo>
                <a:lnTo>
                  <a:pt x="48390" y="605155"/>
                </a:lnTo>
                <a:lnTo>
                  <a:pt x="47244" y="605155"/>
                </a:lnTo>
                <a:lnTo>
                  <a:pt x="39898" y="598932"/>
                </a:lnTo>
                <a:lnTo>
                  <a:pt x="39497" y="598932"/>
                </a:lnTo>
                <a:lnTo>
                  <a:pt x="38100" y="597407"/>
                </a:lnTo>
                <a:lnTo>
                  <a:pt x="38230" y="597407"/>
                </a:lnTo>
                <a:lnTo>
                  <a:pt x="34431" y="592835"/>
                </a:lnTo>
                <a:lnTo>
                  <a:pt x="33401" y="592835"/>
                </a:lnTo>
                <a:lnTo>
                  <a:pt x="27432" y="582168"/>
                </a:lnTo>
                <a:lnTo>
                  <a:pt x="27432" y="577596"/>
                </a:lnTo>
                <a:lnTo>
                  <a:pt x="25908" y="573151"/>
                </a:lnTo>
                <a:lnTo>
                  <a:pt x="24257" y="568579"/>
                </a:lnTo>
                <a:lnTo>
                  <a:pt x="24257" y="68706"/>
                </a:lnTo>
                <a:lnTo>
                  <a:pt x="25908" y="64007"/>
                </a:lnTo>
                <a:lnTo>
                  <a:pt x="27432" y="59435"/>
                </a:lnTo>
                <a:lnTo>
                  <a:pt x="28829" y="54863"/>
                </a:lnTo>
                <a:lnTo>
                  <a:pt x="33401" y="45846"/>
                </a:lnTo>
                <a:lnTo>
                  <a:pt x="34431" y="45846"/>
                </a:lnTo>
                <a:lnTo>
                  <a:pt x="38230" y="41274"/>
                </a:lnTo>
                <a:lnTo>
                  <a:pt x="38100" y="41274"/>
                </a:lnTo>
                <a:lnTo>
                  <a:pt x="39497" y="39750"/>
                </a:lnTo>
                <a:lnTo>
                  <a:pt x="39928" y="39750"/>
                </a:lnTo>
                <a:lnTo>
                  <a:pt x="47244" y="33654"/>
                </a:lnTo>
                <a:lnTo>
                  <a:pt x="47910" y="33654"/>
                </a:lnTo>
                <a:lnTo>
                  <a:pt x="54864" y="29082"/>
                </a:lnTo>
                <a:lnTo>
                  <a:pt x="59436" y="27431"/>
                </a:lnTo>
                <a:lnTo>
                  <a:pt x="64008" y="27431"/>
                </a:lnTo>
                <a:lnTo>
                  <a:pt x="68580" y="25907"/>
                </a:lnTo>
                <a:lnTo>
                  <a:pt x="993027" y="25907"/>
                </a:lnTo>
                <a:lnTo>
                  <a:pt x="990600" y="22986"/>
                </a:lnTo>
                <a:lnTo>
                  <a:pt x="990600" y="21335"/>
                </a:lnTo>
                <a:lnTo>
                  <a:pt x="989076" y="21335"/>
                </a:lnTo>
                <a:lnTo>
                  <a:pt x="979932" y="13842"/>
                </a:lnTo>
                <a:close/>
              </a:path>
              <a:path w="1012190" h="638810">
                <a:moveTo>
                  <a:pt x="966088" y="603504"/>
                </a:moveTo>
                <a:lnTo>
                  <a:pt x="952500" y="611251"/>
                </a:lnTo>
                <a:lnTo>
                  <a:pt x="947801" y="611251"/>
                </a:lnTo>
                <a:lnTo>
                  <a:pt x="941832" y="612774"/>
                </a:lnTo>
                <a:lnTo>
                  <a:pt x="993027" y="612774"/>
                </a:lnTo>
                <a:lnTo>
                  <a:pt x="998093" y="606679"/>
                </a:lnTo>
                <a:lnTo>
                  <a:pt x="999744" y="605155"/>
                </a:lnTo>
                <a:lnTo>
                  <a:pt x="964565" y="605155"/>
                </a:lnTo>
                <a:lnTo>
                  <a:pt x="966088" y="603504"/>
                </a:lnTo>
                <a:close/>
              </a:path>
              <a:path w="1012190" h="638810">
                <a:moveTo>
                  <a:pt x="45593" y="603504"/>
                </a:moveTo>
                <a:lnTo>
                  <a:pt x="47244" y="605155"/>
                </a:lnTo>
                <a:lnTo>
                  <a:pt x="48390" y="605155"/>
                </a:lnTo>
                <a:lnTo>
                  <a:pt x="45593" y="603504"/>
                </a:lnTo>
                <a:close/>
              </a:path>
              <a:path w="1012190" h="638810">
                <a:moveTo>
                  <a:pt x="972701" y="598356"/>
                </a:moveTo>
                <a:lnTo>
                  <a:pt x="964565" y="605155"/>
                </a:lnTo>
                <a:lnTo>
                  <a:pt x="999744" y="605155"/>
                </a:lnTo>
                <a:lnTo>
                  <a:pt x="1002823" y="598932"/>
                </a:lnTo>
                <a:lnTo>
                  <a:pt x="972312" y="598932"/>
                </a:lnTo>
                <a:lnTo>
                  <a:pt x="972701" y="598356"/>
                </a:lnTo>
                <a:close/>
              </a:path>
              <a:path w="1012190" h="638810">
                <a:moveTo>
                  <a:pt x="38100" y="597407"/>
                </a:moveTo>
                <a:lnTo>
                  <a:pt x="39497" y="598932"/>
                </a:lnTo>
                <a:lnTo>
                  <a:pt x="38541" y="597781"/>
                </a:lnTo>
                <a:lnTo>
                  <a:pt x="38100" y="597407"/>
                </a:lnTo>
                <a:close/>
              </a:path>
              <a:path w="1012190" h="638810">
                <a:moveTo>
                  <a:pt x="38541" y="597781"/>
                </a:moveTo>
                <a:lnTo>
                  <a:pt x="39497" y="598932"/>
                </a:lnTo>
                <a:lnTo>
                  <a:pt x="39898" y="598932"/>
                </a:lnTo>
                <a:lnTo>
                  <a:pt x="38541" y="597781"/>
                </a:lnTo>
                <a:close/>
              </a:path>
              <a:path w="1012190" h="638810">
                <a:moveTo>
                  <a:pt x="973836" y="597407"/>
                </a:moveTo>
                <a:lnTo>
                  <a:pt x="972701" y="598356"/>
                </a:lnTo>
                <a:lnTo>
                  <a:pt x="972312" y="598932"/>
                </a:lnTo>
                <a:lnTo>
                  <a:pt x="973836" y="597407"/>
                </a:lnTo>
                <a:close/>
              </a:path>
              <a:path w="1012190" h="638810">
                <a:moveTo>
                  <a:pt x="1003577" y="597407"/>
                </a:moveTo>
                <a:lnTo>
                  <a:pt x="973836" y="597407"/>
                </a:lnTo>
                <a:lnTo>
                  <a:pt x="972312" y="598932"/>
                </a:lnTo>
                <a:lnTo>
                  <a:pt x="1002823" y="598932"/>
                </a:lnTo>
                <a:lnTo>
                  <a:pt x="1003577" y="597407"/>
                </a:lnTo>
                <a:close/>
              </a:path>
              <a:path w="1012190" h="638810">
                <a:moveTo>
                  <a:pt x="978408" y="589915"/>
                </a:moveTo>
                <a:lnTo>
                  <a:pt x="972701" y="598356"/>
                </a:lnTo>
                <a:lnTo>
                  <a:pt x="973836" y="597407"/>
                </a:lnTo>
                <a:lnTo>
                  <a:pt x="1003577" y="597407"/>
                </a:lnTo>
                <a:lnTo>
                  <a:pt x="1005840" y="592835"/>
                </a:lnTo>
                <a:lnTo>
                  <a:pt x="978408" y="592835"/>
                </a:lnTo>
                <a:lnTo>
                  <a:pt x="978408" y="589915"/>
                </a:lnTo>
                <a:close/>
              </a:path>
              <a:path w="1012190" h="638810">
                <a:moveTo>
                  <a:pt x="38230" y="597407"/>
                </a:moveTo>
                <a:lnTo>
                  <a:pt x="38100" y="597407"/>
                </a:lnTo>
                <a:lnTo>
                  <a:pt x="38541" y="597781"/>
                </a:lnTo>
                <a:lnTo>
                  <a:pt x="38230" y="597407"/>
                </a:lnTo>
                <a:close/>
              </a:path>
              <a:path w="1012190" h="638810">
                <a:moveTo>
                  <a:pt x="32004" y="589915"/>
                </a:moveTo>
                <a:lnTo>
                  <a:pt x="33401" y="592835"/>
                </a:lnTo>
                <a:lnTo>
                  <a:pt x="34431" y="592835"/>
                </a:lnTo>
                <a:lnTo>
                  <a:pt x="32004" y="589915"/>
                </a:lnTo>
                <a:close/>
              </a:path>
              <a:path w="1012190" h="638810">
                <a:moveTo>
                  <a:pt x="1006462" y="45846"/>
                </a:moveTo>
                <a:lnTo>
                  <a:pt x="978408" y="45846"/>
                </a:lnTo>
                <a:lnTo>
                  <a:pt x="982980" y="56514"/>
                </a:lnTo>
                <a:lnTo>
                  <a:pt x="984504" y="61086"/>
                </a:lnTo>
                <a:lnTo>
                  <a:pt x="985901" y="65531"/>
                </a:lnTo>
                <a:lnTo>
                  <a:pt x="985901" y="574674"/>
                </a:lnTo>
                <a:lnTo>
                  <a:pt x="984504" y="579246"/>
                </a:lnTo>
                <a:lnTo>
                  <a:pt x="982980" y="583819"/>
                </a:lnTo>
                <a:lnTo>
                  <a:pt x="978408" y="592835"/>
                </a:lnTo>
                <a:lnTo>
                  <a:pt x="1005840" y="592835"/>
                </a:lnTo>
                <a:lnTo>
                  <a:pt x="1008761" y="585343"/>
                </a:lnTo>
                <a:lnTo>
                  <a:pt x="1010412" y="579246"/>
                </a:lnTo>
                <a:lnTo>
                  <a:pt x="1011936" y="571499"/>
                </a:lnTo>
                <a:lnTo>
                  <a:pt x="1011936" y="67182"/>
                </a:lnTo>
                <a:lnTo>
                  <a:pt x="1010412" y="59435"/>
                </a:lnTo>
                <a:lnTo>
                  <a:pt x="1008761" y="51942"/>
                </a:lnTo>
                <a:lnTo>
                  <a:pt x="1006462" y="45846"/>
                </a:lnTo>
                <a:close/>
              </a:path>
              <a:path w="1012190" h="638810">
                <a:moveTo>
                  <a:pt x="34431" y="45846"/>
                </a:moveTo>
                <a:lnTo>
                  <a:pt x="33401" y="45846"/>
                </a:lnTo>
                <a:lnTo>
                  <a:pt x="32004" y="48767"/>
                </a:lnTo>
                <a:lnTo>
                  <a:pt x="34431" y="45846"/>
                </a:lnTo>
                <a:close/>
              </a:path>
              <a:path w="1012190" h="638810">
                <a:moveTo>
                  <a:pt x="972724" y="40361"/>
                </a:moveTo>
                <a:lnTo>
                  <a:pt x="978408" y="48767"/>
                </a:lnTo>
                <a:lnTo>
                  <a:pt x="978408" y="45846"/>
                </a:lnTo>
                <a:lnTo>
                  <a:pt x="1006462" y="45846"/>
                </a:lnTo>
                <a:lnTo>
                  <a:pt x="1005840" y="44195"/>
                </a:lnTo>
                <a:lnTo>
                  <a:pt x="1003865" y="41274"/>
                </a:lnTo>
                <a:lnTo>
                  <a:pt x="973836" y="41274"/>
                </a:lnTo>
                <a:lnTo>
                  <a:pt x="972724" y="40361"/>
                </a:lnTo>
                <a:close/>
              </a:path>
              <a:path w="1012190" h="638810">
                <a:moveTo>
                  <a:pt x="39497" y="39750"/>
                </a:moveTo>
                <a:lnTo>
                  <a:pt x="38100" y="41274"/>
                </a:lnTo>
                <a:lnTo>
                  <a:pt x="38524" y="40921"/>
                </a:lnTo>
                <a:lnTo>
                  <a:pt x="39497" y="39750"/>
                </a:lnTo>
                <a:close/>
              </a:path>
              <a:path w="1012190" h="638810">
                <a:moveTo>
                  <a:pt x="38524" y="40921"/>
                </a:moveTo>
                <a:lnTo>
                  <a:pt x="38100" y="41274"/>
                </a:lnTo>
                <a:lnTo>
                  <a:pt x="38230" y="41274"/>
                </a:lnTo>
                <a:lnTo>
                  <a:pt x="38524" y="40921"/>
                </a:lnTo>
                <a:close/>
              </a:path>
              <a:path w="1012190" h="638810">
                <a:moveTo>
                  <a:pt x="972312" y="39750"/>
                </a:moveTo>
                <a:lnTo>
                  <a:pt x="972724" y="40361"/>
                </a:lnTo>
                <a:lnTo>
                  <a:pt x="973836" y="41274"/>
                </a:lnTo>
                <a:lnTo>
                  <a:pt x="972312" y="39750"/>
                </a:lnTo>
                <a:close/>
              </a:path>
              <a:path w="1012190" h="638810">
                <a:moveTo>
                  <a:pt x="1002834" y="39750"/>
                </a:moveTo>
                <a:lnTo>
                  <a:pt x="972312" y="39750"/>
                </a:lnTo>
                <a:lnTo>
                  <a:pt x="973836" y="41274"/>
                </a:lnTo>
                <a:lnTo>
                  <a:pt x="1003865" y="41274"/>
                </a:lnTo>
                <a:lnTo>
                  <a:pt x="1002834" y="39750"/>
                </a:lnTo>
                <a:close/>
              </a:path>
              <a:path w="1012190" h="638810">
                <a:moveTo>
                  <a:pt x="39928" y="39750"/>
                </a:moveTo>
                <a:lnTo>
                  <a:pt x="39497" y="39750"/>
                </a:lnTo>
                <a:lnTo>
                  <a:pt x="38524" y="40921"/>
                </a:lnTo>
                <a:lnTo>
                  <a:pt x="39928" y="39750"/>
                </a:lnTo>
                <a:close/>
              </a:path>
              <a:path w="1012190" h="638810">
                <a:moveTo>
                  <a:pt x="999744" y="33654"/>
                </a:moveTo>
                <a:lnTo>
                  <a:pt x="964565" y="33654"/>
                </a:lnTo>
                <a:lnTo>
                  <a:pt x="972724" y="40361"/>
                </a:lnTo>
                <a:lnTo>
                  <a:pt x="972312" y="39750"/>
                </a:lnTo>
                <a:lnTo>
                  <a:pt x="1002834" y="39750"/>
                </a:lnTo>
                <a:lnTo>
                  <a:pt x="999744" y="35178"/>
                </a:lnTo>
                <a:lnTo>
                  <a:pt x="999744" y="33654"/>
                </a:lnTo>
                <a:close/>
              </a:path>
              <a:path w="1012190" h="638810">
                <a:moveTo>
                  <a:pt x="47910" y="33654"/>
                </a:moveTo>
                <a:lnTo>
                  <a:pt x="47244" y="33654"/>
                </a:lnTo>
                <a:lnTo>
                  <a:pt x="45593" y="35178"/>
                </a:lnTo>
                <a:lnTo>
                  <a:pt x="47910" y="33654"/>
                </a:lnTo>
                <a:close/>
              </a:path>
              <a:path w="1012190" h="638810">
                <a:moveTo>
                  <a:pt x="993027" y="25907"/>
                </a:moveTo>
                <a:lnTo>
                  <a:pt x="943229" y="25907"/>
                </a:lnTo>
                <a:lnTo>
                  <a:pt x="947801" y="27431"/>
                </a:lnTo>
                <a:lnTo>
                  <a:pt x="952500" y="29082"/>
                </a:lnTo>
                <a:lnTo>
                  <a:pt x="957072" y="30606"/>
                </a:lnTo>
                <a:lnTo>
                  <a:pt x="966088" y="35178"/>
                </a:lnTo>
                <a:lnTo>
                  <a:pt x="964565" y="33654"/>
                </a:lnTo>
                <a:lnTo>
                  <a:pt x="999744" y="33654"/>
                </a:lnTo>
                <a:lnTo>
                  <a:pt x="998093" y="32003"/>
                </a:lnTo>
                <a:lnTo>
                  <a:pt x="993027" y="25907"/>
                </a:lnTo>
                <a:close/>
              </a:path>
              <a:path w="1012190" h="638810">
                <a:moveTo>
                  <a:pt x="952500" y="1650"/>
                </a:moveTo>
                <a:lnTo>
                  <a:pt x="57912" y="1650"/>
                </a:lnTo>
                <a:lnTo>
                  <a:pt x="50165" y="4571"/>
                </a:lnTo>
                <a:lnTo>
                  <a:pt x="44069" y="7746"/>
                </a:lnTo>
                <a:lnTo>
                  <a:pt x="33401" y="12318"/>
                </a:lnTo>
                <a:lnTo>
                  <a:pt x="32004" y="13842"/>
                </a:lnTo>
                <a:lnTo>
                  <a:pt x="978408" y="13842"/>
                </a:lnTo>
                <a:lnTo>
                  <a:pt x="978408" y="12318"/>
                </a:lnTo>
                <a:lnTo>
                  <a:pt x="966088" y="6095"/>
                </a:lnTo>
                <a:lnTo>
                  <a:pt x="959993" y="3174"/>
                </a:lnTo>
                <a:lnTo>
                  <a:pt x="952500" y="1650"/>
                </a:lnTo>
                <a:close/>
              </a:path>
              <a:path w="1012190" h="638810">
                <a:moveTo>
                  <a:pt x="938657" y="0"/>
                </a:moveTo>
                <a:lnTo>
                  <a:pt x="73025" y="0"/>
                </a:lnTo>
                <a:lnTo>
                  <a:pt x="65532" y="1650"/>
                </a:lnTo>
                <a:lnTo>
                  <a:pt x="944880" y="1650"/>
                </a:lnTo>
                <a:lnTo>
                  <a:pt x="938657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object 19"/>
          <p:cNvSpPr/>
          <p:nvPr/>
        </p:nvSpPr>
        <p:spPr>
          <a:xfrm>
            <a:off x="8634240" y="3940920"/>
            <a:ext cx="2653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bject 20"/>
          <p:cNvSpPr/>
          <p:nvPr/>
        </p:nvSpPr>
        <p:spPr>
          <a:xfrm>
            <a:off x="8325360" y="3047040"/>
            <a:ext cx="880560" cy="546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object 21"/>
          <p:cNvSpPr/>
          <p:nvPr/>
        </p:nvSpPr>
        <p:spPr>
          <a:xfrm>
            <a:off x="8321400" y="3039120"/>
            <a:ext cx="892800" cy="562320"/>
          </a:xfrm>
          <a:custGeom>
            <a:avLst/>
            <a:gdLst>
              <a:gd name="textAreaLeft" fmla="*/ 0 w 892800"/>
              <a:gd name="textAreaRight" fmla="*/ 893160 w 89280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1012190" h="637539">
                <a:moveTo>
                  <a:pt x="978408" y="624840"/>
                </a:moveTo>
                <a:lnTo>
                  <a:pt x="33401" y="624840"/>
                </a:lnTo>
                <a:lnTo>
                  <a:pt x="45593" y="632460"/>
                </a:lnTo>
                <a:lnTo>
                  <a:pt x="51689" y="634110"/>
                </a:lnTo>
                <a:lnTo>
                  <a:pt x="59436" y="635507"/>
                </a:lnTo>
                <a:lnTo>
                  <a:pt x="66929" y="637032"/>
                </a:lnTo>
                <a:lnTo>
                  <a:pt x="946404" y="637032"/>
                </a:lnTo>
                <a:lnTo>
                  <a:pt x="953897" y="635507"/>
                </a:lnTo>
                <a:lnTo>
                  <a:pt x="959993" y="634110"/>
                </a:lnTo>
                <a:lnTo>
                  <a:pt x="967740" y="630935"/>
                </a:lnTo>
                <a:lnTo>
                  <a:pt x="978408" y="624840"/>
                </a:lnTo>
                <a:close/>
              </a:path>
              <a:path w="1012190" h="637539">
                <a:moveTo>
                  <a:pt x="944880" y="0"/>
                </a:moveTo>
                <a:lnTo>
                  <a:pt x="65532" y="0"/>
                </a:lnTo>
                <a:lnTo>
                  <a:pt x="57912" y="1650"/>
                </a:lnTo>
                <a:lnTo>
                  <a:pt x="50165" y="3174"/>
                </a:lnTo>
                <a:lnTo>
                  <a:pt x="44069" y="6095"/>
                </a:lnTo>
                <a:lnTo>
                  <a:pt x="33401" y="12318"/>
                </a:lnTo>
                <a:lnTo>
                  <a:pt x="32004" y="12318"/>
                </a:lnTo>
                <a:lnTo>
                  <a:pt x="32004" y="13842"/>
                </a:lnTo>
                <a:lnTo>
                  <a:pt x="30480" y="13842"/>
                </a:lnTo>
                <a:lnTo>
                  <a:pt x="21336" y="21335"/>
                </a:lnTo>
                <a:lnTo>
                  <a:pt x="21336" y="22859"/>
                </a:lnTo>
                <a:lnTo>
                  <a:pt x="19812" y="22859"/>
                </a:lnTo>
                <a:lnTo>
                  <a:pt x="12065" y="32003"/>
                </a:lnTo>
                <a:lnTo>
                  <a:pt x="12065" y="33527"/>
                </a:lnTo>
                <a:lnTo>
                  <a:pt x="4572" y="45846"/>
                </a:lnTo>
                <a:lnTo>
                  <a:pt x="2921" y="53339"/>
                </a:lnTo>
                <a:lnTo>
                  <a:pt x="1397" y="59435"/>
                </a:lnTo>
                <a:lnTo>
                  <a:pt x="0" y="67182"/>
                </a:lnTo>
                <a:lnTo>
                  <a:pt x="0" y="571499"/>
                </a:lnTo>
                <a:lnTo>
                  <a:pt x="1397" y="579246"/>
                </a:lnTo>
                <a:lnTo>
                  <a:pt x="2921" y="586740"/>
                </a:lnTo>
                <a:lnTo>
                  <a:pt x="5969" y="594360"/>
                </a:lnTo>
                <a:lnTo>
                  <a:pt x="12065" y="603504"/>
                </a:lnTo>
                <a:lnTo>
                  <a:pt x="12065" y="606679"/>
                </a:lnTo>
                <a:lnTo>
                  <a:pt x="19812" y="615696"/>
                </a:lnTo>
                <a:lnTo>
                  <a:pt x="21336" y="615696"/>
                </a:lnTo>
                <a:lnTo>
                  <a:pt x="21336" y="617346"/>
                </a:lnTo>
                <a:lnTo>
                  <a:pt x="30480" y="624840"/>
                </a:lnTo>
                <a:lnTo>
                  <a:pt x="979932" y="624840"/>
                </a:lnTo>
                <a:lnTo>
                  <a:pt x="989076" y="617346"/>
                </a:lnTo>
                <a:lnTo>
                  <a:pt x="990600" y="615696"/>
                </a:lnTo>
                <a:lnTo>
                  <a:pt x="993027" y="612774"/>
                </a:lnTo>
                <a:lnTo>
                  <a:pt x="66929" y="612774"/>
                </a:lnTo>
                <a:lnTo>
                  <a:pt x="62357" y="611251"/>
                </a:lnTo>
                <a:lnTo>
                  <a:pt x="57912" y="609599"/>
                </a:lnTo>
                <a:lnTo>
                  <a:pt x="53340" y="608076"/>
                </a:lnTo>
                <a:lnTo>
                  <a:pt x="48175" y="605027"/>
                </a:lnTo>
                <a:lnTo>
                  <a:pt x="47244" y="605027"/>
                </a:lnTo>
                <a:lnTo>
                  <a:pt x="39928" y="598932"/>
                </a:lnTo>
                <a:lnTo>
                  <a:pt x="39497" y="598932"/>
                </a:lnTo>
                <a:lnTo>
                  <a:pt x="38100" y="597407"/>
                </a:lnTo>
                <a:lnTo>
                  <a:pt x="38230" y="597407"/>
                </a:lnTo>
                <a:lnTo>
                  <a:pt x="32004" y="589915"/>
                </a:lnTo>
                <a:lnTo>
                  <a:pt x="32419" y="589915"/>
                </a:lnTo>
                <a:lnTo>
                  <a:pt x="27432" y="582168"/>
                </a:lnTo>
                <a:lnTo>
                  <a:pt x="27432" y="577596"/>
                </a:lnTo>
                <a:lnTo>
                  <a:pt x="25908" y="573151"/>
                </a:lnTo>
                <a:lnTo>
                  <a:pt x="24257" y="568579"/>
                </a:lnTo>
                <a:lnTo>
                  <a:pt x="24257" y="68706"/>
                </a:lnTo>
                <a:lnTo>
                  <a:pt x="25908" y="64007"/>
                </a:lnTo>
                <a:lnTo>
                  <a:pt x="27432" y="59435"/>
                </a:lnTo>
                <a:lnTo>
                  <a:pt x="28829" y="54863"/>
                </a:lnTo>
                <a:lnTo>
                  <a:pt x="32628" y="47370"/>
                </a:lnTo>
                <a:lnTo>
                  <a:pt x="32004" y="47370"/>
                </a:lnTo>
                <a:lnTo>
                  <a:pt x="39497" y="38099"/>
                </a:lnTo>
                <a:lnTo>
                  <a:pt x="41847" y="38099"/>
                </a:lnTo>
                <a:lnTo>
                  <a:pt x="47244" y="33527"/>
                </a:lnTo>
                <a:lnTo>
                  <a:pt x="48103" y="33527"/>
                </a:lnTo>
                <a:lnTo>
                  <a:pt x="54864" y="29082"/>
                </a:lnTo>
                <a:lnTo>
                  <a:pt x="59436" y="27431"/>
                </a:lnTo>
                <a:lnTo>
                  <a:pt x="64008" y="25907"/>
                </a:lnTo>
                <a:lnTo>
                  <a:pt x="993097" y="25907"/>
                </a:lnTo>
                <a:lnTo>
                  <a:pt x="990600" y="22859"/>
                </a:lnTo>
                <a:lnTo>
                  <a:pt x="990600" y="21335"/>
                </a:lnTo>
                <a:lnTo>
                  <a:pt x="989076" y="21335"/>
                </a:lnTo>
                <a:lnTo>
                  <a:pt x="979932" y="13842"/>
                </a:lnTo>
                <a:lnTo>
                  <a:pt x="978408" y="12318"/>
                </a:lnTo>
                <a:lnTo>
                  <a:pt x="966088" y="6095"/>
                </a:lnTo>
                <a:lnTo>
                  <a:pt x="959993" y="3174"/>
                </a:lnTo>
                <a:lnTo>
                  <a:pt x="952500" y="1650"/>
                </a:lnTo>
                <a:lnTo>
                  <a:pt x="944880" y="0"/>
                </a:lnTo>
                <a:close/>
              </a:path>
              <a:path w="1012190" h="637539">
                <a:moveTo>
                  <a:pt x="966088" y="603504"/>
                </a:moveTo>
                <a:lnTo>
                  <a:pt x="955421" y="609599"/>
                </a:lnTo>
                <a:lnTo>
                  <a:pt x="952500" y="609599"/>
                </a:lnTo>
                <a:lnTo>
                  <a:pt x="947801" y="611251"/>
                </a:lnTo>
                <a:lnTo>
                  <a:pt x="941832" y="612774"/>
                </a:lnTo>
                <a:lnTo>
                  <a:pt x="993027" y="612774"/>
                </a:lnTo>
                <a:lnTo>
                  <a:pt x="998093" y="606679"/>
                </a:lnTo>
                <a:lnTo>
                  <a:pt x="999744" y="605027"/>
                </a:lnTo>
                <a:lnTo>
                  <a:pt x="964565" y="605027"/>
                </a:lnTo>
                <a:lnTo>
                  <a:pt x="966088" y="603504"/>
                </a:lnTo>
                <a:close/>
              </a:path>
              <a:path w="1012190" h="637539">
                <a:moveTo>
                  <a:pt x="45593" y="603504"/>
                </a:moveTo>
                <a:lnTo>
                  <a:pt x="47244" y="605027"/>
                </a:lnTo>
                <a:lnTo>
                  <a:pt x="48175" y="605027"/>
                </a:lnTo>
                <a:lnTo>
                  <a:pt x="45593" y="603504"/>
                </a:lnTo>
                <a:close/>
              </a:path>
              <a:path w="1012190" h="637539">
                <a:moveTo>
                  <a:pt x="972724" y="598321"/>
                </a:moveTo>
                <a:lnTo>
                  <a:pt x="964565" y="605027"/>
                </a:lnTo>
                <a:lnTo>
                  <a:pt x="999744" y="605027"/>
                </a:lnTo>
                <a:lnTo>
                  <a:pt x="999744" y="603504"/>
                </a:lnTo>
                <a:lnTo>
                  <a:pt x="1002054" y="598932"/>
                </a:lnTo>
                <a:lnTo>
                  <a:pt x="972312" y="598932"/>
                </a:lnTo>
                <a:lnTo>
                  <a:pt x="972724" y="598321"/>
                </a:lnTo>
                <a:close/>
              </a:path>
              <a:path w="1012190" h="637539">
                <a:moveTo>
                  <a:pt x="38100" y="597407"/>
                </a:moveTo>
                <a:lnTo>
                  <a:pt x="39497" y="598932"/>
                </a:lnTo>
                <a:lnTo>
                  <a:pt x="38524" y="597761"/>
                </a:lnTo>
                <a:lnTo>
                  <a:pt x="38100" y="597407"/>
                </a:lnTo>
                <a:close/>
              </a:path>
              <a:path w="1012190" h="637539">
                <a:moveTo>
                  <a:pt x="38524" y="597761"/>
                </a:moveTo>
                <a:lnTo>
                  <a:pt x="39497" y="598932"/>
                </a:lnTo>
                <a:lnTo>
                  <a:pt x="39928" y="598932"/>
                </a:lnTo>
                <a:lnTo>
                  <a:pt x="38524" y="597761"/>
                </a:lnTo>
                <a:close/>
              </a:path>
              <a:path w="1012190" h="637539">
                <a:moveTo>
                  <a:pt x="973836" y="597407"/>
                </a:moveTo>
                <a:lnTo>
                  <a:pt x="972724" y="598321"/>
                </a:lnTo>
                <a:lnTo>
                  <a:pt x="972312" y="598932"/>
                </a:lnTo>
                <a:lnTo>
                  <a:pt x="973836" y="597407"/>
                </a:lnTo>
                <a:close/>
              </a:path>
              <a:path w="1012190" h="637539">
                <a:moveTo>
                  <a:pt x="1002824" y="597407"/>
                </a:moveTo>
                <a:lnTo>
                  <a:pt x="973836" y="597407"/>
                </a:lnTo>
                <a:lnTo>
                  <a:pt x="972312" y="598932"/>
                </a:lnTo>
                <a:lnTo>
                  <a:pt x="1002054" y="598932"/>
                </a:lnTo>
                <a:lnTo>
                  <a:pt x="1002824" y="597407"/>
                </a:lnTo>
                <a:close/>
              </a:path>
              <a:path w="1012190" h="637539">
                <a:moveTo>
                  <a:pt x="978408" y="589915"/>
                </a:moveTo>
                <a:lnTo>
                  <a:pt x="972724" y="598321"/>
                </a:lnTo>
                <a:lnTo>
                  <a:pt x="973836" y="597407"/>
                </a:lnTo>
                <a:lnTo>
                  <a:pt x="1002824" y="597407"/>
                </a:lnTo>
                <a:lnTo>
                  <a:pt x="1005840" y="591438"/>
                </a:lnTo>
                <a:lnTo>
                  <a:pt x="978408" y="591438"/>
                </a:lnTo>
                <a:lnTo>
                  <a:pt x="978408" y="589915"/>
                </a:lnTo>
                <a:close/>
              </a:path>
              <a:path w="1012190" h="637539">
                <a:moveTo>
                  <a:pt x="38230" y="597407"/>
                </a:moveTo>
                <a:lnTo>
                  <a:pt x="38100" y="597407"/>
                </a:lnTo>
                <a:lnTo>
                  <a:pt x="38524" y="597761"/>
                </a:lnTo>
                <a:lnTo>
                  <a:pt x="38230" y="597407"/>
                </a:lnTo>
                <a:close/>
              </a:path>
              <a:path w="1012190" h="637539">
                <a:moveTo>
                  <a:pt x="32419" y="589915"/>
                </a:moveTo>
                <a:lnTo>
                  <a:pt x="32004" y="589915"/>
                </a:lnTo>
                <a:lnTo>
                  <a:pt x="33401" y="591438"/>
                </a:lnTo>
                <a:lnTo>
                  <a:pt x="32419" y="589915"/>
                </a:lnTo>
                <a:close/>
              </a:path>
              <a:path w="1012190" h="637539">
                <a:moveTo>
                  <a:pt x="1006462" y="45846"/>
                </a:moveTo>
                <a:lnTo>
                  <a:pt x="978408" y="45846"/>
                </a:lnTo>
                <a:lnTo>
                  <a:pt x="982980" y="56514"/>
                </a:lnTo>
                <a:lnTo>
                  <a:pt x="984504" y="60959"/>
                </a:lnTo>
                <a:lnTo>
                  <a:pt x="985901" y="65531"/>
                </a:lnTo>
                <a:lnTo>
                  <a:pt x="985901" y="574674"/>
                </a:lnTo>
                <a:lnTo>
                  <a:pt x="984504" y="579246"/>
                </a:lnTo>
                <a:lnTo>
                  <a:pt x="982980" y="583819"/>
                </a:lnTo>
                <a:lnTo>
                  <a:pt x="978408" y="591438"/>
                </a:lnTo>
                <a:lnTo>
                  <a:pt x="1005840" y="591438"/>
                </a:lnTo>
                <a:lnTo>
                  <a:pt x="1008761" y="585343"/>
                </a:lnTo>
                <a:lnTo>
                  <a:pt x="1010412" y="577596"/>
                </a:lnTo>
                <a:lnTo>
                  <a:pt x="1011936" y="569976"/>
                </a:lnTo>
                <a:lnTo>
                  <a:pt x="1011936" y="65531"/>
                </a:lnTo>
                <a:lnTo>
                  <a:pt x="1010412" y="58038"/>
                </a:lnTo>
                <a:lnTo>
                  <a:pt x="1008761" y="51942"/>
                </a:lnTo>
                <a:lnTo>
                  <a:pt x="1006462" y="45846"/>
                </a:lnTo>
                <a:close/>
              </a:path>
              <a:path w="1012190" h="637539">
                <a:moveTo>
                  <a:pt x="33401" y="45846"/>
                </a:moveTo>
                <a:lnTo>
                  <a:pt x="32004" y="47370"/>
                </a:lnTo>
                <a:lnTo>
                  <a:pt x="32628" y="47370"/>
                </a:lnTo>
                <a:lnTo>
                  <a:pt x="33401" y="45846"/>
                </a:lnTo>
                <a:close/>
              </a:path>
              <a:path w="1012190" h="637539">
                <a:moveTo>
                  <a:pt x="1002356" y="38099"/>
                </a:moveTo>
                <a:lnTo>
                  <a:pt x="972312" y="38099"/>
                </a:lnTo>
                <a:lnTo>
                  <a:pt x="978408" y="47370"/>
                </a:lnTo>
                <a:lnTo>
                  <a:pt x="978408" y="45846"/>
                </a:lnTo>
                <a:lnTo>
                  <a:pt x="1006462" y="45846"/>
                </a:lnTo>
                <a:lnTo>
                  <a:pt x="1005840" y="44195"/>
                </a:lnTo>
                <a:lnTo>
                  <a:pt x="1002356" y="38099"/>
                </a:lnTo>
                <a:close/>
              </a:path>
              <a:path w="1012190" h="637539">
                <a:moveTo>
                  <a:pt x="41847" y="38099"/>
                </a:moveTo>
                <a:lnTo>
                  <a:pt x="39497" y="38099"/>
                </a:lnTo>
                <a:lnTo>
                  <a:pt x="38100" y="41274"/>
                </a:lnTo>
                <a:lnTo>
                  <a:pt x="41847" y="38099"/>
                </a:lnTo>
                <a:close/>
              </a:path>
              <a:path w="1012190" h="637539">
                <a:moveTo>
                  <a:pt x="999744" y="33527"/>
                </a:moveTo>
                <a:lnTo>
                  <a:pt x="964565" y="33527"/>
                </a:lnTo>
                <a:lnTo>
                  <a:pt x="973836" y="41274"/>
                </a:lnTo>
                <a:lnTo>
                  <a:pt x="972312" y="38099"/>
                </a:lnTo>
                <a:lnTo>
                  <a:pt x="1002356" y="38099"/>
                </a:lnTo>
                <a:lnTo>
                  <a:pt x="999744" y="33527"/>
                </a:lnTo>
                <a:close/>
              </a:path>
              <a:path w="1012190" h="637539">
                <a:moveTo>
                  <a:pt x="48103" y="33527"/>
                </a:moveTo>
                <a:lnTo>
                  <a:pt x="47244" y="33527"/>
                </a:lnTo>
                <a:lnTo>
                  <a:pt x="45593" y="35178"/>
                </a:lnTo>
                <a:lnTo>
                  <a:pt x="48103" y="33527"/>
                </a:lnTo>
                <a:close/>
              </a:path>
              <a:path w="1012190" h="637539">
                <a:moveTo>
                  <a:pt x="993097" y="25907"/>
                </a:moveTo>
                <a:lnTo>
                  <a:pt x="943229" y="25907"/>
                </a:lnTo>
                <a:lnTo>
                  <a:pt x="947801" y="27431"/>
                </a:lnTo>
                <a:lnTo>
                  <a:pt x="952500" y="27431"/>
                </a:lnTo>
                <a:lnTo>
                  <a:pt x="957072" y="29082"/>
                </a:lnTo>
                <a:lnTo>
                  <a:pt x="966088" y="35178"/>
                </a:lnTo>
                <a:lnTo>
                  <a:pt x="964565" y="33527"/>
                </a:lnTo>
                <a:lnTo>
                  <a:pt x="999744" y="33527"/>
                </a:lnTo>
                <a:lnTo>
                  <a:pt x="999744" y="32003"/>
                </a:lnTo>
                <a:lnTo>
                  <a:pt x="998093" y="32003"/>
                </a:lnTo>
                <a:lnTo>
                  <a:pt x="993097" y="25907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object 22"/>
          <p:cNvSpPr/>
          <p:nvPr/>
        </p:nvSpPr>
        <p:spPr>
          <a:xfrm>
            <a:off x="8690760" y="3219120"/>
            <a:ext cx="15444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23"/>
          <p:cNvSpPr/>
          <p:nvPr/>
        </p:nvSpPr>
        <p:spPr>
          <a:xfrm>
            <a:off x="8325360" y="2306160"/>
            <a:ext cx="880560" cy="546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object 24"/>
          <p:cNvSpPr/>
          <p:nvPr/>
        </p:nvSpPr>
        <p:spPr>
          <a:xfrm>
            <a:off x="8313120" y="2315880"/>
            <a:ext cx="892800" cy="562320"/>
          </a:xfrm>
          <a:custGeom>
            <a:avLst/>
            <a:gdLst>
              <a:gd name="textAreaLeft" fmla="*/ 0 w 892800"/>
              <a:gd name="textAreaRight" fmla="*/ 893160 w 89280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1012190" h="637539">
                <a:moveTo>
                  <a:pt x="978408" y="624840"/>
                </a:moveTo>
                <a:lnTo>
                  <a:pt x="32004" y="624840"/>
                </a:lnTo>
                <a:lnTo>
                  <a:pt x="33401" y="626363"/>
                </a:lnTo>
                <a:lnTo>
                  <a:pt x="45593" y="632460"/>
                </a:lnTo>
                <a:lnTo>
                  <a:pt x="51689" y="634110"/>
                </a:lnTo>
                <a:lnTo>
                  <a:pt x="59436" y="637032"/>
                </a:lnTo>
                <a:lnTo>
                  <a:pt x="946404" y="637032"/>
                </a:lnTo>
                <a:lnTo>
                  <a:pt x="953897" y="635507"/>
                </a:lnTo>
                <a:lnTo>
                  <a:pt x="959993" y="634110"/>
                </a:lnTo>
                <a:lnTo>
                  <a:pt x="967740" y="630935"/>
                </a:lnTo>
                <a:lnTo>
                  <a:pt x="978408" y="626363"/>
                </a:lnTo>
                <a:lnTo>
                  <a:pt x="978408" y="624840"/>
                </a:lnTo>
                <a:close/>
              </a:path>
              <a:path w="1012190" h="637539">
                <a:moveTo>
                  <a:pt x="944880" y="0"/>
                </a:moveTo>
                <a:lnTo>
                  <a:pt x="65532" y="0"/>
                </a:lnTo>
                <a:lnTo>
                  <a:pt x="57912" y="1650"/>
                </a:lnTo>
                <a:lnTo>
                  <a:pt x="50165" y="4571"/>
                </a:lnTo>
                <a:lnTo>
                  <a:pt x="44069" y="6095"/>
                </a:lnTo>
                <a:lnTo>
                  <a:pt x="33401" y="12318"/>
                </a:lnTo>
                <a:lnTo>
                  <a:pt x="32004" y="12318"/>
                </a:lnTo>
                <a:lnTo>
                  <a:pt x="32004" y="13842"/>
                </a:lnTo>
                <a:lnTo>
                  <a:pt x="30480" y="13842"/>
                </a:lnTo>
                <a:lnTo>
                  <a:pt x="21336" y="21335"/>
                </a:lnTo>
                <a:lnTo>
                  <a:pt x="21336" y="22859"/>
                </a:lnTo>
                <a:lnTo>
                  <a:pt x="19812" y="22859"/>
                </a:lnTo>
                <a:lnTo>
                  <a:pt x="12065" y="32003"/>
                </a:lnTo>
                <a:lnTo>
                  <a:pt x="12065" y="33527"/>
                </a:lnTo>
                <a:lnTo>
                  <a:pt x="4572" y="45846"/>
                </a:lnTo>
                <a:lnTo>
                  <a:pt x="2921" y="53339"/>
                </a:lnTo>
                <a:lnTo>
                  <a:pt x="1397" y="59435"/>
                </a:lnTo>
                <a:lnTo>
                  <a:pt x="0" y="67182"/>
                </a:lnTo>
                <a:lnTo>
                  <a:pt x="0" y="571499"/>
                </a:lnTo>
                <a:lnTo>
                  <a:pt x="1397" y="579246"/>
                </a:lnTo>
                <a:lnTo>
                  <a:pt x="2921" y="586740"/>
                </a:lnTo>
                <a:lnTo>
                  <a:pt x="5969" y="594360"/>
                </a:lnTo>
                <a:lnTo>
                  <a:pt x="12065" y="603504"/>
                </a:lnTo>
                <a:lnTo>
                  <a:pt x="12065" y="606679"/>
                </a:lnTo>
                <a:lnTo>
                  <a:pt x="19812" y="615696"/>
                </a:lnTo>
                <a:lnTo>
                  <a:pt x="21336" y="615696"/>
                </a:lnTo>
                <a:lnTo>
                  <a:pt x="21336" y="617346"/>
                </a:lnTo>
                <a:lnTo>
                  <a:pt x="30480" y="624840"/>
                </a:lnTo>
                <a:lnTo>
                  <a:pt x="979932" y="624840"/>
                </a:lnTo>
                <a:lnTo>
                  <a:pt x="989076" y="617346"/>
                </a:lnTo>
                <a:lnTo>
                  <a:pt x="990600" y="615696"/>
                </a:lnTo>
                <a:lnTo>
                  <a:pt x="993027" y="612774"/>
                </a:lnTo>
                <a:lnTo>
                  <a:pt x="66929" y="612774"/>
                </a:lnTo>
                <a:lnTo>
                  <a:pt x="62357" y="611251"/>
                </a:lnTo>
                <a:lnTo>
                  <a:pt x="57912" y="609599"/>
                </a:lnTo>
                <a:lnTo>
                  <a:pt x="53340" y="608076"/>
                </a:lnTo>
                <a:lnTo>
                  <a:pt x="48175" y="605027"/>
                </a:lnTo>
                <a:lnTo>
                  <a:pt x="47244" y="605027"/>
                </a:lnTo>
                <a:lnTo>
                  <a:pt x="39928" y="598932"/>
                </a:lnTo>
                <a:lnTo>
                  <a:pt x="39497" y="598932"/>
                </a:lnTo>
                <a:lnTo>
                  <a:pt x="38100" y="597407"/>
                </a:lnTo>
                <a:lnTo>
                  <a:pt x="38230" y="597407"/>
                </a:lnTo>
                <a:lnTo>
                  <a:pt x="32004" y="589915"/>
                </a:lnTo>
                <a:lnTo>
                  <a:pt x="32419" y="589915"/>
                </a:lnTo>
                <a:lnTo>
                  <a:pt x="27432" y="582168"/>
                </a:lnTo>
                <a:lnTo>
                  <a:pt x="27432" y="577596"/>
                </a:lnTo>
                <a:lnTo>
                  <a:pt x="25908" y="573151"/>
                </a:lnTo>
                <a:lnTo>
                  <a:pt x="24257" y="568579"/>
                </a:lnTo>
                <a:lnTo>
                  <a:pt x="24257" y="68706"/>
                </a:lnTo>
                <a:lnTo>
                  <a:pt x="25908" y="64007"/>
                </a:lnTo>
                <a:lnTo>
                  <a:pt x="27432" y="59435"/>
                </a:lnTo>
                <a:lnTo>
                  <a:pt x="28829" y="54863"/>
                </a:lnTo>
                <a:lnTo>
                  <a:pt x="33401" y="45846"/>
                </a:lnTo>
                <a:lnTo>
                  <a:pt x="34431" y="45846"/>
                </a:lnTo>
                <a:lnTo>
                  <a:pt x="38230" y="41274"/>
                </a:lnTo>
                <a:lnTo>
                  <a:pt x="38100" y="41274"/>
                </a:lnTo>
                <a:lnTo>
                  <a:pt x="39497" y="39750"/>
                </a:lnTo>
                <a:lnTo>
                  <a:pt x="39898" y="39750"/>
                </a:lnTo>
                <a:lnTo>
                  <a:pt x="47244" y="33527"/>
                </a:lnTo>
                <a:lnTo>
                  <a:pt x="48103" y="33527"/>
                </a:lnTo>
                <a:lnTo>
                  <a:pt x="54864" y="29082"/>
                </a:lnTo>
                <a:lnTo>
                  <a:pt x="59436" y="27431"/>
                </a:lnTo>
                <a:lnTo>
                  <a:pt x="64008" y="25907"/>
                </a:lnTo>
                <a:lnTo>
                  <a:pt x="993097" y="25907"/>
                </a:lnTo>
                <a:lnTo>
                  <a:pt x="990600" y="22859"/>
                </a:lnTo>
                <a:lnTo>
                  <a:pt x="990600" y="21335"/>
                </a:lnTo>
                <a:lnTo>
                  <a:pt x="989076" y="21335"/>
                </a:lnTo>
                <a:lnTo>
                  <a:pt x="979932" y="13842"/>
                </a:lnTo>
                <a:lnTo>
                  <a:pt x="978408" y="12318"/>
                </a:lnTo>
                <a:lnTo>
                  <a:pt x="966088" y="6095"/>
                </a:lnTo>
                <a:lnTo>
                  <a:pt x="959993" y="3174"/>
                </a:lnTo>
                <a:lnTo>
                  <a:pt x="952500" y="1650"/>
                </a:lnTo>
                <a:lnTo>
                  <a:pt x="944880" y="0"/>
                </a:lnTo>
                <a:close/>
              </a:path>
              <a:path w="1012190" h="637539">
                <a:moveTo>
                  <a:pt x="966088" y="603504"/>
                </a:moveTo>
                <a:lnTo>
                  <a:pt x="955421" y="609599"/>
                </a:lnTo>
                <a:lnTo>
                  <a:pt x="952500" y="609599"/>
                </a:lnTo>
                <a:lnTo>
                  <a:pt x="947801" y="611251"/>
                </a:lnTo>
                <a:lnTo>
                  <a:pt x="941832" y="612774"/>
                </a:lnTo>
                <a:lnTo>
                  <a:pt x="993027" y="612774"/>
                </a:lnTo>
                <a:lnTo>
                  <a:pt x="998093" y="606679"/>
                </a:lnTo>
                <a:lnTo>
                  <a:pt x="999744" y="605027"/>
                </a:lnTo>
                <a:lnTo>
                  <a:pt x="964565" y="605027"/>
                </a:lnTo>
                <a:lnTo>
                  <a:pt x="966088" y="603504"/>
                </a:lnTo>
                <a:close/>
              </a:path>
              <a:path w="1012190" h="637539">
                <a:moveTo>
                  <a:pt x="45593" y="603504"/>
                </a:moveTo>
                <a:lnTo>
                  <a:pt x="47244" y="605027"/>
                </a:lnTo>
                <a:lnTo>
                  <a:pt x="48175" y="605027"/>
                </a:lnTo>
                <a:lnTo>
                  <a:pt x="45593" y="603504"/>
                </a:lnTo>
                <a:close/>
              </a:path>
              <a:path w="1012190" h="637539">
                <a:moveTo>
                  <a:pt x="972724" y="598321"/>
                </a:moveTo>
                <a:lnTo>
                  <a:pt x="964565" y="605027"/>
                </a:lnTo>
                <a:lnTo>
                  <a:pt x="999744" y="605027"/>
                </a:lnTo>
                <a:lnTo>
                  <a:pt x="999744" y="603504"/>
                </a:lnTo>
                <a:lnTo>
                  <a:pt x="1002356" y="598932"/>
                </a:lnTo>
                <a:lnTo>
                  <a:pt x="972312" y="598932"/>
                </a:lnTo>
                <a:lnTo>
                  <a:pt x="972724" y="598321"/>
                </a:lnTo>
                <a:close/>
              </a:path>
              <a:path w="1012190" h="637539">
                <a:moveTo>
                  <a:pt x="38100" y="597407"/>
                </a:moveTo>
                <a:lnTo>
                  <a:pt x="39497" y="598932"/>
                </a:lnTo>
                <a:lnTo>
                  <a:pt x="38524" y="597761"/>
                </a:lnTo>
                <a:lnTo>
                  <a:pt x="38100" y="597407"/>
                </a:lnTo>
                <a:close/>
              </a:path>
              <a:path w="1012190" h="637539">
                <a:moveTo>
                  <a:pt x="38524" y="597761"/>
                </a:moveTo>
                <a:lnTo>
                  <a:pt x="39497" y="598932"/>
                </a:lnTo>
                <a:lnTo>
                  <a:pt x="39928" y="598932"/>
                </a:lnTo>
                <a:lnTo>
                  <a:pt x="38524" y="597761"/>
                </a:lnTo>
                <a:close/>
              </a:path>
              <a:path w="1012190" h="637539">
                <a:moveTo>
                  <a:pt x="973836" y="597407"/>
                </a:moveTo>
                <a:lnTo>
                  <a:pt x="972724" y="598321"/>
                </a:lnTo>
                <a:lnTo>
                  <a:pt x="972312" y="598932"/>
                </a:lnTo>
                <a:lnTo>
                  <a:pt x="973836" y="597407"/>
                </a:lnTo>
                <a:close/>
              </a:path>
              <a:path w="1012190" h="637539">
                <a:moveTo>
                  <a:pt x="1003227" y="597407"/>
                </a:moveTo>
                <a:lnTo>
                  <a:pt x="973836" y="597407"/>
                </a:lnTo>
                <a:lnTo>
                  <a:pt x="972312" y="598932"/>
                </a:lnTo>
                <a:lnTo>
                  <a:pt x="1002356" y="598932"/>
                </a:lnTo>
                <a:lnTo>
                  <a:pt x="1003227" y="597407"/>
                </a:lnTo>
                <a:close/>
              </a:path>
              <a:path w="1012190" h="637539">
                <a:moveTo>
                  <a:pt x="978408" y="589915"/>
                </a:moveTo>
                <a:lnTo>
                  <a:pt x="972724" y="598321"/>
                </a:lnTo>
                <a:lnTo>
                  <a:pt x="973836" y="597407"/>
                </a:lnTo>
                <a:lnTo>
                  <a:pt x="1003227" y="597407"/>
                </a:lnTo>
                <a:lnTo>
                  <a:pt x="1005840" y="592835"/>
                </a:lnTo>
                <a:lnTo>
                  <a:pt x="1006384" y="591438"/>
                </a:lnTo>
                <a:lnTo>
                  <a:pt x="978408" y="591438"/>
                </a:lnTo>
                <a:lnTo>
                  <a:pt x="978408" y="589915"/>
                </a:lnTo>
                <a:close/>
              </a:path>
              <a:path w="1012190" h="637539">
                <a:moveTo>
                  <a:pt x="38230" y="597407"/>
                </a:moveTo>
                <a:lnTo>
                  <a:pt x="38100" y="597407"/>
                </a:lnTo>
                <a:lnTo>
                  <a:pt x="38524" y="597761"/>
                </a:lnTo>
                <a:lnTo>
                  <a:pt x="38230" y="597407"/>
                </a:lnTo>
                <a:close/>
              </a:path>
              <a:path w="1012190" h="637539">
                <a:moveTo>
                  <a:pt x="32419" y="589915"/>
                </a:moveTo>
                <a:lnTo>
                  <a:pt x="32004" y="589915"/>
                </a:lnTo>
                <a:lnTo>
                  <a:pt x="33401" y="591438"/>
                </a:lnTo>
                <a:lnTo>
                  <a:pt x="32419" y="589915"/>
                </a:lnTo>
                <a:close/>
              </a:path>
              <a:path w="1012190" h="637539">
                <a:moveTo>
                  <a:pt x="1006462" y="45846"/>
                </a:moveTo>
                <a:lnTo>
                  <a:pt x="978408" y="45846"/>
                </a:lnTo>
                <a:lnTo>
                  <a:pt x="982980" y="56514"/>
                </a:lnTo>
                <a:lnTo>
                  <a:pt x="984504" y="60959"/>
                </a:lnTo>
                <a:lnTo>
                  <a:pt x="985901" y="65531"/>
                </a:lnTo>
                <a:lnTo>
                  <a:pt x="985901" y="574674"/>
                </a:lnTo>
                <a:lnTo>
                  <a:pt x="984504" y="579246"/>
                </a:lnTo>
                <a:lnTo>
                  <a:pt x="982980" y="583819"/>
                </a:lnTo>
                <a:lnTo>
                  <a:pt x="978408" y="591438"/>
                </a:lnTo>
                <a:lnTo>
                  <a:pt x="1006384" y="591438"/>
                </a:lnTo>
                <a:lnTo>
                  <a:pt x="1008761" y="585343"/>
                </a:lnTo>
                <a:lnTo>
                  <a:pt x="1010412" y="577596"/>
                </a:lnTo>
                <a:lnTo>
                  <a:pt x="1011936" y="569976"/>
                </a:lnTo>
                <a:lnTo>
                  <a:pt x="1011936" y="65531"/>
                </a:lnTo>
                <a:lnTo>
                  <a:pt x="1010412" y="58038"/>
                </a:lnTo>
                <a:lnTo>
                  <a:pt x="1008761" y="51942"/>
                </a:lnTo>
                <a:lnTo>
                  <a:pt x="1006462" y="45846"/>
                </a:lnTo>
                <a:close/>
              </a:path>
              <a:path w="1012190" h="637539">
                <a:moveTo>
                  <a:pt x="34431" y="45846"/>
                </a:moveTo>
                <a:lnTo>
                  <a:pt x="33401" y="45846"/>
                </a:lnTo>
                <a:lnTo>
                  <a:pt x="32004" y="48767"/>
                </a:lnTo>
                <a:lnTo>
                  <a:pt x="34431" y="45846"/>
                </a:lnTo>
                <a:close/>
              </a:path>
              <a:path w="1012190" h="637539">
                <a:moveTo>
                  <a:pt x="972701" y="40326"/>
                </a:moveTo>
                <a:lnTo>
                  <a:pt x="978408" y="48767"/>
                </a:lnTo>
                <a:lnTo>
                  <a:pt x="978408" y="45846"/>
                </a:lnTo>
                <a:lnTo>
                  <a:pt x="1006462" y="45846"/>
                </a:lnTo>
                <a:lnTo>
                  <a:pt x="1005840" y="44195"/>
                </a:lnTo>
                <a:lnTo>
                  <a:pt x="1004170" y="41274"/>
                </a:lnTo>
                <a:lnTo>
                  <a:pt x="973836" y="41274"/>
                </a:lnTo>
                <a:lnTo>
                  <a:pt x="972701" y="40326"/>
                </a:lnTo>
                <a:close/>
              </a:path>
              <a:path w="1012190" h="637539">
                <a:moveTo>
                  <a:pt x="39497" y="39750"/>
                </a:moveTo>
                <a:lnTo>
                  <a:pt x="38100" y="41274"/>
                </a:lnTo>
                <a:lnTo>
                  <a:pt x="38541" y="40901"/>
                </a:lnTo>
                <a:lnTo>
                  <a:pt x="39497" y="39750"/>
                </a:lnTo>
                <a:close/>
              </a:path>
              <a:path w="1012190" h="637539">
                <a:moveTo>
                  <a:pt x="38541" y="40901"/>
                </a:moveTo>
                <a:lnTo>
                  <a:pt x="38100" y="41274"/>
                </a:lnTo>
                <a:lnTo>
                  <a:pt x="38230" y="41274"/>
                </a:lnTo>
                <a:lnTo>
                  <a:pt x="38541" y="40901"/>
                </a:lnTo>
                <a:close/>
              </a:path>
              <a:path w="1012190" h="637539">
                <a:moveTo>
                  <a:pt x="972312" y="39750"/>
                </a:moveTo>
                <a:lnTo>
                  <a:pt x="972701" y="40326"/>
                </a:lnTo>
                <a:lnTo>
                  <a:pt x="973836" y="41274"/>
                </a:lnTo>
                <a:lnTo>
                  <a:pt x="972312" y="39750"/>
                </a:lnTo>
                <a:close/>
              </a:path>
              <a:path w="1012190" h="637539">
                <a:moveTo>
                  <a:pt x="1003300" y="39750"/>
                </a:moveTo>
                <a:lnTo>
                  <a:pt x="972312" y="39750"/>
                </a:lnTo>
                <a:lnTo>
                  <a:pt x="973836" y="41274"/>
                </a:lnTo>
                <a:lnTo>
                  <a:pt x="1004170" y="41274"/>
                </a:lnTo>
                <a:lnTo>
                  <a:pt x="1003300" y="39750"/>
                </a:lnTo>
                <a:close/>
              </a:path>
              <a:path w="1012190" h="637539">
                <a:moveTo>
                  <a:pt x="39898" y="39750"/>
                </a:moveTo>
                <a:lnTo>
                  <a:pt x="39497" y="39750"/>
                </a:lnTo>
                <a:lnTo>
                  <a:pt x="38541" y="40901"/>
                </a:lnTo>
                <a:lnTo>
                  <a:pt x="39898" y="39750"/>
                </a:lnTo>
                <a:close/>
              </a:path>
              <a:path w="1012190" h="637539">
                <a:moveTo>
                  <a:pt x="999744" y="33527"/>
                </a:moveTo>
                <a:lnTo>
                  <a:pt x="964565" y="33527"/>
                </a:lnTo>
                <a:lnTo>
                  <a:pt x="972701" y="40326"/>
                </a:lnTo>
                <a:lnTo>
                  <a:pt x="972312" y="39750"/>
                </a:lnTo>
                <a:lnTo>
                  <a:pt x="1003300" y="39750"/>
                </a:lnTo>
                <a:lnTo>
                  <a:pt x="999744" y="33527"/>
                </a:lnTo>
                <a:close/>
              </a:path>
              <a:path w="1012190" h="637539">
                <a:moveTo>
                  <a:pt x="48103" y="33527"/>
                </a:moveTo>
                <a:lnTo>
                  <a:pt x="47244" y="33527"/>
                </a:lnTo>
                <a:lnTo>
                  <a:pt x="45593" y="35178"/>
                </a:lnTo>
                <a:lnTo>
                  <a:pt x="48103" y="33527"/>
                </a:lnTo>
                <a:close/>
              </a:path>
              <a:path w="1012190" h="637539">
                <a:moveTo>
                  <a:pt x="993097" y="25907"/>
                </a:moveTo>
                <a:lnTo>
                  <a:pt x="943229" y="25907"/>
                </a:lnTo>
                <a:lnTo>
                  <a:pt x="947801" y="27431"/>
                </a:lnTo>
                <a:lnTo>
                  <a:pt x="952500" y="27431"/>
                </a:lnTo>
                <a:lnTo>
                  <a:pt x="957072" y="30606"/>
                </a:lnTo>
                <a:lnTo>
                  <a:pt x="966088" y="35178"/>
                </a:lnTo>
                <a:lnTo>
                  <a:pt x="964565" y="33527"/>
                </a:lnTo>
                <a:lnTo>
                  <a:pt x="999744" y="33527"/>
                </a:lnTo>
                <a:lnTo>
                  <a:pt x="999744" y="32003"/>
                </a:lnTo>
                <a:lnTo>
                  <a:pt x="998093" y="32003"/>
                </a:lnTo>
                <a:lnTo>
                  <a:pt x="993097" y="25907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object 25"/>
          <p:cNvSpPr/>
          <p:nvPr/>
        </p:nvSpPr>
        <p:spPr>
          <a:xfrm>
            <a:off x="8682480" y="2479320"/>
            <a:ext cx="17064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IS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875520"/>
            <a:ext cx="921096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Specialized Expertise In Some</a:t>
            </a:r>
            <a:r>
              <a:rPr b="1" lang="en-US" sz="4400" spc="5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as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object 3"/>
          <p:cNvSpPr/>
          <p:nvPr/>
        </p:nvSpPr>
        <p:spPr>
          <a:xfrm>
            <a:off x="2690640" y="2368080"/>
            <a:ext cx="806364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414720" indent="-403560">
              <a:lnSpc>
                <a:spcPct val="100000"/>
              </a:lnSpc>
              <a:spcBef>
                <a:spcPts val="85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1" i="1" lang="en-US" sz="2800" spc="-4" strike="noStrike">
                <a:solidFill>
                  <a:srgbClr val="000000"/>
                </a:solidFill>
                <a:latin typeface="Times New Roman"/>
              </a:rPr>
              <a:t>Historic</a:t>
            </a:r>
            <a:r>
              <a:rPr b="1" i="1" lang="en-US" sz="280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4" strike="noStrike">
                <a:solidFill>
                  <a:srgbClr val="000000"/>
                </a:solidFill>
                <a:latin typeface="Times New Roman"/>
              </a:rPr>
              <a:t>Properties – 50 Years or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529"/>
              </a:lnSpc>
              <a:spcBef>
                <a:spcPts val="23"/>
              </a:spcBef>
              <a:buClr>
                <a:srgbClr val="000000"/>
              </a:buClr>
              <a:buFont typeface="Arial"/>
              <a:buChar char="–"/>
              <a:tabLst>
                <a:tab algn="l" pos="6674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.g. Cultural resource and archeological</a:t>
            </a:r>
            <a:r>
              <a:rPr b="1" i="1" lang="en-US" sz="240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ts val="3268"/>
              </a:lnSpc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Endangered</a:t>
            </a:r>
            <a:r>
              <a:rPr b="0" lang="en-US" sz="180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529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–"/>
              <a:tabLst>
                <a:tab algn="l" pos="66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Biological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Evaluati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Habitat</a:t>
            </a:r>
            <a:r>
              <a:rPr b="0" lang="en-US" sz="1600" spc="-19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ts val="3268"/>
              </a:lnSpc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Contamination and </a:t>
            </a:r>
            <a:r>
              <a:rPr b="0" lang="en-US" sz="1800" spc="-35" strike="noStrike">
                <a:solidFill>
                  <a:srgbClr val="000000"/>
                </a:solidFill>
                <a:latin typeface="Times New Roman"/>
              </a:rPr>
              <a:t>Toxics</a:t>
            </a:r>
            <a:r>
              <a:rPr b="0" lang="en-US" sz="180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Ha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529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–"/>
              <a:tabLst>
                <a:tab algn="l" pos="66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Phase I,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Pha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,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Phase</a:t>
            </a:r>
            <a:r>
              <a:rPr b="0" lang="en-US" sz="16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ts val="3268"/>
              </a:lnSpc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1800" spc="-9" strike="noStrike">
                <a:solidFill>
                  <a:srgbClr val="000000"/>
                </a:solidFill>
                <a:latin typeface="Times New Roman"/>
              </a:rPr>
              <a:t>Noise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Analysis and</a:t>
            </a:r>
            <a:r>
              <a:rPr b="0" lang="en-US" sz="1800" spc="-10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Floodpl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529"/>
              </a:lnSpc>
              <a:spcBef>
                <a:spcPts val="23"/>
              </a:spcBef>
              <a:buClr>
                <a:srgbClr val="000000"/>
              </a:buClr>
              <a:buFont typeface="Arial"/>
              <a:buChar char="–"/>
              <a:tabLst>
                <a:tab algn="l" pos="66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Flood</a:t>
            </a:r>
            <a:r>
              <a:rPr b="0" lang="en-US" sz="16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ts val="3268"/>
              </a:lnSpc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1800" spc="-32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Arial"/>
              <a:buChar char="–"/>
              <a:tabLst>
                <a:tab algn="l" pos="66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600" spc="-26" strike="noStrike">
                <a:solidFill>
                  <a:srgbClr val="000000"/>
                </a:solidFill>
                <a:latin typeface="Times New Roman"/>
              </a:rPr>
              <a:t>Wetlan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neation</a:t>
            </a:r>
            <a:r>
              <a:rPr b="0" lang="en-US" sz="1600" spc="-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70160" y="656640"/>
            <a:ext cx="749412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ost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erforming the</a:t>
            </a:r>
            <a:r>
              <a:rPr b="1" lang="en-US" sz="4400" spc="2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31"/>
              </a:spcBef>
              <a:buNone/>
            </a:pPr>
            <a:r>
              <a:rPr b="1" lang="en-US" sz="2470" spc="-4" strike="noStrike">
                <a:solidFill>
                  <a:srgbClr val="262626"/>
                </a:solidFill>
                <a:latin typeface="Garamond"/>
              </a:rPr>
              <a:t>[§ 58.23]</a:t>
            </a:r>
            <a:endParaRPr b="0" lang="en-US" sz="24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object 4"/>
          <p:cNvSpPr/>
          <p:nvPr/>
        </p:nvSpPr>
        <p:spPr>
          <a:xfrm>
            <a:off x="9883080" y="6014520"/>
            <a:ext cx="156960" cy="1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49"/>
              </a:lnSpc>
            </a:pPr>
            <a:fld id="{9B598B99-AD2A-4CBB-88F2-59068DCC346D}" type="slidenum">
              <a:rPr b="0" lang="en-US" sz="880" spc="-4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8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bject 3"/>
          <p:cNvSpPr/>
          <p:nvPr/>
        </p:nvSpPr>
        <p:spPr>
          <a:xfrm>
            <a:off x="2625840" y="2688840"/>
            <a:ext cx="694008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400" bIns="0" anchor="t">
            <a:spAutoFit/>
          </a:bodyPr>
          <a:p>
            <a:pPr marL="465480" indent="-454320" algn="just">
              <a:lnSpc>
                <a:spcPct val="90000"/>
              </a:lnSpc>
              <a:spcBef>
                <a:spcPts val="468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465480"/>
              </a:tabLst>
            </a:pP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Accepting environmental responsibility  should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require expending additional  local funds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ts val="2665"/>
              </a:lnSpc>
              <a:spcBef>
                <a:spcPts val="652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cipient grant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unds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be used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2470" spc="-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view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ts val="2665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ver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st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nsultants to help prepare  review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04760" y="1149480"/>
            <a:ext cx="549180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Use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f</a:t>
            </a:r>
            <a:r>
              <a:rPr b="1" lang="en-US" sz="4400" spc="-2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ontract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object 3"/>
          <p:cNvSpPr/>
          <p:nvPr/>
        </p:nvSpPr>
        <p:spPr>
          <a:xfrm>
            <a:off x="2125440" y="2811600"/>
            <a:ext cx="8570160" cy="30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0" anchor="t">
            <a:spAutoFit/>
          </a:bodyPr>
          <a:p>
            <a:pPr marL="414720" indent="-403560">
              <a:lnSpc>
                <a:spcPts val="2373"/>
              </a:lnSpc>
              <a:spcBef>
                <a:spcPts val="652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ntractor 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epare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upporting 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470" spc="-41" strike="noStrike">
                <a:solidFill>
                  <a:srgbClr val="000000"/>
                </a:solidFill>
                <a:latin typeface="Times New Roman"/>
              </a:rPr>
              <a:t>RE’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ust independently evaluate their 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work—but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ust prepare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nvironmental  reviews (i.e. supplement, correct, append, 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etc.)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80000"/>
              </a:lnSpc>
              <a:spcBef>
                <a:spcPts val="856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rrespondence to agencies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and  organization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notices must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ent  under the </a:t>
            </a:r>
            <a:r>
              <a:rPr b="0" lang="en-US" sz="2470" spc="-41" strike="noStrike">
                <a:solidFill>
                  <a:srgbClr val="000000"/>
                </a:solidFill>
                <a:latin typeface="Times New Roman"/>
              </a:rPr>
              <a:t>RE’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ignatur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on its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letterhead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StarSymbol"/>
              <a:buChar char="—"/>
              <a:tabLst>
                <a:tab algn="l" pos="66744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ntractor should never contact </a:t>
            </a:r>
            <a:r>
              <a:rPr b="0" lang="en-US" sz="1940" spc="-15" strike="noStrike">
                <a:solidFill>
                  <a:srgbClr val="000000"/>
                </a:solidFill>
                <a:latin typeface="Times New Roman"/>
              </a:rPr>
              <a:t>Tribes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irectly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095"/>
              </a:lnSpc>
              <a:spcBef>
                <a:spcPts val="264"/>
              </a:spcBef>
              <a:buClr>
                <a:srgbClr val="000000"/>
              </a:buClr>
              <a:buFont typeface="StarSymbol"/>
              <a:buChar char="—"/>
              <a:tabLst>
                <a:tab algn="l" pos="66744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ntractor should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ig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notices distributed</a:t>
            </a:r>
            <a:r>
              <a:rPr b="0" lang="en-US" sz="1940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667440">
              <a:lnSpc>
                <a:spcPts val="2095"/>
              </a:lnSpc>
              <a:tabLst>
                <a:tab algn="l" pos="66744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interested parties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8720" y="830880"/>
            <a:ext cx="9278280" cy="14749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Documentation Supports </a:t>
            </a:r>
            <a:r>
              <a:rPr b="1" lang="en-US" sz="3200" spc="-9" strike="noStrike">
                <a:solidFill>
                  <a:srgbClr val="262626"/>
                </a:solidFill>
                <a:latin typeface="Garamond"/>
              </a:rPr>
              <a:t>Environmental</a:t>
            </a:r>
            <a:r>
              <a:rPr b="1" lang="en-US" sz="3200" spc="3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160" indent="0" algn="ctr">
              <a:lnSpc>
                <a:spcPct val="100000"/>
              </a:lnSpc>
              <a:spcBef>
                <a:spcPts val="9"/>
              </a:spcBef>
              <a:buNone/>
            </a:pPr>
            <a:r>
              <a:rPr b="1" lang="en-US" sz="3200" spc="-1" strike="noStrike">
                <a:solidFill>
                  <a:srgbClr val="262626"/>
                </a:solidFill>
                <a:latin typeface="Garamond"/>
              </a:rPr>
              <a:t>[§58.38]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object 3"/>
          <p:cNvSpPr/>
          <p:nvPr/>
        </p:nvSpPr>
        <p:spPr>
          <a:xfrm>
            <a:off x="1721880" y="2869200"/>
            <a:ext cx="672444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040" bIns="0" anchor="t">
            <a:spAutoFit/>
          </a:bodyPr>
          <a:p>
            <a:pPr marL="11160">
              <a:lnSpc>
                <a:spcPts val="3053"/>
              </a:lnSpc>
              <a:spcBef>
                <a:spcPts val="822"/>
              </a:spcBef>
              <a:tabLst>
                <a:tab algn="l" pos="2791080"/>
              </a:tabLst>
            </a:pPr>
            <a:r>
              <a:rPr b="1" lang="en-US" sz="3170" spc="-9" strike="noStrike">
                <a:solidFill>
                  <a:srgbClr val="000000"/>
                </a:solidFill>
                <a:latin typeface="Times New Roman"/>
              </a:rPr>
              <a:t>Source  </a:t>
            </a:r>
            <a:r>
              <a:rPr b="1" lang="en-US" sz="3170" spc="-4" strike="noStrike">
                <a:solidFill>
                  <a:srgbClr val="000000"/>
                </a:solidFill>
                <a:latin typeface="Times New Roman"/>
              </a:rPr>
              <a:t>docu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170" spc="-4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1" lang="en-US" sz="317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170" spc="-9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170" spc="-4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170" spc="-4" strike="noStrike">
                <a:solidFill>
                  <a:srgbClr val="000000"/>
                </a:solidFill>
                <a:latin typeface="Times New Roman"/>
              </a:rPr>
              <a:t>mu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st  </a:t>
            </a:r>
            <a:r>
              <a:rPr b="1" lang="en-US" sz="3170" spc="-4" strike="noStrike">
                <a:solidFill>
                  <a:srgbClr val="000000"/>
                </a:solidFill>
                <a:latin typeface="Times New Roman"/>
              </a:rPr>
              <a:t>contain information  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lang="en-US" sz="3170" spc="-4" strike="noStrike">
                <a:solidFill>
                  <a:srgbClr val="000000"/>
                </a:solidFill>
                <a:latin typeface="Times New Roman"/>
              </a:rPr>
              <a:t>is: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153000">
              <a:lnSpc>
                <a:spcPct val="100000"/>
              </a:lnSpc>
              <a:spcBef>
                <a:spcPts val="14"/>
              </a:spcBef>
              <a:buClr>
                <a:srgbClr val="c00000"/>
              </a:buClr>
              <a:buSzPct val="97000"/>
              <a:buFont typeface="Arial"/>
              <a:buChar char="•"/>
              <a:tabLst>
                <a:tab algn="l" pos="153000"/>
              </a:tabLst>
            </a:pPr>
            <a:r>
              <a:rPr b="1" lang="en-US" sz="3170" spc="-1" strike="noStrike">
                <a:solidFill>
                  <a:srgbClr val="c00000"/>
                </a:solidFill>
                <a:latin typeface="Times New Roman"/>
              </a:rPr>
              <a:t>CREDIBLE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153000">
              <a:lnSpc>
                <a:spcPct val="100000"/>
              </a:lnSpc>
              <a:buClr>
                <a:srgbClr val="c00000"/>
              </a:buClr>
              <a:buSzPct val="97000"/>
              <a:buFont typeface="Arial"/>
              <a:buChar char="•"/>
              <a:tabLst>
                <a:tab algn="l" pos="153000"/>
              </a:tabLst>
            </a:pPr>
            <a:r>
              <a:rPr b="1" lang="en-US" sz="3170" spc="-1" strike="noStrike">
                <a:solidFill>
                  <a:srgbClr val="c00000"/>
                </a:solidFill>
                <a:latin typeface="Times New Roman"/>
              </a:rPr>
              <a:t>VERIFIABLE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153000">
              <a:lnSpc>
                <a:spcPct val="100000"/>
              </a:lnSpc>
              <a:buClr>
                <a:srgbClr val="c00000"/>
              </a:buClr>
              <a:buSzPct val="97000"/>
              <a:buFont typeface="Arial"/>
              <a:buChar char="•"/>
              <a:tabLst>
                <a:tab algn="l" pos="153000"/>
              </a:tabLst>
            </a:pPr>
            <a:r>
              <a:rPr b="1" lang="en-US" sz="3170" spc="-55" strike="noStrike">
                <a:solidFill>
                  <a:srgbClr val="c00000"/>
                </a:solidFill>
                <a:latin typeface="Times New Roman"/>
              </a:rPr>
              <a:t>RELEVANT </a:t>
            </a:r>
            <a:r>
              <a:rPr b="1" lang="en-US" sz="317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1" lang="en-US" sz="317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7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ject 5"/>
          <p:cNvSpPr/>
          <p:nvPr/>
        </p:nvSpPr>
        <p:spPr>
          <a:xfrm>
            <a:off x="8446680" y="2389320"/>
            <a:ext cx="1411560" cy="3614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87280" y="554400"/>
            <a:ext cx="847116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470520" bIns="0" anchor="ctr">
            <a:noAutofit/>
          </a:bodyPr>
          <a:p>
            <a:pPr marL="1188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58" strike="noStrike">
                <a:solidFill>
                  <a:srgbClr val="262626"/>
                </a:solidFill>
                <a:latin typeface="Garamond"/>
              </a:rPr>
              <a:t>Types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Support</a:t>
            </a:r>
            <a:r>
              <a:rPr b="1" lang="en-US" sz="4400" spc="46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object 3"/>
          <p:cNvSpPr/>
          <p:nvPr/>
        </p:nvSpPr>
        <p:spPr>
          <a:xfrm>
            <a:off x="1194840" y="2498760"/>
            <a:ext cx="49010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414720" indent="-40356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Field Observations Repor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ude</a:t>
            </a:r>
            <a:r>
              <a:rPr b="0" lang="en-US" sz="200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gra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Interviews (must include</a:t>
            </a:r>
            <a:r>
              <a:rPr b="0" lang="en-US" sz="200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name/title/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ed</a:t>
            </a:r>
            <a:r>
              <a:rPr b="0" lang="en-US" sz="20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95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95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9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reports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es,</a:t>
            </a:r>
            <a:r>
              <a:rPr b="0" lang="en-US" sz="200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95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web-based </a:t>
            </a:r>
            <a:r>
              <a:rPr b="0" lang="en-US" sz="2000" spc="-9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95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ject 3"/>
          <p:cNvSpPr/>
          <p:nvPr/>
        </p:nvSpPr>
        <p:spPr>
          <a:xfrm>
            <a:off x="5770800" y="2457360"/>
            <a:ext cx="6622200" cy="36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920" bIns="0" anchor="t">
            <a:spAutoFit/>
          </a:bodyPr>
          <a:p>
            <a:pPr marL="414720" indent="-403560">
              <a:lnSpc>
                <a:spcPct val="70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18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Proprietary material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special studies </a:t>
            </a:r>
            <a:r>
              <a:rPr b="0" lang="en-US" sz="18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not </a:t>
            </a:r>
            <a:r>
              <a:rPr b="0" lang="en-US" sz="18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generall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160">
              <a:lnSpc>
                <a:spcPct val="70000"/>
              </a:lnSpc>
              <a:spcBef>
                <a:spcPts val="913"/>
              </a:spcBef>
              <a:tabLst>
                <a:tab algn="l" pos="414000"/>
                <a:tab algn="l" pos="41472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accessible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shal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included in the</a:t>
            </a:r>
            <a:r>
              <a:rPr b="0" lang="en-US" sz="1800" spc="-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ts val="2443"/>
              </a:lnSpc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ts val="2931"/>
              </a:lnSpc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ASTM Phase 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Phase I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0" lang="en-US" sz="200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9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ts val="2965"/>
              </a:lnSpc>
              <a:spcBef>
                <a:spcPts val="3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Histo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archeological</a:t>
            </a:r>
            <a:r>
              <a:rPr b="0" lang="en-US" sz="200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Noise</a:t>
            </a:r>
            <a:r>
              <a:rPr b="0" lang="en-US" sz="200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Soil/geological</a:t>
            </a:r>
            <a:r>
              <a:rPr b="0" lang="en-US" sz="20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ts val="2965"/>
              </a:lnSpc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Gra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Asbestos</a:t>
            </a:r>
            <a:r>
              <a:rPr b="0" lang="en-US" sz="20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ts val="2965"/>
              </a:lnSpc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32" strike="noStrike">
                <a:solidFill>
                  <a:srgbClr val="000000"/>
                </a:solidFill>
                <a:latin typeface="Times New Roman"/>
              </a:rPr>
              <a:t>Wetlands</a:t>
            </a:r>
            <a:r>
              <a:rPr b="0" lang="en-US" sz="20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delin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Federal, St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local environmental</a:t>
            </a:r>
            <a:r>
              <a:rPr b="0" lang="en-US" sz="200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89120" y="715680"/>
            <a:ext cx="6317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15" strike="noStrike">
                <a:solidFill>
                  <a:srgbClr val="262626"/>
                </a:solidFill>
                <a:latin typeface="Garamond"/>
              </a:rPr>
              <a:t>Credible</a:t>
            </a:r>
            <a:r>
              <a:rPr b="1" lang="en-US" sz="4400" spc="-1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object 4"/>
          <p:cNvSpPr/>
          <p:nvPr/>
        </p:nvSpPr>
        <p:spPr>
          <a:xfrm>
            <a:off x="9883080" y="6014520"/>
            <a:ext cx="156960" cy="1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49"/>
              </a:lnSpc>
            </a:pPr>
            <a:fld id="{596FB3A2-1D8B-444F-BFCC-B1F6F6C694E9}" type="slidenum">
              <a:rPr b="0" lang="en-US" sz="880" spc="-4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8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3"/>
          <p:cNvSpPr/>
          <p:nvPr/>
        </p:nvSpPr>
        <p:spPr>
          <a:xfrm>
            <a:off x="2073240" y="2553120"/>
            <a:ext cx="8303760" cy="32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9720" bIns="0" anchor="t">
            <a:spAutoFit/>
          </a:bodyPr>
          <a:p>
            <a:pPr marL="414720" indent="-403560">
              <a:lnSpc>
                <a:spcPct val="80000"/>
              </a:lnSpc>
              <a:spcBef>
                <a:spcPts val="785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Federal,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State,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local oversight</a:t>
            </a:r>
            <a:r>
              <a:rPr b="0" lang="en-US" sz="2910" spc="-1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agency or recognized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authoritative</a:t>
            </a:r>
            <a:r>
              <a:rPr b="0" lang="en-US" sz="291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ts val="2373"/>
              </a:lnSpc>
              <a:spcBef>
                <a:spcPts val="842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80" strike="noStrike">
                <a:solidFill>
                  <a:srgbClr val="000000"/>
                </a:solidFill>
                <a:latin typeface="Times New Roman"/>
              </a:rPr>
              <a:t>EPA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tate department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7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nvironment  quality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etropolitan/Regional Planning</a:t>
            </a:r>
            <a:r>
              <a:rPr b="0" lang="en-US" sz="2470" spc="-18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69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U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ish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Wildlife</a:t>
            </a:r>
            <a:r>
              <a:rPr b="0" lang="en-US" sz="2470" spc="-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61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Historic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es. 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Officer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(SHPO)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100000"/>
              </a:lnSpc>
              <a:spcBef>
                <a:spcPts val="269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Local/County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HAZ </a:t>
            </a:r>
            <a:r>
              <a:rPr b="0" lang="en-US" sz="2470" spc="-97" strike="noStrike">
                <a:solidFill>
                  <a:srgbClr val="000000"/>
                </a:solidFill>
                <a:latin typeface="Times New Roman"/>
              </a:rPr>
              <a:t>MAT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53240">
              <a:lnSpc>
                <a:spcPct val="80000"/>
              </a:lnSpc>
              <a:spcBef>
                <a:spcPts val="842"/>
              </a:spcBef>
              <a:buClr>
                <a:srgbClr val="000000"/>
              </a:buClr>
              <a:buSzPct val="70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Biologist/botanist/qualified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professional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gine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339440" y="626760"/>
            <a:ext cx="332820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341" strike="noStrike">
                <a:solidFill>
                  <a:srgbClr val="262626"/>
                </a:solidFill>
                <a:latin typeface="Garamond"/>
              </a:rPr>
              <a:t>V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e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r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i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fia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b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object 3"/>
          <p:cNvSpPr/>
          <p:nvPr/>
        </p:nvSpPr>
        <p:spPr>
          <a:xfrm>
            <a:off x="1211400" y="2594160"/>
            <a:ext cx="491148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414720" indent="-40356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910" spc="-9" strike="noStrike">
                <a:solidFill>
                  <a:srgbClr val="000000"/>
                </a:solidFill>
                <a:latin typeface="Times New Roman"/>
              </a:rPr>
              <a:t>City </a:t>
            </a:r>
            <a:r>
              <a:rPr b="0" lang="en-US" sz="2910" spc="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County land  use plans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or  comprehensive</a:t>
            </a:r>
            <a:r>
              <a:rPr b="0" lang="en-US" sz="2910" spc="-10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plans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100000"/>
              </a:lnSpc>
              <a:spcBef>
                <a:spcPts val="697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Floodplain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maps,  zoning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maps,</a:t>
            </a:r>
            <a:r>
              <a:rPr b="0" lang="en-US" sz="2910" spc="-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USGS 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topographical</a:t>
            </a:r>
            <a:r>
              <a:rPr b="0" lang="en-US" sz="291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100000"/>
              </a:lnSpc>
              <a:spcBef>
                <a:spcPts val="703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Historic</a:t>
            </a:r>
            <a:r>
              <a:rPr b="0" lang="en-US" sz="2910" spc="-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100000"/>
              </a:lnSpc>
              <a:spcBef>
                <a:spcPts val="697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Aerial</a:t>
            </a:r>
            <a:r>
              <a:rPr b="0" lang="en-US" sz="291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photographs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4"/>
          <p:cNvSpPr/>
          <p:nvPr/>
        </p:nvSpPr>
        <p:spPr>
          <a:xfrm>
            <a:off x="6992640" y="4815360"/>
            <a:ext cx="360" cy="281880"/>
          </a:xfrm>
          <a:custGeom>
            <a:avLst/>
            <a:gdLst>
              <a:gd name="textAreaLeft" fmla="*/ 0 w 360"/>
              <a:gd name="textAreaRight" fmla="*/ 720 w 360"/>
              <a:gd name="textAreaTop" fmla="*/ 0 h 281880"/>
              <a:gd name="textAreaBottom" fmla="*/ 282240 h 281880"/>
            </a:gdLst>
            <a:ahLst/>
            <a:rect l="textAreaLeft" t="textAreaTop" r="textAreaRight" b="textAreaBottom"/>
            <a:pathLst>
              <a:path w="0" h="320039">
                <a:moveTo>
                  <a:pt x="0" y="0"/>
                </a:moveTo>
                <a:lnTo>
                  <a:pt x="0" y="320039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object 5"/>
          <p:cNvSpPr/>
          <p:nvPr/>
        </p:nvSpPr>
        <p:spPr>
          <a:xfrm>
            <a:off x="7448760" y="4987440"/>
            <a:ext cx="360" cy="378000"/>
          </a:xfrm>
          <a:custGeom>
            <a:avLst/>
            <a:gdLst>
              <a:gd name="textAreaLeft" fmla="*/ 0 w 360"/>
              <a:gd name="textAreaRight" fmla="*/ 720 w 36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0" h="428625">
                <a:moveTo>
                  <a:pt x="0" y="0"/>
                </a:moveTo>
                <a:lnTo>
                  <a:pt x="0" y="428243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object 6"/>
          <p:cNvSpPr/>
          <p:nvPr/>
        </p:nvSpPr>
        <p:spPr>
          <a:xfrm>
            <a:off x="8445240" y="4726800"/>
            <a:ext cx="360" cy="444960"/>
          </a:xfrm>
          <a:custGeom>
            <a:avLst/>
            <a:gdLst>
              <a:gd name="textAreaLeft" fmla="*/ 0 w 360"/>
              <a:gd name="textAreaRight" fmla="*/ 720 w 360"/>
              <a:gd name="textAreaTop" fmla="*/ 0 h 444960"/>
              <a:gd name="textAreaBottom" fmla="*/ 445320 h 444960"/>
            </a:gdLst>
            <a:ahLst/>
            <a:rect l="textAreaLeft" t="textAreaTop" r="textAreaRight" b="textAreaBottom"/>
            <a:pathLst>
              <a:path w="0" h="504825">
                <a:moveTo>
                  <a:pt x="0" y="0"/>
                </a:moveTo>
                <a:lnTo>
                  <a:pt x="0" y="504317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object 7"/>
          <p:cNvSpPr/>
          <p:nvPr/>
        </p:nvSpPr>
        <p:spPr>
          <a:xfrm>
            <a:off x="8330760" y="4836960"/>
            <a:ext cx="360" cy="396360"/>
          </a:xfrm>
          <a:custGeom>
            <a:avLst/>
            <a:gdLst>
              <a:gd name="textAreaLeft" fmla="*/ 0 w 360"/>
              <a:gd name="textAreaRight" fmla="*/ 720 w 360"/>
              <a:gd name="textAreaTop" fmla="*/ 0 h 396360"/>
              <a:gd name="textAreaBottom" fmla="*/ 396720 h 396360"/>
            </a:gdLst>
            <a:ahLst/>
            <a:rect l="textAreaLeft" t="textAreaTop" r="textAreaRight" b="textAreaBottom"/>
            <a:pathLst>
              <a:path w="0" h="449579">
                <a:moveTo>
                  <a:pt x="0" y="0"/>
                </a:moveTo>
                <a:lnTo>
                  <a:pt x="0" y="449453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object 8"/>
          <p:cNvSpPr/>
          <p:nvPr/>
        </p:nvSpPr>
        <p:spPr>
          <a:xfrm>
            <a:off x="8032320" y="4214160"/>
            <a:ext cx="360" cy="251280"/>
          </a:xfrm>
          <a:custGeom>
            <a:avLst/>
            <a:gdLst>
              <a:gd name="textAreaLeft" fmla="*/ 0 w 360"/>
              <a:gd name="textAreaRight" fmla="*/ 720 w 360"/>
              <a:gd name="textAreaTop" fmla="*/ 0 h 251280"/>
              <a:gd name="textAreaBottom" fmla="*/ 251640 h 251280"/>
            </a:gdLst>
            <a:ahLst/>
            <a:rect l="textAreaLeft" t="textAreaTop" r="textAreaRight" b="textAreaBottom"/>
            <a:pathLst>
              <a:path w="0" h="285114">
                <a:moveTo>
                  <a:pt x="0" y="0"/>
                </a:moveTo>
                <a:lnTo>
                  <a:pt x="0" y="284987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object 9"/>
          <p:cNvSpPr/>
          <p:nvPr/>
        </p:nvSpPr>
        <p:spPr>
          <a:xfrm>
            <a:off x="6128280" y="4138920"/>
            <a:ext cx="6480" cy="466200"/>
          </a:xfrm>
          <a:custGeom>
            <a:avLst/>
            <a:gdLst>
              <a:gd name="textAreaLeft" fmla="*/ 0 w 6480"/>
              <a:gd name="textAreaRight" fmla="*/ 6840 w 6480"/>
              <a:gd name="textAreaTop" fmla="*/ 0 h 466200"/>
              <a:gd name="textAreaBottom" fmla="*/ 466560 h 466200"/>
            </a:gdLst>
            <a:ahLst/>
            <a:rect l="textAreaLeft" t="textAreaTop" r="textAreaRight" b="textAreaBottom"/>
            <a:pathLst>
              <a:path w="7620" h="528954">
                <a:moveTo>
                  <a:pt x="0" y="0"/>
                </a:moveTo>
                <a:lnTo>
                  <a:pt x="0" y="519684"/>
                </a:lnTo>
                <a:lnTo>
                  <a:pt x="7620" y="528828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object 10"/>
          <p:cNvSpPr/>
          <p:nvPr/>
        </p:nvSpPr>
        <p:spPr>
          <a:xfrm>
            <a:off x="6108120" y="4650120"/>
            <a:ext cx="360" cy="495000"/>
          </a:xfrm>
          <a:custGeom>
            <a:avLst/>
            <a:gdLst>
              <a:gd name="textAreaLeft" fmla="*/ 0 w 360"/>
              <a:gd name="textAreaRight" fmla="*/ 720 w 36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0" h="561339">
                <a:moveTo>
                  <a:pt x="0" y="0"/>
                </a:moveTo>
                <a:lnTo>
                  <a:pt x="0" y="56083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object 11"/>
          <p:cNvSpPr/>
          <p:nvPr/>
        </p:nvSpPr>
        <p:spPr>
          <a:xfrm>
            <a:off x="6975360" y="480600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295400" h="429895">
                <a:moveTo>
                  <a:pt x="510413" y="0"/>
                </a:moveTo>
                <a:lnTo>
                  <a:pt x="0" y="355092"/>
                </a:lnTo>
                <a:lnTo>
                  <a:pt x="230124" y="429768"/>
                </a:lnTo>
                <a:lnTo>
                  <a:pt x="533400" y="195072"/>
                </a:lnTo>
                <a:lnTo>
                  <a:pt x="1123085" y="195072"/>
                </a:lnTo>
                <a:lnTo>
                  <a:pt x="510413" y="0"/>
                </a:lnTo>
                <a:close/>
              </a:path>
              <a:path w="1295400" h="429895">
                <a:moveTo>
                  <a:pt x="1123085" y="195072"/>
                </a:moveTo>
                <a:lnTo>
                  <a:pt x="533400" y="195072"/>
                </a:lnTo>
                <a:lnTo>
                  <a:pt x="1124585" y="394843"/>
                </a:lnTo>
                <a:lnTo>
                  <a:pt x="1295400" y="249936"/>
                </a:lnTo>
                <a:lnTo>
                  <a:pt x="1123085" y="19507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object 12"/>
          <p:cNvSpPr/>
          <p:nvPr/>
        </p:nvSpPr>
        <p:spPr>
          <a:xfrm>
            <a:off x="6975360" y="480600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295400" h="429895">
                <a:moveTo>
                  <a:pt x="0" y="355092"/>
                </a:moveTo>
                <a:lnTo>
                  <a:pt x="510413" y="0"/>
                </a:lnTo>
                <a:lnTo>
                  <a:pt x="1295400" y="249936"/>
                </a:lnTo>
                <a:lnTo>
                  <a:pt x="1124585" y="394716"/>
                </a:lnTo>
                <a:lnTo>
                  <a:pt x="533400" y="195072"/>
                </a:lnTo>
                <a:lnTo>
                  <a:pt x="230124" y="429641"/>
                </a:lnTo>
                <a:lnTo>
                  <a:pt x="0" y="355092"/>
                </a:lnTo>
                <a:close/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object 13"/>
          <p:cNvSpPr/>
          <p:nvPr/>
        </p:nvSpPr>
        <p:spPr>
          <a:xfrm>
            <a:off x="6121440" y="4061160"/>
            <a:ext cx="2325960" cy="775800"/>
          </a:xfrm>
          <a:custGeom>
            <a:avLst/>
            <a:gdLst>
              <a:gd name="textAreaLeft" fmla="*/ 0 w 2325960"/>
              <a:gd name="textAreaRight" fmla="*/ 2326320 w 232596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2636520" h="879475">
                <a:moveTo>
                  <a:pt x="175132" y="0"/>
                </a:moveTo>
                <a:lnTo>
                  <a:pt x="0" y="88392"/>
                </a:lnTo>
                <a:lnTo>
                  <a:pt x="2491740" y="879475"/>
                </a:lnTo>
                <a:lnTo>
                  <a:pt x="2636392" y="748411"/>
                </a:lnTo>
                <a:lnTo>
                  <a:pt x="1694561" y="469392"/>
                </a:lnTo>
                <a:lnTo>
                  <a:pt x="1773466" y="419100"/>
                </a:lnTo>
                <a:lnTo>
                  <a:pt x="1519427" y="419100"/>
                </a:lnTo>
                <a:lnTo>
                  <a:pt x="175132" y="0"/>
                </a:lnTo>
                <a:close/>
              </a:path>
              <a:path w="2636520" h="879475">
                <a:moveTo>
                  <a:pt x="1999360" y="129667"/>
                </a:moveTo>
                <a:lnTo>
                  <a:pt x="1519427" y="419100"/>
                </a:lnTo>
                <a:lnTo>
                  <a:pt x="1773466" y="419100"/>
                </a:lnTo>
                <a:lnTo>
                  <a:pt x="2165604" y="169164"/>
                </a:lnTo>
                <a:lnTo>
                  <a:pt x="1999360" y="12966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object 14"/>
          <p:cNvSpPr/>
          <p:nvPr/>
        </p:nvSpPr>
        <p:spPr>
          <a:xfrm>
            <a:off x="6121800" y="4061160"/>
            <a:ext cx="2325960" cy="775800"/>
          </a:xfrm>
          <a:custGeom>
            <a:avLst/>
            <a:gdLst>
              <a:gd name="textAreaLeft" fmla="*/ 0 w 2325960"/>
              <a:gd name="textAreaRight" fmla="*/ 2326320 w 232596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2636520" h="879475">
                <a:moveTo>
                  <a:pt x="2491613" y="879347"/>
                </a:moveTo>
                <a:lnTo>
                  <a:pt x="2636266" y="748283"/>
                </a:lnTo>
                <a:lnTo>
                  <a:pt x="1694561" y="469391"/>
                </a:lnTo>
                <a:lnTo>
                  <a:pt x="2165604" y="169163"/>
                </a:lnTo>
                <a:lnTo>
                  <a:pt x="1999361" y="129666"/>
                </a:lnTo>
                <a:lnTo>
                  <a:pt x="1519428" y="419099"/>
                </a:lnTo>
                <a:lnTo>
                  <a:pt x="175132" y="0"/>
                </a:lnTo>
                <a:lnTo>
                  <a:pt x="0" y="88391"/>
                </a:lnTo>
                <a:lnTo>
                  <a:pt x="2491613" y="879347"/>
                </a:lnTo>
                <a:close/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object 15"/>
          <p:cNvSpPr/>
          <p:nvPr/>
        </p:nvSpPr>
        <p:spPr>
          <a:xfrm>
            <a:off x="6108120" y="4572000"/>
            <a:ext cx="884880" cy="661320"/>
          </a:xfrm>
          <a:custGeom>
            <a:avLst/>
            <a:gdLst>
              <a:gd name="textAreaLeft" fmla="*/ 0 w 884880"/>
              <a:gd name="textAreaRight" fmla="*/ 885240 w 884880"/>
              <a:gd name="textAreaTop" fmla="*/ 0 h 661320"/>
              <a:gd name="textAreaBottom" fmla="*/ 661680 h 661320"/>
            </a:gdLst>
            <a:ahLst/>
            <a:rect l="textAreaLeft" t="textAreaTop" r="textAreaRight" b="textAreaBottom"/>
            <a:pathLst>
              <a:path w="1003300" h="749935">
                <a:moveTo>
                  <a:pt x="160020" y="0"/>
                </a:moveTo>
                <a:lnTo>
                  <a:pt x="0" y="88518"/>
                </a:lnTo>
                <a:lnTo>
                  <a:pt x="682752" y="311023"/>
                </a:lnTo>
                <a:lnTo>
                  <a:pt x="167767" y="688848"/>
                </a:lnTo>
                <a:lnTo>
                  <a:pt x="356743" y="749808"/>
                </a:lnTo>
                <a:lnTo>
                  <a:pt x="1002792" y="271272"/>
                </a:lnTo>
                <a:lnTo>
                  <a:pt x="16002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object 16"/>
          <p:cNvSpPr/>
          <p:nvPr/>
        </p:nvSpPr>
        <p:spPr>
          <a:xfrm>
            <a:off x="6108120" y="4572000"/>
            <a:ext cx="884520" cy="661320"/>
          </a:xfrm>
          <a:custGeom>
            <a:avLst/>
            <a:gdLst>
              <a:gd name="textAreaLeft" fmla="*/ 0 w 884520"/>
              <a:gd name="textAreaRight" fmla="*/ 884880 w 884520"/>
              <a:gd name="textAreaTop" fmla="*/ 0 h 661320"/>
              <a:gd name="textAreaBottom" fmla="*/ 661680 h 661320"/>
            </a:gdLst>
            <a:ahLst/>
            <a:rect l="textAreaLeft" t="textAreaTop" r="textAreaRight" b="textAreaBottom"/>
            <a:pathLst>
              <a:path w="1002664" h="749935">
                <a:moveTo>
                  <a:pt x="160020" y="0"/>
                </a:moveTo>
                <a:lnTo>
                  <a:pt x="1002665" y="271145"/>
                </a:lnTo>
                <a:lnTo>
                  <a:pt x="356616" y="749681"/>
                </a:lnTo>
                <a:lnTo>
                  <a:pt x="167640" y="688721"/>
                </a:lnTo>
                <a:lnTo>
                  <a:pt x="682752" y="310896"/>
                </a:lnTo>
                <a:lnTo>
                  <a:pt x="0" y="88392"/>
                </a:lnTo>
                <a:lnTo>
                  <a:pt x="160020" y="0"/>
                </a:lnTo>
                <a:close/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object 17"/>
          <p:cNvSpPr/>
          <p:nvPr/>
        </p:nvSpPr>
        <p:spPr>
          <a:xfrm>
            <a:off x="8735400" y="3453480"/>
            <a:ext cx="186840" cy="489240"/>
          </a:xfrm>
          <a:custGeom>
            <a:avLst/>
            <a:gdLst>
              <a:gd name="textAreaLeft" fmla="*/ 0 w 186840"/>
              <a:gd name="textAreaRight" fmla="*/ 187200 w 186840"/>
              <a:gd name="textAreaTop" fmla="*/ 0 h 489240"/>
              <a:gd name="textAreaBottom" fmla="*/ 489600 h 489240"/>
            </a:gdLst>
            <a:ahLst/>
            <a:rect l="textAreaLeft" t="textAreaTop" r="textAreaRight" b="textAreaBottom"/>
            <a:pathLst>
              <a:path w="212090" h="554989">
                <a:moveTo>
                  <a:pt x="0" y="0"/>
                </a:moveTo>
                <a:lnTo>
                  <a:pt x="0" y="508889"/>
                </a:lnTo>
                <a:lnTo>
                  <a:pt x="211709" y="554609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object 18"/>
          <p:cNvSpPr/>
          <p:nvPr/>
        </p:nvSpPr>
        <p:spPr>
          <a:xfrm>
            <a:off x="8921160" y="3913200"/>
            <a:ext cx="360" cy="389520"/>
          </a:xfrm>
          <a:custGeom>
            <a:avLst/>
            <a:gdLst>
              <a:gd name="textAreaLeft" fmla="*/ 0 w 360"/>
              <a:gd name="textAreaRight" fmla="*/ 720 w 360"/>
              <a:gd name="textAreaTop" fmla="*/ 0 h 389520"/>
              <a:gd name="textAreaBottom" fmla="*/ 389880 h 389520"/>
            </a:gdLst>
            <a:ahLst/>
            <a:rect l="textAreaLeft" t="textAreaTop" r="textAreaRight" b="textAreaBottom"/>
            <a:pathLst>
              <a:path w="0" h="441960">
                <a:moveTo>
                  <a:pt x="0" y="0"/>
                </a:moveTo>
                <a:lnTo>
                  <a:pt x="0" y="441959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object 19"/>
          <p:cNvSpPr/>
          <p:nvPr/>
        </p:nvSpPr>
        <p:spPr>
          <a:xfrm>
            <a:off x="8542080" y="4334040"/>
            <a:ext cx="360" cy="401760"/>
          </a:xfrm>
          <a:custGeom>
            <a:avLst/>
            <a:gdLst>
              <a:gd name="textAreaLeft" fmla="*/ 0 w 360"/>
              <a:gd name="textAreaRight" fmla="*/ 720 w 36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0" h="455929">
                <a:moveTo>
                  <a:pt x="0" y="0"/>
                </a:moveTo>
                <a:lnTo>
                  <a:pt x="0" y="455549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object 20"/>
          <p:cNvSpPr/>
          <p:nvPr/>
        </p:nvSpPr>
        <p:spPr>
          <a:xfrm>
            <a:off x="9469800" y="3590280"/>
            <a:ext cx="360" cy="291600"/>
          </a:xfrm>
          <a:custGeom>
            <a:avLst/>
            <a:gdLst>
              <a:gd name="textAreaLeft" fmla="*/ 0 w 360"/>
              <a:gd name="textAreaRight" fmla="*/ 720 w 360"/>
              <a:gd name="textAreaTop" fmla="*/ 0 h 291600"/>
              <a:gd name="textAreaBottom" fmla="*/ 291960 h 291600"/>
            </a:gdLst>
            <a:ahLst/>
            <a:rect l="textAreaLeft" t="textAreaTop" r="textAreaRight" b="textAreaBottom"/>
            <a:pathLst>
              <a:path w="0" h="330835">
                <a:moveTo>
                  <a:pt x="0" y="0"/>
                </a:moveTo>
                <a:lnTo>
                  <a:pt x="0" y="330708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object 21"/>
          <p:cNvSpPr/>
          <p:nvPr/>
        </p:nvSpPr>
        <p:spPr>
          <a:xfrm>
            <a:off x="9601560" y="3942720"/>
            <a:ext cx="360" cy="404640"/>
          </a:xfrm>
          <a:custGeom>
            <a:avLst/>
            <a:gdLst>
              <a:gd name="textAreaLeft" fmla="*/ 0 w 360"/>
              <a:gd name="textAreaRight" fmla="*/ 720 w 3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0" h="459104">
                <a:moveTo>
                  <a:pt x="0" y="0"/>
                </a:moveTo>
                <a:lnTo>
                  <a:pt x="0" y="458723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object 22"/>
          <p:cNvSpPr/>
          <p:nvPr/>
        </p:nvSpPr>
        <p:spPr>
          <a:xfrm>
            <a:off x="8542080" y="3382200"/>
            <a:ext cx="1179000" cy="17449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1336675" h="1978025">
                <a:moveTo>
                  <a:pt x="120396" y="958596"/>
                </a:moveTo>
                <a:lnTo>
                  <a:pt x="0" y="1068324"/>
                </a:lnTo>
                <a:lnTo>
                  <a:pt x="1025525" y="1368425"/>
                </a:lnTo>
                <a:lnTo>
                  <a:pt x="653796" y="1920113"/>
                </a:lnTo>
                <a:lnTo>
                  <a:pt x="828929" y="1978025"/>
                </a:lnTo>
                <a:lnTo>
                  <a:pt x="1254125" y="1289304"/>
                </a:lnTo>
                <a:lnTo>
                  <a:pt x="752729" y="1149096"/>
                </a:lnTo>
                <a:lnTo>
                  <a:pt x="805274" y="1088136"/>
                </a:lnTo>
                <a:lnTo>
                  <a:pt x="585089" y="1088136"/>
                </a:lnTo>
                <a:lnTo>
                  <a:pt x="120396" y="958596"/>
                </a:lnTo>
                <a:close/>
              </a:path>
              <a:path w="1336675" h="1978025">
                <a:moveTo>
                  <a:pt x="327533" y="0"/>
                </a:moveTo>
                <a:lnTo>
                  <a:pt x="211836" y="71628"/>
                </a:lnTo>
                <a:lnTo>
                  <a:pt x="912876" y="199517"/>
                </a:lnTo>
                <a:lnTo>
                  <a:pt x="425196" y="600329"/>
                </a:lnTo>
                <a:lnTo>
                  <a:pt x="941832" y="710057"/>
                </a:lnTo>
                <a:lnTo>
                  <a:pt x="585089" y="1088136"/>
                </a:lnTo>
                <a:lnTo>
                  <a:pt x="805274" y="1088136"/>
                </a:lnTo>
                <a:lnTo>
                  <a:pt x="1200785" y="629285"/>
                </a:lnTo>
                <a:lnTo>
                  <a:pt x="714629" y="519557"/>
                </a:lnTo>
                <a:lnTo>
                  <a:pt x="1048385" y="230124"/>
                </a:lnTo>
                <a:lnTo>
                  <a:pt x="1282685" y="230124"/>
                </a:lnTo>
                <a:lnTo>
                  <a:pt x="1336421" y="188849"/>
                </a:lnTo>
                <a:lnTo>
                  <a:pt x="327533" y="0"/>
                </a:lnTo>
                <a:close/>
              </a:path>
              <a:path w="1336675" h="1978025">
                <a:moveTo>
                  <a:pt x="1282685" y="230124"/>
                </a:moveTo>
                <a:lnTo>
                  <a:pt x="1048385" y="230124"/>
                </a:lnTo>
                <a:lnTo>
                  <a:pt x="1231265" y="269621"/>
                </a:lnTo>
                <a:lnTo>
                  <a:pt x="1282685" y="2301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object 23"/>
          <p:cNvSpPr/>
          <p:nvPr/>
        </p:nvSpPr>
        <p:spPr>
          <a:xfrm>
            <a:off x="8542080" y="3382200"/>
            <a:ext cx="1179000" cy="17449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744920"/>
              <a:gd name="textAreaBottom" fmla="*/ 1745280 h 1744920"/>
            </a:gdLst>
            <a:ahLst/>
            <a:rect l="textAreaLeft" t="textAreaTop" r="textAreaRight" b="textAreaBottom"/>
            <a:pathLst>
              <a:path w="1336675" h="1978025">
                <a:moveTo>
                  <a:pt x="1336421" y="188849"/>
                </a:moveTo>
                <a:lnTo>
                  <a:pt x="327533" y="0"/>
                </a:lnTo>
                <a:lnTo>
                  <a:pt x="211836" y="71628"/>
                </a:lnTo>
                <a:lnTo>
                  <a:pt x="912876" y="199390"/>
                </a:lnTo>
                <a:lnTo>
                  <a:pt x="425196" y="600202"/>
                </a:lnTo>
                <a:lnTo>
                  <a:pt x="941832" y="709930"/>
                </a:lnTo>
                <a:lnTo>
                  <a:pt x="585089" y="1088009"/>
                </a:lnTo>
                <a:lnTo>
                  <a:pt x="120396" y="958469"/>
                </a:lnTo>
                <a:lnTo>
                  <a:pt x="0" y="1068197"/>
                </a:lnTo>
                <a:lnTo>
                  <a:pt x="1025525" y="1368298"/>
                </a:lnTo>
                <a:lnTo>
                  <a:pt x="653796" y="1920113"/>
                </a:lnTo>
                <a:lnTo>
                  <a:pt x="828929" y="1977898"/>
                </a:lnTo>
                <a:lnTo>
                  <a:pt x="1254125" y="1289177"/>
                </a:lnTo>
                <a:lnTo>
                  <a:pt x="752729" y="1148969"/>
                </a:lnTo>
                <a:lnTo>
                  <a:pt x="1200912" y="629158"/>
                </a:lnTo>
                <a:lnTo>
                  <a:pt x="714629" y="519430"/>
                </a:lnTo>
                <a:lnTo>
                  <a:pt x="1048512" y="229997"/>
                </a:lnTo>
                <a:lnTo>
                  <a:pt x="1231265" y="269494"/>
                </a:lnTo>
                <a:lnTo>
                  <a:pt x="1336421" y="188849"/>
                </a:lnTo>
                <a:close/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object 24"/>
          <p:cNvSpPr/>
          <p:nvPr/>
        </p:nvSpPr>
        <p:spPr>
          <a:xfrm>
            <a:off x="9105480" y="2885760"/>
            <a:ext cx="360" cy="156960"/>
          </a:xfrm>
          <a:custGeom>
            <a:avLst/>
            <a:gdLst>
              <a:gd name="textAreaLeft" fmla="*/ 0 w 360"/>
              <a:gd name="textAreaRight" fmla="*/ 720 w 3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0" h="178435">
                <a:moveTo>
                  <a:pt x="0" y="0"/>
                </a:moveTo>
                <a:lnTo>
                  <a:pt x="0" y="17818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object 25"/>
          <p:cNvSpPr/>
          <p:nvPr/>
        </p:nvSpPr>
        <p:spPr>
          <a:xfrm>
            <a:off x="8701920" y="3018960"/>
            <a:ext cx="360" cy="425880"/>
          </a:xfrm>
          <a:custGeom>
            <a:avLst/>
            <a:gdLst>
              <a:gd name="textAreaLeft" fmla="*/ 0 w 360"/>
              <a:gd name="textAreaRight" fmla="*/ 720 w 360"/>
              <a:gd name="textAreaTop" fmla="*/ 0 h 425880"/>
              <a:gd name="textAreaBottom" fmla="*/ 426240 h 425880"/>
            </a:gdLst>
            <a:ahLst/>
            <a:rect l="textAreaLeft" t="textAreaTop" r="textAreaRight" b="textAreaBottom"/>
            <a:pathLst>
              <a:path w="0" h="483235">
                <a:moveTo>
                  <a:pt x="0" y="0"/>
                </a:moveTo>
                <a:lnTo>
                  <a:pt x="0" y="483108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object 26"/>
          <p:cNvSpPr/>
          <p:nvPr/>
        </p:nvSpPr>
        <p:spPr>
          <a:xfrm>
            <a:off x="8426520" y="2809080"/>
            <a:ext cx="1269360" cy="351000"/>
          </a:xfrm>
          <a:custGeom>
            <a:avLst/>
            <a:gdLst>
              <a:gd name="textAreaLeft" fmla="*/ 0 w 1269360"/>
              <a:gd name="textAreaRight" fmla="*/ 1269720 w 126936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1438909" h="398145">
                <a:moveTo>
                  <a:pt x="161417" y="0"/>
                </a:moveTo>
                <a:lnTo>
                  <a:pt x="0" y="24511"/>
                </a:lnTo>
                <a:lnTo>
                  <a:pt x="576072" y="111379"/>
                </a:lnTo>
                <a:lnTo>
                  <a:pt x="316992" y="237744"/>
                </a:lnTo>
                <a:lnTo>
                  <a:pt x="1339596" y="397764"/>
                </a:lnTo>
                <a:lnTo>
                  <a:pt x="1438529" y="327787"/>
                </a:lnTo>
                <a:lnTo>
                  <a:pt x="540893" y="198247"/>
                </a:lnTo>
                <a:lnTo>
                  <a:pt x="769493" y="79375"/>
                </a:lnTo>
                <a:lnTo>
                  <a:pt x="161417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object 27"/>
          <p:cNvSpPr/>
          <p:nvPr/>
        </p:nvSpPr>
        <p:spPr>
          <a:xfrm>
            <a:off x="8426520" y="2809080"/>
            <a:ext cx="1269360" cy="351000"/>
          </a:xfrm>
          <a:custGeom>
            <a:avLst/>
            <a:gdLst>
              <a:gd name="textAreaLeft" fmla="*/ 0 w 1269360"/>
              <a:gd name="textAreaRight" fmla="*/ 1269720 w 126936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1438909" h="398145">
                <a:moveTo>
                  <a:pt x="0" y="24384"/>
                </a:moveTo>
                <a:lnTo>
                  <a:pt x="575945" y="111125"/>
                </a:lnTo>
                <a:lnTo>
                  <a:pt x="316992" y="237617"/>
                </a:lnTo>
                <a:lnTo>
                  <a:pt x="1339596" y="397637"/>
                </a:lnTo>
                <a:lnTo>
                  <a:pt x="1438529" y="327533"/>
                </a:lnTo>
                <a:lnTo>
                  <a:pt x="540893" y="197993"/>
                </a:lnTo>
                <a:lnTo>
                  <a:pt x="769493" y="79248"/>
                </a:lnTo>
                <a:lnTo>
                  <a:pt x="161417" y="0"/>
                </a:lnTo>
                <a:lnTo>
                  <a:pt x="0" y="24384"/>
                </a:lnTo>
                <a:close/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object 28"/>
          <p:cNvSpPr/>
          <p:nvPr/>
        </p:nvSpPr>
        <p:spPr>
          <a:xfrm>
            <a:off x="6680880" y="3605040"/>
            <a:ext cx="360" cy="113760"/>
          </a:xfrm>
          <a:custGeom>
            <a:avLst/>
            <a:gdLst>
              <a:gd name="textAreaLeft" fmla="*/ 0 w 360"/>
              <a:gd name="textAreaRight" fmla="*/ 720 w 360"/>
              <a:gd name="textAreaTop" fmla="*/ 0 h 113760"/>
              <a:gd name="textAreaBottom" fmla="*/ 114120 h 113760"/>
            </a:gdLst>
            <a:ahLst/>
            <a:rect l="textAreaLeft" t="textAreaTop" r="textAreaRight" b="textAreaBottom"/>
            <a:pathLst>
              <a:path w="0" h="129539">
                <a:moveTo>
                  <a:pt x="0" y="0"/>
                </a:moveTo>
                <a:lnTo>
                  <a:pt x="0" y="129539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object 29"/>
          <p:cNvSpPr/>
          <p:nvPr/>
        </p:nvSpPr>
        <p:spPr>
          <a:xfrm>
            <a:off x="6801840" y="3552840"/>
            <a:ext cx="360" cy="110160"/>
          </a:xfrm>
          <a:custGeom>
            <a:avLst/>
            <a:gdLst>
              <a:gd name="textAreaLeft" fmla="*/ 0 w 360"/>
              <a:gd name="textAreaRight" fmla="*/ 720 w 360"/>
              <a:gd name="textAreaTop" fmla="*/ 0 h 110160"/>
              <a:gd name="textAreaBottom" fmla="*/ 110520 h 110160"/>
            </a:gdLst>
            <a:ahLst/>
            <a:rect l="textAreaLeft" t="textAreaTop" r="textAreaRight" b="textAreaBottom"/>
            <a:pathLst>
              <a:path w="0" h="125095">
                <a:moveTo>
                  <a:pt x="0" y="0"/>
                </a:moveTo>
                <a:lnTo>
                  <a:pt x="0" y="12484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object 30"/>
          <p:cNvSpPr/>
          <p:nvPr/>
        </p:nvSpPr>
        <p:spPr>
          <a:xfrm>
            <a:off x="7187760" y="3384720"/>
            <a:ext cx="360" cy="115560"/>
          </a:xfrm>
          <a:custGeom>
            <a:avLst/>
            <a:gdLst>
              <a:gd name="textAreaLeft" fmla="*/ 0 w 360"/>
              <a:gd name="textAreaRight" fmla="*/ 720 w 36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0" h="131445">
                <a:moveTo>
                  <a:pt x="0" y="0"/>
                </a:moveTo>
                <a:lnTo>
                  <a:pt x="0" y="131064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object 31"/>
          <p:cNvSpPr/>
          <p:nvPr/>
        </p:nvSpPr>
        <p:spPr>
          <a:xfrm>
            <a:off x="7260480" y="3201840"/>
            <a:ext cx="1280880" cy="893880"/>
          </a:xfrm>
          <a:custGeom>
            <a:avLst/>
            <a:gdLst>
              <a:gd name="textAreaLeft" fmla="*/ 0 w 1280880"/>
              <a:gd name="textAreaRight" fmla="*/ 1281240 w 12808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452245" h="1013460">
                <a:moveTo>
                  <a:pt x="0" y="989076"/>
                </a:moveTo>
                <a:lnTo>
                  <a:pt x="240665" y="854963"/>
                </a:lnTo>
                <a:lnTo>
                  <a:pt x="703961" y="1013332"/>
                </a:lnTo>
                <a:lnTo>
                  <a:pt x="1452245" y="505967"/>
                </a:lnTo>
                <a:lnTo>
                  <a:pt x="1452245" y="0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object 32"/>
          <p:cNvSpPr/>
          <p:nvPr/>
        </p:nvSpPr>
        <p:spPr>
          <a:xfrm>
            <a:off x="7467480" y="3462480"/>
            <a:ext cx="360" cy="496080"/>
          </a:xfrm>
          <a:custGeom>
            <a:avLst/>
            <a:gdLst>
              <a:gd name="textAreaLeft" fmla="*/ 0 w 360"/>
              <a:gd name="textAreaRight" fmla="*/ 720 w 360"/>
              <a:gd name="textAreaTop" fmla="*/ 0 h 496080"/>
              <a:gd name="textAreaBottom" fmla="*/ 496440 h 496080"/>
            </a:gdLst>
            <a:ahLst/>
            <a:rect l="textAreaLeft" t="textAreaTop" r="textAreaRight" b="textAreaBottom"/>
            <a:pathLst>
              <a:path w="0" h="562610">
                <a:moveTo>
                  <a:pt x="0" y="0"/>
                </a:moveTo>
                <a:lnTo>
                  <a:pt x="0" y="562356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object 33"/>
          <p:cNvSpPr/>
          <p:nvPr/>
        </p:nvSpPr>
        <p:spPr>
          <a:xfrm>
            <a:off x="7869600" y="3573000"/>
            <a:ext cx="360" cy="517320"/>
          </a:xfrm>
          <a:custGeom>
            <a:avLst/>
            <a:gdLst>
              <a:gd name="textAreaLeft" fmla="*/ 0 w 360"/>
              <a:gd name="textAreaRight" fmla="*/ 720 w 36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0" h="586739">
                <a:moveTo>
                  <a:pt x="0" y="0"/>
                </a:moveTo>
                <a:lnTo>
                  <a:pt x="0" y="586613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object 34"/>
          <p:cNvSpPr/>
          <p:nvPr/>
        </p:nvSpPr>
        <p:spPr>
          <a:xfrm>
            <a:off x="7100640" y="3036600"/>
            <a:ext cx="360" cy="443520"/>
          </a:xfrm>
          <a:custGeom>
            <a:avLst/>
            <a:gdLst>
              <a:gd name="textAreaLeft" fmla="*/ 0 w 360"/>
              <a:gd name="textAreaRight" fmla="*/ 720 w 360"/>
              <a:gd name="textAreaTop" fmla="*/ 0 h 443520"/>
              <a:gd name="textAreaBottom" fmla="*/ 443880 h 443520"/>
            </a:gdLst>
            <a:ahLst/>
            <a:rect l="textAreaLeft" t="textAreaTop" r="textAreaRight" b="textAreaBottom"/>
            <a:pathLst>
              <a:path w="0" h="502920">
                <a:moveTo>
                  <a:pt x="0" y="0"/>
                </a:moveTo>
                <a:lnTo>
                  <a:pt x="0" y="502793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object 35"/>
          <p:cNvSpPr/>
          <p:nvPr/>
        </p:nvSpPr>
        <p:spPr>
          <a:xfrm>
            <a:off x="6966000" y="3696480"/>
            <a:ext cx="360" cy="512280"/>
          </a:xfrm>
          <a:custGeom>
            <a:avLst/>
            <a:gdLst>
              <a:gd name="textAreaLeft" fmla="*/ 0 w 360"/>
              <a:gd name="textAreaRight" fmla="*/ 720 w 360"/>
              <a:gd name="textAreaTop" fmla="*/ 0 h 512280"/>
              <a:gd name="textAreaBottom" fmla="*/ 512640 h 512280"/>
            </a:gdLst>
            <a:ahLst/>
            <a:rect l="textAreaLeft" t="textAreaTop" r="textAreaRight" b="textAreaBottom"/>
            <a:pathLst>
              <a:path w="0" h="581025">
                <a:moveTo>
                  <a:pt x="0" y="0"/>
                </a:moveTo>
                <a:lnTo>
                  <a:pt x="0" y="580644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object 36"/>
          <p:cNvSpPr/>
          <p:nvPr/>
        </p:nvSpPr>
        <p:spPr>
          <a:xfrm>
            <a:off x="7256520" y="3686040"/>
            <a:ext cx="360" cy="501120"/>
          </a:xfrm>
          <a:custGeom>
            <a:avLst/>
            <a:gdLst>
              <a:gd name="textAreaLeft" fmla="*/ 0 w 360"/>
              <a:gd name="textAreaRight" fmla="*/ 720 w 360"/>
              <a:gd name="textAreaTop" fmla="*/ 0 h 501120"/>
              <a:gd name="textAreaBottom" fmla="*/ 501480 h 501120"/>
            </a:gdLst>
            <a:ahLst/>
            <a:rect l="textAreaLeft" t="textAreaTop" r="textAreaRight" b="textAreaBottom"/>
            <a:pathLst>
              <a:path w="0" h="568325">
                <a:moveTo>
                  <a:pt x="0" y="0"/>
                </a:moveTo>
                <a:lnTo>
                  <a:pt x="0" y="568325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object 37"/>
          <p:cNvSpPr/>
          <p:nvPr/>
        </p:nvSpPr>
        <p:spPr>
          <a:xfrm>
            <a:off x="6622920" y="3747960"/>
            <a:ext cx="1440" cy="379080"/>
          </a:xfrm>
          <a:custGeom>
            <a:avLst/>
            <a:gdLst>
              <a:gd name="textAreaLeft" fmla="*/ 0 w 1440"/>
              <a:gd name="textAreaRight" fmla="*/ 1800 w 14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1904" h="429895">
                <a:moveTo>
                  <a:pt x="0" y="0"/>
                </a:moveTo>
                <a:lnTo>
                  <a:pt x="1524" y="42964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object 38"/>
          <p:cNvSpPr/>
          <p:nvPr/>
        </p:nvSpPr>
        <p:spPr>
          <a:xfrm>
            <a:off x="6269400" y="3489480"/>
            <a:ext cx="360" cy="360360"/>
          </a:xfrm>
          <a:custGeom>
            <a:avLst/>
            <a:gdLst>
              <a:gd name="textAreaLeft" fmla="*/ 0 w 360"/>
              <a:gd name="textAreaRight" fmla="*/ 720 w 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0" h="408939">
                <a:moveTo>
                  <a:pt x="0" y="0"/>
                </a:moveTo>
                <a:lnTo>
                  <a:pt x="0" y="40843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object 39"/>
          <p:cNvSpPr/>
          <p:nvPr/>
        </p:nvSpPr>
        <p:spPr>
          <a:xfrm>
            <a:off x="8486640" y="2999880"/>
            <a:ext cx="360" cy="185760"/>
          </a:xfrm>
          <a:custGeom>
            <a:avLst/>
            <a:gdLst>
              <a:gd name="textAreaLeft" fmla="*/ 0 w 360"/>
              <a:gd name="textAreaRight" fmla="*/ 720 w 36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0" h="210820">
                <a:moveTo>
                  <a:pt x="0" y="0"/>
                </a:moveTo>
                <a:lnTo>
                  <a:pt x="0" y="21031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object 40"/>
          <p:cNvSpPr/>
          <p:nvPr/>
        </p:nvSpPr>
        <p:spPr>
          <a:xfrm>
            <a:off x="6999480" y="3240720"/>
            <a:ext cx="360" cy="330840"/>
          </a:xfrm>
          <a:custGeom>
            <a:avLst/>
            <a:gdLst>
              <a:gd name="textAreaLeft" fmla="*/ 0 w 360"/>
              <a:gd name="textAreaRight" fmla="*/ 720 w 360"/>
              <a:gd name="textAreaTop" fmla="*/ 0 h 330840"/>
              <a:gd name="textAreaBottom" fmla="*/ 331200 h 330840"/>
            </a:gdLst>
            <a:ahLst/>
            <a:rect l="textAreaLeft" t="textAreaTop" r="textAreaRight" b="textAreaBottom"/>
            <a:pathLst>
              <a:path w="0" h="375285">
                <a:moveTo>
                  <a:pt x="0" y="0"/>
                </a:moveTo>
                <a:lnTo>
                  <a:pt x="0" y="374777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object 41"/>
          <p:cNvSpPr/>
          <p:nvPr/>
        </p:nvSpPr>
        <p:spPr>
          <a:xfrm>
            <a:off x="6508800" y="2926080"/>
            <a:ext cx="360" cy="210960"/>
          </a:xfrm>
          <a:custGeom>
            <a:avLst/>
            <a:gdLst>
              <a:gd name="textAreaLeft" fmla="*/ 0 w 360"/>
              <a:gd name="textAreaRight" fmla="*/ 720 w 36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0" h="239395">
                <a:moveTo>
                  <a:pt x="0" y="0"/>
                </a:moveTo>
                <a:lnTo>
                  <a:pt x="0" y="239140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object 42"/>
          <p:cNvSpPr/>
          <p:nvPr/>
        </p:nvSpPr>
        <p:spPr>
          <a:xfrm>
            <a:off x="6420240" y="3168000"/>
            <a:ext cx="360" cy="243360"/>
          </a:xfrm>
          <a:custGeom>
            <a:avLst/>
            <a:gdLst>
              <a:gd name="textAreaLeft" fmla="*/ 0 w 360"/>
              <a:gd name="textAreaRight" fmla="*/ 720 w 360"/>
              <a:gd name="textAreaTop" fmla="*/ 0 h 243360"/>
              <a:gd name="textAreaBottom" fmla="*/ 243720 h 243360"/>
            </a:gdLst>
            <a:ahLst/>
            <a:rect l="textAreaLeft" t="textAreaTop" r="textAreaRight" b="textAreaBottom"/>
            <a:pathLst>
              <a:path w="0" h="276225">
                <a:moveTo>
                  <a:pt x="0" y="0"/>
                </a:moveTo>
                <a:lnTo>
                  <a:pt x="0" y="275844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object 43"/>
          <p:cNvSpPr/>
          <p:nvPr/>
        </p:nvSpPr>
        <p:spPr>
          <a:xfrm>
            <a:off x="7650360" y="3243600"/>
            <a:ext cx="360" cy="177120"/>
          </a:xfrm>
          <a:custGeom>
            <a:avLst/>
            <a:gdLst>
              <a:gd name="textAreaLeft" fmla="*/ 0 w 360"/>
              <a:gd name="textAreaRight" fmla="*/ 720 w 360"/>
              <a:gd name="textAreaTop" fmla="*/ 0 h 177120"/>
              <a:gd name="textAreaBottom" fmla="*/ 177480 h 177120"/>
            </a:gdLst>
            <a:ahLst/>
            <a:rect l="textAreaLeft" t="textAreaTop" r="textAreaRight" b="textAreaBottom"/>
            <a:pathLst>
              <a:path w="0" h="201295">
                <a:moveTo>
                  <a:pt x="0" y="0"/>
                </a:moveTo>
                <a:lnTo>
                  <a:pt x="0" y="20104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object 44"/>
          <p:cNvSpPr/>
          <p:nvPr/>
        </p:nvSpPr>
        <p:spPr>
          <a:xfrm>
            <a:off x="7851960" y="3141360"/>
            <a:ext cx="360" cy="337320"/>
          </a:xfrm>
          <a:custGeom>
            <a:avLst/>
            <a:gdLst>
              <a:gd name="textAreaLeft" fmla="*/ 0 w 360"/>
              <a:gd name="textAreaRight" fmla="*/ 720 w 360"/>
              <a:gd name="textAreaTop" fmla="*/ 0 h 337320"/>
              <a:gd name="textAreaBottom" fmla="*/ 337680 h 337320"/>
            </a:gdLst>
            <a:ahLst/>
            <a:rect l="textAreaLeft" t="textAreaTop" r="textAreaRight" b="textAreaBottom"/>
            <a:pathLst>
              <a:path w="0" h="382904">
                <a:moveTo>
                  <a:pt x="0" y="0"/>
                </a:moveTo>
                <a:lnTo>
                  <a:pt x="0" y="382524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object 45"/>
          <p:cNvSpPr/>
          <p:nvPr/>
        </p:nvSpPr>
        <p:spPr>
          <a:xfrm>
            <a:off x="7958160" y="3092760"/>
            <a:ext cx="360" cy="331920"/>
          </a:xfrm>
          <a:custGeom>
            <a:avLst/>
            <a:gdLst>
              <a:gd name="textAreaLeft" fmla="*/ 0 w 360"/>
              <a:gd name="textAreaRight" fmla="*/ 720 w 3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0" h="376554">
                <a:moveTo>
                  <a:pt x="0" y="0"/>
                </a:moveTo>
                <a:lnTo>
                  <a:pt x="0" y="376427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object 46"/>
          <p:cNvSpPr/>
          <p:nvPr/>
        </p:nvSpPr>
        <p:spPr>
          <a:xfrm>
            <a:off x="8111520" y="2957040"/>
            <a:ext cx="360" cy="162720"/>
          </a:xfrm>
          <a:custGeom>
            <a:avLst/>
            <a:gdLst>
              <a:gd name="textAreaLeft" fmla="*/ 0 w 360"/>
              <a:gd name="textAreaRight" fmla="*/ 720 w 360"/>
              <a:gd name="textAreaTop" fmla="*/ 0 h 162720"/>
              <a:gd name="textAreaBottom" fmla="*/ 163080 h 162720"/>
            </a:gdLst>
            <a:ahLst/>
            <a:rect l="textAreaLeft" t="textAreaTop" r="textAreaRight" b="textAreaBottom"/>
            <a:pathLst>
              <a:path w="0" h="184785">
                <a:moveTo>
                  <a:pt x="0" y="0"/>
                </a:moveTo>
                <a:lnTo>
                  <a:pt x="0" y="184277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object 47"/>
          <p:cNvSpPr/>
          <p:nvPr/>
        </p:nvSpPr>
        <p:spPr>
          <a:xfrm>
            <a:off x="8364600" y="2860200"/>
            <a:ext cx="360" cy="140760"/>
          </a:xfrm>
          <a:custGeom>
            <a:avLst/>
            <a:gdLst>
              <a:gd name="textAreaLeft" fmla="*/ 0 w 360"/>
              <a:gd name="textAreaRight" fmla="*/ 720 w 36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0" h="160020">
                <a:moveTo>
                  <a:pt x="0" y="0"/>
                </a:moveTo>
                <a:lnTo>
                  <a:pt x="0" y="160020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object 48"/>
          <p:cNvSpPr/>
          <p:nvPr/>
        </p:nvSpPr>
        <p:spPr>
          <a:xfrm>
            <a:off x="7050600" y="2811960"/>
            <a:ext cx="360" cy="136800"/>
          </a:xfrm>
          <a:custGeom>
            <a:avLst/>
            <a:gdLst>
              <a:gd name="textAreaLeft" fmla="*/ 0 w 360"/>
              <a:gd name="textAreaRight" fmla="*/ 720 w 36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0" h="155575">
                <a:moveTo>
                  <a:pt x="0" y="0"/>
                </a:moveTo>
                <a:lnTo>
                  <a:pt x="0" y="155321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object 49"/>
          <p:cNvSpPr/>
          <p:nvPr/>
        </p:nvSpPr>
        <p:spPr>
          <a:xfrm>
            <a:off x="6256080" y="2774160"/>
            <a:ext cx="2104200" cy="828360"/>
          </a:xfrm>
          <a:custGeom>
            <a:avLst/>
            <a:gdLst>
              <a:gd name="textAreaLeft" fmla="*/ 0 w 2104200"/>
              <a:gd name="textAreaRight" fmla="*/ 2104560 w 2104200"/>
              <a:gd name="textAreaTop" fmla="*/ 0 h 828360"/>
              <a:gd name="textAreaBottom" fmla="*/ 828720 h 828360"/>
            </a:gdLst>
            <a:ahLst/>
            <a:rect l="textAreaLeft" t="textAreaTop" r="textAreaRight" b="textAreaBottom"/>
            <a:pathLst>
              <a:path w="2385059" h="939164">
                <a:moveTo>
                  <a:pt x="897635" y="0"/>
                </a:moveTo>
                <a:lnTo>
                  <a:pt x="289432" y="166243"/>
                </a:lnTo>
                <a:lnTo>
                  <a:pt x="847343" y="251460"/>
                </a:lnTo>
                <a:lnTo>
                  <a:pt x="187324" y="443611"/>
                </a:lnTo>
                <a:lnTo>
                  <a:pt x="621664" y="557911"/>
                </a:lnTo>
                <a:lnTo>
                  <a:pt x="0" y="800100"/>
                </a:lnTo>
                <a:lnTo>
                  <a:pt x="476884" y="938911"/>
                </a:lnTo>
                <a:lnTo>
                  <a:pt x="621664" y="877824"/>
                </a:lnTo>
                <a:lnTo>
                  <a:pt x="204088" y="780288"/>
                </a:lnTo>
                <a:lnTo>
                  <a:pt x="844295" y="525907"/>
                </a:lnTo>
                <a:lnTo>
                  <a:pt x="467867" y="429768"/>
                </a:lnTo>
                <a:lnTo>
                  <a:pt x="964564" y="277368"/>
                </a:lnTo>
                <a:lnTo>
                  <a:pt x="1373727" y="277368"/>
                </a:lnTo>
                <a:lnTo>
                  <a:pt x="507364" y="149479"/>
                </a:lnTo>
                <a:lnTo>
                  <a:pt x="893063" y="44196"/>
                </a:lnTo>
                <a:lnTo>
                  <a:pt x="1258292" y="44196"/>
                </a:lnTo>
                <a:lnTo>
                  <a:pt x="897635" y="0"/>
                </a:lnTo>
                <a:close/>
              </a:path>
              <a:path w="2385059" h="939164">
                <a:moveTo>
                  <a:pt x="1373727" y="277368"/>
                </a:moveTo>
                <a:lnTo>
                  <a:pt x="964564" y="277368"/>
                </a:lnTo>
                <a:lnTo>
                  <a:pt x="1808861" y="417703"/>
                </a:lnTo>
                <a:lnTo>
                  <a:pt x="1921764" y="358267"/>
                </a:lnTo>
                <a:lnTo>
                  <a:pt x="1373727" y="277368"/>
                </a:lnTo>
                <a:close/>
              </a:path>
              <a:path w="2385059" h="939164">
                <a:moveTo>
                  <a:pt x="1258292" y="44196"/>
                </a:moveTo>
                <a:lnTo>
                  <a:pt x="893063" y="44196"/>
                </a:lnTo>
                <a:lnTo>
                  <a:pt x="2100072" y="208788"/>
                </a:lnTo>
                <a:lnTo>
                  <a:pt x="2265911" y="144907"/>
                </a:lnTo>
                <a:lnTo>
                  <a:pt x="2080133" y="144907"/>
                </a:lnTo>
                <a:lnTo>
                  <a:pt x="1258292" y="44196"/>
                </a:lnTo>
                <a:close/>
              </a:path>
              <a:path w="2385059" h="939164">
                <a:moveTo>
                  <a:pt x="2237231" y="90043"/>
                </a:moveTo>
                <a:lnTo>
                  <a:pt x="2080133" y="144907"/>
                </a:lnTo>
                <a:lnTo>
                  <a:pt x="2265911" y="144907"/>
                </a:lnTo>
                <a:lnTo>
                  <a:pt x="2384933" y="99060"/>
                </a:lnTo>
                <a:lnTo>
                  <a:pt x="2237231" y="900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object 50"/>
          <p:cNvSpPr/>
          <p:nvPr/>
        </p:nvSpPr>
        <p:spPr>
          <a:xfrm>
            <a:off x="6256080" y="2774160"/>
            <a:ext cx="2104200" cy="828360"/>
          </a:xfrm>
          <a:custGeom>
            <a:avLst/>
            <a:gdLst>
              <a:gd name="textAreaLeft" fmla="*/ 0 w 2104200"/>
              <a:gd name="textAreaRight" fmla="*/ 2104560 w 2104200"/>
              <a:gd name="textAreaTop" fmla="*/ 0 h 828360"/>
              <a:gd name="textAreaBottom" fmla="*/ 828720 h 828360"/>
            </a:gdLst>
            <a:ahLst/>
            <a:rect l="textAreaLeft" t="textAreaTop" r="textAreaRight" b="textAreaBottom"/>
            <a:pathLst>
              <a:path w="2385059" h="939164">
                <a:moveTo>
                  <a:pt x="621664" y="877824"/>
                </a:moveTo>
                <a:lnTo>
                  <a:pt x="477011" y="938784"/>
                </a:lnTo>
                <a:lnTo>
                  <a:pt x="0" y="800100"/>
                </a:lnTo>
                <a:lnTo>
                  <a:pt x="621664" y="557911"/>
                </a:lnTo>
                <a:lnTo>
                  <a:pt x="187451" y="443611"/>
                </a:lnTo>
                <a:lnTo>
                  <a:pt x="847216" y="251460"/>
                </a:lnTo>
                <a:lnTo>
                  <a:pt x="289432" y="166243"/>
                </a:lnTo>
                <a:lnTo>
                  <a:pt x="897508" y="0"/>
                </a:lnTo>
                <a:lnTo>
                  <a:pt x="2080005" y="144907"/>
                </a:lnTo>
                <a:lnTo>
                  <a:pt x="2237104" y="90043"/>
                </a:lnTo>
                <a:lnTo>
                  <a:pt x="2384806" y="99060"/>
                </a:lnTo>
                <a:lnTo>
                  <a:pt x="2099945" y="208915"/>
                </a:lnTo>
                <a:lnTo>
                  <a:pt x="892936" y="44196"/>
                </a:lnTo>
                <a:lnTo>
                  <a:pt x="507364" y="149479"/>
                </a:lnTo>
                <a:lnTo>
                  <a:pt x="1921637" y="358267"/>
                </a:lnTo>
                <a:lnTo>
                  <a:pt x="1808861" y="417703"/>
                </a:lnTo>
                <a:lnTo>
                  <a:pt x="964564" y="277368"/>
                </a:lnTo>
                <a:lnTo>
                  <a:pt x="467867" y="429768"/>
                </a:lnTo>
                <a:lnTo>
                  <a:pt x="844168" y="525907"/>
                </a:lnTo>
                <a:lnTo>
                  <a:pt x="204215" y="780415"/>
                </a:lnTo>
                <a:lnTo>
                  <a:pt x="621664" y="877824"/>
                </a:lnTo>
                <a:close/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object 51"/>
          <p:cNvSpPr/>
          <p:nvPr/>
        </p:nvSpPr>
        <p:spPr>
          <a:xfrm>
            <a:off x="6622920" y="2985120"/>
            <a:ext cx="1918800" cy="802440"/>
          </a:xfrm>
          <a:custGeom>
            <a:avLst/>
            <a:gdLst>
              <a:gd name="textAreaLeft" fmla="*/ 0 w 1918800"/>
              <a:gd name="textAreaRight" fmla="*/ 1919160 w 1918800"/>
              <a:gd name="textAreaTop" fmla="*/ 0 h 802440"/>
              <a:gd name="textAreaBottom" fmla="*/ 802800 h 802440"/>
            </a:gdLst>
            <a:ahLst/>
            <a:rect l="textAreaLeft" t="textAreaTop" r="textAreaRight" b="textAreaBottom"/>
            <a:pathLst>
              <a:path w="2174875" h="909954">
                <a:moveTo>
                  <a:pt x="1050036" y="268224"/>
                </a:moveTo>
                <a:lnTo>
                  <a:pt x="640207" y="449707"/>
                </a:lnTo>
                <a:lnTo>
                  <a:pt x="859536" y="490728"/>
                </a:lnTo>
                <a:lnTo>
                  <a:pt x="0" y="859536"/>
                </a:lnTo>
                <a:lnTo>
                  <a:pt x="129539" y="909828"/>
                </a:lnTo>
                <a:lnTo>
                  <a:pt x="388747" y="798703"/>
                </a:lnTo>
                <a:lnTo>
                  <a:pt x="691348" y="798703"/>
                </a:lnTo>
                <a:lnTo>
                  <a:pt x="714883" y="789432"/>
                </a:lnTo>
                <a:lnTo>
                  <a:pt x="481711" y="739267"/>
                </a:lnTo>
                <a:lnTo>
                  <a:pt x="958596" y="541020"/>
                </a:lnTo>
                <a:lnTo>
                  <a:pt x="1327186" y="541020"/>
                </a:lnTo>
                <a:lnTo>
                  <a:pt x="874903" y="419100"/>
                </a:lnTo>
                <a:lnTo>
                  <a:pt x="1164336" y="289560"/>
                </a:lnTo>
                <a:lnTo>
                  <a:pt x="1050036" y="268224"/>
                </a:lnTo>
                <a:close/>
              </a:path>
              <a:path w="2174875" h="909954">
                <a:moveTo>
                  <a:pt x="691348" y="798703"/>
                </a:moveTo>
                <a:lnTo>
                  <a:pt x="388747" y="798703"/>
                </a:lnTo>
                <a:lnTo>
                  <a:pt x="564007" y="848868"/>
                </a:lnTo>
                <a:lnTo>
                  <a:pt x="691348" y="798703"/>
                </a:lnTo>
                <a:close/>
              </a:path>
              <a:path w="2174875" h="909954">
                <a:moveTo>
                  <a:pt x="1327186" y="541020"/>
                </a:moveTo>
                <a:lnTo>
                  <a:pt x="958596" y="541020"/>
                </a:lnTo>
                <a:lnTo>
                  <a:pt x="1415796" y="669036"/>
                </a:lnTo>
                <a:lnTo>
                  <a:pt x="1611125" y="560832"/>
                </a:lnTo>
                <a:lnTo>
                  <a:pt x="1400683" y="560832"/>
                </a:lnTo>
                <a:lnTo>
                  <a:pt x="1327186" y="541020"/>
                </a:lnTo>
                <a:close/>
              </a:path>
              <a:path w="2174875" h="909954">
                <a:moveTo>
                  <a:pt x="2007108" y="0"/>
                </a:moveTo>
                <a:lnTo>
                  <a:pt x="1612519" y="198120"/>
                </a:lnTo>
                <a:lnTo>
                  <a:pt x="1973707" y="260731"/>
                </a:lnTo>
                <a:lnTo>
                  <a:pt x="1400683" y="560832"/>
                </a:lnTo>
                <a:lnTo>
                  <a:pt x="1611125" y="560832"/>
                </a:lnTo>
                <a:lnTo>
                  <a:pt x="2174875" y="248539"/>
                </a:lnTo>
                <a:lnTo>
                  <a:pt x="1786127" y="184531"/>
                </a:lnTo>
                <a:lnTo>
                  <a:pt x="2113915" y="10668"/>
                </a:lnTo>
                <a:lnTo>
                  <a:pt x="2007108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object 52"/>
          <p:cNvSpPr/>
          <p:nvPr/>
        </p:nvSpPr>
        <p:spPr>
          <a:xfrm>
            <a:off x="6622920" y="2985480"/>
            <a:ext cx="1918800" cy="802440"/>
          </a:xfrm>
          <a:custGeom>
            <a:avLst/>
            <a:gdLst>
              <a:gd name="textAreaLeft" fmla="*/ 0 w 1918800"/>
              <a:gd name="textAreaRight" fmla="*/ 1919160 w 1918800"/>
              <a:gd name="textAreaTop" fmla="*/ 0 h 802440"/>
              <a:gd name="textAreaBottom" fmla="*/ 802800 h 802440"/>
            </a:gdLst>
            <a:ahLst/>
            <a:rect l="textAreaLeft" t="textAreaTop" r="textAreaRight" b="textAreaBottom"/>
            <a:pathLst>
              <a:path w="2174875" h="909954">
                <a:moveTo>
                  <a:pt x="0" y="859409"/>
                </a:moveTo>
                <a:lnTo>
                  <a:pt x="859409" y="490728"/>
                </a:lnTo>
                <a:lnTo>
                  <a:pt x="640080" y="449580"/>
                </a:lnTo>
                <a:lnTo>
                  <a:pt x="1049909" y="268224"/>
                </a:lnTo>
                <a:lnTo>
                  <a:pt x="1164209" y="289560"/>
                </a:lnTo>
                <a:lnTo>
                  <a:pt x="874776" y="419100"/>
                </a:lnTo>
                <a:lnTo>
                  <a:pt x="1400556" y="560832"/>
                </a:lnTo>
                <a:lnTo>
                  <a:pt x="1973580" y="260604"/>
                </a:lnTo>
                <a:lnTo>
                  <a:pt x="1612392" y="198120"/>
                </a:lnTo>
                <a:lnTo>
                  <a:pt x="2006981" y="0"/>
                </a:lnTo>
                <a:lnTo>
                  <a:pt x="2113788" y="10668"/>
                </a:lnTo>
                <a:lnTo>
                  <a:pt x="1786127" y="184404"/>
                </a:lnTo>
                <a:lnTo>
                  <a:pt x="2174748" y="248412"/>
                </a:lnTo>
                <a:lnTo>
                  <a:pt x="1415796" y="668909"/>
                </a:lnTo>
                <a:lnTo>
                  <a:pt x="958596" y="541020"/>
                </a:lnTo>
                <a:lnTo>
                  <a:pt x="481584" y="739140"/>
                </a:lnTo>
                <a:lnTo>
                  <a:pt x="714756" y="789432"/>
                </a:lnTo>
                <a:lnTo>
                  <a:pt x="563880" y="848868"/>
                </a:lnTo>
                <a:lnTo>
                  <a:pt x="388620" y="798576"/>
                </a:lnTo>
                <a:lnTo>
                  <a:pt x="129413" y="909701"/>
                </a:lnTo>
                <a:lnTo>
                  <a:pt x="0" y="859409"/>
                </a:lnTo>
                <a:close/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object 53"/>
          <p:cNvSpPr/>
          <p:nvPr/>
        </p:nvSpPr>
        <p:spPr>
          <a:xfrm>
            <a:off x="8047080" y="3152160"/>
            <a:ext cx="1440" cy="221400"/>
          </a:xfrm>
          <a:custGeom>
            <a:avLst/>
            <a:gdLst>
              <a:gd name="textAreaLeft" fmla="*/ 0 w 1440"/>
              <a:gd name="textAreaRight" fmla="*/ 1800 w 1440"/>
              <a:gd name="textAreaTop" fmla="*/ 0 h 221400"/>
              <a:gd name="textAreaBottom" fmla="*/ 221760 h 221400"/>
            </a:gdLst>
            <a:ahLst/>
            <a:rect l="textAreaLeft" t="textAreaTop" r="textAreaRight" b="textAreaBottom"/>
            <a:pathLst>
              <a:path w="1904" h="251460">
                <a:moveTo>
                  <a:pt x="0" y="0"/>
                </a:moveTo>
                <a:lnTo>
                  <a:pt x="1397" y="251333"/>
                </a:lnTo>
              </a:path>
            </a:pathLst>
          </a:custGeom>
          <a:noFill/>
          <a:ln w="1054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object 54"/>
          <p:cNvSpPr/>
          <p:nvPr/>
        </p:nvSpPr>
        <p:spPr>
          <a:xfrm>
            <a:off x="8211240" y="3697920"/>
            <a:ext cx="233640" cy="337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8" name="object 55"/>
          <p:cNvSpPr/>
          <p:nvPr/>
        </p:nvSpPr>
        <p:spPr>
          <a:xfrm>
            <a:off x="8211240" y="3697920"/>
            <a:ext cx="142200" cy="14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object 56"/>
          <p:cNvSpPr/>
          <p:nvPr/>
        </p:nvSpPr>
        <p:spPr>
          <a:xfrm>
            <a:off x="8238240" y="3711240"/>
            <a:ext cx="93600" cy="12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object 57"/>
          <p:cNvSpPr/>
          <p:nvPr/>
        </p:nvSpPr>
        <p:spPr>
          <a:xfrm>
            <a:off x="8481600" y="3979080"/>
            <a:ext cx="462240" cy="292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object 58"/>
          <p:cNvSpPr/>
          <p:nvPr/>
        </p:nvSpPr>
        <p:spPr>
          <a:xfrm>
            <a:off x="8477640" y="3980160"/>
            <a:ext cx="88560" cy="57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object 59"/>
          <p:cNvSpPr/>
          <p:nvPr/>
        </p:nvSpPr>
        <p:spPr>
          <a:xfrm>
            <a:off x="8147880" y="3588480"/>
            <a:ext cx="446040" cy="7167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object 60"/>
          <p:cNvSpPr/>
          <p:nvPr/>
        </p:nvSpPr>
        <p:spPr>
          <a:xfrm>
            <a:off x="8094240" y="3891600"/>
            <a:ext cx="296640" cy="3924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4" name="object 61"/>
          <p:cNvSpPr/>
          <p:nvPr/>
        </p:nvSpPr>
        <p:spPr>
          <a:xfrm>
            <a:off x="8105040" y="3901320"/>
            <a:ext cx="275400" cy="3582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object 62"/>
          <p:cNvSpPr/>
          <p:nvPr/>
        </p:nvSpPr>
        <p:spPr>
          <a:xfrm>
            <a:off x="8114400" y="3904920"/>
            <a:ext cx="63000" cy="85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object 63"/>
          <p:cNvSpPr/>
          <p:nvPr/>
        </p:nvSpPr>
        <p:spPr>
          <a:xfrm>
            <a:off x="8199000" y="3934800"/>
            <a:ext cx="180000" cy="295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object 64"/>
          <p:cNvSpPr/>
          <p:nvPr/>
        </p:nvSpPr>
        <p:spPr>
          <a:xfrm>
            <a:off x="7887240" y="3297600"/>
            <a:ext cx="544320" cy="9028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object 65"/>
          <p:cNvSpPr/>
          <p:nvPr/>
        </p:nvSpPr>
        <p:spPr>
          <a:xfrm>
            <a:off x="8032320" y="3081960"/>
            <a:ext cx="91080" cy="27144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object 66"/>
          <p:cNvSpPr/>
          <p:nvPr/>
        </p:nvSpPr>
        <p:spPr>
          <a:xfrm>
            <a:off x="7786440" y="3137040"/>
            <a:ext cx="330480" cy="26604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object 67"/>
          <p:cNvSpPr/>
          <p:nvPr/>
        </p:nvSpPr>
        <p:spPr>
          <a:xfrm>
            <a:off x="7790400" y="3137040"/>
            <a:ext cx="303480" cy="24048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object 68"/>
          <p:cNvSpPr/>
          <p:nvPr/>
        </p:nvSpPr>
        <p:spPr>
          <a:xfrm>
            <a:off x="7894800" y="3187800"/>
            <a:ext cx="33480" cy="486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object 69"/>
          <p:cNvSpPr/>
          <p:nvPr/>
        </p:nvSpPr>
        <p:spPr>
          <a:xfrm>
            <a:off x="7994880" y="3089160"/>
            <a:ext cx="73440" cy="2304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object 70"/>
          <p:cNvSpPr/>
          <p:nvPr/>
        </p:nvSpPr>
        <p:spPr>
          <a:xfrm>
            <a:off x="7892640" y="3314160"/>
            <a:ext cx="532080" cy="8715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object 71"/>
          <p:cNvSpPr/>
          <p:nvPr/>
        </p:nvSpPr>
        <p:spPr>
          <a:xfrm>
            <a:off x="8365680" y="3260160"/>
            <a:ext cx="411120" cy="49932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object 72"/>
          <p:cNvSpPr/>
          <p:nvPr/>
        </p:nvSpPr>
        <p:spPr>
          <a:xfrm>
            <a:off x="8337600" y="3563640"/>
            <a:ext cx="83160" cy="11808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366800" y="879480"/>
            <a:ext cx="329328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Relevan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object 3"/>
          <p:cNvSpPr/>
          <p:nvPr/>
        </p:nvSpPr>
        <p:spPr>
          <a:xfrm>
            <a:off x="1266840" y="2515680"/>
            <a:ext cx="989676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t">
            <a:spAutoFit/>
          </a:bodyPr>
          <a:p>
            <a:pPr marL="414720" indent="-403560">
              <a:lnSpc>
                <a:spcPct val="100000"/>
              </a:lnSpc>
              <a:spcBef>
                <a:spcPts val="354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upports the</a:t>
            </a:r>
            <a:r>
              <a:rPr b="0" lang="en-US" sz="247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80000"/>
              </a:lnSpc>
              <a:spcBef>
                <a:spcPts val="859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oncise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ertain specifically  related to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oject under</a:t>
            </a:r>
            <a:r>
              <a:rPr b="0" lang="en-US" sz="247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80000"/>
              </a:lnSpc>
              <a:spcBef>
                <a:spcPts val="856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need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xtraneous information unrelated  to the project, such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 algn="just">
              <a:lnSpc>
                <a:spcPts val="1862"/>
              </a:lnSpc>
              <a:spcBef>
                <a:spcPts val="737"/>
              </a:spcBef>
              <a:buClr>
                <a:srgbClr val="000000"/>
              </a:buClr>
              <a:buFont typeface="Symbol" charset="2"/>
              <a:buChar char=""/>
              <a:tabLst>
                <a:tab algn="l" pos="66744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ate government records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ermitted sites located 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utside of 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STM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recommended search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istance  from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Symbol" charset="2"/>
              <a:buChar char=""/>
              <a:tabLst>
                <a:tab algn="l" pos="666720"/>
                <a:tab algn="l" pos="66744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 entire Clean Air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Ac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ate Implementation</a:t>
            </a:r>
            <a:r>
              <a:rPr b="0" lang="en-US" sz="1940" spc="-13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Symbol" charset="2"/>
              <a:buChar char=""/>
              <a:tabLst>
                <a:tab algn="l" pos="666720"/>
                <a:tab algn="l" pos="66744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rinking water quality repor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 entire</a:t>
            </a:r>
            <a:r>
              <a:rPr b="0" lang="en-US" sz="1940" spc="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80000"/>
              </a:lnSpc>
              <a:spcBef>
                <a:spcPts val="731"/>
              </a:spcBef>
              <a:buClr>
                <a:srgbClr val="000000"/>
              </a:buClr>
              <a:buFont typeface="Symbol" charset="2"/>
              <a:buChar char=""/>
              <a:tabLst>
                <a:tab algn="l" pos="666720"/>
                <a:tab algn="l" pos="66744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ir quality reports assessing overall air quality when  peak emissions from a specific source near a project is  being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valuated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62760" y="982080"/>
            <a:ext cx="10846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National Environmental Policy Act of 1969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National charter for environmental protection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Established Council on Environmental Quality (CEQ)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Requires all Federal agencies to adopt a systematic interdisciplinary approach to decision-making to ensure environmental values are considered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Requires Federal agencies to develop procedures for implementing NEPA, designed for their specific programs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24 CFR Part 58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6"/>
          <p:cNvGrpSpPr/>
          <p:nvPr/>
        </p:nvGrpSpPr>
        <p:grpSpPr>
          <a:xfrm>
            <a:off x="-16920" y="0"/>
            <a:ext cx="12230640" cy="6855840"/>
            <a:chOff x="-16920" y="0"/>
            <a:chExt cx="12230640" cy="6855840"/>
          </a:xfrm>
        </p:grpSpPr>
        <p:pic>
          <p:nvPicPr>
            <p:cNvPr id="389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2328480" y="1540800"/>
              <a:ext cx="7543440" cy="383508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9" descr=""/>
            <p:cNvPicPr/>
            <p:nvPr/>
          </p:nvPicPr>
          <p:blipFill>
            <a:blip r:embed="rId3"/>
            <a:stretch/>
          </p:blipFill>
          <p:spPr>
            <a:xfrm>
              <a:off x="-1692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0" descr=""/>
            <p:cNvPicPr/>
            <p:nvPr/>
          </p:nvPicPr>
          <p:blipFill>
            <a:blip r:embed="rId4"/>
            <a:stretch/>
          </p:blipFill>
          <p:spPr>
            <a:xfrm>
              <a:off x="973620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93" name="Straight Connector 12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 useBgFill="1">
        <p:nvSpPr>
          <p:cNvPr id="394" name="Rectangle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2192040" y="1400040"/>
            <a:ext cx="7807680" cy="4103640"/>
          </a:xfrm>
          <a:prstGeom prst="rect">
            <a:avLst/>
          </a:prstGeom>
          <a:solidFill>
            <a:schemeClr val="tx2">
              <a:lumMod val="90000"/>
              <a:lumOff val="10000"/>
            </a:schemeClr>
          </a:solidFill>
          <a:ln>
            <a:noFill/>
          </a:ln>
          <a:effectLst>
            <a:outerShdw algn="t" blurRad="114480" dir="5400000" dist="127080" rotWithShape="0" sx="99000" sy="99000">
              <a:srgbClr val="000000">
                <a:alpha val="40000"/>
              </a:srgbClr>
            </a:outerShdw>
          </a:effectLst>
          <a:scene3d>
            <a:camera prst="orthographicFront"/>
            <a:lightRig dir="t" rig="twoPt"/>
          </a:scene3d>
          <a:sp3d contourW="6350">
            <a:bevelT prst="coolSlant" w="12700" h="0"/>
            <a:contourClr>
              <a:schemeClr val="tx2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396" name="Rectangle 18"/>
          <p:cNvSpPr/>
          <p:nvPr/>
        </p:nvSpPr>
        <p:spPr>
          <a:xfrm>
            <a:off x="2328480" y="1540800"/>
            <a:ext cx="7543440" cy="3835080"/>
          </a:xfrm>
          <a:prstGeom prst="rect">
            <a:avLst/>
          </a:prstGeom>
          <a:noFill/>
          <a:ln w="15875">
            <a:solidFill>
              <a:srgbClr val="83992a"/>
            </a:solidFill>
            <a:miter/>
          </a:ln>
          <a:effectLst>
            <a:innerShdw blurRad="25400" dir="13500000" dist="12700">
              <a:srgbClr val="000000">
                <a:alpha val="45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0"/>
          <p:cNvGrpSpPr/>
          <p:nvPr/>
        </p:nvGrpSpPr>
        <p:grpSpPr>
          <a:xfrm>
            <a:off x="0" y="3123720"/>
            <a:ext cx="12230640" cy="659160"/>
            <a:chOff x="0" y="3123720"/>
            <a:chExt cx="12230640" cy="659160"/>
          </a:xfrm>
        </p:grpSpPr>
        <p:sp>
          <p:nvSpPr>
            <p:cNvPr id="398" name="Rounded Rectangle 17"/>
            <p:cNvSpPr/>
            <p:nvPr/>
          </p:nvSpPr>
          <p:spPr>
            <a:xfrm>
              <a:off x="2448000" y="312372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399" name="Picture 22" descr=""/>
            <p:cNvPicPr/>
            <p:nvPr/>
          </p:nvPicPr>
          <p:blipFill>
            <a:blip r:embed="rId5"/>
            <a:stretch/>
          </p:blipFill>
          <p:spPr>
            <a:xfrm>
              <a:off x="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Rounded Rectangle 20"/>
            <p:cNvSpPr/>
            <p:nvPr/>
          </p:nvSpPr>
          <p:spPr>
            <a:xfrm>
              <a:off x="9734760" y="312480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401" name="Picture 24" descr=""/>
            <p:cNvPicPr/>
            <p:nvPr/>
          </p:nvPicPr>
          <p:blipFill>
            <a:blip r:embed="rId6"/>
            <a:stretch/>
          </p:blipFill>
          <p:spPr>
            <a:xfrm>
              <a:off x="975312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659680" y="3103920"/>
            <a:ext cx="68151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marL="9000" indent="0" algn="ctr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Part 58</a:t>
            </a:r>
            <a:br>
              <a:rPr sz="3400"/>
            </a:br>
            <a:br>
              <a:rPr sz="3400"/>
            </a:br>
            <a:r>
              <a:rPr b="0" lang="en-US" sz="3400" spc="-9" strike="noStrike">
                <a:solidFill>
                  <a:srgbClr val="ffffff"/>
                </a:solidFill>
                <a:latin typeface="Garamond"/>
              </a:rPr>
              <a:t>Procedures 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lang="en-US" sz="3400" spc="-4" strike="noStrike">
                <a:solidFill>
                  <a:srgbClr val="ffffff"/>
                </a:solidFill>
                <a:latin typeface="Garamond"/>
              </a:rPr>
              <a:t>Entities</a:t>
            </a:r>
            <a:r>
              <a:rPr b="0" lang="en-US" sz="3400" spc="-270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400" spc="-4" strike="noStrike">
                <a:solidFill>
                  <a:srgbClr val="ffffff"/>
                </a:solidFill>
                <a:latin typeface="Garamond"/>
              </a:rPr>
              <a:t>Assuming  </a:t>
            </a:r>
            <a:r>
              <a:rPr b="0" lang="en-US" sz="3400" spc="-24" strike="noStrike">
                <a:solidFill>
                  <a:srgbClr val="ffffff"/>
                </a:solidFill>
                <a:latin typeface="Garamond"/>
              </a:rPr>
              <a:t>HUD’s </a:t>
            </a:r>
            <a:r>
              <a:rPr b="0" lang="en-US" sz="3400" spc="-4" strike="noStrike">
                <a:solidFill>
                  <a:srgbClr val="ffffff"/>
                </a:solidFill>
                <a:latin typeface="Garamond"/>
              </a:rPr>
              <a:t>Environmental 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Review  Responsibilities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403" name="Straight Connector 26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040" y="933840"/>
            <a:ext cx="932040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138960" bIns="0" anchor="ctr">
            <a:noAutofit/>
          </a:bodyPr>
          <a:p>
            <a:pPr marL="1793520" indent="0" algn="ctr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</a:tabLst>
            </a:pPr>
            <a:r>
              <a:rPr b="1" lang="en-US" sz="3170" spc="-63" strike="noStrike">
                <a:solidFill>
                  <a:srgbClr val="262626"/>
                </a:solidFill>
                <a:latin typeface="Garamond"/>
              </a:rPr>
              <a:t>NEPA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Implementation is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Important</a:t>
            </a:r>
            <a:r>
              <a:rPr b="1" lang="en-US" sz="3170" spc="-13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for </a:t>
            </a:r>
            <a:br>
              <a:rPr sz="3170"/>
            </a:b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Meeting </a:t>
            </a:r>
            <a:r>
              <a:rPr b="1" lang="en-US" sz="3170" spc="-26" strike="noStrike">
                <a:solidFill>
                  <a:srgbClr val="262626"/>
                </a:solidFill>
                <a:latin typeface="Garamond"/>
              </a:rPr>
              <a:t>HUD’s</a:t>
            </a:r>
            <a:r>
              <a:rPr b="1" lang="en-US" sz="3170" spc="-9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Mission</a:t>
            </a:r>
            <a:endParaRPr b="0" lang="en-US" sz="31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object 3"/>
          <p:cNvSpPr/>
          <p:nvPr/>
        </p:nvSpPr>
        <p:spPr>
          <a:xfrm>
            <a:off x="2801520" y="2644920"/>
            <a:ext cx="758016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480" bIns="0" anchor="t">
            <a:spAutoFit/>
          </a:bodyPr>
          <a:p>
            <a:pPr marL="313920" indent="-302400">
              <a:lnSpc>
                <a:spcPts val="2577"/>
              </a:lnSpc>
              <a:spcBef>
                <a:spcPts val="405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  <a:tab algn="l" pos="2692800"/>
              </a:tabLst>
            </a:pPr>
            <a:r>
              <a:rPr b="0" lang="en-US" sz="2380" spc="-63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regulations provide </a:t>
            </a:r>
            <a:r>
              <a:rPr b="0" lang="en-US" sz="2380" spc="-4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380" spc="-32" strike="noStrike">
                <a:solidFill>
                  <a:srgbClr val="000000"/>
                </a:solidFill>
                <a:latin typeface="Times New Roman"/>
              </a:rPr>
              <a:t>HUD’s  </a:t>
            </a:r>
            <a:r>
              <a:rPr b="0" lang="en-US" sz="2380" spc="-4" strike="noStrike">
                <a:solidFill>
                  <a:srgbClr val="000000"/>
                </a:solidFill>
                <a:latin typeface="Times New Roman"/>
              </a:rPr>
              <a:t>implementation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80" spc="-63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380" spc="-13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related  authorities: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 marL="313200" indent="-313200">
              <a:lnSpc>
                <a:spcPct val="99000"/>
              </a:lnSpc>
              <a:spcBef>
                <a:spcPts val="252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380" spc="-4" strike="noStrike">
                <a:solidFill>
                  <a:srgbClr val="000000"/>
                </a:solidFill>
                <a:latin typeface="Times New Roman"/>
              </a:rPr>
              <a:t>CFR Part 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50 – applies to </a:t>
            </a:r>
            <a:r>
              <a:rPr b="0" lang="en-US" sz="2380" spc="-9" strike="noStrike">
                <a:solidFill>
                  <a:srgbClr val="000000"/>
                </a:solidFill>
                <a:latin typeface="Times New Roman"/>
              </a:rPr>
              <a:t>HUD 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itself 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“Protection and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nhancement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nvironmental 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Quality”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718"/>
              </a:lnSpc>
              <a:spcBef>
                <a:spcPts val="278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380" spc="-4" strike="noStrike">
                <a:solidFill>
                  <a:srgbClr val="000000"/>
                </a:solidFill>
                <a:latin typeface="Times New Roman"/>
              </a:rPr>
              <a:t>CFR Part 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58 – applies to States,</a:t>
            </a:r>
            <a:r>
              <a:rPr b="0" lang="en-US" sz="2380" spc="-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Counties,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 marL="313920">
              <a:lnSpc>
                <a:spcPts val="2718"/>
              </a:lnSpc>
              <a:tabLst>
                <a:tab algn="l" pos="313200"/>
                <a:tab algn="l" pos="313920"/>
              </a:tabLst>
            </a:pPr>
            <a:r>
              <a:rPr b="0" lang="en-US" sz="2380" spc="-1" strike="noStrike">
                <a:solidFill>
                  <a:srgbClr val="000000"/>
                </a:solidFill>
                <a:latin typeface="Times New Roman"/>
              </a:rPr>
              <a:t>Cities,</a:t>
            </a:r>
            <a:r>
              <a:rPr b="0" lang="en-US" sz="2380" spc="-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80" spc="-18" strike="noStrike">
                <a:solidFill>
                  <a:srgbClr val="000000"/>
                </a:solidFill>
                <a:latin typeface="Times New Roman"/>
              </a:rPr>
              <a:t>Tribes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 marL="667440" indent="-51120">
              <a:lnSpc>
                <a:spcPts val="2285"/>
              </a:lnSpc>
              <a:spcBef>
                <a:spcPts val="556"/>
              </a:spcBef>
              <a:tabLst>
                <a:tab algn="l" pos="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nvironmental Review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rocedures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Entities 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Assuming HUD Environmental</a:t>
            </a:r>
            <a:r>
              <a:rPr b="0" lang="en-US" sz="2120" spc="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Responsibilities”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74960" y="349560"/>
            <a:ext cx="54212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3530" spc="-1" strike="noStrike" u="sng">
                <a:solidFill>
                  <a:srgbClr val="000000"/>
                </a:solidFill>
                <a:uFillTx/>
                <a:latin typeface="Garamond"/>
              </a:rPr>
              <a:t>24 </a:t>
            </a:r>
            <a:r>
              <a:rPr b="1" lang="en-US" sz="3530" spc="-15" strike="noStrike" u="sng">
                <a:solidFill>
                  <a:srgbClr val="000000"/>
                </a:solidFill>
                <a:uFillTx/>
                <a:latin typeface="Garamond"/>
              </a:rPr>
              <a:t>CFR </a:t>
            </a:r>
            <a:r>
              <a:rPr b="1" lang="en-US" sz="3530" spc="-4" strike="noStrike" u="sng">
                <a:solidFill>
                  <a:srgbClr val="000000"/>
                </a:solidFill>
                <a:uFillTx/>
                <a:latin typeface="Garamond"/>
              </a:rPr>
              <a:t>Part </a:t>
            </a:r>
            <a:r>
              <a:rPr b="1" lang="en-US" sz="3530" spc="-1" strike="noStrike" u="sng">
                <a:solidFill>
                  <a:srgbClr val="000000"/>
                </a:solidFill>
                <a:uFillTx/>
                <a:latin typeface="Garamond"/>
              </a:rPr>
              <a:t>58 </a:t>
            </a:r>
            <a:r>
              <a:rPr b="1" lang="en-US" sz="3530" spc="-4" strike="noStrike" u="sng">
                <a:solidFill>
                  <a:srgbClr val="000000"/>
                </a:solidFill>
                <a:uFillTx/>
                <a:latin typeface="Garamond"/>
              </a:rPr>
              <a:t>Applies</a:t>
            </a:r>
            <a:r>
              <a:rPr b="1" lang="en-US" sz="3530" spc="-265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3530" spc="-117" strike="noStrike" u="sng">
                <a:solidFill>
                  <a:srgbClr val="000000"/>
                </a:solidFill>
                <a:uFillTx/>
                <a:latin typeface="Garamond"/>
              </a:rPr>
              <a:t>To:</a:t>
            </a:r>
            <a:endParaRPr b="0" lang="en-US" sz="3530" spc="-1" strike="noStrike">
              <a:solidFill>
                <a:srgbClr val="000000"/>
              </a:solidFill>
              <a:latin typeface="Garamond"/>
            </a:endParaRPr>
          </a:p>
          <a:p>
            <a:pPr marL="136800" indent="0" algn="ctr">
              <a:lnSpc>
                <a:spcPct val="100000"/>
              </a:lnSpc>
              <a:spcBef>
                <a:spcPts val="62"/>
              </a:spcBef>
              <a:buNone/>
            </a:pPr>
            <a:r>
              <a:rPr b="1" lang="en-US" sz="1770" spc="-1" strike="noStrike" u="sng">
                <a:solidFill>
                  <a:srgbClr val="ffffff"/>
                </a:solidFill>
                <a:uFillTx/>
                <a:latin typeface="Times New Roman"/>
              </a:rPr>
              <a:t>[§</a:t>
            </a:r>
            <a:r>
              <a:rPr b="1" lang="en-US" sz="1770" spc="-18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770" spc="-1" strike="noStrike" u="sng">
                <a:solidFill>
                  <a:srgbClr val="ffffff"/>
                </a:solidFill>
                <a:uFillTx/>
                <a:latin typeface="Times New Roman"/>
              </a:rPr>
              <a:t>58.1(b)]</a:t>
            </a:r>
            <a:endParaRPr b="0" lang="en-US" sz="17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33560" y="1188360"/>
            <a:ext cx="4024440" cy="53344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t">
            <a:noAutofit/>
          </a:bodyPr>
          <a:p>
            <a:pPr marL="264960" indent="-253800">
              <a:lnSpc>
                <a:spcPts val="2443"/>
              </a:lnSpc>
              <a:spcBef>
                <a:spcPts val="88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264960"/>
                <a:tab algn="l" pos="265680"/>
              </a:tabLst>
            </a:pPr>
            <a:r>
              <a:rPr b="1" lang="en-US" sz="2000" spc="-4" strike="noStrike">
                <a:solidFill>
                  <a:srgbClr val="000000"/>
                </a:solidFill>
                <a:latin typeface="Times New Roman"/>
              </a:rPr>
              <a:t>CPD Programs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814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9" strike="noStrike">
                <a:solidFill>
                  <a:srgbClr val="262626"/>
                </a:solidFill>
                <a:latin typeface="Times New Roman"/>
              </a:rPr>
              <a:t>CDBG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61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9" strike="noStrike">
                <a:solidFill>
                  <a:srgbClr val="262626"/>
                </a:solidFill>
                <a:latin typeface="Times New Roman"/>
              </a:rPr>
              <a:t>Homeless programs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of </a:t>
            </a:r>
            <a:r>
              <a:rPr b="0" lang="en-US" sz="1600" spc="-18" strike="noStrike">
                <a:solidFill>
                  <a:srgbClr val="262626"/>
                </a:solidFill>
                <a:latin typeface="Times New Roman"/>
              </a:rPr>
              <a:t>Title</a:t>
            </a:r>
            <a:r>
              <a:rPr b="0" lang="en-US" sz="1600" spc="2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IV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marL="330480" indent="0">
              <a:lnSpc>
                <a:spcPct val="7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1600" spc="-18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8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8" strike="noStrike">
                <a:solidFill>
                  <a:srgbClr val="000000"/>
                </a:solidFill>
                <a:latin typeface="Times New Roman"/>
              </a:rPr>
              <a:t>McKinney-Vento </a:t>
            </a:r>
            <a:r>
              <a:rPr b="0" lang="en-US" sz="1600" spc="-9" strike="noStrike">
                <a:solidFill>
                  <a:srgbClr val="000000"/>
                </a:solidFill>
                <a:latin typeface="Times New Roman"/>
              </a:rPr>
              <a:t>Homeless  </a:t>
            </a:r>
            <a:r>
              <a:rPr b="0" lang="en-US" sz="1600" spc="-9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9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9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Assistance</a:t>
            </a:r>
            <a:r>
              <a:rPr b="0" lang="en-US" sz="1600" spc="-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712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Supportive </a:t>
            </a:r>
            <a:r>
              <a:rPr b="0" lang="en-US" sz="1600" spc="-9" strike="noStrike">
                <a:solidFill>
                  <a:srgbClr val="262626"/>
                </a:solidFill>
                <a:latin typeface="Times New Roman"/>
              </a:rPr>
              <a:t>Housing</a:t>
            </a:r>
            <a:r>
              <a:rPr b="0" lang="en-US" sz="1600" spc="7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program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809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Shelter Plus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Care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809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9" strike="noStrike">
                <a:solidFill>
                  <a:srgbClr val="262626"/>
                </a:solidFill>
                <a:latin typeface="Times New Roman"/>
              </a:rPr>
              <a:t>HOME Investment</a:t>
            </a:r>
            <a:r>
              <a:rPr b="0" lang="en-US" sz="1600" spc="1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Partnership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809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9" strike="noStrike">
                <a:solidFill>
                  <a:srgbClr val="262626"/>
                </a:solidFill>
                <a:latin typeface="Times New Roman"/>
              </a:rPr>
              <a:t>SHOP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61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Lead-based paint</a:t>
            </a:r>
            <a:r>
              <a:rPr b="0" lang="en-US" sz="1600" spc="-1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9" strike="noStrike">
                <a:solidFill>
                  <a:srgbClr val="262626"/>
                </a:solidFill>
                <a:latin typeface="Times New Roman"/>
              </a:rPr>
              <a:t>abatement</a:t>
            </a:r>
            <a:r>
              <a:rPr b="1" lang="en-US" sz="16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9" strike="noStrike">
                <a:solidFill>
                  <a:srgbClr val="262626"/>
                </a:solidFill>
                <a:latin typeface="Garamond"/>
              </a:rPr>
              <a:t>programs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809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EDI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809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41" strike="noStrike">
                <a:solidFill>
                  <a:srgbClr val="262626"/>
                </a:solidFill>
                <a:latin typeface="Times New Roman"/>
              </a:rPr>
              <a:t>HOPWA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783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CoC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marL="264960" indent="-253800">
              <a:lnSpc>
                <a:spcPts val="2313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264960"/>
                <a:tab algn="l" pos="265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family</a:t>
            </a:r>
            <a:r>
              <a:rPr b="1" lang="en-US" sz="200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1" marL="616320" indent="-252720">
              <a:lnSpc>
                <a:spcPts val="1916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15960"/>
                <a:tab algn="l" pos="61632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FHA 542(c) </a:t>
            </a:r>
            <a:r>
              <a:rPr b="0" lang="en-US" sz="1600" spc="-9" strike="noStrike">
                <a:solidFill>
                  <a:srgbClr val="262626"/>
                </a:solidFill>
                <a:latin typeface="Times New Roman"/>
              </a:rPr>
              <a:t>Risk</a:t>
            </a:r>
            <a:r>
              <a:rPr b="0" lang="en-US" sz="1600" spc="-72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Sharing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52360" y="1558080"/>
            <a:ext cx="5288400" cy="4349160"/>
          </a:xfrm>
          <a:prstGeom prst="rect">
            <a:avLst/>
          </a:prstGeom>
          <a:noFill/>
          <a:ln w="0">
            <a:noFill/>
          </a:ln>
        </p:spPr>
        <p:txBody>
          <a:bodyPr lIns="0" rIns="0" tIns="81360" bIns="0" anchor="t">
            <a:noAutofit/>
          </a:bodyPr>
          <a:p>
            <a:pPr marL="316080" indent="-304920">
              <a:lnSpc>
                <a:spcPct val="80000"/>
              </a:lnSpc>
              <a:spcBef>
                <a:spcPts val="64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16080"/>
                <a:tab algn="l" pos="316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1" lang="en-US" sz="230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using Programs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1" marL="667440" indent="-252720">
              <a:lnSpc>
                <a:spcPct val="100000"/>
              </a:lnSpc>
              <a:spcBef>
                <a:spcPts val="26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66720"/>
                <a:tab algn="l" pos="667800"/>
              </a:tabLst>
            </a:pPr>
            <a:r>
              <a:rPr b="0" lang="en-US" sz="1679" spc="-4" strike="noStrike">
                <a:solidFill>
                  <a:srgbClr val="262626"/>
                </a:solidFill>
                <a:latin typeface="Times New Roman"/>
              </a:rPr>
              <a:t>Capital</a:t>
            </a:r>
            <a:r>
              <a:rPr b="0" lang="en-US" sz="1679" spc="-1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Fund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lvl="1" marL="667440" indent="-252720">
              <a:lnSpc>
                <a:spcPct val="100000"/>
              </a:lnSpc>
              <a:spcBef>
                <a:spcPts val="33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66720"/>
                <a:tab algn="l" pos="667800"/>
              </a:tabLst>
            </a:pP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HOPE</a:t>
            </a:r>
            <a:r>
              <a:rPr b="0" lang="en-US" sz="1679" spc="-18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VI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lvl="1" marL="667440" indent="-252720">
              <a:lnSpc>
                <a:spcPts val="1809"/>
              </a:lnSpc>
              <a:spcBef>
                <a:spcPts val="33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66720"/>
                <a:tab algn="l" pos="667800"/>
              </a:tabLst>
            </a:pP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Public Housing</a:t>
            </a:r>
            <a:r>
              <a:rPr b="0" lang="en-US" sz="1679" spc="-80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Agency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marL="667440" indent="-285840">
              <a:lnSpc>
                <a:spcPts val="1809"/>
              </a:lnSpc>
              <a:spcBef>
                <a:spcPts val="33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666720"/>
                <a:tab algn="l" pos="667800"/>
              </a:tabLst>
            </a:pPr>
            <a:r>
              <a:rPr b="0" lang="en-US" sz="1679" spc="-4" strike="noStrike">
                <a:solidFill>
                  <a:srgbClr val="000000"/>
                </a:solidFill>
                <a:latin typeface="Times New Roman"/>
              </a:rPr>
              <a:t>administered Section</a:t>
            </a:r>
            <a:r>
              <a:rPr b="0" lang="en-US" sz="1679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79" spc="-4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lvl="1" marL="667440" indent="-252720">
              <a:lnSpc>
                <a:spcPct val="100000"/>
              </a:lnSpc>
              <a:spcBef>
                <a:spcPts val="33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66720"/>
                <a:tab algn="l" pos="667800"/>
              </a:tabLst>
            </a:pPr>
            <a:r>
              <a:rPr b="0" lang="en-US" sz="1679" spc="-4" strike="noStrike">
                <a:solidFill>
                  <a:srgbClr val="262626"/>
                </a:solidFill>
                <a:latin typeface="Times New Roman"/>
              </a:rPr>
              <a:t>Replacement </a:t>
            </a: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Factor</a:t>
            </a:r>
            <a:r>
              <a:rPr b="0" lang="en-US" sz="1679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Housing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lvl="1" marL="667440" indent="-252720">
              <a:lnSpc>
                <a:spcPts val="1998"/>
              </a:lnSpc>
              <a:spcBef>
                <a:spcPts val="33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66720"/>
                <a:tab algn="l" pos="667800"/>
              </a:tabLst>
            </a:pP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Operating</a:t>
            </a:r>
            <a:r>
              <a:rPr b="0" lang="en-US" sz="1679" spc="-4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Funds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marL="316080" indent="-304920">
              <a:lnSpc>
                <a:spcPts val="2205"/>
              </a:lnSpc>
              <a:spcBef>
                <a:spcPts val="516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16080"/>
                <a:tab algn="l" pos="316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1" lang="en-US" sz="2300" spc="-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using  Programs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  <a:p>
            <a:pPr lvl="1" marL="667440" indent="-252720">
              <a:lnSpc>
                <a:spcPct val="100000"/>
              </a:lnSpc>
              <a:spcBef>
                <a:spcPts val="4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66720"/>
                <a:tab algn="l" pos="667800"/>
              </a:tabLst>
            </a:pPr>
            <a:r>
              <a:rPr b="0" lang="en-US" sz="1679" spc="-4" strike="noStrike">
                <a:solidFill>
                  <a:srgbClr val="262626"/>
                </a:solidFill>
                <a:latin typeface="Times New Roman"/>
              </a:rPr>
              <a:t>ICDBG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lvl="1" marL="667440" indent="-252720">
              <a:lnSpc>
                <a:spcPts val="1998"/>
              </a:lnSpc>
              <a:spcBef>
                <a:spcPts val="33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−"/>
              <a:tabLst>
                <a:tab algn="l" pos="666720"/>
                <a:tab algn="l" pos="667800"/>
              </a:tabLst>
            </a:pPr>
            <a:r>
              <a:rPr b="0" lang="en-US" sz="1679" spc="-9" strike="noStrike">
                <a:solidFill>
                  <a:srgbClr val="262626"/>
                </a:solidFill>
                <a:latin typeface="Times New Roman"/>
              </a:rPr>
              <a:t>NAHASDA</a:t>
            </a:r>
            <a:endParaRPr b="0" lang="en-US" sz="1679" spc="-1" strike="noStrike">
              <a:solidFill>
                <a:srgbClr val="262626"/>
              </a:solidFill>
              <a:latin typeface="Garamond"/>
            </a:endParaRPr>
          </a:p>
          <a:p>
            <a:pPr marL="316080" indent="-304920">
              <a:lnSpc>
                <a:spcPct val="80000"/>
              </a:lnSpc>
              <a:spcBef>
                <a:spcPts val="53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16080"/>
                <a:tab algn="l" pos="316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thers with Part 58  included in  appropriation</a:t>
            </a:r>
            <a:r>
              <a:rPr b="1" lang="en-US" sz="230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23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89080" y="893520"/>
            <a:ext cx="9447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2600" bIns="0" anchor="ctr">
            <a:noAutofit/>
          </a:bodyPr>
          <a:p>
            <a:pPr marL="3271320" indent="0" algn="ctr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</a:tabLst>
            </a:pPr>
            <a:r>
              <a:rPr b="1" lang="en-US" sz="3170" spc="-63" strike="noStrike">
                <a:solidFill>
                  <a:srgbClr val="262626"/>
                </a:solidFill>
                <a:latin typeface="Garamond"/>
              </a:rPr>
              <a:t>NEPA </a:t>
            </a:r>
            <a:r>
              <a:rPr b="1" lang="en-US" sz="3170" spc="-1" strike="noStrike" u="heavy">
                <a:solidFill>
                  <a:srgbClr val="262626"/>
                </a:solidFill>
                <a:uFill>
                  <a:solidFill>
                    <a:srgbClr val="ffffff"/>
                  </a:solidFill>
                </a:uFill>
                <a:latin typeface="Garamond"/>
              </a:rPr>
              <a:t>Assumption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Authority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under</a:t>
            </a:r>
            <a:r>
              <a:rPr b="1" lang="en-US" sz="3170" spc="-56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Part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58  [§58.4]</a:t>
            </a:r>
            <a:endParaRPr b="0" lang="en-US" sz="31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object 3"/>
          <p:cNvSpPr/>
          <p:nvPr/>
        </p:nvSpPr>
        <p:spPr>
          <a:xfrm>
            <a:off x="2801520" y="2404080"/>
            <a:ext cx="634680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640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SzPct val="89000"/>
              <a:buFont typeface="Wingdings" charset="2"/>
              <a:buChar char=""/>
              <a:tabLst>
                <a:tab algn="l" pos="313200"/>
                <a:tab algn="l" pos="313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pproach i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HUD/HUD</a:t>
            </a:r>
            <a:r>
              <a:rPr b="0" lang="en-US" sz="247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SzPct val="89000"/>
              <a:buFont typeface="Wingdings" charset="2"/>
              <a:buChar char=""/>
              <a:tabLst>
                <a:tab algn="l" pos="313200"/>
                <a:tab algn="l" pos="313920"/>
              </a:tabLst>
            </a:pP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=&gt; Federal Agency on behalf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70" spc="-11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HUD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89000"/>
              <a:buFont typeface="Wingdings" charset="2"/>
              <a:buChar char=""/>
              <a:tabLst>
                <a:tab algn="l" pos="313200"/>
                <a:tab algn="l" pos="313920"/>
              </a:tabLst>
            </a:pP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RE assume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sponsibility</a:t>
            </a:r>
            <a:r>
              <a:rPr b="0" lang="en-US" sz="2470" spc="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20160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96000"/>
              <a:buFont typeface="Wingdings" charset="2"/>
              <a:buChar char=""/>
              <a:tabLst>
                <a:tab algn="l" pos="10681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70" spc="-15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20160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SzPct val="96000"/>
              <a:buFont typeface="Wingdings" charset="2"/>
              <a:buChar char=""/>
              <a:tabLst>
                <a:tab algn="l" pos="10681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70" spc="-4" strike="noStrike">
                <a:solidFill>
                  <a:srgbClr val="000000"/>
                </a:solidFill>
                <a:latin typeface="Times New Roman"/>
              </a:rPr>
              <a:t>decision-making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1019880" indent="-20160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96000"/>
              <a:buFont typeface="Wingdings" charset="2"/>
              <a:buChar char=""/>
              <a:tabLst>
                <a:tab algn="l" pos="10681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nvironmental </a:t>
            </a:r>
            <a:r>
              <a:rPr b="1" lang="en-US" sz="2470" spc="-4" strike="noStrike">
                <a:solidFill>
                  <a:srgbClr val="000000"/>
                </a:solidFill>
                <a:latin typeface="Times New Roman"/>
              </a:rPr>
              <a:t>action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at would apply to 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HUD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under </a:t>
            </a:r>
            <a:r>
              <a:rPr b="0" lang="en-US" sz="2470" spc="-63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nd related</a:t>
            </a:r>
            <a:r>
              <a:rPr b="0" lang="en-US" sz="2470" spc="-5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law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482640" y="774720"/>
            <a:ext cx="62816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Legal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apacity to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be</a:t>
            </a:r>
            <a:r>
              <a:rPr b="1" lang="en-US" sz="4400" spc="-26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object 3"/>
          <p:cNvSpPr/>
          <p:nvPr/>
        </p:nvSpPr>
        <p:spPr>
          <a:xfrm>
            <a:off x="2724840" y="2401920"/>
            <a:ext cx="682416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9480" bIns="0" anchor="t">
            <a:spAutoFit/>
          </a:bodyPr>
          <a:p>
            <a:pPr marL="313920" indent="-302400">
              <a:lnSpc>
                <a:spcPct val="80000"/>
              </a:lnSpc>
              <a:spcBef>
                <a:spcPts val="547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General Local Government (UGLGs)--Sec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5302(a)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Housing and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Community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evelopment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Ac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1974]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efines  UGLGs</a:t>
            </a:r>
            <a:r>
              <a:rPr b="0" lang="en-US" sz="194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s: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1221480" indent="-403560">
              <a:lnSpc>
                <a:spcPct val="80000"/>
              </a:lnSpc>
              <a:spcBef>
                <a:spcPts val="468"/>
              </a:spcBef>
              <a:tabLst>
                <a:tab algn="l" pos="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40" spc="-18" strike="noStrike">
                <a:solidFill>
                  <a:srgbClr val="000000"/>
                </a:solidFill>
                <a:latin typeface="Times New Roman"/>
              </a:rPr>
              <a:t>County,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arish, </a:t>
            </a:r>
            <a:r>
              <a:rPr b="0" lang="en-US" sz="1940" spc="-26" strike="noStrike">
                <a:solidFill>
                  <a:srgbClr val="000000"/>
                </a:solidFill>
                <a:latin typeface="Times New Roman"/>
              </a:rPr>
              <a:t>city,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wn, township, villag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other  general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purpos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olitical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subdivision 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4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1221480" indent="-403560">
              <a:lnSpc>
                <a:spcPct val="80000"/>
              </a:lnSpc>
              <a:spcBef>
                <a:spcPts val="468"/>
              </a:spcBef>
              <a:tabLst>
                <a:tab algn="l" pos="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Have power to levy taxes and expend Federal, State, and  local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unds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d exercise governmental</a:t>
            </a:r>
            <a:r>
              <a:rPr b="0" lang="en-US" sz="1940" spc="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owers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0"/>
              </a:tabLst>
            </a:pPr>
            <a:endParaRPr b="0" lang="en-US" sz="242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India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rib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does no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istribute HUD assistanc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  uni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general local</a:t>
            </a:r>
            <a:r>
              <a:rPr b="0" lang="en-US" sz="194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313200"/>
                <a:tab algn="l" pos="313920"/>
              </a:tabLst>
            </a:pPr>
            <a:endParaRPr b="0" lang="en-US" sz="242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313200"/>
                <a:tab algn="l" pos="313920"/>
              </a:tabLst>
            </a:pP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or public housing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gencies,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unit 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general local government  within which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roject is located that exercises land use  responsibility - §58.2(a)(7)(ii)(b)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72960" y="618480"/>
            <a:ext cx="877644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0248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Grantees that </a:t>
            </a:r>
            <a:r>
              <a:rPr b="1" lang="en-US" sz="3600" spc="-1" strike="noStrike" u="heavy">
                <a:solidFill>
                  <a:srgbClr val="262626"/>
                </a:solidFill>
                <a:uFill>
                  <a:solidFill>
                    <a:srgbClr val="ffffff"/>
                  </a:solidFill>
                </a:uFill>
                <a:latin typeface="Garamond"/>
              </a:rPr>
              <a:t>Cannot</a:t>
            </a: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 Function as</a:t>
            </a:r>
            <a:r>
              <a:rPr b="1" lang="en-US" sz="3600" spc="-137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R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31"/>
              </a:spcBef>
              <a:buNone/>
            </a:pPr>
            <a:r>
              <a:rPr b="1" lang="en-US" sz="2000" spc="-4" strike="noStrike">
                <a:solidFill>
                  <a:srgbClr val="262626"/>
                </a:solidFill>
                <a:latin typeface="Garamond"/>
              </a:rPr>
              <a:t>[§58.2(a)(5)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object 4"/>
          <p:cNvSpPr/>
          <p:nvPr/>
        </p:nvSpPr>
        <p:spPr>
          <a:xfrm>
            <a:off x="9360000" y="6069960"/>
            <a:ext cx="1065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151"/>
              </a:lnSpc>
            </a:pPr>
            <a:fld id="{7A9EC1A3-5A38-4BA6-8821-7272CD4B89EA}" type="slidenum">
              <a:rPr b="0" lang="en-US" sz="97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bject 3"/>
          <p:cNvSpPr/>
          <p:nvPr/>
        </p:nvSpPr>
        <p:spPr>
          <a:xfrm>
            <a:off x="2538000" y="2359440"/>
            <a:ext cx="7115760" cy="36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120" bIns="0" anchor="t">
            <a:spAutoFit/>
          </a:bodyPr>
          <a:p>
            <a:pPr marL="316080" indent="-304920">
              <a:lnSpc>
                <a:spcPts val="3053"/>
              </a:lnSpc>
              <a:spcBef>
                <a:spcPts val="473"/>
              </a:spcBef>
              <a:buClr>
                <a:srgbClr val="000000"/>
              </a:buClr>
              <a:buFont typeface="Arial"/>
              <a:buChar char="•"/>
              <a:tabLst>
                <a:tab algn="l" pos="316080"/>
                <a:tab algn="l" pos="316440"/>
              </a:tabLst>
            </a:pP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Organiz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US" sz="2800" spc="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1" strike="noStrike">
                <a:solidFill>
                  <a:srgbClr val="000000"/>
                </a:solidFill>
                <a:latin typeface="Times New Roman"/>
              </a:rPr>
              <a:t>grant agreement</a:t>
            </a:r>
            <a:r>
              <a:rPr b="0" lang="en-US" sz="2800" spc="-18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 HUD,</a:t>
            </a:r>
            <a:r>
              <a:rPr b="0" lang="en-US" sz="28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31608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StarSymbol"/>
              <a:buChar char="—"/>
              <a:tabLst>
                <a:tab algn="l" pos="881280"/>
              </a:tabLst>
            </a:pPr>
            <a:r>
              <a:rPr b="0" lang="en-US" sz="2400" spc="-18" strike="noStrike">
                <a:solidFill>
                  <a:srgbClr val="000000"/>
                </a:solidFill>
                <a:latin typeface="Times New Roman"/>
              </a:rPr>
              <a:t>Tribal </a:t>
            </a: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housing</a:t>
            </a:r>
            <a:r>
              <a:rPr b="0" lang="en-US" sz="2400" spc="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21480">
              <a:lnSpc>
                <a:spcPct val="100000"/>
              </a:lnSpc>
              <a:spcBef>
                <a:spcPts val="317"/>
              </a:spcBef>
              <a:buClr>
                <a:srgbClr val="000000"/>
              </a:buClr>
              <a:buFont typeface="StarSymbol"/>
              <a:buChar char="—"/>
              <a:tabLst>
                <a:tab algn="l" pos="887040"/>
              </a:tabLst>
            </a:pP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Public housing</a:t>
            </a:r>
            <a:r>
              <a:rPr b="0" lang="en-US" sz="2400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21480">
              <a:lnSpc>
                <a:spcPct val="100000"/>
              </a:lnSpc>
              <a:spcBef>
                <a:spcPts val="317"/>
              </a:spcBef>
              <a:buClr>
                <a:srgbClr val="000000"/>
              </a:buClr>
              <a:buFont typeface="StarSymbol"/>
              <a:buChar char="—"/>
              <a:tabLst>
                <a:tab algn="l" pos="887040"/>
              </a:tabLst>
            </a:pP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Counci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21480">
              <a:lnSpc>
                <a:spcPct val="100000"/>
              </a:lnSpc>
              <a:spcBef>
                <a:spcPts val="317"/>
              </a:spcBef>
              <a:buClr>
                <a:srgbClr val="000000"/>
              </a:buClr>
              <a:buFont typeface="StarSymbol"/>
              <a:buChar char="—"/>
              <a:tabLst>
                <a:tab algn="l" pos="887040"/>
              </a:tabLst>
            </a:pP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Planning</a:t>
            </a:r>
            <a:r>
              <a:rPr b="0" lang="en-US" sz="2400" spc="-1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21480">
              <a:lnSpc>
                <a:spcPct val="100000"/>
              </a:lnSpc>
              <a:spcBef>
                <a:spcPts val="317"/>
              </a:spcBef>
              <a:buClr>
                <a:srgbClr val="000000"/>
              </a:buClr>
              <a:buFont typeface="StarSymbol"/>
              <a:buChar char="—"/>
              <a:tabLst>
                <a:tab algn="l" pos="887040"/>
              </a:tabLst>
            </a:pP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Other quasi-governmental</a:t>
            </a:r>
            <a:r>
              <a:rPr b="0" lang="en-US" sz="2400" spc="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9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21480">
              <a:lnSpc>
                <a:spcPct val="100000"/>
              </a:lnSpc>
              <a:spcBef>
                <a:spcPts val="317"/>
              </a:spcBef>
              <a:buClr>
                <a:srgbClr val="000000"/>
              </a:buClr>
              <a:buFont typeface="StarSymbol"/>
              <a:buChar char="—"/>
              <a:tabLst>
                <a:tab algn="l" pos="887040"/>
              </a:tabLst>
            </a:pP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Non-profit</a:t>
            </a:r>
            <a:r>
              <a:rPr b="0" lang="en-US" sz="240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9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320" indent="-321480">
              <a:lnSpc>
                <a:spcPct val="100000"/>
              </a:lnSpc>
              <a:spcBef>
                <a:spcPts val="317"/>
              </a:spcBef>
              <a:buClr>
                <a:srgbClr val="000000"/>
              </a:buClr>
              <a:buFont typeface="StarSymbol"/>
              <a:buChar char="—"/>
              <a:tabLst>
                <a:tab algn="l" pos="887040"/>
              </a:tabLst>
            </a:pPr>
            <a:r>
              <a:rPr b="0" lang="en-US" sz="2400" spc="-9" strike="noStrike">
                <a:solidFill>
                  <a:srgbClr val="000000"/>
                </a:solidFill>
                <a:latin typeface="Times New Roman"/>
              </a:rPr>
              <a:t>For-profit</a:t>
            </a:r>
            <a:r>
              <a:rPr b="0" lang="en-US" sz="240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4" strike="noStrike">
                <a:solidFill>
                  <a:srgbClr val="00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25800" y="393480"/>
            <a:ext cx="8471160" cy="160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3680" bIns="0" anchor="ctr">
            <a:noAutofit/>
          </a:bodyPr>
          <a:p>
            <a:pPr marL="108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3200" spc="-32" strike="noStrike">
                <a:solidFill>
                  <a:srgbClr val="262626"/>
                </a:solidFill>
                <a:latin typeface="Garamond"/>
              </a:rPr>
              <a:t>Typical </a:t>
            </a: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RE </a:t>
            </a:r>
            <a:r>
              <a:rPr b="1" lang="en-US" sz="3200" spc="-1" strike="noStrike">
                <a:solidFill>
                  <a:srgbClr val="262626"/>
                </a:solidFill>
                <a:latin typeface="Garamond"/>
              </a:rPr>
              <a:t>for </a:t>
            </a: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Non-RE</a:t>
            </a:r>
            <a:r>
              <a:rPr b="1" lang="en-US" sz="3200" spc="-63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Grante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1080" indent="0" algn="ctr">
              <a:lnSpc>
                <a:spcPct val="100000"/>
              </a:lnSpc>
              <a:spcBef>
                <a:spcPts val="26"/>
              </a:spcBef>
              <a:buNone/>
            </a:pPr>
            <a:r>
              <a:rPr b="1" lang="en-US" sz="2000" spc="-1" strike="noStrike">
                <a:solidFill>
                  <a:srgbClr val="262626"/>
                </a:solidFill>
                <a:latin typeface="Garamond"/>
              </a:rPr>
              <a:t>[§</a:t>
            </a:r>
            <a:r>
              <a:rPr b="1" lang="en-US" sz="2000" spc="-1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2000" spc="-4" strike="noStrike">
                <a:solidFill>
                  <a:srgbClr val="262626"/>
                </a:solidFill>
                <a:latin typeface="Garamond"/>
              </a:rPr>
              <a:t>58.2(a)(7)(ii)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object 3"/>
          <p:cNvSpPr/>
          <p:nvPr/>
        </p:nvSpPr>
        <p:spPr>
          <a:xfrm>
            <a:off x="7373520" y="2017080"/>
            <a:ext cx="2209320" cy="3495960"/>
          </a:xfrm>
          <a:custGeom>
            <a:avLst/>
            <a:gdLst>
              <a:gd name="textAreaLeft" fmla="*/ 0 w 2209320"/>
              <a:gd name="textAreaRight" fmla="*/ 2209680 w 2209320"/>
              <a:gd name="textAreaTop" fmla="*/ 0 h 3495960"/>
              <a:gd name="textAreaBottom" fmla="*/ 3496320 h 3495960"/>
            </a:gdLst>
            <a:ahLst/>
            <a:rect l="textAreaLeft" t="textAreaTop" r="textAreaRight" b="textAreaBottom"/>
            <a:pathLst>
              <a:path w="2504440" h="3962400">
                <a:moveTo>
                  <a:pt x="0" y="0"/>
                </a:moveTo>
                <a:lnTo>
                  <a:pt x="0" y="3962400"/>
                </a:lnTo>
                <a:lnTo>
                  <a:pt x="2503932" y="3170047"/>
                </a:lnTo>
                <a:lnTo>
                  <a:pt x="2503932" y="792480"/>
                </a:lnTo>
                <a:lnTo>
                  <a:pt x="0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8" name="object 4"/>
          <p:cNvSpPr/>
          <p:nvPr/>
        </p:nvSpPr>
        <p:spPr>
          <a:xfrm>
            <a:off x="7362720" y="2006280"/>
            <a:ext cx="2230560" cy="3519000"/>
          </a:xfrm>
          <a:custGeom>
            <a:avLst/>
            <a:gdLst>
              <a:gd name="textAreaLeft" fmla="*/ 0 w 2230560"/>
              <a:gd name="textAreaRight" fmla="*/ 2230920 w 2230560"/>
              <a:gd name="textAreaTop" fmla="*/ 0 h 3519000"/>
              <a:gd name="textAreaBottom" fmla="*/ 3519360 h 3519000"/>
            </a:gdLst>
            <a:ahLst/>
            <a:rect l="textAreaLeft" t="textAreaTop" r="textAreaRight" b="textAreaBottom"/>
            <a:pathLst>
              <a:path w="2528570" h="3988435">
                <a:moveTo>
                  <a:pt x="12318" y="0"/>
                </a:moveTo>
                <a:lnTo>
                  <a:pt x="9270" y="0"/>
                </a:lnTo>
                <a:lnTo>
                  <a:pt x="6095" y="3175"/>
                </a:lnTo>
                <a:lnTo>
                  <a:pt x="1650" y="4572"/>
                </a:lnTo>
                <a:lnTo>
                  <a:pt x="0" y="9271"/>
                </a:lnTo>
                <a:lnTo>
                  <a:pt x="0" y="3979164"/>
                </a:lnTo>
                <a:lnTo>
                  <a:pt x="1650" y="3983736"/>
                </a:lnTo>
                <a:lnTo>
                  <a:pt x="6095" y="3985260"/>
                </a:lnTo>
                <a:lnTo>
                  <a:pt x="9270" y="3988308"/>
                </a:lnTo>
                <a:lnTo>
                  <a:pt x="12318" y="3988308"/>
                </a:lnTo>
                <a:lnTo>
                  <a:pt x="55681" y="3974592"/>
                </a:lnTo>
                <a:lnTo>
                  <a:pt x="25907" y="3974592"/>
                </a:lnTo>
                <a:lnTo>
                  <a:pt x="9270" y="3964051"/>
                </a:lnTo>
                <a:lnTo>
                  <a:pt x="25907" y="3958785"/>
                </a:lnTo>
                <a:lnTo>
                  <a:pt x="25907" y="29775"/>
                </a:lnTo>
                <a:lnTo>
                  <a:pt x="9270" y="24511"/>
                </a:lnTo>
                <a:lnTo>
                  <a:pt x="25907" y="12192"/>
                </a:lnTo>
                <a:lnTo>
                  <a:pt x="50074" y="12192"/>
                </a:lnTo>
                <a:lnTo>
                  <a:pt x="16763" y="1651"/>
                </a:lnTo>
                <a:lnTo>
                  <a:pt x="12318" y="0"/>
                </a:lnTo>
                <a:close/>
              </a:path>
              <a:path w="2528570" h="3988435">
                <a:moveTo>
                  <a:pt x="25907" y="3958785"/>
                </a:moveTo>
                <a:lnTo>
                  <a:pt x="9270" y="3964051"/>
                </a:lnTo>
                <a:lnTo>
                  <a:pt x="25907" y="3974592"/>
                </a:lnTo>
                <a:lnTo>
                  <a:pt x="25907" y="3958785"/>
                </a:lnTo>
                <a:close/>
              </a:path>
              <a:path w="2528570" h="3988435">
                <a:moveTo>
                  <a:pt x="2503932" y="3174505"/>
                </a:moveTo>
                <a:lnTo>
                  <a:pt x="25907" y="3958785"/>
                </a:lnTo>
                <a:lnTo>
                  <a:pt x="25907" y="3974592"/>
                </a:lnTo>
                <a:lnTo>
                  <a:pt x="55681" y="3974592"/>
                </a:lnTo>
                <a:lnTo>
                  <a:pt x="2520696" y="3194304"/>
                </a:lnTo>
                <a:lnTo>
                  <a:pt x="2525268" y="3192907"/>
                </a:lnTo>
                <a:lnTo>
                  <a:pt x="2528443" y="3188208"/>
                </a:lnTo>
                <a:lnTo>
                  <a:pt x="2528443" y="3182239"/>
                </a:lnTo>
                <a:lnTo>
                  <a:pt x="2503932" y="3182239"/>
                </a:lnTo>
                <a:lnTo>
                  <a:pt x="2503932" y="3174505"/>
                </a:lnTo>
                <a:close/>
              </a:path>
              <a:path w="2528570" h="3988435">
                <a:moveTo>
                  <a:pt x="2513203" y="3171571"/>
                </a:moveTo>
                <a:lnTo>
                  <a:pt x="2503932" y="3174505"/>
                </a:lnTo>
                <a:lnTo>
                  <a:pt x="2503932" y="3182239"/>
                </a:lnTo>
                <a:lnTo>
                  <a:pt x="2513203" y="3171571"/>
                </a:lnTo>
                <a:close/>
              </a:path>
              <a:path w="2528570" h="3988435">
                <a:moveTo>
                  <a:pt x="2528443" y="3171571"/>
                </a:moveTo>
                <a:lnTo>
                  <a:pt x="2513203" y="3171571"/>
                </a:lnTo>
                <a:lnTo>
                  <a:pt x="2503932" y="3182239"/>
                </a:lnTo>
                <a:lnTo>
                  <a:pt x="2528443" y="3182239"/>
                </a:lnTo>
                <a:lnTo>
                  <a:pt x="2528443" y="3171571"/>
                </a:lnTo>
                <a:close/>
              </a:path>
              <a:path w="2528570" h="3988435">
                <a:moveTo>
                  <a:pt x="2503932" y="813930"/>
                </a:moveTo>
                <a:lnTo>
                  <a:pt x="2503932" y="3174505"/>
                </a:lnTo>
                <a:lnTo>
                  <a:pt x="2513203" y="3171571"/>
                </a:lnTo>
                <a:lnTo>
                  <a:pt x="2528443" y="3171571"/>
                </a:lnTo>
                <a:lnTo>
                  <a:pt x="2528443" y="816864"/>
                </a:lnTo>
                <a:lnTo>
                  <a:pt x="2513203" y="816864"/>
                </a:lnTo>
                <a:lnTo>
                  <a:pt x="2503932" y="813930"/>
                </a:lnTo>
                <a:close/>
              </a:path>
              <a:path w="2528570" h="3988435">
                <a:moveTo>
                  <a:pt x="2503932" y="804672"/>
                </a:moveTo>
                <a:lnTo>
                  <a:pt x="2503932" y="813930"/>
                </a:lnTo>
                <a:lnTo>
                  <a:pt x="2513203" y="816864"/>
                </a:lnTo>
                <a:lnTo>
                  <a:pt x="2503932" y="804672"/>
                </a:lnTo>
                <a:close/>
              </a:path>
              <a:path w="2528570" h="3988435">
                <a:moveTo>
                  <a:pt x="2528443" y="804672"/>
                </a:moveTo>
                <a:lnTo>
                  <a:pt x="2503932" y="804672"/>
                </a:lnTo>
                <a:lnTo>
                  <a:pt x="2513203" y="816864"/>
                </a:lnTo>
                <a:lnTo>
                  <a:pt x="2528443" y="816864"/>
                </a:lnTo>
                <a:lnTo>
                  <a:pt x="2528443" y="804672"/>
                </a:lnTo>
                <a:close/>
              </a:path>
              <a:path w="2528570" h="3988435">
                <a:moveTo>
                  <a:pt x="50074" y="12192"/>
                </a:moveTo>
                <a:lnTo>
                  <a:pt x="25907" y="12192"/>
                </a:lnTo>
                <a:lnTo>
                  <a:pt x="25907" y="29775"/>
                </a:lnTo>
                <a:lnTo>
                  <a:pt x="2503932" y="813930"/>
                </a:lnTo>
                <a:lnTo>
                  <a:pt x="2503932" y="804672"/>
                </a:lnTo>
                <a:lnTo>
                  <a:pt x="2528443" y="804672"/>
                </a:lnTo>
                <a:lnTo>
                  <a:pt x="2528443" y="800100"/>
                </a:lnTo>
                <a:lnTo>
                  <a:pt x="2525268" y="795528"/>
                </a:lnTo>
                <a:lnTo>
                  <a:pt x="2520696" y="794004"/>
                </a:lnTo>
                <a:lnTo>
                  <a:pt x="50074" y="12192"/>
                </a:lnTo>
                <a:close/>
              </a:path>
              <a:path w="2528570" h="3988435">
                <a:moveTo>
                  <a:pt x="25907" y="12192"/>
                </a:moveTo>
                <a:lnTo>
                  <a:pt x="9270" y="24511"/>
                </a:lnTo>
                <a:lnTo>
                  <a:pt x="25907" y="29775"/>
                </a:lnTo>
                <a:lnTo>
                  <a:pt x="25907" y="12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9" name="object 5"/>
          <p:cNvSpPr/>
          <p:nvPr/>
        </p:nvSpPr>
        <p:spPr>
          <a:xfrm>
            <a:off x="7475040" y="2663640"/>
            <a:ext cx="19465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0" anchor="t">
            <a:spAutoFit/>
          </a:bodyPr>
          <a:p>
            <a:pPr marL="11160">
              <a:lnSpc>
                <a:spcPct val="86000"/>
              </a:lnSpc>
              <a:spcBef>
                <a:spcPts val="380"/>
              </a:spcBef>
            </a:pPr>
            <a:r>
              <a:rPr b="1" lang="en-US" sz="1770" spc="-1" strike="noStrike">
                <a:solidFill>
                  <a:srgbClr val="ffffff"/>
                </a:solidFill>
                <a:latin typeface="Times New Roman"/>
              </a:rPr>
              <a:t>States </a:t>
            </a:r>
            <a:r>
              <a:rPr b="1" lang="en-US" sz="1770" spc="-15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1770" spc="-1" strike="noStrike">
                <a:solidFill>
                  <a:srgbClr val="ffffff"/>
                </a:solidFill>
                <a:latin typeface="Times New Roman"/>
              </a:rPr>
              <a:t>the RE  for </a:t>
            </a:r>
            <a:r>
              <a:rPr b="1" lang="en-US" sz="1770" spc="-4" strike="noStrike">
                <a:solidFill>
                  <a:srgbClr val="ffffff"/>
                </a:solidFill>
                <a:latin typeface="Times New Roman"/>
              </a:rPr>
              <a:t>Projects </a:t>
            </a:r>
            <a:r>
              <a:rPr b="1" lang="en-US" sz="1770" spc="-1" strike="noStrike">
                <a:solidFill>
                  <a:srgbClr val="ffffff"/>
                </a:solidFill>
                <a:latin typeface="Times New Roman"/>
              </a:rPr>
              <a:t>that</a:t>
            </a:r>
            <a:r>
              <a:rPr b="1" lang="en-US" sz="1770" spc="-126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770" spc="-15" strike="noStrike">
                <a:solidFill>
                  <a:srgbClr val="ffffff"/>
                </a:solidFill>
                <a:latin typeface="Times New Roman"/>
              </a:rPr>
              <a:t>are  </a:t>
            </a:r>
            <a:r>
              <a:rPr b="1" lang="en-US" sz="1770" spc="-1" strike="noStrike">
                <a:solidFill>
                  <a:srgbClr val="ffffff"/>
                </a:solidFill>
                <a:latin typeface="Times New Roman"/>
              </a:rPr>
              <a:t>State undertakings  by: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507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Housing </a:t>
            </a:r>
            <a:r>
              <a:rPr b="0" lang="en-US" sz="1240" spc="-4" strike="noStrike">
                <a:solidFill>
                  <a:srgbClr val="ffffff"/>
                </a:solidFill>
                <a:latin typeface="Times New Roman"/>
              </a:rPr>
              <a:t>Finance</a:t>
            </a:r>
            <a:r>
              <a:rPr b="0" lang="en-US" sz="1240" spc="-117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Agencie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14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Non-Prof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9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4" strike="noStrike">
                <a:solidFill>
                  <a:srgbClr val="ffffff"/>
                </a:solidFill>
                <a:latin typeface="Times New Roman"/>
              </a:rPr>
              <a:t>For-Prof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bject 6"/>
          <p:cNvSpPr/>
          <p:nvPr/>
        </p:nvSpPr>
        <p:spPr>
          <a:xfrm>
            <a:off x="2599920" y="1882440"/>
            <a:ext cx="2050200" cy="4033800"/>
          </a:xfrm>
          <a:custGeom>
            <a:avLst/>
            <a:gdLst>
              <a:gd name="textAreaLeft" fmla="*/ 0 w 2050200"/>
              <a:gd name="textAreaRight" fmla="*/ 2050560 w 2050200"/>
              <a:gd name="textAreaTop" fmla="*/ 0 h 4033800"/>
              <a:gd name="textAreaBottom" fmla="*/ 4034160 h 4033800"/>
            </a:gdLst>
            <a:ahLst/>
            <a:rect l="textAreaLeft" t="textAreaTop" r="textAreaRight" b="textAreaBottom"/>
            <a:pathLst>
              <a:path w="2324100" h="4572000">
                <a:moveTo>
                  <a:pt x="0" y="0"/>
                </a:moveTo>
                <a:lnTo>
                  <a:pt x="0" y="4572000"/>
                </a:lnTo>
                <a:lnTo>
                  <a:pt x="2324100" y="3657600"/>
                </a:lnTo>
                <a:lnTo>
                  <a:pt x="2324100" y="914400"/>
                </a:lnTo>
                <a:lnTo>
                  <a:pt x="0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object 7"/>
          <p:cNvSpPr/>
          <p:nvPr/>
        </p:nvSpPr>
        <p:spPr>
          <a:xfrm>
            <a:off x="2588760" y="1872000"/>
            <a:ext cx="2072160" cy="4056840"/>
          </a:xfrm>
          <a:custGeom>
            <a:avLst/>
            <a:gdLst>
              <a:gd name="textAreaLeft" fmla="*/ 0 w 2072160"/>
              <a:gd name="textAreaRight" fmla="*/ 2072520 w 2072160"/>
              <a:gd name="textAreaTop" fmla="*/ 0 h 4056840"/>
              <a:gd name="textAreaBottom" fmla="*/ 4057200 h 4056840"/>
            </a:gdLst>
            <a:ahLst/>
            <a:rect l="textAreaLeft" t="textAreaTop" r="textAreaRight" b="textAreaBottom"/>
            <a:pathLst>
              <a:path w="2348865" h="4598034">
                <a:moveTo>
                  <a:pt x="13842" y="0"/>
                </a:moveTo>
                <a:lnTo>
                  <a:pt x="9270" y="0"/>
                </a:lnTo>
                <a:lnTo>
                  <a:pt x="6095" y="3175"/>
                </a:lnTo>
                <a:lnTo>
                  <a:pt x="1650" y="4572"/>
                </a:lnTo>
                <a:lnTo>
                  <a:pt x="0" y="9271"/>
                </a:lnTo>
                <a:lnTo>
                  <a:pt x="0" y="4588764"/>
                </a:lnTo>
                <a:lnTo>
                  <a:pt x="1650" y="4593336"/>
                </a:lnTo>
                <a:lnTo>
                  <a:pt x="6095" y="4594860"/>
                </a:lnTo>
                <a:lnTo>
                  <a:pt x="9270" y="4597908"/>
                </a:lnTo>
                <a:lnTo>
                  <a:pt x="13842" y="4597908"/>
                </a:lnTo>
                <a:lnTo>
                  <a:pt x="16763" y="4596511"/>
                </a:lnTo>
                <a:lnTo>
                  <a:pt x="48074" y="4584192"/>
                </a:lnTo>
                <a:lnTo>
                  <a:pt x="25907" y="4584192"/>
                </a:lnTo>
                <a:lnTo>
                  <a:pt x="7746" y="4573651"/>
                </a:lnTo>
                <a:lnTo>
                  <a:pt x="25907" y="4566505"/>
                </a:lnTo>
                <a:lnTo>
                  <a:pt x="25907" y="31656"/>
                </a:lnTo>
                <a:lnTo>
                  <a:pt x="7746" y="24511"/>
                </a:lnTo>
                <a:lnTo>
                  <a:pt x="25907" y="12192"/>
                </a:lnTo>
                <a:lnTo>
                  <a:pt x="43555" y="12192"/>
                </a:lnTo>
                <a:lnTo>
                  <a:pt x="16763" y="1651"/>
                </a:lnTo>
                <a:lnTo>
                  <a:pt x="13842" y="0"/>
                </a:lnTo>
                <a:close/>
              </a:path>
              <a:path w="2348865" h="4598034">
                <a:moveTo>
                  <a:pt x="25907" y="4566505"/>
                </a:moveTo>
                <a:lnTo>
                  <a:pt x="7746" y="4573651"/>
                </a:lnTo>
                <a:lnTo>
                  <a:pt x="25907" y="4584192"/>
                </a:lnTo>
                <a:lnTo>
                  <a:pt x="25907" y="4566505"/>
                </a:lnTo>
                <a:close/>
              </a:path>
              <a:path w="2348865" h="4598034">
                <a:moveTo>
                  <a:pt x="2324100" y="3662299"/>
                </a:moveTo>
                <a:lnTo>
                  <a:pt x="25907" y="4566505"/>
                </a:lnTo>
                <a:lnTo>
                  <a:pt x="25907" y="4584192"/>
                </a:lnTo>
                <a:lnTo>
                  <a:pt x="48074" y="4584192"/>
                </a:lnTo>
                <a:lnTo>
                  <a:pt x="2340864" y="3682111"/>
                </a:lnTo>
                <a:lnTo>
                  <a:pt x="2345436" y="3680460"/>
                </a:lnTo>
                <a:lnTo>
                  <a:pt x="2348611" y="3676015"/>
                </a:lnTo>
                <a:lnTo>
                  <a:pt x="2348611" y="3669792"/>
                </a:lnTo>
                <a:lnTo>
                  <a:pt x="2324100" y="3669792"/>
                </a:lnTo>
                <a:lnTo>
                  <a:pt x="2324100" y="3662299"/>
                </a:lnTo>
                <a:close/>
              </a:path>
              <a:path w="2348865" h="4598034">
                <a:moveTo>
                  <a:pt x="2331847" y="3659251"/>
                </a:moveTo>
                <a:lnTo>
                  <a:pt x="2324100" y="3662299"/>
                </a:lnTo>
                <a:lnTo>
                  <a:pt x="2324100" y="3669792"/>
                </a:lnTo>
                <a:lnTo>
                  <a:pt x="2331847" y="3659251"/>
                </a:lnTo>
                <a:close/>
              </a:path>
              <a:path w="2348865" h="4598034">
                <a:moveTo>
                  <a:pt x="2348611" y="3659251"/>
                </a:moveTo>
                <a:lnTo>
                  <a:pt x="2331847" y="3659251"/>
                </a:lnTo>
                <a:lnTo>
                  <a:pt x="2324100" y="3669792"/>
                </a:lnTo>
                <a:lnTo>
                  <a:pt x="2348611" y="3669792"/>
                </a:lnTo>
                <a:lnTo>
                  <a:pt x="2348611" y="3659251"/>
                </a:lnTo>
                <a:close/>
              </a:path>
              <a:path w="2348865" h="4598034">
                <a:moveTo>
                  <a:pt x="2324100" y="935863"/>
                </a:moveTo>
                <a:lnTo>
                  <a:pt x="2324100" y="3662299"/>
                </a:lnTo>
                <a:lnTo>
                  <a:pt x="2331847" y="3659251"/>
                </a:lnTo>
                <a:lnTo>
                  <a:pt x="2348611" y="3659251"/>
                </a:lnTo>
                <a:lnTo>
                  <a:pt x="2348611" y="938911"/>
                </a:lnTo>
                <a:lnTo>
                  <a:pt x="2331847" y="938911"/>
                </a:lnTo>
                <a:lnTo>
                  <a:pt x="2324100" y="935863"/>
                </a:lnTo>
                <a:close/>
              </a:path>
              <a:path w="2348865" h="4598034">
                <a:moveTo>
                  <a:pt x="2324100" y="926592"/>
                </a:moveTo>
                <a:lnTo>
                  <a:pt x="2324100" y="935863"/>
                </a:lnTo>
                <a:lnTo>
                  <a:pt x="2331847" y="938911"/>
                </a:lnTo>
                <a:lnTo>
                  <a:pt x="2324100" y="926592"/>
                </a:lnTo>
                <a:close/>
              </a:path>
              <a:path w="2348865" h="4598034">
                <a:moveTo>
                  <a:pt x="2348611" y="926592"/>
                </a:moveTo>
                <a:lnTo>
                  <a:pt x="2324100" y="926592"/>
                </a:lnTo>
                <a:lnTo>
                  <a:pt x="2331847" y="938911"/>
                </a:lnTo>
                <a:lnTo>
                  <a:pt x="2348611" y="938911"/>
                </a:lnTo>
                <a:lnTo>
                  <a:pt x="2348611" y="926592"/>
                </a:lnTo>
                <a:close/>
              </a:path>
              <a:path w="2348865" h="4598034">
                <a:moveTo>
                  <a:pt x="43555" y="12192"/>
                </a:moveTo>
                <a:lnTo>
                  <a:pt x="25907" y="12192"/>
                </a:lnTo>
                <a:lnTo>
                  <a:pt x="25907" y="31656"/>
                </a:lnTo>
                <a:lnTo>
                  <a:pt x="2324100" y="935863"/>
                </a:lnTo>
                <a:lnTo>
                  <a:pt x="2324100" y="926592"/>
                </a:lnTo>
                <a:lnTo>
                  <a:pt x="2348611" y="926592"/>
                </a:lnTo>
                <a:lnTo>
                  <a:pt x="2348611" y="922147"/>
                </a:lnTo>
                <a:lnTo>
                  <a:pt x="2345436" y="917575"/>
                </a:lnTo>
                <a:lnTo>
                  <a:pt x="2340864" y="916051"/>
                </a:lnTo>
                <a:lnTo>
                  <a:pt x="43555" y="12192"/>
                </a:lnTo>
                <a:close/>
              </a:path>
              <a:path w="2348865" h="4598034">
                <a:moveTo>
                  <a:pt x="25907" y="12192"/>
                </a:moveTo>
                <a:lnTo>
                  <a:pt x="7746" y="24511"/>
                </a:lnTo>
                <a:lnTo>
                  <a:pt x="25907" y="31656"/>
                </a:lnTo>
                <a:lnTo>
                  <a:pt x="25907" y="12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object 8"/>
          <p:cNvSpPr/>
          <p:nvPr/>
        </p:nvSpPr>
        <p:spPr>
          <a:xfrm>
            <a:off x="2696040" y="2954160"/>
            <a:ext cx="18090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3640" bIns="0" anchor="t">
            <a:spAutoFit/>
          </a:bodyPr>
          <a:p>
            <a:pPr marL="11160">
              <a:lnSpc>
                <a:spcPts val="2225"/>
              </a:lnSpc>
              <a:spcBef>
                <a:spcPts val="425"/>
              </a:spcBef>
            </a:pPr>
            <a:r>
              <a:rPr b="1" lang="en-US" sz="2120" spc="-4" strike="noStrike">
                <a:solidFill>
                  <a:srgbClr val="ffffff"/>
                </a:solidFill>
                <a:latin typeface="Times New Roman"/>
              </a:rPr>
              <a:t>UGLGs </a:t>
            </a:r>
            <a:r>
              <a:rPr b="1" lang="en-US" sz="2120" spc="-15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1" lang="en-US" sz="2120" spc="-66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20" spc="-1" strike="noStrike">
                <a:solidFill>
                  <a:srgbClr val="ffffff"/>
                </a:solidFill>
                <a:latin typeface="Times New Roman"/>
              </a:rPr>
              <a:t>the  </a:t>
            </a:r>
            <a:r>
              <a:rPr b="1" lang="en-US" sz="2120" spc="-9" strike="noStrike">
                <a:solidFill>
                  <a:srgbClr val="ffffff"/>
                </a:solidFill>
                <a:latin typeface="Times New Roman"/>
              </a:rPr>
              <a:t>RE</a:t>
            </a:r>
            <a:r>
              <a:rPr b="1" lang="en-US" sz="2120" spc="-4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20" spc="-1" strike="noStrike">
                <a:solidFill>
                  <a:srgbClr val="ffffff"/>
                </a:solidFill>
                <a:latin typeface="Times New Roman"/>
              </a:rPr>
              <a:t>for: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Housing </a:t>
            </a:r>
            <a:r>
              <a:rPr b="0" lang="en-US" sz="1240" spc="-4" strike="noStrike">
                <a:solidFill>
                  <a:srgbClr val="ffffff"/>
                </a:solidFill>
                <a:latin typeface="Times New Roman"/>
              </a:rPr>
              <a:t>Finance</a:t>
            </a:r>
            <a:r>
              <a:rPr b="0" lang="en-US" sz="1240" spc="-128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Agencie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14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4" strike="noStrike">
                <a:solidFill>
                  <a:srgbClr val="ffffff"/>
                </a:solidFill>
                <a:latin typeface="Times New Roman"/>
              </a:rPr>
              <a:t>PHA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9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Non-Prof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14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1240" spc="-18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Prof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ject 9"/>
          <p:cNvSpPr/>
          <p:nvPr/>
        </p:nvSpPr>
        <p:spPr>
          <a:xfrm>
            <a:off x="5020200" y="1882440"/>
            <a:ext cx="1909080" cy="3764880"/>
          </a:xfrm>
          <a:custGeom>
            <a:avLst/>
            <a:gdLst>
              <a:gd name="textAreaLeft" fmla="*/ 0 w 1909080"/>
              <a:gd name="textAreaRight" fmla="*/ 1909440 w 1909080"/>
              <a:gd name="textAreaTop" fmla="*/ 0 h 3764880"/>
              <a:gd name="textAreaBottom" fmla="*/ 3765240 h 3764880"/>
            </a:gdLst>
            <a:ahLst/>
            <a:rect l="textAreaLeft" t="textAreaTop" r="textAreaRight" b="textAreaBottom"/>
            <a:pathLst>
              <a:path w="2164079" h="4267200">
                <a:moveTo>
                  <a:pt x="0" y="0"/>
                </a:moveTo>
                <a:lnTo>
                  <a:pt x="0" y="4267200"/>
                </a:lnTo>
                <a:lnTo>
                  <a:pt x="2163953" y="3413887"/>
                </a:lnTo>
                <a:lnTo>
                  <a:pt x="2163953" y="853439"/>
                </a:lnTo>
                <a:lnTo>
                  <a:pt x="0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object 10"/>
          <p:cNvSpPr/>
          <p:nvPr/>
        </p:nvSpPr>
        <p:spPr>
          <a:xfrm>
            <a:off x="5009400" y="1872000"/>
            <a:ext cx="1931040" cy="3787920"/>
          </a:xfrm>
          <a:custGeom>
            <a:avLst/>
            <a:gdLst>
              <a:gd name="textAreaLeft" fmla="*/ 0 w 1931040"/>
              <a:gd name="textAreaRight" fmla="*/ 1931400 w 1931040"/>
              <a:gd name="textAreaTop" fmla="*/ 0 h 3787920"/>
              <a:gd name="textAreaBottom" fmla="*/ 3788280 h 3787920"/>
            </a:gdLst>
            <a:ahLst/>
            <a:rect l="textAreaLeft" t="textAreaTop" r="textAreaRight" b="textAreaBottom"/>
            <a:pathLst>
              <a:path w="2188845" h="4293235">
                <a:moveTo>
                  <a:pt x="13842" y="0"/>
                </a:moveTo>
                <a:lnTo>
                  <a:pt x="9270" y="0"/>
                </a:lnTo>
                <a:lnTo>
                  <a:pt x="6095" y="3175"/>
                </a:lnTo>
                <a:lnTo>
                  <a:pt x="1650" y="4572"/>
                </a:lnTo>
                <a:lnTo>
                  <a:pt x="0" y="9271"/>
                </a:lnTo>
                <a:lnTo>
                  <a:pt x="0" y="4283964"/>
                </a:lnTo>
                <a:lnTo>
                  <a:pt x="1650" y="4288536"/>
                </a:lnTo>
                <a:lnTo>
                  <a:pt x="6095" y="4290060"/>
                </a:lnTo>
                <a:lnTo>
                  <a:pt x="9270" y="4293108"/>
                </a:lnTo>
                <a:lnTo>
                  <a:pt x="13842" y="4293108"/>
                </a:lnTo>
                <a:lnTo>
                  <a:pt x="16763" y="4291711"/>
                </a:lnTo>
                <a:lnTo>
                  <a:pt x="48003" y="4279392"/>
                </a:lnTo>
                <a:lnTo>
                  <a:pt x="25907" y="4279392"/>
                </a:lnTo>
                <a:lnTo>
                  <a:pt x="7746" y="4268851"/>
                </a:lnTo>
                <a:lnTo>
                  <a:pt x="25907" y="4261688"/>
                </a:lnTo>
                <a:lnTo>
                  <a:pt x="25907" y="31673"/>
                </a:lnTo>
                <a:lnTo>
                  <a:pt x="7746" y="24511"/>
                </a:lnTo>
                <a:lnTo>
                  <a:pt x="25907" y="12192"/>
                </a:lnTo>
                <a:lnTo>
                  <a:pt x="43498" y="12192"/>
                </a:lnTo>
                <a:lnTo>
                  <a:pt x="16763" y="1651"/>
                </a:lnTo>
                <a:lnTo>
                  <a:pt x="13842" y="0"/>
                </a:lnTo>
                <a:close/>
              </a:path>
              <a:path w="2188845" h="4293235">
                <a:moveTo>
                  <a:pt x="25907" y="4261688"/>
                </a:moveTo>
                <a:lnTo>
                  <a:pt x="7746" y="4268851"/>
                </a:lnTo>
                <a:lnTo>
                  <a:pt x="25907" y="4279392"/>
                </a:lnTo>
                <a:lnTo>
                  <a:pt x="25907" y="4261688"/>
                </a:lnTo>
                <a:close/>
              </a:path>
              <a:path w="2188845" h="4293235">
                <a:moveTo>
                  <a:pt x="2164207" y="3418366"/>
                </a:moveTo>
                <a:lnTo>
                  <a:pt x="25907" y="4261688"/>
                </a:lnTo>
                <a:lnTo>
                  <a:pt x="25907" y="4279392"/>
                </a:lnTo>
                <a:lnTo>
                  <a:pt x="48003" y="4279392"/>
                </a:lnTo>
                <a:lnTo>
                  <a:pt x="2180971" y="3438271"/>
                </a:lnTo>
                <a:lnTo>
                  <a:pt x="2185543" y="3436747"/>
                </a:lnTo>
                <a:lnTo>
                  <a:pt x="2188464" y="3432175"/>
                </a:lnTo>
                <a:lnTo>
                  <a:pt x="2188464" y="3426079"/>
                </a:lnTo>
                <a:lnTo>
                  <a:pt x="2164207" y="3426079"/>
                </a:lnTo>
                <a:lnTo>
                  <a:pt x="2164207" y="3418366"/>
                </a:lnTo>
                <a:close/>
              </a:path>
              <a:path w="2188845" h="4293235">
                <a:moveTo>
                  <a:pt x="2171700" y="3415411"/>
                </a:moveTo>
                <a:lnTo>
                  <a:pt x="2164207" y="3418366"/>
                </a:lnTo>
                <a:lnTo>
                  <a:pt x="2164207" y="3426079"/>
                </a:lnTo>
                <a:lnTo>
                  <a:pt x="2171700" y="3415411"/>
                </a:lnTo>
                <a:close/>
              </a:path>
              <a:path w="2188845" h="4293235">
                <a:moveTo>
                  <a:pt x="2188464" y="3415411"/>
                </a:moveTo>
                <a:lnTo>
                  <a:pt x="2171700" y="3415411"/>
                </a:lnTo>
                <a:lnTo>
                  <a:pt x="2164207" y="3426079"/>
                </a:lnTo>
                <a:lnTo>
                  <a:pt x="2188464" y="3426079"/>
                </a:lnTo>
                <a:lnTo>
                  <a:pt x="2188464" y="3415411"/>
                </a:lnTo>
                <a:close/>
              </a:path>
              <a:path w="2188845" h="4293235">
                <a:moveTo>
                  <a:pt x="2164207" y="874995"/>
                </a:moveTo>
                <a:lnTo>
                  <a:pt x="2164207" y="3418366"/>
                </a:lnTo>
                <a:lnTo>
                  <a:pt x="2171700" y="3415411"/>
                </a:lnTo>
                <a:lnTo>
                  <a:pt x="2188464" y="3415411"/>
                </a:lnTo>
                <a:lnTo>
                  <a:pt x="2188464" y="877951"/>
                </a:lnTo>
                <a:lnTo>
                  <a:pt x="2171700" y="877951"/>
                </a:lnTo>
                <a:lnTo>
                  <a:pt x="2164207" y="874995"/>
                </a:lnTo>
                <a:close/>
              </a:path>
              <a:path w="2188845" h="4293235">
                <a:moveTo>
                  <a:pt x="2164207" y="865632"/>
                </a:moveTo>
                <a:lnTo>
                  <a:pt x="2164207" y="874995"/>
                </a:lnTo>
                <a:lnTo>
                  <a:pt x="2171700" y="877951"/>
                </a:lnTo>
                <a:lnTo>
                  <a:pt x="2164207" y="865632"/>
                </a:lnTo>
                <a:close/>
              </a:path>
              <a:path w="2188845" h="4293235">
                <a:moveTo>
                  <a:pt x="2188464" y="865632"/>
                </a:moveTo>
                <a:lnTo>
                  <a:pt x="2164207" y="865632"/>
                </a:lnTo>
                <a:lnTo>
                  <a:pt x="2171700" y="877951"/>
                </a:lnTo>
                <a:lnTo>
                  <a:pt x="2188464" y="877951"/>
                </a:lnTo>
                <a:lnTo>
                  <a:pt x="2188464" y="865632"/>
                </a:lnTo>
                <a:close/>
              </a:path>
              <a:path w="2188845" h="4293235">
                <a:moveTo>
                  <a:pt x="43498" y="12192"/>
                </a:moveTo>
                <a:lnTo>
                  <a:pt x="25907" y="12192"/>
                </a:lnTo>
                <a:lnTo>
                  <a:pt x="25907" y="31673"/>
                </a:lnTo>
                <a:lnTo>
                  <a:pt x="2164207" y="874995"/>
                </a:lnTo>
                <a:lnTo>
                  <a:pt x="2164207" y="865632"/>
                </a:lnTo>
                <a:lnTo>
                  <a:pt x="2188464" y="865632"/>
                </a:lnTo>
                <a:lnTo>
                  <a:pt x="2188464" y="861060"/>
                </a:lnTo>
                <a:lnTo>
                  <a:pt x="2185543" y="856615"/>
                </a:lnTo>
                <a:lnTo>
                  <a:pt x="2180971" y="854964"/>
                </a:lnTo>
                <a:lnTo>
                  <a:pt x="43498" y="12192"/>
                </a:lnTo>
                <a:close/>
              </a:path>
              <a:path w="2188845" h="4293235">
                <a:moveTo>
                  <a:pt x="25907" y="12192"/>
                </a:moveTo>
                <a:lnTo>
                  <a:pt x="7746" y="24511"/>
                </a:lnTo>
                <a:lnTo>
                  <a:pt x="25907" y="31673"/>
                </a:lnTo>
                <a:lnTo>
                  <a:pt x="25907" y="12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object 11"/>
          <p:cNvSpPr/>
          <p:nvPr/>
        </p:nvSpPr>
        <p:spPr>
          <a:xfrm>
            <a:off x="5167800" y="2567880"/>
            <a:ext cx="153828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640" bIns="0" anchor="t">
            <a:spAutoFit/>
          </a:bodyPr>
          <a:p>
            <a:pPr marL="11160">
              <a:lnSpc>
                <a:spcPct val="86000"/>
              </a:lnSpc>
              <a:spcBef>
                <a:spcPts val="493"/>
              </a:spcBef>
            </a:pPr>
            <a:r>
              <a:rPr b="1" lang="en-US" sz="2470" spc="-1" strike="noStrike">
                <a:solidFill>
                  <a:srgbClr val="ffffff"/>
                </a:solidFill>
                <a:latin typeface="Times New Roman"/>
              </a:rPr>
              <a:t>Indian  </a:t>
            </a:r>
            <a:r>
              <a:rPr b="1" lang="en-US" sz="2470" spc="-4" strike="noStrike">
                <a:solidFill>
                  <a:srgbClr val="ffffff"/>
                </a:solidFill>
                <a:latin typeface="Times New Roman"/>
              </a:rPr>
              <a:t>tribes </a:t>
            </a:r>
            <a:r>
              <a:rPr b="1" lang="en-US" sz="2470" spc="-18" strike="noStrike">
                <a:solidFill>
                  <a:srgbClr val="ffffff"/>
                </a:solidFill>
                <a:latin typeface="Times New Roman"/>
              </a:rPr>
              <a:t>are  </a:t>
            </a:r>
            <a:r>
              <a:rPr b="1" lang="en-US" sz="2470" spc="-4" strike="noStrike">
                <a:solidFill>
                  <a:srgbClr val="ffffff"/>
                </a:solidFill>
                <a:latin typeface="Times New Roman"/>
              </a:rPr>
              <a:t>the RE</a:t>
            </a:r>
            <a:r>
              <a:rPr b="1" lang="en-US" sz="2470" spc="-58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70" spc="-4" strike="noStrike">
                <a:solidFill>
                  <a:srgbClr val="ffffff"/>
                </a:solidFill>
                <a:latin typeface="Times New Roman"/>
              </a:rPr>
              <a:t>for: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111960" indent="-100800">
              <a:lnSpc>
                <a:spcPts val="1278"/>
              </a:lnSpc>
              <a:spcBef>
                <a:spcPts val="1023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Housing</a:t>
            </a:r>
            <a:r>
              <a:rPr b="0" lang="en-US" sz="1240" spc="-46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40" spc="-4" strike="noStrike">
                <a:solidFill>
                  <a:srgbClr val="ffffff"/>
                </a:solidFill>
                <a:latin typeface="Times New Roman"/>
              </a:rPr>
              <a:t>Finance  </a:t>
            </a: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Agencie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960" indent="-100800">
              <a:lnSpc>
                <a:spcPts val="1278"/>
              </a:lnSpc>
              <a:spcBef>
                <a:spcPts val="201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Indian</a:t>
            </a:r>
            <a:r>
              <a:rPr b="0" lang="en-US" sz="1240" spc="-72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Housing  Agencie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3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Non-Prof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111600" indent="-100440">
              <a:lnSpc>
                <a:spcPct val="100000"/>
              </a:lnSpc>
              <a:spcBef>
                <a:spcPts val="9"/>
              </a:spcBef>
              <a:buClr>
                <a:srgbClr val="ffffff"/>
              </a:buClr>
              <a:buFont typeface="Symbol" charset="2"/>
              <a:buChar char=""/>
              <a:tabLst>
                <a:tab algn="l" pos="111960"/>
              </a:tabLst>
            </a:pP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1240" spc="-18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ffffff"/>
                </a:solidFill>
                <a:latin typeface="Times New Roman"/>
              </a:rPr>
              <a:t>Prof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58640" y="360360"/>
            <a:ext cx="91774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353880" bIns="0" anchor="ctr">
            <a:noAutofit/>
          </a:bodyPr>
          <a:p>
            <a:pPr marL="1800"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4000" spc="-32" strike="noStrike">
                <a:solidFill>
                  <a:srgbClr val="262626"/>
                </a:solidFill>
                <a:latin typeface="Garamond"/>
              </a:rPr>
              <a:t>RE’s </a:t>
            </a:r>
            <a:r>
              <a:rPr b="1" lang="en-US" sz="4000" spc="-1" strike="noStrike">
                <a:solidFill>
                  <a:srgbClr val="262626"/>
                </a:solidFill>
                <a:latin typeface="Garamond"/>
              </a:rPr>
              <a:t>Basic </a:t>
            </a:r>
            <a:r>
              <a:rPr b="1" lang="en-US" sz="4000" spc="-4" strike="noStrike">
                <a:solidFill>
                  <a:srgbClr val="262626"/>
                </a:solidFill>
                <a:latin typeface="Garamond"/>
              </a:rPr>
              <a:t>Environmental</a:t>
            </a:r>
            <a:r>
              <a:rPr b="1" lang="en-US" sz="4000" spc="-3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000" spc="-4" strike="noStrike">
                <a:solidFill>
                  <a:srgbClr val="262626"/>
                </a:solidFill>
                <a:latin typeface="Garamond"/>
              </a:rPr>
              <a:t>Responsibility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1800" indent="0" algn="ctr">
              <a:lnSpc>
                <a:spcPct val="100000"/>
              </a:lnSpc>
              <a:spcBef>
                <a:spcPts val="45"/>
              </a:spcBef>
              <a:buNone/>
            </a:pPr>
            <a:r>
              <a:rPr b="1" lang="en-US" sz="2400" spc="-1" strike="noStrike">
                <a:solidFill>
                  <a:srgbClr val="262626"/>
                </a:solidFill>
                <a:latin typeface="Garamond"/>
              </a:rPr>
              <a:t>[§58.10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7" name="object 3"/>
          <p:cNvSpPr/>
          <p:nvPr/>
        </p:nvSpPr>
        <p:spPr>
          <a:xfrm>
            <a:off x="1358640" y="2534760"/>
            <a:ext cx="999108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1640" bIns="0" anchor="t">
            <a:spAutoFit/>
          </a:bodyPr>
          <a:p>
            <a:pPr marL="313920" indent="-302400">
              <a:lnSpc>
                <a:spcPts val="3813"/>
              </a:lnSpc>
              <a:spcBef>
                <a:spcPts val="564"/>
              </a:spcBef>
              <a:buClr>
                <a:srgbClr val="000000"/>
              </a:buClr>
              <a:buFont typeface="Arial"/>
              <a:buChar char="•"/>
              <a:tabLst>
                <a:tab algn="l" pos="313920"/>
              </a:tabLst>
            </a:pPr>
            <a:r>
              <a:rPr b="0" lang="en-US" sz="3530" spc="-4" strike="noStrike">
                <a:solidFill>
                  <a:srgbClr val="000000"/>
                </a:solidFill>
                <a:latin typeface="Times New Roman"/>
              </a:rPr>
              <a:t>Assumes </a:t>
            </a:r>
            <a:r>
              <a:rPr b="0" lang="en-US" sz="3530" spc="-1" strike="noStrike">
                <a:solidFill>
                  <a:srgbClr val="000000"/>
                </a:solidFill>
                <a:latin typeface="Times New Roman"/>
              </a:rPr>
              <a:t>environmental responsibilities</a:t>
            </a:r>
            <a:endParaRPr b="0" lang="en-US" sz="353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366"/>
              </a:spcBef>
              <a:buClr>
                <a:srgbClr val="000000"/>
              </a:buClr>
              <a:buFont typeface="Arial"/>
              <a:buChar char="•"/>
              <a:tabLst>
                <a:tab algn="l" pos="313920"/>
              </a:tabLst>
            </a:pPr>
            <a:r>
              <a:rPr b="0" lang="en-US" sz="3530" spc="-4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3530" spc="-1" strike="noStrike">
                <a:solidFill>
                  <a:srgbClr val="000000"/>
                </a:solidFill>
                <a:latin typeface="Times New Roman"/>
              </a:rPr>
              <a:t>comply</a:t>
            </a:r>
            <a:r>
              <a:rPr b="0" lang="en-US" sz="3530" spc="-4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353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51720">
              <a:lnSpc>
                <a:spcPct val="100000"/>
              </a:lnSpc>
              <a:spcBef>
                <a:spcPts val="394"/>
              </a:spcBef>
              <a:buClr>
                <a:srgbClr val="000000"/>
              </a:buClr>
              <a:buFont typeface="Arial"/>
              <a:buChar char="–"/>
              <a:tabLst>
                <a:tab algn="l" pos="768240"/>
              </a:tabLst>
            </a:pPr>
            <a:r>
              <a:rPr b="0" lang="en-US" sz="3170" spc="-75" strike="noStrike">
                <a:solidFill>
                  <a:srgbClr val="000000"/>
                </a:solidFill>
                <a:latin typeface="Times New Roman"/>
              </a:rPr>
              <a:t>NEPA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51720">
              <a:lnSpc>
                <a:spcPts val="3433"/>
              </a:lnSpc>
              <a:spcBef>
                <a:spcPts val="811"/>
              </a:spcBef>
              <a:buClr>
                <a:srgbClr val="000000"/>
              </a:buClr>
              <a:buFont typeface="Arial"/>
              <a:buChar char="–"/>
              <a:tabLst>
                <a:tab algn="l" pos="767160"/>
              </a:tabLst>
            </a:pP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CEQ regulations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of 40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CFR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parts 1500 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through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1508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53520">
              <a:lnSpc>
                <a:spcPct val="100000"/>
              </a:lnSpc>
              <a:spcBef>
                <a:spcPts val="332"/>
              </a:spcBef>
              <a:buClr>
                <a:srgbClr val="000000"/>
              </a:buClr>
              <a:buFont typeface="Arial"/>
              <a:buChar char="–"/>
              <a:tabLst>
                <a:tab algn="l" pos="768240"/>
              </a:tabLst>
            </a:pP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Requirements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of Part</a:t>
            </a:r>
            <a:r>
              <a:rPr b="0" lang="en-US" sz="3170" spc="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601720" y="870120"/>
            <a:ext cx="6357600" cy="11563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ertifying</a:t>
            </a:r>
            <a:r>
              <a:rPr b="1" lang="en-US" sz="4400" spc="-3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Offic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object 3"/>
          <p:cNvSpPr/>
          <p:nvPr/>
        </p:nvSpPr>
        <p:spPr>
          <a:xfrm>
            <a:off x="5356080" y="1946880"/>
            <a:ext cx="8485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1" lang="en-US" sz="177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77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770" spc="-1" strike="noStrike">
                <a:solidFill>
                  <a:srgbClr val="000000"/>
                </a:solidFill>
                <a:latin typeface="Times New Roman"/>
              </a:rPr>
              <a:t>§58.13]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ject 4"/>
          <p:cNvSpPr/>
          <p:nvPr/>
        </p:nvSpPr>
        <p:spPr>
          <a:xfrm>
            <a:off x="2430360" y="2383920"/>
            <a:ext cx="733104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Responsible </a:t>
            </a:r>
            <a:r>
              <a:rPr b="1" lang="en-US" sz="185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Official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that term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used in section 102 of</a:t>
            </a:r>
            <a:r>
              <a:rPr b="0" lang="en-US" sz="185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46" strike="noStrike">
                <a:solidFill>
                  <a:srgbClr val="000000"/>
                </a:solidFill>
                <a:latin typeface="Times New Roman"/>
              </a:rPr>
              <a:t>NEPA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850" spc="-15" strike="noStrike">
                <a:solidFill>
                  <a:srgbClr val="000000"/>
                </a:solidFill>
                <a:latin typeface="Times New Roman"/>
              </a:rPr>
              <a:t>Generally,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highest-ranking elected</a:t>
            </a:r>
            <a:r>
              <a:rPr b="1" lang="en-US" sz="185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9" strike="noStrike">
                <a:solidFill>
                  <a:srgbClr val="000000"/>
                </a:solidFill>
                <a:latin typeface="Times New Roman"/>
              </a:rPr>
              <a:t>official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3"/>
              </a:spcBef>
              <a:buClr>
                <a:srgbClr val="000000"/>
              </a:buClr>
              <a:buFont typeface="Times New Roman"/>
              <a:buChar char="—"/>
              <a:tabLst>
                <a:tab algn="l" pos="667440"/>
              </a:tabLst>
            </a:pPr>
            <a:r>
              <a:rPr b="1" lang="en-US" sz="1679" spc="-9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Written</a:t>
            </a:r>
            <a:r>
              <a:rPr b="1" lang="en-US" sz="1679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79" spc="-4" strike="noStrike">
                <a:solidFill>
                  <a:srgbClr val="000000"/>
                </a:solidFill>
                <a:latin typeface="Times New Roman"/>
              </a:rPr>
              <a:t>delegation </a:t>
            </a:r>
            <a:r>
              <a:rPr b="0" lang="en-US" sz="1679" spc="-4" strike="noStrike">
                <a:solidFill>
                  <a:srgbClr val="000000"/>
                </a:solidFill>
                <a:latin typeface="Times New Roman"/>
              </a:rPr>
              <a:t>necessary</a:t>
            </a:r>
            <a:r>
              <a:rPr b="0" lang="en-US" sz="1679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79" spc="-1" strike="noStrike">
                <a:solidFill>
                  <a:srgbClr val="000000"/>
                </a:solidFill>
                <a:latin typeface="Times New Roman"/>
              </a:rPr>
              <a:t>if: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  <a:p>
            <a:pPr lvl="2" marL="1019880" indent="-201600">
              <a:lnSpc>
                <a:spcPct val="100000"/>
              </a:lnSpc>
              <a:spcBef>
                <a:spcPts val="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19880"/>
              </a:tabLst>
            </a:pPr>
            <a:r>
              <a:rPr b="0" lang="en-US" sz="1679" spc="-4" strike="noStrike">
                <a:solidFill>
                  <a:srgbClr val="000000"/>
                </a:solidFill>
                <a:latin typeface="Times New Roman"/>
              </a:rPr>
              <a:t>Role is delegated below default</a:t>
            </a:r>
            <a:r>
              <a:rPr b="0" lang="en-US" sz="1679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79" spc="-4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  <a:p>
            <a:pPr lvl="2" marL="1019880" indent="-201600">
              <a:lnSpc>
                <a:spcPts val="2007"/>
              </a:lnSpc>
              <a:buClr>
                <a:srgbClr val="000000"/>
              </a:buClr>
              <a:buFont typeface="Wingdings" charset="2"/>
              <a:buChar char=""/>
              <a:tabLst>
                <a:tab algn="l" pos="1019880"/>
              </a:tabLst>
            </a:pPr>
            <a:r>
              <a:rPr b="0" lang="en-US" sz="1679" spc="-4" strike="noStrike">
                <a:solidFill>
                  <a:srgbClr val="000000"/>
                </a:solidFill>
                <a:latin typeface="Times New Roman"/>
              </a:rPr>
              <a:t>Can generally be delegated to person who signs grant</a:t>
            </a:r>
            <a:r>
              <a:rPr b="0" lang="en-US" sz="1679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79" spc="-9" strike="noStrike">
                <a:solidFill>
                  <a:srgbClr val="000000"/>
                </a:solidFill>
                <a:latin typeface="Times New Roman"/>
              </a:rPr>
              <a:t>agreements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22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Responsible </a:t>
            </a:r>
            <a:r>
              <a:rPr b="1" lang="en-US" sz="185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50" spc="-9" strike="noStrike">
                <a:solidFill>
                  <a:srgbClr val="000000"/>
                </a:solidFill>
                <a:latin typeface="Times New Roman"/>
              </a:rPr>
              <a:t>requirements</a:t>
            </a:r>
            <a:r>
              <a:rPr b="1" lang="en-US" sz="185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of: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667440" indent="-2527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66720"/>
                <a:tab algn="l" pos="667440"/>
              </a:tabLst>
            </a:pPr>
            <a:r>
              <a:rPr b="0" lang="en-US" sz="1850" spc="-49" strike="noStrike">
                <a:solidFill>
                  <a:srgbClr val="000000"/>
                </a:solidFill>
                <a:latin typeface="Times New Roman"/>
              </a:rPr>
              <a:t>NEPA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667440" indent="-2527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66720"/>
                <a:tab algn="l" pos="667440"/>
              </a:tabLst>
            </a:pP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CEQ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40 CFR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Parts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1500 through</a:t>
            </a:r>
            <a:r>
              <a:rPr b="0" lang="en-US" sz="185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1508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667440" indent="-2527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666720"/>
                <a:tab algn="l" pos="667440"/>
              </a:tabLst>
            </a:pP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24 CFR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US" sz="185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1783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Ensures that the RE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reviews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850" spc="-9" strike="noStrike">
                <a:solidFill>
                  <a:srgbClr val="000000"/>
                </a:solidFill>
                <a:latin typeface="Times New Roman"/>
              </a:rPr>
              <a:t>comments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on all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EISs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prepared for 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projects that </a:t>
            </a:r>
            <a:r>
              <a:rPr b="0" lang="en-US" sz="1850" spc="-9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have an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impact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on the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recipient's</a:t>
            </a:r>
            <a:r>
              <a:rPr b="0" lang="en-US" sz="1850" spc="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14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Responds to the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jurisdiction </a:t>
            </a:r>
            <a:r>
              <a:rPr b="1" lang="en-US" sz="185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the federal</a:t>
            </a:r>
            <a:r>
              <a:rPr b="1" lang="en-US" sz="185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courts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1783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  <a:tab algn="l" pos="2399400"/>
              </a:tabLst>
            </a:pP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185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authority</a:t>
            </a:r>
            <a:r>
              <a:rPr b="1" lang="en-US" sz="185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50" spc="-4" strike="noStrike">
                <a:solidFill>
                  <a:srgbClr val="000000"/>
                </a:solidFill>
                <a:latin typeface="Times New Roman"/>
              </a:rPr>
              <a:t>enter into binding </a:t>
            </a:r>
            <a:r>
              <a:rPr b="1" lang="en-US" sz="1850" spc="-1" strike="noStrike">
                <a:solidFill>
                  <a:srgbClr val="000000"/>
                </a:solidFill>
                <a:latin typeface="Times New Roman"/>
              </a:rPr>
              <a:t>commitment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in response</a:t>
            </a:r>
            <a:r>
              <a:rPr b="0" lang="en-US" sz="185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1" strike="noStrike">
                <a:solidFill>
                  <a:srgbClr val="000000"/>
                </a:solidFill>
                <a:latin typeface="Times New Roman"/>
              </a:rPr>
              <a:t>to  court</a:t>
            </a:r>
            <a:r>
              <a:rPr b="0" lang="en-US" sz="185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50" spc="-4" strike="noStrike">
                <a:solidFill>
                  <a:srgbClr val="000000"/>
                </a:solidFill>
                <a:latin typeface="Times New Roman"/>
              </a:rPr>
              <a:t>judgments</a:t>
            </a: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75760" y="818280"/>
            <a:ext cx="773748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70884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3000" spc="-4" strike="noStrike">
                <a:solidFill>
                  <a:srgbClr val="262626"/>
                </a:solidFill>
                <a:latin typeface="Garamond"/>
              </a:rPr>
              <a:t>When </a:t>
            </a:r>
            <a:r>
              <a:rPr b="1" lang="en-US" sz="3000" spc="-9" strike="noStrike">
                <a:solidFill>
                  <a:srgbClr val="262626"/>
                </a:solidFill>
                <a:latin typeface="Garamond"/>
              </a:rPr>
              <a:t>the </a:t>
            </a:r>
            <a:r>
              <a:rPr b="1" lang="en-US" sz="3000" spc="-4" strike="noStrike">
                <a:solidFill>
                  <a:srgbClr val="262626"/>
                </a:solidFill>
                <a:latin typeface="Garamond"/>
              </a:rPr>
              <a:t>RE </a:t>
            </a:r>
            <a:r>
              <a:rPr b="1" lang="en-US" sz="3000" spc="-18" strike="noStrike">
                <a:solidFill>
                  <a:srgbClr val="262626"/>
                </a:solidFill>
                <a:latin typeface="Garamond"/>
              </a:rPr>
              <a:t>Prepares </a:t>
            </a:r>
            <a:r>
              <a:rPr b="1" lang="en-US" sz="3000" spc="-9" strike="noStrike">
                <a:solidFill>
                  <a:srgbClr val="262626"/>
                </a:solidFill>
                <a:latin typeface="Garamond"/>
              </a:rPr>
              <a:t>Environmental </a:t>
            </a:r>
            <a:r>
              <a:rPr b="1" lang="en-US" sz="3000" spc="-4" strike="noStrike">
                <a:solidFill>
                  <a:srgbClr val="262626"/>
                </a:solidFill>
                <a:latin typeface="Garamond"/>
              </a:rPr>
              <a:t>Reviews</a:t>
            </a:r>
            <a:r>
              <a:rPr b="1" lang="en-US" sz="3000" spc="-4" strike="noStrike">
                <a:solidFill>
                  <a:srgbClr val="262626"/>
                </a:solidFill>
                <a:latin typeface="Garamond"/>
              </a:rPr>
              <a:t> on</a:t>
            </a:r>
            <a:r>
              <a:rPr b="1" lang="en-US" sz="30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000" spc="-4" strike="noStrike">
                <a:solidFill>
                  <a:srgbClr val="262626"/>
                </a:solidFill>
                <a:latin typeface="Garamond"/>
              </a:rPr>
              <a:t>Behalf</a:t>
            </a:r>
            <a:r>
              <a:rPr b="1" lang="en-US" sz="3000" spc="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000" spc="-4" strike="noStrike">
                <a:solidFill>
                  <a:srgbClr val="262626"/>
                </a:solidFill>
                <a:latin typeface="Garamond"/>
              </a:rPr>
              <a:t>of Non-RE Grantee</a:t>
            </a:r>
            <a:r>
              <a:rPr b="1" lang="en-US" sz="3000" spc="1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262626"/>
                </a:solidFill>
                <a:latin typeface="Garamond"/>
              </a:rPr>
              <a:t>[§58.71]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object 3"/>
          <p:cNvSpPr/>
          <p:nvPr/>
        </p:nvSpPr>
        <p:spPr>
          <a:xfrm>
            <a:off x="2544480" y="2388240"/>
            <a:ext cx="692424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56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The RE</a:t>
            </a:r>
            <a:r>
              <a:rPr b="0" lang="en-US" sz="264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9" strike="noStrike">
                <a:solidFill>
                  <a:srgbClr val="000000"/>
                </a:solidFill>
                <a:latin typeface="Times New Roman"/>
              </a:rPr>
              <a:t>must: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48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667440"/>
              </a:tabLst>
            </a:pPr>
            <a:r>
              <a:rPr b="1" lang="en-US" sz="23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Independently </a:t>
            </a:r>
            <a:r>
              <a:rPr b="1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evaluat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vironmental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information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rantee</a:t>
            </a:r>
            <a:r>
              <a:rPr b="0" lang="en-US" sz="230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vi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38"/>
              </a:spcBef>
              <a:buClr>
                <a:srgbClr val="000000"/>
              </a:buClr>
              <a:buFont typeface="Times New Roman"/>
              <a:buChar char="−"/>
              <a:tabLst>
                <a:tab algn="l" pos="667440"/>
              </a:tabLst>
            </a:pP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Prepar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230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616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−"/>
              <a:tabLst>
                <a:tab algn="l" pos="66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vide the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grantee with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executed</a:t>
            </a:r>
            <a:r>
              <a:rPr b="0" lang="en-US" sz="2300" spc="-6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67440">
              <a:lnSpc>
                <a:spcPts val="2616"/>
              </a:lnSpc>
              <a:tabLst>
                <a:tab algn="l" pos="66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m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(i.e.</a:t>
            </a:r>
            <a:r>
              <a:rPr b="0" lang="en-US" sz="23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7015.1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ts val="2616"/>
              </a:lnSpc>
              <a:spcBef>
                <a:spcPts val="278"/>
              </a:spcBef>
              <a:buClr>
                <a:srgbClr val="000000"/>
              </a:buClr>
              <a:buFont typeface="Times New Roman"/>
              <a:buChar char="−"/>
              <a:tabLst>
                <a:tab algn="l" pos="66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descriptio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 any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mitigation/constraint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67440">
              <a:lnSpc>
                <a:spcPts val="2616"/>
              </a:lnSpc>
              <a:tabLst>
                <a:tab algn="l" pos="667440"/>
              </a:tabLst>
            </a:pP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 incorporated in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30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9880" indent="-201600">
              <a:lnSpc>
                <a:spcPts val="2100"/>
              </a:lnSpc>
              <a:spcBef>
                <a:spcPts val="507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1019880"/>
              </a:tabLst>
            </a:pP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Recommend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his be included in Project Description Section  of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7015.15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CEQ’s NEPA Regulations</a:t>
            </a:r>
            <a:br>
              <a:rPr sz="4400"/>
            </a:b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[ 40 CFR 1500-1508 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69280" indent="-2692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Implements NEPA Section 102(2)(c) Action forcing provisions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69280" indent="-2692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Guides the Federal NEPA Process─ Basis for agency-specific procedures, and is incorporated into HUD’s procedures by reference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69280" indent="-2692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lang="en-US" sz="2400" spc="-1" strike="noStrike">
                <a:solidFill>
                  <a:srgbClr val="262626"/>
                </a:solidFill>
                <a:latin typeface="Garamond"/>
              </a:rPr>
              <a:t>CEQ’s Regulations Require Federal Agencies to: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00200" indent="-2692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Understand environmental consequences </a:t>
            </a:r>
            <a:r>
              <a:rPr b="1" lang="en-US" sz="2000" spc="-1" strike="noStrike">
                <a:solidFill>
                  <a:srgbClr val="262626"/>
                </a:solidFill>
                <a:latin typeface="Garamond"/>
              </a:rPr>
              <a:t>BEFORE </a:t>
            </a: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commitments are made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1" marL="700200" indent="-2692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Ensure environmental information is made available to public officials and citizens </a:t>
            </a:r>
            <a:r>
              <a:rPr b="1" lang="en-US" sz="2000" spc="-1" strike="noStrike">
                <a:solidFill>
                  <a:srgbClr val="262626"/>
                </a:solidFill>
                <a:latin typeface="Garamond"/>
              </a:rPr>
              <a:t>BEFORE </a:t>
            </a: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decisions are made and </a:t>
            </a:r>
            <a:r>
              <a:rPr b="1" lang="en-US" sz="2000" spc="-1" strike="noStrike">
                <a:solidFill>
                  <a:srgbClr val="262626"/>
                </a:solidFill>
                <a:latin typeface="Garamond"/>
              </a:rPr>
              <a:t>BEFORE </a:t>
            </a: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actions are taken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1" marL="700200" indent="-2692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Consider reasonable alternatives 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1" marL="700200" indent="-2692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Avoid or minimize any possible adverse effects of their actions upon the quality of the human environment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1" marL="700200" indent="-2692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Integrate NEPA requirements with other planning and environmental review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1" marL="700200" indent="-2692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Take actions that protect, restore, and enhance the environment.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21640" y="968760"/>
            <a:ext cx="5748120" cy="11563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Role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of Non-RE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Grantee</a:t>
            </a:r>
            <a:r>
              <a:rPr b="1" lang="en-US" sz="3170" spc="-5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[§58.71]</a:t>
            </a:r>
            <a:endParaRPr b="0" lang="en-US" sz="31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object 3"/>
          <p:cNvSpPr/>
          <p:nvPr/>
        </p:nvSpPr>
        <p:spPr>
          <a:xfrm>
            <a:off x="2108160" y="2706480"/>
            <a:ext cx="87552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t">
            <a:spAutoFit/>
          </a:bodyPr>
          <a:p>
            <a:pPr marL="313920" indent="-302400">
              <a:lnSpc>
                <a:spcPts val="2860"/>
              </a:lnSpc>
              <a:spcBef>
                <a:spcPts val="445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Provide all available project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environmental  information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 algn="just">
              <a:lnSpc>
                <a:spcPts val="2860"/>
              </a:lnSpc>
              <a:spcBef>
                <a:spcPts val="635"/>
              </a:spcBef>
              <a:buClr>
                <a:srgbClr val="000000"/>
              </a:buClr>
              <a:buFont typeface="Arial"/>
              <a:buChar char="•"/>
              <a:tabLst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Refrain from undertaking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physical activities 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or choice </a:t>
            </a:r>
            <a:r>
              <a:rPr b="0" lang="en-US" sz="2640" spc="-9" strike="noStrike">
                <a:solidFill>
                  <a:srgbClr val="000000"/>
                </a:solidFill>
                <a:latin typeface="Times New Roman"/>
              </a:rPr>
              <a:t>limiting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ctions until </a:t>
            </a:r>
            <a:r>
              <a:rPr b="0" lang="en-US" sz="2640" spc="-9" strike="noStrike">
                <a:solidFill>
                  <a:srgbClr val="000000"/>
                </a:solidFill>
                <a:latin typeface="Times New Roman"/>
              </a:rPr>
              <a:t>HUD/State/Tribe  issue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uthorization to use grant</a:t>
            </a:r>
            <a:r>
              <a:rPr b="0" lang="en-US" sz="2640" spc="7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funds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278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Submit certification form to</a:t>
            </a:r>
            <a:r>
              <a:rPr b="0" lang="en-US" sz="2640" spc="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9" strike="noStrike">
                <a:solidFill>
                  <a:srgbClr val="000000"/>
                </a:solidFill>
                <a:latin typeface="Times New Roman"/>
              </a:rPr>
              <a:t>HUD/State/Tribe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86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bide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special conditions, procedures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860"/>
              </a:lnSpc>
              <a:spcBef>
                <a:spcPts val="635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dvise the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of proposed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changes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(scope,  location)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6400" y="493560"/>
            <a:ext cx="847116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40716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000" spc="-4" strike="noStrike">
                <a:solidFill>
                  <a:srgbClr val="262626"/>
                </a:solidFill>
                <a:latin typeface="Garamond"/>
              </a:rPr>
              <a:t>Responsibilities </a:t>
            </a:r>
            <a:r>
              <a:rPr b="1" lang="en-US" sz="4000" spc="-1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4000" spc="-4" strike="noStrike">
                <a:solidFill>
                  <a:srgbClr val="262626"/>
                </a:solidFill>
                <a:latin typeface="Garamond"/>
              </a:rPr>
              <a:t>States and</a:t>
            </a:r>
            <a:r>
              <a:rPr b="1" lang="en-US" sz="4000" spc="-1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000" spc="-41" strike="noStrike">
                <a:solidFill>
                  <a:srgbClr val="262626"/>
                </a:solidFill>
                <a:latin typeface="Garamond"/>
              </a:rPr>
              <a:t>Trib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720" indent="0" algn="ctr">
              <a:lnSpc>
                <a:spcPct val="100000"/>
              </a:lnSpc>
              <a:spcBef>
                <a:spcPts val="40"/>
              </a:spcBef>
              <a:buNone/>
            </a:pPr>
            <a:r>
              <a:rPr b="1" lang="en-US" sz="2400" spc="-1" strike="noStrike">
                <a:solidFill>
                  <a:srgbClr val="262626"/>
                </a:solidFill>
                <a:latin typeface="Garamond"/>
              </a:rPr>
              <a:t>[§58.18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object 3"/>
          <p:cNvSpPr/>
          <p:nvPr/>
        </p:nvSpPr>
        <p:spPr>
          <a:xfrm>
            <a:off x="2575080" y="2478240"/>
            <a:ext cx="704124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The State or </a:t>
            </a:r>
            <a:r>
              <a:rPr b="0" lang="en-US" sz="2830" spc="-18" strike="noStrike">
                <a:solidFill>
                  <a:srgbClr val="000000"/>
                </a:solidFill>
                <a:latin typeface="Times New Roman"/>
              </a:rPr>
              <a:t>Tribal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gencies must designate,</a:t>
            </a:r>
            <a:r>
              <a:rPr b="0" lang="en-US" sz="2830" spc="-1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in  writing, the </a:t>
            </a:r>
            <a:r>
              <a:rPr b="0" lang="en-US" sz="2830" spc="1" strike="noStrike">
                <a:solidFill>
                  <a:srgbClr val="000000"/>
                </a:solidFill>
                <a:latin typeface="Times New Roman"/>
              </a:rPr>
              <a:t>agency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responsible for  administering Subpart H, Release of</a:t>
            </a:r>
            <a:r>
              <a:rPr b="0" lang="en-US" sz="2830" spc="-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Fund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The designated agencies</a:t>
            </a:r>
            <a:r>
              <a:rPr b="0" lang="en-US" sz="2830" spc="-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must: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1032120" indent="-2142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96000"/>
              <a:buFont typeface="Wingdings" charset="2"/>
              <a:buChar char=""/>
              <a:tabLst>
                <a:tab algn="l" pos="103284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RROF/C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lvl="1" marL="1032120" indent="-214200">
              <a:lnSpc>
                <a:spcPct val="100000"/>
              </a:lnSpc>
              <a:spcBef>
                <a:spcPts val="507"/>
              </a:spcBef>
              <a:buClr>
                <a:srgbClr val="000000"/>
              </a:buClr>
              <a:buSzPct val="96000"/>
              <a:buFont typeface="Wingdings" charset="2"/>
              <a:buChar char=""/>
              <a:tabLst>
                <a:tab algn="l" pos="103284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ceive objections and</a:t>
            </a:r>
            <a:r>
              <a:rPr b="0" lang="en-US" sz="2120" spc="-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ppeals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lvl="1" marL="1032120" indent="-214200">
              <a:lnSpc>
                <a:spcPct val="100000"/>
              </a:lnSpc>
              <a:spcBef>
                <a:spcPts val="513"/>
              </a:spcBef>
              <a:buClr>
                <a:srgbClr val="000000"/>
              </a:buClr>
              <a:buSzPct val="96000"/>
              <a:buFont typeface="Wingdings" charset="2"/>
              <a:buChar char=""/>
              <a:tabLst>
                <a:tab algn="l" pos="103284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Issue</a:t>
            </a:r>
            <a:r>
              <a:rPr b="0" lang="en-US" sz="2120" spc="-13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AUGF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lvl="1" marL="1032120" indent="-214200">
              <a:lnSpc>
                <a:spcPct val="100000"/>
              </a:lnSpc>
              <a:spcBef>
                <a:spcPts val="507"/>
              </a:spcBef>
              <a:buClr>
                <a:srgbClr val="000000"/>
              </a:buClr>
              <a:buSzPct val="96000"/>
              <a:buFont typeface="Wingdings" charset="2"/>
              <a:buChar char=""/>
              <a:tabLst>
                <a:tab algn="l" pos="103284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monitoring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nforcement</a:t>
            </a:r>
            <a:r>
              <a:rPr b="0" lang="en-US" sz="212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69760" y="517320"/>
            <a:ext cx="9211320" cy="1765440"/>
          </a:xfrm>
          <a:prstGeom prst="rect">
            <a:avLst/>
          </a:prstGeom>
          <a:noFill/>
          <a:ln w="0">
            <a:noFill/>
          </a:ln>
        </p:spPr>
        <p:txBody>
          <a:bodyPr lIns="0" rIns="0" tIns="29772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Request for </a:t>
            </a:r>
            <a:r>
              <a:rPr b="1" lang="en-US" sz="3600" spc="-4" strike="noStrike">
                <a:solidFill>
                  <a:srgbClr val="262626"/>
                </a:solidFill>
                <a:latin typeface="Garamond"/>
              </a:rPr>
              <a:t>Release </a:t>
            </a: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of Funds and</a:t>
            </a:r>
            <a:r>
              <a:rPr b="1" lang="en-US" sz="3600" spc="-103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600" spc="-4" strike="noStrike">
                <a:solidFill>
                  <a:srgbClr val="262626"/>
                </a:solidFill>
                <a:latin typeface="Garamond"/>
              </a:rPr>
              <a:t>Certification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34"/>
              </a:spcBef>
              <a:buNone/>
            </a:pPr>
            <a:r>
              <a:rPr b="1" lang="en-US" sz="2400" spc="-4" strike="noStrike">
                <a:solidFill>
                  <a:srgbClr val="262626"/>
                </a:solidFill>
                <a:latin typeface="Garamond"/>
              </a:rPr>
              <a:t>[§58.2(a)(6)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object 3"/>
          <p:cNvSpPr/>
          <p:nvPr/>
        </p:nvSpPr>
        <p:spPr>
          <a:xfrm>
            <a:off x="2563920" y="2385000"/>
            <a:ext cx="706392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Request for Release of Funds and</a:t>
            </a:r>
            <a:r>
              <a:rPr b="0" lang="en-US" sz="2830" spc="-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Certification  (RROF/C)—HUD Form</a:t>
            </a:r>
            <a:r>
              <a:rPr b="0" lang="en-US" sz="283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1" strike="noStrike">
                <a:solidFill>
                  <a:srgbClr val="000000"/>
                </a:solidFill>
                <a:latin typeface="Times New Roman"/>
              </a:rPr>
              <a:t>7015.15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667440" indent="-2527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470" spc="-35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0" lang="en-US" sz="2470" spc="-35" strike="noStrike">
                <a:solidFill>
                  <a:srgbClr val="000000"/>
                </a:solidFill>
                <a:latin typeface="Times New Roman"/>
              </a:rPr>
              <a:t>Executed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fter environmental review is  finalized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comment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period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have  closed.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672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uthority to Use Grant Funds—HUD</a:t>
            </a:r>
            <a:r>
              <a:rPr b="0" lang="en-US" sz="2830" spc="-11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Form  7015.16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414720">
              <a:lnSpc>
                <a:spcPct val="100000"/>
              </a:lnSpc>
              <a:spcBef>
                <a:spcPts val="601"/>
              </a:spcBef>
              <a:tabLst>
                <a:tab algn="l" pos="313200"/>
                <a:tab algn="l" pos="313920"/>
              </a:tabLst>
            </a:pPr>
            <a:r>
              <a:rPr b="0" lang="en-US" sz="2470" spc="-75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0" lang="en-US" sz="2470" spc="-75" strike="noStrike">
                <a:solidFill>
                  <a:srgbClr val="000000"/>
                </a:solidFill>
                <a:latin typeface="Times New Roman"/>
              </a:rPr>
              <a:t>HUD’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cceptance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en-US" sz="2470" spc="9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60120" y="848520"/>
            <a:ext cx="8471160" cy="1505880"/>
          </a:xfrm>
          <a:prstGeom prst="rect">
            <a:avLst/>
          </a:prstGeom>
          <a:noFill/>
          <a:ln w="0">
            <a:noFill/>
          </a:ln>
        </p:spPr>
        <p:txBody>
          <a:bodyPr lIns="0" rIns="0" tIns="25056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Limitation on Activities Prior </a:t>
            </a:r>
            <a:r>
              <a:rPr b="1" lang="en-US" sz="3200" spc="-1" strike="noStrike">
                <a:solidFill>
                  <a:srgbClr val="262626"/>
                </a:solidFill>
                <a:latin typeface="Garamond"/>
              </a:rPr>
              <a:t>to</a:t>
            </a:r>
            <a:r>
              <a:rPr b="1" lang="en-US" sz="3200" spc="-19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Clearan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1800" indent="0" algn="ctr">
              <a:lnSpc>
                <a:spcPct val="100000"/>
              </a:lnSpc>
              <a:spcBef>
                <a:spcPts val="45"/>
              </a:spcBef>
              <a:buNone/>
            </a:pPr>
            <a:r>
              <a:rPr b="1" lang="en-US" sz="1800" spc="-4" strike="noStrike">
                <a:solidFill>
                  <a:srgbClr val="262626"/>
                </a:solidFill>
                <a:latin typeface="Garamond"/>
              </a:rPr>
              <a:t>[§58.22(a)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object 4"/>
          <p:cNvSpPr/>
          <p:nvPr/>
        </p:nvSpPr>
        <p:spPr>
          <a:xfrm>
            <a:off x="2013480" y="2628720"/>
            <a:ext cx="7750800" cy="38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120" bIns="0" anchor="t">
            <a:spAutoFit/>
          </a:bodyPr>
          <a:p>
            <a:pPr marL="313920" indent="-302400">
              <a:lnSpc>
                <a:spcPts val="3053"/>
              </a:lnSpc>
              <a:spcBef>
                <a:spcPts val="47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rior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Receiving Environmental Clearance</a:t>
            </a:r>
            <a:r>
              <a:rPr b="0" lang="en-US" sz="283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  Recipient Must Not</a:t>
            </a:r>
            <a:r>
              <a:rPr b="0" lang="en-US" sz="283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Commit: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35"/>
              </a:spcBef>
              <a:buClr>
                <a:srgbClr val="000000"/>
              </a:buClr>
              <a:buFont typeface="Arial"/>
              <a:buChar char="–"/>
              <a:tabLst>
                <a:tab algn="l" pos="6678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UD Funds,</a:t>
            </a:r>
            <a:r>
              <a:rPr b="0" lang="en-US" sz="230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78"/>
              </a:spcBef>
              <a:buClr>
                <a:srgbClr val="000000"/>
              </a:buClr>
              <a:buFont typeface="Arial"/>
              <a:buChar char="–"/>
              <a:tabLst>
                <a:tab algn="l" pos="667800"/>
                <a:tab algn="l" pos="2760840"/>
              </a:tabLst>
            </a:pPr>
            <a:r>
              <a:rPr b="0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Non-HUD</a:t>
            </a:r>
            <a:r>
              <a:rPr b="0" lang="en-US" sz="2300" spc="-15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 </a:t>
            </a:r>
            <a:r>
              <a:rPr b="0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fund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activit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woul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81440" indent="-263520">
              <a:lnSpc>
                <a:spcPct val="100000"/>
              </a:lnSpc>
              <a:spcBef>
                <a:spcPts val="247"/>
              </a:spcBef>
              <a:buClr>
                <a:srgbClr val="000000"/>
              </a:buClr>
              <a:buFont typeface="Arial"/>
              <a:buChar char="•"/>
              <a:tabLst>
                <a:tab algn="l" pos="1081440"/>
                <a:tab algn="l" pos="108216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have an adverse environmental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impact,</a:t>
            </a:r>
            <a:r>
              <a:rPr b="0" lang="en-US" sz="1940" spc="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4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or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2" marL="1019880" indent="-201600">
              <a:lnSpc>
                <a:spcPct val="100000"/>
              </a:lnSpc>
              <a:spcBef>
                <a:spcPts val="235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1019880"/>
              </a:tabLst>
            </a:pP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limi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hoic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reasonable</a:t>
            </a:r>
            <a:r>
              <a:rPr b="0" lang="en-US" sz="1940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3019"/>
              </a:lnSpc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This limitation </a:t>
            </a:r>
            <a:r>
              <a:rPr b="0" lang="en-US" sz="2640" spc="-9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rooted in all </a:t>
            </a:r>
            <a:r>
              <a:rPr b="0" lang="en-US" sz="2640" spc="-63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related</a:t>
            </a:r>
            <a:r>
              <a:rPr b="0" lang="en-US" sz="2640" spc="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marL="313920">
              <a:lnSpc>
                <a:spcPts val="3019"/>
              </a:lnSpc>
              <a:tabLst>
                <a:tab algn="l" pos="313200"/>
                <a:tab algn="l" pos="313920"/>
              </a:tabLst>
            </a:pP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640" spc="-63" strike="noStrike">
                <a:solidFill>
                  <a:srgbClr val="000000"/>
                </a:solidFill>
                <a:latin typeface="Times New Roman"/>
              </a:rPr>
              <a:t>Don’t </a:t>
            </a:r>
            <a:r>
              <a:rPr b="0" i="1" lang="en-US" sz="2640" spc="-4" strike="noStrike">
                <a:solidFill>
                  <a:srgbClr val="000000"/>
                </a:solidFill>
                <a:latin typeface="Times New Roman"/>
              </a:rPr>
              <a:t>take action until compliance </a:t>
            </a:r>
            <a:r>
              <a:rPr b="0" i="1" lang="en-US" sz="2640" spc="-9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640" spc="-4" strike="noStrike">
                <a:solidFill>
                  <a:srgbClr val="000000"/>
                </a:solidFill>
                <a:latin typeface="Times New Roman"/>
              </a:rPr>
              <a:t>achieved</a:t>
            </a:r>
            <a:r>
              <a:rPr b="0" i="1" lang="en-US" sz="2640" spc="18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4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bject 5"/>
          <p:cNvSpPr/>
          <p:nvPr/>
        </p:nvSpPr>
        <p:spPr>
          <a:xfrm>
            <a:off x="8756640" y="2991240"/>
            <a:ext cx="1075320" cy="961560"/>
          </a:xfrm>
          <a:custGeom>
            <a:avLst/>
            <a:gdLst>
              <a:gd name="textAreaLeft" fmla="*/ 0 w 1075320"/>
              <a:gd name="textAreaRight" fmla="*/ 1075680 w 1075320"/>
              <a:gd name="textAreaTop" fmla="*/ 0 h 961560"/>
              <a:gd name="textAreaBottom" fmla="*/ 961920 h 961560"/>
            </a:gdLst>
            <a:ahLst/>
            <a:rect l="textAreaLeft" t="textAreaTop" r="textAreaRight" b="textAreaBottom"/>
            <a:pathLst>
              <a:path w="1219200" h="1090295">
                <a:moveTo>
                  <a:pt x="608076" y="0"/>
                </a:moveTo>
                <a:lnTo>
                  <a:pt x="547243" y="3048"/>
                </a:lnTo>
                <a:lnTo>
                  <a:pt x="486283" y="12319"/>
                </a:lnTo>
                <a:lnTo>
                  <a:pt x="428244" y="24511"/>
                </a:lnTo>
                <a:lnTo>
                  <a:pt x="373507" y="42672"/>
                </a:lnTo>
                <a:lnTo>
                  <a:pt x="320040" y="65659"/>
                </a:lnTo>
                <a:lnTo>
                  <a:pt x="269875" y="93091"/>
                </a:lnTo>
                <a:lnTo>
                  <a:pt x="222504" y="123444"/>
                </a:lnTo>
                <a:lnTo>
                  <a:pt x="179832" y="158623"/>
                </a:lnTo>
                <a:lnTo>
                  <a:pt x="122047" y="218059"/>
                </a:lnTo>
                <a:lnTo>
                  <a:pt x="88519" y="262255"/>
                </a:lnTo>
                <a:lnTo>
                  <a:pt x="73279" y="285115"/>
                </a:lnTo>
                <a:lnTo>
                  <a:pt x="47244" y="332359"/>
                </a:lnTo>
                <a:lnTo>
                  <a:pt x="27432" y="382651"/>
                </a:lnTo>
                <a:lnTo>
                  <a:pt x="12319" y="435991"/>
                </a:lnTo>
                <a:lnTo>
                  <a:pt x="6096" y="463423"/>
                </a:lnTo>
                <a:lnTo>
                  <a:pt x="3175" y="490855"/>
                </a:lnTo>
                <a:lnTo>
                  <a:pt x="0" y="518287"/>
                </a:lnTo>
                <a:lnTo>
                  <a:pt x="0" y="574548"/>
                </a:lnTo>
                <a:lnTo>
                  <a:pt x="3175" y="601980"/>
                </a:lnTo>
                <a:lnTo>
                  <a:pt x="12319" y="656844"/>
                </a:lnTo>
                <a:lnTo>
                  <a:pt x="19938" y="682879"/>
                </a:lnTo>
                <a:lnTo>
                  <a:pt x="27432" y="708787"/>
                </a:lnTo>
                <a:lnTo>
                  <a:pt x="48768" y="759079"/>
                </a:lnTo>
                <a:lnTo>
                  <a:pt x="74676" y="807847"/>
                </a:lnTo>
                <a:lnTo>
                  <a:pt x="105282" y="851916"/>
                </a:lnTo>
                <a:lnTo>
                  <a:pt x="140208" y="894715"/>
                </a:lnTo>
                <a:lnTo>
                  <a:pt x="179832" y="932815"/>
                </a:lnTo>
                <a:lnTo>
                  <a:pt x="224154" y="967740"/>
                </a:lnTo>
                <a:lnTo>
                  <a:pt x="271272" y="998347"/>
                </a:lnTo>
                <a:lnTo>
                  <a:pt x="321564" y="1025779"/>
                </a:lnTo>
                <a:lnTo>
                  <a:pt x="374904" y="1048512"/>
                </a:lnTo>
                <a:lnTo>
                  <a:pt x="458851" y="1073023"/>
                </a:lnTo>
                <a:lnTo>
                  <a:pt x="518287" y="1083691"/>
                </a:lnTo>
                <a:lnTo>
                  <a:pt x="579247" y="1089787"/>
                </a:lnTo>
                <a:lnTo>
                  <a:pt x="641604" y="1089787"/>
                </a:lnTo>
                <a:lnTo>
                  <a:pt x="702564" y="1083691"/>
                </a:lnTo>
                <a:lnTo>
                  <a:pt x="731647" y="1079119"/>
                </a:lnTo>
                <a:lnTo>
                  <a:pt x="762000" y="1073023"/>
                </a:lnTo>
                <a:lnTo>
                  <a:pt x="789432" y="1065276"/>
                </a:lnTo>
                <a:lnTo>
                  <a:pt x="818515" y="1057783"/>
                </a:lnTo>
                <a:lnTo>
                  <a:pt x="873379" y="1036447"/>
                </a:lnTo>
                <a:lnTo>
                  <a:pt x="899287" y="1024255"/>
                </a:lnTo>
                <a:lnTo>
                  <a:pt x="920293" y="1013587"/>
                </a:lnTo>
                <a:lnTo>
                  <a:pt x="580644" y="1013587"/>
                </a:lnTo>
                <a:lnTo>
                  <a:pt x="525907" y="1007491"/>
                </a:lnTo>
                <a:lnTo>
                  <a:pt x="448183" y="992251"/>
                </a:lnTo>
                <a:lnTo>
                  <a:pt x="374904" y="966216"/>
                </a:lnTo>
                <a:lnTo>
                  <a:pt x="330708" y="944880"/>
                </a:lnTo>
                <a:lnTo>
                  <a:pt x="268351" y="905383"/>
                </a:lnTo>
                <a:lnTo>
                  <a:pt x="230251" y="874776"/>
                </a:lnTo>
                <a:lnTo>
                  <a:pt x="195072" y="841248"/>
                </a:lnTo>
                <a:lnTo>
                  <a:pt x="164719" y="804672"/>
                </a:lnTo>
                <a:lnTo>
                  <a:pt x="138811" y="766572"/>
                </a:lnTo>
                <a:lnTo>
                  <a:pt x="115951" y="725551"/>
                </a:lnTo>
                <a:lnTo>
                  <a:pt x="99187" y="682879"/>
                </a:lnTo>
                <a:lnTo>
                  <a:pt x="82296" y="614172"/>
                </a:lnTo>
                <a:lnTo>
                  <a:pt x="76301" y="569976"/>
                </a:lnTo>
                <a:lnTo>
                  <a:pt x="76200" y="519811"/>
                </a:lnTo>
                <a:lnTo>
                  <a:pt x="79375" y="496951"/>
                </a:lnTo>
                <a:lnTo>
                  <a:pt x="82296" y="474091"/>
                </a:lnTo>
                <a:lnTo>
                  <a:pt x="92964" y="428244"/>
                </a:lnTo>
                <a:lnTo>
                  <a:pt x="108204" y="384048"/>
                </a:lnTo>
                <a:lnTo>
                  <a:pt x="128143" y="342900"/>
                </a:lnTo>
                <a:lnTo>
                  <a:pt x="152400" y="303276"/>
                </a:lnTo>
                <a:lnTo>
                  <a:pt x="196596" y="248412"/>
                </a:lnTo>
                <a:lnTo>
                  <a:pt x="231775" y="215011"/>
                </a:lnTo>
                <a:lnTo>
                  <a:pt x="268351" y="184404"/>
                </a:lnTo>
                <a:lnTo>
                  <a:pt x="289687" y="170815"/>
                </a:lnTo>
                <a:lnTo>
                  <a:pt x="309372" y="156972"/>
                </a:lnTo>
                <a:lnTo>
                  <a:pt x="353568" y="134112"/>
                </a:lnTo>
                <a:lnTo>
                  <a:pt x="400939" y="114300"/>
                </a:lnTo>
                <a:lnTo>
                  <a:pt x="449706" y="97536"/>
                </a:lnTo>
                <a:lnTo>
                  <a:pt x="501395" y="86868"/>
                </a:lnTo>
                <a:lnTo>
                  <a:pt x="554736" y="79248"/>
                </a:lnTo>
                <a:lnTo>
                  <a:pt x="609600" y="76200"/>
                </a:lnTo>
                <a:lnTo>
                  <a:pt x="918827" y="76200"/>
                </a:lnTo>
                <a:lnTo>
                  <a:pt x="897636" y="65659"/>
                </a:lnTo>
                <a:lnTo>
                  <a:pt x="844296" y="42672"/>
                </a:lnTo>
                <a:lnTo>
                  <a:pt x="787908" y="24511"/>
                </a:lnTo>
                <a:lnTo>
                  <a:pt x="729996" y="12319"/>
                </a:lnTo>
                <a:lnTo>
                  <a:pt x="701040" y="6223"/>
                </a:lnTo>
                <a:lnTo>
                  <a:pt x="670687" y="3048"/>
                </a:lnTo>
                <a:lnTo>
                  <a:pt x="608076" y="0"/>
                </a:lnTo>
                <a:close/>
              </a:path>
              <a:path w="1219200" h="1090295">
                <a:moveTo>
                  <a:pt x="918827" y="76200"/>
                </a:moveTo>
                <a:lnTo>
                  <a:pt x="609600" y="76200"/>
                </a:lnTo>
                <a:lnTo>
                  <a:pt x="664464" y="79248"/>
                </a:lnTo>
                <a:lnTo>
                  <a:pt x="691896" y="82423"/>
                </a:lnTo>
                <a:lnTo>
                  <a:pt x="743839" y="91440"/>
                </a:lnTo>
                <a:lnTo>
                  <a:pt x="818515" y="114300"/>
                </a:lnTo>
                <a:lnTo>
                  <a:pt x="865632" y="134112"/>
                </a:lnTo>
                <a:lnTo>
                  <a:pt x="909955" y="158623"/>
                </a:lnTo>
                <a:lnTo>
                  <a:pt x="950976" y="186055"/>
                </a:lnTo>
                <a:lnTo>
                  <a:pt x="989076" y="216408"/>
                </a:lnTo>
                <a:lnTo>
                  <a:pt x="1022604" y="249936"/>
                </a:lnTo>
                <a:lnTo>
                  <a:pt x="1037844" y="268351"/>
                </a:lnTo>
                <a:lnTo>
                  <a:pt x="1053211" y="286512"/>
                </a:lnTo>
                <a:lnTo>
                  <a:pt x="1079119" y="324612"/>
                </a:lnTo>
                <a:lnTo>
                  <a:pt x="1101979" y="365887"/>
                </a:lnTo>
                <a:lnTo>
                  <a:pt x="1118743" y="408559"/>
                </a:lnTo>
                <a:lnTo>
                  <a:pt x="1132332" y="452755"/>
                </a:lnTo>
                <a:lnTo>
                  <a:pt x="1140079" y="498348"/>
                </a:lnTo>
                <a:lnTo>
                  <a:pt x="1141476" y="522859"/>
                </a:lnTo>
                <a:lnTo>
                  <a:pt x="1143000" y="547116"/>
                </a:lnTo>
                <a:lnTo>
                  <a:pt x="1141476" y="569976"/>
                </a:lnTo>
                <a:lnTo>
                  <a:pt x="1140079" y="594487"/>
                </a:lnTo>
                <a:lnTo>
                  <a:pt x="1136904" y="617347"/>
                </a:lnTo>
                <a:lnTo>
                  <a:pt x="1126236" y="662940"/>
                </a:lnTo>
                <a:lnTo>
                  <a:pt x="1110996" y="705612"/>
                </a:lnTo>
                <a:lnTo>
                  <a:pt x="1089787" y="746887"/>
                </a:lnTo>
                <a:lnTo>
                  <a:pt x="1079119" y="768223"/>
                </a:lnTo>
                <a:lnTo>
                  <a:pt x="1065276" y="786511"/>
                </a:lnTo>
                <a:lnTo>
                  <a:pt x="1051687" y="806323"/>
                </a:lnTo>
                <a:lnTo>
                  <a:pt x="1037844" y="824611"/>
                </a:lnTo>
                <a:lnTo>
                  <a:pt x="1021207" y="842772"/>
                </a:lnTo>
                <a:lnTo>
                  <a:pt x="987679" y="876300"/>
                </a:lnTo>
                <a:lnTo>
                  <a:pt x="969263" y="891540"/>
                </a:lnTo>
                <a:lnTo>
                  <a:pt x="949579" y="905383"/>
                </a:lnTo>
                <a:lnTo>
                  <a:pt x="929640" y="920623"/>
                </a:lnTo>
                <a:lnTo>
                  <a:pt x="886968" y="944880"/>
                </a:lnTo>
                <a:lnTo>
                  <a:pt x="841375" y="967740"/>
                </a:lnTo>
                <a:lnTo>
                  <a:pt x="768096" y="992251"/>
                </a:lnTo>
                <a:lnTo>
                  <a:pt x="716407" y="1004316"/>
                </a:lnTo>
                <a:lnTo>
                  <a:pt x="662940" y="1011936"/>
                </a:lnTo>
                <a:lnTo>
                  <a:pt x="635508" y="1013587"/>
                </a:lnTo>
                <a:lnTo>
                  <a:pt x="920293" y="1013587"/>
                </a:lnTo>
                <a:lnTo>
                  <a:pt x="972438" y="982980"/>
                </a:lnTo>
                <a:lnTo>
                  <a:pt x="1018032" y="949579"/>
                </a:lnTo>
                <a:lnTo>
                  <a:pt x="1059307" y="912876"/>
                </a:lnTo>
                <a:lnTo>
                  <a:pt x="1097407" y="871855"/>
                </a:lnTo>
                <a:lnTo>
                  <a:pt x="1129411" y="829183"/>
                </a:lnTo>
                <a:lnTo>
                  <a:pt x="1158240" y="781812"/>
                </a:lnTo>
                <a:lnTo>
                  <a:pt x="1181100" y="733044"/>
                </a:lnTo>
                <a:lnTo>
                  <a:pt x="1199515" y="681355"/>
                </a:lnTo>
                <a:lnTo>
                  <a:pt x="1211707" y="628015"/>
                </a:lnTo>
                <a:lnTo>
                  <a:pt x="1217915" y="568579"/>
                </a:lnTo>
                <a:lnTo>
                  <a:pt x="1219200" y="544068"/>
                </a:lnTo>
                <a:lnTo>
                  <a:pt x="1217676" y="516636"/>
                </a:lnTo>
                <a:lnTo>
                  <a:pt x="1216279" y="487680"/>
                </a:lnTo>
                <a:lnTo>
                  <a:pt x="1211707" y="460248"/>
                </a:lnTo>
                <a:lnTo>
                  <a:pt x="1205611" y="434340"/>
                </a:lnTo>
                <a:lnTo>
                  <a:pt x="1199515" y="406908"/>
                </a:lnTo>
                <a:lnTo>
                  <a:pt x="1190244" y="381000"/>
                </a:lnTo>
                <a:lnTo>
                  <a:pt x="1181100" y="355219"/>
                </a:lnTo>
                <a:lnTo>
                  <a:pt x="1170432" y="330708"/>
                </a:lnTo>
                <a:lnTo>
                  <a:pt x="1156843" y="306451"/>
                </a:lnTo>
                <a:lnTo>
                  <a:pt x="1143000" y="283591"/>
                </a:lnTo>
                <a:lnTo>
                  <a:pt x="1129411" y="260604"/>
                </a:lnTo>
                <a:lnTo>
                  <a:pt x="1095883" y="216408"/>
                </a:lnTo>
                <a:lnTo>
                  <a:pt x="1057783" y="176911"/>
                </a:lnTo>
                <a:lnTo>
                  <a:pt x="1016508" y="140208"/>
                </a:lnTo>
                <a:lnTo>
                  <a:pt x="970915" y="106680"/>
                </a:lnTo>
                <a:lnTo>
                  <a:pt x="922147" y="77851"/>
                </a:lnTo>
                <a:lnTo>
                  <a:pt x="918827" y="7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2" name="object 6"/>
          <p:cNvSpPr/>
          <p:nvPr/>
        </p:nvSpPr>
        <p:spPr>
          <a:xfrm>
            <a:off x="9105480" y="3187080"/>
            <a:ext cx="354960" cy="510480"/>
          </a:xfrm>
          <a:custGeom>
            <a:avLst/>
            <a:gdLst>
              <a:gd name="textAreaLeft" fmla="*/ 0 w 354960"/>
              <a:gd name="textAreaRight" fmla="*/ 355320 w 354960"/>
              <a:gd name="textAreaTop" fmla="*/ 0 h 510480"/>
              <a:gd name="textAreaBottom" fmla="*/ 510840 h 510480"/>
            </a:gdLst>
            <a:ahLst/>
            <a:rect l="textAreaLeft" t="textAreaTop" r="textAreaRight" b="textAreaBottom"/>
            <a:pathLst>
              <a:path w="402590" h="579120">
                <a:moveTo>
                  <a:pt x="77724" y="371856"/>
                </a:moveTo>
                <a:lnTo>
                  <a:pt x="0" y="371856"/>
                </a:lnTo>
                <a:lnTo>
                  <a:pt x="0" y="387096"/>
                </a:lnTo>
                <a:lnTo>
                  <a:pt x="1524" y="408432"/>
                </a:lnTo>
                <a:lnTo>
                  <a:pt x="3175" y="425196"/>
                </a:lnTo>
                <a:lnTo>
                  <a:pt x="6096" y="445135"/>
                </a:lnTo>
                <a:lnTo>
                  <a:pt x="13842" y="464820"/>
                </a:lnTo>
                <a:lnTo>
                  <a:pt x="21335" y="484632"/>
                </a:lnTo>
                <a:lnTo>
                  <a:pt x="30607" y="499999"/>
                </a:lnTo>
                <a:lnTo>
                  <a:pt x="38100" y="512064"/>
                </a:lnTo>
                <a:lnTo>
                  <a:pt x="51943" y="527431"/>
                </a:lnTo>
                <a:lnTo>
                  <a:pt x="62611" y="536575"/>
                </a:lnTo>
                <a:lnTo>
                  <a:pt x="74803" y="550164"/>
                </a:lnTo>
                <a:lnTo>
                  <a:pt x="105155" y="565531"/>
                </a:lnTo>
                <a:lnTo>
                  <a:pt x="128143" y="571500"/>
                </a:lnTo>
                <a:lnTo>
                  <a:pt x="152400" y="574675"/>
                </a:lnTo>
                <a:lnTo>
                  <a:pt x="172339" y="577596"/>
                </a:lnTo>
                <a:lnTo>
                  <a:pt x="193675" y="579120"/>
                </a:lnTo>
                <a:lnTo>
                  <a:pt x="224028" y="577596"/>
                </a:lnTo>
                <a:lnTo>
                  <a:pt x="280543" y="566928"/>
                </a:lnTo>
                <a:lnTo>
                  <a:pt x="315468" y="551688"/>
                </a:lnTo>
                <a:lnTo>
                  <a:pt x="350647" y="525907"/>
                </a:lnTo>
                <a:lnTo>
                  <a:pt x="368500" y="502920"/>
                </a:lnTo>
                <a:lnTo>
                  <a:pt x="192024" y="502920"/>
                </a:lnTo>
                <a:lnTo>
                  <a:pt x="169164" y="501396"/>
                </a:lnTo>
                <a:lnTo>
                  <a:pt x="123571" y="480060"/>
                </a:lnTo>
                <a:lnTo>
                  <a:pt x="96139" y="451231"/>
                </a:lnTo>
                <a:lnTo>
                  <a:pt x="79375" y="400939"/>
                </a:lnTo>
                <a:lnTo>
                  <a:pt x="77724" y="371856"/>
                </a:lnTo>
                <a:close/>
              </a:path>
              <a:path w="402590" h="579120">
                <a:moveTo>
                  <a:pt x="224028" y="0"/>
                </a:moveTo>
                <a:lnTo>
                  <a:pt x="166243" y="0"/>
                </a:lnTo>
                <a:lnTo>
                  <a:pt x="140335" y="4699"/>
                </a:lnTo>
                <a:lnTo>
                  <a:pt x="102235" y="13843"/>
                </a:lnTo>
                <a:lnTo>
                  <a:pt x="68707" y="32131"/>
                </a:lnTo>
                <a:lnTo>
                  <a:pt x="62611" y="39624"/>
                </a:lnTo>
                <a:lnTo>
                  <a:pt x="47371" y="53467"/>
                </a:lnTo>
                <a:lnTo>
                  <a:pt x="19939" y="94488"/>
                </a:lnTo>
                <a:lnTo>
                  <a:pt x="9271" y="135636"/>
                </a:lnTo>
                <a:lnTo>
                  <a:pt x="7746" y="153924"/>
                </a:lnTo>
                <a:lnTo>
                  <a:pt x="9271" y="176911"/>
                </a:lnTo>
                <a:lnTo>
                  <a:pt x="21335" y="227203"/>
                </a:lnTo>
                <a:lnTo>
                  <a:pt x="41275" y="262128"/>
                </a:lnTo>
                <a:lnTo>
                  <a:pt x="64135" y="284988"/>
                </a:lnTo>
                <a:lnTo>
                  <a:pt x="74803" y="294132"/>
                </a:lnTo>
                <a:lnTo>
                  <a:pt x="91567" y="300228"/>
                </a:lnTo>
                <a:lnTo>
                  <a:pt x="115823" y="307975"/>
                </a:lnTo>
                <a:lnTo>
                  <a:pt x="147828" y="314071"/>
                </a:lnTo>
                <a:lnTo>
                  <a:pt x="181356" y="318643"/>
                </a:lnTo>
                <a:lnTo>
                  <a:pt x="217932" y="324739"/>
                </a:lnTo>
                <a:lnTo>
                  <a:pt x="262128" y="335407"/>
                </a:lnTo>
                <a:lnTo>
                  <a:pt x="297307" y="356743"/>
                </a:lnTo>
                <a:lnTo>
                  <a:pt x="309499" y="382524"/>
                </a:lnTo>
                <a:lnTo>
                  <a:pt x="309499" y="413131"/>
                </a:lnTo>
                <a:lnTo>
                  <a:pt x="306324" y="428371"/>
                </a:lnTo>
                <a:lnTo>
                  <a:pt x="303403" y="446532"/>
                </a:lnTo>
                <a:lnTo>
                  <a:pt x="295656" y="457200"/>
                </a:lnTo>
                <a:lnTo>
                  <a:pt x="289560" y="466471"/>
                </a:lnTo>
                <a:lnTo>
                  <a:pt x="282067" y="477139"/>
                </a:lnTo>
                <a:lnTo>
                  <a:pt x="268224" y="487807"/>
                </a:lnTo>
                <a:lnTo>
                  <a:pt x="249936" y="495300"/>
                </a:lnTo>
                <a:lnTo>
                  <a:pt x="231775" y="499999"/>
                </a:lnTo>
                <a:lnTo>
                  <a:pt x="205867" y="502920"/>
                </a:lnTo>
                <a:lnTo>
                  <a:pt x="368500" y="502920"/>
                </a:lnTo>
                <a:lnTo>
                  <a:pt x="390271" y="457200"/>
                </a:lnTo>
                <a:lnTo>
                  <a:pt x="399415" y="419100"/>
                </a:lnTo>
                <a:lnTo>
                  <a:pt x="402336" y="394843"/>
                </a:lnTo>
                <a:lnTo>
                  <a:pt x="402336" y="378079"/>
                </a:lnTo>
                <a:lnTo>
                  <a:pt x="390271" y="329311"/>
                </a:lnTo>
                <a:lnTo>
                  <a:pt x="364236" y="289560"/>
                </a:lnTo>
                <a:lnTo>
                  <a:pt x="320167" y="263779"/>
                </a:lnTo>
                <a:lnTo>
                  <a:pt x="297307" y="257556"/>
                </a:lnTo>
                <a:lnTo>
                  <a:pt x="275971" y="249936"/>
                </a:lnTo>
                <a:lnTo>
                  <a:pt x="242443" y="243967"/>
                </a:lnTo>
                <a:lnTo>
                  <a:pt x="211836" y="239268"/>
                </a:lnTo>
                <a:lnTo>
                  <a:pt x="185928" y="236220"/>
                </a:lnTo>
                <a:lnTo>
                  <a:pt x="160147" y="231775"/>
                </a:lnTo>
                <a:lnTo>
                  <a:pt x="120396" y="219456"/>
                </a:lnTo>
                <a:lnTo>
                  <a:pt x="91567" y="184531"/>
                </a:lnTo>
                <a:lnTo>
                  <a:pt x="88392" y="152400"/>
                </a:lnTo>
                <a:lnTo>
                  <a:pt x="91567" y="140335"/>
                </a:lnTo>
                <a:lnTo>
                  <a:pt x="92964" y="128143"/>
                </a:lnTo>
                <a:lnTo>
                  <a:pt x="132715" y="91567"/>
                </a:lnTo>
                <a:lnTo>
                  <a:pt x="170815" y="77724"/>
                </a:lnTo>
                <a:lnTo>
                  <a:pt x="189103" y="76200"/>
                </a:lnTo>
                <a:lnTo>
                  <a:pt x="358267" y="76200"/>
                </a:lnTo>
                <a:lnTo>
                  <a:pt x="348996" y="60960"/>
                </a:lnTo>
                <a:lnTo>
                  <a:pt x="304800" y="24511"/>
                </a:lnTo>
                <a:lnTo>
                  <a:pt x="251460" y="4699"/>
                </a:lnTo>
                <a:lnTo>
                  <a:pt x="224028" y="0"/>
                </a:lnTo>
                <a:close/>
              </a:path>
              <a:path w="402590" h="579120">
                <a:moveTo>
                  <a:pt x="358267" y="76200"/>
                </a:moveTo>
                <a:lnTo>
                  <a:pt x="189103" y="76200"/>
                </a:lnTo>
                <a:lnTo>
                  <a:pt x="222504" y="82296"/>
                </a:lnTo>
                <a:lnTo>
                  <a:pt x="245364" y="88392"/>
                </a:lnTo>
                <a:lnTo>
                  <a:pt x="291211" y="121920"/>
                </a:lnTo>
                <a:lnTo>
                  <a:pt x="306324" y="160020"/>
                </a:lnTo>
                <a:lnTo>
                  <a:pt x="307975" y="176911"/>
                </a:lnTo>
                <a:lnTo>
                  <a:pt x="307975" y="198120"/>
                </a:lnTo>
                <a:lnTo>
                  <a:pt x="385699" y="198120"/>
                </a:lnTo>
                <a:lnTo>
                  <a:pt x="385699" y="160020"/>
                </a:lnTo>
                <a:lnTo>
                  <a:pt x="382524" y="132588"/>
                </a:lnTo>
                <a:lnTo>
                  <a:pt x="374904" y="112903"/>
                </a:lnTo>
                <a:lnTo>
                  <a:pt x="365760" y="92964"/>
                </a:lnTo>
                <a:lnTo>
                  <a:pt x="358267" y="76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object 7"/>
          <p:cNvSpPr/>
          <p:nvPr/>
        </p:nvSpPr>
        <p:spPr>
          <a:xfrm>
            <a:off x="9280800" y="3143880"/>
            <a:ext cx="360" cy="623880"/>
          </a:xfrm>
          <a:custGeom>
            <a:avLst/>
            <a:gdLst>
              <a:gd name="textAreaLeft" fmla="*/ 0 w 360"/>
              <a:gd name="textAreaRight" fmla="*/ 720 w 3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0" h="707389">
                <a:moveTo>
                  <a:pt x="0" y="0"/>
                </a:moveTo>
                <a:lnTo>
                  <a:pt x="0" y="707009"/>
                </a:lnTo>
              </a:path>
            </a:pathLst>
          </a:custGeom>
          <a:noFill/>
          <a:ln w="5321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object 8"/>
          <p:cNvSpPr/>
          <p:nvPr/>
        </p:nvSpPr>
        <p:spPr>
          <a:xfrm>
            <a:off x="8883720" y="3115800"/>
            <a:ext cx="821520" cy="712800"/>
          </a:xfrm>
          <a:custGeom>
            <a:avLst/>
            <a:gdLst>
              <a:gd name="textAreaLeft" fmla="*/ 0 w 821520"/>
              <a:gd name="textAreaRight" fmla="*/ 821880 w 82152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931545" h="808354">
                <a:moveTo>
                  <a:pt x="880872" y="0"/>
                </a:moveTo>
                <a:lnTo>
                  <a:pt x="0" y="749808"/>
                </a:lnTo>
                <a:lnTo>
                  <a:pt x="50165" y="807847"/>
                </a:lnTo>
                <a:lnTo>
                  <a:pt x="931037" y="58039"/>
                </a:lnTo>
                <a:lnTo>
                  <a:pt x="88087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97600" y="995760"/>
            <a:ext cx="7162560" cy="11563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Section 58.22 Limitation on Third</a:t>
            </a:r>
            <a:r>
              <a:rPr b="1" lang="en-US" sz="3170" spc="-3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Parties</a:t>
            </a:r>
            <a:endParaRPr b="0" lang="en-US" sz="31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object 3"/>
          <p:cNvSpPr/>
          <p:nvPr/>
        </p:nvSpPr>
        <p:spPr>
          <a:xfrm>
            <a:off x="1948320" y="2377080"/>
            <a:ext cx="7244640" cy="34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313200" indent="-302400">
              <a:lnSpc>
                <a:spcPct val="100000"/>
              </a:lnSpc>
              <a:spcBef>
                <a:spcPts val="88"/>
              </a:spcBef>
              <a:tabLst>
                <a:tab algn="l" pos="0"/>
              </a:tabLst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en-US" sz="2830" spc="1" strike="noStrike">
                <a:solidFill>
                  <a:srgbClr val="000000"/>
                </a:solidFill>
                <a:latin typeface="Times New Roman"/>
              </a:rPr>
              <a:t>58.22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extends this prohibition to third</a:t>
            </a:r>
            <a:r>
              <a:rPr b="0" lang="en-US" sz="283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arties,  including: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618480" indent="-40356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618480"/>
                <a:tab algn="l" pos="61920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Recipients,</a:t>
            </a:r>
            <a:r>
              <a:rPr b="0" lang="en-US" sz="283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3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and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618480" indent="-40356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618480"/>
                <a:tab algn="l" pos="61920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articipants in the development</a:t>
            </a:r>
            <a:r>
              <a:rPr b="0" lang="en-US" sz="283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920160" indent="-306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20520"/>
              </a:tabLst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or Private</a:t>
            </a:r>
            <a:r>
              <a:rPr b="0" lang="en-US" sz="283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Nonprofit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920160" indent="-30636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–"/>
              <a:tabLst>
                <a:tab algn="l" pos="920520"/>
              </a:tabLst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en-US" sz="283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Entitie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920160" indent="-3063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205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Contractor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ject 4"/>
          <p:cNvSpPr/>
          <p:nvPr/>
        </p:nvSpPr>
        <p:spPr>
          <a:xfrm>
            <a:off x="8278560" y="3933360"/>
            <a:ext cx="1281600" cy="1142640"/>
          </a:xfrm>
          <a:custGeom>
            <a:avLst/>
            <a:gdLst>
              <a:gd name="textAreaLeft" fmla="*/ 0 w 1281600"/>
              <a:gd name="textAreaRight" fmla="*/ 1281960 w 1281600"/>
              <a:gd name="textAreaTop" fmla="*/ 0 h 1142640"/>
              <a:gd name="textAreaBottom" fmla="*/ 1143000 h 1142640"/>
            </a:gdLst>
            <a:ahLst/>
            <a:rect l="textAreaLeft" t="textAreaTop" r="textAreaRight" b="textAreaBottom"/>
            <a:pathLst>
              <a:path w="1452879" h="1295400">
                <a:moveTo>
                  <a:pt x="975233" y="1257300"/>
                </a:moveTo>
                <a:lnTo>
                  <a:pt x="478536" y="1257300"/>
                </a:lnTo>
                <a:lnTo>
                  <a:pt x="511937" y="1270000"/>
                </a:lnTo>
                <a:lnTo>
                  <a:pt x="582168" y="1295400"/>
                </a:lnTo>
                <a:lnTo>
                  <a:pt x="871601" y="1295400"/>
                </a:lnTo>
                <a:lnTo>
                  <a:pt x="941832" y="1270000"/>
                </a:lnTo>
                <a:lnTo>
                  <a:pt x="975233" y="1257300"/>
                </a:lnTo>
                <a:close/>
              </a:path>
              <a:path w="1452879" h="1295400">
                <a:moveTo>
                  <a:pt x="905129" y="25399"/>
                </a:moveTo>
                <a:lnTo>
                  <a:pt x="545465" y="25399"/>
                </a:lnTo>
                <a:lnTo>
                  <a:pt x="510540" y="38099"/>
                </a:lnTo>
                <a:lnTo>
                  <a:pt x="477012" y="50799"/>
                </a:lnTo>
                <a:lnTo>
                  <a:pt x="445008" y="63499"/>
                </a:lnTo>
                <a:lnTo>
                  <a:pt x="411480" y="76199"/>
                </a:lnTo>
                <a:lnTo>
                  <a:pt x="350393" y="101599"/>
                </a:lnTo>
                <a:lnTo>
                  <a:pt x="321437" y="114299"/>
                </a:lnTo>
                <a:lnTo>
                  <a:pt x="292608" y="139699"/>
                </a:lnTo>
                <a:lnTo>
                  <a:pt x="265176" y="152399"/>
                </a:lnTo>
                <a:lnTo>
                  <a:pt x="239268" y="177799"/>
                </a:lnTo>
                <a:lnTo>
                  <a:pt x="213233" y="190499"/>
                </a:lnTo>
                <a:lnTo>
                  <a:pt x="144780" y="266699"/>
                </a:lnTo>
                <a:lnTo>
                  <a:pt x="124968" y="292099"/>
                </a:lnTo>
                <a:lnTo>
                  <a:pt x="88265" y="342899"/>
                </a:lnTo>
                <a:lnTo>
                  <a:pt x="73025" y="368299"/>
                </a:lnTo>
                <a:lnTo>
                  <a:pt x="57912" y="406399"/>
                </a:lnTo>
                <a:lnTo>
                  <a:pt x="44069" y="431799"/>
                </a:lnTo>
                <a:lnTo>
                  <a:pt x="33401" y="457199"/>
                </a:lnTo>
                <a:lnTo>
                  <a:pt x="22733" y="495299"/>
                </a:lnTo>
                <a:lnTo>
                  <a:pt x="15240" y="520699"/>
                </a:lnTo>
                <a:lnTo>
                  <a:pt x="9144" y="558799"/>
                </a:lnTo>
                <a:lnTo>
                  <a:pt x="4572" y="584199"/>
                </a:lnTo>
                <a:lnTo>
                  <a:pt x="1397" y="622299"/>
                </a:lnTo>
                <a:lnTo>
                  <a:pt x="0" y="660399"/>
                </a:lnTo>
                <a:lnTo>
                  <a:pt x="1396" y="685799"/>
                </a:lnTo>
                <a:lnTo>
                  <a:pt x="4572" y="723899"/>
                </a:lnTo>
                <a:lnTo>
                  <a:pt x="9144" y="749299"/>
                </a:lnTo>
                <a:lnTo>
                  <a:pt x="15240" y="787399"/>
                </a:lnTo>
                <a:lnTo>
                  <a:pt x="24257" y="812799"/>
                </a:lnTo>
                <a:lnTo>
                  <a:pt x="33401" y="850900"/>
                </a:lnTo>
                <a:lnTo>
                  <a:pt x="45593" y="876300"/>
                </a:lnTo>
                <a:lnTo>
                  <a:pt x="57912" y="914400"/>
                </a:lnTo>
                <a:lnTo>
                  <a:pt x="89789" y="965200"/>
                </a:lnTo>
                <a:lnTo>
                  <a:pt x="126364" y="1016000"/>
                </a:lnTo>
                <a:lnTo>
                  <a:pt x="167640" y="1066800"/>
                </a:lnTo>
                <a:lnTo>
                  <a:pt x="214757" y="1117600"/>
                </a:lnTo>
                <a:lnTo>
                  <a:pt x="240665" y="1130300"/>
                </a:lnTo>
                <a:lnTo>
                  <a:pt x="266700" y="1155700"/>
                </a:lnTo>
                <a:lnTo>
                  <a:pt x="294132" y="1181100"/>
                </a:lnTo>
                <a:lnTo>
                  <a:pt x="352044" y="1206500"/>
                </a:lnTo>
                <a:lnTo>
                  <a:pt x="382397" y="1219200"/>
                </a:lnTo>
                <a:lnTo>
                  <a:pt x="414401" y="1244600"/>
                </a:lnTo>
                <a:lnTo>
                  <a:pt x="446531" y="1257300"/>
                </a:lnTo>
                <a:lnTo>
                  <a:pt x="1007237" y="1257300"/>
                </a:lnTo>
                <a:lnTo>
                  <a:pt x="1039368" y="1244600"/>
                </a:lnTo>
                <a:lnTo>
                  <a:pt x="1071372" y="1219200"/>
                </a:lnTo>
                <a:lnTo>
                  <a:pt x="592836" y="1219200"/>
                </a:lnTo>
                <a:lnTo>
                  <a:pt x="562229" y="1206500"/>
                </a:lnTo>
                <a:lnTo>
                  <a:pt x="530225" y="1193800"/>
                </a:lnTo>
                <a:lnTo>
                  <a:pt x="499872" y="1193800"/>
                </a:lnTo>
                <a:lnTo>
                  <a:pt x="441833" y="1168400"/>
                </a:lnTo>
                <a:lnTo>
                  <a:pt x="386969" y="1143000"/>
                </a:lnTo>
                <a:lnTo>
                  <a:pt x="361061" y="1130300"/>
                </a:lnTo>
                <a:lnTo>
                  <a:pt x="335280" y="1104900"/>
                </a:lnTo>
                <a:lnTo>
                  <a:pt x="286512" y="1079500"/>
                </a:lnTo>
                <a:lnTo>
                  <a:pt x="265176" y="1054100"/>
                </a:lnTo>
                <a:lnTo>
                  <a:pt x="243840" y="1041400"/>
                </a:lnTo>
                <a:lnTo>
                  <a:pt x="222504" y="1016000"/>
                </a:lnTo>
                <a:lnTo>
                  <a:pt x="185801" y="965200"/>
                </a:lnTo>
                <a:lnTo>
                  <a:pt x="169037" y="952500"/>
                </a:lnTo>
                <a:lnTo>
                  <a:pt x="138557" y="901700"/>
                </a:lnTo>
                <a:lnTo>
                  <a:pt x="114300" y="850900"/>
                </a:lnTo>
                <a:lnTo>
                  <a:pt x="96012" y="800099"/>
                </a:lnTo>
                <a:lnTo>
                  <a:pt x="89789" y="761999"/>
                </a:lnTo>
                <a:lnTo>
                  <a:pt x="83693" y="736599"/>
                </a:lnTo>
                <a:lnTo>
                  <a:pt x="79248" y="711199"/>
                </a:lnTo>
                <a:lnTo>
                  <a:pt x="77597" y="685799"/>
                </a:lnTo>
                <a:lnTo>
                  <a:pt x="76200" y="647699"/>
                </a:lnTo>
                <a:lnTo>
                  <a:pt x="77597" y="622299"/>
                </a:lnTo>
                <a:lnTo>
                  <a:pt x="79248" y="596899"/>
                </a:lnTo>
                <a:lnTo>
                  <a:pt x="83693" y="571499"/>
                </a:lnTo>
                <a:lnTo>
                  <a:pt x="89789" y="533399"/>
                </a:lnTo>
                <a:lnTo>
                  <a:pt x="97536" y="507999"/>
                </a:lnTo>
                <a:lnTo>
                  <a:pt x="105029" y="482599"/>
                </a:lnTo>
                <a:lnTo>
                  <a:pt x="115697" y="457199"/>
                </a:lnTo>
                <a:lnTo>
                  <a:pt x="140208" y="406399"/>
                </a:lnTo>
                <a:lnTo>
                  <a:pt x="187325" y="330199"/>
                </a:lnTo>
                <a:lnTo>
                  <a:pt x="204089" y="317499"/>
                </a:lnTo>
                <a:lnTo>
                  <a:pt x="243840" y="266699"/>
                </a:lnTo>
                <a:lnTo>
                  <a:pt x="265176" y="253999"/>
                </a:lnTo>
                <a:lnTo>
                  <a:pt x="288036" y="228599"/>
                </a:lnTo>
                <a:lnTo>
                  <a:pt x="312293" y="215899"/>
                </a:lnTo>
                <a:lnTo>
                  <a:pt x="388493" y="165099"/>
                </a:lnTo>
                <a:lnTo>
                  <a:pt x="443356" y="139699"/>
                </a:lnTo>
                <a:lnTo>
                  <a:pt x="502793" y="114299"/>
                </a:lnTo>
                <a:lnTo>
                  <a:pt x="531876" y="114299"/>
                </a:lnTo>
                <a:lnTo>
                  <a:pt x="595757" y="88899"/>
                </a:lnTo>
                <a:lnTo>
                  <a:pt x="693293" y="88899"/>
                </a:lnTo>
                <a:lnTo>
                  <a:pt x="726948" y="76199"/>
                </a:lnTo>
                <a:lnTo>
                  <a:pt x="1037844" y="76199"/>
                </a:lnTo>
                <a:lnTo>
                  <a:pt x="1005840" y="50799"/>
                </a:lnTo>
                <a:lnTo>
                  <a:pt x="973836" y="50799"/>
                </a:lnTo>
                <a:lnTo>
                  <a:pt x="940308" y="38099"/>
                </a:lnTo>
                <a:lnTo>
                  <a:pt x="905129" y="25399"/>
                </a:lnTo>
                <a:close/>
              </a:path>
              <a:path w="1452879" h="1295400">
                <a:moveTo>
                  <a:pt x="1037844" y="76199"/>
                </a:moveTo>
                <a:lnTo>
                  <a:pt x="726948" y="76199"/>
                </a:lnTo>
                <a:lnTo>
                  <a:pt x="760476" y="88899"/>
                </a:lnTo>
                <a:lnTo>
                  <a:pt x="858012" y="88899"/>
                </a:lnTo>
                <a:lnTo>
                  <a:pt x="889888" y="101599"/>
                </a:lnTo>
                <a:lnTo>
                  <a:pt x="920369" y="114299"/>
                </a:lnTo>
                <a:lnTo>
                  <a:pt x="950976" y="114299"/>
                </a:lnTo>
                <a:lnTo>
                  <a:pt x="981329" y="126999"/>
                </a:lnTo>
                <a:lnTo>
                  <a:pt x="1010412" y="139699"/>
                </a:lnTo>
                <a:lnTo>
                  <a:pt x="1065276" y="165099"/>
                </a:lnTo>
                <a:lnTo>
                  <a:pt x="1091057" y="177799"/>
                </a:lnTo>
                <a:lnTo>
                  <a:pt x="1116965" y="203199"/>
                </a:lnTo>
                <a:lnTo>
                  <a:pt x="1141476" y="215899"/>
                </a:lnTo>
                <a:lnTo>
                  <a:pt x="1164336" y="228599"/>
                </a:lnTo>
                <a:lnTo>
                  <a:pt x="1187069" y="253999"/>
                </a:lnTo>
                <a:lnTo>
                  <a:pt x="1208532" y="266699"/>
                </a:lnTo>
                <a:lnTo>
                  <a:pt x="1229868" y="292099"/>
                </a:lnTo>
                <a:lnTo>
                  <a:pt x="1248029" y="317499"/>
                </a:lnTo>
                <a:lnTo>
                  <a:pt x="1266444" y="342899"/>
                </a:lnTo>
                <a:lnTo>
                  <a:pt x="1283208" y="355599"/>
                </a:lnTo>
                <a:lnTo>
                  <a:pt x="1298448" y="380999"/>
                </a:lnTo>
                <a:lnTo>
                  <a:pt x="1312037" y="406399"/>
                </a:lnTo>
                <a:lnTo>
                  <a:pt x="1325880" y="431799"/>
                </a:lnTo>
                <a:lnTo>
                  <a:pt x="1336548" y="457199"/>
                </a:lnTo>
                <a:lnTo>
                  <a:pt x="1347089" y="482599"/>
                </a:lnTo>
                <a:lnTo>
                  <a:pt x="1356233" y="507999"/>
                </a:lnTo>
                <a:lnTo>
                  <a:pt x="1362329" y="546099"/>
                </a:lnTo>
                <a:lnTo>
                  <a:pt x="1368425" y="571499"/>
                </a:lnTo>
                <a:lnTo>
                  <a:pt x="1371600" y="596899"/>
                </a:lnTo>
                <a:lnTo>
                  <a:pt x="1374648" y="622299"/>
                </a:lnTo>
                <a:lnTo>
                  <a:pt x="1376172" y="660399"/>
                </a:lnTo>
                <a:lnTo>
                  <a:pt x="1374648" y="685799"/>
                </a:lnTo>
                <a:lnTo>
                  <a:pt x="1368425" y="736599"/>
                </a:lnTo>
                <a:lnTo>
                  <a:pt x="1362329" y="774699"/>
                </a:lnTo>
                <a:lnTo>
                  <a:pt x="1345565" y="825500"/>
                </a:lnTo>
                <a:lnTo>
                  <a:pt x="1336548" y="850900"/>
                </a:lnTo>
                <a:lnTo>
                  <a:pt x="1324229" y="876300"/>
                </a:lnTo>
                <a:lnTo>
                  <a:pt x="1312037" y="901700"/>
                </a:lnTo>
                <a:lnTo>
                  <a:pt x="1281557" y="952500"/>
                </a:lnTo>
                <a:lnTo>
                  <a:pt x="1264793" y="977900"/>
                </a:lnTo>
                <a:lnTo>
                  <a:pt x="1246632" y="990600"/>
                </a:lnTo>
                <a:lnTo>
                  <a:pt x="1228344" y="1016000"/>
                </a:lnTo>
                <a:lnTo>
                  <a:pt x="1207008" y="1041400"/>
                </a:lnTo>
                <a:lnTo>
                  <a:pt x="1185672" y="1054100"/>
                </a:lnTo>
                <a:lnTo>
                  <a:pt x="1164336" y="1079500"/>
                </a:lnTo>
                <a:lnTo>
                  <a:pt x="1139825" y="1092200"/>
                </a:lnTo>
                <a:lnTo>
                  <a:pt x="1115568" y="1117600"/>
                </a:lnTo>
                <a:lnTo>
                  <a:pt x="1063625" y="1143000"/>
                </a:lnTo>
                <a:lnTo>
                  <a:pt x="1008761" y="1168400"/>
                </a:lnTo>
                <a:lnTo>
                  <a:pt x="979932" y="1181100"/>
                </a:lnTo>
                <a:lnTo>
                  <a:pt x="918972" y="1206500"/>
                </a:lnTo>
                <a:lnTo>
                  <a:pt x="888365" y="1206500"/>
                </a:lnTo>
                <a:lnTo>
                  <a:pt x="856361" y="1219200"/>
                </a:lnTo>
                <a:lnTo>
                  <a:pt x="1071372" y="1219200"/>
                </a:lnTo>
                <a:lnTo>
                  <a:pt x="1101725" y="1206500"/>
                </a:lnTo>
                <a:lnTo>
                  <a:pt x="1159637" y="1181100"/>
                </a:lnTo>
                <a:lnTo>
                  <a:pt x="1187069" y="1155700"/>
                </a:lnTo>
                <a:lnTo>
                  <a:pt x="1213104" y="1130300"/>
                </a:lnTo>
                <a:lnTo>
                  <a:pt x="1237361" y="1117600"/>
                </a:lnTo>
                <a:lnTo>
                  <a:pt x="1261872" y="1092200"/>
                </a:lnTo>
                <a:lnTo>
                  <a:pt x="1284732" y="1066800"/>
                </a:lnTo>
                <a:lnTo>
                  <a:pt x="1327404" y="1016000"/>
                </a:lnTo>
                <a:lnTo>
                  <a:pt x="1345565" y="990600"/>
                </a:lnTo>
                <a:lnTo>
                  <a:pt x="1363980" y="965200"/>
                </a:lnTo>
                <a:lnTo>
                  <a:pt x="1379093" y="939800"/>
                </a:lnTo>
                <a:lnTo>
                  <a:pt x="1394333" y="901700"/>
                </a:lnTo>
                <a:lnTo>
                  <a:pt x="1408176" y="876300"/>
                </a:lnTo>
                <a:lnTo>
                  <a:pt x="1418844" y="850900"/>
                </a:lnTo>
                <a:lnTo>
                  <a:pt x="1429512" y="812799"/>
                </a:lnTo>
                <a:lnTo>
                  <a:pt x="1437132" y="787399"/>
                </a:lnTo>
                <a:lnTo>
                  <a:pt x="1443101" y="749299"/>
                </a:lnTo>
                <a:lnTo>
                  <a:pt x="1447800" y="723899"/>
                </a:lnTo>
                <a:lnTo>
                  <a:pt x="1450848" y="685799"/>
                </a:lnTo>
                <a:lnTo>
                  <a:pt x="1452372" y="647699"/>
                </a:lnTo>
                <a:lnTo>
                  <a:pt x="1450848" y="622299"/>
                </a:lnTo>
                <a:lnTo>
                  <a:pt x="1447800" y="584199"/>
                </a:lnTo>
                <a:lnTo>
                  <a:pt x="1443101" y="558799"/>
                </a:lnTo>
                <a:lnTo>
                  <a:pt x="1437132" y="520699"/>
                </a:lnTo>
                <a:lnTo>
                  <a:pt x="1427861" y="495299"/>
                </a:lnTo>
                <a:lnTo>
                  <a:pt x="1418844" y="457199"/>
                </a:lnTo>
                <a:lnTo>
                  <a:pt x="1406525" y="431799"/>
                </a:lnTo>
                <a:lnTo>
                  <a:pt x="1392936" y="393699"/>
                </a:lnTo>
                <a:lnTo>
                  <a:pt x="1362329" y="342899"/>
                </a:lnTo>
                <a:lnTo>
                  <a:pt x="1325880" y="292099"/>
                </a:lnTo>
                <a:lnTo>
                  <a:pt x="1237361" y="190499"/>
                </a:lnTo>
                <a:lnTo>
                  <a:pt x="1211580" y="177799"/>
                </a:lnTo>
                <a:lnTo>
                  <a:pt x="1185672" y="152399"/>
                </a:lnTo>
                <a:lnTo>
                  <a:pt x="1158240" y="139699"/>
                </a:lnTo>
                <a:lnTo>
                  <a:pt x="1129157" y="114299"/>
                </a:lnTo>
                <a:lnTo>
                  <a:pt x="1100201" y="101599"/>
                </a:lnTo>
                <a:lnTo>
                  <a:pt x="1069848" y="88899"/>
                </a:lnTo>
                <a:lnTo>
                  <a:pt x="1037844" y="76199"/>
                </a:lnTo>
                <a:close/>
              </a:path>
              <a:path w="1452879" h="1295400">
                <a:moveTo>
                  <a:pt x="835025" y="12699"/>
                </a:moveTo>
                <a:lnTo>
                  <a:pt x="615569" y="12699"/>
                </a:lnTo>
                <a:lnTo>
                  <a:pt x="578993" y="25399"/>
                </a:lnTo>
                <a:lnTo>
                  <a:pt x="870204" y="25399"/>
                </a:lnTo>
                <a:lnTo>
                  <a:pt x="835025" y="12699"/>
                </a:lnTo>
                <a:close/>
              </a:path>
              <a:path w="1452879" h="1295400">
                <a:moveTo>
                  <a:pt x="725297" y="0"/>
                </a:moveTo>
                <a:lnTo>
                  <a:pt x="688848" y="12699"/>
                </a:lnTo>
                <a:lnTo>
                  <a:pt x="762000" y="12699"/>
                </a:lnTo>
                <a:lnTo>
                  <a:pt x="72529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object 5"/>
          <p:cNvSpPr/>
          <p:nvPr/>
        </p:nvSpPr>
        <p:spPr>
          <a:xfrm>
            <a:off x="8706240" y="4179600"/>
            <a:ext cx="424800" cy="614160"/>
          </a:xfrm>
          <a:custGeom>
            <a:avLst/>
            <a:gdLst>
              <a:gd name="textAreaLeft" fmla="*/ 0 w 424800"/>
              <a:gd name="textAreaRight" fmla="*/ 425160 w 42480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481965" h="696595">
                <a:moveTo>
                  <a:pt x="91439" y="447928"/>
                </a:moveTo>
                <a:lnTo>
                  <a:pt x="0" y="447928"/>
                </a:lnTo>
                <a:lnTo>
                  <a:pt x="0" y="492124"/>
                </a:lnTo>
                <a:lnTo>
                  <a:pt x="3047" y="512063"/>
                </a:lnTo>
                <a:lnTo>
                  <a:pt x="5968" y="536320"/>
                </a:lnTo>
                <a:lnTo>
                  <a:pt x="24256" y="583691"/>
                </a:lnTo>
                <a:lnTo>
                  <a:pt x="45592" y="617092"/>
                </a:lnTo>
                <a:lnTo>
                  <a:pt x="73024" y="646048"/>
                </a:lnTo>
                <a:lnTo>
                  <a:pt x="88264" y="662939"/>
                </a:lnTo>
                <a:lnTo>
                  <a:pt x="124967" y="681227"/>
                </a:lnTo>
                <a:lnTo>
                  <a:pt x="181228" y="693292"/>
                </a:lnTo>
                <a:lnTo>
                  <a:pt x="231647" y="696467"/>
                </a:lnTo>
                <a:lnTo>
                  <a:pt x="268096" y="694816"/>
                </a:lnTo>
                <a:lnTo>
                  <a:pt x="306196" y="688720"/>
                </a:lnTo>
                <a:lnTo>
                  <a:pt x="356615" y="675131"/>
                </a:lnTo>
                <a:lnTo>
                  <a:pt x="399160" y="650620"/>
                </a:lnTo>
                <a:lnTo>
                  <a:pt x="435736" y="614171"/>
                </a:lnTo>
                <a:lnTo>
                  <a:pt x="440629" y="606424"/>
                </a:lnTo>
                <a:lnTo>
                  <a:pt x="229996" y="606424"/>
                </a:lnTo>
                <a:lnTo>
                  <a:pt x="201167" y="603503"/>
                </a:lnTo>
                <a:lnTo>
                  <a:pt x="146303" y="578992"/>
                </a:lnTo>
                <a:lnTo>
                  <a:pt x="114299" y="544067"/>
                </a:lnTo>
                <a:lnTo>
                  <a:pt x="97535" y="505967"/>
                </a:lnTo>
                <a:lnTo>
                  <a:pt x="92836" y="481456"/>
                </a:lnTo>
                <a:lnTo>
                  <a:pt x="91439" y="447928"/>
                </a:lnTo>
                <a:close/>
              </a:path>
              <a:path w="481965" h="696595">
                <a:moveTo>
                  <a:pt x="233172" y="0"/>
                </a:moveTo>
                <a:lnTo>
                  <a:pt x="199643" y="0"/>
                </a:lnTo>
                <a:lnTo>
                  <a:pt x="167639" y="6095"/>
                </a:lnTo>
                <a:lnTo>
                  <a:pt x="121792" y="18160"/>
                </a:lnTo>
                <a:lnTo>
                  <a:pt x="80771" y="41020"/>
                </a:lnTo>
                <a:lnTo>
                  <a:pt x="73024" y="48767"/>
                </a:lnTo>
                <a:lnTo>
                  <a:pt x="54736" y="65531"/>
                </a:lnTo>
                <a:lnTo>
                  <a:pt x="32003" y="97535"/>
                </a:lnTo>
                <a:lnTo>
                  <a:pt x="13715" y="137159"/>
                </a:lnTo>
                <a:lnTo>
                  <a:pt x="10667" y="164591"/>
                </a:lnTo>
                <a:lnTo>
                  <a:pt x="7492" y="185927"/>
                </a:lnTo>
                <a:lnTo>
                  <a:pt x="15239" y="245363"/>
                </a:lnTo>
                <a:lnTo>
                  <a:pt x="34924" y="297052"/>
                </a:lnTo>
                <a:lnTo>
                  <a:pt x="59435" y="332231"/>
                </a:lnTo>
                <a:lnTo>
                  <a:pt x="109600" y="361060"/>
                </a:lnTo>
                <a:lnTo>
                  <a:pt x="137032" y="370331"/>
                </a:lnTo>
                <a:lnTo>
                  <a:pt x="176656" y="379348"/>
                </a:lnTo>
                <a:lnTo>
                  <a:pt x="216407" y="383920"/>
                </a:lnTo>
                <a:lnTo>
                  <a:pt x="260603" y="391667"/>
                </a:lnTo>
                <a:lnTo>
                  <a:pt x="315467" y="403859"/>
                </a:lnTo>
                <a:lnTo>
                  <a:pt x="356615" y="429767"/>
                </a:lnTo>
                <a:lnTo>
                  <a:pt x="371728" y="461771"/>
                </a:lnTo>
                <a:lnTo>
                  <a:pt x="371728" y="498220"/>
                </a:lnTo>
                <a:lnTo>
                  <a:pt x="368807" y="514984"/>
                </a:lnTo>
                <a:lnTo>
                  <a:pt x="362711" y="537971"/>
                </a:lnTo>
                <a:lnTo>
                  <a:pt x="354964" y="550163"/>
                </a:lnTo>
                <a:lnTo>
                  <a:pt x="347471" y="562228"/>
                </a:lnTo>
                <a:lnTo>
                  <a:pt x="298703" y="595756"/>
                </a:lnTo>
                <a:lnTo>
                  <a:pt x="246760" y="606424"/>
                </a:lnTo>
                <a:lnTo>
                  <a:pt x="440629" y="606424"/>
                </a:lnTo>
                <a:lnTo>
                  <a:pt x="467867" y="550163"/>
                </a:lnTo>
                <a:lnTo>
                  <a:pt x="478535" y="504316"/>
                </a:lnTo>
                <a:lnTo>
                  <a:pt x="481583" y="489531"/>
                </a:lnTo>
                <a:lnTo>
                  <a:pt x="481456" y="435863"/>
                </a:lnTo>
                <a:lnTo>
                  <a:pt x="469264" y="397763"/>
                </a:lnTo>
                <a:lnTo>
                  <a:pt x="447928" y="361060"/>
                </a:lnTo>
                <a:lnTo>
                  <a:pt x="408304" y="327659"/>
                </a:lnTo>
                <a:lnTo>
                  <a:pt x="356615" y="310895"/>
                </a:lnTo>
                <a:lnTo>
                  <a:pt x="330707" y="301624"/>
                </a:lnTo>
                <a:lnTo>
                  <a:pt x="289432" y="294131"/>
                </a:lnTo>
                <a:lnTo>
                  <a:pt x="252856" y="289559"/>
                </a:lnTo>
                <a:lnTo>
                  <a:pt x="222503" y="284860"/>
                </a:lnTo>
                <a:lnTo>
                  <a:pt x="163067" y="272795"/>
                </a:lnTo>
                <a:lnTo>
                  <a:pt x="124967" y="252856"/>
                </a:lnTo>
                <a:lnTo>
                  <a:pt x="106679" y="208660"/>
                </a:lnTo>
                <a:lnTo>
                  <a:pt x="105028" y="184403"/>
                </a:lnTo>
                <a:lnTo>
                  <a:pt x="109600" y="169163"/>
                </a:lnTo>
                <a:lnTo>
                  <a:pt x="111124" y="155320"/>
                </a:lnTo>
                <a:lnTo>
                  <a:pt x="137032" y="123316"/>
                </a:lnTo>
                <a:lnTo>
                  <a:pt x="178307" y="100456"/>
                </a:lnTo>
                <a:lnTo>
                  <a:pt x="227075" y="92963"/>
                </a:lnTo>
                <a:lnTo>
                  <a:pt x="431164" y="92963"/>
                </a:lnTo>
                <a:lnTo>
                  <a:pt x="419099" y="74548"/>
                </a:lnTo>
                <a:lnTo>
                  <a:pt x="385571" y="42671"/>
                </a:lnTo>
                <a:lnTo>
                  <a:pt x="345947" y="19684"/>
                </a:lnTo>
                <a:lnTo>
                  <a:pt x="301624" y="6095"/>
                </a:lnTo>
                <a:lnTo>
                  <a:pt x="268096" y="1396"/>
                </a:lnTo>
                <a:lnTo>
                  <a:pt x="233172" y="0"/>
                </a:lnTo>
                <a:close/>
              </a:path>
              <a:path w="481965" h="696595">
                <a:moveTo>
                  <a:pt x="431164" y="92963"/>
                </a:moveTo>
                <a:lnTo>
                  <a:pt x="227075" y="92963"/>
                </a:lnTo>
                <a:lnTo>
                  <a:pt x="265175" y="99059"/>
                </a:lnTo>
                <a:lnTo>
                  <a:pt x="294004" y="108203"/>
                </a:lnTo>
                <a:lnTo>
                  <a:pt x="330707" y="131063"/>
                </a:lnTo>
                <a:lnTo>
                  <a:pt x="361060" y="170560"/>
                </a:lnTo>
                <a:lnTo>
                  <a:pt x="370204" y="214756"/>
                </a:lnTo>
                <a:lnTo>
                  <a:pt x="370204" y="239267"/>
                </a:lnTo>
                <a:lnTo>
                  <a:pt x="463168" y="239267"/>
                </a:lnTo>
                <a:lnTo>
                  <a:pt x="463168" y="193420"/>
                </a:lnTo>
                <a:lnTo>
                  <a:pt x="458596" y="161416"/>
                </a:lnTo>
                <a:lnTo>
                  <a:pt x="449579" y="137159"/>
                </a:lnTo>
                <a:lnTo>
                  <a:pt x="438911" y="114299"/>
                </a:lnTo>
                <a:lnTo>
                  <a:pt x="431164" y="929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object 6"/>
          <p:cNvSpPr/>
          <p:nvPr/>
        </p:nvSpPr>
        <p:spPr>
          <a:xfrm>
            <a:off x="8916480" y="4128120"/>
            <a:ext cx="360" cy="751680"/>
          </a:xfrm>
          <a:custGeom>
            <a:avLst/>
            <a:gdLst>
              <a:gd name="textAreaLeft" fmla="*/ 0 w 360"/>
              <a:gd name="textAreaRight" fmla="*/ 720 w 360"/>
              <a:gd name="textAreaTop" fmla="*/ 0 h 751680"/>
              <a:gd name="textAreaBottom" fmla="*/ 752040 h 751680"/>
            </a:gdLst>
            <a:ahLst/>
            <a:rect l="textAreaLeft" t="textAreaTop" r="textAreaRight" b="textAreaBottom"/>
            <a:pathLst>
              <a:path w="0" h="852170">
                <a:moveTo>
                  <a:pt x="0" y="0"/>
                </a:moveTo>
                <a:lnTo>
                  <a:pt x="0" y="851916"/>
                </a:lnTo>
              </a:path>
            </a:pathLst>
          </a:custGeom>
          <a:noFill/>
          <a:ln w="65531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object 7"/>
          <p:cNvSpPr/>
          <p:nvPr/>
        </p:nvSpPr>
        <p:spPr>
          <a:xfrm>
            <a:off x="8451720" y="4129560"/>
            <a:ext cx="911880" cy="792000"/>
          </a:xfrm>
          <a:custGeom>
            <a:avLst/>
            <a:gdLst>
              <a:gd name="textAreaLeft" fmla="*/ 0 w 911880"/>
              <a:gd name="textAreaRight" fmla="*/ 912240 w 9118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033779" h="897889">
                <a:moveTo>
                  <a:pt x="983107" y="0"/>
                </a:moveTo>
                <a:lnTo>
                  <a:pt x="0" y="839851"/>
                </a:lnTo>
                <a:lnTo>
                  <a:pt x="48768" y="897636"/>
                </a:lnTo>
                <a:lnTo>
                  <a:pt x="1033399" y="57912"/>
                </a:lnTo>
                <a:lnTo>
                  <a:pt x="98310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676080"/>
            <a:ext cx="9600840" cy="1916280"/>
          </a:xfrm>
          <a:prstGeom prst="rect">
            <a:avLst/>
          </a:prstGeom>
          <a:noFill/>
          <a:ln w="0">
            <a:noFill/>
          </a:ln>
        </p:spPr>
        <p:txBody>
          <a:bodyPr lIns="0" rIns="0" tIns="29844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What </a:t>
            </a:r>
            <a:r>
              <a:rPr b="1" lang="en-US" sz="4400" spc="-24" strike="noStrike">
                <a:solidFill>
                  <a:srgbClr val="262626"/>
                </a:solidFill>
                <a:latin typeface="Garamond"/>
              </a:rPr>
              <a:t>are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hoice-Limiting</a:t>
            </a:r>
            <a:r>
              <a:rPr b="1" lang="en-US" sz="4400" spc="-160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Actions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1800" indent="0" algn="ctr">
              <a:lnSpc>
                <a:spcPct val="100000"/>
              </a:lnSpc>
              <a:spcBef>
                <a:spcPts val="62"/>
              </a:spcBef>
              <a:buNone/>
            </a:pPr>
            <a:r>
              <a:rPr b="1" lang="en-US" sz="1770" spc="-1" strike="noStrike">
                <a:solidFill>
                  <a:srgbClr val="262626"/>
                </a:solidFill>
                <a:latin typeface="Garamond"/>
              </a:rPr>
              <a:t>68 FR </a:t>
            </a:r>
            <a:r>
              <a:rPr b="1" lang="en-US" sz="1770" spc="1" strike="noStrike">
                <a:solidFill>
                  <a:srgbClr val="262626"/>
                </a:solidFill>
                <a:latin typeface="Garamond"/>
              </a:rPr>
              <a:t>56121 </a:t>
            </a:r>
            <a:r>
              <a:rPr b="1" lang="en-US" sz="1770" spc="-1" strike="noStrike">
                <a:solidFill>
                  <a:srgbClr val="262626"/>
                </a:solidFill>
                <a:latin typeface="Garamond"/>
              </a:rPr>
              <a:t>and 40 CFR §§ 1502.2(f) &amp;</a:t>
            </a:r>
            <a:r>
              <a:rPr b="1" lang="en-US" sz="1770" spc="-13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1770" spc="-1" strike="noStrike">
                <a:solidFill>
                  <a:srgbClr val="262626"/>
                </a:solidFill>
                <a:latin typeface="Garamond"/>
              </a:rPr>
              <a:t>1506.1</a:t>
            </a:r>
            <a:endParaRPr b="0" lang="en-US" sz="17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object 3"/>
          <p:cNvSpPr/>
          <p:nvPr/>
        </p:nvSpPr>
        <p:spPr>
          <a:xfrm>
            <a:off x="3518280" y="2424960"/>
            <a:ext cx="344556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spAutoFit/>
          </a:bodyPr>
          <a:p>
            <a:pPr marL="263880" indent="-25272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Real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operty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cquisit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Demolit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habilitat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SzPct val="114000"/>
              <a:buFont typeface="Symbol" charset="2"/>
              <a:buChar char=""/>
              <a:tabLst>
                <a:tab algn="l" pos="263880"/>
              </a:tabLst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mprovement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22960" y="797760"/>
            <a:ext cx="82598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Why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i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this Limitation</a:t>
            </a:r>
            <a:r>
              <a:rPr b="1" lang="en-US" sz="4400" spc="1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Important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object 3"/>
          <p:cNvSpPr/>
          <p:nvPr/>
        </p:nvSpPr>
        <p:spPr>
          <a:xfrm>
            <a:off x="1873440" y="2493720"/>
            <a:ext cx="900648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313920"/>
                <a:tab algn="l" pos="3462840"/>
              </a:tabLst>
            </a:pP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Rooted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170" spc="-80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and Required in  </a:t>
            </a:r>
            <a:r>
              <a:rPr b="0" lang="en-US" sz="3170" spc="-41" strike="noStrike">
                <a:solidFill>
                  <a:srgbClr val="000000"/>
                </a:solidFill>
                <a:latin typeface="Times New Roman"/>
              </a:rPr>
              <a:t>CEQ’s</a:t>
            </a:r>
            <a:r>
              <a:rPr b="0" lang="en-US" sz="317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70" spc="-4" strike="noStrike">
                <a:solidFill>
                  <a:srgbClr val="000000"/>
                </a:solidFill>
                <a:latin typeface="Times New Roman"/>
              </a:rPr>
              <a:t>Regulation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40 CFR</a:t>
            </a:r>
            <a:r>
              <a:rPr b="0" lang="en-US" sz="317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70" spc="-1" strike="noStrike">
                <a:solidFill>
                  <a:srgbClr val="000000"/>
                </a:solidFill>
                <a:latin typeface="Times New Roman"/>
              </a:rPr>
              <a:t>1506.1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403560">
              <a:lnSpc>
                <a:spcPct val="100000"/>
              </a:lnSpc>
              <a:buClr>
                <a:srgbClr val="000000"/>
              </a:buClr>
              <a:buFont typeface="StarSymbol"/>
              <a:buChar char="—"/>
              <a:tabLst>
                <a:tab algn="l" pos="767520"/>
                <a:tab algn="l" pos="76824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Biases the objective consideration</a:t>
            </a:r>
            <a:r>
              <a:rPr b="0" lang="en-US" sz="2830" spc="-9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768240">
              <a:lnSpc>
                <a:spcPct val="100000"/>
              </a:lnSpc>
              <a:tabLst>
                <a:tab algn="l" pos="767520"/>
                <a:tab algn="l" pos="76824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40356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StarSymbol"/>
              <a:buChar char="—"/>
              <a:tabLst>
                <a:tab algn="l" pos="767520"/>
                <a:tab algn="l" pos="76824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Eliminates the opportunity for</a:t>
            </a:r>
            <a:r>
              <a:rPr b="0" lang="en-US" sz="2830" spc="-10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ublic-  participation in the decision-making  proces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83680" y="420480"/>
            <a:ext cx="7873560" cy="20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5268600"/>
              </a:tabLst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ns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e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que</a:t>
            </a:r>
            <a:r>
              <a:rPr b="1" lang="en-US" sz="4400" spc="-15" strike="noStrike">
                <a:solidFill>
                  <a:srgbClr val="262626"/>
                </a:solidFill>
                <a:latin typeface="Garamond"/>
              </a:rPr>
              <a:t>n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es</a:t>
            </a:r>
            <a:r>
              <a:rPr b="1" lang="en-US" sz="4400" spc="2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f</a:t>
            </a:r>
            <a:r>
              <a:rPr b="1" lang="en-US" sz="4400" spc="-5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137" strike="noStrike">
                <a:solidFill>
                  <a:srgbClr val="262626"/>
                </a:solidFill>
                <a:latin typeface="Garamond"/>
              </a:rPr>
              <a:t>V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i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la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t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i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ng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§58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.22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object 3"/>
          <p:cNvSpPr/>
          <p:nvPr/>
        </p:nvSpPr>
        <p:spPr>
          <a:xfrm>
            <a:off x="1468080" y="2329200"/>
            <a:ext cx="994896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56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Regulatory</a:t>
            </a:r>
            <a:r>
              <a:rPr b="0" lang="en-US" sz="264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violation: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403560">
              <a:lnSpc>
                <a:spcPct val="100000"/>
              </a:lnSpc>
              <a:spcBef>
                <a:spcPts val="292"/>
              </a:spcBef>
              <a:buClr>
                <a:srgbClr val="000000"/>
              </a:buClr>
              <a:buFont typeface="StarSymbol"/>
              <a:buChar char="—"/>
              <a:tabLst>
                <a:tab algn="l" pos="767520"/>
                <a:tab algn="l" pos="768240"/>
              </a:tabLst>
            </a:pP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rom a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commitment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Non-HUD</a:t>
            </a:r>
            <a:r>
              <a:rPr b="0" lang="en-US" sz="2300" spc="-58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 </a:t>
            </a:r>
            <a:r>
              <a:rPr b="0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Fu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403560">
              <a:lnSpc>
                <a:spcPct val="100000"/>
              </a:lnSpc>
              <a:spcBef>
                <a:spcPts val="24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19960"/>
                <a:tab algn="l" pos="11206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ntract, agreement, expenditur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1940" spc="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unds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403560">
              <a:lnSpc>
                <a:spcPts val="2616"/>
              </a:lnSpc>
              <a:spcBef>
                <a:spcPts val="261"/>
              </a:spcBef>
              <a:buClr>
                <a:srgbClr val="000000"/>
              </a:buClr>
              <a:buFont typeface="StarSymbol"/>
              <a:buChar char="—"/>
              <a:tabLst>
                <a:tab algn="l" pos="767520"/>
                <a:tab algn="l" pos="768240"/>
              </a:tabLst>
            </a:pP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Can result in los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UD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assistanc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30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30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Statutory</a:t>
            </a:r>
            <a:r>
              <a:rPr b="0" lang="en-US" sz="2640" spc="-24" strike="noStrike">
                <a:solidFill>
                  <a:srgbClr val="000000"/>
                </a:solidFill>
                <a:latin typeface="Times New Roman"/>
              </a:rPr>
              <a:t> Violation: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403560">
              <a:lnSpc>
                <a:spcPct val="100000"/>
              </a:lnSpc>
              <a:spcBef>
                <a:spcPts val="286"/>
              </a:spcBef>
              <a:buClr>
                <a:srgbClr val="000000"/>
              </a:buClr>
              <a:buFont typeface="StarSymbol"/>
              <a:buChar char="—"/>
              <a:tabLst>
                <a:tab algn="l" pos="767520"/>
                <a:tab algn="l" pos="768240"/>
              </a:tabLst>
            </a:pP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rom a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commitment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HUD</a:t>
            </a:r>
            <a:r>
              <a:rPr b="0" lang="en-US" sz="2300" spc="-46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 </a:t>
            </a:r>
            <a:r>
              <a:rPr b="0" lang="en-US" sz="23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Fu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403560">
              <a:lnSpc>
                <a:spcPct val="100000"/>
              </a:lnSpc>
              <a:spcBef>
                <a:spcPts val="24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19960"/>
                <a:tab algn="l" pos="11206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ntract, agreement, expenditur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1940" spc="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unds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403560">
              <a:lnSpc>
                <a:spcPts val="2480"/>
              </a:lnSpc>
              <a:spcBef>
                <a:spcPts val="573"/>
              </a:spcBef>
              <a:buClr>
                <a:srgbClr val="000000"/>
              </a:buClr>
              <a:buFont typeface="StarSymbol"/>
              <a:buChar char="—"/>
              <a:tabLst>
                <a:tab algn="l" pos="767520"/>
                <a:tab algn="l" pos="768240"/>
                <a:tab algn="l" pos="3270600"/>
                <a:tab algn="l" pos="4629960"/>
              </a:tabLst>
            </a:pPr>
            <a:r>
              <a:rPr b="0" lang="en-US" sz="2300" spc="-24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300" spc="-24" strike="noStrike">
                <a:solidFill>
                  <a:srgbClr val="000000"/>
                </a:solidFill>
                <a:latin typeface="Times New Roman"/>
              </a:rPr>
              <a:t>Taints”</a:t>
            </a:r>
            <a:r>
              <a:rPr b="0" lang="en-US" sz="230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30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project: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UD funds from the</a:t>
            </a:r>
            <a:r>
              <a:rPr b="0" lang="en-US" sz="2300" spc="-1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same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ppropriation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used at si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re violation</a:t>
            </a:r>
            <a:r>
              <a:rPr b="0" lang="en-US" sz="230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occur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60120" y="963720"/>
            <a:ext cx="8471160" cy="12243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Exceptions to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58.22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Limi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1800" indent="0" algn="ctr">
              <a:lnSpc>
                <a:spcPct val="100000"/>
              </a:lnSpc>
              <a:spcBef>
                <a:spcPts val="62"/>
              </a:spcBef>
              <a:buNone/>
            </a:pPr>
            <a:r>
              <a:rPr b="1" lang="en-US" sz="1770" spc="-1" strike="noStrike">
                <a:solidFill>
                  <a:srgbClr val="262626"/>
                </a:solidFill>
                <a:latin typeface="Garamond"/>
              </a:rPr>
              <a:t>[§58.22</a:t>
            </a:r>
            <a:r>
              <a:rPr b="1" lang="en-US" sz="1770" spc="-4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1770" spc="-1" strike="noStrike">
                <a:solidFill>
                  <a:srgbClr val="262626"/>
                </a:solidFill>
                <a:latin typeface="Garamond"/>
              </a:rPr>
              <a:t>(c)&amp;(d)]</a:t>
            </a:r>
            <a:endParaRPr b="0" lang="en-US" sz="17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029680" y="2416320"/>
            <a:ext cx="8732880" cy="38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t">
            <a:noAutofit/>
          </a:bodyPr>
          <a:p>
            <a:pPr marL="325080" indent="-302400">
              <a:lnSpc>
                <a:spcPts val="2860"/>
              </a:lnSpc>
              <a:spcBef>
                <a:spcPts val="88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25080"/>
                <a:tab algn="l" pos="325440"/>
                <a:tab algn="l" pos="475488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Garamond"/>
              </a:rPr>
              <a:t>Options for land</a:t>
            </a:r>
            <a:r>
              <a:rPr b="0" lang="en-US" sz="1600" spc="43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Garamond"/>
              </a:rPr>
              <a:t>acquisition</a:t>
            </a:r>
            <a:r>
              <a:rPr b="0" lang="en-US" sz="1600" spc="5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are</a:t>
            </a: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Garamond"/>
              </a:rPr>
              <a:t>allowed</a:t>
            </a:r>
            <a:r>
              <a:rPr b="0" lang="en-US" sz="1600" spc="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Garamond"/>
              </a:rPr>
              <a:t>if </a:t>
            </a:r>
            <a:r>
              <a:rPr b="0" i="1" lang="en-US" sz="1600" spc="-4" strike="noStrike">
                <a:solidFill>
                  <a:srgbClr val="262626"/>
                </a:solidFill>
                <a:latin typeface="Times New Roman"/>
              </a:rPr>
              <a:t>(August</a:t>
            </a:r>
            <a:r>
              <a:rPr b="0" i="1" lang="en-US" sz="1600" spc="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262626"/>
                </a:solidFill>
                <a:latin typeface="Times New Roman"/>
              </a:rPr>
              <a:t>26,</a:t>
            </a:r>
            <a:r>
              <a:rPr b="0" i="1" lang="en-US" sz="1600" spc="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i="1" lang="en-US" sz="1600" spc="-41" strike="noStrike">
                <a:solidFill>
                  <a:srgbClr val="262626"/>
                </a:solidFill>
                <a:latin typeface="Times New Roman"/>
              </a:rPr>
              <a:t>2011 </a:t>
            </a:r>
            <a:r>
              <a:rPr b="0" i="1" lang="en-US" sz="1600" spc="-4" strike="noStrike">
                <a:solidFill>
                  <a:srgbClr val="262626"/>
                </a:solidFill>
                <a:latin typeface="Times New Roman"/>
              </a:rPr>
              <a:t>Memorandum)</a:t>
            </a:r>
            <a:r>
              <a:rPr b="0" lang="en-US" sz="1600" spc="-4" strike="noStrike">
                <a:solidFill>
                  <a:srgbClr val="262626"/>
                </a:solidFill>
                <a:latin typeface="Garamond"/>
              </a:rPr>
              <a:t>: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78600" indent="-252720">
              <a:lnSpc>
                <a:spcPts val="2480"/>
              </a:lnSpc>
              <a:spcBef>
                <a:spcPts val="1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—"/>
              <a:tabLst>
                <a:tab algn="l" pos="678960"/>
                <a:tab algn="l" pos="304704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They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are</a:t>
            </a:r>
            <a:r>
              <a:rPr b="0" lang="en-US" sz="1600" spc="-1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subject to final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outcome of</a:t>
            </a:r>
            <a:r>
              <a:rPr b="0" lang="en-US" sz="1600" spc="-3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environmental </a:t>
            </a:r>
            <a:r>
              <a:rPr b="0" lang="en-US" sz="1600" spc="-4" strike="noStrike">
                <a:solidFill>
                  <a:srgbClr val="262626"/>
                </a:solidFill>
                <a:latin typeface="Garamond"/>
              </a:rPr>
              <a:t>review;</a:t>
            </a:r>
            <a:r>
              <a:rPr b="0" lang="en-US" sz="1600" spc="-49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and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78600" indent="-252720">
              <a:lnSpc>
                <a:spcPts val="2633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—"/>
              <a:tabLst>
                <a:tab algn="l" pos="67896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The cost of the option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is</a:t>
            </a:r>
            <a:r>
              <a:rPr b="0" lang="en-US" sz="1600" spc="-80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nomina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marL="325080" indent="-302400">
              <a:lnSpc>
                <a:spcPts val="2818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25080"/>
                <a:tab algn="l" pos="325440"/>
                <a:tab algn="l" pos="3512520"/>
              </a:tabLst>
            </a:pPr>
            <a:r>
              <a:rPr b="0" lang="en-US" sz="1800" spc="-9" strike="noStrike">
                <a:solidFill>
                  <a:srgbClr val="262626"/>
                </a:solidFill>
                <a:latin typeface="Garamond"/>
              </a:rPr>
              <a:t>Land</a:t>
            </a:r>
            <a:r>
              <a:rPr b="0" lang="en-US" sz="1800" spc="-117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Acquisition</a:t>
            </a:r>
            <a:r>
              <a:rPr b="0" lang="en-US" sz="1800" spc="-1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Under the </a:t>
            </a:r>
            <a:r>
              <a:rPr b="0" lang="en-US" sz="1800" spc="-9" strike="noStrike">
                <a:solidFill>
                  <a:srgbClr val="262626"/>
                </a:solidFill>
                <a:latin typeface="Garamond"/>
              </a:rPr>
              <a:t>SHOP</a:t>
            </a:r>
            <a:r>
              <a:rPr b="0" lang="en-US" sz="1800" spc="-80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Program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1" marL="678600" indent="-252720">
              <a:lnSpc>
                <a:spcPts val="2727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—"/>
              <a:tabLst>
                <a:tab algn="l" pos="678960"/>
              </a:tabLst>
            </a:pP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Can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advance non-HUD funds for Land</a:t>
            </a:r>
            <a:r>
              <a:rPr b="0" lang="en-US" sz="1600" spc="-24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Acquisition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1" marL="678600" indent="-252720">
              <a:lnSpc>
                <a:spcPts val="248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—"/>
              <a:tabLst>
                <a:tab algn="l" pos="67896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At </a:t>
            </a:r>
            <a:r>
              <a:rPr b="0" lang="en-US" sz="1600" spc="-18" strike="noStrike">
                <a:solidFill>
                  <a:srgbClr val="262626"/>
                </a:solidFill>
                <a:latin typeface="Times New Roman"/>
              </a:rPr>
              <a:t>grantee’s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own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risk—reimbursement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depends</a:t>
            </a:r>
            <a:r>
              <a:rPr b="0" lang="en-US" sz="1600" spc="-5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on </a:t>
            </a: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e outcome of the environmental</a:t>
            </a:r>
            <a:r>
              <a:rPr b="0" lang="en-US" sz="1600" spc="-89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Garamond"/>
              </a:rPr>
              <a:t>review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marL="325080" indent="-302400">
              <a:lnSpc>
                <a:spcPts val="2815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25080"/>
                <a:tab algn="l" pos="325440"/>
              </a:tabLst>
            </a:pP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Relocation</a:t>
            </a:r>
            <a:r>
              <a:rPr b="0" lang="en-US" sz="1800" spc="-1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funds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1" marL="678600" indent="-252720">
              <a:lnSpc>
                <a:spcPts val="254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—"/>
              <a:tabLst>
                <a:tab algn="l" pos="678960"/>
                <a:tab algn="l" pos="1922400"/>
                <a:tab algn="l" pos="449496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Provided that 24 CFR</a:t>
            </a:r>
            <a:r>
              <a:rPr b="0" lang="en-US" sz="1600" spc="-15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262626"/>
                </a:solidFill>
                <a:latin typeface="Times New Roman"/>
              </a:rPr>
              <a:t>Part</a:t>
            </a:r>
            <a:r>
              <a:rPr b="0" lang="en-US" sz="1600" spc="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42 requires</a:t>
            </a:r>
            <a:r>
              <a:rPr b="0" lang="en-US" sz="1600" spc="-32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relocation</a:t>
            </a:r>
            <a:r>
              <a:rPr b="0" lang="en-US" sz="1600" spc="-3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assistance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60120" y="611280"/>
            <a:ext cx="9212760" cy="1946520"/>
          </a:xfrm>
          <a:prstGeom prst="rect">
            <a:avLst/>
          </a:prstGeom>
          <a:noFill/>
          <a:ln w="0">
            <a:noFill/>
          </a:ln>
        </p:spPr>
        <p:txBody>
          <a:bodyPr lIns="0" rIns="0" tIns="329400" bIns="0" anchor="ctr">
            <a:noAutofit/>
          </a:bodyPr>
          <a:p>
            <a:pPr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nvironmental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Review Record</a:t>
            </a:r>
            <a:r>
              <a:rPr b="1" lang="en-US" sz="4400" spc="2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(ERR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57"/>
              </a:spcBef>
              <a:buNone/>
            </a:pPr>
            <a:r>
              <a:rPr b="1" lang="en-US" sz="1770" spc="-1" strike="noStrike">
                <a:solidFill>
                  <a:srgbClr val="262626"/>
                </a:solidFill>
                <a:latin typeface="Garamond"/>
              </a:rPr>
              <a:t>[§58.38]</a:t>
            </a:r>
            <a:endParaRPr b="0" lang="en-US" sz="17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object 3"/>
          <p:cNvSpPr/>
          <p:nvPr/>
        </p:nvSpPr>
        <p:spPr>
          <a:xfrm>
            <a:off x="2384280" y="2576880"/>
            <a:ext cx="826092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3120" bIns="0" anchor="t">
            <a:spAutoFit/>
          </a:bodyPr>
          <a:p>
            <a:pPr marL="313920" indent="-302400">
              <a:lnSpc>
                <a:spcPct val="70000"/>
              </a:lnSpc>
              <a:spcBef>
                <a:spcPts val="972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art </a:t>
            </a:r>
            <a:r>
              <a:rPr b="0" lang="en-US" sz="2470" spc="-35" strike="noStrike">
                <a:solidFill>
                  <a:srgbClr val="000000"/>
                </a:solidFill>
                <a:latin typeface="Times New Roman"/>
              </a:rPr>
              <a:t>58’s </a:t>
            </a:r>
            <a:r>
              <a:rPr b="0" lang="en-US" sz="2470" spc="-66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dministrative record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each 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237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the right of</a:t>
            </a:r>
            <a:r>
              <a:rPr b="0" lang="en-US" sz="247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"/>
              </a:spcBef>
              <a:tabLst>
                <a:tab algn="l" pos="313200"/>
                <a:tab algn="l" pos="313920"/>
              </a:tabLst>
            </a:pP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aintained with the 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public’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247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o  review in mind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237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1" i="1" lang="en-US" sz="2470" spc="-4" strike="noStrike">
                <a:solidFill>
                  <a:srgbClr val="000000"/>
                </a:solidFill>
                <a:latin typeface="Times New Roman"/>
              </a:rPr>
              <a:t>Must use </a:t>
            </a:r>
            <a:r>
              <a:rPr b="1" i="1" lang="en-US" sz="2470" spc="-9" strike="noStrike">
                <a:solidFill>
                  <a:srgbClr val="000000"/>
                </a:solidFill>
                <a:latin typeface="Times New Roman"/>
              </a:rPr>
              <a:t>HUD recommended</a:t>
            </a:r>
            <a:r>
              <a:rPr b="1" i="1" lang="en-US" sz="2470" spc="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70" spc="-4" strike="noStrike">
                <a:solidFill>
                  <a:srgbClr val="000000"/>
                </a:solidFill>
                <a:latin typeface="Times New Roman"/>
              </a:rPr>
              <a:t>format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2370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ust use unaltered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7015.15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7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7015.16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982080"/>
            <a:ext cx="96008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Federal Agency”</a:t>
            </a:r>
            <a:br>
              <a:rPr sz="4400"/>
            </a:b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[CEQ 40 CFR 1508.12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0840" cy="33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5680" indent="-2656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ederal Agency means </a:t>
            </a:r>
            <a:r>
              <a:rPr b="1" lang="en-US" sz="2400" spc="-1" strike="noStrike">
                <a:solidFill>
                  <a:srgbClr val="262626"/>
                </a:solidFill>
                <a:latin typeface="Garamond"/>
              </a:rPr>
              <a:t>all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agencies of the Federal Governmen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265680" indent="-2656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ederal statutes allow State, Tribe, or unit of general local government (county/city) to assume HUD’s environmental responsibility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i="1" lang="en-US" sz="2000" spc="-1" strike="noStrike">
                <a:solidFill>
                  <a:srgbClr val="262626"/>
                </a:solidFill>
                <a:latin typeface="Garamond"/>
              </a:rPr>
              <a:t>Examples: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116000" indent="-2656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i="1" lang="en-US" sz="1800" spc="-1" strike="noStrike">
                <a:solidFill>
                  <a:srgbClr val="262626"/>
                </a:solidFill>
                <a:latin typeface="Garamond"/>
              </a:rPr>
              <a:t>Public Housing Capital Fund</a:t>
            </a:r>
            <a:r>
              <a:rPr b="0" i="1" lang="en-US" sz="1800" spc="-1" strike="noStrike">
                <a:solidFill>
                  <a:srgbClr val="262626"/>
                </a:solidFill>
                <a:latin typeface="Garamond"/>
              </a:rPr>
              <a:t>: Section 26 of the United States Housing Act of 1937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116000" indent="-2656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i="1" lang="en-US" sz="1800" spc="-1" strike="noStrike">
                <a:solidFill>
                  <a:srgbClr val="262626"/>
                </a:solidFill>
                <a:latin typeface="Garamond"/>
              </a:rPr>
              <a:t>CDBG</a:t>
            </a:r>
            <a:r>
              <a:rPr b="0" i="1" lang="en-US" sz="1800" spc="-1" strike="noStrike">
                <a:solidFill>
                  <a:srgbClr val="262626"/>
                </a:solidFill>
                <a:latin typeface="Garamond"/>
              </a:rPr>
              <a:t>: Section 104(h) of the Housing and Community Development Act of 1974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116000" indent="-26568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1" i="1" lang="en-US" sz="1800" spc="-1" strike="noStrike">
                <a:solidFill>
                  <a:srgbClr val="262626"/>
                </a:solidFill>
                <a:latin typeface="Garamond"/>
              </a:rPr>
              <a:t>HOME</a:t>
            </a:r>
            <a:r>
              <a:rPr b="0" i="1" lang="en-US" sz="1800" spc="-1" strike="noStrike">
                <a:solidFill>
                  <a:srgbClr val="262626"/>
                </a:solidFill>
                <a:latin typeface="Garamond"/>
              </a:rPr>
              <a:t>: Section 288 of Cranston-Gonzalez National Affordable Housing Act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82960" y="831600"/>
            <a:ext cx="99658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5164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Maintained as a Separate File the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RR</a:t>
            </a:r>
            <a:r>
              <a:rPr b="1" lang="en-US" sz="4400" spc="1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Includes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object 3"/>
          <p:cNvSpPr/>
          <p:nvPr/>
        </p:nvSpPr>
        <p:spPr>
          <a:xfrm>
            <a:off x="1719720" y="2386800"/>
            <a:ext cx="9739080" cy="36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0" bIns="0" anchor="t">
            <a:spAutoFit/>
          </a:bodyPr>
          <a:p>
            <a:pPr marL="313920" indent="-302400"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Project description including precise location or </a:t>
            </a:r>
            <a:r>
              <a:rPr b="0" lang="en-US" sz="2210" spc="-15" strike="noStrike">
                <a:solidFill>
                  <a:srgbClr val="000000"/>
                </a:solidFill>
                <a:latin typeface="Times New Roman"/>
              </a:rPr>
              <a:t>target 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area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210" spc="3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18" strike="noStrike">
                <a:solidFill>
                  <a:srgbClr val="000000"/>
                </a:solidFill>
                <a:latin typeface="Times New Roman"/>
              </a:rPr>
              <a:t>Written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determinations &amp;</a:t>
            </a:r>
            <a:r>
              <a:rPr b="0" lang="en-US" sz="2210" spc="10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findings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Correspondence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70000"/>
              </a:lnSpc>
              <a:spcBef>
                <a:spcPts val="794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Documentation of compliance with §58.5 authorities  and §58.6</a:t>
            </a:r>
            <a:r>
              <a:rPr b="0" lang="en-US" sz="221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EA or</a:t>
            </a:r>
            <a:r>
              <a:rPr b="0" lang="en-US" sz="2210" spc="-11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EIS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Photographs, site plans,</a:t>
            </a:r>
            <a:r>
              <a:rPr b="0" lang="en-US" sz="2210" spc="6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elevations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70000"/>
              </a:lnSpc>
              <a:spcBef>
                <a:spcPts val="794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Proprietary information or that which is not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normally 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available to the public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be included in </a:t>
            </a:r>
            <a:r>
              <a:rPr b="0" lang="en-US" sz="221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210" spc="21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record.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21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notices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Request for Release of Funds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(HUD</a:t>
            </a:r>
            <a:r>
              <a:rPr b="0" lang="en-US" sz="2210" spc="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7015.15)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Authorization to Use Grant Funds </a:t>
            </a:r>
            <a:r>
              <a:rPr b="0" lang="en-US" sz="2210" spc="-9" strike="noStrike">
                <a:solidFill>
                  <a:srgbClr val="000000"/>
                </a:solidFill>
                <a:latin typeface="Times New Roman"/>
              </a:rPr>
              <a:t>(HUD</a:t>
            </a:r>
            <a:r>
              <a:rPr b="0" lang="en-US" sz="2210" spc="10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10" spc="-4" strike="noStrike">
                <a:solidFill>
                  <a:srgbClr val="000000"/>
                </a:solidFill>
                <a:latin typeface="Times New Roman"/>
              </a:rPr>
              <a:t>7015.16)</a:t>
            </a: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50840" y="531000"/>
            <a:ext cx="7721280" cy="196128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</a:tabLst>
            </a:pP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Why </a:t>
            </a:r>
            <a:r>
              <a:rPr b="1" lang="en-US" sz="3200" spc="-9" strike="noStrike">
                <a:solidFill>
                  <a:srgbClr val="262626"/>
                </a:solidFill>
                <a:latin typeface="Garamond"/>
              </a:rPr>
              <a:t>Ensure </a:t>
            </a:r>
            <a:r>
              <a:rPr b="1" lang="en-US" sz="3200" spc="-1" strike="noStrike">
                <a:solidFill>
                  <a:srgbClr val="262626"/>
                </a:solidFill>
                <a:latin typeface="Garamond"/>
              </a:rPr>
              <a:t>a </a:t>
            </a:r>
            <a:r>
              <a:rPr b="1" lang="en-US" sz="3200" spc="-18" strike="noStrike">
                <a:solidFill>
                  <a:srgbClr val="262626"/>
                </a:solidFill>
                <a:latin typeface="Garamond"/>
              </a:rPr>
              <a:t>Well-Maintained </a:t>
            </a:r>
            <a:r>
              <a:rPr b="1" lang="en-US" sz="3200" spc="-1" strike="noStrike">
                <a:solidFill>
                  <a:srgbClr val="262626"/>
                </a:solidFill>
                <a:latin typeface="Garamond"/>
              </a:rPr>
              <a:t>ERR?  </a:t>
            </a:r>
            <a:br>
              <a:rPr sz="3200"/>
            </a:b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“If </a:t>
            </a:r>
            <a:r>
              <a:rPr b="1" lang="en-US" sz="3200" spc="-32" strike="noStrike">
                <a:solidFill>
                  <a:srgbClr val="262626"/>
                </a:solidFill>
                <a:latin typeface="Garamond"/>
              </a:rPr>
              <a:t>it’s </a:t>
            </a:r>
            <a:r>
              <a:rPr b="1" lang="en-US" sz="3200" spc="-1" strike="noStrike">
                <a:solidFill>
                  <a:srgbClr val="262626"/>
                </a:solidFill>
                <a:latin typeface="Garamond"/>
              </a:rPr>
              <a:t>not </a:t>
            </a: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in writing, it never</a:t>
            </a:r>
            <a:r>
              <a:rPr b="1" lang="en-US" sz="3200" spc="3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happened!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object 3"/>
          <p:cNvSpPr/>
          <p:nvPr/>
        </p:nvSpPr>
        <p:spPr>
          <a:xfrm>
            <a:off x="1950840" y="2539440"/>
            <a:ext cx="8387280" cy="36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120" bIns="0" anchor="t">
            <a:spAutoFit/>
          </a:bodyPr>
          <a:p>
            <a:pPr marL="313920" indent="-302400">
              <a:lnSpc>
                <a:spcPts val="3053"/>
              </a:lnSpc>
              <a:spcBef>
                <a:spcPts val="47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the only </a:t>
            </a:r>
            <a:r>
              <a:rPr b="0" lang="en-US" sz="2830" spc="1" strike="noStrike">
                <a:solidFill>
                  <a:srgbClr val="000000"/>
                </a:solidFill>
                <a:latin typeface="Times New Roman"/>
              </a:rPr>
              <a:t>proof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of compliance with Part  58, </a:t>
            </a:r>
            <a:r>
              <a:rPr b="0" lang="en-US" sz="2830" spc="-66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nd Related Laws and</a:t>
            </a:r>
            <a:r>
              <a:rPr b="0" lang="en-US" sz="2830" spc="-3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3053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30" spc="-41" strike="noStrike">
                <a:solidFill>
                  <a:srgbClr val="000000"/>
                </a:solidFill>
                <a:latin typeface="Times New Roman"/>
              </a:rPr>
              <a:t>RE’s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defense against environmental  challenge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3053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May be subpoenaed and subject to</a:t>
            </a:r>
            <a:r>
              <a:rPr b="0" lang="en-US" sz="2830" spc="-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scrutiny  by a court of</a:t>
            </a:r>
            <a:r>
              <a:rPr b="0" lang="en-US" sz="283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law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3053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30" spc="-41" strike="noStrike">
                <a:solidFill>
                  <a:srgbClr val="000000"/>
                </a:solidFill>
                <a:latin typeface="Times New Roman"/>
              </a:rPr>
              <a:t>RE’s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defense against monitoring  findings and</a:t>
            </a:r>
            <a:r>
              <a:rPr b="0" lang="en-US" sz="283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8720" y="931320"/>
            <a:ext cx="93794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32" strike="noStrike">
                <a:solidFill>
                  <a:srgbClr val="262626"/>
                </a:solidFill>
                <a:latin typeface="Garamond"/>
              </a:rPr>
              <a:t>HUD’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art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58 </a:t>
            </a:r>
            <a:r>
              <a:rPr b="1" lang="en-US" sz="4400" spc="-75" strike="noStrike">
                <a:solidFill>
                  <a:srgbClr val="262626"/>
                </a:solidFill>
                <a:latin typeface="Garamond"/>
              </a:rPr>
              <a:t>NEPA </a:t>
            </a:r>
            <a:r>
              <a:rPr b="1" lang="en-US" sz="4400" spc="-18" strike="noStrike">
                <a:solidFill>
                  <a:srgbClr val="262626"/>
                </a:solidFill>
                <a:latin typeface="Garamond"/>
              </a:rPr>
              <a:t>Procedures</a:t>
            </a:r>
            <a:r>
              <a:rPr b="1" lang="en-US" sz="4400" spc="-26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24" strike="noStrike">
                <a:solidFill>
                  <a:srgbClr val="262626"/>
                </a:solidFill>
                <a:latin typeface="Garamond"/>
              </a:rPr>
              <a:t>Are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object 3"/>
          <p:cNvSpPr/>
          <p:nvPr/>
        </p:nvSpPr>
        <p:spPr>
          <a:xfrm>
            <a:off x="1846800" y="2373840"/>
            <a:ext cx="6516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864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777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33048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Font typeface="StarSymbol"/>
              <a:buChar char="—"/>
              <a:tabLst>
                <a:tab algn="l" pos="745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Must keep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administrative</a:t>
            </a:r>
            <a:r>
              <a:rPr b="0" lang="en-US" sz="200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40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200" indent="-33048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Font typeface="StarSymbol"/>
              <a:buChar char="—"/>
              <a:tabLst>
                <a:tab algn="l" pos="745920"/>
              </a:tabLst>
            </a:pP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Must follow all ste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r>
              <a:rPr b="0" lang="en-US" sz="200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4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ject 4"/>
          <p:cNvSpPr/>
          <p:nvPr/>
        </p:nvSpPr>
        <p:spPr>
          <a:xfrm>
            <a:off x="2454120" y="4195080"/>
            <a:ext cx="18172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11160">
              <a:lnSpc>
                <a:spcPct val="100000"/>
              </a:lnSpc>
              <a:spcBef>
                <a:spcPts val="85"/>
              </a:spcBef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ailure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o  maintain  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70" spc="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st</a:t>
            </a:r>
            <a:r>
              <a:rPr b="0" lang="en-US" sz="2470" spc="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  record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ject 5"/>
          <p:cNvSpPr/>
          <p:nvPr/>
        </p:nvSpPr>
        <p:spPr>
          <a:xfrm>
            <a:off x="5187960" y="4262400"/>
            <a:ext cx="139860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11160">
              <a:lnSpc>
                <a:spcPct val="100000"/>
              </a:lnSpc>
              <a:spcBef>
                <a:spcPts val="85"/>
              </a:spcBef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Failure to 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ollow  p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bject 6"/>
          <p:cNvSpPr/>
          <p:nvPr/>
        </p:nvSpPr>
        <p:spPr>
          <a:xfrm>
            <a:off x="6975360" y="4723920"/>
            <a:ext cx="565920" cy="93600"/>
          </a:xfrm>
          <a:custGeom>
            <a:avLst/>
            <a:gdLst>
              <a:gd name="textAreaLeft" fmla="*/ 0 w 565920"/>
              <a:gd name="textAreaRight" fmla="*/ 566280 w 565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41984" h="106679">
                <a:moveTo>
                  <a:pt x="641476" y="0"/>
                </a:moveTo>
                <a:lnTo>
                  <a:pt x="0" y="0"/>
                </a:lnTo>
                <a:lnTo>
                  <a:pt x="0" y="106680"/>
                </a:lnTo>
                <a:lnTo>
                  <a:pt x="641476" y="106680"/>
                </a:lnTo>
                <a:lnTo>
                  <a:pt x="641476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object 7"/>
          <p:cNvSpPr/>
          <p:nvPr/>
        </p:nvSpPr>
        <p:spPr>
          <a:xfrm>
            <a:off x="6975360" y="4892040"/>
            <a:ext cx="565920" cy="93600"/>
          </a:xfrm>
          <a:custGeom>
            <a:avLst/>
            <a:gdLst>
              <a:gd name="textAreaLeft" fmla="*/ 0 w 565920"/>
              <a:gd name="textAreaRight" fmla="*/ 566280 w 5659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41984" h="106679">
                <a:moveTo>
                  <a:pt x="641476" y="0"/>
                </a:moveTo>
                <a:lnTo>
                  <a:pt x="0" y="0"/>
                </a:lnTo>
                <a:lnTo>
                  <a:pt x="0" y="106680"/>
                </a:lnTo>
                <a:lnTo>
                  <a:pt x="641476" y="106680"/>
                </a:lnTo>
                <a:lnTo>
                  <a:pt x="641476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1" name="object 8"/>
          <p:cNvSpPr/>
          <p:nvPr/>
        </p:nvSpPr>
        <p:spPr>
          <a:xfrm>
            <a:off x="6964560" y="4712040"/>
            <a:ext cx="587520" cy="284760"/>
          </a:xfrm>
          <a:custGeom>
            <a:avLst/>
            <a:gdLst>
              <a:gd name="textAreaLeft" fmla="*/ 0 w 587520"/>
              <a:gd name="textAreaRight" fmla="*/ 587880 w 587520"/>
              <a:gd name="textAreaTop" fmla="*/ 0 h 284760"/>
              <a:gd name="textAreaBottom" fmla="*/ 285120 h 284760"/>
            </a:gdLst>
            <a:ahLst/>
            <a:rect l="textAreaLeft" t="textAreaTop" r="textAreaRight" b="textAreaBottom"/>
            <a:pathLst>
              <a:path w="666115" h="323214">
                <a:moveTo>
                  <a:pt x="665988" y="0"/>
                </a:moveTo>
                <a:lnTo>
                  <a:pt x="0" y="0"/>
                </a:lnTo>
                <a:lnTo>
                  <a:pt x="0" y="133985"/>
                </a:lnTo>
                <a:lnTo>
                  <a:pt x="665988" y="133985"/>
                </a:lnTo>
                <a:lnTo>
                  <a:pt x="665988" y="120395"/>
                </a:lnTo>
                <a:lnTo>
                  <a:pt x="24511" y="120395"/>
                </a:lnTo>
                <a:lnTo>
                  <a:pt x="12319" y="108076"/>
                </a:lnTo>
                <a:lnTo>
                  <a:pt x="24511" y="108076"/>
                </a:lnTo>
                <a:lnTo>
                  <a:pt x="24511" y="25781"/>
                </a:lnTo>
                <a:lnTo>
                  <a:pt x="12319" y="25781"/>
                </a:lnTo>
                <a:lnTo>
                  <a:pt x="24511" y="13588"/>
                </a:lnTo>
                <a:lnTo>
                  <a:pt x="665988" y="13588"/>
                </a:lnTo>
                <a:lnTo>
                  <a:pt x="665988" y="0"/>
                </a:lnTo>
                <a:close/>
              </a:path>
              <a:path w="666115" h="323214">
                <a:moveTo>
                  <a:pt x="24511" y="108076"/>
                </a:moveTo>
                <a:lnTo>
                  <a:pt x="12319" y="108076"/>
                </a:lnTo>
                <a:lnTo>
                  <a:pt x="24511" y="120395"/>
                </a:lnTo>
                <a:lnTo>
                  <a:pt x="24511" y="108076"/>
                </a:lnTo>
                <a:close/>
              </a:path>
              <a:path w="666115" h="323214">
                <a:moveTo>
                  <a:pt x="640206" y="108076"/>
                </a:moveTo>
                <a:lnTo>
                  <a:pt x="24511" y="108076"/>
                </a:lnTo>
                <a:lnTo>
                  <a:pt x="24511" y="120395"/>
                </a:lnTo>
                <a:lnTo>
                  <a:pt x="640206" y="120395"/>
                </a:lnTo>
                <a:lnTo>
                  <a:pt x="640206" y="108076"/>
                </a:lnTo>
                <a:close/>
              </a:path>
              <a:path w="666115" h="323214">
                <a:moveTo>
                  <a:pt x="640206" y="13588"/>
                </a:moveTo>
                <a:lnTo>
                  <a:pt x="640206" y="120395"/>
                </a:lnTo>
                <a:lnTo>
                  <a:pt x="653923" y="108076"/>
                </a:lnTo>
                <a:lnTo>
                  <a:pt x="665988" y="108076"/>
                </a:lnTo>
                <a:lnTo>
                  <a:pt x="665988" y="25781"/>
                </a:lnTo>
                <a:lnTo>
                  <a:pt x="653923" y="25781"/>
                </a:lnTo>
                <a:lnTo>
                  <a:pt x="640206" y="13588"/>
                </a:lnTo>
                <a:close/>
              </a:path>
              <a:path w="666115" h="323214">
                <a:moveTo>
                  <a:pt x="665988" y="108076"/>
                </a:moveTo>
                <a:lnTo>
                  <a:pt x="653923" y="108076"/>
                </a:lnTo>
                <a:lnTo>
                  <a:pt x="640206" y="120395"/>
                </a:lnTo>
                <a:lnTo>
                  <a:pt x="665988" y="120395"/>
                </a:lnTo>
                <a:lnTo>
                  <a:pt x="665988" y="108076"/>
                </a:lnTo>
                <a:close/>
              </a:path>
              <a:path w="666115" h="323214">
                <a:moveTo>
                  <a:pt x="24511" y="13588"/>
                </a:moveTo>
                <a:lnTo>
                  <a:pt x="12319" y="25781"/>
                </a:lnTo>
                <a:lnTo>
                  <a:pt x="24511" y="25781"/>
                </a:lnTo>
                <a:lnTo>
                  <a:pt x="24511" y="13588"/>
                </a:lnTo>
                <a:close/>
              </a:path>
              <a:path w="666115" h="323214">
                <a:moveTo>
                  <a:pt x="640206" y="13588"/>
                </a:moveTo>
                <a:lnTo>
                  <a:pt x="24511" y="13588"/>
                </a:lnTo>
                <a:lnTo>
                  <a:pt x="24511" y="25781"/>
                </a:lnTo>
                <a:lnTo>
                  <a:pt x="640206" y="25781"/>
                </a:lnTo>
                <a:lnTo>
                  <a:pt x="640206" y="13588"/>
                </a:lnTo>
                <a:close/>
              </a:path>
              <a:path w="666115" h="323214">
                <a:moveTo>
                  <a:pt x="665988" y="13588"/>
                </a:moveTo>
                <a:lnTo>
                  <a:pt x="640206" y="13588"/>
                </a:lnTo>
                <a:lnTo>
                  <a:pt x="653923" y="25781"/>
                </a:lnTo>
                <a:lnTo>
                  <a:pt x="665988" y="25781"/>
                </a:lnTo>
                <a:lnTo>
                  <a:pt x="665988" y="13588"/>
                </a:lnTo>
                <a:close/>
              </a:path>
              <a:path w="666115" h="323214">
                <a:moveTo>
                  <a:pt x="665988" y="190500"/>
                </a:moveTo>
                <a:lnTo>
                  <a:pt x="0" y="190500"/>
                </a:lnTo>
                <a:lnTo>
                  <a:pt x="0" y="323088"/>
                </a:lnTo>
                <a:lnTo>
                  <a:pt x="665988" y="323088"/>
                </a:lnTo>
                <a:lnTo>
                  <a:pt x="665988" y="310895"/>
                </a:lnTo>
                <a:lnTo>
                  <a:pt x="24511" y="310895"/>
                </a:lnTo>
                <a:lnTo>
                  <a:pt x="12319" y="298576"/>
                </a:lnTo>
                <a:lnTo>
                  <a:pt x="24511" y="298576"/>
                </a:lnTo>
                <a:lnTo>
                  <a:pt x="24511" y="216281"/>
                </a:lnTo>
                <a:lnTo>
                  <a:pt x="12319" y="216281"/>
                </a:lnTo>
                <a:lnTo>
                  <a:pt x="24511" y="204088"/>
                </a:lnTo>
                <a:lnTo>
                  <a:pt x="665988" y="204088"/>
                </a:lnTo>
                <a:lnTo>
                  <a:pt x="665988" y="190500"/>
                </a:lnTo>
                <a:close/>
              </a:path>
              <a:path w="666115" h="323214">
                <a:moveTo>
                  <a:pt x="24511" y="298576"/>
                </a:moveTo>
                <a:lnTo>
                  <a:pt x="12319" y="298576"/>
                </a:lnTo>
                <a:lnTo>
                  <a:pt x="24511" y="310895"/>
                </a:lnTo>
                <a:lnTo>
                  <a:pt x="24511" y="298576"/>
                </a:lnTo>
                <a:close/>
              </a:path>
              <a:path w="666115" h="323214">
                <a:moveTo>
                  <a:pt x="640206" y="298576"/>
                </a:moveTo>
                <a:lnTo>
                  <a:pt x="24511" y="298576"/>
                </a:lnTo>
                <a:lnTo>
                  <a:pt x="24511" y="310895"/>
                </a:lnTo>
                <a:lnTo>
                  <a:pt x="640206" y="310895"/>
                </a:lnTo>
                <a:lnTo>
                  <a:pt x="640206" y="298576"/>
                </a:lnTo>
                <a:close/>
              </a:path>
              <a:path w="666115" h="323214">
                <a:moveTo>
                  <a:pt x="640206" y="204088"/>
                </a:moveTo>
                <a:lnTo>
                  <a:pt x="640206" y="310895"/>
                </a:lnTo>
                <a:lnTo>
                  <a:pt x="653923" y="298576"/>
                </a:lnTo>
                <a:lnTo>
                  <a:pt x="665988" y="298576"/>
                </a:lnTo>
                <a:lnTo>
                  <a:pt x="665988" y="216281"/>
                </a:lnTo>
                <a:lnTo>
                  <a:pt x="653923" y="216281"/>
                </a:lnTo>
                <a:lnTo>
                  <a:pt x="640206" y="204088"/>
                </a:lnTo>
                <a:close/>
              </a:path>
              <a:path w="666115" h="323214">
                <a:moveTo>
                  <a:pt x="665988" y="298576"/>
                </a:moveTo>
                <a:lnTo>
                  <a:pt x="653923" y="298576"/>
                </a:lnTo>
                <a:lnTo>
                  <a:pt x="640206" y="310895"/>
                </a:lnTo>
                <a:lnTo>
                  <a:pt x="665988" y="310895"/>
                </a:lnTo>
                <a:lnTo>
                  <a:pt x="665988" y="298576"/>
                </a:lnTo>
                <a:close/>
              </a:path>
              <a:path w="666115" h="323214">
                <a:moveTo>
                  <a:pt x="24511" y="204088"/>
                </a:moveTo>
                <a:lnTo>
                  <a:pt x="12319" y="216281"/>
                </a:lnTo>
                <a:lnTo>
                  <a:pt x="24511" y="216281"/>
                </a:lnTo>
                <a:lnTo>
                  <a:pt x="24511" y="204088"/>
                </a:lnTo>
                <a:close/>
              </a:path>
              <a:path w="666115" h="323214">
                <a:moveTo>
                  <a:pt x="640206" y="204088"/>
                </a:moveTo>
                <a:lnTo>
                  <a:pt x="24511" y="204088"/>
                </a:lnTo>
                <a:lnTo>
                  <a:pt x="24511" y="216281"/>
                </a:lnTo>
                <a:lnTo>
                  <a:pt x="640206" y="216281"/>
                </a:lnTo>
                <a:lnTo>
                  <a:pt x="640206" y="204088"/>
                </a:lnTo>
                <a:close/>
              </a:path>
              <a:path w="666115" h="323214">
                <a:moveTo>
                  <a:pt x="665988" y="204088"/>
                </a:moveTo>
                <a:lnTo>
                  <a:pt x="640206" y="204088"/>
                </a:lnTo>
                <a:lnTo>
                  <a:pt x="653923" y="216281"/>
                </a:lnTo>
                <a:lnTo>
                  <a:pt x="665988" y="216281"/>
                </a:lnTo>
                <a:lnTo>
                  <a:pt x="665988" y="204088"/>
                </a:lnTo>
                <a:close/>
              </a:path>
            </a:pathLst>
          </a:custGeom>
          <a:solidFill>
            <a:srgbClr val="385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object 9"/>
          <p:cNvSpPr/>
          <p:nvPr/>
        </p:nvSpPr>
        <p:spPr>
          <a:xfrm>
            <a:off x="4505040" y="4933800"/>
            <a:ext cx="156960" cy="167760"/>
          </a:xfrm>
          <a:custGeom>
            <a:avLst/>
            <a:gdLst>
              <a:gd name="textAreaLeft" fmla="*/ 0 w 156960"/>
              <a:gd name="textAreaRight" fmla="*/ 157320 w 15696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78435" h="190500">
                <a:moveTo>
                  <a:pt x="178307" y="0"/>
                </a:moveTo>
                <a:lnTo>
                  <a:pt x="0" y="0"/>
                </a:lnTo>
                <a:lnTo>
                  <a:pt x="0" y="190499"/>
                </a:lnTo>
                <a:lnTo>
                  <a:pt x="178307" y="190499"/>
                </a:lnTo>
                <a:lnTo>
                  <a:pt x="178307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object 10"/>
          <p:cNvSpPr/>
          <p:nvPr/>
        </p:nvSpPr>
        <p:spPr>
          <a:xfrm>
            <a:off x="4311720" y="4776480"/>
            <a:ext cx="544320" cy="156960"/>
          </a:xfrm>
          <a:custGeom>
            <a:avLst/>
            <a:gdLst>
              <a:gd name="textAreaLeft" fmla="*/ 0 w 544320"/>
              <a:gd name="textAreaRight" fmla="*/ 544680 w 54432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617220" h="178435">
                <a:moveTo>
                  <a:pt x="617093" y="0"/>
                </a:moveTo>
                <a:lnTo>
                  <a:pt x="0" y="0"/>
                </a:lnTo>
                <a:lnTo>
                  <a:pt x="0" y="178435"/>
                </a:lnTo>
                <a:lnTo>
                  <a:pt x="617093" y="178435"/>
                </a:lnTo>
                <a:lnTo>
                  <a:pt x="617093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object 11"/>
          <p:cNvSpPr/>
          <p:nvPr/>
        </p:nvSpPr>
        <p:spPr>
          <a:xfrm>
            <a:off x="4505040" y="4608360"/>
            <a:ext cx="156960" cy="167760"/>
          </a:xfrm>
          <a:custGeom>
            <a:avLst/>
            <a:gdLst>
              <a:gd name="textAreaLeft" fmla="*/ 0 w 156960"/>
              <a:gd name="textAreaRight" fmla="*/ 157320 w 15696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78435" h="190500">
                <a:moveTo>
                  <a:pt x="178307" y="0"/>
                </a:moveTo>
                <a:lnTo>
                  <a:pt x="0" y="0"/>
                </a:lnTo>
                <a:lnTo>
                  <a:pt x="0" y="190500"/>
                </a:lnTo>
                <a:lnTo>
                  <a:pt x="178307" y="190500"/>
                </a:lnTo>
                <a:lnTo>
                  <a:pt x="178307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5" name="object 12"/>
          <p:cNvSpPr/>
          <p:nvPr/>
        </p:nvSpPr>
        <p:spPr>
          <a:xfrm>
            <a:off x="4300920" y="4596480"/>
            <a:ext cx="565920" cy="516240"/>
          </a:xfrm>
          <a:custGeom>
            <a:avLst/>
            <a:gdLst>
              <a:gd name="textAreaLeft" fmla="*/ 0 w 565920"/>
              <a:gd name="textAreaRight" fmla="*/ 566280 w 56592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641985" h="585470">
                <a:moveTo>
                  <a:pt x="217932" y="382524"/>
                </a:moveTo>
                <a:lnTo>
                  <a:pt x="217932" y="585089"/>
                </a:lnTo>
                <a:lnTo>
                  <a:pt x="423672" y="585089"/>
                </a:lnTo>
                <a:lnTo>
                  <a:pt x="423672" y="573024"/>
                </a:lnTo>
                <a:lnTo>
                  <a:pt x="243840" y="573024"/>
                </a:lnTo>
                <a:lnTo>
                  <a:pt x="231521" y="560832"/>
                </a:lnTo>
                <a:lnTo>
                  <a:pt x="243840" y="560832"/>
                </a:lnTo>
                <a:lnTo>
                  <a:pt x="243840" y="396113"/>
                </a:lnTo>
                <a:lnTo>
                  <a:pt x="231521" y="396113"/>
                </a:lnTo>
                <a:lnTo>
                  <a:pt x="217932" y="382524"/>
                </a:lnTo>
                <a:close/>
              </a:path>
              <a:path w="641985" h="585470">
                <a:moveTo>
                  <a:pt x="243840" y="560832"/>
                </a:moveTo>
                <a:lnTo>
                  <a:pt x="231521" y="560832"/>
                </a:lnTo>
                <a:lnTo>
                  <a:pt x="243840" y="573024"/>
                </a:lnTo>
                <a:lnTo>
                  <a:pt x="243840" y="560832"/>
                </a:lnTo>
                <a:close/>
              </a:path>
              <a:path w="641985" h="585470">
                <a:moveTo>
                  <a:pt x="397764" y="560832"/>
                </a:moveTo>
                <a:lnTo>
                  <a:pt x="243840" y="560832"/>
                </a:lnTo>
                <a:lnTo>
                  <a:pt x="243840" y="573024"/>
                </a:lnTo>
                <a:lnTo>
                  <a:pt x="397764" y="573024"/>
                </a:lnTo>
                <a:lnTo>
                  <a:pt x="397764" y="560832"/>
                </a:lnTo>
                <a:close/>
              </a:path>
              <a:path w="641985" h="585470">
                <a:moveTo>
                  <a:pt x="615696" y="370332"/>
                </a:moveTo>
                <a:lnTo>
                  <a:pt x="397764" y="370332"/>
                </a:lnTo>
                <a:lnTo>
                  <a:pt x="397764" y="573024"/>
                </a:lnTo>
                <a:lnTo>
                  <a:pt x="409829" y="560832"/>
                </a:lnTo>
                <a:lnTo>
                  <a:pt x="423672" y="560832"/>
                </a:lnTo>
                <a:lnTo>
                  <a:pt x="423672" y="396113"/>
                </a:lnTo>
                <a:lnTo>
                  <a:pt x="409829" y="396113"/>
                </a:lnTo>
                <a:lnTo>
                  <a:pt x="423672" y="382524"/>
                </a:lnTo>
                <a:lnTo>
                  <a:pt x="615696" y="382524"/>
                </a:lnTo>
                <a:lnTo>
                  <a:pt x="615696" y="370332"/>
                </a:lnTo>
                <a:close/>
              </a:path>
              <a:path w="641985" h="585470">
                <a:moveTo>
                  <a:pt x="423672" y="560832"/>
                </a:moveTo>
                <a:lnTo>
                  <a:pt x="409829" y="560832"/>
                </a:lnTo>
                <a:lnTo>
                  <a:pt x="397764" y="573024"/>
                </a:lnTo>
                <a:lnTo>
                  <a:pt x="423672" y="573024"/>
                </a:lnTo>
                <a:lnTo>
                  <a:pt x="423672" y="560832"/>
                </a:lnTo>
                <a:close/>
              </a:path>
              <a:path w="641985" h="585470">
                <a:moveTo>
                  <a:pt x="217932" y="190500"/>
                </a:moveTo>
                <a:lnTo>
                  <a:pt x="0" y="190500"/>
                </a:lnTo>
                <a:lnTo>
                  <a:pt x="0" y="396113"/>
                </a:lnTo>
                <a:lnTo>
                  <a:pt x="217932" y="396113"/>
                </a:lnTo>
                <a:lnTo>
                  <a:pt x="217932" y="382524"/>
                </a:lnTo>
                <a:lnTo>
                  <a:pt x="25780" y="382524"/>
                </a:lnTo>
                <a:lnTo>
                  <a:pt x="12192" y="370332"/>
                </a:lnTo>
                <a:lnTo>
                  <a:pt x="25780" y="370332"/>
                </a:lnTo>
                <a:lnTo>
                  <a:pt x="25780" y="216281"/>
                </a:lnTo>
                <a:lnTo>
                  <a:pt x="12191" y="216281"/>
                </a:lnTo>
                <a:lnTo>
                  <a:pt x="25780" y="204089"/>
                </a:lnTo>
                <a:lnTo>
                  <a:pt x="217932" y="204089"/>
                </a:lnTo>
                <a:lnTo>
                  <a:pt x="217932" y="190500"/>
                </a:lnTo>
                <a:close/>
              </a:path>
              <a:path w="641985" h="585470">
                <a:moveTo>
                  <a:pt x="243840" y="370332"/>
                </a:moveTo>
                <a:lnTo>
                  <a:pt x="25780" y="370332"/>
                </a:lnTo>
                <a:lnTo>
                  <a:pt x="25780" y="382524"/>
                </a:lnTo>
                <a:lnTo>
                  <a:pt x="217932" y="382524"/>
                </a:lnTo>
                <a:lnTo>
                  <a:pt x="231521" y="396113"/>
                </a:lnTo>
                <a:lnTo>
                  <a:pt x="243840" y="396113"/>
                </a:lnTo>
                <a:lnTo>
                  <a:pt x="243840" y="370332"/>
                </a:lnTo>
                <a:close/>
              </a:path>
              <a:path w="641985" h="585470">
                <a:moveTo>
                  <a:pt x="423672" y="382524"/>
                </a:moveTo>
                <a:lnTo>
                  <a:pt x="409829" y="396113"/>
                </a:lnTo>
                <a:lnTo>
                  <a:pt x="423672" y="396113"/>
                </a:lnTo>
                <a:lnTo>
                  <a:pt x="423672" y="382524"/>
                </a:lnTo>
                <a:close/>
              </a:path>
              <a:path w="641985" h="585470">
                <a:moveTo>
                  <a:pt x="641604" y="370332"/>
                </a:moveTo>
                <a:lnTo>
                  <a:pt x="629285" y="370332"/>
                </a:lnTo>
                <a:lnTo>
                  <a:pt x="615696" y="382524"/>
                </a:lnTo>
                <a:lnTo>
                  <a:pt x="423672" y="382524"/>
                </a:lnTo>
                <a:lnTo>
                  <a:pt x="423672" y="396113"/>
                </a:lnTo>
                <a:lnTo>
                  <a:pt x="641604" y="396113"/>
                </a:lnTo>
                <a:lnTo>
                  <a:pt x="641604" y="370332"/>
                </a:lnTo>
                <a:close/>
              </a:path>
              <a:path w="641985" h="585470">
                <a:moveTo>
                  <a:pt x="25780" y="370332"/>
                </a:moveTo>
                <a:lnTo>
                  <a:pt x="12192" y="370332"/>
                </a:lnTo>
                <a:lnTo>
                  <a:pt x="25780" y="382524"/>
                </a:lnTo>
                <a:lnTo>
                  <a:pt x="25780" y="370332"/>
                </a:lnTo>
                <a:close/>
              </a:path>
              <a:path w="641985" h="585470">
                <a:moveTo>
                  <a:pt x="615696" y="204089"/>
                </a:moveTo>
                <a:lnTo>
                  <a:pt x="615696" y="382524"/>
                </a:lnTo>
                <a:lnTo>
                  <a:pt x="629285" y="370332"/>
                </a:lnTo>
                <a:lnTo>
                  <a:pt x="641604" y="370332"/>
                </a:lnTo>
                <a:lnTo>
                  <a:pt x="641604" y="216281"/>
                </a:lnTo>
                <a:lnTo>
                  <a:pt x="629285" y="216281"/>
                </a:lnTo>
                <a:lnTo>
                  <a:pt x="615696" y="204089"/>
                </a:lnTo>
                <a:close/>
              </a:path>
              <a:path w="641985" h="585470">
                <a:moveTo>
                  <a:pt x="25780" y="204089"/>
                </a:moveTo>
                <a:lnTo>
                  <a:pt x="12191" y="216281"/>
                </a:lnTo>
                <a:lnTo>
                  <a:pt x="25780" y="216281"/>
                </a:lnTo>
                <a:lnTo>
                  <a:pt x="25780" y="204089"/>
                </a:lnTo>
                <a:close/>
              </a:path>
              <a:path w="641985" h="585470">
                <a:moveTo>
                  <a:pt x="243840" y="190500"/>
                </a:moveTo>
                <a:lnTo>
                  <a:pt x="231521" y="190500"/>
                </a:lnTo>
                <a:lnTo>
                  <a:pt x="217932" y="204089"/>
                </a:lnTo>
                <a:lnTo>
                  <a:pt x="25780" y="204089"/>
                </a:lnTo>
                <a:lnTo>
                  <a:pt x="25780" y="216281"/>
                </a:lnTo>
                <a:lnTo>
                  <a:pt x="243840" y="216281"/>
                </a:lnTo>
                <a:lnTo>
                  <a:pt x="243840" y="190500"/>
                </a:lnTo>
                <a:close/>
              </a:path>
              <a:path w="641985" h="585470">
                <a:moveTo>
                  <a:pt x="397764" y="13589"/>
                </a:moveTo>
                <a:lnTo>
                  <a:pt x="397764" y="216281"/>
                </a:lnTo>
                <a:lnTo>
                  <a:pt x="615696" y="216281"/>
                </a:lnTo>
                <a:lnTo>
                  <a:pt x="615696" y="204089"/>
                </a:lnTo>
                <a:lnTo>
                  <a:pt x="423672" y="204089"/>
                </a:lnTo>
                <a:lnTo>
                  <a:pt x="409829" y="190500"/>
                </a:lnTo>
                <a:lnTo>
                  <a:pt x="423672" y="190500"/>
                </a:lnTo>
                <a:lnTo>
                  <a:pt x="423672" y="25781"/>
                </a:lnTo>
                <a:lnTo>
                  <a:pt x="409829" y="25781"/>
                </a:lnTo>
                <a:lnTo>
                  <a:pt x="397764" y="13589"/>
                </a:lnTo>
                <a:close/>
              </a:path>
              <a:path w="641985" h="585470">
                <a:moveTo>
                  <a:pt x="641604" y="190500"/>
                </a:moveTo>
                <a:lnTo>
                  <a:pt x="423672" y="190500"/>
                </a:lnTo>
                <a:lnTo>
                  <a:pt x="423672" y="204089"/>
                </a:lnTo>
                <a:lnTo>
                  <a:pt x="615696" y="204089"/>
                </a:lnTo>
                <a:lnTo>
                  <a:pt x="629285" y="216281"/>
                </a:lnTo>
                <a:lnTo>
                  <a:pt x="641604" y="216281"/>
                </a:lnTo>
                <a:lnTo>
                  <a:pt x="641604" y="190500"/>
                </a:lnTo>
                <a:close/>
              </a:path>
              <a:path w="641985" h="585470">
                <a:moveTo>
                  <a:pt x="423672" y="0"/>
                </a:moveTo>
                <a:lnTo>
                  <a:pt x="217932" y="0"/>
                </a:lnTo>
                <a:lnTo>
                  <a:pt x="217932" y="204089"/>
                </a:lnTo>
                <a:lnTo>
                  <a:pt x="231521" y="190500"/>
                </a:lnTo>
                <a:lnTo>
                  <a:pt x="243840" y="190500"/>
                </a:lnTo>
                <a:lnTo>
                  <a:pt x="243840" y="25781"/>
                </a:lnTo>
                <a:lnTo>
                  <a:pt x="231521" y="25781"/>
                </a:lnTo>
                <a:lnTo>
                  <a:pt x="243840" y="13589"/>
                </a:lnTo>
                <a:lnTo>
                  <a:pt x="423672" y="13589"/>
                </a:lnTo>
                <a:lnTo>
                  <a:pt x="423672" y="0"/>
                </a:lnTo>
                <a:close/>
              </a:path>
              <a:path w="641985" h="585470">
                <a:moveTo>
                  <a:pt x="423672" y="190500"/>
                </a:moveTo>
                <a:lnTo>
                  <a:pt x="409829" y="190500"/>
                </a:lnTo>
                <a:lnTo>
                  <a:pt x="423672" y="204089"/>
                </a:lnTo>
                <a:lnTo>
                  <a:pt x="423672" y="190500"/>
                </a:lnTo>
                <a:close/>
              </a:path>
              <a:path w="641985" h="585470">
                <a:moveTo>
                  <a:pt x="243840" y="13589"/>
                </a:moveTo>
                <a:lnTo>
                  <a:pt x="231521" y="25781"/>
                </a:lnTo>
                <a:lnTo>
                  <a:pt x="243840" y="25781"/>
                </a:lnTo>
                <a:lnTo>
                  <a:pt x="243840" y="13589"/>
                </a:lnTo>
                <a:close/>
              </a:path>
              <a:path w="641985" h="585470">
                <a:moveTo>
                  <a:pt x="397764" y="13589"/>
                </a:moveTo>
                <a:lnTo>
                  <a:pt x="243840" y="13589"/>
                </a:lnTo>
                <a:lnTo>
                  <a:pt x="243840" y="25781"/>
                </a:lnTo>
                <a:lnTo>
                  <a:pt x="397764" y="25781"/>
                </a:lnTo>
                <a:lnTo>
                  <a:pt x="397764" y="13589"/>
                </a:lnTo>
                <a:close/>
              </a:path>
              <a:path w="641985" h="585470">
                <a:moveTo>
                  <a:pt x="423672" y="13589"/>
                </a:moveTo>
                <a:lnTo>
                  <a:pt x="397764" y="13589"/>
                </a:lnTo>
                <a:lnTo>
                  <a:pt x="409829" y="25781"/>
                </a:lnTo>
                <a:lnTo>
                  <a:pt x="423672" y="25781"/>
                </a:lnTo>
                <a:lnTo>
                  <a:pt x="423672" y="13589"/>
                </a:lnTo>
                <a:close/>
              </a:path>
            </a:pathLst>
          </a:custGeom>
          <a:solidFill>
            <a:srgbClr val="385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object 13"/>
          <p:cNvSpPr/>
          <p:nvPr/>
        </p:nvSpPr>
        <p:spPr>
          <a:xfrm>
            <a:off x="7982280" y="4262400"/>
            <a:ext cx="15703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11160">
              <a:lnSpc>
                <a:spcPct val="100000"/>
              </a:lnSpc>
              <a:spcBef>
                <a:spcPts val="85"/>
              </a:spcBef>
            </a:pPr>
            <a:r>
              <a:rPr b="0" lang="en-US" sz="2470" spc="-63" strike="noStrike">
                <a:solidFill>
                  <a:srgbClr val="000000"/>
                </a:solidFill>
                <a:latin typeface="Times New Roman"/>
              </a:rPr>
              <a:t>NEPA 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LEGAL  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6"/>
          <p:cNvGrpSpPr/>
          <p:nvPr/>
        </p:nvGrpSpPr>
        <p:grpSpPr>
          <a:xfrm>
            <a:off x="-16920" y="0"/>
            <a:ext cx="12230640" cy="6855840"/>
            <a:chOff x="-16920" y="0"/>
            <a:chExt cx="12230640" cy="6855840"/>
          </a:xfrm>
        </p:grpSpPr>
        <p:pic>
          <p:nvPicPr>
            <p:cNvPr id="478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Rectangle 8"/>
            <p:cNvSpPr/>
            <p:nvPr/>
          </p:nvSpPr>
          <p:spPr>
            <a:xfrm>
              <a:off x="2328480" y="1540800"/>
              <a:ext cx="7543440" cy="383508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Picture 9" descr=""/>
            <p:cNvPicPr/>
            <p:nvPr/>
          </p:nvPicPr>
          <p:blipFill>
            <a:blip r:embed="rId3"/>
            <a:stretch/>
          </p:blipFill>
          <p:spPr>
            <a:xfrm>
              <a:off x="-1692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0" descr=""/>
            <p:cNvPicPr/>
            <p:nvPr/>
          </p:nvPicPr>
          <p:blipFill>
            <a:blip r:embed="rId4"/>
            <a:stretch/>
          </p:blipFill>
          <p:spPr>
            <a:xfrm>
              <a:off x="973620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482" name="Straight Connector 12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 useBgFill="1">
        <p:nvSpPr>
          <p:cNvPr id="483" name="Rectangle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484" name="Rectangle 16"/>
          <p:cNvSpPr/>
          <p:nvPr/>
        </p:nvSpPr>
        <p:spPr>
          <a:xfrm>
            <a:off x="2192040" y="1400040"/>
            <a:ext cx="7807680" cy="4103640"/>
          </a:xfrm>
          <a:prstGeom prst="rect">
            <a:avLst/>
          </a:prstGeom>
          <a:solidFill>
            <a:schemeClr val="tx2">
              <a:lumMod val="90000"/>
              <a:lumOff val="10000"/>
            </a:schemeClr>
          </a:solidFill>
          <a:ln>
            <a:noFill/>
          </a:ln>
          <a:effectLst>
            <a:outerShdw algn="t" blurRad="114480" dir="5400000" dist="127080" rotWithShape="0" sx="99000" sy="99000">
              <a:srgbClr val="000000">
                <a:alpha val="40000"/>
              </a:srgbClr>
            </a:outerShdw>
          </a:effectLst>
          <a:scene3d>
            <a:camera prst="orthographicFront"/>
            <a:lightRig dir="t" rig="twoPt"/>
          </a:scene3d>
          <a:sp3d contourW="6350">
            <a:bevelT prst="coolSlant" w="12700" h="0"/>
            <a:contourClr>
              <a:schemeClr val="tx2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485" name="Rectangle 18"/>
          <p:cNvSpPr/>
          <p:nvPr/>
        </p:nvSpPr>
        <p:spPr>
          <a:xfrm>
            <a:off x="2328480" y="1540800"/>
            <a:ext cx="7543440" cy="3835080"/>
          </a:xfrm>
          <a:prstGeom prst="rect">
            <a:avLst/>
          </a:prstGeom>
          <a:noFill/>
          <a:ln w="15875">
            <a:solidFill>
              <a:srgbClr val="83992a"/>
            </a:solidFill>
            <a:miter/>
          </a:ln>
          <a:effectLst>
            <a:innerShdw blurRad="25400" dir="13500000" dist="12700">
              <a:srgbClr val="000000">
                <a:alpha val="45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0"/>
          <p:cNvGrpSpPr/>
          <p:nvPr/>
        </p:nvGrpSpPr>
        <p:grpSpPr>
          <a:xfrm>
            <a:off x="0" y="3123720"/>
            <a:ext cx="12230640" cy="659160"/>
            <a:chOff x="0" y="3123720"/>
            <a:chExt cx="12230640" cy="659160"/>
          </a:xfrm>
        </p:grpSpPr>
        <p:sp>
          <p:nvSpPr>
            <p:cNvPr id="487" name="Rounded Rectangle 17"/>
            <p:cNvSpPr/>
            <p:nvPr/>
          </p:nvSpPr>
          <p:spPr>
            <a:xfrm>
              <a:off x="2448000" y="312372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488" name="Picture 22" descr=""/>
            <p:cNvPicPr/>
            <p:nvPr/>
          </p:nvPicPr>
          <p:blipFill>
            <a:blip r:embed="rId5"/>
            <a:stretch/>
          </p:blipFill>
          <p:spPr>
            <a:xfrm>
              <a:off x="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ounded Rectangle 20"/>
            <p:cNvSpPr/>
            <p:nvPr/>
          </p:nvSpPr>
          <p:spPr>
            <a:xfrm>
              <a:off x="9734760" y="312480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490" name="Picture 24" descr=""/>
            <p:cNvPicPr/>
            <p:nvPr/>
          </p:nvPicPr>
          <p:blipFill>
            <a:blip r:embed="rId6"/>
            <a:stretch/>
          </p:blipFill>
          <p:spPr>
            <a:xfrm>
              <a:off x="975312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774880" y="2764440"/>
            <a:ext cx="68151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1008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5000" spc="-4" strike="noStrike">
                <a:solidFill>
                  <a:srgbClr val="ffffff"/>
                </a:solidFill>
                <a:latin typeface="Garamond"/>
              </a:rPr>
              <a:t>Determine the Level of  </a:t>
            </a:r>
            <a:r>
              <a:rPr b="0" lang="en-US" sz="5000" spc="-9" strike="noStrike">
                <a:solidFill>
                  <a:srgbClr val="ffffff"/>
                </a:solidFill>
                <a:latin typeface="Garamond"/>
              </a:rPr>
              <a:t>Environmental</a:t>
            </a:r>
            <a:r>
              <a:rPr b="0" lang="en-US" sz="5000" spc="-32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000" spc="-4" strike="noStrike">
                <a:solidFill>
                  <a:srgbClr val="ffffff"/>
                </a:solidFill>
                <a:latin typeface="Garamond"/>
              </a:rPr>
              <a:t>Review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492" name="Straight Connector 26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24360" y="891720"/>
            <a:ext cx="847116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0664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Determining the Level of 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nvironmental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 Review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object 3"/>
          <p:cNvSpPr/>
          <p:nvPr/>
        </p:nvSpPr>
        <p:spPr>
          <a:xfrm>
            <a:off x="1468080" y="2431440"/>
            <a:ext cx="939528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1360" bIns="0" anchor="t">
            <a:spAutoFit/>
          </a:bodyPr>
          <a:p>
            <a:pPr marL="512640" indent="-50148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512640"/>
                <a:tab algn="l" pos="51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evel of environmental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review is based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r>
              <a:rPr b="0" lang="en-US" sz="2300" spc="-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project  descrip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2640" indent="-501480">
              <a:lnSpc>
                <a:spcPct val="80000"/>
              </a:lnSpc>
              <a:spcBef>
                <a:spcPts val="816"/>
              </a:spcBef>
              <a:buClr>
                <a:srgbClr val="000000"/>
              </a:buClr>
              <a:buFont typeface="Arial"/>
              <a:buChar char="•"/>
              <a:tabLst>
                <a:tab algn="l" pos="512640"/>
                <a:tab algn="l" pos="51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are five </a:t>
            </a:r>
            <a:r>
              <a:rPr b="0" lang="en-US" sz="2300" spc="-9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level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300" spc="-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vironmental 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review each with </a:t>
            </a:r>
            <a:r>
              <a:rPr b="0" lang="en-US" sz="2300" spc="-9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US" sz="230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120" indent="-357480">
              <a:lnSpc>
                <a:spcPct val="100000"/>
              </a:lnSpc>
              <a:spcBef>
                <a:spcPts val="278"/>
              </a:spcBef>
              <a:buClr>
                <a:srgbClr val="000000"/>
              </a:buClr>
              <a:buFont typeface="Arial"/>
              <a:buChar char="–"/>
              <a:tabLst>
                <a:tab algn="l" pos="1068120"/>
                <a:tab algn="l" pos="1068480"/>
              </a:tabLst>
            </a:pP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Exempt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1068120" indent="-35748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068120"/>
                <a:tab algn="l" pos="10684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ategorical Exclusions Not Subjec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194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§58.5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1068120" indent="-35748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068120"/>
                <a:tab algn="l" pos="10684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ategorical Exclusions Subject to</a:t>
            </a:r>
            <a:r>
              <a:rPr b="0" lang="en-US" sz="194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§58.5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1068120" indent="-35748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068120"/>
                <a:tab algn="l" pos="10684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194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1068120" indent="-35748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068120"/>
                <a:tab algn="l" pos="10684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nvironmental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Impact</a:t>
            </a:r>
            <a:r>
              <a:rPr b="0" lang="en-US" sz="1940" spc="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atement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512640" indent="-501480">
              <a:lnSpc>
                <a:spcPct val="80000"/>
              </a:lnSpc>
              <a:spcBef>
                <a:spcPts val="802"/>
              </a:spcBef>
              <a:buClr>
                <a:srgbClr val="000000"/>
              </a:buClr>
              <a:buFont typeface="Arial"/>
              <a:buChar char="•"/>
              <a:tabLst>
                <a:tab algn="l" pos="512640"/>
                <a:tab algn="l" pos="51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written determination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level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300" spc="-16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vironmental 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review is required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[(§58.34 (b);</a:t>
            </a:r>
            <a:r>
              <a:rPr b="0" lang="en-US" sz="230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§58.35(d); §58.38(a)(4)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object 2"/>
          <p:cNvSpPr/>
          <p:nvPr/>
        </p:nvSpPr>
        <p:spPr>
          <a:xfrm>
            <a:off x="2758320" y="2691360"/>
            <a:ext cx="41004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vert270" rot="16200000">
            <a:noAutofit/>
          </a:bodyPr>
          <a:p>
            <a:pPr marL="11160">
              <a:lnSpc>
                <a:spcPts val="3172"/>
              </a:lnSpc>
            </a:pPr>
            <a:r>
              <a:rPr b="1" lang="en-US" sz="283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r>
              <a:rPr b="1" lang="en-US" sz="283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30" spc="-4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18840" y="640080"/>
            <a:ext cx="7191720" cy="130320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933480" indent="0" algn="ctr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</a:tabLst>
            </a:pPr>
            <a:r>
              <a:rPr b="1" lang="en-US" sz="2830" spc="-32" strike="noStrike">
                <a:solidFill>
                  <a:srgbClr val="262626"/>
                </a:solidFill>
                <a:latin typeface="Garamond"/>
              </a:rPr>
              <a:t>Typical </a:t>
            </a:r>
            <a:r>
              <a:rPr b="1" lang="en-US" sz="2830" spc="-9" strike="noStrike">
                <a:solidFill>
                  <a:srgbClr val="262626"/>
                </a:solidFill>
                <a:latin typeface="Garamond"/>
              </a:rPr>
              <a:t>Timelines </a:t>
            </a:r>
            <a:r>
              <a:rPr b="1" lang="en-US" sz="2830" spc="-1" strike="noStrike">
                <a:solidFill>
                  <a:srgbClr val="262626"/>
                </a:solidFill>
                <a:latin typeface="Garamond"/>
              </a:rPr>
              <a:t>for Completing the</a:t>
            </a:r>
            <a:r>
              <a:rPr b="1" lang="en-US" sz="2830" spc="-12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2830" spc="-9" strike="noStrike">
                <a:solidFill>
                  <a:srgbClr val="262626"/>
                </a:solidFill>
                <a:latin typeface="Garamond"/>
              </a:rPr>
              <a:t>Different  </a:t>
            </a:r>
            <a:r>
              <a:rPr b="1" lang="en-US" sz="2830" spc="-1" strike="noStrike">
                <a:solidFill>
                  <a:srgbClr val="262626"/>
                </a:solidFill>
                <a:latin typeface="Garamond"/>
              </a:rPr>
              <a:t>Levels of </a:t>
            </a:r>
            <a:r>
              <a:rPr b="1" lang="en-US" sz="2830" spc="-4" strike="noStrike">
                <a:solidFill>
                  <a:srgbClr val="262626"/>
                </a:solidFill>
                <a:latin typeface="Garamond"/>
              </a:rPr>
              <a:t>Environmental</a:t>
            </a:r>
            <a:r>
              <a:rPr b="1" lang="en-US" sz="2830" spc="-7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2830" spc="-1" strike="noStrike">
                <a:solidFill>
                  <a:srgbClr val="262626"/>
                </a:solidFill>
                <a:latin typeface="Garamond"/>
              </a:rPr>
              <a:t>Review…</a:t>
            </a:r>
            <a:endParaRPr b="0" lang="en-US" sz="283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7" name="object 4"/>
          <p:cNvSpPr/>
          <p:nvPr/>
        </p:nvSpPr>
        <p:spPr>
          <a:xfrm>
            <a:off x="4165200" y="3108600"/>
            <a:ext cx="7020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755"/>
              </a:lnSpc>
            </a:pPr>
            <a:r>
              <a:rPr b="0" lang="en-US" sz="1590" spc="-4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5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31960" y="2639880"/>
            <a:ext cx="70765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45080" bIns="0" anchor="t">
            <a:noAutofit/>
          </a:bodyPr>
          <a:p>
            <a:pPr marL="313920" indent="-285840">
              <a:lnSpc>
                <a:spcPct val="100000"/>
              </a:lnSpc>
              <a:spcBef>
                <a:spcPts val="1142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EIS – 1 to 2 </a:t>
            </a:r>
            <a:r>
              <a:rPr b="0" lang="en-US" sz="1800" spc="1" strike="noStrike">
                <a:solidFill>
                  <a:srgbClr val="262626"/>
                </a:solidFill>
                <a:latin typeface="Garamond"/>
              </a:rPr>
              <a:t>years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to</a:t>
            </a:r>
            <a:r>
              <a:rPr b="0" lang="en-US" sz="1800" spc="-5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complete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marL="313920" indent="-302400">
              <a:lnSpc>
                <a:spcPct val="100000"/>
              </a:lnSpc>
              <a:spcBef>
                <a:spcPts val="10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EA – 45 to 100 </a:t>
            </a:r>
            <a:r>
              <a:rPr b="0" lang="en-US" sz="1800" spc="1" strike="noStrike">
                <a:solidFill>
                  <a:srgbClr val="262626"/>
                </a:solidFill>
                <a:latin typeface="Garamond"/>
              </a:rPr>
              <a:t>days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to complete depending</a:t>
            </a:r>
            <a:r>
              <a:rPr b="0" lang="en-US" sz="1800" spc="-23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on  consultations</a:t>
            </a:r>
            <a:r>
              <a:rPr b="0" lang="en-US" sz="1800" spc="-26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required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marL="263880" indent="-252720">
              <a:lnSpc>
                <a:spcPct val="100000"/>
              </a:lnSpc>
              <a:spcBef>
                <a:spcPts val="1063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263880"/>
                <a:tab algn="l" pos="2646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Categorical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Exclusion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ubject </a:t>
            </a:r>
            <a:r>
              <a:rPr b="0" lang="en-US" sz="1800" spc="-55" strike="noStrike">
                <a:solidFill>
                  <a:srgbClr val="262626"/>
                </a:solidFill>
                <a:latin typeface="Garamond"/>
              </a:rPr>
              <a:t>To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§58.5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(CEST)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– 30 to  75 </a:t>
            </a:r>
            <a:r>
              <a:rPr b="0" lang="en-US" sz="1800" spc="1" strike="noStrike">
                <a:solidFill>
                  <a:srgbClr val="262626"/>
                </a:solidFill>
                <a:latin typeface="Garamond"/>
              </a:rPr>
              <a:t>days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(more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or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less)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depending on consultations  required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marL="263880" indent="-252720">
              <a:lnSpc>
                <a:spcPct val="100000"/>
              </a:lnSpc>
              <a:spcBef>
                <a:spcPts val="1054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263880"/>
                <a:tab algn="l" pos="2646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Categorical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Exclusions Not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ubject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(CENST)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to</a:t>
            </a:r>
            <a:r>
              <a:rPr b="0" lang="en-US" sz="1800" spc="-3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§58.5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marL="26388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263880"/>
                <a:tab algn="l" pos="2646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–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less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than an</a:t>
            </a:r>
            <a:r>
              <a:rPr b="0" lang="en-US" sz="1800" spc="-1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hour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marL="263880" indent="-252720">
              <a:lnSpc>
                <a:spcPct val="100000"/>
              </a:lnSpc>
              <a:spcBef>
                <a:spcPts val="10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263880"/>
                <a:tab algn="l" pos="264600"/>
              </a:tabLst>
            </a:pP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Exempt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– </a:t>
            </a:r>
            <a:r>
              <a:rPr b="0" lang="en-US" sz="1800" spc="-4" strike="noStrike">
                <a:solidFill>
                  <a:srgbClr val="262626"/>
                </a:solidFill>
                <a:latin typeface="Garamond"/>
              </a:rPr>
              <a:t>less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than an hour </a:t>
            </a:r>
            <a:r>
              <a:rPr b="0" lang="en-US" sz="1800" spc="-35" strike="noStrike">
                <a:solidFill>
                  <a:srgbClr val="262626"/>
                </a:solidFill>
                <a:latin typeface="Garamond"/>
              </a:rPr>
              <a:t>(NEPA</a:t>
            </a:r>
            <a:r>
              <a:rPr b="0" lang="en-US" sz="1800" spc="-106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Regulations)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9" name="object 10"/>
          <p:cNvSpPr/>
          <p:nvPr/>
        </p:nvSpPr>
        <p:spPr>
          <a:xfrm>
            <a:off x="945000" y="911160"/>
            <a:ext cx="1251360" cy="105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object 11"/>
          <p:cNvSpPr/>
          <p:nvPr/>
        </p:nvSpPr>
        <p:spPr>
          <a:xfrm>
            <a:off x="3215880" y="2589120"/>
            <a:ext cx="537480" cy="3340080"/>
          </a:xfrm>
          <a:custGeom>
            <a:avLst/>
            <a:gdLst>
              <a:gd name="textAreaLeft" fmla="*/ 0 w 537480"/>
              <a:gd name="textAreaRight" fmla="*/ 537840 w 537480"/>
              <a:gd name="textAreaTop" fmla="*/ 0 h 3340080"/>
              <a:gd name="textAreaBottom" fmla="*/ 3340440 h 3340080"/>
            </a:gdLst>
            <a:ahLst/>
            <a:rect l="textAreaLeft" t="textAreaTop" r="textAreaRight" b="textAreaBottom"/>
            <a:pathLst>
              <a:path w="609600" h="3785870">
                <a:moveTo>
                  <a:pt x="457200" y="304800"/>
                </a:moveTo>
                <a:lnTo>
                  <a:pt x="152400" y="304800"/>
                </a:lnTo>
                <a:lnTo>
                  <a:pt x="152400" y="3785616"/>
                </a:lnTo>
                <a:lnTo>
                  <a:pt x="457200" y="3785616"/>
                </a:lnTo>
                <a:lnTo>
                  <a:pt x="457200" y="304800"/>
                </a:lnTo>
                <a:close/>
              </a:path>
              <a:path w="609600" h="3785870">
                <a:moveTo>
                  <a:pt x="304800" y="0"/>
                </a:moveTo>
                <a:lnTo>
                  <a:pt x="0" y="304800"/>
                </a:lnTo>
                <a:lnTo>
                  <a:pt x="609600" y="304800"/>
                </a:lnTo>
                <a:lnTo>
                  <a:pt x="304800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1" name="object 12"/>
          <p:cNvSpPr/>
          <p:nvPr/>
        </p:nvSpPr>
        <p:spPr>
          <a:xfrm>
            <a:off x="3188880" y="2574360"/>
            <a:ext cx="592920" cy="3366000"/>
          </a:xfrm>
          <a:custGeom>
            <a:avLst/>
            <a:gdLst>
              <a:gd name="textAreaLeft" fmla="*/ 0 w 592920"/>
              <a:gd name="textAreaRight" fmla="*/ 593280 w 592920"/>
              <a:gd name="textAreaTop" fmla="*/ 0 h 3366000"/>
              <a:gd name="textAreaBottom" fmla="*/ 3366360 h 3366000"/>
            </a:gdLst>
            <a:ahLst/>
            <a:rect l="textAreaLeft" t="textAreaTop" r="textAreaRight" b="textAreaBottom"/>
            <a:pathLst>
              <a:path w="672464" h="3815079">
                <a:moveTo>
                  <a:pt x="170561" y="321563"/>
                </a:moveTo>
                <a:lnTo>
                  <a:pt x="170561" y="3814571"/>
                </a:lnTo>
                <a:lnTo>
                  <a:pt x="501269" y="3814571"/>
                </a:lnTo>
                <a:lnTo>
                  <a:pt x="501269" y="3802379"/>
                </a:lnTo>
                <a:lnTo>
                  <a:pt x="196469" y="3802379"/>
                </a:lnTo>
                <a:lnTo>
                  <a:pt x="182880" y="3790315"/>
                </a:lnTo>
                <a:lnTo>
                  <a:pt x="196469" y="3790315"/>
                </a:lnTo>
                <a:lnTo>
                  <a:pt x="196469" y="335279"/>
                </a:lnTo>
                <a:lnTo>
                  <a:pt x="182880" y="335279"/>
                </a:lnTo>
                <a:lnTo>
                  <a:pt x="170561" y="321563"/>
                </a:lnTo>
                <a:close/>
              </a:path>
              <a:path w="672464" h="3815079">
                <a:moveTo>
                  <a:pt x="196469" y="3790315"/>
                </a:moveTo>
                <a:lnTo>
                  <a:pt x="182880" y="3790315"/>
                </a:lnTo>
                <a:lnTo>
                  <a:pt x="196469" y="3802379"/>
                </a:lnTo>
                <a:lnTo>
                  <a:pt x="196469" y="3790315"/>
                </a:lnTo>
                <a:close/>
              </a:path>
              <a:path w="672464" h="3815079">
                <a:moveTo>
                  <a:pt x="475361" y="3790315"/>
                </a:moveTo>
                <a:lnTo>
                  <a:pt x="196469" y="3790315"/>
                </a:lnTo>
                <a:lnTo>
                  <a:pt x="196469" y="3802379"/>
                </a:lnTo>
                <a:lnTo>
                  <a:pt x="475361" y="3802379"/>
                </a:lnTo>
                <a:lnTo>
                  <a:pt x="475361" y="3790315"/>
                </a:lnTo>
                <a:close/>
              </a:path>
              <a:path w="672464" h="3815079">
                <a:moveTo>
                  <a:pt x="610997" y="309371"/>
                </a:moveTo>
                <a:lnTo>
                  <a:pt x="475361" y="309371"/>
                </a:lnTo>
                <a:lnTo>
                  <a:pt x="475361" y="3802379"/>
                </a:lnTo>
                <a:lnTo>
                  <a:pt x="487680" y="3790315"/>
                </a:lnTo>
                <a:lnTo>
                  <a:pt x="501269" y="3790315"/>
                </a:lnTo>
                <a:lnTo>
                  <a:pt x="501269" y="335279"/>
                </a:lnTo>
                <a:lnTo>
                  <a:pt x="487680" y="335279"/>
                </a:lnTo>
                <a:lnTo>
                  <a:pt x="501269" y="321563"/>
                </a:lnTo>
                <a:lnTo>
                  <a:pt x="623189" y="321563"/>
                </a:lnTo>
                <a:lnTo>
                  <a:pt x="610997" y="309371"/>
                </a:lnTo>
                <a:close/>
              </a:path>
              <a:path w="672464" h="3815079">
                <a:moveTo>
                  <a:pt x="501269" y="3790315"/>
                </a:moveTo>
                <a:lnTo>
                  <a:pt x="487680" y="3790315"/>
                </a:lnTo>
                <a:lnTo>
                  <a:pt x="475361" y="3802379"/>
                </a:lnTo>
                <a:lnTo>
                  <a:pt x="501269" y="3802379"/>
                </a:lnTo>
                <a:lnTo>
                  <a:pt x="501269" y="3790315"/>
                </a:lnTo>
                <a:close/>
              </a:path>
              <a:path w="672464" h="3815079">
                <a:moveTo>
                  <a:pt x="335280" y="0"/>
                </a:moveTo>
                <a:lnTo>
                  <a:pt x="0" y="335279"/>
                </a:lnTo>
                <a:lnTo>
                  <a:pt x="170561" y="335279"/>
                </a:lnTo>
                <a:lnTo>
                  <a:pt x="170561" y="330707"/>
                </a:lnTo>
                <a:lnTo>
                  <a:pt x="39497" y="330707"/>
                </a:lnTo>
                <a:lnTo>
                  <a:pt x="30480" y="309371"/>
                </a:lnTo>
                <a:lnTo>
                  <a:pt x="60832" y="309371"/>
                </a:lnTo>
                <a:lnTo>
                  <a:pt x="335914" y="34289"/>
                </a:lnTo>
                <a:lnTo>
                  <a:pt x="327533" y="25907"/>
                </a:lnTo>
                <a:lnTo>
                  <a:pt x="361295" y="25907"/>
                </a:lnTo>
                <a:lnTo>
                  <a:pt x="335280" y="0"/>
                </a:lnTo>
                <a:close/>
              </a:path>
              <a:path w="672464" h="3815079">
                <a:moveTo>
                  <a:pt x="196469" y="321563"/>
                </a:moveTo>
                <a:lnTo>
                  <a:pt x="170561" y="321563"/>
                </a:lnTo>
                <a:lnTo>
                  <a:pt x="182880" y="335279"/>
                </a:lnTo>
                <a:lnTo>
                  <a:pt x="196469" y="335279"/>
                </a:lnTo>
                <a:lnTo>
                  <a:pt x="196469" y="321563"/>
                </a:lnTo>
                <a:close/>
              </a:path>
              <a:path w="672464" h="3815079">
                <a:moveTo>
                  <a:pt x="501269" y="321563"/>
                </a:moveTo>
                <a:lnTo>
                  <a:pt x="487680" y="335279"/>
                </a:lnTo>
                <a:lnTo>
                  <a:pt x="501269" y="335279"/>
                </a:lnTo>
                <a:lnTo>
                  <a:pt x="501269" y="321563"/>
                </a:lnTo>
                <a:close/>
              </a:path>
              <a:path w="672464" h="3815079">
                <a:moveTo>
                  <a:pt x="623189" y="321563"/>
                </a:moveTo>
                <a:lnTo>
                  <a:pt x="501269" y="321563"/>
                </a:lnTo>
                <a:lnTo>
                  <a:pt x="501269" y="335279"/>
                </a:lnTo>
                <a:lnTo>
                  <a:pt x="671957" y="335279"/>
                </a:lnTo>
                <a:lnTo>
                  <a:pt x="667365" y="330707"/>
                </a:lnTo>
                <a:lnTo>
                  <a:pt x="632333" y="330707"/>
                </a:lnTo>
                <a:lnTo>
                  <a:pt x="623189" y="321563"/>
                </a:lnTo>
                <a:close/>
              </a:path>
              <a:path w="672464" h="3815079">
                <a:moveTo>
                  <a:pt x="60832" y="309371"/>
                </a:moveTo>
                <a:lnTo>
                  <a:pt x="30480" y="309371"/>
                </a:lnTo>
                <a:lnTo>
                  <a:pt x="39497" y="330707"/>
                </a:lnTo>
                <a:lnTo>
                  <a:pt x="60832" y="309371"/>
                </a:lnTo>
                <a:close/>
              </a:path>
              <a:path w="672464" h="3815079">
                <a:moveTo>
                  <a:pt x="196469" y="309371"/>
                </a:moveTo>
                <a:lnTo>
                  <a:pt x="60832" y="309371"/>
                </a:lnTo>
                <a:lnTo>
                  <a:pt x="39497" y="330707"/>
                </a:lnTo>
                <a:lnTo>
                  <a:pt x="170561" y="330707"/>
                </a:lnTo>
                <a:lnTo>
                  <a:pt x="170561" y="321563"/>
                </a:lnTo>
                <a:lnTo>
                  <a:pt x="196469" y="321563"/>
                </a:lnTo>
                <a:lnTo>
                  <a:pt x="196469" y="309371"/>
                </a:lnTo>
                <a:close/>
              </a:path>
              <a:path w="672464" h="3815079">
                <a:moveTo>
                  <a:pt x="361295" y="25907"/>
                </a:moveTo>
                <a:lnTo>
                  <a:pt x="344297" y="25907"/>
                </a:lnTo>
                <a:lnTo>
                  <a:pt x="335915" y="34289"/>
                </a:lnTo>
                <a:lnTo>
                  <a:pt x="632333" y="330707"/>
                </a:lnTo>
                <a:lnTo>
                  <a:pt x="640080" y="309371"/>
                </a:lnTo>
                <a:lnTo>
                  <a:pt x="645941" y="309371"/>
                </a:lnTo>
                <a:lnTo>
                  <a:pt x="361295" y="25907"/>
                </a:lnTo>
                <a:close/>
              </a:path>
              <a:path w="672464" h="3815079">
                <a:moveTo>
                  <a:pt x="645941" y="309371"/>
                </a:moveTo>
                <a:lnTo>
                  <a:pt x="640080" y="309371"/>
                </a:lnTo>
                <a:lnTo>
                  <a:pt x="632333" y="330707"/>
                </a:lnTo>
                <a:lnTo>
                  <a:pt x="667365" y="330707"/>
                </a:lnTo>
                <a:lnTo>
                  <a:pt x="645941" y="309371"/>
                </a:lnTo>
                <a:close/>
              </a:path>
              <a:path w="672464" h="3815079">
                <a:moveTo>
                  <a:pt x="344297" y="25907"/>
                </a:moveTo>
                <a:lnTo>
                  <a:pt x="327533" y="25907"/>
                </a:lnTo>
                <a:lnTo>
                  <a:pt x="335915" y="34289"/>
                </a:lnTo>
                <a:lnTo>
                  <a:pt x="344297" y="25907"/>
                </a:lnTo>
                <a:close/>
              </a:path>
            </a:pathLst>
          </a:custGeom>
          <a:solidFill>
            <a:srgbClr val="385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2" name="object 13"/>
          <p:cNvSpPr/>
          <p:nvPr/>
        </p:nvSpPr>
        <p:spPr>
          <a:xfrm>
            <a:off x="9433800" y="1328400"/>
            <a:ext cx="1724760" cy="1829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object 14"/>
          <p:cNvSpPr/>
          <p:nvPr/>
        </p:nvSpPr>
        <p:spPr>
          <a:xfrm>
            <a:off x="1317960" y="3108600"/>
            <a:ext cx="1114920" cy="132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95840" y="754920"/>
            <a:ext cx="624492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3200" spc="-4" strike="noStrike">
                <a:solidFill>
                  <a:srgbClr val="262626"/>
                </a:solidFill>
                <a:latin typeface="Garamond"/>
              </a:rPr>
              <a:t>Exempt Activities</a:t>
            </a:r>
            <a:r>
              <a:rPr b="1" lang="en-US" sz="3200" spc="-97" strike="noStrike">
                <a:solidFill>
                  <a:srgbClr val="262626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262626"/>
                </a:solidFill>
                <a:latin typeface="Garamond"/>
              </a:rPr>
              <a:t>[§58.34]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5" name="object 3"/>
          <p:cNvSpPr/>
          <p:nvPr/>
        </p:nvSpPr>
        <p:spPr>
          <a:xfrm>
            <a:off x="835560" y="2357280"/>
            <a:ext cx="5260320" cy="34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5800" bIns="0" anchor="t">
            <a:spAutoFit/>
          </a:bodyPr>
          <a:p>
            <a:pPr marL="465120" indent="-453960">
              <a:lnSpc>
                <a:spcPct val="100000"/>
              </a:lnSpc>
              <a:spcBef>
                <a:spcPts val="1148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465120"/>
                <a:tab algn="l" pos="46548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Environmental studies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s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&amp;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53960">
              <a:lnSpc>
                <a:spcPct val="100000"/>
              </a:lnSpc>
              <a:spcBef>
                <a:spcPts val="106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465120"/>
                <a:tab algn="l" pos="46548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Information &amp; financial</a:t>
            </a:r>
            <a:r>
              <a:rPr b="0" lang="en-US" sz="1800" spc="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53960">
              <a:lnSpc>
                <a:spcPct val="100000"/>
              </a:lnSpc>
              <a:spcBef>
                <a:spcPts val="106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465120"/>
                <a:tab algn="l" pos="46548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Administrative &amp; </a:t>
            </a:r>
            <a:r>
              <a:rPr b="0" lang="en-US" sz="1800" spc="-9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en-US" sz="1800" spc="5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480" indent="-4543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465120"/>
                <a:tab algn="l" pos="465480"/>
                <a:tab algn="l" pos="332712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Public services that</a:t>
            </a:r>
            <a:r>
              <a:rPr b="0" lang="en-US" sz="1800" spc="4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c00000"/>
                </a:solidFill>
                <a:latin typeface="Times New Roman"/>
              </a:rPr>
              <a:t>will</a:t>
            </a:r>
            <a:r>
              <a:rPr b="0" lang="en-US" sz="1800" spc="15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not </a:t>
            </a:r>
            <a:r>
              <a:rPr b="0" lang="en-US" sz="1800" spc="-4" strike="noStrike">
                <a:solidFill>
                  <a:srgbClr val="0d0d0d"/>
                </a:solidFill>
                <a:latin typeface="Times New Roman"/>
              </a:rPr>
              <a:t>result in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 physical changes: employment, </a:t>
            </a:r>
            <a:r>
              <a:rPr b="0" lang="en-US" sz="1800" spc="-9" strike="noStrike">
                <a:solidFill>
                  <a:srgbClr val="000000"/>
                </a:solidFill>
                <a:latin typeface="Times New Roman"/>
              </a:rPr>
              <a:t>crime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prevention, child care, health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ug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abuse,  education, counseling, </a:t>
            </a:r>
            <a:r>
              <a:rPr b="0" lang="en-US" sz="1800" spc="-9" strike="noStrike">
                <a:solidFill>
                  <a:srgbClr val="000000"/>
                </a:solidFill>
                <a:latin typeface="Times New Roman"/>
              </a:rPr>
              <a:t>energy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conservation,  welfare, recreational</a:t>
            </a:r>
            <a:r>
              <a:rPr b="0" lang="en-US" sz="1800" spc="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480" indent="-454320">
              <a:lnSpc>
                <a:spcPct val="100000"/>
              </a:lnSpc>
              <a:spcBef>
                <a:spcPts val="106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465120"/>
                <a:tab algn="l" pos="46548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Inspections &amp; testing properti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hazards  &amp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de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5120" indent="-453960">
              <a:lnSpc>
                <a:spcPct val="100000"/>
              </a:lnSpc>
              <a:spcBef>
                <a:spcPts val="1060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465120"/>
                <a:tab algn="l" pos="465480"/>
              </a:tabLst>
            </a:pP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Purcha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1800" spc="-4" strike="noStrike">
                <a:solidFill>
                  <a:srgbClr val="000000"/>
                </a:solidFill>
                <a:latin typeface="Times New Roman"/>
              </a:rPr>
              <a:t>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4"/>
          <p:cNvSpPr/>
          <p:nvPr/>
        </p:nvSpPr>
        <p:spPr>
          <a:xfrm>
            <a:off x="10184400" y="729720"/>
            <a:ext cx="826560" cy="727560"/>
          </a:xfrm>
          <a:custGeom>
            <a:avLst/>
            <a:gdLst>
              <a:gd name="textAreaLeft" fmla="*/ 0 w 826560"/>
              <a:gd name="textAreaRight" fmla="*/ 826920 w 826560"/>
              <a:gd name="textAreaTop" fmla="*/ 0 h 727560"/>
              <a:gd name="textAreaBottom" fmla="*/ 727920 h 727560"/>
            </a:gdLst>
            <a:ahLst/>
            <a:rect l="textAreaLeft" t="textAreaTop" r="textAreaRight" b="textAreaBottom"/>
            <a:pathLst>
              <a:path w="937259" h="824864">
                <a:moveTo>
                  <a:pt x="59435" y="257555"/>
                </a:moveTo>
                <a:lnTo>
                  <a:pt x="18160" y="257555"/>
                </a:lnTo>
                <a:lnTo>
                  <a:pt x="5968" y="321563"/>
                </a:lnTo>
                <a:lnTo>
                  <a:pt x="0" y="431292"/>
                </a:lnTo>
                <a:lnTo>
                  <a:pt x="24256" y="554608"/>
                </a:lnTo>
                <a:lnTo>
                  <a:pt x="59435" y="630808"/>
                </a:lnTo>
                <a:lnTo>
                  <a:pt x="106679" y="682751"/>
                </a:lnTo>
                <a:lnTo>
                  <a:pt x="202564" y="691895"/>
                </a:lnTo>
                <a:lnTo>
                  <a:pt x="309371" y="719327"/>
                </a:lnTo>
                <a:lnTo>
                  <a:pt x="405256" y="760348"/>
                </a:lnTo>
                <a:lnTo>
                  <a:pt x="495299" y="795527"/>
                </a:lnTo>
                <a:lnTo>
                  <a:pt x="548639" y="824483"/>
                </a:lnTo>
                <a:lnTo>
                  <a:pt x="595756" y="812291"/>
                </a:lnTo>
                <a:lnTo>
                  <a:pt x="629139" y="775588"/>
                </a:lnTo>
                <a:lnTo>
                  <a:pt x="554735" y="775588"/>
                </a:lnTo>
                <a:lnTo>
                  <a:pt x="452500" y="726820"/>
                </a:lnTo>
                <a:lnTo>
                  <a:pt x="345820" y="687323"/>
                </a:lnTo>
                <a:lnTo>
                  <a:pt x="213232" y="662812"/>
                </a:lnTo>
                <a:lnTo>
                  <a:pt x="118871" y="630808"/>
                </a:lnTo>
                <a:lnTo>
                  <a:pt x="77596" y="551687"/>
                </a:lnTo>
                <a:lnTo>
                  <a:pt x="53339" y="482980"/>
                </a:lnTo>
                <a:lnTo>
                  <a:pt x="53339" y="365759"/>
                </a:lnTo>
                <a:lnTo>
                  <a:pt x="59435" y="257555"/>
                </a:lnTo>
                <a:close/>
              </a:path>
              <a:path w="937259" h="824864">
                <a:moveTo>
                  <a:pt x="322241" y="41020"/>
                </a:moveTo>
                <a:lnTo>
                  <a:pt x="147700" y="41020"/>
                </a:lnTo>
                <a:lnTo>
                  <a:pt x="225424" y="44195"/>
                </a:lnTo>
                <a:lnTo>
                  <a:pt x="272668" y="60959"/>
                </a:lnTo>
                <a:lnTo>
                  <a:pt x="352043" y="92963"/>
                </a:lnTo>
                <a:lnTo>
                  <a:pt x="554735" y="156844"/>
                </a:lnTo>
                <a:lnTo>
                  <a:pt x="702563" y="201040"/>
                </a:lnTo>
                <a:lnTo>
                  <a:pt x="851788" y="269620"/>
                </a:lnTo>
                <a:lnTo>
                  <a:pt x="858011" y="286384"/>
                </a:lnTo>
                <a:lnTo>
                  <a:pt x="804671" y="330580"/>
                </a:lnTo>
                <a:lnTo>
                  <a:pt x="684275" y="414527"/>
                </a:lnTo>
                <a:lnTo>
                  <a:pt x="643000" y="495172"/>
                </a:lnTo>
                <a:lnTo>
                  <a:pt x="630935" y="586612"/>
                </a:lnTo>
                <a:lnTo>
                  <a:pt x="620267" y="675131"/>
                </a:lnTo>
                <a:lnTo>
                  <a:pt x="595756" y="743584"/>
                </a:lnTo>
                <a:lnTo>
                  <a:pt x="554735" y="775588"/>
                </a:lnTo>
                <a:lnTo>
                  <a:pt x="629139" y="775588"/>
                </a:lnTo>
                <a:lnTo>
                  <a:pt x="643000" y="760348"/>
                </a:lnTo>
                <a:lnTo>
                  <a:pt x="673607" y="667384"/>
                </a:lnTo>
                <a:lnTo>
                  <a:pt x="684275" y="579119"/>
                </a:lnTo>
                <a:lnTo>
                  <a:pt x="690371" y="510412"/>
                </a:lnTo>
                <a:lnTo>
                  <a:pt x="702563" y="458723"/>
                </a:lnTo>
                <a:lnTo>
                  <a:pt x="761999" y="402208"/>
                </a:lnTo>
                <a:lnTo>
                  <a:pt x="929639" y="298576"/>
                </a:lnTo>
                <a:lnTo>
                  <a:pt x="937259" y="291542"/>
                </a:lnTo>
                <a:lnTo>
                  <a:pt x="937259" y="275208"/>
                </a:lnTo>
                <a:lnTo>
                  <a:pt x="858011" y="225551"/>
                </a:lnTo>
                <a:lnTo>
                  <a:pt x="708532" y="165988"/>
                </a:lnTo>
                <a:lnTo>
                  <a:pt x="548639" y="120395"/>
                </a:lnTo>
                <a:lnTo>
                  <a:pt x="399160" y="76072"/>
                </a:lnTo>
                <a:lnTo>
                  <a:pt x="322241" y="41020"/>
                </a:lnTo>
                <a:close/>
              </a:path>
              <a:path w="937259" h="824864">
                <a:moveTo>
                  <a:pt x="143936" y="0"/>
                </a:moveTo>
                <a:lnTo>
                  <a:pt x="142894" y="0"/>
                </a:lnTo>
                <a:lnTo>
                  <a:pt x="53339" y="48640"/>
                </a:lnTo>
                <a:lnTo>
                  <a:pt x="5968" y="108076"/>
                </a:lnTo>
                <a:lnTo>
                  <a:pt x="12064" y="173608"/>
                </a:lnTo>
                <a:lnTo>
                  <a:pt x="59435" y="193420"/>
                </a:lnTo>
                <a:lnTo>
                  <a:pt x="65531" y="152272"/>
                </a:lnTo>
                <a:lnTo>
                  <a:pt x="65531" y="112648"/>
                </a:lnTo>
                <a:lnTo>
                  <a:pt x="100456" y="68452"/>
                </a:lnTo>
                <a:lnTo>
                  <a:pt x="147700" y="41020"/>
                </a:lnTo>
                <a:lnTo>
                  <a:pt x="322241" y="41020"/>
                </a:lnTo>
                <a:lnTo>
                  <a:pt x="278764" y="21208"/>
                </a:lnTo>
                <a:lnTo>
                  <a:pt x="1439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object 5"/>
          <p:cNvSpPr/>
          <p:nvPr/>
        </p:nvSpPr>
        <p:spPr>
          <a:xfrm>
            <a:off x="10361880" y="952920"/>
            <a:ext cx="263520" cy="259200"/>
          </a:xfrm>
          <a:custGeom>
            <a:avLst/>
            <a:gdLst>
              <a:gd name="textAreaLeft" fmla="*/ 0 w 263520"/>
              <a:gd name="textAreaRight" fmla="*/ 263880 w 263520"/>
              <a:gd name="textAreaTop" fmla="*/ 0 h 259200"/>
              <a:gd name="textAreaBottom" fmla="*/ 259560 h 259200"/>
            </a:gdLst>
            <a:ahLst/>
            <a:rect l="textAreaLeft" t="textAreaTop" r="textAreaRight" b="textAreaBottom"/>
            <a:pathLst>
              <a:path w="299084" h="294005">
                <a:moveTo>
                  <a:pt x="30352" y="112776"/>
                </a:moveTo>
                <a:lnTo>
                  <a:pt x="0" y="117348"/>
                </a:lnTo>
                <a:lnTo>
                  <a:pt x="0" y="242189"/>
                </a:lnTo>
                <a:lnTo>
                  <a:pt x="108203" y="289433"/>
                </a:lnTo>
                <a:lnTo>
                  <a:pt x="214756" y="294005"/>
                </a:lnTo>
                <a:lnTo>
                  <a:pt x="231472" y="265176"/>
                </a:lnTo>
                <a:lnTo>
                  <a:pt x="120395" y="265176"/>
                </a:lnTo>
                <a:lnTo>
                  <a:pt x="48767" y="229997"/>
                </a:lnTo>
                <a:lnTo>
                  <a:pt x="54863" y="132461"/>
                </a:lnTo>
                <a:lnTo>
                  <a:pt x="30352" y="112776"/>
                </a:lnTo>
                <a:close/>
              </a:path>
              <a:path w="299084" h="294005">
                <a:moveTo>
                  <a:pt x="108203" y="117348"/>
                </a:moveTo>
                <a:lnTo>
                  <a:pt x="102107" y="124968"/>
                </a:lnTo>
                <a:lnTo>
                  <a:pt x="184403" y="153797"/>
                </a:lnTo>
                <a:lnTo>
                  <a:pt x="249935" y="153797"/>
                </a:lnTo>
                <a:lnTo>
                  <a:pt x="202564" y="257429"/>
                </a:lnTo>
                <a:lnTo>
                  <a:pt x="120395" y="265176"/>
                </a:lnTo>
                <a:lnTo>
                  <a:pt x="231472" y="265176"/>
                </a:lnTo>
                <a:lnTo>
                  <a:pt x="298703" y="149225"/>
                </a:lnTo>
                <a:lnTo>
                  <a:pt x="291363" y="132461"/>
                </a:lnTo>
                <a:lnTo>
                  <a:pt x="208660" y="132461"/>
                </a:lnTo>
                <a:lnTo>
                  <a:pt x="108203" y="117348"/>
                </a:lnTo>
                <a:close/>
              </a:path>
              <a:path w="299084" h="294005">
                <a:moveTo>
                  <a:pt x="232172" y="28829"/>
                </a:moveTo>
                <a:lnTo>
                  <a:pt x="196595" y="28829"/>
                </a:lnTo>
                <a:lnTo>
                  <a:pt x="262000" y="129540"/>
                </a:lnTo>
                <a:lnTo>
                  <a:pt x="208660" y="132461"/>
                </a:lnTo>
                <a:lnTo>
                  <a:pt x="291363" y="132461"/>
                </a:lnTo>
                <a:lnTo>
                  <a:pt x="262000" y="65405"/>
                </a:lnTo>
                <a:lnTo>
                  <a:pt x="232172" y="28829"/>
                </a:lnTo>
                <a:close/>
              </a:path>
              <a:path w="299084" h="294005">
                <a:moveTo>
                  <a:pt x="208660" y="0"/>
                </a:moveTo>
                <a:lnTo>
                  <a:pt x="102107" y="33401"/>
                </a:lnTo>
                <a:lnTo>
                  <a:pt x="36575" y="80772"/>
                </a:lnTo>
                <a:lnTo>
                  <a:pt x="60832" y="109601"/>
                </a:lnTo>
                <a:lnTo>
                  <a:pt x="124967" y="60833"/>
                </a:lnTo>
                <a:lnTo>
                  <a:pt x="196595" y="28829"/>
                </a:lnTo>
                <a:lnTo>
                  <a:pt x="232172" y="28829"/>
                </a:lnTo>
                <a:lnTo>
                  <a:pt x="2086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8" name="object 6"/>
          <p:cNvSpPr/>
          <p:nvPr/>
        </p:nvSpPr>
        <p:spPr>
          <a:xfrm>
            <a:off x="9752760" y="1052280"/>
            <a:ext cx="1136520" cy="25956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259560"/>
              <a:gd name="textAreaBottom" fmla="*/ 259920 h 259560"/>
            </a:gdLst>
            <a:ahLst/>
            <a:rect l="textAreaLeft" t="textAreaTop" r="textAreaRight" b="textAreaBottom"/>
            <a:pathLst>
              <a:path w="1288415" h="294639">
                <a:moveTo>
                  <a:pt x="94488" y="196596"/>
                </a:moveTo>
                <a:lnTo>
                  <a:pt x="28956" y="205613"/>
                </a:lnTo>
                <a:lnTo>
                  <a:pt x="0" y="228600"/>
                </a:lnTo>
                <a:lnTo>
                  <a:pt x="88392" y="272796"/>
                </a:lnTo>
                <a:lnTo>
                  <a:pt x="411606" y="294132"/>
                </a:lnTo>
                <a:lnTo>
                  <a:pt x="649224" y="289560"/>
                </a:lnTo>
                <a:lnTo>
                  <a:pt x="906907" y="257429"/>
                </a:lnTo>
                <a:lnTo>
                  <a:pt x="946913" y="249936"/>
                </a:lnTo>
                <a:lnTo>
                  <a:pt x="506095" y="249936"/>
                </a:lnTo>
                <a:lnTo>
                  <a:pt x="303403" y="225425"/>
                </a:lnTo>
                <a:lnTo>
                  <a:pt x="94488" y="196596"/>
                </a:lnTo>
                <a:close/>
              </a:path>
              <a:path w="1288415" h="294639">
                <a:moveTo>
                  <a:pt x="1251331" y="0"/>
                </a:moveTo>
                <a:lnTo>
                  <a:pt x="1191895" y="19685"/>
                </a:lnTo>
                <a:lnTo>
                  <a:pt x="1138428" y="51689"/>
                </a:lnTo>
                <a:lnTo>
                  <a:pt x="1114171" y="112648"/>
                </a:lnTo>
                <a:lnTo>
                  <a:pt x="1132332" y="156972"/>
                </a:lnTo>
                <a:lnTo>
                  <a:pt x="989203" y="213360"/>
                </a:lnTo>
                <a:lnTo>
                  <a:pt x="756031" y="245364"/>
                </a:lnTo>
                <a:lnTo>
                  <a:pt x="506095" y="249936"/>
                </a:lnTo>
                <a:lnTo>
                  <a:pt x="946913" y="249936"/>
                </a:lnTo>
                <a:lnTo>
                  <a:pt x="1060831" y="228600"/>
                </a:lnTo>
                <a:lnTo>
                  <a:pt x="1203960" y="196596"/>
                </a:lnTo>
                <a:lnTo>
                  <a:pt x="1263396" y="172085"/>
                </a:lnTo>
                <a:lnTo>
                  <a:pt x="1287907" y="88392"/>
                </a:lnTo>
                <a:lnTo>
                  <a:pt x="1275588" y="44196"/>
                </a:lnTo>
                <a:lnTo>
                  <a:pt x="12513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9" name="object 7"/>
          <p:cNvSpPr/>
          <p:nvPr/>
        </p:nvSpPr>
        <p:spPr>
          <a:xfrm>
            <a:off x="9664200" y="867960"/>
            <a:ext cx="614160" cy="368280"/>
          </a:xfrm>
          <a:custGeom>
            <a:avLst/>
            <a:gdLst>
              <a:gd name="textAreaLeft" fmla="*/ 0 w 614160"/>
              <a:gd name="textAreaRight" fmla="*/ 614520 w 6141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96595" h="417830">
                <a:moveTo>
                  <a:pt x="637032" y="0"/>
                </a:moveTo>
                <a:lnTo>
                  <a:pt x="595757" y="9143"/>
                </a:lnTo>
                <a:lnTo>
                  <a:pt x="565277" y="32003"/>
                </a:lnTo>
                <a:lnTo>
                  <a:pt x="565277" y="76199"/>
                </a:lnTo>
                <a:lnTo>
                  <a:pt x="512064" y="164718"/>
                </a:lnTo>
                <a:lnTo>
                  <a:pt x="446532" y="245363"/>
                </a:lnTo>
                <a:lnTo>
                  <a:pt x="387096" y="281939"/>
                </a:lnTo>
                <a:lnTo>
                  <a:pt x="290957" y="301878"/>
                </a:lnTo>
                <a:lnTo>
                  <a:pt x="153924" y="309371"/>
                </a:lnTo>
                <a:lnTo>
                  <a:pt x="35052" y="341375"/>
                </a:lnTo>
                <a:lnTo>
                  <a:pt x="0" y="378078"/>
                </a:lnTo>
                <a:lnTo>
                  <a:pt x="18288" y="417575"/>
                </a:lnTo>
                <a:lnTo>
                  <a:pt x="165989" y="382650"/>
                </a:lnTo>
                <a:lnTo>
                  <a:pt x="290957" y="358139"/>
                </a:lnTo>
                <a:lnTo>
                  <a:pt x="397764" y="333882"/>
                </a:lnTo>
                <a:lnTo>
                  <a:pt x="452628" y="294131"/>
                </a:lnTo>
                <a:lnTo>
                  <a:pt x="530352" y="201167"/>
                </a:lnTo>
                <a:lnTo>
                  <a:pt x="595757" y="141731"/>
                </a:lnTo>
                <a:lnTo>
                  <a:pt x="678391" y="141731"/>
                </a:lnTo>
                <a:lnTo>
                  <a:pt x="690245" y="120395"/>
                </a:lnTo>
                <a:lnTo>
                  <a:pt x="696468" y="64007"/>
                </a:lnTo>
                <a:lnTo>
                  <a:pt x="678053" y="21335"/>
                </a:lnTo>
                <a:lnTo>
                  <a:pt x="637032" y="0"/>
                </a:lnTo>
                <a:close/>
              </a:path>
              <a:path w="696595" h="417830">
                <a:moveTo>
                  <a:pt x="678391" y="141731"/>
                </a:moveTo>
                <a:lnTo>
                  <a:pt x="595757" y="141731"/>
                </a:lnTo>
                <a:lnTo>
                  <a:pt x="630809" y="144906"/>
                </a:lnTo>
                <a:lnTo>
                  <a:pt x="643128" y="161543"/>
                </a:lnTo>
                <a:lnTo>
                  <a:pt x="667385" y="161543"/>
                </a:lnTo>
                <a:lnTo>
                  <a:pt x="678391" y="1417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0" name="object 8"/>
          <p:cNvSpPr/>
          <p:nvPr/>
        </p:nvSpPr>
        <p:spPr>
          <a:xfrm>
            <a:off x="9584640" y="1182960"/>
            <a:ext cx="468000" cy="545760"/>
          </a:xfrm>
          <a:custGeom>
            <a:avLst/>
            <a:gdLst>
              <a:gd name="textAreaLeft" fmla="*/ 0 w 468000"/>
              <a:gd name="textAreaRight" fmla="*/ 468360 w 46800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530859" h="619125">
                <a:moveTo>
                  <a:pt x="176911" y="0"/>
                </a:moveTo>
                <a:lnTo>
                  <a:pt x="70231" y="0"/>
                </a:lnTo>
                <a:lnTo>
                  <a:pt x="28956" y="33401"/>
                </a:lnTo>
                <a:lnTo>
                  <a:pt x="0" y="80772"/>
                </a:lnTo>
                <a:lnTo>
                  <a:pt x="4699" y="129540"/>
                </a:lnTo>
                <a:lnTo>
                  <a:pt x="41275" y="181229"/>
                </a:lnTo>
                <a:lnTo>
                  <a:pt x="141732" y="245364"/>
                </a:lnTo>
                <a:lnTo>
                  <a:pt x="225552" y="301625"/>
                </a:lnTo>
                <a:lnTo>
                  <a:pt x="248539" y="333629"/>
                </a:lnTo>
                <a:lnTo>
                  <a:pt x="248539" y="370332"/>
                </a:lnTo>
                <a:lnTo>
                  <a:pt x="236220" y="409829"/>
                </a:lnTo>
                <a:lnTo>
                  <a:pt x="207264" y="441833"/>
                </a:lnTo>
                <a:lnTo>
                  <a:pt x="166243" y="470789"/>
                </a:lnTo>
                <a:lnTo>
                  <a:pt x="153924" y="518033"/>
                </a:lnTo>
                <a:lnTo>
                  <a:pt x="172339" y="566801"/>
                </a:lnTo>
                <a:lnTo>
                  <a:pt x="219456" y="594233"/>
                </a:lnTo>
                <a:lnTo>
                  <a:pt x="272796" y="615696"/>
                </a:lnTo>
                <a:lnTo>
                  <a:pt x="338328" y="618744"/>
                </a:lnTo>
                <a:lnTo>
                  <a:pt x="446531" y="598932"/>
                </a:lnTo>
                <a:lnTo>
                  <a:pt x="506095" y="537972"/>
                </a:lnTo>
                <a:lnTo>
                  <a:pt x="530352" y="414401"/>
                </a:lnTo>
                <a:lnTo>
                  <a:pt x="518159" y="297053"/>
                </a:lnTo>
                <a:lnTo>
                  <a:pt x="475488" y="197993"/>
                </a:lnTo>
                <a:lnTo>
                  <a:pt x="409956" y="124968"/>
                </a:lnTo>
                <a:lnTo>
                  <a:pt x="284988" y="33401"/>
                </a:lnTo>
                <a:lnTo>
                  <a:pt x="1769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1" name="object 9"/>
          <p:cNvSpPr/>
          <p:nvPr/>
        </p:nvSpPr>
        <p:spPr>
          <a:xfrm>
            <a:off x="9478440" y="811800"/>
            <a:ext cx="478800" cy="287640"/>
          </a:xfrm>
          <a:custGeom>
            <a:avLst/>
            <a:gdLst>
              <a:gd name="textAreaLeft" fmla="*/ 0 w 478800"/>
              <a:gd name="textAreaRight" fmla="*/ 479160 w 4788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542925" h="326389">
                <a:moveTo>
                  <a:pt x="124967" y="0"/>
                </a:moveTo>
                <a:lnTo>
                  <a:pt x="54863" y="16764"/>
                </a:lnTo>
                <a:lnTo>
                  <a:pt x="5968" y="56388"/>
                </a:lnTo>
                <a:lnTo>
                  <a:pt x="0" y="112649"/>
                </a:lnTo>
                <a:lnTo>
                  <a:pt x="36575" y="193421"/>
                </a:lnTo>
                <a:lnTo>
                  <a:pt x="124967" y="269621"/>
                </a:lnTo>
                <a:lnTo>
                  <a:pt x="227075" y="321564"/>
                </a:lnTo>
                <a:lnTo>
                  <a:pt x="321563" y="326009"/>
                </a:lnTo>
                <a:lnTo>
                  <a:pt x="380999" y="309245"/>
                </a:lnTo>
                <a:lnTo>
                  <a:pt x="393064" y="284988"/>
                </a:lnTo>
                <a:lnTo>
                  <a:pt x="399160" y="249809"/>
                </a:lnTo>
                <a:lnTo>
                  <a:pt x="542543" y="249809"/>
                </a:lnTo>
                <a:lnTo>
                  <a:pt x="518032" y="233045"/>
                </a:lnTo>
                <a:lnTo>
                  <a:pt x="393064" y="201168"/>
                </a:lnTo>
                <a:lnTo>
                  <a:pt x="399160" y="176657"/>
                </a:lnTo>
                <a:lnTo>
                  <a:pt x="358139" y="120396"/>
                </a:lnTo>
                <a:lnTo>
                  <a:pt x="280288" y="53213"/>
                </a:lnTo>
                <a:lnTo>
                  <a:pt x="208660" y="9017"/>
                </a:lnTo>
                <a:lnTo>
                  <a:pt x="124967" y="0"/>
                </a:lnTo>
                <a:close/>
              </a:path>
              <a:path w="542925" h="326389">
                <a:moveTo>
                  <a:pt x="542543" y="249809"/>
                </a:moveTo>
                <a:lnTo>
                  <a:pt x="399160" y="249809"/>
                </a:lnTo>
                <a:lnTo>
                  <a:pt x="470788" y="257556"/>
                </a:lnTo>
                <a:lnTo>
                  <a:pt x="518032" y="272796"/>
                </a:lnTo>
                <a:lnTo>
                  <a:pt x="542543" y="2498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object 10"/>
          <p:cNvSpPr/>
          <p:nvPr/>
        </p:nvSpPr>
        <p:spPr>
          <a:xfrm>
            <a:off x="9695160" y="1637280"/>
            <a:ext cx="294480" cy="537480"/>
          </a:xfrm>
          <a:custGeom>
            <a:avLst/>
            <a:gdLst>
              <a:gd name="textAreaLeft" fmla="*/ 0 w 294480"/>
              <a:gd name="textAreaRight" fmla="*/ 294840 w 294480"/>
              <a:gd name="textAreaTop" fmla="*/ 0 h 537480"/>
              <a:gd name="textAreaBottom" fmla="*/ 537840 h 537480"/>
            </a:gdLst>
            <a:ahLst/>
            <a:rect l="textAreaLeft" t="textAreaTop" r="textAreaRight" b="textAreaBottom"/>
            <a:pathLst>
              <a:path w="334009" h="609600">
                <a:moveTo>
                  <a:pt x="82169" y="0"/>
                </a:moveTo>
                <a:lnTo>
                  <a:pt x="59436" y="0"/>
                </a:lnTo>
                <a:lnTo>
                  <a:pt x="34925" y="68580"/>
                </a:lnTo>
                <a:lnTo>
                  <a:pt x="59436" y="156972"/>
                </a:lnTo>
                <a:lnTo>
                  <a:pt x="82169" y="269748"/>
                </a:lnTo>
                <a:lnTo>
                  <a:pt x="71501" y="393319"/>
                </a:lnTo>
                <a:lnTo>
                  <a:pt x="47244" y="481711"/>
                </a:lnTo>
                <a:lnTo>
                  <a:pt x="0" y="557911"/>
                </a:lnTo>
                <a:lnTo>
                  <a:pt x="0" y="599059"/>
                </a:lnTo>
                <a:lnTo>
                  <a:pt x="24257" y="609600"/>
                </a:lnTo>
                <a:lnTo>
                  <a:pt x="88265" y="586740"/>
                </a:lnTo>
                <a:lnTo>
                  <a:pt x="172212" y="562483"/>
                </a:lnTo>
                <a:lnTo>
                  <a:pt x="255905" y="557911"/>
                </a:lnTo>
                <a:lnTo>
                  <a:pt x="327533" y="545719"/>
                </a:lnTo>
                <a:lnTo>
                  <a:pt x="329254" y="537972"/>
                </a:lnTo>
                <a:lnTo>
                  <a:pt x="106680" y="537972"/>
                </a:lnTo>
                <a:lnTo>
                  <a:pt x="94361" y="530479"/>
                </a:lnTo>
                <a:lnTo>
                  <a:pt x="153797" y="353568"/>
                </a:lnTo>
                <a:lnTo>
                  <a:pt x="159893" y="285115"/>
                </a:lnTo>
                <a:lnTo>
                  <a:pt x="153797" y="216408"/>
                </a:lnTo>
                <a:lnTo>
                  <a:pt x="172212" y="108204"/>
                </a:lnTo>
                <a:lnTo>
                  <a:pt x="184404" y="56515"/>
                </a:lnTo>
                <a:lnTo>
                  <a:pt x="141605" y="3048"/>
                </a:lnTo>
                <a:lnTo>
                  <a:pt x="82169" y="0"/>
                </a:lnTo>
                <a:close/>
              </a:path>
              <a:path w="334009" h="609600">
                <a:moveTo>
                  <a:pt x="278765" y="501523"/>
                </a:moveTo>
                <a:lnTo>
                  <a:pt x="172212" y="513715"/>
                </a:lnTo>
                <a:lnTo>
                  <a:pt x="106680" y="537972"/>
                </a:lnTo>
                <a:lnTo>
                  <a:pt x="329254" y="537972"/>
                </a:lnTo>
                <a:lnTo>
                  <a:pt x="333629" y="518287"/>
                </a:lnTo>
                <a:lnTo>
                  <a:pt x="278765" y="5015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3" name="object 11"/>
          <p:cNvSpPr/>
          <p:nvPr/>
        </p:nvSpPr>
        <p:spPr>
          <a:xfrm>
            <a:off x="9856440" y="1587600"/>
            <a:ext cx="474120" cy="621000"/>
          </a:xfrm>
          <a:custGeom>
            <a:avLst/>
            <a:gdLst>
              <a:gd name="textAreaLeft" fmla="*/ 0 w 474120"/>
              <a:gd name="textAreaRight" fmla="*/ 474480 w 47412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537845" h="704214">
                <a:moveTo>
                  <a:pt x="30352" y="0"/>
                </a:moveTo>
                <a:lnTo>
                  <a:pt x="0" y="39624"/>
                </a:lnTo>
                <a:lnTo>
                  <a:pt x="30352" y="88392"/>
                </a:lnTo>
                <a:lnTo>
                  <a:pt x="114300" y="167767"/>
                </a:lnTo>
                <a:lnTo>
                  <a:pt x="179832" y="284988"/>
                </a:lnTo>
                <a:lnTo>
                  <a:pt x="204089" y="381000"/>
                </a:lnTo>
                <a:lnTo>
                  <a:pt x="192024" y="481711"/>
                </a:lnTo>
                <a:lnTo>
                  <a:pt x="169164" y="611124"/>
                </a:lnTo>
                <a:lnTo>
                  <a:pt x="144653" y="682879"/>
                </a:lnTo>
                <a:lnTo>
                  <a:pt x="153583" y="704087"/>
                </a:lnTo>
                <a:lnTo>
                  <a:pt x="222646" y="704087"/>
                </a:lnTo>
                <a:lnTo>
                  <a:pt x="275717" y="687324"/>
                </a:lnTo>
                <a:lnTo>
                  <a:pt x="394589" y="670560"/>
                </a:lnTo>
                <a:lnTo>
                  <a:pt x="519556" y="670560"/>
                </a:lnTo>
                <a:lnTo>
                  <a:pt x="528748" y="658368"/>
                </a:lnTo>
                <a:lnTo>
                  <a:pt x="228600" y="658368"/>
                </a:lnTo>
                <a:lnTo>
                  <a:pt x="216281" y="643128"/>
                </a:lnTo>
                <a:lnTo>
                  <a:pt x="239268" y="538099"/>
                </a:lnTo>
                <a:lnTo>
                  <a:pt x="269621" y="425196"/>
                </a:lnTo>
                <a:lnTo>
                  <a:pt x="275717" y="326136"/>
                </a:lnTo>
                <a:lnTo>
                  <a:pt x="251460" y="224028"/>
                </a:lnTo>
                <a:lnTo>
                  <a:pt x="210185" y="108204"/>
                </a:lnTo>
                <a:lnTo>
                  <a:pt x="163068" y="19939"/>
                </a:lnTo>
                <a:lnTo>
                  <a:pt x="114300" y="7747"/>
                </a:lnTo>
                <a:lnTo>
                  <a:pt x="30352" y="0"/>
                </a:lnTo>
                <a:close/>
              </a:path>
              <a:path w="537845" h="704214">
                <a:moveTo>
                  <a:pt x="466217" y="614299"/>
                </a:moveTo>
                <a:lnTo>
                  <a:pt x="429768" y="614299"/>
                </a:lnTo>
                <a:lnTo>
                  <a:pt x="275717" y="646303"/>
                </a:lnTo>
                <a:lnTo>
                  <a:pt x="228600" y="658368"/>
                </a:lnTo>
                <a:lnTo>
                  <a:pt x="528748" y="658368"/>
                </a:lnTo>
                <a:lnTo>
                  <a:pt x="537845" y="646303"/>
                </a:lnTo>
                <a:lnTo>
                  <a:pt x="466217" y="6142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4" name="object 2"/>
          <p:cNvSpPr/>
          <p:nvPr/>
        </p:nvSpPr>
        <p:spPr>
          <a:xfrm>
            <a:off x="5925600" y="2386800"/>
            <a:ext cx="543096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8480" bIns="0" anchor="t">
            <a:spAutoFit/>
          </a:bodyPr>
          <a:p>
            <a:pPr marL="465120" indent="-453960">
              <a:lnSpc>
                <a:spcPct val="100000"/>
              </a:lnSpc>
              <a:spcBef>
                <a:spcPts val="618"/>
              </a:spcBef>
              <a:buClr>
                <a:srgbClr val="000000"/>
              </a:buClr>
              <a:buFont typeface="StarSymbol"/>
              <a:buAutoNum type="arabicPeriod" startAt="7"/>
              <a:tabLst>
                <a:tab algn="l" pos="465120"/>
                <a:tab algn="l" pos="465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rchase of</a:t>
            </a:r>
            <a:r>
              <a:rPr b="0" lang="en-US" sz="160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5120" indent="-45396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arabicPeriod" startAt="7"/>
              <a:tabLst>
                <a:tab algn="l" pos="465120"/>
                <a:tab algn="l" pos="465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gineering or design</a:t>
            </a:r>
            <a:r>
              <a:rPr b="0" lang="en-US" sz="160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5120" indent="-45396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arabicPeriod" startAt="7"/>
              <a:tabLst>
                <a:tab algn="l" pos="465120"/>
                <a:tab algn="l" pos="465480"/>
              </a:tabLst>
            </a:pPr>
            <a:r>
              <a:rPr b="0" lang="en-US" sz="1600" spc="-18" strike="noStrike">
                <a:solidFill>
                  <a:srgbClr val="000000"/>
                </a:solidFill>
                <a:latin typeface="Times New Roman"/>
              </a:rPr>
              <a:t>Technical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assistan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160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5480" indent="-4543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arabicPeriod" startAt="7"/>
              <a:tabLst>
                <a:tab algn="l" pos="465120"/>
                <a:tab algn="l" pos="465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stance for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temporar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permanent  improvements tha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not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alter environmental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s and are </a:t>
            </a:r>
            <a:r>
              <a:rPr b="0" lang="en-US" sz="1600" spc="-9" strike="noStrike">
                <a:solidFill>
                  <a:srgbClr val="000000"/>
                </a:solidFill>
                <a:latin typeface="Times New Roman"/>
              </a:rPr>
              <a:t>limited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ion, </a:t>
            </a:r>
            <a:r>
              <a:rPr b="0" lang="en-US" sz="1600" spc="-15" strike="noStrike">
                <a:solidFill>
                  <a:srgbClr val="000000"/>
                </a:solidFill>
                <a:latin typeface="Times New Roman"/>
              </a:rPr>
              <a:t>repair,</a:t>
            </a:r>
            <a:r>
              <a:rPr b="0" lang="en-US" sz="1600" spc="-1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restoration activiti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sary only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or  arrest the </a:t>
            </a:r>
            <a:r>
              <a:rPr b="0" lang="en-US" sz="1600" spc="-9" strike="noStrike">
                <a:solidFill>
                  <a:srgbClr val="000000"/>
                </a:solidFill>
                <a:latin typeface="Times New Roman"/>
              </a:rPr>
              <a:t>effec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disaster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600" spc="-9" strike="noStrike">
                <a:solidFill>
                  <a:srgbClr val="000000"/>
                </a:solidFill>
                <a:latin typeface="Times New Roman"/>
              </a:rPr>
              <a:t>imminent </a:t>
            </a:r>
            <a:r>
              <a:rPr b="0" lang="en-US" sz="1600" spc="-9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 </a:t>
            </a:r>
            <a:r>
              <a:rPr b="1" lang="en-US" sz="16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threats </a:t>
            </a:r>
            <a:r>
              <a:rPr b="1" lang="en-US" sz="16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to </a:t>
            </a:r>
            <a:r>
              <a:rPr b="1" lang="en-US" sz="16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public </a:t>
            </a:r>
            <a:r>
              <a:rPr b="1" lang="en-US" sz="16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safe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ose</a:t>
            </a:r>
            <a:r>
              <a:rPr b="0" lang="en-US" sz="160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ing  </a:t>
            </a:r>
            <a:r>
              <a:rPr b="0" lang="en-US" sz="1600" spc="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r>
              <a:rPr b="0" lang="en-US" sz="1600" spc="-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deterior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5480" indent="-4543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arabicPeriod" startAt="7"/>
              <a:tabLst>
                <a:tab algn="l" pos="465120"/>
                <a:tab algn="l" pos="465480"/>
              </a:tabLst>
            </a:pP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Pay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principal and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intere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loans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made</a:t>
            </a:r>
            <a:r>
              <a:rPr b="0" lang="en-US" sz="160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obligati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aranteed by</a:t>
            </a:r>
            <a:r>
              <a:rPr b="0" lang="en-US" sz="1600" spc="-9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1" strike="noStrike">
                <a:solidFill>
                  <a:srgbClr val="000000"/>
                </a:solidFill>
                <a:latin typeface="Times New Roman"/>
              </a:rPr>
              <a:t>HU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5480" indent="-4543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arabicPeriod" startAt="7"/>
              <a:tabLst>
                <a:tab algn="l" pos="465120"/>
                <a:tab algn="l" pos="465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of the CEST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activiti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§58.35(a)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4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deral  laws and </a:t>
            </a:r>
            <a:r>
              <a:rPr b="0" lang="en-US" sz="1600" spc="-4" strike="noStrike">
                <a:solidFill>
                  <a:srgbClr val="000000"/>
                </a:solidFill>
                <a:latin typeface="Times New Roman"/>
              </a:rPr>
              <a:t>authoriti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§58.5 are not</a:t>
            </a:r>
            <a:r>
              <a:rPr b="0" lang="en-US" sz="160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6"/>
          <p:cNvSpPr/>
          <p:nvPr/>
        </p:nvSpPr>
        <p:spPr>
          <a:xfrm>
            <a:off x="929160" y="1052280"/>
            <a:ext cx="1905840" cy="114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object 4"/>
          <p:cNvSpPr/>
          <p:nvPr/>
        </p:nvSpPr>
        <p:spPr>
          <a:xfrm>
            <a:off x="7319160" y="713160"/>
            <a:ext cx="1843200" cy="1344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7" name="object 5"/>
          <p:cNvSpPr/>
          <p:nvPr/>
        </p:nvSpPr>
        <p:spPr>
          <a:xfrm>
            <a:off x="4383000" y="5254200"/>
            <a:ext cx="1400400" cy="1019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object 2"/>
          <p:cNvSpPr/>
          <p:nvPr/>
        </p:nvSpPr>
        <p:spPr>
          <a:xfrm>
            <a:off x="1231200" y="2765160"/>
            <a:ext cx="237420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681840">
              <a:lnSpc>
                <a:spcPct val="100000"/>
              </a:lnSpc>
              <a:spcBef>
                <a:spcPts val="88"/>
              </a:spcBef>
            </a:pPr>
            <a:r>
              <a:rPr b="1" lang="en-US" sz="3170" spc="-1" strike="noStrike">
                <a:solidFill>
                  <a:srgbClr val="ff0000"/>
                </a:solidFill>
                <a:latin typeface="Times New Roman"/>
              </a:rPr>
              <a:t>Issue: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marL="263520" indent="-252720" algn="ctr">
              <a:lnSpc>
                <a:spcPct val="100000"/>
              </a:lnSpc>
              <a:spcBef>
                <a:spcPts val="14"/>
              </a:spcBef>
              <a:tabLst>
                <a:tab algn="l" pos="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Sewage block</a:t>
            </a:r>
            <a:r>
              <a:rPr b="0" lang="en-US" sz="2830" spc="-9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t  community</a:t>
            </a:r>
            <a:r>
              <a:rPr b="0" lang="en-US" sz="283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3"/>
          <p:cNvSpPr/>
          <p:nvPr/>
        </p:nvSpPr>
        <p:spPr>
          <a:xfrm>
            <a:off x="6172200" y="2543040"/>
            <a:ext cx="304524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5160" bIns="0" anchor="t">
            <a:spAutoFit/>
          </a:bodyPr>
          <a:p>
            <a:pPr marL="11160" indent="417960" algn="ctr">
              <a:lnSpc>
                <a:spcPct val="109000"/>
              </a:lnSpc>
              <a:spcBef>
                <a:spcPts val="513"/>
              </a:spcBef>
              <a:tabLst>
                <a:tab algn="l" pos="0"/>
              </a:tabLst>
            </a:pPr>
            <a:r>
              <a:rPr b="1" lang="en-US" sz="3170" spc="-4" strike="noStrike">
                <a:solidFill>
                  <a:srgbClr val="00af50"/>
                </a:solidFill>
                <a:latin typeface="Times New Roman"/>
              </a:rPr>
              <a:t>Exemption  </a:t>
            </a:r>
            <a:r>
              <a:rPr b="0" lang="en-US" sz="2830" spc="1" strike="noStrike">
                <a:solidFill>
                  <a:srgbClr val="000000"/>
                </a:solidFill>
                <a:latin typeface="Times New Roman"/>
              </a:rPr>
              <a:t>Upgrade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existing  plumbing with</a:t>
            </a:r>
            <a:r>
              <a:rPr b="0" lang="en-US" sz="283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9" strike="noStrike">
                <a:solidFill>
                  <a:srgbClr val="000000"/>
                </a:solidFill>
                <a:latin typeface="Times New Roman"/>
              </a:rPr>
              <a:t>larger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"/>
              </a:spcBef>
              <a:tabLst>
                <a:tab algn="l" pos="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pipe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4"/>
          <p:cNvSpPr/>
          <p:nvPr/>
        </p:nvSpPr>
        <p:spPr>
          <a:xfrm>
            <a:off x="3413880" y="3907800"/>
            <a:ext cx="2233080" cy="2084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1" name="object 5"/>
          <p:cNvSpPr/>
          <p:nvPr/>
        </p:nvSpPr>
        <p:spPr>
          <a:xfrm>
            <a:off x="8433360" y="4176720"/>
            <a:ext cx="2732040" cy="181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046960" y="830160"/>
            <a:ext cx="7023600" cy="146304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1393560" indent="0" algn="ctr">
              <a:lnSpc>
                <a:spcPct val="100000"/>
              </a:lnSpc>
              <a:spcBef>
                <a:spcPts val="88"/>
              </a:spcBef>
              <a:buNone/>
              <a:tabLst>
                <a:tab algn="l" pos="0"/>
              </a:tabLst>
            </a:pP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Examples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the </a:t>
            </a:r>
            <a:r>
              <a:rPr b="1" lang="en-US" sz="3170" spc="-15" strike="noStrike">
                <a:solidFill>
                  <a:srgbClr val="262626"/>
                </a:solidFill>
                <a:latin typeface="Garamond"/>
              </a:rPr>
              <a:t>Threats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to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Public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Safety  </a:t>
            </a:r>
            <a:r>
              <a:rPr b="1" lang="en-US" sz="3170" spc="-4" strike="noStrike">
                <a:solidFill>
                  <a:srgbClr val="262626"/>
                </a:solidFill>
                <a:latin typeface="Garamond"/>
              </a:rPr>
              <a:t>Exemption</a:t>
            </a:r>
            <a:r>
              <a:rPr b="1" lang="en-US" sz="3170" spc="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170" spc="-1" strike="noStrike">
                <a:solidFill>
                  <a:srgbClr val="262626"/>
                </a:solidFill>
                <a:latin typeface="Garamond"/>
              </a:rPr>
              <a:t>§58.34(a)(10)</a:t>
            </a:r>
            <a:endParaRPr b="0" lang="en-US" sz="317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3" name="object 7"/>
          <p:cNvSpPr/>
          <p:nvPr/>
        </p:nvSpPr>
        <p:spPr>
          <a:xfrm>
            <a:off x="4545000" y="2055960"/>
            <a:ext cx="2657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1" lang="en-US" sz="1590" spc="-4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en-US" sz="1590" spc="-4" strike="noStrike">
                <a:solidFill>
                  <a:srgbClr val="000000"/>
                </a:solidFill>
                <a:latin typeface="Times New Roman"/>
              </a:rPr>
              <a:t>December </a:t>
            </a:r>
            <a:r>
              <a:rPr b="1" lang="en-US" sz="1590" spc="-1" strike="noStrike">
                <a:solidFill>
                  <a:srgbClr val="000000"/>
                </a:solidFill>
                <a:latin typeface="Times New Roman"/>
              </a:rPr>
              <a:t>2012 Policy</a:t>
            </a:r>
            <a:r>
              <a:rPr b="1" lang="en-US" sz="1590" spc="-10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90" spc="-1" strike="noStrike">
                <a:solidFill>
                  <a:srgbClr val="000000"/>
                </a:solidFill>
                <a:latin typeface="Times New Roman"/>
              </a:rPr>
              <a:t>Memo</a:t>
            </a:r>
            <a:r>
              <a:rPr b="1" lang="en-US" sz="159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5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object 2"/>
          <p:cNvSpPr/>
          <p:nvPr/>
        </p:nvSpPr>
        <p:spPr>
          <a:xfrm>
            <a:off x="1195920" y="2414160"/>
            <a:ext cx="293904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965880">
              <a:lnSpc>
                <a:spcPct val="100000"/>
              </a:lnSpc>
              <a:spcBef>
                <a:spcPts val="88"/>
              </a:spcBef>
            </a:pPr>
            <a:r>
              <a:rPr b="1" lang="en-US" sz="3170" spc="-1" strike="noStrike">
                <a:solidFill>
                  <a:srgbClr val="ff0000"/>
                </a:solidFill>
                <a:latin typeface="Times New Roman"/>
              </a:rPr>
              <a:t>Issue: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marL="235440" indent="-224640" algn="ctr">
              <a:lnSpc>
                <a:spcPct val="100000"/>
              </a:lnSpc>
              <a:spcBef>
                <a:spcPts val="71"/>
              </a:spcBef>
              <a:tabLst>
                <a:tab algn="l" pos="0"/>
              </a:tabLst>
            </a:pPr>
            <a:r>
              <a:rPr b="1" lang="en-US" sz="3530" spc="-4" strike="noStrike">
                <a:solidFill>
                  <a:srgbClr val="000000"/>
                </a:solidFill>
                <a:latin typeface="Times New Roman"/>
              </a:rPr>
              <a:t>Leaky </a:t>
            </a:r>
            <a:r>
              <a:rPr b="1" lang="en-US" sz="3530" spc="-18" strike="noStrike">
                <a:solidFill>
                  <a:srgbClr val="000000"/>
                </a:solidFill>
                <a:latin typeface="Times New Roman"/>
              </a:rPr>
              <a:t>roof </a:t>
            </a:r>
            <a:r>
              <a:rPr b="1" lang="en-US" sz="3530" spc="-4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en-US" sz="353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30" spc="-4" strike="noStrike">
                <a:solidFill>
                  <a:srgbClr val="000000"/>
                </a:solidFill>
                <a:latin typeface="Times New Roman"/>
              </a:rPr>
              <a:t>a  community</a:t>
            </a:r>
            <a:r>
              <a:rPr b="1" lang="en-US" sz="3530" spc="-9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30" spc="-4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35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3"/>
          <p:cNvSpPr/>
          <p:nvPr/>
        </p:nvSpPr>
        <p:spPr>
          <a:xfrm>
            <a:off x="6894360" y="2607840"/>
            <a:ext cx="23241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6920" bIns="0" anchor="t">
            <a:spAutoFit/>
          </a:bodyPr>
          <a:p>
            <a:pPr algn="ctr">
              <a:lnSpc>
                <a:spcPct val="100000"/>
              </a:lnSpc>
              <a:spcBef>
                <a:spcPts val="842"/>
              </a:spcBef>
            </a:pPr>
            <a:r>
              <a:rPr b="1" lang="en-US" sz="3170" spc="-4" strike="noStrike">
                <a:solidFill>
                  <a:srgbClr val="00af50"/>
                </a:solidFill>
                <a:latin typeface="Times New Roman"/>
              </a:rPr>
              <a:t>Exemption</a:t>
            </a:r>
            <a:endParaRPr b="0" lang="en-US" sz="31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8"/>
              </a:spcBef>
            </a:pPr>
            <a:r>
              <a:rPr b="0" lang="en-US" sz="3530" spc="-4" strike="noStrike">
                <a:solidFill>
                  <a:srgbClr val="000000"/>
                </a:solidFill>
                <a:latin typeface="Times New Roman"/>
              </a:rPr>
              <a:t>Replace</a:t>
            </a:r>
            <a:r>
              <a:rPr b="0" lang="en-US" sz="3530" spc="-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3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35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4"/>
          <p:cNvSpPr/>
          <p:nvPr/>
        </p:nvSpPr>
        <p:spPr>
          <a:xfrm>
            <a:off x="3464280" y="4025520"/>
            <a:ext cx="2554560" cy="1936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7" name="object 5"/>
          <p:cNvSpPr/>
          <p:nvPr/>
        </p:nvSpPr>
        <p:spPr>
          <a:xfrm>
            <a:off x="8575560" y="3940560"/>
            <a:ext cx="2420280" cy="181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9560" y="561960"/>
            <a:ext cx="9054720" cy="18396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54656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000" spc="-4" strike="noStrike">
                <a:solidFill>
                  <a:srgbClr val="262626"/>
                </a:solidFill>
                <a:latin typeface="Garamond"/>
              </a:rPr>
              <a:t>Examples </a:t>
            </a:r>
            <a:r>
              <a:rPr b="1" lang="en-US" sz="4000" spc="-1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4000" spc="-4" strike="noStrike">
                <a:solidFill>
                  <a:srgbClr val="262626"/>
                </a:solidFill>
                <a:latin typeface="Garamond"/>
              </a:rPr>
              <a:t>the </a:t>
            </a:r>
            <a:r>
              <a:rPr b="1" lang="en-US" sz="4000" spc="-15" strike="noStrike">
                <a:solidFill>
                  <a:srgbClr val="262626"/>
                </a:solidFill>
                <a:latin typeface="Garamond"/>
              </a:rPr>
              <a:t>Threats </a:t>
            </a:r>
            <a:r>
              <a:rPr b="1" lang="en-US" sz="4000" spc="-4" strike="noStrike">
                <a:solidFill>
                  <a:srgbClr val="262626"/>
                </a:solidFill>
                <a:latin typeface="Garamond"/>
              </a:rPr>
              <a:t>to Public Safety  Exemption</a:t>
            </a:r>
            <a:r>
              <a:rPr b="1" lang="en-US" sz="4000" spc="1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262626"/>
                </a:solidFill>
                <a:latin typeface="Garamond"/>
              </a:rPr>
              <a:t>§58.34(a)(10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object 2"/>
          <p:cNvSpPr/>
          <p:nvPr/>
        </p:nvSpPr>
        <p:spPr>
          <a:xfrm>
            <a:off x="2648520" y="2500200"/>
            <a:ext cx="630648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422640" indent="-411120" algn="just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4230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Determination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xemption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made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writing 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(Determination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Form)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nd the documentation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120" spc="-1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be 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maintained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in the</a:t>
            </a:r>
            <a:r>
              <a:rPr b="0" lang="en-US" sz="212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RR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22640" indent="-411120">
              <a:lnSpc>
                <a:spcPct val="100000"/>
              </a:lnSpc>
              <a:spcBef>
                <a:spcPts val="1054"/>
              </a:spcBef>
              <a:buClr>
                <a:srgbClr val="000000"/>
              </a:buClr>
              <a:buFont typeface="Arial"/>
              <a:buChar char="•"/>
              <a:tabLst>
                <a:tab algn="l" pos="422640"/>
                <a:tab algn="l" pos="4230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Compliance with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§58.6</a:t>
            </a:r>
            <a:r>
              <a:rPr b="0" lang="en-US" sz="2120" spc="-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22640" indent="-4111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422640"/>
                <a:tab algn="l" pos="4230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Compliance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§58.5 </a:t>
            </a:r>
            <a:r>
              <a:rPr b="0" lang="en-US" sz="2120" spc="-4" strike="noStrike">
                <a:solidFill>
                  <a:srgbClr val="c00000"/>
                </a:solidFill>
                <a:latin typeface="Times New Roman"/>
              </a:rPr>
              <a:t>NOT</a:t>
            </a:r>
            <a:r>
              <a:rPr b="0" lang="en-US" sz="2120" spc="-49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22640" indent="-411120">
              <a:lnSpc>
                <a:spcPct val="100000"/>
              </a:lnSpc>
              <a:spcBef>
                <a:spcPts val="1060"/>
              </a:spcBef>
              <a:buClr>
                <a:srgbClr val="000000"/>
              </a:buClr>
              <a:buFont typeface="Arial"/>
              <a:buChar char="•"/>
              <a:tabLst>
                <a:tab algn="l" pos="422640"/>
                <a:tab algn="l" pos="42300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ublication of a Notice of Intent to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r>
              <a:rPr b="0" lang="en-US" sz="2120" spc="-15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Funds (NOI/RROF) </a:t>
            </a:r>
            <a:r>
              <a:rPr b="0" lang="en-US" sz="2120" spc="-4" strike="noStrike">
                <a:solidFill>
                  <a:srgbClr val="c00000"/>
                </a:solidFill>
                <a:latin typeface="Times New Roman"/>
              </a:rPr>
              <a:t>NOT</a:t>
            </a:r>
            <a:r>
              <a:rPr b="0" lang="en-US" sz="2120" spc="7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22640" indent="-411120">
              <a:lnSpc>
                <a:spcPct val="100000"/>
              </a:lnSpc>
              <a:spcBef>
                <a:spcPts val="1054"/>
              </a:spcBef>
              <a:buClr>
                <a:srgbClr val="000000"/>
              </a:buClr>
              <a:buFont typeface="Arial"/>
              <a:buChar char="•"/>
              <a:tabLst>
                <a:tab algn="l" pos="422640"/>
                <a:tab algn="l" pos="4230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Submission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certified RROF&amp;</a:t>
            </a:r>
            <a:r>
              <a:rPr b="0" lang="en-US" sz="2120" spc="-4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HUD </a:t>
            </a:r>
            <a:r>
              <a:rPr b="0" lang="en-US" sz="2120" spc="-4" strike="noStrike">
                <a:solidFill>
                  <a:srgbClr val="c00000"/>
                </a:solidFill>
                <a:latin typeface="Times New Roman"/>
              </a:rPr>
              <a:t>NOT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92880" y="998280"/>
            <a:ext cx="1190700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71684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Procedural Requirement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for  Exempt</a:t>
            </a:r>
            <a:r>
              <a:rPr b="1" lang="en-US" sz="4400" spc="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15" strike="noStrike">
                <a:solidFill>
                  <a:srgbClr val="262626"/>
                </a:solidFill>
                <a:latin typeface="Garamond"/>
              </a:rPr>
              <a:t>Projec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6"/>
          <p:cNvGrpSpPr/>
          <p:nvPr/>
        </p:nvGrpSpPr>
        <p:grpSpPr>
          <a:xfrm>
            <a:off x="-16920" y="0"/>
            <a:ext cx="12230640" cy="6855840"/>
            <a:chOff x="-16920" y="0"/>
            <a:chExt cx="12230640" cy="6855840"/>
          </a:xfrm>
        </p:grpSpPr>
        <p:pic>
          <p:nvPicPr>
            <p:cNvPr id="248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8"/>
            <p:cNvSpPr/>
            <p:nvPr/>
          </p:nvSpPr>
          <p:spPr>
            <a:xfrm>
              <a:off x="2328480" y="1540800"/>
              <a:ext cx="7543440" cy="383508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9" descr=""/>
            <p:cNvPicPr/>
            <p:nvPr/>
          </p:nvPicPr>
          <p:blipFill>
            <a:blip r:embed="rId3"/>
            <a:stretch/>
          </p:blipFill>
          <p:spPr>
            <a:xfrm>
              <a:off x="-1692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0" descr=""/>
            <p:cNvPicPr/>
            <p:nvPr/>
          </p:nvPicPr>
          <p:blipFill>
            <a:blip r:embed="rId4"/>
            <a:stretch/>
          </p:blipFill>
          <p:spPr>
            <a:xfrm>
              <a:off x="973620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52" name="Straight Connector 12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 useBgFill="1">
        <p:nvSpPr>
          <p:cNvPr id="253" name="Rectangle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2192040" y="1400040"/>
            <a:ext cx="7807680" cy="4103640"/>
          </a:xfrm>
          <a:prstGeom prst="rect">
            <a:avLst/>
          </a:prstGeom>
          <a:solidFill>
            <a:schemeClr val="tx2">
              <a:lumMod val="90000"/>
              <a:lumOff val="10000"/>
            </a:schemeClr>
          </a:solidFill>
          <a:ln>
            <a:noFill/>
          </a:ln>
          <a:effectLst>
            <a:outerShdw algn="t" blurRad="114480" dir="5400000" dist="127080" rotWithShape="0" sx="99000" sy="99000">
              <a:srgbClr val="000000">
                <a:alpha val="40000"/>
              </a:srgbClr>
            </a:outerShdw>
          </a:effectLst>
          <a:scene3d>
            <a:camera prst="orthographicFront"/>
            <a:lightRig dir="t" rig="twoPt"/>
          </a:scene3d>
          <a:sp3d contourW="6350">
            <a:bevelT prst="coolSlant" w="12700" h="0"/>
            <a:contourClr>
              <a:schemeClr val="tx2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28480" y="1540800"/>
            <a:ext cx="7543440" cy="3835080"/>
          </a:xfrm>
          <a:prstGeom prst="rect">
            <a:avLst/>
          </a:prstGeom>
          <a:noFill/>
          <a:ln w="15875">
            <a:solidFill>
              <a:srgbClr val="83992a"/>
            </a:solidFill>
            <a:miter/>
          </a:ln>
          <a:effectLst>
            <a:innerShdw blurRad="25400" dir="13500000" dist="12700">
              <a:srgbClr val="000000">
                <a:alpha val="45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0"/>
          <p:cNvGrpSpPr/>
          <p:nvPr/>
        </p:nvGrpSpPr>
        <p:grpSpPr>
          <a:xfrm>
            <a:off x="0" y="3123720"/>
            <a:ext cx="12230640" cy="659160"/>
            <a:chOff x="0" y="3123720"/>
            <a:chExt cx="12230640" cy="659160"/>
          </a:xfrm>
        </p:grpSpPr>
        <p:sp>
          <p:nvSpPr>
            <p:cNvPr id="257" name="Rounded Rectangle 17"/>
            <p:cNvSpPr/>
            <p:nvPr/>
          </p:nvSpPr>
          <p:spPr>
            <a:xfrm>
              <a:off x="2448000" y="312372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258" name="Picture 22" descr=""/>
            <p:cNvPicPr/>
            <p:nvPr/>
          </p:nvPicPr>
          <p:blipFill>
            <a:blip r:embed="rId5"/>
            <a:stretch/>
          </p:blipFill>
          <p:spPr>
            <a:xfrm>
              <a:off x="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ounded Rectangle 20"/>
            <p:cNvSpPr/>
            <p:nvPr/>
          </p:nvSpPr>
          <p:spPr>
            <a:xfrm>
              <a:off x="9734760" y="312480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260" name="Picture 24" descr=""/>
            <p:cNvPicPr/>
            <p:nvPr/>
          </p:nvPicPr>
          <p:blipFill>
            <a:blip r:embed="rId6"/>
            <a:stretch/>
          </p:blipFill>
          <p:spPr>
            <a:xfrm>
              <a:off x="975312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20160" y="2764440"/>
            <a:ext cx="68151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1728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600" spc="-9" strike="noStrike">
                <a:solidFill>
                  <a:srgbClr val="ffffff"/>
                </a:solidFill>
                <a:latin typeface="Garamond"/>
              </a:rPr>
              <a:t>Environmental  </a:t>
            </a:r>
            <a:r>
              <a:rPr b="0" lang="en-US" sz="4600" spc="-4" strike="noStrike">
                <a:solidFill>
                  <a:srgbClr val="ffffff"/>
                </a:solidFill>
                <a:latin typeface="Garamond"/>
              </a:rPr>
              <a:t>Review</a:t>
            </a:r>
            <a:br>
              <a:rPr sz="4600"/>
            </a:br>
            <a:r>
              <a:rPr b="0" lang="en-US" sz="4600" spc="-4" strike="noStrike">
                <a:solidFill>
                  <a:srgbClr val="ffffff"/>
                </a:solidFill>
                <a:latin typeface="Garamond"/>
              </a:rPr>
              <a:t>Overview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262" name="Straight Connector 26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5400" y="415800"/>
            <a:ext cx="9460080" cy="20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Categorical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Exclusions </a:t>
            </a:r>
            <a:r>
              <a:rPr b="1" lang="en-US" sz="4400" spc="-4" strike="noStrike" u="heavy">
                <a:solidFill>
                  <a:srgbClr val="262626"/>
                </a:solidFill>
                <a:uFill>
                  <a:solidFill>
                    <a:srgbClr val="ffffff"/>
                  </a:solidFill>
                </a:uFill>
                <a:latin typeface="Garamond"/>
              </a:rPr>
              <a:t>Not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 Subject to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§58.5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(CENST)</a:t>
            </a:r>
            <a:r>
              <a:rPr b="1" lang="en-US" sz="4400" spc="7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[§58.35(b)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2" name="object 3"/>
          <p:cNvSpPr/>
          <p:nvPr/>
        </p:nvSpPr>
        <p:spPr>
          <a:xfrm>
            <a:off x="1067040" y="2656440"/>
            <a:ext cx="47178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200" bIns="0" anchor="t">
            <a:spAutoFit/>
          </a:bodyPr>
          <a:p>
            <a:pPr marL="317160" indent="-306000">
              <a:lnSpc>
                <a:spcPct val="100000"/>
              </a:lnSpc>
              <a:spcBef>
                <a:spcPts val="553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317160"/>
                <a:tab algn="l" pos="317880"/>
              </a:tabLst>
            </a:pPr>
            <a:r>
              <a:rPr b="0" lang="en-US" sz="1400" spc="-18" strike="noStrike">
                <a:solidFill>
                  <a:srgbClr val="000000"/>
                </a:solidFill>
                <a:latin typeface="Times New Roman"/>
              </a:rPr>
              <a:t>Tenant-based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rental</a:t>
            </a:r>
            <a:r>
              <a:rPr b="0" lang="en-US" sz="1400" spc="2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7880" indent="-306360">
              <a:lnSpc>
                <a:spcPct val="100000"/>
              </a:lnSpc>
              <a:spcBef>
                <a:spcPts val="468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317160"/>
                <a:tab algn="l" pos="31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ive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servic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ing, but not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limit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,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health care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ing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services,  perman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ing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placement, day care,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tritional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services, short-term payment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rent/mortgage/utility costs, and assistance in  gaining </a:t>
            </a:r>
            <a:r>
              <a:rPr b="0" lang="en-US" sz="1400" spc="-9" strike="noStrike">
                <a:solidFill>
                  <a:srgbClr val="000000"/>
                </a:solidFill>
                <a:latin typeface="Times New Roman"/>
              </a:rPr>
              <a:t>access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to local, State, and Federal  government benefits and</a:t>
            </a:r>
            <a:r>
              <a:rPr b="0" lang="en-US" sz="140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servi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7880" indent="-306360">
              <a:lnSpc>
                <a:spcPct val="100000"/>
              </a:lnSpc>
              <a:spcBef>
                <a:spcPts val="468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317160"/>
                <a:tab algn="l" pos="317880"/>
              </a:tabLst>
            </a:pP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Operating cost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1" i="1" lang="en-US" sz="1400" spc="-4" strike="noStrike">
                <a:solidFill>
                  <a:srgbClr val="ff0000"/>
                </a:solidFill>
                <a:latin typeface="Times New Roman"/>
              </a:rPr>
              <a:t>maintenance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400" spc="-18" strike="noStrike">
                <a:solidFill>
                  <a:srgbClr val="000000"/>
                </a:solidFill>
                <a:latin typeface="Times New Roman"/>
              </a:rPr>
              <a:t>security,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operation, utilitie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nishings,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equipment, supplies, </a:t>
            </a:r>
            <a:r>
              <a:rPr b="1" lang="en-US" sz="1400" spc="-4" strike="noStrike">
                <a:solidFill>
                  <a:srgbClr val="ff0000"/>
                </a:solidFill>
                <a:latin typeface="Times New Roman"/>
              </a:rPr>
              <a:t>staff training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nd  recruitment and other incidental</a:t>
            </a:r>
            <a:r>
              <a:rPr b="0" lang="en-US" sz="1400" spc="3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4"/>
          <p:cNvSpPr/>
          <p:nvPr/>
        </p:nvSpPr>
        <p:spPr>
          <a:xfrm>
            <a:off x="3304080" y="4825440"/>
            <a:ext cx="2064600" cy="184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4" name="object 2"/>
          <p:cNvSpPr/>
          <p:nvPr/>
        </p:nvSpPr>
        <p:spPr>
          <a:xfrm>
            <a:off x="5895000" y="2483280"/>
            <a:ext cx="573156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560" bIns="0" anchor="t">
            <a:spAutoFit/>
          </a:bodyPr>
          <a:p>
            <a:pPr marL="317880" indent="-306360">
              <a:lnSpc>
                <a:spcPts val="2100"/>
              </a:lnSpc>
              <a:spcBef>
                <a:spcPts val="343"/>
              </a:spcBef>
              <a:buClr>
                <a:srgbClr val="000000"/>
              </a:buClr>
              <a:buFont typeface="StarSymbol"/>
              <a:buAutoNum type="arabicPeriod" startAt="4"/>
              <a:tabLst>
                <a:tab algn="l" pos="317160"/>
                <a:tab algn="l" pos="317880"/>
              </a:tabLst>
            </a:pP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Economic development activiti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ssociated with constructi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expansi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existing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7880" indent="-306360">
              <a:lnSpc>
                <a:spcPct val="90000"/>
              </a:lnSpc>
              <a:spcBef>
                <a:spcPts val="493"/>
              </a:spcBef>
              <a:buClr>
                <a:srgbClr val="000000"/>
              </a:buClr>
              <a:buFont typeface="StarSymbol"/>
              <a:buAutoNum type="arabicPeriod" startAt="4"/>
              <a:tabLst>
                <a:tab algn="l" pos="317160"/>
                <a:tab algn="l" pos="317880"/>
              </a:tabLst>
            </a:pP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ctivities to assist homebuyers to </a:t>
            </a:r>
            <a:r>
              <a:rPr b="1" i="1" lang="en-US" sz="14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purchase existing dwelling units</a:t>
            </a:r>
            <a:r>
              <a:rPr b="1" i="1" lang="en-US" sz="140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40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 </a:t>
            </a:r>
            <a:r>
              <a:rPr b="1" i="1" lang="en-US" sz="1400" spc="-4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dwelling units under construction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closing costs a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payment assistance, interes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y-downs,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400" spc="-9" strike="noStrike">
                <a:solidFill>
                  <a:srgbClr val="000000"/>
                </a:solidFill>
                <a:latin typeface="Times New Roman"/>
              </a:rPr>
              <a:t>similar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ctivities that  result i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transfe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title. (If new construction, then</a:t>
            </a:r>
            <a:r>
              <a:rPr b="0" lang="en-US" sz="1400" spc="6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C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7880" indent="-3063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 startAt="4"/>
              <a:tabLst>
                <a:tab algn="l" pos="317160"/>
                <a:tab algn="l" pos="317880"/>
                <a:tab algn="l" pos="4224960"/>
              </a:tabLst>
            </a:pP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ffordable housing pre-development costs (e.g. legal, and consulting  costs, related to obtaining</a:t>
            </a:r>
            <a:r>
              <a:rPr b="0" lang="en-US" sz="1400" spc="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0" lang="en-US" sz="140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ons,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other related activities wit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140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impac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7880" indent="-306360">
              <a:lnSpc>
                <a:spcPct val="90000"/>
              </a:lnSpc>
              <a:spcBef>
                <a:spcPts val="490"/>
              </a:spcBef>
              <a:buClr>
                <a:srgbClr val="000000"/>
              </a:buClr>
              <a:buFont typeface="StarSymbol"/>
              <a:buAutoNum type="arabicPeriod" startAt="4"/>
              <a:tabLst>
                <a:tab algn="l" pos="317160"/>
                <a:tab algn="l" pos="317880"/>
              </a:tabLst>
            </a:pP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Approv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supplemental assistance (including insuran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guarantee) to a project previousl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roved under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this part, i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 approval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1400" spc="-9" strike="noStrike">
                <a:solidFill>
                  <a:srgbClr val="000000"/>
                </a:solidFill>
                <a:latin typeface="Times New Roman"/>
              </a:rPr>
              <a:t>mad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the </a:t>
            </a:r>
            <a:r>
              <a:rPr b="0" lang="en-US" sz="1400" spc="-9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responsible entity that conduct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environmental review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the original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project and re-evaluati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environment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ings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400" spc="-4" strike="noStrike">
                <a:solidFill>
                  <a:srgbClr val="000000"/>
                </a:solidFill>
                <a:latin typeface="Times New Roman"/>
              </a:rPr>
              <a:t>requir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140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§58.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bject 2"/>
          <p:cNvSpPr/>
          <p:nvPr/>
        </p:nvSpPr>
        <p:spPr>
          <a:xfrm>
            <a:off x="2892600" y="2609280"/>
            <a:ext cx="6222960" cy="31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406080" indent="-39492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406080"/>
                <a:tab algn="l" pos="4068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Determination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CENST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made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in writing  (Determination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Form)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nd the documentation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120" spc="-11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be 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maintained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in the</a:t>
            </a:r>
            <a:r>
              <a:rPr b="0" lang="en-US" sz="212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RR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06080" indent="-394920">
              <a:lnSpc>
                <a:spcPct val="100000"/>
              </a:lnSpc>
              <a:spcBef>
                <a:spcPts val="1054"/>
              </a:spcBef>
              <a:buClr>
                <a:srgbClr val="000000"/>
              </a:buClr>
              <a:buFont typeface="Arial"/>
              <a:buChar char="•"/>
              <a:tabLst>
                <a:tab algn="l" pos="406080"/>
                <a:tab algn="l" pos="4068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Compliance with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§58.6</a:t>
            </a:r>
            <a:r>
              <a:rPr b="0" lang="en-US" sz="2120" spc="-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06080" indent="-39492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406080"/>
                <a:tab algn="l" pos="4068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Compliance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§58.5 </a:t>
            </a:r>
            <a:r>
              <a:rPr b="0" lang="en-US" sz="2120" spc="-4" strike="noStrike">
                <a:solidFill>
                  <a:srgbClr val="c00000"/>
                </a:solidFill>
                <a:latin typeface="Times New Roman"/>
              </a:rPr>
              <a:t>NOT</a:t>
            </a:r>
            <a:r>
              <a:rPr b="0" lang="en-US" sz="2120" spc="-49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06080" indent="-394920">
              <a:lnSpc>
                <a:spcPct val="100000"/>
              </a:lnSpc>
              <a:spcBef>
                <a:spcPts val="1060"/>
              </a:spcBef>
              <a:buClr>
                <a:srgbClr val="000000"/>
              </a:buClr>
              <a:buFont typeface="Arial"/>
              <a:buChar char="•"/>
              <a:tabLst>
                <a:tab algn="l" pos="406080"/>
                <a:tab algn="l" pos="40680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ublication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NOI/RROF </a:t>
            </a:r>
            <a:r>
              <a:rPr b="0" lang="en-US" sz="2120" spc="-9" strike="noStrike">
                <a:solidFill>
                  <a:srgbClr val="c00000"/>
                </a:solidFill>
                <a:latin typeface="Times New Roman"/>
              </a:rPr>
              <a:t>NOT</a:t>
            </a:r>
            <a:r>
              <a:rPr b="0" lang="en-US" sz="2120" spc="-26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406080" indent="-394920">
              <a:lnSpc>
                <a:spcPct val="100000"/>
              </a:lnSpc>
              <a:spcBef>
                <a:spcPts val="1054"/>
              </a:spcBef>
              <a:buClr>
                <a:srgbClr val="000000"/>
              </a:buClr>
              <a:buFont typeface="Arial"/>
              <a:buChar char="•"/>
              <a:tabLst>
                <a:tab algn="l" pos="406080"/>
                <a:tab algn="l" pos="40680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Submission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certified RROF&amp;</a:t>
            </a:r>
            <a:r>
              <a:rPr b="0" lang="en-US" sz="2120" spc="-4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HUD </a:t>
            </a:r>
            <a:r>
              <a:rPr b="0" lang="en-US" sz="2120" spc="-4" strike="noStrike">
                <a:solidFill>
                  <a:srgbClr val="c00000"/>
                </a:solidFill>
                <a:latin typeface="Times New Roman"/>
              </a:rPr>
              <a:t>NOT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1120" y="864720"/>
            <a:ext cx="76388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23336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Procedural </a:t>
            </a:r>
            <a:r>
              <a:rPr b="1" lang="en-US" sz="4400" spc="-15" strike="noStrike">
                <a:solidFill>
                  <a:srgbClr val="262626"/>
                </a:solidFill>
                <a:latin typeface="Garamond"/>
              </a:rPr>
              <a:t>Requirement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for 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ENST</a:t>
            </a:r>
            <a:r>
              <a:rPr b="1" lang="en-US" sz="4400" spc="-63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Project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62840" y="591480"/>
            <a:ext cx="100753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88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Categorical Exclusions 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Subject to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§58.5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(CEST)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[58.35(a)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8" name="object 3"/>
          <p:cNvSpPr/>
          <p:nvPr/>
        </p:nvSpPr>
        <p:spPr>
          <a:xfrm>
            <a:off x="2355120" y="2432160"/>
            <a:ext cx="424548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408960" indent="-3978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StarSymbol"/>
              <a:buAutoNum type="arabicPeriod"/>
              <a:tabLst>
                <a:tab algn="l" pos="408960"/>
                <a:tab algn="l" pos="40968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cquisition, </a:t>
            </a:r>
            <a:r>
              <a:rPr b="0" lang="en-US" sz="2120" spc="-15" strike="noStrike">
                <a:solidFill>
                  <a:srgbClr val="000000"/>
                </a:solidFill>
                <a:latin typeface="Times New Roman"/>
              </a:rPr>
              <a:t>repair,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improvement, 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reconstruction or rehabilitation of  public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facilities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120" spc="-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improvements  when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(other than</a:t>
            </a:r>
            <a:r>
              <a:rPr b="0" lang="en-US" sz="212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buildings):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lvl="1" marL="613440" indent="-254520">
              <a:lnSpc>
                <a:spcPct val="100000"/>
              </a:lnSpc>
              <a:spcBef>
                <a:spcPts val="54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13440"/>
              </a:tabLst>
            </a:pP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Facilities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mprovements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77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lvl="1" marL="613440" indent="-2545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1344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than </a:t>
            </a:r>
            <a:r>
              <a:rPr b="0" lang="en-US" sz="1770" spc="1" strike="noStrike">
                <a:solidFill>
                  <a:srgbClr val="000000"/>
                </a:solidFill>
                <a:latin typeface="Times New Roman"/>
              </a:rPr>
              <a:t>20% </a:t>
            </a:r>
            <a:r>
              <a:rPr b="0" lang="en-US" sz="1770" spc="-1" strike="noStrike">
                <a:solidFill>
                  <a:srgbClr val="ff0000"/>
                </a:solidFill>
                <a:latin typeface="Times New Roman"/>
              </a:rPr>
              <a:t>chang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n siz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1770" spc="-1" strike="noStrike">
                <a:solidFill>
                  <a:srgbClr val="ff0000"/>
                </a:solidFill>
                <a:latin typeface="Times New Roman"/>
              </a:rPr>
              <a:t>[change =</a:t>
            </a:r>
            <a:r>
              <a:rPr b="0" lang="en-US" sz="1770" spc="-26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770" spc="-4" strike="noStrike">
                <a:solidFill>
                  <a:srgbClr val="ff0000"/>
                </a:solidFill>
                <a:latin typeface="Times New Roman"/>
              </a:rPr>
              <a:t>increase/decrease]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lvl="1" marL="613440" indent="-2545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1344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No chang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1770" spc="-5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"/>
              </a:spcBef>
              <a:tabLst>
                <a:tab algn="l" pos="613440"/>
              </a:tabLst>
            </a:pPr>
            <a:endParaRPr b="0" lang="en-US" sz="2740" spc="-1" strike="noStrike">
              <a:solidFill>
                <a:srgbClr val="000000"/>
              </a:solidFill>
              <a:latin typeface="Arial"/>
            </a:endParaRPr>
          </a:p>
          <a:p>
            <a:pPr marL="408960" indent="-39780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408960"/>
                <a:tab algn="l" pos="40968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Removal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architectural</a:t>
            </a:r>
            <a:r>
              <a:rPr b="0" lang="en-US" sz="2120" spc="-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barriers  that restrict</a:t>
            </a:r>
            <a:r>
              <a:rPr b="0" lang="en-US" sz="2120" spc="-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4"/>
          <p:cNvSpPr/>
          <p:nvPr/>
        </p:nvSpPr>
        <p:spPr>
          <a:xfrm>
            <a:off x="6982200" y="4776120"/>
            <a:ext cx="2252160" cy="1209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0" name="object 5"/>
          <p:cNvSpPr/>
          <p:nvPr/>
        </p:nvSpPr>
        <p:spPr>
          <a:xfrm>
            <a:off x="8882280" y="3624480"/>
            <a:ext cx="2218320" cy="1270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1" name="object 6"/>
          <p:cNvSpPr/>
          <p:nvPr/>
        </p:nvSpPr>
        <p:spPr>
          <a:xfrm>
            <a:off x="6982200" y="2373840"/>
            <a:ext cx="2252160" cy="1332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bject 2"/>
          <p:cNvSpPr/>
          <p:nvPr/>
        </p:nvSpPr>
        <p:spPr>
          <a:xfrm>
            <a:off x="2183400" y="2388960"/>
            <a:ext cx="43603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414720" indent="-40356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StarSymbol"/>
              <a:buAutoNum type="arabicPeriod" startAt="3"/>
              <a:tabLst>
                <a:tab algn="l" pos="414000"/>
                <a:tab algn="l" pos="41472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Rehabilitation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f buildings</a:t>
            </a:r>
            <a:r>
              <a:rPr b="0" lang="en-US" sz="212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improvements: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lvl="1" marL="613440" indent="-346680">
              <a:lnSpc>
                <a:spcPct val="100000"/>
              </a:lnSpc>
              <a:spcBef>
                <a:spcPts val="544"/>
              </a:spcBef>
              <a:buClr>
                <a:srgbClr val="000000"/>
              </a:buClr>
              <a:buFont typeface="StarSymbol"/>
              <a:buAutoNum type="romanLcPeriod"/>
              <a:tabLst>
                <a:tab algn="l" pos="613080"/>
                <a:tab algn="l" pos="613440"/>
              </a:tabLst>
            </a:pPr>
            <a:r>
              <a:rPr b="0" lang="en-US" sz="1770" spc="-4" strike="noStrike" u="sng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Residential </a:t>
            </a:r>
            <a:r>
              <a:rPr b="0" lang="en-US" sz="1770" spc="-1" strike="noStrike" u="sng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Structures of 1 – 4 units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: no 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than 4 units; no chang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177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use;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lvl="1" marL="613440" indent="-34668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romanLcPeriod"/>
              <a:tabLst>
                <a:tab algn="l" pos="613080"/>
                <a:tab algn="l" pos="613440"/>
              </a:tabLst>
            </a:pPr>
            <a:r>
              <a:rPr b="0" lang="en-US" sz="1770" spc="-4" strike="noStrike" u="sng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Multifamily Residential </a:t>
            </a:r>
            <a:r>
              <a:rPr b="0" lang="en-US" sz="1770" spc="-1" strike="noStrike" u="sng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Structures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: unit  density does not </a:t>
            </a:r>
            <a:r>
              <a:rPr b="0" lang="en-US" sz="1770" spc="-1" strike="noStrike">
                <a:solidFill>
                  <a:srgbClr val="ff0000"/>
                </a:solidFill>
                <a:latin typeface="Times New Roman"/>
              </a:rPr>
              <a:t>chang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than</a:t>
            </a:r>
            <a:r>
              <a:rPr b="0" lang="en-US" sz="177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20%;  no chang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land use; cost of rehab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s  less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than </a:t>
            </a:r>
            <a:r>
              <a:rPr b="0" lang="en-US" sz="1770" spc="1" strike="noStrike">
                <a:solidFill>
                  <a:srgbClr val="000000"/>
                </a:solidFill>
                <a:latin typeface="Times New Roman"/>
              </a:rPr>
              <a:t>75%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replacement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cost after  rehab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lvl="1" marL="613440" indent="-34668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AutoNum type="romanLcPeriod"/>
              <a:tabLst>
                <a:tab algn="l" pos="613440"/>
              </a:tabLst>
            </a:pPr>
            <a:r>
              <a:rPr b="0" lang="en-US" sz="1770" spc="-4" strike="noStrike" u="sng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Commercial, </a:t>
            </a:r>
            <a:r>
              <a:rPr b="0" lang="en-US" sz="1770" spc="-1" strike="noStrike" u="sng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Industrial and Public  Buildings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siz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capacity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does not </a:t>
            </a:r>
            <a:r>
              <a:rPr b="0" lang="en-US" sz="1770" spc="-1" strike="noStrike">
                <a:solidFill>
                  <a:srgbClr val="ff0000"/>
                </a:solidFill>
                <a:latin typeface="Times New Roman"/>
              </a:rPr>
              <a:t> chang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than 20%; no change</a:t>
            </a:r>
            <a:r>
              <a:rPr b="0" lang="en-US" sz="1770" spc="-12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in 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177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bject 3"/>
          <p:cNvSpPr/>
          <p:nvPr/>
        </p:nvSpPr>
        <p:spPr>
          <a:xfrm>
            <a:off x="7741800" y="2050560"/>
            <a:ext cx="2689200" cy="194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15560" y="756000"/>
            <a:ext cx="252720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EST</a:t>
            </a:r>
            <a:r>
              <a:rPr b="1" lang="en-US" sz="4400" spc="-11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5" name="object 5"/>
          <p:cNvSpPr/>
          <p:nvPr/>
        </p:nvSpPr>
        <p:spPr>
          <a:xfrm>
            <a:off x="7574400" y="4479480"/>
            <a:ext cx="2218320" cy="135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object 2"/>
          <p:cNvSpPr/>
          <p:nvPr/>
        </p:nvSpPr>
        <p:spPr>
          <a:xfrm>
            <a:off x="2074320" y="2524320"/>
            <a:ext cx="33699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317880" indent="-306360">
              <a:lnSpc>
                <a:spcPct val="100000"/>
              </a:lnSpc>
              <a:spcBef>
                <a:spcPts val="85"/>
              </a:spcBef>
              <a:tabLst>
                <a:tab algn="l" pos="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Individual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c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n up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our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welling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units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(On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4-unit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ructur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four 1-unit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ructures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y combination  in between)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individual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c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 projec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fiv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housing units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when sites  are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ha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2,000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feet apart  and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ha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our units on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ite.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843440" y="546480"/>
            <a:ext cx="252720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EST</a:t>
            </a:r>
            <a:r>
              <a:rPr b="1" lang="en-US" sz="4400" spc="-106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8" name="object 4"/>
          <p:cNvSpPr/>
          <p:nvPr/>
        </p:nvSpPr>
        <p:spPr>
          <a:xfrm>
            <a:off x="6296760" y="2377800"/>
            <a:ext cx="4033800" cy="302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object 2"/>
          <p:cNvSpPr/>
          <p:nvPr/>
        </p:nvSpPr>
        <p:spPr>
          <a:xfrm>
            <a:off x="5401080" y="3906360"/>
            <a:ext cx="2779200" cy="130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0" name="object 3"/>
          <p:cNvSpPr/>
          <p:nvPr/>
        </p:nvSpPr>
        <p:spPr>
          <a:xfrm>
            <a:off x="5465520" y="4773960"/>
            <a:ext cx="534960" cy="556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object 4"/>
          <p:cNvSpPr/>
          <p:nvPr/>
        </p:nvSpPr>
        <p:spPr>
          <a:xfrm>
            <a:off x="8245080" y="3697920"/>
            <a:ext cx="1082160" cy="991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object 5"/>
          <p:cNvSpPr/>
          <p:nvPr/>
        </p:nvSpPr>
        <p:spPr>
          <a:xfrm>
            <a:off x="9409680" y="4034160"/>
            <a:ext cx="2108160" cy="2046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3" name="object 6"/>
          <p:cNvSpPr/>
          <p:nvPr/>
        </p:nvSpPr>
        <p:spPr>
          <a:xfrm>
            <a:off x="6628680" y="5013000"/>
            <a:ext cx="3420720" cy="688320"/>
          </a:xfrm>
          <a:custGeom>
            <a:avLst/>
            <a:gdLst>
              <a:gd name="textAreaLeft" fmla="*/ 0 w 3420720"/>
              <a:gd name="textAreaRight" fmla="*/ 3421080 w 3420720"/>
              <a:gd name="textAreaTop" fmla="*/ 0 h 688320"/>
              <a:gd name="textAreaBottom" fmla="*/ 688680 h 688320"/>
            </a:gdLst>
            <a:ahLst/>
            <a:rect l="textAreaLeft" t="textAreaTop" r="textAreaRight" b="textAreaBottom"/>
            <a:pathLst>
              <a:path w="3877309" h="780414">
                <a:moveTo>
                  <a:pt x="3849072" y="746619"/>
                </a:moveTo>
                <a:lnTo>
                  <a:pt x="3782568" y="769492"/>
                </a:lnTo>
                <a:lnTo>
                  <a:pt x="3780917" y="771143"/>
                </a:lnTo>
                <a:lnTo>
                  <a:pt x="3779520" y="774064"/>
                </a:lnTo>
                <a:lnTo>
                  <a:pt x="3779520" y="775588"/>
                </a:lnTo>
                <a:lnTo>
                  <a:pt x="3780917" y="778763"/>
                </a:lnTo>
                <a:lnTo>
                  <a:pt x="3784092" y="780160"/>
                </a:lnTo>
                <a:lnTo>
                  <a:pt x="3785489" y="778763"/>
                </a:lnTo>
                <a:lnTo>
                  <a:pt x="3868007" y="749807"/>
                </a:lnTo>
                <a:lnTo>
                  <a:pt x="3866388" y="749807"/>
                </a:lnTo>
                <a:lnTo>
                  <a:pt x="3849072" y="746619"/>
                </a:lnTo>
                <a:close/>
              </a:path>
              <a:path w="3877309" h="780414">
                <a:moveTo>
                  <a:pt x="3859076" y="743178"/>
                </a:moveTo>
                <a:lnTo>
                  <a:pt x="3849072" y="746619"/>
                </a:lnTo>
                <a:lnTo>
                  <a:pt x="3866388" y="749807"/>
                </a:lnTo>
                <a:lnTo>
                  <a:pt x="3866640" y="748156"/>
                </a:lnTo>
                <a:lnTo>
                  <a:pt x="3864864" y="748156"/>
                </a:lnTo>
                <a:lnTo>
                  <a:pt x="3859076" y="743178"/>
                </a:lnTo>
                <a:close/>
              </a:path>
              <a:path w="3877309" h="780414">
                <a:moveTo>
                  <a:pt x="3802253" y="681100"/>
                </a:moveTo>
                <a:lnTo>
                  <a:pt x="3796156" y="684275"/>
                </a:lnTo>
                <a:lnTo>
                  <a:pt x="3794759" y="685799"/>
                </a:lnTo>
                <a:lnTo>
                  <a:pt x="3794759" y="688720"/>
                </a:lnTo>
                <a:lnTo>
                  <a:pt x="3797680" y="690371"/>
                </a:lnTo>
                <a:lnTo>
                  <a:pt x="3852983" y="737938"/>
                </a:lnTo>
                <a:lnTo>
                  <a:pt x="3867784" y="740663"/>
                </a:lnTo>
                <a:lnTo>
                  <a:pt x="3866388" y="749807"/>
                </a:lnTo>
                <a:lnTo>
                  <a:pt x="3868007" y="749807"/>
                </a:lnTo>
                <a:lnTo>
                  <a:pt x="3877055" y="746632"/>
                </a:lnTo>
                <a:lnTo>
                  <a:pt x="3803777" y="684275"/>
                </a:lnTo>
                <a:lnTo>
                  <a:pt x="3802253" y="681100"/>
                </a:lnTo>
                <a:close/>
              </a:path>
              <a:path w="3877309" h="780414">
                <a:moveTo>
                  <a:pt x="3866388" y="740663"/>
                </a:moveTo>
                <a:lnTo>
                  <a:pt x="3859076" y="743178"/>
                </a:lnTo>
                <a:lnTo>
                  <a:pt x="3864864" y="748156"/>
                </a:lnTo>
                <a:lnTo>
                  <a:pt x="3866388" y="740663"/>
                </a:lnTo>
                <a:close/>
              </a:path>
              <a:path w="3877309" h="780414">
                <a:moveTo>
                  <a:pt x="3867784" y="740663"/>
                </a:moveTo>
                <a:lnTo>
                  <a:pt x="3866388" y="740663"/>
                </a:lnTo>
                <a:lnTo>
                  <a:pt x="3864864" y="748156"/>
                </a:lnTo>
                <a:lnTo>
                  <a:pt x="3866640" y="748156"/>
                </a:lnTo>
                <a:lnTo>
                  <a:pt x="3867784" y="740663"/>
                </a:lnTo>
                <a:close/>
              </a:path>
              <a:path w="3877309" h="780414">
                <a:moveTo>
                  <a:pt x="28220" y="33585"/>
                </a:moveTo>
                <a:lnTo>
                  <a:pt x="18272" y="37254"/>
                </a:lnTo>
                <a:lnTo>
                  <a:pt x="24084" y="42271"/>
                </a:lnTo>
                <a:lnTo>
                  <a:pt x="3849072" y="746619"/>
                </a:lnTo>
                <a:lnTo>
                  <a:pt x="3859076" y="743178"/>
                </a:lnTo>
                <a:lnTo>
                  <a:pt x="3852983" y="737938"/>
                </a:lnTo>
                <a:lnTo>
                  <a:pt x="28220" y="33585"/>
                </a:lnTo>
                <a:close/>
              </a:path>
              <a:path w="3877309" h="780414">
                <a:moveTo>
                  <a:pt x="3852983" y="737938"/>
                </a:moveTo>
                <a:lnTo>
                  <a:pt x="3859076" y="743178"/>
                </a:lnTo>
                <a:lnTo>
                  <a:pt x="3866388" y="740663"/>
                </a:lnTo>
                <a:lnTo>
                  <a:pt x="3867784" y="740663"/>
                </a:lnTo>
                <a:lnTo>
                  <a:pt x="3852983" y="737938"/>
                </a:lnTo>
                <a:close/>
              </a:path>
              <a:path w="3877309" h="780414">
                <a:moveTo>
                  <a:pt x="92964" y="0"/>
                </a:moveTo>
                <a:lnTo>
                  <a:pt x="91313" y="1396"/>
                </a:lnTo>
                <a:lnTo>
                  <a:pt x="0" y="33400"/>
                </a:lnTo>
                <a:lnTo>
                  <a:pt x="73152" y="96011"/>
                </a:lnTo>
                <a:lnTo>
                  <a:pt x="76200" y="97535"/>
                </a:lnTo>
                <a:lnTo>
                  <a:pt x="79121" y="97535"/>
                </a:lnTo>
                <a:lnTo>
                  <a:pt x="82296" y="94360"/>
                </a:lnTo>
                <a:lnTo>
                  <a:pt x="82296" y="91439"/>
                </a:lnTo>
                <a:lnTo>
                  <a:pt x="79121" y="89788"/>
                </a:lnTo>
                <a:lnTo>
                  <a:pt x="24084" y="42271"/>
                </a:lnTo>
                <a:lnTo>
                  <a:pt x="9017" y="39496"/>
                </a:lnTo>
                <a:lnTo>
                  <a:pt x="10668" y="30352"/>
                </a:lnTo>
                <a:lnTo>
                  <a:pt x="36984" y="30352"/>
                </a:lnTo>
                <a:lnTo>
                  <a:pt x="94488" y="9143"/>
                </a:lnTo>
                <a:lnTo>
                  <a:pt x="97409" y="9143"/>
                </a:lnTo>
                <a:lnTo>
                  <a:pt x="97409" y="2920"/>
                </a:lnTo>
                <a:lnTo>
                  <a:pt x="95885" y="1396"/>
                </a:lnTo>
                <a:lnTo>
                  <a:pt x="92964" y="0"/>
                </a:lnTo>
                <a:close/>
              </a:path>
              <a:path w="3877309" h="780414">
                <a:moveTo>
                  <a:pt x="10668" y="30352"/>
                </a:moveTo>
                <a:lnTo>
                  <a:pt x="9017" y="39496"/>
                </a:lnTo>
                <a:lnTo>
                  <a:pt x="24084" y="42271"/>
                </a:lnTo>
                <a:lnTo>
                  <a:pt x="20870" y="39496"/>
                </a:lnTo>
                <a:lnTo>
                  <a:pt x="12192" y="39496"/>
                </a:lnTo>
                <a:lnTo>
                  <a:pt x="12192" y="32003"/>
                </a:lnTo>
                <a:lnTo>
                  <a:pt x="19633" y="32003"/>
                </a:lnTo>
                <a:lnTo>
                  <a:pt x="10668" y="30352"/>
                </a:lnTo>
                <a:close/>
              </a:path>
              <a:path w="3877309" h="780414">
                <a:moveTo>
                  <a:pt x="12192" y="32003"/>
                </a:moveTo>
                <a:lnTo>
                  <a:pt x="12192" y="39496"/>
                </a:lnTo>
                <a:lnTo>
                  <a:pt x="18272" y="37254"/>
                </a:lnTo>
                <a:lnTo>
                  <a:pt x="12192" y="32003"/>
                </a:lnTo>
                <a:close/>
              </a:path>
              <a:path w="3877309" h="780414">
                <a:moveTo>
                  <a:pt x="18272" y="37254"/>
                </a:moveTo>
                <a:lnTo>
                  <a:pt x="12192" y="39496"/>
                </a:lnTo>
                <a:lnTo>
                  <a:pt x="20870" y="39496"/>
                </a:lnTo>
                <a:lnTo>
                  <a:pt x="18272" y="37254"/>
                </a:lnTo>
                <a:close/>
              </a:path>
              <a:path w="3877309" h="780414">
                <a:moveTo>
                  <a:pt x="19633" y="32003"/>
                </a:moveTo>
                <a:lnTo>
                  <a:pt x="12192" y="32003"/>
                </a:lnTo>
                <a:lnTo>
                  <a:pt x="18272" y="37254"/>
                </a:lnTo>
                <a:lnTo>
                  <a:pt x="28220" y="33585"/>
                </a:lnTo>
                <a:lnTo>
                  <a:pt x="19633" y="32003"/>
                </a:lnTo>
                <a:close/>
              </a:path>
              <a:path w="3877309" h="780414">
                <a:moveTo>
                  <a:pt x="36984" y="30352"/>
                </a:moveTo>
                <a:lnTo>
                  <a:pt x="10668" y="30352"/>
                </a:lnTo>
                <a:lnTo>
                  <a:pt x="28220" y="33585"/>
                </a:lnTo>
                <a:lnTo>
                  <a:pt x="36984" y="303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4" name="object 7"/>
          <p:cNvSpPr/>
          <p:nvPr/>
        </p:nvSpPr>
        <p:spPr>
          <a:xfrm>
            <a:off x="7826760" y="5111280"/>
            <a:ext cx="572400" cy="2203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5" name="object 8"/>
          <p:cNvSpPr/>
          <p:nvPr/>
        </p:nvSpPr>
        <p:spPr>
          <a:xfrm>
            <a:off x="1353960" y="2374560"/>
            <a:ext cx="675900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11160">
              <a:lnSpc>
                <a:spcPct val="100000"/>
              </a:lnSpc>
              <a:spcBef>
                <a:spcPts val="85"/>
              </a:spcBef>
            </a:pPr>
            <a:r>
              <a:rPr b="0" i="1" lang="en-US" sz="2470" spc="-4" strike="noStrike">
                <a:solidFill>
                  <a:srgbClr val="000000"/>
                </a:solidFill>
                <a:latin typeface="Times New Roman"/>
              </a:rPr>
              <a:t>Scattered</a:t>
            </a:r>
            <a:r>
              <a:rPr b="0" i="1" lang="en-US" sz="247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70" spc="-4" strike="noStrike">
                <a:solidFill>
                  <a:srgbClr val="000000"/>
                </a:solidFill>
                <a:latin typeface="Times New Roman"/>
              </a:rPr>
              <a:t>Sites: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11160">
              <a:lnSpc>
                <a:spcPct val="100000"/>
              </a:lnSpc>
            </a:pPr>
            <a:r>
              <a:rPr b="0" lang="en-US" sz="2470" spc="-9" strike="noStrike">
                <a:solidFill>
                  <a:srgbClr val="0000ff"/>
                </a:solidFill>
                <a:latin typeface="Times New Roman"/>
              </a:rPr>
              <a:t>PROJECT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70" spc="-72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F</a:t>
            </a:r>
            <a:r>
              <a:rPr b="0" lang="en-US" sz="247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House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11160">
              <a:lnSpc>
                <a:spcPct val="100000"/>
              </a:lnSpc>
              <a:tabLst>
                <a:tab algn="l" pos="607068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7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70" spc="-32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70" spc="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7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7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ny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2470" spc="-1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70" spc="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70" spc="-4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70" spc="-15" strike="noStrike">
                <a:solidFill>
                  <a:srgbClr val="c00000"/>
                </a:solidFill>
                <a:latin typeface="Times New Roman"/>
              </a:rPr>
              <a:t>N</a:t>
            </a:r>
            <a:r>
              <a:rPr b="0" lang="en-US" sz="2470" spc="-4" strike="noStrike">
                <a:solidFill>
                  <a:srgbClr val="c00000"/>
                </a:solidFill>
                <a:latin typeface="Times New Roman"/>
              </a:rPr>
              <a:t>D 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ach site min.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2000+ ft.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part </a:t>
            </a:r>
            <a:r>
              <a:rPr b="0" lang="en-US" sz="2470" spc="-15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US" sz="247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71440" y="445320"/>
            <a:ext cx="6927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2079360"/>
              </a:tabLst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Example: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	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Individual</a:t>
            </a:r>
            <a:r>
              <a:rPr b="1" lang="en-US" sz="4400" spc="-23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Ac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object 2"/>
          <p:cNvSpPr/>
          <p:nvPr/>
        </p:nvSpPr>
        <p:spPr>
          <a:xfrm>
            <a:off x="2198880" y="2420640"/>
            <a:ext cx="4122720" cy="36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317880" indent="-306360">
              <a:lnSpc>
                <a:spcPct val="100000"/>
              </a:lnSpc>
              <a:spcBef>
                <a:spcPts val="85"/>
              </a:spcBef>
              <a:buClr>
                <a:srgbClr val="000000"/>
              </a:buClr>
              <a:buFont typeface="StarSymbol"/>
              <a:buAutoNum type="arabicPeriod" startAt="5"/>
              <a:tabLst>
                <a:tab algn="l" pos="317160"/>
                <a:tab algn="l" pos="3178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cquisition (including leasing)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isposi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, 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quity loans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  existing structure,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cquisition  (including leasing) of vacant land 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tructur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land will 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retained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use.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06360">
              <a:lnSpc>
                <a:spcPct val="100000"/>
              </a:lnSpc>
              <a:spcBef>
                <a:spcPts val="544"/>
              </a:spcBef>
              <a:buClr>
                <a:srgbClr val="000000"/>
              </a:buClr>
              <a:buFont typeface="StarSymbol"/>
              <a:buChar char="—"/>
              <a:tabLst>
                <a:tab algn="l" pos="671400"/>
                <a:tab algn="l" pos="671760"/>
              </a:tabLst>
            </a:pPr>
            <a:r>
              <a:rPr b="0" lang="en-US" sz="1590" spc="-1" strike="noStrike">
                <a:solidFill>
                  <a:srgbClr val="000000"/>
                </a:solidFill>
                <a:latin typeface="Times New Roman"/>
              </a:rPr>
              <a:t>Project Based</a:t>
            </a:r>
            <a:r>
              <a:rPr b="0" lang="en-US" sz="159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90" spc="-26" strike="noStrike">
                <a:solidFill>
                  <a:srgbClr val="000000"/>
                </a:solidFill>
                <a:latin typeface="Times New Roman"/>
              </a:rPr>
              <a:t>Vouchers</a:t>
            </a:r>
            <a:endParaRPr b="0" lang="en-US" sz="159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0636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Char char="—"/>
              <a:tabLst>
                <a:tab algn="l" pos="671400"/>
                <a:tab algn="l" pos="671760"/>
              </a:tabLst>
            </a:pPr>
            <a:r>
              <a:rPr b="0" lang="en-US" sz="1590" spc="-1" strike="noStrike">
                <a:solidFill>
                  <a:srgbClr val="000000"/>
                </a:solidFill>
                <a:latin typeface="Times New Roman"/>
              </a:rPr>
              <a:t>Project Based Rental</a:t>
            </a:r>
            <a:r>
              <a:rPr b="0" lang="en-US" sz="1590" spc="-12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90" spc="-4" strike="noStrike">
                <a:solidFill>
                  <a:srgbClr val="000000"/>
                </a:solidFill>
                <a:latin typeface="Times New Roman"/>
              </a:rPr>
              <a:t>Assistance</a:t>
            </a:r>
            <a:endParaRPr b="0" lang="en-US" sz="159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0636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StarSymbol"/>
              <a:buChar char="—"/>
              <a:tabLst>
                <a:tab algn="l" pos="671400"/>
                <a:tab algn="l" pos="671760"/>
              </a:tabLst>
            </a:pPr>
            <a:r>
              <a:rPr b="0" lang="en-US" sz="1590" spc="-4" strike="noStrike">
                <a:solidFill>
                  <a:srgbClr val="000000"/>
                </a:solidFill>
                <a:latin typeface="Times New Roman"/>
              </a:rPr>
              <a:t>Sponsor </a:t>
            </a:r>
            <a:r>
              <a:rPr b="0" lang="en-US" sz="1590" spc="-1" strike="noStrike">
                <a:solidFill>
                  <a:srgbClr val="000000"/>
                </a:solidFill>
                <a:latin typeface="Times New Roman"/>
              </a:rPr>
              <a:t>Based</a:t>
            </a:r>
            <a:r>
              <a:rPr b="0" lang="en-US" sz="159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9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1590" spc="-1" strike="noStrike">
              <a:solidFill>
                <a:srgbClr val="000000"/>
              </a:solidFill>
              <a:latin typeface="Arial"/>
            </a:endParaRPr>
          </a:p>
          <a:p>
            <a:pPr marL="317880" indent="-306360">
              <a:lnSpc>
                <a:spcPct val="100000"/>
              </a:lnSpc>
              <a:spcBef>
                <a:spcPts val="516"/>
              </a:spcBef>
              <a:buClr>
                <a:srgbClr val="000000"/>
              </a:buClr>
              <a:buFont typeface="StarSymbol"/>
              <a:buAutoNum type="arabicPeriod" startAt="5"/>
              <a:tabLst>
                <a:tab algn="l" pos="317160"/>
                <a:tab algn="l" pos="3178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mbina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y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the</a:t>
            </a:r>
            <a:r>
              <a:rPr b="0" lang="en-US" sz="194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above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ctivities.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823640" y="546480"/>
            <a:ext cx="252720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EST</a:t>
            </a:r>
            <a:r>
              <a:rPr b="1" lang="en-US" sz="4400" spc="-11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9" name="object 4"/>
          <p:cNvSpPr/>
          <p:nvPr/>
        </p:nvSpPr>
        <p:spPr>
          <a:xfrm>
            <a:off x="6835680" y="2420640"/>
            <a:ext cx="3157200" cy="210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object 2"/>
          <p:cNvSpPr/>
          <p:nvPr/>
        </p:nvSpPr>
        <p:spPr>
          <a:xfrm>
            <a:off x="2309760" y="2423520"/>
            <a:ext cx="8471160" cy="37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466920" indent="-455400">
              <a:lnSpc>
                <a:spcPct val="100000"/>
              </a:lnSpc>
              <a:spcBef>
                <a:spcPts val="85"/>
              </a:spcBef>
              <a:buClr>
                <a:srgbClr val="000000"/>
              </a:buClr>
              <a:buFont typeface="Arial"/>
              <a:buChar char="•"/>
              <a:tabLst>
                <a:tab algn="l" pos="466920"/>
                <a:tab algn="l" pos="4672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etermina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EST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mad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in writing (Determination  Form) and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documentation mus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maintained i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1940" spc="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RR.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466920" indent="-455400">
              <a:lnSpc>
                <a:spcPct val="100000"/>
              </a:lnSpc>
              <a:spcBef>
                <a:spcPts val="794"/>
              </a:spcBef>
              <a:buClr>
                <a:srgbClr val="000000"/>
              </a:buClr>
              <a:buFont typeface="Arial"/>
              <a:buChar char="•"/>
              <a:tabLst>
                <a:tab algn="l" pos="466920"/>
                <a:tab algn="l" pos="4672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mpliance with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§58.6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466920" indent="-455400">
              <a:lnSpc>
                <a:spcPct val="100000"/>
              </a:lnSpc>
              <a:spcBef>
                <a:spcPts val="794"/>
              </a:spcBef>
              <a:buClr>
                <a:srgbClr val="000000"/>
              </a:buClr>
              <a:buFont typeface="Arial"/>
              <a:buChar char="•"/>
              <a:tabLst>
                <a:tab algn="l" pos="466920"/>
                <a:tab algn="l" pos="4672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mplianc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§58.5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466920" indent="-455400">
              <a:lnSpc>
                <a:spcPct val="100000"/>
              </a:lnSpc>
              <a:spcBef>
                <a:spcPts val="794"/>
              </a:spcBef>
              <a:buClr>
                <a:srgbClr val="000000"/>
              </a:buClr>
              <a:buFont typeface="Arial"/>
              <a:buChar char="•"/>
              <a:tabLst>
                <a:tab algn="l" pos="466920"/>
                <a:tab algn="l" pos="467280"/>
              </a:tabLst>
            </a:pPr>
            <a:r>
              <a:rPr b="0" lang="en-US" sz="1940" spc="-9" strike="noStrike">
                <a:solidFill>
                  <a:srgbClr val="c00000"/>
                </a:solidFill>
                <a:latin typeface="Times New Roman"/>
              </a:rPr>
              <a:t>Can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convert to </a:t>
            </a:r>
            <a:r>
              <a:rPr b="0" lang="en-US" sz="1940" spc="-9" strike="noStrike">
                <a:solidFill>
                  <a:srgbClr val="c00000"/>
                </a:solidFill>
                <a:latin typeface="Times New Roman"/>
              </a:rPr>
              <a:t>exemp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if activities ar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ound no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 require  compliance with any authority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under §58.5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(such as mitigation 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measures,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dditional studies,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conditions,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further consultation,  permits).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466920" indent="-455400">
              <a:lnSpc>
                <a:spcPct val="100000"/>
              </a:lnSpc>
              <a:spcBef>
                <a:spcPts val="794"/>
              </a:spcBef>
              <a:buClr>
                <a:srgbClr val="000000"/>
              </a:buClr>
              <a:buFont typeface="Arial"/>
              <a:buChar char="•"/>
              <a:tabLst>
                <a:tab algn="l" pos="466920"/>
                <a:tab algn="l" pos="467280"/>
                <a:tab algn="l" pos="1713960"/>
                <a:tab algn="l" pos="204336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NOI/RROF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required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, unless project converts to  exempt.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466920" indent="-455400">
              <a:lnSpc>
                <a:spcPct val="100000"/>
              </a:lnSpc>
              <a:spcBef>
                <a:spcPts val="794"/>
              </a:spcBef>
              <a:buClr>
                <a:srgbClr val="000000"/>
              </a:buClr>
              <a:buFont typeface="Arial"/>
              <a:buChar char="•"/>
              <a:tabLst>
                <a:tab algn="l" pos="466920"/>
                <a:tab algn="l" pos="4672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ubmiss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 certified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RROF&amp;</a:t>
            </a:r>
            <a:r>
              <a:rPr b="0" lang="en-US" sz="1940" spc="-9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 HUD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required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, unless project  converts to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 exempt.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60120" y="891720"/>
            <a:ext cx="948960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270648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Procedural Requirement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for 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E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8080" y="655920"/>
            <a:ext cx="108788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253332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nvironmental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Assessments</a:t>
            </a:r>
            <a:r>
              <a:rPr b="1" lang="en-US" sz="4400" spc="-15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(EA) 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[§58.36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3" name="object 3"/>
          <p:cNvSpPr/>
          <p:nvPr/>
        </p:nvSpPr>
        <p:spPr>
          <a:xfrm>
            <a:off x="1392480" y="2397240"/>
            <a:ext cx="52408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414720" indent="-40356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If a project is not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xempt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or  categorically excluded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as 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described above, then an </a:t>
            </a:r>
            <a:r>
              <a:rPr b="0" lang="en-US" sz="212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120" spc="-4" strike="noStrike">
                <a:solidFill>
                  <a:srgbClr val="c00000"/>
                </a:solidFill>
                <a:latin typeface="Times New Roman"/>
              </a:rPr>
              <a:t>Environmental Assessment </a:t>
            </a:r>
            <a:r>
              <a:rPr b="1" lang="en-US" sz="2120" spc="-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(EA) </a:t>
            </a:r>
            <a:r>
              <a:rPr b="0" lang="en-US" sz="2120" spc="-9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be prepared.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xample:  New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construction of a public  </a:t>
            </a:r>
            <a:r>
              <a:rPr b="0" lang="en-US" sz="2120" spc="-18" strike="noStrike">
                <a:solidFill>
                  <a:srgbClr val="000000"/>
                </a:solidFill>
                <a:latin typeface="Times New Roman"/>
              </a:rPr>
              <a:t>facility.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01600">
              <a:lnSpc>
                <a:spcPct val="100000"/>
              </a:lnSpc>
              <a:spcBef>
                <a:spcPts val="544"/>
              </a:spcBef>
              <a:buClr>
                <a:srgbClr val="000000"/>
              </a:buClr>
              <a:buFont typeface="Calibri"/>
              <a:buChar char="–"/>
              <a:tabLst>
                <a:tab algn="l" pos="616320"/>
              </a:tabLst>
            </a:pP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Determination must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made in 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writing and th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documentation</a:t>
            </a:r>
            <a:r>
              <a:rPr b="0" lang="en-US" sz="177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must 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maintained in the</a:t>
            </a:r>
            <a:r>
              <a:rPr b="0" lang="en-US" sz="177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ERR.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0160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Calibri"/>
              <a:buChar char="–"/>
              <a:tabLst>
                <a:tab algn="l" pos="616320"/>
              </a:tabLst>
            </a:pP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Complianc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with §58.6</a:t>
            </a:r>
            <a:r>
              <a:rPr b="0" lang="en-US" sz="177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1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0160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Calibri"/>
              <a:buChar char="–"/>
              <a:tabLst>
                <a:tab algn="l" pos="616320"/>
              </a:tabLst>
            </a:pPr>
            <a:r>
              <a:rPr b="0" lang="en-US" sz="1770" spc="-4" strike="noStrike">
                <a:solidFill>
                  <a:srgbClr val="000000"/>
                </a:solidFill>
                <a:latin typeface="Times New Roman"/>
              </a:rPr>
              <a:t>Compliance </a:t>
            </a:r>
            <a:r>
              <a:rPr b="0" lang="en-US" sz="1770" spc="-1" strike="noStrike">
                <a:solidFill>
                  <a:srgbClr val="000000"/>
                </a:solidFill>
                <a:latin typeface="Times New Roman"/>
              </a:rPr>
              <a:t>§58.5</a:t>
            </a:r>
            <a:r>
              <a:rPr b="0" lang="en-US" sz="177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70" spc="-1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ject 4"/>
          <p:cNvSpPr/>
          <p:nvPr/>
        </p:nvSpPr>
        <p:spPr>
          <a:xfrm>
            <a:off x="6633720" y="2017080"/>
            <a:ext cx="3395160" cy="339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8600" y="442440"/>
            <a:ext cx="615348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0" lang="en-US" sz="3200" spc="-9" strike="noStrike">
                <a:solidFill>
                  <a:srgbClr val="262626"/>
                </a:solidFill>
                <a:latin typeface="Garamond"/>
              </a:rPr>
              <a:t>Procedural Requirements </a:t>
            </a:r>
            <a:r>
              <a:rPr b="0" lang="en-US" sz="3200" spc="-1" strike="noStrike">
                <a:solidFill>
                  <a:srgbClr val="262626"/>
                </a:solidFill>
                <a:latin typeface="Garamond"/>
              </a:rPr>
              <a:t>for</a:t>
            </a:r>
            <a:r>
              <a:rPr b="0" lang="en-US" sz="3200" spc="-12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3200" spc="-4" strike="noStrike">
                <a:solidFill>
                  <a:srgbClr val="262626"/>
                </a:solidFill>
                <a:latin typeface="Garamond"/>
              </a:rPr>
              <a:t>E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6" name="object 3"/>
          <p:cNvSpPr/>
          <p:nvPr/>
        </p:nvSpPr>
        <p:spPr>
          <a:xfrm>
            <a:off x="1438560" y="1777320"/>
            <a:ext cx="35215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263880" indent="-252720">
              <a:lnSpc>
                <a:spcPct val="100000"/>
              </a:lnSpc>
              <a:spcBef>
                <a:spcPts val="85"/>
              </a:spcBef>
              <a:buClr>
                <a:srgbClr val="000000"/>
              </a:buClr>
              <a:buFont typeface="Arial"/>
              <a:buChar char="•"/>
              <a:tabLst>
                <a:tab algn="l" pos="263880"/>
                <a:tab algn="l" pos="26460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mple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1940" spc="-13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hecklist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 required: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302400">
              <a:lnSpc>
                <a:spcPct val="100000"/>
              </a:lnSpc>
              <a:spcBef>
                <a:spcPts val="544"/>
              </a:spcBef>
              <a:buClr>
                <a:srgbClr val="000000"/>
              </a:buClr>
              <a:buFont typeface="StarSymbol"/>
              <a:buChar char="—"/>
              <a:tabLst>
                <a:tab algn="l" pos="717120"/>
              </a:tabLst>
            </a:pPr>
            <a:r>
              <a:rPr b="0" lang="en-US" sz="1590" spc="-4" strike="noStrike">
                <a:solidFill>
                  <a:srgbClr val="000000"/>
                </a:solidFill>
                <a:latin typeface="Times New Roman"/>
              </a:rPr>
              <a:t>Make </a:t>
            </a:r>
            <a:r>
              <a:rPr b="0" lang="en-US" sz="159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59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90" spc="-4" strike="noStrike">
                <a:solidFill>
                  <a:srgbClr val="000000"/>
                </a:solidFill>
                <a:latin typeface="Times New Roman"/>
              </a:rPr>
              <a:t>Finding:</a:t>
            </a:r>
            <a:endParaRPr b="0" lang="en-US" sz="159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30240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19960"/>
                <a:tab algn="l" pos="1120680"/>
              </a:tabLst>
            </a:pP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lang="en-US" sz="1410" spc="-4" strike="noStrike">
                <a:solidFill>
                  <a:srgbClr val="000000"/>
                </a:solidFill>
                <a:latin typeface="Times New Roman"/>
              </a:rPr>
              <a:t>of No 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Significant</a:t>
            </a:r>
            <a:r>
              <a:rPr b="0" lang="en-US" sz="1410" spc="-4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9" strike="noStrike">
                <a:solidFill>
                  <a:srgbClr val="000000"/>
                </a:solidFill>
                <a:latin typeface="Times New Roman"/>
              </a:rPr>
              <a:t>Impact  </a:t>
            </a:r>
            <a:r>
              <a:rPr b="0" lang="en-US" sz="1410" spc="-4" strike="noStrike">
                <a:solidFill>
                  <a:srgbClr val="000000"/>
                </a:solidFill>
                <a:latin typeface="Times New Roman"/>
              </a:rPr>
              <a:t>(FONSI):</a:t>
            </a:r>
            <a:r>
              <a:rPr b="0" lang="en-US" sz="1410" spc="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1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or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30240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119960"/>
                <a:tab algn="l" pos="1120680"/>
              </a:tabLst>
            </a:pPr>
            <a:r>
              <a:rPr b="0" lang="en-US" sz="1410" spc="-4" strike="noStrike">
                <a:solidFill>
                  <a:srgbClr val="000000"/>
                </a:solidFill>
                <a:latin typeface="Times New Roman"/>
              </a:rPr>
              <a:t>Conclusion that an  Environmental </a:t>
            </a:r>
            <a:r>
              <a:rPr b="0" lang="en-US" sz="1410" spc="-9" strike="noStrike">
                <a:solidFill>
                  <a:srgbClr val="000000"/>
                </a:solidFill>
                <a:latin typeface="Times New Roman"/>
              </a:rPr>
              <a:t>Impact </a:t>
            </a:r>
            <a:r>
              <a:rPr b="0" lang="en-US" sz="1410" spc="-4" strike="noStrike">
                <a:solidFill>
                  <a:srgbClr val="000000"/>
                </a:solidFill>
                <a:latin typeface="Times New Roman"/>
              </a:rPr>
              <a:t>Statement  </a:t>
            </a:r>
            <a:r>
              <a:rPr b="0" lang="en-US" sz="1410" spc="-9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141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1410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10" spc="-4" strike="noStrike">
                <a:solidFill>
                  <a:srgbClr val="000000"/>
                </a:solidFill>
                <a:latin typeface="Times New Roman"/>
              </a:rPr>
              <a:t>prepared</a:t>
            </a:r>
            <a:endParaRPr b="0" lang="en-US" sz="1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bject 4"/>
          <p:cNvSpPr/>
          <p:nvPr/>
        </p:nvSpPr>
        <p:spPr>
          <a:xfrm>
            <a:off x="2503800" y="4014720"/>
            <a:ext cx="3168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263880" indent="-252720">
              <a:lnSpc>
                <a:spcPct val="100000"/>
              </a:lnSpc>
              <a:spcBef>
                <a:spcPts val="85"/>
              </a:spcBef>
              <a:buClr>
                <a:srgbClr val="000000"/>
              </a:buClr>
              <a:buFont typeface="Arial"/>
              <a:buChar char="•"/>
              <a:tabLst>
                <a:tab algn="l" pos="263880"/>
                <a:tab algn="l" pos="26460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ublicat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194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NOI/RROF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 required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Arial"/>
              <a:buChar char="•"/>
              <a:tabLst>
                <a:tab algn="l" pos="263880"/>
                <a:tab algn="l" pos="264600"/>
                <a:tab algn="l" pos="17791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940" spc="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FONSI</a:t>
            </a:r>
            <a:r>
              <a:rPr b="0" lang="en-US" sz="1940" spc="-5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notice </a:t>
            </a:r>
            <a:r>
              <a:rPr b="0" lang="en-US" sz="194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530"/>
              </a:spcBef>
              <a:buClr>
                <a:srgbClr val="000000"/>
              </a:buClr>
              <a:buFont typeface="Arial"/>
              <a:buChar char="•"/>
              <a:tabLst>
                <a:tab algn="l" pos="263880"/>
                <a:tab algn="l" pos="264600"/>
                <a:tab algn="l" pos="13852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Submission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 certified  RROF&amp;</a:t>
            </a:r>
            <a:r>
              <a:rPr b="0" lang="en-US" sz="1940" spc="-4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1940" spc="-4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d evidence</a:t>
            </a:r>
            <a:r>
              <a:rPr b="0" lang="en-US" sz="1940" spc="-5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notices to HUD </a:t>
            </a:r>
            <a:r>
              <a:rPr b="0" lang="en-US" sz="1940" spc="-4" strike="noStrike">
                <a:solidFill>
                  <a:srgbClr val="c00000"/>
                </a:solidFill>
                <a:latin typeface="Times New Roman"/>
              </a:rPr>
              <a:t>required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bject 5"/>
          <p:cNvSpPr/>
          <p:nvPr/>
        </p:nvSpPr>
        <p:spPr>
          <a:xfrm>
            <a:off x="6132240" y="2384280"/>
            <a:ext cx="3908520" cy="2600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9" name="object 6"/>
          <p:cNvSpPr/>
          <p:nvPr/>
        </p:nvSpPr>
        <p:spPr>
          <a:xfrm>
            <a:off x="9511200" y="6084360"/>
            <a:ext cx="14580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888888"/>
                </a:solidFill>
                <a:latin typeface="Times New Roman"/>
              </a:rPr>
              <a:t>19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66640" y="897840"/>
            <a:ext cx="885996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urpose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nvironmental</a:t>
            </a:r>
            <a:r>
              <a:rPr b="1" lang="en-US" sz="4400" spc="2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Reviews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23880" y="2658960"/>
            <a:ext cx="847116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109800" bIns="0" anchor="t">
            <a:noAutofit/>
          </a:bodyPr>
          <a:p>
            <a:pPr marL="534600" indent="-504360">
              <a:lnSpc>
                <a:spcPct val="80000"/>
              </a:lnSpc>
              <a:spcBef>
                <a:spcPts val="865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534600"/>
                <a:tab algn="l" pos="534960"/>
              </a:tabLst>
            </a:pPr>
            <a:r>
              <a:rPr b="0" lang="en-US" sz="2400" spc="-126" strike="noStrike">
                <a:solidFill>
                  <a:srgbClr val="262626"/>
                </a:solidFill>
                <a:latin typeface="Garamond"/>
              </a:rPr>
              <a:t>To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protect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the Environment and  Public Health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1038960" indent="-201600">
              <a:lnSpc>
                <a:spcPts val="3132"/>
              </a:lnSpc>
              <a:spcBef>
                <a:spcPts val="7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534600"/>
                <a:tab algn="l" pos="534960"/>
              </a:tabLst>
            </a:pPr>
            <a:r>
              <a:rPr b="0" lang="en-US" sz="2400" spc="-18" strike="noStrike">
                <a:solidFill>
                  <a:srgbClr val="262626"/>
                </a:solidFill>
                <a:latin typeface="Calibri"/>
              </a:rPr>
              <a:t>–</a:t>
            </a:r>
            <a:r>
              <a:rPr b="0" i="1" lang="en-US" sz="2400" spc="-18" strike="noStrike">
                <a:solidFill>
                  <a:srgbClr val="262626"/>
                </a:solidFill>
                <a:latin typeface="Times New Roman"/>
              </a:rPr>
              <a:t>Endangered </a:t>
            </a: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species, </a:t>
            </a:r>
            <a:r>
              <a:rPr b="0" i="1" lang="en-US" sz="2400" spc="-4" strike="noStrike">
                <a:solidFill>
                  <a:srgbClr val="262626"/>
                </a:solidFill>
                <a:latin typeface="Times New Roman"/>
              </a:rPr>
              <a:t>wetlands,  </a:t>
            </a: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historic </a:t>
            </a:r>
            <a:r>
              <a:rPr b="0" i="1" lang="en-US" sz="2400" spc="-15" strike="noStrike">
                <a:solidFill>
                  <a:srgbClr val="262626"/>
                </a:solidFill>
                <a:latin typeface="Times New Roman"/>
              </a:rPr>
              <a:t>properties, </a:t>
            </a:r>
            <a:r>
              <a:rPr b="0" i="1" lang="en-US" sz="2400" spc="-4" strike="noStrike">
                <a:solidFill>
                  <a:srgbClr val="262626"/>
                </a:solidFill>
                <a:latin typeface="Times New Roman"/>
              </a:rPr>
              <a:t>air and</a:t>
            </a:r>
            <a:r>
              <a:rPr b="0" i="1" lang="en-US" sz="2400" spc="-80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i="1" lang="en-US" sz="2400" spc="-4" strike="noStrike">
                <a:solidFill>
                  <a:srgbClr val="262626"/>
                </a:solidFill>
                <a:latin typeface="Times New Roman"/>
              </a:rPr>
              <a:t>water  quality….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534600" indent="-504360">
              <a:lnSpc>
                <a:spcPct val="100000"/>
              </a:lnSpc>
              <a:spcBef>
                <a:spcPts val="3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534600"/>
                <a:tab algn="l" pos="534960"/>
              </a:tabLst>
            </a:pPr>
            <a:r>
              <a:rPr b="0" lang="en-US" sz="2400" spc="-126" strike="noStrike">
                <a:solidFill>
                  <a:srgbClr val="262626"/>
                </a:solidFill>
                <a:latin typeface="Garamond"/>
              </a:rPr>
              <a:t>To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protect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the Federal</a:t>
            </a:r>
            <a:r>
              <a:rPr b="0" lang="en-US" sz="2400" spc="109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Investmen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1038960" indent="-201600">
              <a:lnSpc>
                <a:spcPts val="3132"/>
              </a:lnSpc>
              <a:spcBef>
                <a:spcPts val="7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534600"/>
                <a:tab algn="l" pos="534960"/>
              </a:tabLst>
            </a:pPr>
            <a:r>
              <a:rPr b="0" lang="en-US" sz="2400" spc="-55" strike="noStrike">
                <a:solidFill>
                  <a:srgbClr val="262626"/>
                </a:solidFill>
                <a:latin typeface="Calibri"/>
              </a:rPr>
              <a:t>–</a:t>
            </a:r>
            <a:r>
              <a:rPr b="0" i="1" lang="en-US" sz="2400" spc="-55" strike="noStrike">
                <a:solidFill>
                  <a:srgbClr val="262626"/>
                </a:solidFill>
                <a:latin typeface="Times New Roman"/>
              </a:rPr>
              <a:t>Toxic </a:t>
            </a:r>
            <a:r>
              <a:rPr b="0" i="1" lang="en-US" sz="2400" spc="-4" strike="noStrike">
                <a:solidFill>
                  <a:srgbClr val="262626"/>
                </a:solidFill>
                <a:latin typeface="Times New Roman"/>
              </a:rPr>
              <a:t>contamination, </a:t>
            </a: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explosive  operations, </a:t>
            </a:r>
            <a:r>
              <a:rPr b="0" i="1" lang="en-US" sz="2400" spc="-4" strike="noStrike">
                <a:solidFill>
                  <a:srgbClr val="262626"/>
                </a:solidFill>
                <a:latin typeface="Times New Roman"/>
              </a:rPr>
              <a:t>noise impacts,</a:t>
            </a:r>
            <a:r>
              <a:rPr b="0" i="1" lang="en-US" sz="2400" spc="-66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i="1" lang="en-US" sz="2400" spc="-4" strike="noStrike">
                <a:solidFill>
                  <a:srgbClr val="262626"/>
                </a:solidFill>
                <a:latin typeface="Times New Roman"/>
              </a:rPr>
              <a:t>floods,  airport</a:t>
            </a:r>
            <a:r>
              <a:rPr b="0" i="1" lang="en-US" sz="2400" spc="-9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i="1" lang="en-US" sz="2400" spc="-18" strike="noStrike">
                <a:solidFill>
                  <a:srgbClr val="262626"/>
                </a:solidFill>
                <a:latin typeface="Times New Roman"/>
              </a:rPr>
              <a:t>hazards….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07400" y="870480"/>
            <a:ext cx="724284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An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EIS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is </a:t>
            </a:r>
            <a:r>
              <a:rPr b="1" lang="en-US" sz="4400" spc="-15" strike="noStrike">
                <a:solidFill>
                  <a:srgbClr val="262626"/>
                </a:solidFill>
                <a:latin typeface="Garamond"/>
              </a:rPr>
              <a:t>Required</a:t>
            </a:r>
            <a:r>
              <a:rPr b="1" lang="en-US" sz="4400" spc="-63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When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1" name="object 3"/>
          <p:cNvSpPr/>
          <p:nvPr/>
        </p:nvSpPr>
        <p:spPr>
          <a:xfrm>
            <a:off x="2504880" y="2571120"/>
            <a:ext cx="71820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960" indent="-1008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428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 project has a significant impact on the</a:t>
            </a:r>
            <a:r>
              <a:rPr b="0" lang="en-US" sz="2830" spc="-27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1" strike="noStrike">
                <a:solidFill>
                  <a:srgbClr val="000000"/>
                </a:solidFill>
                <a:latin typeface="Times New Roman"/>
              </a:rPr>
              <a:t>human 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environment as judged</a:t>
            </a:r>
            <a:r>
              <a:rPr b="0" lang="en-US" sz="2830" spc="-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by: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212760">
              <a:lnSpc>
                <a:spcPct val="100000"/>
              </a:lnSpc>
              <a:spcBef>
                <a:spcPts val="264"/>
              </a:spcBef>
              <a:tabLst>
                <a:tab algn="l" pos="313200"/>
                <a:tab algn="l" pos="314280"/>
              </a:tabLst>
            </a:pPr>
            <a:r>
              <a:rPr b="0" lang="en-US" sz="2830" spc="-89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0" lang="en-US" sz="2830" spc="-89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marL="212760">
              <a:lnSpc>
                <a:spcPct val="100000"/>
              </a:lnSpc>
              <a:spcBef>
                <a:spcPts val="264"/>
              </a:spcBef>
              <a:tabLst>
                <a:tab algn="l" pos="313200"/>
                <a:tab algn="l" pos="314280"/>
              </a:tabLst>
            </a:pPr>
            <a:r>
              <a:rPr b="0" lang="en-US" sz="2830" spc="-72" strike="noStrike">
                <a:solidFill>
                  <a:srgbClr val="000000"/>
                </a:solidFill>
                <a:latin typeface="Times New Roman"/>
              </a:rPr>
              <a:t>─</a:t>
            </a:r>
            <a:r>
              <a:rPr b="0" lang="en-US" sz="2830" spc="-72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9"/>
              </a:spcBef>
              <a:tabLst>
                <a:tab algn="l" pos="313200"/>
                <a:tab algn="l" pos="31428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"/>
              </a:spcBef>
              <a:tabLst>
                <a:tab algn="l" pos="313200"/>
                <a:tab algn="l" pos="314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428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A project exceeds </a:t>
            </a:r>
            <a:r>
              <a:rPr b="0" lang="en-US" sz="2830" spc="-32" strike="noStrike">
                <a:solidFill>
                  <a:srgbClr val="000000"/>
                </a:solidFill>
                <a:latin typeface="Times New Roman"/>
              </a:rPr>
              <a:t>HUD’s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thresholds for an</a:t>
            </a:r>
            <a:r>
              <a:rPr b="0" lang="en-US" sz="2830" spc="-29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bject 2"/>
          <p:cNvSpPr/>
          <p:nvPr/>
        </p:nvSpPr>
        <p:spPr>
          <a:xfrm>
            <a:off x="2536200" y="1488600"/>
            <a:ext cx="407844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t">
            <a:spAutoFit/>
          </a:bodyPr>
          <a:p>
            <a:pPr marL="313920" indent="-302400">
              <a:lnSpc>
                <a:spcPts val="1437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 project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is determined to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potentially  significant impact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uman</a:t>
            </a:r>
            <a:r>
              <a:rPr b="0" lang="en-US" sz="150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3920">
              <a:lnSpc>
                <a:spcPts val="1128"/>
              </a:lnSpc>
              <a:tabLst>
                <a:tab algn="l" pos="313200"/>
                <a:tab algn="l" pos="313920"/>
              </a:tabLst>
            </a:pPr>
            <a:r>
              <a:rPr b="0" lang="en-US" sz="1150" spc="-4" strike="noStrike">
                <a:solidFill>
                  <a:srgbClr val="000000"/>
                </a:solidFill>
                <a:latin typeface="Times New Roman"/>
              </a:rPr>
              <a:t>[Section</a:t>
            </a:r>
            <a:r>
              <a:rPr b="0" lang="en-US" sz="115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50" spc="-4" strike="noStrike">
                <a:solidFill>
                  <a:srgbClr val="000000"/>
                </a:solidFill>
                <a:latin typeface="Times New Roman"/>
              </a:rPr>
              <a:t>58.37(a)]</a:t>
            </a:r>
            <a:endParaRPr b="0" lang="en-US" sz="1150" spc="-1" strike="noStrike">
              <a:solidFill>
                <a:srgbClr val="000000"/>
              </a:solidFill>
              <a:latin typeface="Arial"/>
            </a:endParaRPr>
          </a:p>
          <a:p>
            <a:pPr marL="414720">
              <a:lnSpc>
                <a:spcPts val="1372"/>
              </a:lnSpc>
              <a:spcBef>
                <a:spcPts val="400"/>
              </a:spcBef>
              <a:tabLst>
                <a:tab algn="l" pos="666720"/>
              </a:tabLst>
            </a:pPr>
            <a:r>
              <a:rPr b="0" lang="en-US" sz="1240" spc="-36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40" spc="-36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Factors for Making Significance Determination</a:t>
            </a:r>
            <a:r>
              <a:rPr b="0" lang="en-US" sz="1240" spc="-14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667440">
              <a:lnSpc>
                <a:spcPts val="1054"/>
              </a:lnSpc>
              <a:tabLst>
                <a:tab algn="l" pos="666720"/>
              </a:tabLst>
            </a:pPr>
            <a:r>
              <a:rPr b="0" lang="en-US" sz="97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970" spc="-4" strike="noStrike">
                <a:solidFill>
                  <a:srgbClr val="000000"/>
                </a:solidFill>
                <a:latin typeface="Times New Roman"/>
              </a:rPr>
              <a:t>CFR </a:t>
            </a:r>
            <a:r>
              <a:rPr b="0" lang="en-US" sz="97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US" sz="970" spc="-2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70" spc="-1" strike="noStrike">
                <a:solidFill>
                  <a:srgbClr val="000000"/>
                </a:solidFill>
                <a:latin typeface="Times New Roman"/>
              </a:rPr>
              <a:t>1508.27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 project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involves </a:t>
            </a:r>
            <a:r>
              <a:rPr b="0" lang="en-US" sz="1150" spc="-4" strike="noStrike">
                <a:solidFill>
                  <a:srgbClr val="000000"/>
                </a:solidFill>
                <a:latin typeface="Times New Roman"/>
              </a:rPr>
              <a:t>[Section</a:t>
            </a:r>
            <a:r>
              <a:rPr b="0" lang="en-US" sz="1150" spc="-10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50" spc="-4" strike="noStrike">
                <a:solidFill>
                  <a:srgbClr val="000000"/>
                </a:solidFill>
                <a:latin typeface="Times New Roman"/>
              </a:rPr>
              <a:t>58.37(b)]:</a:t>
            </a:r>
            <a:endParaRPr b="0" lang="en-US" sz="1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bject 3"/>
          <p:cNvSpPr/>
          <p:nvPr/>
        </p:nvSpPr>
        <p:spPr>
          <a:xfrm>
            <a:off x="2939400" y="2826360"/>
            <a:ext cx="369144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263880" indent="-252720">
              <a:lnSpc>
                <a:spcPts val="1332"/>
              </a:lnSpc>
              <a:spcBef>
                <a:spcPts val="88"/>
              </a:spcBef>
              <a:buClr>
                <a:srgbClr val="000000"/>
              </a:buClr>
              <a:buFont typeface="StarSymbol"/>
              <a:buChar char="—"/>
              <a:tabLst>
                <a:tab algn="l" pos="263520"/>
                <a:tab algn="l" pos="263880"/>
              </a:tabLst>
            </a:pP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Construction of hospitals or nursing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homes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1240" spc="-11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263880">
              <a:lnSpc>
                <a:spcPts val="1332"/>
              </a:lnSpc>
              <a:tabLst>
                <a:tab algn="l" pos="263520"/>
                <a:tab algn="l" pos="263880"/>
              </a:tabLst>
            </a:pP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0" lang="en-US" sz="124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bed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ts val="1332"/>
              </a:lnSpc>
              <a:spcBef>
                <a:spcPts val="405"/>
              </a:spcBef>
              <a:buClr>
                <a:srgbClr val="000000"/>
              </a:buClr>
              <a:buFont typeface="StarSymbol"/>
              <a:buChar char="—"/>
              <a:tabLst>
                <a:tab algn="l" pos="263520"/>
                <a:tab algn="l" pos="263880"/>
              </a:tabLst>
            </a:pP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Removal, demolition, conversion or</a:t>
            </a:r>
            <a:r>
              <a:rPr b="0" lang="en-US" sz="1240" spc="-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substantial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263880">
              <a:lnSpc>
                <a:spcPts val="1332"/>
              </a:lnSpc>
              <a:tabLst>
                <a:tab algn="l" pos="263520"/>
                <a:tab algn="l" pos="263880"/>
              </a:tabLst>
            </a:pP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rehabilitation of 2,500 or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r>
              <a:rPr b="0" lang="en-US" sz="124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411"/>
              </a:spcBef>
              <a:buClr>
                <a:srgbClr val="000000"/>
              </a:buClr>
              <a:buFont typeface="StarSymbol"/>
              <a:buChar char="—"/>
              <a:tabLst>
                <a:tab algn="l" pos="263520"/>
                <a:tab algn="l" pos="263880"/>
              </a:tabLst>
            </a:pP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Construction of 2,500 or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r>
              <a:rPr b="0" lang="en-US" sz="1240" spc="-10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ts val="1332"/>
              </a:lnSpc>
              <a:spcBef>
                <a:spcPts val="414"/>
              </a:spcBef>
              <a:buClr>
                <a:srgbClr val="000000"/>
              </a:buClr>
              <a:buFont typeface="StarSymbol"/>
              <a:buChar char="—"/>
              <a:tabLst>
                <a:tab algn="l" pos="263520"/>
                <a:tab algn="l" pos="263880"/>
              </a:tabLst>
            </a:pP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Project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that would provide the site for 2,500 or</a:t>
            </a:r>
            <a:r>
              <a:rPr b="0" lang="en-US" sz="1240" spc="-1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263880">
              <a:lnSpc>
                <a:spcPts val="1332"/>
              </a:lnSpc>
              <a:tabLst>
                <a:tab algn="l" pos="263520"/>
                <a:tab algn="l" pos="263880"/>
              </a:tabLst>
            </a:pP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r>
              <a:rPr b="0" lang="en-US" sz="124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ts val="1182"/>
              </a:lnSpc>
              <a:spcBef>
                <a:spcPts val="692"/>
              </a:spcBef>
              <a:buClr>
                <a:srgbClr val="000000"/>
              </a:buClr>
              <a:buFont typeface="StarSymbol"/>
              <a:buChar char="—"/>
              <a:tabLst>
                <a:tab algn="l" pos="263520"/>
                <a:tab algn="l" pos="263880"/>
              </a:tabLst>
            </a:pP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Project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that would provide enough additional water</a:t>
            </a:r>
            <a:r>
              <a:rPr b="0" lang="en-US" sz="1240" spc="-12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or  sewer capacity to support 2,500 or </a:t>
            </a:r>
            <a:r>
              <a:rPr b="0" lang="en-US" sz="1240" spc="-4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1240" spc="-1" strike="noStrike">
                <a:solidFill>
                  <a:srgbClr val="000000"/>
                </a:solidFill>
                <a:latin typeface="Times New Roman"/>
              </a:rPr>
              <a:t>additional  housing</a:t>
            </a:r>
            <a:r>
              <a:rPr b="0" lang="en-US" sz="124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40" spc="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bject 4"/>
          <p:cNvSpPr/>
          <p:nvPr/>
        </p:nvSpPr>
        <p:spPr>
          <a:xfrm>
            <a:off x="2536200" y="4770720"/>
            <a:ext cx="392184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t">
            <a:spAutoFit/>
          </a:bodyPr>
          <a:p>
            <a:pPr marL="313920" indent="-302400">
              <a:lnSpc>
                <a:spcPct val="80000"/>
              </a:lnSpc>
              <a:spcBef>
                <a:spcPts val="448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 project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with noise sensitive uses is located</a:t>
            </a:r>
            <a:r>
              <a:rPr b="0" lang="en-US" sz="1500" spc="-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in  th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nacceptable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noise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ge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[24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FR Part  51.105(b)(2)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80000"/>
              </a:lnSpc>
              <a:spcBef>
                <a:spcPts val="709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After EIS is completed,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lang="en-US" sz="1500" spc="-4" strike="noStrike">
                <a:solidFill>
                  <a:srgbClr val="000000"/>
                </a:solidFill>
                <a:latin typeface="Times New Roman"/>
              </a:rPr>
              <a:t>must submit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  RROF&amp;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ject 5"/>
          <p:cNvSpPr/>
          <p:nvPr/>
        </p:nvSpPr>
        <p:spPr>
          <a:xfrm>
            <a:off x="6718680" y="1846440"/>
            <a:ext cx="3334680" cy="185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36200" y="340560"/>
            <a:ext cx="67226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0" lang="en-US" sz="4400" spc="-9" strike="noStrike">
                <a:solidFill>
                  <a:srgbClr val="262626"/>
                </a:solidFill>
                <a:latin typeface="Garamond"/>
              </a:rPr>
              <a:t>An </a:t>
            </a:r>
            <a:r>
              <a:rPr b="0" lang="en-US" sz="4400" spc="-4" strike="noStrike">
                <a:solidFill>
                  <a:srgbClr val="262626"/>
                </a:solidFill>
                <a:latin typeface="Garamond"/>
              </a:rPr>
              <a:t>EIS </a:t>
            </a:r>
            <a:r>
              <a:rPr b="0" lang="en-US" sz="4400" spc="-1" strike="noStrike">
                <a:solidFill>
                  <a:srgbClr val="262626"/>
                </a:solidFill>
                <a:latin typeface="Garamond"/>
              </a:rPr>
              <a:t>is </a:t>
            </a:r>
            <a:r>
              <a:rPr b="0" lang="en-US" sz="4400" spc="-15" strike="noStrike">
                <a:solidFill>
                  <a:srgbClr val="262626"/>
                </a:solidFill>
                <a:latin typeface="Garamond"/>
              </a:rPr>
              <a:t>Required</a:t>
            </a:r>
            <a:r>
              <a:rPr b="0" lang="en-US" sz="4400" spc="-63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4400" spc="-4" strike="noStrike">
                <a:solidFill>
                  <a:srgbClr val="262626"/>
                </a:solidFill>
                <a:latin typeface="Garamond"/>
              </a:rPr>
              <a:t>When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7" name="object 7"/>
          <p:cNvSpPr/>
          <p:nvPr/>
        </p:nvSpPr>
        <p:spPr>
          <a:xfrm>
            <a:off x="7242480" y="4311000"/>
            <a:ext cx="249804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1" i="1" lang="en-US" sz="2120" spc="-4" strike="noStrike">
                <a:solidFill>
                  <a:srgbClr val="000000"/>
                </a:solidFill>
                <a:latin typeface="Times New Roman"/>
              </a:rPr>
              <a:t>Contact </a:t>
            </a:r>
            <a:r>
              <a:rPr b="1" i="1" lang="en-US" sz="2120" spc="-49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1" i="1" lang="en-US" sz="2120" spc="-4" strike="noStrike">
                <a:solidFill>
                  <a:srgbClr val="000000"/>
                </a:solidFill>
                <a:latin typeface="Times New Roman"/>
              </a:rPr>
              <a:t>HUD  </a:t>
            </a:r>
            <a:r>
              <a:rPr b="1" i="1" lang="en-US" sz="2120" spc="-1" strike="noStrike">
                <a:solidFill>
                  <a:srgbClr val="000000"/>
                </a:solidFill>
                <a:latin typeface="Times New Roman"/>
              </a:rPr>
              <a:t>Field Environmental  </a:t>
            </a:r>
            <a:r>
              <a:rPr b="1" i="1" lang="en-US" sz="2120" spc="-4" strike="noStrike">
                <a:solidFill>
                  <a:srgbClr val="000000"/>
                </a:solidFill>
                <a:latin typeface="Times New Roman"/>
              </a:rPr>
              <a:t>Officer </a:t>
            </a:r>
            <a:r>
              <a:rPr b="1" i="1" lang="en-US" sz="212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120" spc="-49" strike="noStrike">
                <a:solidFill>
                  <a:srgbClr val="000000"/>
                </a:solidFill>
                <a:latin typeface="Times New Roman"/>
              </a:rPr>
              <a:t>Your</a:t>
            </a:r>
            <a:r>
              <a:rPr b="1" i="1" lang="en-US" sz="2120" spc="-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120" spc="-1" strike="noStrike">
                <a:solidFill>
                  <a:srgbClr val="000000"/>
                </a:solidFill>
                <a:latin typeface="Times New Roman"/>
              </a:rPr>
              <a:t>Project  </a:t>
            </a:r>
            <a:r>
              <a:rPr b="1" i="1" lang="en-US" sz="2120" spc="-4" strike="noStrike">
                <a:solidFill>
                  <a:srgbClr val="000000"/>
                </a:solidFill>
                <a:latin typeface="Times New Roman"/>
              </a:rPr>
              <a:t>Requires an EIS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97080" y="434160"/>
            <a:ext cx="8143200" cy="11563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12240"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890" spc="-1" strike="noStrike">
                <a:solidFill>
                  <a:srgbClr val="000000"/>
                </a:solidFill>
                <a:latin typeface="Times New Roman"/>
              </a:rPr>
              <a:t>Summary: Levels of</a:t>
            </a:r>
            <a:r>
              <a:rPr b="1" lang="en-US" sz="3890" spc="-8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9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38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object 3"/>
          <p:cNvSpPr/>
          <p:nvPr/>
        </p:nvSpPr>
        <p:spPr>
          <a:xfrm>
            <a:off x="8010720" y="470016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70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4383">
            <a:solidFill>
              <a:srgbClr val="8063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0" name="object 4"/>
          <p:cNvSpPr/>
          <p:nvPr/>
        </p:nvSpPr>
        <p:spPr>
          <a:xfrm>
            <a:off x="8010720" y="360144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70">
                <a:moveTo>
                  <a:pt x="0" y="0"/>
                </a:moveTo>
                <a:lnTo>
                  <a:pt x="0" y="280415"/>
                </a:lnTo>
              </a:path>
            </a:pathLst>
          </a:custGeom>
          <a:noFill/>
          <a:ln w="24383">
            <a:solidFill>
              <a:srgbClr val="8063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1" name="object 5"/>
          <p:cNvSpPr/>
          <p:nvPr/>
        </p:nvSpPr>
        <p:spPr>
          <a:xfrm>
            <a:off x="8010720" y="281448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70">
                <a:moveTo>
                  <a:pt x="0" y="0"/>
                </a:moveTo>
                <a:lnTo>
                  <a:pt x="0" y="280415"/>
                </a:lnTo>
              </a:path>
            </a:pathLst>
          </a:custGeom>
          <a:noFill/>
          <a:ln w="24383">
            <a:solidFill>
              <a:srgbClr val="9bb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2" name="object 6"/>
          <p:cNvSpPr/>
          <p:nvPr/>
        </p:nvSpPr>
        <p:spPr>
          <a:xfrm>
            <a:off x="8010720" y="2014560"/>
            <a:ext cx="360" cy="248400"/>
          </a:xfrm>
          <a:custGeom>
            <a:avLst/>
            <a:gdLst>
              <a:gd name="textAreaLeft" fmla="*/ 0 w 360"/>
              <a:gd name="textAreaRight" fmla="*/ 720 w 360"/>
              <a:gd name="textAreaTop" fmla="*/ 0 h 248400"/>
              <a:gd name="textAreaBottom" fmla="*/ 248760 h 248400"/>
            </a:gdLst>
            <a:ahLst/>
            <a:rect l="textAreaLeft" t="textAreaTop" r="textAreaRight" b="textAreaBottom"/>
            <a:pathLst>
              <a:path w="0" h="281939">
                <a:moveTo>
                  <a:pt x="0" y="0"/>
                </a:moveTo>
                <a:lnTo>
                  <a:pt x="0" y="281813"/>
                </a:lnTo>
              </a:path>
            </a:pathLst>
          </a:custGeom>
          <a:noFill/>
          <a:ln w="24383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3" name="object 7"/>
          <p:cNvSpPr/>
          <p:nvPr/>
        </p:nvSpPr>
        <p:spPr>
          <a:xfrm>
            <a:off x="6910920" y="5163840"/>
            <a:ext cx="29160" cy="250200"/>
          </a:xfrm>
          <a:custGeom>
            <a:avLst/>
            <a:gdLst>
              <a:gd name="textAreaLeft" fmla="*/ 0 w 29160"/>
              <a:gd name="textAreaRight" fmla="*/ 29520 w 29160"/>
              <a:gd name="textAreaTop" fmla="*/ 0 h 250200"/>
              <a:gd name="textAreaBottom" fmla="*/ 250560 h 250200"/>
            </a:gdLst>
            <a:ahLst/>
            <a:rect l="textAreaLeft" t="textAreaTop" r="textAreaRight" b="textAreaBottom"/>
            <a:pathLst>
              <a:path w="33654" h="283845">
                <a:moveTo>
                  <a:pt x="7619" y="181483"/>
                </a:moveTo>
                <a:lnTo>
                  <a:pt x="6095" y="181483"/>
                </a:lnTo>
                <a:lnTo>
                  <a:pt x="0" y="187579"/>
                </a:lnTo>
                <a:lnTo>
                  <a:pt x="0" y="283464"/>
                </a:lnTo>
                <a:lnTo>
                  <a:pt x="25780" y="283464"/>
                </a:lnTo>
                <a:lnTo>
                  <a:pt x="25780" y="207264"/>
                </a:lnTo>
                <a:lnTo>
                  <a:pt x="12191" y="207264"/>
                </a:lnTo>
                <a:lnTo>
                  <a:pt x="25780" y="195072"/>
                </a:lnTo>
                <a:lnTo>
                  <a:pt x="7619" y="195072"/>
                </a:lnTo>
                <a:lnTo>
                  <a:pt x="7619" y="181483"/>
                </a:lnTo>
                <a:close/>
              </a:path>
              <a:path w="33654" h="283845">
                <a:moveTo>
                  <a:pt x="25780" y="195072"/>
                </a:moveTo>
                <a:lnTo>
                  <a:pt x="12191" y="207264"/>
                </a:lnTo>
                <a:lnTo>
                  <a:pt x="25780" y="207264"/>
                </a:lnTo>
                <a:lnTo>
                  <a:pt x="25780" y="195072"/>
                </a:lnTo>
                <a:close/>
              </a:path>
              <a:path w="33654" h="283845">
                <a:moveTo>
                  <a:pt x="33527" y="181483"/>
                </a:moveTo>
                <a:lnTo>
                  <a:pt x="19684" y="181483"/>
                </a:lnTo>
                <a:lnTo>
                  <a:pt x="7619" y="195072"/>
                </a:lnTo>
                <a:lnTo>
                  <a:pt x="25780" y="195072"/>
                </a:lnTo>
                <a:lnTo>
                  <a:pt x="25780" y="207264"/>
                </a:lnTo>
                <a:lnTo>
                  <a:pt x="27431" y="207264"/>
                </a:lnTo>
                <a:lnTo>
                  <a:pt x="33527" y="201168"/>
                </a:lnTo>
                <a:lnTo>
                  <a:pt x="33527" y="181483"/>
                </a:lnTo>
                <a:close/>
              </a:path>
              <a:path w="33654" h="283845">
                <a:moveTo>
                  <a:pt x="33527" y="0"/>
                </a:moveTo>
                <a:lnTo>
                  <a:pt x="7619" y="0"/>
                </a:lnTo>
                <a:lnTo>
                  <a:pt x="7619" y="195072"/>
                </a:lnTo>
                <a:lnTo>
                  <a:pt x="19684" y="181483"/>
                </a:lnTo>
                <a:lnTo>
                  <a:pt x="33527" y="181483"/>
                </a:lnTo>
                <a:lnTo>
                  <a:pt x="33527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4" name="object 8"/>
          <p:cNvSpPr/>
          <p:nvPr/>
        </p:nvSpPr>
        <p:spPr>
          <a:xfrm>
            <a:off x="6928920" y="4377240"/>
            <a:ext cx="360" cy="246240"/>
          </a:xfrm>
          <a:custGeom>
            <a:avLst/>
            <a:gdLst>
              <a:gd name="textAreaLeft" fmla="*/ 0 w 360"/>
              <a:gd name="textAreaRight" fmla="*/ 720 w 3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0" h="279400">
                <a:moveTo>
                  <a:pt x="0" y="0"/>
                </a:moveTo>
                <a:lnTo>
                  <a:pt x="0" y="278891"/>
                </a:lnTo>
              </a:path>
            </a:pathLst>
          </a:custGeom>
          <a:noFill/>
          <a:ln w="25780">
            <a:solidFill>
              <a:srgbClr val="8063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5" name="object 9"/>
          <p:cNvSpPr/>
          <p:nvPr/>
        </p:nvSpPr>
        <p:spPr>
          <a:xfrm>
            <a:off x="6928920" y="358920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70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5780">
            <a:solidFill>
              <a:srgbClr val="8063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6" name="object 10"/>
          <p:cNvSpPr/>
          <p:nvPr/>
        </p:nvSpPr>
        <p:spPr>
          <a:xfrm>
            <a:off x="6928920" y="280260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70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5780">
            <a:solidFill>
              <a:srgbClr val="9bb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7" name="object 11"/>
          <p:cNvSpPr/>
          <p:nvPr/>
        </p:nvSpPr>
        <p:spPr>
          <a:xfrm>
            <a:off x="6928920" y="201456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69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57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8" name="object 12"/>
          <p:cNvSpPr/>
          <p:nvPr/>
        </p:nvSpPr>
        <p:spPr>
          <a:xfrm>
            <a:off x="5878080" y="3589200"/>
            <a:ext cx="26640" cy="1198080"/>
          </a:xfrm>
          <a:custGeom>
            <a:avLst/>
            <a:gdLst>
              <a:gd name="textAreaLeft" fmla="*/ 0 w 26640"/>
              <a:gd name="textAreaRight" fmla="*/ 27000 w 26640"/>
              <a:gd name="textAreaTop" fmla="*/ 0 h 1198080"/>
              <a:gd name="textAreaBottom" fmla="*/ 1198440 h 1198080"/>
            </a:gdLst>
            <a:ahLst/>
            <a:rect l="textAreaLeft" t="textAreaTop" r="textAreaRight" b="textAreaBottom"/>
            <a:pathLst>
              <a:path w="30479" h="1358264">
                <a:moveTo>
                  <a:pt x="4444" y="1280160"/>
                </a:moveTo>
                <a:lnTo>
                  <a:pt x="4444" y="1358011"/>
                </a:lnTo>
                <a:lnTo>
                  <a:pt x="30352" y="1358011"/>
                </a:lnTo>
                <a:lnTo>
                  <a:pt x="30352" y="1281811"/>
                </a:lnTo>
                <a:lnTo>
                  <a:pt x="6095" y="1281811"/>
                </a:lnTo>
                <a:lnTo>
                  <a:pt x="4444" y="1280160"/>
                </a:lnTo>
                <a:close/>
              </a:path>
              <a:path w="30479" h="1358264">
                <a:moveTo>
                  <a:pt x="4444" y="1269619"/>
                </a:moveTo>
                <a:lnTo>
                  <a:pt x="4444" y="1280160"/>
                </a:lnTo>
                <a:lnTo>
                  <a:pt x="6095" y="1281811"/>
                </a:lnTo>
                <a:lnTo>
                  <a:pt x="16763" y="1281811"/>
                </a:lnTo>
                <a:lnTo>
                  <a:pt x="4444" y="1269619"/>
                </a:lnTo>
                <a:close/>
              </a:path>
              <a:path w="30479" h="1358264">
                <a:moveTo>
                  <a:pt x="25780" y="1257202"/>
                </a:moveTo>
                <a:lnTo>
                  <a:pt x="25780" y="1269619"/>
                </a:lnTo>
                <a:lnTo>
                  <a:pt x="4444" y="1269619"/>
                </a:lnTo>
                <a:lnTo>
                  <a:pt x="16763" y="1281811"/>
                </a:lnTo>
                <a:lnTo>
                  <a:pt x="30352" y="1281811"/>
                </a:lnTo>
                <a:lnTo>
                  <a:pt x="30352" y="1261872"/>
                </a:lnTo>
                <a:lnTo>
                  <a:pt x="25780" y="1257202"/>
                </a:lnTo>
                <a:close/>
              </a:path>
              <a:path w="30479" h="1358264">
                <a:moveTo>
                  <a:pt x="25780" y="0"/>
                </a:moveTo>
                <a:lnTo>
                  <a:pt x="0" y="0"/>
                </a:lnTo>
                <a:lnTo>
                  <a:pt x="0" y="1275715"/>
                </a:lnTo>
                <a:lnTo>
                  <a:pt x="4444" y="1280160"/>
                </a:lnTo>
                <a:lnTo>
                  <a:pt x="4444" y="1269619"/>
                </a:lnTo>
                <a:lnTo>
                  <a:pt x="25780" y="1269619"/>
                </a:lnTo>
                <a:lnTo>
                  <a:pt x="13588" y="1255776"/>
                </a:lnTo>
                <a:lnTo>
                  <a:pt x="25780" y="1255776"/>
                </a:lnTo>
                <a:lnTo>
                  <a:pt x="25780" y="0"/>
                </a:lnTo>
                <a:close/>
              </a:path>
              <a:path w="30479" h="1358264">
                <a:moveTo>
                  <a:pt x="24383" y="1255776"/>
                </a:moveTo>
                <a:lnTo>
                  <a:pt x="13588" y="1255776"/>
                </a:lnTo>
                <a:lnTo>
                  <a:pt x="25780" y="1269619"/>
                </a:lnTo>
                <a:lnTo>
                  <a:pt x="25780" y="1257202"/>
                </a:lnTo>
                <a:lnTo>
                  <a:pt x="24383" y="1255776"/>
                </a:lnTo>
                <a:close/>
              </a:path>
              <a:path w="30479" h="1358264">
                <a:moveTo>
                  <a:pt x="25780" y="1255776"/>
                </a:moveTo>
                <a:lnTo>
                  <a:pt x="24383" y="1255776"/>
                </a:lnTo>
                <a:lnTo>
                  <a:pt x="25780" y="1257202"/>
                </a:lnTo>
                <a:lnTo>
                  <a:pt x="25780" y="1255776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9" name="object 13"/>
          <p:cNvSpPr/>
          <p:nvPr/>
        </p:nvSpPr>
        <p:spPr>
          <a:xfrm>
            <a:off x="5889240" y="280260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70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5780">
            <a:solidFill>
              <a:srgbClr val="9bba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0" name="object 14"/>
          <p:cNvSpPr/>
          <p:nvPr/>
        </p:nvSpPr>
        <p:spPr>
          <a:xfrm>
            <a:off x="5889240" y="201456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69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57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1" name="object 15"/>
          <p:cNvSpPr/>
          <p:nvPr/>
        </p:nvSpPr>
        <p:spPr>
          <a:xfrm>
            <a:off x="4849920" y="201456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69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5908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2" name="object 16"/>
          <p:cNvSpPr/>
          <p:nvPr/>
        </p:nvSpPr>
        <p:spPr>
          <a:xfrm>
            <a:off x="3810600" y="2014560"/>
            <a:ext cx="360" cy="247320"/>
          </a:xfrm>
          <a:custGeom>
            <a:avLst/>
            <a:gdLst>
              <a:gd name="textAreaLeft" fmla="*/ 0 w 360"/>
              <a:gd name="textAreaRight" fmla="*/ 720 w 36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0" h="280669">
                <a:moveTo>
                  <a:pt x="0" y="0"/>
                </a:moveTo>
                <a:lnTo>
                  <a:pt x="0" y="280288"/>
                </a:lnTo>
              </a:path>
            </a:pathLst>
          </a:custGeom>
          <a:noFill/>
          <a:ln w="25781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3" name="object 17"/>
          <p:cNvSpPr/>
          <p:nvPr/>
        </p:nvSpPr>
        <p:spPr>
          <a:xfrm>
            <a:off x="3671640" y="1752120"/>
            <a:ext cx="849600" cy="539280"/>
          </a:xfrm>
          <a:custGeom>
            <a:avLst/>
            <a:gdLst>
              <a:gd name="textAreaLeft" fmla="*/ 0 w 849600"/>
              <a:gd name="textAreaRight" fmla="*/ 849960 w 8496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3294" h="611505">
                <a:moveTo>
                  <a:pt x="902081" y="0"/>
                </a:moveTo>
                <a:lnTo>
                  <a:pt x="60960" y="0"/>
                </a:lnTo>
                <a:lnTo>
                  <a:pt x="37290" y="4812"/>
                </a:lnTo>
                <a:lnTo>
                  <a:pt x="17907" y="17922"/>
                </a:lnTo>
                <a:lnTo>
                  <a:pt x="4810" y="37343"/>
                </a:lnTo>
                <a:lnTo>
                  <a:pt x="0" y="61087"/>
                </a:lnTo>
                <a:lnTo>
                  <a:pt x="0" y="550164"/>
                </a:lnTo>
                <a:lnTo>
                  <a:pt x="4810" y="573907"/>
                </a:lnTo>
                <a:lnTo>
                  <a:pt x="17907" y="593328"/>
                </a:lnTo>
                <a:lnTo>
                  <a:pt x="37290" y="606438"/>
                </a:lnTo>
                <a:lnTo>
                  <a:pt x="60960" y="611251"/>
                </a:lnTo>
                <a:lnTo>
                  <a:pt x="902081" y="611251"/>
                </a:lnTo>
                <a:lnTo>
                  <a:pt x="925824" y="606438"/>
                </a:lnTo>
                <a:lnTo>
                  <a:pt x="945245" y="593328"/>
                </a:lnTo>
                <a:lnTo>
                  <a:pt x="958355" y="573907"/>
                </a:lnTo>
                <a:lnTo>
                  <a:pt x="963168" y="550164"/>
                </a:lnTo>
                <a:lnTo>
                  <a:pt x="963168" y="61087"/>
                </a:lnTo>
                <a:lnTo>
                  <a:pt x="958355" y="37343"/>
                </a:lnTo>
                <a:lnTo>
                  <a:pt x="945245" y="17922"/>
                </a:lnTo>
                <a:lnTo>
                  <a:pt x="925824" y="4812"/>
                </a:lnTo>
                <a:lnTo>
                  <a:pt x="902081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4" name="object 18"/>
          <p:cNvSpPr/>
          <p:nvPr/>
        </p:nvSpPr>
        <p:spPr>
          <a:xfrm>
            <a:off x="3659400" y="1740240"/>
            <a:ext cx="872640" cy="5634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89329" h="638810">
                <a:moveTo>
                  <a:pt x="923671" y="637032"/>
                </a:moveTo>
                <a:lnTo>
                  <a:pt x="67056" y="637032"/>
                </a:lnTo>
                <a:lnTo>
                  <a:pt x="74803" y="638429"/>
                </a:lnTo>
                <a:lnTo>
                  <a:pt x="915924" y="638429"/>
                </a:lnTo>
                <a:lnTo>
                  <a:pt x="923671" y="637032"/>
                </a:lnTo>
                <a:close/>
              </a:path>
              <a:path w="989329" h="638810">
                <a:moveTo>
                  <a:pt x="957199" y="624840"/>
                </a:moveTo>
                <a:lnTo>
                  <a:pt x="33528" y="624840"/>
                </a:lnTo>
                <a:lnTo>
                  <a:pt x="33528" y="626363"/>
                </a:lnTo>
                <a:lnTo>
                  <a:pt x="45847" y="632332"/>
                </a:lnTo>
                <a:lnTo>
                  <a:pt x="53467" y="635507"/>
                </a:lnTo>
                <a:lnTo>
                  <a:pt x="59436" y="637032"/>
                </a:lnTo>
                <a:lnTo>
                  <a:pt x="931163" y="637032"/>
                </a:lnTo>
                <a:lnTo>
                  <a:pt x="938911" y="633857"/>
                </a:lnTo>
                <a:lnTo>
                  <a:pt x="946404" y="630935"/>
                </a:lnTo>
                <a:lnTo>
                  <a:pt x="955675" y="626363"/>
                </a:lnTo>
                <a:lnTo>
                  <a:pt x="957199" y="624840"/>
                </a:lnTo>
                <a:close/>
              </a:path>
              <a:path w="989329" h="638810">
                <a:moveTo>
                  <a:pt x="48852" y="605027"/>
                </a:moveTo>
                <a:lnTo>
                  <a:pt x="13843" y="605027"/>
                </a:lnTo>
                <a:lnTo>
                  <a:pt x="13843" y="606424"/>
                </a:lnTo>
                <a:lnTo>
                  <a:pt x="21336" y="615696"/>
                </a:lnTo>
                <a:lnTo>
                  <a:pt x="22860" y="617093"/>
                </a:lnTo>
                <a:lnTo>
                  <a:pt x="32004" y="624840"/>
                </a:lnTo>
                <a:lnTo>
                  <a:pt x="958596" y="624840"/>
                </a:lnTo>
                <a:lnTo>
                  <a:pt x="967866" y="617093"/>
                </a:lnTo>
                <a:lnTo>
                  <a:pt x="967866" y="615696"/>
                </a:lnTo>
                <a:lnTo>
                  <a:pt x="969263" y="615696"/>
                </a:lnTo>
                <a:lnTo>
                  <a:pt x="971917" y="612521"/>
                </a:lnTo>
                <a:lnTo>
                  <a:pt x="68707" y="612521"/>
                </a:lnTo>
                <a:lnTo>
                  <a:pt x="64135" y="610996"/>
                </a:lnTo>
                <a:lnTo>
                  <a:pt x="59436" y="609599"/>
                </a:lnTo>
                <a:lnTo>
                  <a:pt x="54864" y="608076"/>
                </a:lnTo>
                <a:lnTo>
                  <a:pt x="48852" y="605027"/>
                </a:lnTo>
                <a:close/>
              </a:path>
              <a:path w="989329" h="638810">
                <a:moveTo>
                  <a:pt x="943356" y="603504"/>
                </a:moveTo>
                <a:lnTo>
                  <a:pt x="934338" y="609599"/>
                </a:lnTo>
                <a:lnTo>
                  <a:pt x="929766" y="610996"/>
                </a:lnTo>
                <a:lnTo>
                  <a:pt x="925068" y="610996"/>
                </a:lnTo>
                <a:lnTo>
                  <a:pt x="920496" y="612521"/>
                </a:lnTo>
                <a:lnTo>
                  <a:pt x="971917" y="612521"/>
                </a:lnTo>
                <a:lnTo>
                  <a:pt x="977011" y="606424"/>
                </a:lnTo>
                <a:lnTo>
                  <a:pt x="977011" y="605027"/>
                </a:lnTo>
                <a:lnTo>
                  <a:pt x="941832" y="605027"/>
                </a:lnTo>
                <a:lnTo>
                  <a:pt x="943356" y="603504"/>
                </a:lnTo>
                <a:close/>
              </a:path>
              <a:path w="989329" h="638810">
                <a:moveTo>
                  <a:pt x="958596" y="13588"/>
                </a:moveTo>
                <a:lnTo>
                  <a:pt x="32004" y="13588"/>
                </a:lnTo>
                <a:lnTo>
                  <a:pt x="22860" y="21335"/>
                </a:lnTo>
                <a:lnTo>
                  <a:pt x="21336" y="22732"/>
                </a:lnTo>
                <a:lnTo>
                  <a:pt x="13843" y="32003"/>
                </a:lnTo>
                <a:lnTo>
                  <a:pt x="13843" y="33527"/>
                </a:lnTo>
                <a:lnTo>
                  <a:pt x="12192" y="33527"/>
                </a:lnTo>
                <a:lnTo>
                  <a:pt x="6096" y="45592"/>
                </a:lnTo>
                <a:lnTo>
                  <a:pt x="3175" y="53339"/>
                </a:lnTo>
                <a:lnTo>
                  <a:pt x="1524" y="59435"/>
                </a:lnTo>
                <a:lnTo>
                  <a:pt x="1524" y="66928"/>
                </a:lnTo>
                <a:lnTo>
                  <a:pt x="0" y="74675"/>
                </a:lnTo>
                <a:lnTo>
                  <a:pt x="0" y="565404"/>
                </a:lnTo>
                <a:lnTo>
                  <a:pt x="1524" y="572896"/>
                </a:lnTo>
                <a:lnTo>
                  <a:pt x="1524" y="578993"/>
                </a:lnTo>
                <a:lnTo>
                  <a:pt x="7747" y="594232"/>
                </a:lnTo>
                <a:lnTo>
                  <a:pt x="12192" y="605027"/>
                </a:lnTo>
                <a:lnTo>
                  <a:pt x="48768" y="605027"/>
                </a:lnTo>
                <a:lnTo>
                  <a:pt x="45847" y="603504"/>
                </a:lnTo>
                <a:lnTo>
                  <a:pt x="46939" y="603504"/>
                </a:lnTo>
                <a:lnTo>
                  <a:pt x="41452" y="598932"/>
                </a:lnTo>
                <a:lnTo>
                  <a:pt x="41275" y="598932"/>
                </a:lnTo>
                <a:lnTo>
                  <a:pt x="39624" y="597407"/>
                </a:lnTo>
                <a:lnTo>
                  <a:pt x="40001" y="597407"/>
                </a:lnTo>
                <a:lnTo>
                  <a:pt x="36181" y="592835"/>
                </a:lnTo>
                <a:lnTo>
                  <a:pt x="35179" y="592835"/>
                </a:lnTo>
                <a:lnTo>
                  <a:pt x="28956" y="582168"/>
                </a:lnTo>
                <a:lnTo>
                  <a:pt x="27432" y="577596"/>
                </a:lnTo>
                <a:lnTo>
                  <a:pt x="27432" y="572896"/>
                </a:lnTo>
                <a:lnTo>
                  <a:pt x="26034" y="568324"/>
                </a:lnTo>
                <a:lnTo>
                  <a:pt x="26034" y="68452"/>
                </a:lnTo>
                <a:lnTo>
                  <a:pt x="27432" y="64007"/>
                </a:lnTo>
                <a:lnTo>
                  <a:pt x="28956" y="59435"/>
                </a:lnTo>
                <a:lnTo>
                  <a:pt x="30607" y="54863"/>
                </a:lnTo>
                <a:lnTo>
                  <a:pt x="33613" y="48767"/>
                </a:lnTo>
                <a:lnTo>
                  <a:pt x="35179" y="45592"/>
                </a:lnTo>
                <a:lnTo>
                  <a:pt x="36181" y="45592"/>
                </a:lnTo>
                <a:lnTo>
                  <a:pt x="40001" y="41020"/>
                </a:lnTo>
                <a:lnTo>
                  <a:pt x="39624" y="41020"/>
                </a:lnTo>
                <a:lnTo>
                  <a:pt x="41275" y="39496"/>
                </a:lnTo>
                <a:lnTo>
                  <a:pt x="41483" y="39496"/>
                </a:lnTo>
                <a:lnTo>
                  <a:pt x="47063" y="34924"/>
                </a:lnTo>
                <a:lnTo>
                  <a:pt x="45847" y="34924"/>
                </a:lnTo>
                <a:lnTo>
                  <a:pt x="56515" y="28828"/>
                </a:lnTo>
                <a:lnTo>
                  <a:pt x="60960" y="27431"/>
                </a:lnTo>
                <a:lnTo>
                  <a:pt x="65532" y="27431"/>
                </a:lnTo>
                <a:lnTo>
                  <a:pt x="70104" y="25907"/>
                </a:lnTo>
                <a:lnTo>
                  <a:pt x="971917" y="25907"/>
                </a:lnTo>
                <a:lnTo>
                  <a:pt x="969263" y="22732"/>
                </a:lnTo>
                <a:lnTo>
                  <a:pt x="967866" y="22732"/>
                </a:lnTo>
                <a:lnTo>
                  <a:pt x="967866" y="21335"/>
                </a:lnTo>
                <a:lnTo>
                  <a:pt x="958596" y="13588"/>
                </a:lnTo>
                <a:close/>
              </a:path>
              <a:path w="989329" h="638810">
                <a:moveTo>
                  <a:pt x="45847" y="603504"/>
                </a:moveTo>
                <a:lnTo>
                  <a:pt x="48768" y="605027"/>
                </a:lnTo>
                <a:lnTo>
                  <a:pt x="48636" y="604918"/>
                </a:lnTo>
                <a:lnTo>
                  <a:pt x="45847" y="603504"/>
                </a:lnTo>
                <a:close/>
              </a:path>
              <a:path w="989329" h="638810">
                <a:moveTo>
                  <a:pt x="48636" y="604918"/>
                </a:moveTo>
                <a:lnTo>
                  <a:pt x="48768" y="605027"/>
                </a:lnTo>
                <a:lnTo>
                  <a:pt x="48636" y="604918"/>
                </a:lnTo>
                <a:close/>
              </a:path>
              <a:path w="989329" h="638810">
                <a:moveTo>
                  <a:pt x="950266" y="598095"/>
                </a:moveTo>
                <a:lnTo>
                  <a:pt x="941832" y="605027"/>
                </a:lnTo>
                <a:lnTo>
                  <a:pt x="977011" y="605027"/>
                </a:lnTo>
                <a:lnTo>
                  <a:pt x="980757" y="598932"/>
                </a:lnTo>
                <a:lnTo>
                  <a:pt x="949579" y="598932"/>
                </a:lnTo>
                <a:lnTo>
                  <a:pt x="950266" y="598095"/>
                </a:lnTo>
                <a:close/>
              </a:path>
              <a:path w="989329" h="638810">
                <a:moveTo>
                  <a:pt x="46939" y="603504"/>
                </a:moveTo>
                <a:lnTo>
                  <a:pt x="45847" y="603504"/>
                </a:lnTo>
                <a:lnTo>
                  <a:pt x="48636" y="604918"/>
                </a:lnTo>
                <a:lnTo>
                  <a:pt x="46939" y="603504"/>
                </a:lnTo>
                <a:close/>
              </a:path>
              <a:path w="989329" h="638810">
                <a:moveTo>
                  <a:pt x="39624" y="597407"/>
                </a:moveTo>
                <a:lnTo>
                  <a:pt x="41275" y="598932"/>
                </a:lnTo>
                <a:lnTo>
                  <a:pt x="40867" y="598444"/>
                </a:lnTo>
                <a:lnTo>
                  <a:pt x="39624" y="597407"/>
                </a:lnTo>
                <a:close/>
              </a:path>
              <a:path w="989329" h="638810">
                <a:moveTo>
                  <a:pt x="40867" y="598444"/>
                </a:moveTo>
                <a:lnTo>
                  <a:pt x="41275" y="598932"/>
                </a:lnTo>
                <a:lnTo>
                  <a:pt x="41452" y="598932"/>
                </a:lnTo>
                <a:lnTo>
                  <a:pt x="40867" y="598444"/>
                </a:lnTo>
                <a:close/>
              </a:path>
              <a:path w="989329" h="638810">
                <a:moveTo>
                  <a:pt x="951103" y="597407"/>
                </a:moveTo>
                <a:lnTo>
                  <a:pt x="950266" y="598095"/>
                </a:lnTo>
                <a:lnTo>
                  <a:pt x="949579" y="598932"/>
                </a:lnTo>
                <a:lnTo>
                  <a:pt x="951103" y="597407"/>
                </a:lnTo>
                <a:close/>
              </a:path>
              <a:path w="989329" h="638810">
                <a:moveTo>
                  <a:pt x="981694" y="597407"/>
                </a:moveTo>
                <a:lnTo>
                  <a:pt x="951103" y="597407"/>
                </a:lnTo>
                <a:lnTo>
                  <a:pt x="949579" y="598932"/>
                </a:lnTo>
                <a:lnTo>
                  <a:pt x="980757" y="598932"/>
                </a:lnTo>
                <a:lnTo>
                  <a:pt x="981694" y="597407"/>
                </a:lnTo>
                <a:close/>
              </a:path>
              <a:path w="989329" h="638810">
                <a:moveTo>
                  <a:pt x="40001" y="597407"/>
                </a:moveTo>
                <a:lnTo>
                  <a:pt x="39624" y="597407"/>
                </a:lnTo>
                <a:lnTo>
                  <a:pt x="40867" y="598444"/>
                </a:lnTo>
                <a:lnTo>
                  <a:pt x="40001" y="597407"/>
                </a:lnTo>
                <a:close/>
              </a:path>
              <a:path w="989329" h="638810">
                <a:moveTo>
                  <a:pt x="957199" y="589660"/>
                </a:moveTo>
                <a:lnTo>
                  <a:pt x="950266" y="598095"/>
                </a:lnTo>
                <a:lnTo>
                  <a:pt x="951103" y="597407"/>
                </a:lnTo>
                <a:lnTo>
                  <a:pt x="981694" y="597407"/>
                </a:lnTo>
                <a:lnTo>
                  <a:pt x="984504" y="592835"/>
                </a:lnTo>
                <a:lnTo>
                  <a:pt x="955675" y="592835"/>
                </a:lnTo>
                <a:lnTo>
                  <a:pt x="957199" y="589660"/>
                </a:lnTo>
                <a:close/>
              </a:path>
              <a:path w="989329" h="638810">
                <a:moveTo>
                  <a:pt x="33528" y="589660"/>
                </a:moveTo>
                <a:lnTo>
                  <a:pt x="35179" y="592835"/>
                </a:lnTo>
                <a:lnTo>
                  <a:pt x="36181" y="592835"/>
                </a:lnTo>
                <a:lnTo>
                  <a:pt x="33528" y="589660"/>
                </a:lnTo>
                <a:close/>
              </a:path>
              <a:path w="989329" h="638810">
                <a:moveTo>
                  <a:pt x="983651" y="45592"/>
                </a:moveTo>
                <a:lnTo>
                  <a:pt x="955675" y="45592"/>
                </a:lnTo>
                <a:lnTo>
                  <a:pt x="961771" y="56260"/>
                </a:lnTo>
                <a:lnTo>
                  <a:pt x="961771" y="60832"/>
                </a:lnTo>
                <a:lnTo>
                  <a:pt x="963168" y="65531"/>
                </a:lnTo>
                <a:lnTo>
                  <a:pt x="964691" y="70103"/>
                </a:lnTo>
                <a:lnTo>
                  <a:pt x="964691" y="569976"/>
                </a:lnTo>
                <a:lnTo>
                  <a:pt x="963168" y="574421"/>
                </a:lnTo>
                <a:lnTo>
                  <a:pt x="961771" y="578993"/>
                </a:lnTo>
                <a:lnTo>
                  <a:pt x="960247" y="583565"/>
                </a:lnTo>
                <a:lnTo>
                  <a:pt x="955675" y="592835"/>
                </a:lnTo>
                <a:lnTo>
                  <a:pt x="984504" y="592835"/>
                </a:lnTo>
                <a:lnTo>
                  <a:pt x="986028" y="585088"/>
                </a:lnTo>
                <a:lnTo>
                  <a:pt x="987679" y="578993"/>
                </a:lnTo>
                <a:lnTo>
                  <a:pt x="989203" y="571499"/>
                </a:lnTo>
                <a:lnTo>
                  <a:pt x="989203" y="65531"/>
                </a:lnTo>
                <a:lnTo>
                  <a:pt x="987679" y="59435"/>
                </a:lnTo>
                <a:lnTo>
                  <a:pt x="986028" y="51688"/>
                </a:lnTo>
                <a:lnTo>
                  <a:pt x="983651" y="45592"/>
                </a:lnTo>
                <a:close/>
              </a:path>
              <a:path w="989329" h="638810">
                <a:moveTo>
                  <a:pt x="35179" y="45592"/>
                </a:moveTo>
                <a:lnTo>
                  <a:pt x="33528" y="48767"/>
                </a:lnTo>
                <a:lnTo>
                  <a:pt x="33736" y="48519"/>
                </a:lnTo>
                <a:lnTo>
                  <a:pt x="35179" y="45592"/>
                </a:lnTo>
                <a:close/>
              </a:path>
              <a:path w="989329" h="638810">
                <a:moveTo>
                  <a:pt x="33736" y="48519"/>
                </a:moveTo>
                <a:lnTo>
                  <a:pt x="33528" y="48767"/>
                </a:lnTo>
                <a:lnTo>
                  <a:pt x="33736" y="48519"/>
                </a:lnTo>
                <a:close/>
              </a:path>
              <a:path w="989329" h="638810">
                <a:moveTo>
                  <a:pt x="950294" y="40367"/>
                </a:moveTo>
                <a:lnTo>
                  <a:pt x="957199" y="48767"/>
                </a:lnTo>
                <a:lnTo>
                  <a:pt x="955675" y="45592"/>
                </a:lnTo>
                <a:lnTo>
                  <a:pt x="983651" y="45592"/>
                </a:lnTo>
                <a:lnTo>
                  <a:pt x="983107" y="44195"/>
                </a:lnTo>
                <a:lnTo>
                  <a:pt x="981292" y="41020"/>
                </a:lnTo>
                <a:lnTo>
                  <a:pt x="951103" y="41020"/>
                </a:lnTo>
                <a:lnTo>
                  <a:pt x="950294" y="40367"/>
                </a:lnTo>
                <a:close/>
              </a:path>
              <a:path w="989329" h="638810">
                <a:moveTo>
                  <a:pt x="36181" y="45592"/>
                </a:moveTo>
                <a:lnTo>
                  <a:pt x="35179" y="45592"/>
                </a:lnTo>
                <a:lnTo>
                  <a:pt x="33736" y="48519"/>
                </a:lnTo>
                <a:lnTo>
                  <a:pt x="36181" y="45592"/>
                </a:lnTo>
                <a:close/>
              </a:path>
              <a:path w="989329" h="638810">
                <a:moveTo>
                  <a:pt x="41275" y="39496"/>
                </a:moveTo>
                <a:lnTo>
                  <a:pt x="39624" y="41020"/>
                </a:lnTo>
                <a:lnTo>
                  <a:pt x="40821" y="40039"/>
                </a:lnTo>
                <a:lnTo>
                  <a:pt x="41275" y="39496"/>
                </a:lnTo>
                <a:close/>
              </a:path>
              <a:path w="989329" h="638810">
                <a:moveTo>
                  <a:pt x="40821" y="40039"/>
                </a:moveTo>
                <a:lnTo>
                  <a:pt x="39624" y="41020"/>
                </a:lnTo>
                <a:lnTo>
                  <a:pt x="40001" y="41020"/>
                </a:lnTo>
                <a:lnTo>
                  <a:pt x="40821" y="40039"/>
                </a:lnTo>
                <a:close/>
              </a:path>
              <a:path w="989329" h="638810">
                <a:moveTo>
                  <a:pt x="949579" y="39496"/>
                </a:moveTo>
                <a:lnTo>
                  <a:pt x="950294" y="40367"/>
                </a:lnTo>
                <a:lnTo>
                  <a:pt x="951103" y="41020"/>
                </a:lnTo>
                <a:lnTo>
                  <a:pt x="949579" y="39496"/>
                </a:lnTo>
                <a:close/>
              </a:path>
              <a:path w="989329" h="638810">
                <a:moveTo>
                  <a:pt x="980421" y="39496"/>
                </a:moveTo>
                <a:lnTo>
                  <a:pt x="949579" y="39496"/>
                </a:lnTo>
                <a:lnTo>
                  <a:pt x="951103" y="41020"/>
                </a:lnTo>
                <a:lnTo>
                  <a:pt x="981292" y="41020"/>
                </a:lnTo>
                <a:lnTo>
                  <a:pt x="980421" y="39496"/>
                </a:lnTo>
                <a:close/>
              </a:path>
              <a:path w="989329" h="638810">
                <a:moveTo>
                  <a:pt x="977011" y="33527"/>
                </a:moveTo>
                <a:lnTo>
                  <a:pt x="941832" y="33527"/>
                </a:lnTo>
                <a:lnTo>
                  <a:pt x="950294" y="40367"/>
                </a:lnTo>
                <a:lnTo>
                  <a:pt x="949579" y="39496"/>
                </a:lnTo>
                <a:lnTo>
                  <a:pt x="980421" y="39496"/>
                </a:lnTo>
                <a:lnTo>
                  <a:pt x="977011" y="33527"/>
                </a:lnTo>
                <a:close/>
              </a:path>
              <a:path w="989329" h="638810">
                <a:moveTo>
                  <a:pt x="41483" y="39496"/>
                </a:moveTo>
                <a:lnTo>
                  <a:pt x="41275" y="39496"/>
                </a:lnTo>
                <a:lnTo>
                  <a:pt x="40821" y="40039"/>
                </a:lnTo>
                <a:lnTo>
                  <a:pt x="41483" y="39496"/>
                </a:lnTo>
                <a:close/>
              </a:path>
              <a:path w="989329" h="638810">
                <a:moveTo>
                  <a:pt x="48768" y="33527"/>
                </a:moveTo>
                <a:lnTo>
                  <a:pt x="45847" y="34924"/>
                </a:lnTo>
                <a:lnTo>
                  <a:pt x="47063" y="34924"/>
                </a:lnTo>
                <a:lnTo>
                  <a:pt x="48768" y="33527"/>
                </a:lnTo>
                <a:close/>
              </a:path>
              <a:path w="989329" h="638810">
                <a:moveTo>
                  <a:pt x="971917" y="25907"/>
                </a:moveTo>
                <a:lnTo>
                  <a:pt x="922147" y="25907"/>
                </a:lnTo>
                <a:lnTo>
                  <a:pt x="926591" y="27431"/>
                </a:lnTo>
                <a:lnTo>
                  <a:pt x="931163" y="28828"/>
                </a:lnTo>
                <a:lnTo>
                  <a:pt x="935736" y="30352"/>
                </a:lnTo>
                <a:lnTo>
                  <a:pt x="943356" y="34924"/>
                </a:lnTo>
                <a:lnTo>
                  <a:pt x="941832" y="33527"/>
                </a:lnTo>
                <a:lnTo>
                  <a:pt x="977011" y="33527"/>
                </a:lnTo>
                <a:lnTo>
                  <a:pt x="977011" y="32003"/>
                </a:lnTo>
                <a:lnTo>
                  <a:pt x="971917" y="25907"/>
                </a:lnTo>
                <a:close/>
              </a:path>
              <a:path w="989329" h="638810">
                <a:moveTo>
                  <a:pt x="929766" y="1396"/>
                </a:moveTo>
                <a:lnTo>
                  <a:pt x="59436" y="1396"/>
                </a:lnTo>
                <a:lnTo>
                  <a:pt x="51943" y="4571"/>
                </a:lnTo>
                <a:lnTo>
                  <a:pt x="44196" y="7492"/>
                </a:lnTo>
                <a:lnTo>
                  <a:pt x="33528" y="12064"/>
                </a:lnTo>
                <a:lnTo>
                  <a:pt x="33528" y="13588"/>
                </a:lnTo>
                <a:lnTo>
                  <a:pt x="957199" y="13588"/>
                </a:lnTo>
                <a:lnTo>
                  <a:pt x="955675" y="12064"/>
                </a:lnTo>
                <a:lnTo>
                  <a:pt x="943356" y="6095"/>
                </a:lnTo>
                <a:lnTo>
                  <a:pt x="937260" y="2920"/>
                </a:lnTo>
                <a:lnTo>
                  <a:pt x="929766" y="1396"/>
                </a:lnTo>
                <a:close/>
              </a:path>
              <a:path w="989329" h="638810">
                <a:moveTo>
                  <a:pt x="915924" y="0"/>
                </a:moveTo>
                <a:lnTo>
                  <a:pt x="73279" y="0"/>
                </a:lnTo>
                <a:lnTo>
                  <a:pt x="65532" y="1396"/>
                </a:lnTo>
                <a:lnTo>
                  <a:pt x="922147" y="1396"/>
                </a:lnTo>
                <a:lnTo>
                  <a:pt x="9159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5" name="object 19"/>
          <p:cNvSpPr/>
          <p:nvPr/>
        </p:nvSpPr>
        <p:spPr>
          <a:xfrm>
            <a:off x="3473640" y="1560240"/>
            <a:ext cx="858960" cy="54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6" name="object 20"/>
          <p:cNvSpPr/>
          <p:nvPr/>
        </p:nvSpPr>
        <p:spPr>
          <a:xfrm>
            <a:off x="3469680" y="155340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4713"/>
                </a:moveTo>
                <a:lnTo>
                  <a:pt x="33528" y="624713"/>
                </a:lnTo>
                <a:lnTo>
                  <a:pt x="45720" y="632460"/>
                </a:lnTo>
                <a:lnTo>
                  <a:pt x="51943" y="633857"/>
                </a:lnTo>
                <a:lnTo>
                  <a:pt x="59562" y="635381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29766" y="635381"/>
                </a:lnTo>
                <a:lnTo>
                  <a:pt x="937260" y="633857"/>
                </a:lnTo>
                <a:lnTo>
                  <a:pt x="945007" y="630809"/>
                </a:lnTo>
                <a:lnTo>
                  <a:pt x="955675" y="624713"/>
                </a:lnTo>
                <a:close/>
              </a:path>
              <a:path w="989329" h="637539">
                <a:moveTo>
                  <a:pt x="966343" y="615696"/>
                </a:moveTo>
                <a:lnTo>
                  <a:pt x="21463" y="615696"/>
                </a:lnTo>
                <a:lnTo>
                  <a:pt x="21463" y="617220"/>
                </a:lnTo>
                <a:lnTo>
                  <a:pt x="30607" y="624713"/>
                </a:lnTo>
                <a:lnTo>
                  <a:pt x="957199" y="624713"/>
                </a:lnTo>
                <a:lnTo>
                  <a:pt x="966343" y="617220"/>
                </a:lnTo>
                <a:lnTo>
                  <a:pt x="966343" y="615696"/>
                </a:lnTo>
                <a:close/>
              </a:path>
              <a:path w="989329" h="637539">
                <a:moveTo>
                  <a:pt x="47371" y="33528"/>
                </a:moveTo>
                <a:lnTo>
                  <a:pt x="10795" y="33528"/>
                </a:lnTo>
                <a:lnTo>
                  <a:pt x="4699" y="45720"/>
                </a:lnTo>
                <a:lnTo>
                  <a:pt x="3175" y="53213"/>
                </a:lnTo>
                <a:lnTo>
                  <a:pt x="0" y="59309"/>
                </a:lnTo>
                <a:lnTo>
                  <a:pt x="0" y="571500"/>
                </a:lnTo>
                <a:lnTo>
                  <a:pt x="1524" y="579120"/>
                </a:lnTo>
                <a:lnTo>
                  <a:pt x="3175" y="586613"/>
                </a:lnTo>
                <a:lnTo>
                  <a:pt x="6096" y="592709"/>
                </a:lnTo>
                <a:lnTo>
                  <a:pt x="10795" y="603377"/>
                </a:lnTo>
                <a:lnTo>
                  <a:pt x="12192" y="605028"/>
                </a:lnTo>
                <a:lnTo>
                  <a:pt x="12192" y="606425"/>
                </a:lnTo>
                <a:lnTo>
                  <a:pt x="19938" y="615696"/>
                </a:lnTo>
                <a:lnTo>
                  <a:pt x="967866" y="615696"/>
                </a:lnTo>
                <a:lnTo>
                  <a:pt x="970433" y="612521"/>
                </a:lnTo>
                <a:lnTo>
                  <a:pt x="67056" y="612521"/>
                </a:lnTo>
                <a:lnTo>
                  <a:pt x="62611" y="611124"/>
                </a:lnTo>
                <a:lnTo>
                  <a:pt x="58039" y="609600"/>
                </a:lnTo>
                <a:lnTo>
                  <a:pt x="53467" y="607949"/>
                </a:lnTo>
                <a:lnTo>
                  <a:pt x="48517" y="605028"/>
                </a:lnTo>
                <a:lnTo>
                  <a:pt x="47371" y="605028"/>
                </a:lnTo>
                <a:lnTo>
                  <a:pt x="40075" y="598932"/>
                </a:lnTo>
                <a:lnTo>
                  <a:pt x="39624" y="598932"/>
                </a:lnTo>
                <a:lnTo>
                  <a:pt x="38100" y="597281"/>
                </a:lnTo>
                <a:lnTo>
                  <a:pt x="38271" y="597281"/>
                </a:lnTo>
                <a:lnTo>
                  <a:pt x="32131" y="589788"/>
                </a:lnTo>
                <a:lnTo>
                  <a:pt x="32583" y="589788"/>
                </a:lnTo>
                <a:lnTo>
                  <a:pt x="27432" y="582168"/>
                </a:lnTo>
                <a:lnTo>
                  <a:pt x="27432" y="577596"/>
                </a:lnTo>
                <a:lnTo>
                  <a:pt x="26034" y="573024"/>
                </a:lnTo>
                <a:lnTo>
                  <a:pt x="24511" y="568325"/>
                </a:lnTo>
                <a:lnTo>
                  <a:pt x="24511" y="68453"/>
                </a:lnTo>
                <a:lnTo>
                  <a:pt x="26034" y="63881"/>
                </a:lnTo>
                <a:lnTo>
                  <a:pt x="27432" y="59309"/>
                </a:lnTo>
                <a:lnTo>
                  <a:pt x="28956" y="54864"/>
                </a:lnTo>
                <a:lnTo>
                  <a:pt x="32829" y="47117"/>
                </a:lnTo>
                <a:lnTo>
                  <a:pt x="32131" y="47117"/>
                </a:lnTo>
                <a:lnTo>
                  <a:pt x="39624" y="38100"/>
                </a:lnTo>
                <a:lnTo>
                  <a:pt x="41714" y="38100"/>
                </a:lnTo>
                <a:lnTo>
                  <a:pt x="47371" y="33528"/>
                </a:lnTo>
                <a:close/>
              </a:path>
              <a:path w="989329" h="637539">
                <a:moveTo>
                  <a:pt x="977011" y="603377"/>
                </a:moveTo>
                <a:lnTo>
                  <a:pt x="943356" y="603377"/>
                </a:lnTo>
                <a:lnTo>
                  <a:pt x="932688" y="609600"/>
                </a:lnTo>
                <a:lnTo>
                  <a:pt x="928243" y="609600"/>
                </a:lnTo>
                <a:lnTo>
                  <a:pt x="923671" y="611124"/>
                </a:lnTo>
                <a:lnTo>
                  <a:pt x="919099" y="612521"/>
                </a:lnTo>
                <a:lnTo>
                  <a:pt x="970433" y="612521"/>
                </a:lnTo>
                <a:lnTo>
                  <a:pt x="975360" y="606425"/>
                </a:lnTo>
                <a:lnTo>
                  <a:pt x="975360" y="605028"/>
                </a:lnTo>
                <a:lnTo>
                  <a:pt x="977011" y="603377"/>
                </a:lnTo>
                <a:close/>
              </a:path>
              <a:path w="989329" h="637539">
                <a:moveTo>
                  <a:pt x="45720" y="603377"/>
                </a:moveTo>
                <a:lnTo>
                  <a:pt x="47371" y="605028"/>
                </a:lnTo>
                <a:lnTo>
                  <a:pt x="48517" y="605028"/>
                </a:lnTo>
                <a:lnTo>
                  <a:pt x="45720" y="603377"/>
                </a:lnTo>
                <a:close/>
              </a:path>
              <a:path w="989329" h="637539">
                <a:moveTo>
                  <a:pt x="948991" y="597676"/>
                </a:moveTo>
                <a:lnTo>
                  <a:pt x="940435" y="605028"/>
                </a:lnTo>
                <a:lnTo>
                  <a:pt x="943356" y="603377"/>
                </a:lnTo>
                <a:lnTo>
                  <a:pt x="977011" y="603377"/>
                </a:lnTo>
                <a:lnTo>
                  <a:pt x="979233" y="598932"/>
                </a:lnTo>
                <a:lnTo>
                  <a:pt x="947928" y="598932"/>
                </a:lnTo>
                <a:lnTo>
                  <a:pt x="948991" y="597676"/>
                </a:lnTo>
                <a:close/>
              </a:path>
              <a:path w="989329" h="637539">
                <a:moveTo>
                  <a:pt x="38100" y="597281"/>
                </a:moveTo>
                <a:lnTo>
                  <a:pt x="39624" y="598932"/>
                </a:lnTo>
                <a:lnTo>
                  <a:pt x="38642" y="597734"/>
                </a:lnTo>
                <a:lnTo>
                  <a:pt x="38100" y="597281"/>
                </a:lnTo>
                <a:close/>
              </a:path>
              <a:path w="989329" h="637539">
                <a:moveTo>
                  <a:pt x="38642" y="597734"/>
                </a:moveTo>
                <a:lnTo>
                  <a:pt x="39624" y="598932"/>
                </a:lnTo>
                <a:lnTo>
                  <a:pt x="40075" y="598932"/>
                </a:lnTo>
                <a:lnTo>
                  <a:pt x="38642" y="597734"/>
                </a:lnTo>
                <a:close/>
              </a:path>
              <a:path w="989329" h="637539">
                <a:moveTo>
                  <a:pt x="949452" y="597281"/>
                </a:moveTo>
                <a:lnTo>
                  <a:pt x="948942" y="597734"/>
                </a:lnTo>
                <a:lnTo>
                  <a:pt x="947928" y="598932"/>
                </a:lnTo>
                <a:lnTo>
                  <a:pt x="949452" y="597281"/>
                </a:lnTo>
                <a:close/>
              </a:path>
              <a:path w="989329" h="637539">
                <a:moveTo>
                  <a:pt x="980059" y="597281"/>
                </a:moveTo>
                <a:lnTo>
                  <a:pt x="949452" y="597281"/>
                </a:lnTo>
                <a:lnTo>
                  <a:pt x="947928" y="598932"/>
                </a:lnTo>
                <a:lnTo>
                  <a:pt x="979233" y="598932"/>
                </a:lnTo>
                <a:lnTo>
                  <a:pt x="980059" y="597281"/>
                </a:lnTo>
                <a:close/>
              </a:path>
              <a:path w="989329" h="637539">
                <a:moveTo>
                  <a:pt x="38271" y="597281"/>
                </a:moveTo>
                <a:lnTo>
                  <a:pt x="38100" y="597281"/>
                </a:lnTo>
                <a:lnTo>
                  <a:pt x="38642" y="597734"/>
                </a:lnTo>
                <a:lnTo>
                  <a:pt x="38271" y="597281"/>
                </a:lnTo>
                <a:close/>
              </a:path>
              <a:path w="989329" h="637539">
                <a:moveTo>
                  <a:pt x="983776" y="589788"/>
                </a:moveTo>
                <a:lnTo>
                  <a:pt x="955675" y="589788"/>
                </a:lnTo>
                <a:lnTo>
                  <a:pt x="948991" y="597676"/>
                </a:lnTo>
                <a:lnTo>
                  <a:pt x="949452" y="597281"/>
                </a:lnTo>
                <a:lnTo>
                  <a:pt x="980059" y="597281"/>
                </a:lnTo>
                <a:lnTo>
                  <a:pt x="983107" y="591185"/>
                </a:lnTo>
                <a:lnTo>
                  <a:pt x="983776" y="589788"/>
                </a:lnTo>
                <a:close/>
              </a:path>
              <a:path w="989329" h="637539">
                <a:moveTo>
                  <a:pt x="32583" y="589788"/>
                </a:moveTo>
                <a:lnTo>
                  <a:pt x="32131" y="589788"/>
                </a:lnTo>
                <a:lnTo>
                  <a:pt x="33528" y="591185"/>
                </a:lnTo>
                <a:lnTo>
                  <a:pt x="32583" y="589788"/>
                </a:lnTo>
                <a:close/>
              </a:path>
              <a:path w="989329" h="637539">
                <a:moveTo>
                  <a:pt x="954024" y="45720"/>
                </a:moveTo>
                <a:lnTo>
                  <a:pt x="960119" y="56388"/>
                </a:lnTo>
                <a:lnTo>
                  <a:pt x="961771" y="60960"/>
                </a:lnTo>
                <a:lnTo>
                  <a:pt x="961771" y="65532"/>
                </a:lnTo>
                <a:lnTo>
                  <a:pt x="963294" y="69977"/>
                </a:lnTo>
                <a:lnTo>
                  <a:pt x="963294" y="569849"/>
                </a:lnTo>
                <a:lnTo>
                  <a:pt x="961771" y="574421"/>
                </a:lnTo>
                <a:lnTo>
                  <a:pt x="960119" y="579120"/>
                </a:lnTo>
                <a:lnTo>
                  <a:pt x="958596" y="583692"/>
                </a:lnTo>
                <a:lnTo>
                  <a:pt x="954024" y="591185"/>
                </a:lnTo>
                <a:lnTo>
                  <a:pt x="955675" y="589788"/>
                </a:lnTo>
                <a:lnTo>
                  <a:pt x="983776" y="589788"/>
                </a:lnTo>
                <a:lnTo>
                  <a:pt x="986028" y="585089"/>
                </a:lnTo>
                <a:lnTo>
                  <a:pt x="987552" y="577596"/>
                </a:lnTo>
                <a:lnTo>
                  <a:pt x="987552" y="569849"/>
                </a:lnTo>
                <a:lnTo>
                  <a:pt x="989203" y="563753"/>
                </a:lnTo>
                <a:lnTo>
                  <a:pt x="989203" y="73025"/>
                </a:lnTo>
                <a:lnTo>
                  <a:pt x="987552" y="65532"/>
                </a:lnTo>
                <a:lnTo>
                  <a:pt x="987552" y="57785"/>
                </a:lnTo>
                <a:lnTo>
                  <a:pt x="984631" y="51689"/>
                </a:lnTo>
                <a:lnTo>
                  <a:pt x="982693" y="47117"/>
                </a:lnTo>
                <a:lnTo>
                  <a:pt x="955675" y="47117"/>
                </a:lnTo>
                <a:lnTo>
                  <a:pt x="954024" y="45720"/>
                </a:lnTo>
                <a:close/>
              </a:path>
              <a:path w="989329" h="637539">
                <a:moveTo>
                  <a:pt x="33528" y="45720"/>
                </a:moveTo>
                <a:lnTo>
                  <a:pt x="32131" y="47117"/>
                </a:lnTo>
                <a:lnTo>
                  <a:pt x="32829" y="47117"/>
                </a:lnTo>
                <a:lnTo>
                  <a:pt x="33528" y="45720"/>
                </a:lnTo>
                <a:close/>
              </a:path>
              <a:path w="989329" h="637539">
                <a:moveTo>
                  <a:pt x="978916" y="38100"/>
                </a:moveTo>
                <a:lnTo>
                  <a:pt x="947928" y="38100"/>
                </a:lnTo>
                <a:lnTo>
                  <a:pt x="955675" y="47117"/>
                </a:lnTo>
                <a:lnTo>
                  <a:pt x="982693" y="47117"/>
                </a:lnTo>
                <a:lnTo>
                  <a:pt x="981456" y="44196"/>
                </a:lnTo>
                <a:lnTo>
                  <a:pt x="978916" y="38100"/>
                </a:lnTo>
                <a:close/>
              </a:path>
              <a:path w="989329" h="637539">
                <a:moveTo>
                  <a:pt x="41714" y="38100"/>
                </a:moveTo>
                <a:lnTo>
                  <a:pt x="39624" y="38100"/>
                </a:lnTo>
                <a:lnTo>
                  <a:pt x="38100" y="41021"/>
                </a:lnTo>
                <a:lnTo>
                  <a:pt x="41714" y="38100"/>
                </a:lnTo>
                <a:close/>
              </a:path>
              <a:path w="989329" h="637539">
                <a:moveTo>
                  <a:pt x="940435" y="33528"/>
                </a:moveTo>
                <a:lnTo>
                  <a:pt x="949452" y="41021"/>
                </a:lnTo>
                <a:lnTo>
                  <a:pt x="947928" y="38100"/>
                </a:lnTo>
                <a:lnTo>
                  <a:pt x="978916" y="38100"/>
                </a:lnTo>
                <a:lnTo>
                  <a:pt x="977593" y="34925"/>
                </a:lnTo>
                <a:lnTo>
                  <a:pt x="943356" y="34925"/>
                </a:lnTo>
                <a:lnTo>
                  <a:pt x="940435" y="33528"/>
                </a:lnTo>
                <a:close/>
              </a:path>
              <a:path w="989329" h="637539">
                <a:moveTo>
                  <a:pt x="957199" y="13589"/>
                </a:moveTo>
                <a:lnTo>
                  <a:pt x="30607" y="13589"/>
                </a:lnTo>
                <a:lnTo>
                  <a:pt x="21463" y="21209"/>
                </a:lnTo>
                <a:lnTo>
                  <a:pt x="21463" y="22860"/>
                </a:lnTo>
                <a:lnTo>
                  <a:pt x="19938" y="22860"/>
                </a:lnTo>
                <a:lnTo>
                  <a:pt x="12192" y="31877"/>
                </a:lnTo>
                <a:lnTo>
                  <a:pt x="12192" y="33528"/>
                </a:lnTo>
                <a:lnTo>
                  <a:pt x="47371" y="33528"/>
                </a:lnTo>
                <a:lnTo>
                  <a:pt x="45720" y="34925"/>
                </a:lnTo>
                <a:lnTo>
                  <a:pt x="54864" y="28956"/>
                </a:lnTo>
                <a:lnTo>
                  <a:pt x="59562" y="27432"/>
                </a:lnTo>
                <a:lnTo>
                  <a:pt x="64135" y="25781"/>
                </a:lnTo>
                <a:lnTo>
                  <a:pt x="970294" y="25781"/>
                </a:lnTo>
                <a:lnTo>
                  <a:pt x="967866" y="22860"/>
                </a:lnTo>
                <a:lnTo>
                  <a:pt x="966343" y="21209"/>
                </a:lnTo>
                <a:lnTo>
                  <a:pt x="957199" y="13589"/>
                </a:lnTo>
                <a:close/>
              </a:path>
              <a:path w="989329" h="637539">
                <a:moveTo>
                  <a:pt x="970294" y="25781"/>
                </a:moveTo>
                <a:lnTo>
                  <a:pt x="925194" y="25781"/>
                </a:lnTo>
                <a:lnTo>
                  <a:pt x="929766" y="27432"/>
                </a:lnTo>
                <a:lnTo>
                  <a:pt x="934338" y="28956"/>
                </a:lnTo>
                <a:lnTo>
                  <a:pt x="943356" y="34925"/>
                </a:lnTo>
                <a:lnTo>
                  <a:pt x="977593" y="34925"/>
                </a:lnTo>
                <a:lnTo>
                  <a:pt x="977011" y="33528"/>
                </a:lnTo>
                <a:lnTo>
                  <a:pt x="975360" y="31877"/>
                </a:lnTo>
                <a:lnTo>
                  <a:pt x="970294" y="25781"/>
                </a:lnTo>
                <a:close/>
              </a:path>
              <a:path w="989329" h="637539">
                <a:moveTo>
                  <a:pt x="922019" y="0"/>
                </a:moveTo>
                <a:lnTo>
                  <a:pt x="65532" y="0"/>
                </a:lnTo>
                <a:lnTo>
                  <a:pt x="58039" y="1524"/>
                </a:lnTo>
                <a:lnTo>
                  <a:pt x="50292" y="2921"/>
                </a:lnTo>
                <a:lnTo>
                  <a:pt x="44196" y="6096"/>
                </a:lnTo>
                <a:lnTo>
                  <a:pt x="33528" y="12192"/>
                </a:lnTo>
                <a:lnTo>
                  <a:pt x="32131" y="12192"/>
                </a:lnTo>
                <a:lnTo>
                  <a:pt x="32131" y="13589"/>
                </a:lnTo>
                <a:lnTo>
                  <a:pt x="955675" y="13589"/>
                </a:lnTo>
                <a:lnTo>
                  <a:pt x="955675" y="12192"/>
                </a:lnTo>
                <a:lnTo>
                  <a:pt x="943356" y="6096"/>
                </a:lnTo>
                <a:lnTo>
                  <a:pt x="935863" y="2921"/>
                </a:lnTo>
                <a:lnTo>
                  <a:pt x="929766" y="1524"/>
                </a:lnTo>
                <a:lnTo>
                  <a:pt x="922019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7" name="object 21"/>
          <p:cNvSpPr/>
          <p:nvPr/>
        </p:nvSpPr>
        <p:spPr>
          <a:xfrm>
            <a:off x="3704400" y="1733040"/>
            <a:ext cx="4042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xe</a:t>
            </a:r>
            <a:r>
              <a:rPr b="0" lang="en-US" sz="970" spc="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22"/>
          <p:cNvSpPr/>
          <p:nvPr/>
        </p:nvSpPr>
        <p:spPr>
          <a:xfrm>
            <a:off x="3386160" y="2261880"/>
            <a:ext cx="849600" cy="540360"/>
          </a:xfrm>
          <a:custGeom>
            <a:avLst/>
            <a:gdLst>
              <a:gd name="textAreaLeft" fmla="*/ 0 w 849600"/>
              <a:gd name="textAreaRight" fmla="*/ 849960 w 849600"/>
              <a:gd name="textAreaTop" fmla="*/ 0 h 540360"/>
              <a:gd name="textAreaBottom" fmla="*/ 540720 h 540360"/>
            </a:gdLst>
            <a:ahLst/>
            <a:rect l="textAreaLeft" t="textAreaTop" r="textAreaRight" b="textAreaBottom"/>
            <a:pathLst>
              <a:path w="963294" h="612775">
                <a:moveTo>
                  <a:pt x="902081" y="0"/>
                </a:moveTo>
                <a:lnTo>
                  <a:pt x="60960" y="0"/>
                </a:lnTo>
                <a:lnTo>
                  <a:pt x="37290" y="4810"/>
                </a:lnTo>
                <a:lnTo>
                  <a:pt x="17906" y="17907"/>
                </a:lnTo>
                <a:lnTo>
                  <a:pt x="4810" y="37290"/>
                </a:lnTo>
                <a:lnTo>
                  <a:pt x="0" y="60960"/>
                </a:lnTo>
                <a:lnTo>
                  <a:pt x="0" y="551688"/>
                </a:lnTo>
                <a:lnTo>
                  <a:pt x="4810" y="575431"/>
                </a:lnTo>
                <a:lnTo>
                  <a:pt x="17907" y="594852"/>
                </a:lnTo>
                <a:lnTo>
                  <a:pt x="37290" y="607962"/>
                </a:lnTo>
                <a:lnTo>
                  <a:pt x="60960" y="612775"/>
                </a:lnTo>
                <a:lnTo>
                  <a:pt x="902081" y="612775"/>
                </a:lnTo>
                <a:lnTo>
                  <a:pt x="925824" y="607962"/>
                </a:lnTo>
                <a:lnTo>
                  <a:pt x="945245" y="594852"/>
                </a:lnTo>
                <a:lnTo>
                  <a:pt x="958355" y="575431"/>
                </a:lnTo>
                <a:lnTo>
                  <a:pt x="963168" y="551688"/>
                </a:lnTo>
                <a:lnTo>
                  <a:pt x="963168" y="60960"/>
                </a:lnTo>
                <a:lnTo>
                  <a:pt x="958355" y="37290"/>
                </a:lnTo>
                <a:lnTo>
                  <a:pt x="945245" y="17907"/>
                </a:lnTo>
                <a:lnTo>
                  <a:pt x="925824" y="4810"/>
                </a:lnTo>
                <a:lnTo>
                  <a:pt x="902081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9" name="object 23"/>
          <p:cNvSpPr/>
          <p:nvPr/>
        </p:nvSpPr>
        <p:spPr>
          <a:xfrm>
            <a:off x="3373920" y="225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48768" y="32004"/>
                </a:moveTo>
                <a:lnTo>
                  <a:pt x="12192" y="32004"/>
                </a:lnTo>
                <a:lnTo>
                  <a:pt x="12192" y="33401"/>
                </a:lnTo>
                <a:lnTo>
                  <a:pt x="6096" y="45593"/>
                </a:lnTo>
                <a:lnTo>
                  <a:pt x="3175" y="51689"/>
                </a:lnTo>
                <a:lnTo>
                  <a:pt x="1524" y="59436"/>
                </a:lnTo>
                <a:lnTo>
                  <a:pt x="1524" y="66929"/>
                </a:lnTo>
                <a:lnTo>
                  <a:pt x="0" y="73025"/>
                </a:lnTo>
                <a:lnTo>
                  <a:pt x="0" y="563753"/>
                </a:lnTo>
                <a:lnTo>
                  <a:pt x="1524" y="571500"/>
                </a:lnTo>
                <a:lnTo>
                  <a:pt x="1524" y="578993"/>
                </a:lnTo>
                <a:lnTo>
                  <a:pt x="4699" y="585089"/>
                </a:lnTo>
                <a:lnTo>
                  <a:pt x="7747" y="592836"/>
                </a:lnTo>
                <a:lnTo>
                  <a:pt x="12192" y="603504"/>
                </a:lnTo>
                <a:lnTo>
                  <a:pt x="13843" y="604901"/>
                </a:lnTo>
                <a:lnTo>
                  <a:pt x="21336" y="614172"/>
                </a:lnTo>
                <a:lnTo>
                  <a:pt x="21336" y="615569"/>
                </a:lnTo>
                <a:lnTo>
                  <a:pt x="22860" y="615569"/>
                </a:lnTo>
                <a:lnTo>
                  <a:pt x="32004" y="623189"/>
                </a:lnTo>
                <a:lnTo>
                  <a:pt x="33528" y="624840"/>
                </a:lnTo>
                <a:lnTo>
                  <a:pt x="45847" y="630936"/>
                </a:lnTo>
                <a:lnTo>
                  <a:pt x="53467" y="633857"/>
                </a:lnTo>
                <a:lnTo>
                  <a:pt x="59436" y="635508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38911" y="633857"/>
                </a:lnTo>
                <a:lnTo>
                  <a:pt x="946404" y="630936"/>
                </a:lnTo>
                <a:lnTo>
                  <a:pt x="955675" y="624840"/>
                </a:lnTo>
                <a:lnTo>
                  <a:pt x="957199" y="624840"/>
                </a:lnTo>
                <a:lnTo>
                  <a:pt x="958596" y="623189"/>
                </a:lnTo>
                <a:lnTo>
                  <a:pt x="967866" y="615569"/>
                </a:lnTo>
                <a:lnTo>
                  <a:pt x="969263" y="614172"/>
                </a:lnTo>
                <a:lnTo>
                  <a:pt x="971917" y="610997"/>
                </a:lnTo>
                <a:lnTo>
                  <a:pt x="64135" y="610997"/>
                </a:lnTo>
                <a:lnTo>
                  <a:pt x="59436" y="609600"/>
                </a:lnTo>
                <a:lnTo>
                  <a:pt x="54864" y="608076"/>
                </a:lnTo>
                <a:lnTo>
                  <a:pt x="45847" y="603504"/>
                </a:lnTo>
                <a:lnTo>
                  <a:pt x="48768" y="603504"/>
                </a:lnTo>
                <a:lnTo>
                  <a:pt x="43371" y="598932"/>
                </a:lnTo>
                <a:lnTo>
                  <a:pt x="41275" y="598932"/>
                </a:lnTo>
                <a:lnTo>
                  <a:pt x="33528" y="589661"/>
                </a:lnTo>
                <a:lnTo>
                  <a:pt x="34215" y="589661"/>
                </a:lnTo>
                <a:lnTo>
                  <a:pt x="28956" y="580644"/>
                </a:lnTo>
                <a:lnTo>
                  <a:pt x="27432" y="577469"/>
                </a:lnTo>
                <a:lnTo>
                  <a:pt x="27432" y="572897"/>
                </a:lnTo>
                <a:lnTo>
                  <a:pt x="26034" y="566801"/>
                </a:lnTo>
                <a:lnTo>
                  <a:pt x="26034" y="68453"/>
                </a:lnTo>
                <a:lnTo>
                  <a:pt x="27432" y="64008"/>
                </a:lnTo>
                <a:lnTo>
                  <a:pt x="28956" y="59436"/>
                </a:lnTo>
                <a:lnTo>
                  <a:pt x="30607" y="54864"/>
                </a:lnTo>
                <a:lnTo>
                  <a:pt x="34364" y="47244"/>
                </a:lnTo>
                <a:lnTo>
                  <a:pt x="33528" y="47244"/>
                </a:lnTo>
                <a:lnTo>
                  <a:pt x="40091" y="39497"/>
                </a:lnTo>
                <a:lnTo>
                  <a:pt x="39624" y="39497"/>
                </a:lnTo>
                <a:lnTo>
                  <a:pt x="41275" y="38100"/>
                </a:lnTo>
                <a:lnTo>
                  <a:pt x="47063" y="33401"/>
                </a:lnTo>
                <a:lnTo>
                  <a:pt x="45847" y="33401"/>
                </a:lnTo>
                <a:lnTo>
                  <a:pt x="48768" y="32004"/>
                </a:lnTo>
                <a:close/>
              </a:path>
              <a:path w="989329" h="637539">
                <a:moveTo>
                  <a:pt x="950512" y="597796"/>
                </a:moveTo>
                <a:lnTo>
                  <a:pt x="941832" y="603504"/>
                </a:lnTo>
                <a:lnTo>
                  <a:pt x="943356" y="603504"/>
                </a:lnTo>
                <a:lnTo>
                  <a:pt x="934338" y="608076"/>
                </a:lnTo>
                <a:lnTo>
                  <a:pt x="929766" y="609600"/>
                </a:lnTo>
                <a:lnTo>
                  <a:pt x="925068" y="610997"/>
                </a:lnTo>
                <a:lnTo>
                  <a:pt x="971917" y="610997"/>
                </a:lnTo>
                <a:lnTo>
                  <a:pt x="977011" y="604901"/>
                </a:lnTo>
                <a:lnTo>
                  <a:pt x="977011" y="603504"/>
                </a:lnTo>
                <a:lnTo>
                  <a:pt x="979820" y="598932"/>
                </a:lnTo>
                <a:lnTo>
                  <a:pt x="949579" y="598932"/>
                </a:lnTo>
                <a:lnTo>
                  <a:pt x="950512" y="597796"/>
                </a:lnTo>
                <a:close/>
              </a:path>
              <a:path w="989329" h="637539">
                <a:moveTo>
                  <a:pt x="39624" y="595757"/>
                </a:moveTo>
                <a:lnTo>
                  <a:pt x="41275" y="598932"/>
                </a:lnTo>
                <a:lnTo>
                  <a:pt x="43371" y="598932"/>
                </a:lnTo>
                <a:lnTo>
                  <a:pt x="39624" y="595757"/>
                </a:lnTo>
                <a:close/>
              </a:path>
              <a:path w="989329" h="637539">
                <a:moveTo>
                  <a:pt x="951103" y="597408"/>
                </a:moveTo>
                <a:lnTo>
                  <a:pt x="950512" y="597796"/>
                </a:lnTo>
                <a:lnTo>
                  <a:pt x="949579" y="598932"/>
                </a:lnTo>
                <a:lnTo>
                  <a:pt x="951103" y="597408"/>
                </a:lnTo>
                <a:close/>
              </a:path>
              <a:path w="989329" h="637539">
                <a:moveTo>
                  <a:pt x="980757" y="597408"/>
                </a:moveTo>
                <a:lnTo>
                  <a:pt x="951103" y="597408"/>
                </a:lnTo>
                <a:lnTo>
                  <a:pt x="949579" y="598932"/>
                </a:lnTo>
                <a:lnTo>
                  <a:pt x="979820" y="598932"/>
                </a:lnTo>
                <a:lnTo>
                  <a:pt x="980757" y="597408"/>
                </a:lnTo>
                <a:close/>
              </a:path>
              <a:path w="989329" h="637539">
                <a:moveTo>
                  <a:pt x="984908" y="589661"/>
                </a:moveTo>
                <a:lnTo>
                  <a:pt x="957199" y="589661"/>
                </a:lnTo>
                <a:lnTo>
                  <a:pt x="950512" y="597796"/>
                </a:lnTo>
                <a:lnTo>
                  <a:pt x="951103" y="597408"/>
                </a:lnTo>
                <a:lnTo>
                  <a:pt x="980757" y="597408"/>
                </a:lnTo>
                <a:lnTo>
                  <a:pt x="984504" y="591312"/>
                </a:lnTo>
                <a:lnTo>
                  <a:pt x="984908" y="589661"/>
                </a:lnTo>
                <a:close/>
              </a:path>
              <a:path w="989329" h="637539">
                <a:moveTo>
                  <a:pt x="34215" y="589661"/>
                </a:moveTo>
                <a:lnTo>
                  <a:pt x="33528" y="589661"/>
                </a:lnTo>
                <a:lnTo>
                  <a:pt x="35179" y="591312"/>
                </a:lnTo>
                <a:lnTo>
                  <a:pt x="34215" y="589661"/>
                </a:lnTo>
                <a:close/>
              </a:path>
              <a:path w="989329" h="637539">
                <a:moveTo>
                  <a:pt x="955675" y="45593"/>
                </a:moveTo>
                <a:lnTo>
                  <a:pt x="961771" y="56261"/>
                </a:lnTo>
                <a:lnTo>
                  <a:pt x="961771" y="59436"/>
                </a:lnTo>
                <a:lnTo>
                  <a:pt x="963168" y="64008"/>
                </a:lnTo>
                <a:lnTo>
                  <a:pt x="964691" y="70104"/>
                </a:lnTo>
                <a:lnTo>
                  <a:pt x="964691" y="568325"/>
                </a:lnTo>
                <a:lnTo>
                  <a:pt x="963168" y="572897"/>
                </a:lnTo>
                <a:lnTo>
                  <a:pt x="961771" y="577469"/>
                </a:lnTo>
                <a:lnTo>
                  <a:pt x="960247" y="582168"/>
                </a:lnTo>
                <a:lnTo>
                  <a:pt x="955675" y="591312"/>
                </a:lnTo>
                <a:lnTo>
                  <a:pt x="957199" y="589661"/>
                </a:lnTo>
                <a:lnTo>
                  <a:pt x="984908" y="589661"/>
                </a:lnTo>
                <a:lnTo>
                  <a:pt x="986028" y="585089"/>
                </a:lnTo>
                <a:lnTo>
                  <a:pt x="987679" y="577469"/>
                </a:lnTo>
                <a:lnTo>
                  <a:pt x="989203" y="569976"/>
                </a:lnTo>
                <a:lnTo>
                  <a:pt x="989203" y="65532"/>
                </a:lnTo>
                <a:lnTo>
                  <a:pt x="987679" y="57912"/>
                </a:lnTo>
                <a:lnTo>
                  <a:pt x="986028" y="50165"/>
                </a:lnTo>
                <a:lnTo>
                  <a:pt x="984628" y="47244"/>
                </a:lnTo>
                <a:lnTo>
                  <a:pt x="957199" y="47244"/>
                </a:lnTo>
                <a:lnTo>
                  <a:pt x="955675" y="45593"/>
                </a:lnTo>
                <a:close/>
              </a:path>
              <a:path w="989329" h="637539">
                <a:moveTo>
                  <a:pt x="35179" y="45593"/>
                </a:moveTo>
                <a:lnTo>
                  <a:pt x="33528" y="47244"/>
                </a:lnTo>
                <a:lnTo>
                  <a:pt x="34364" y="47244"/>
                </a:lnTo>
                <a:lnTo>
                  <a:pt x="35179" y="45593"/>
                </a:lnTo>
                <a:close/>
              </a:path>
              <a:path w="989329" h="637539">
                <a:moveTo>
                  <a:pt x="950000" y="38606"/>
                </a:moveTo>
                <a:lnTo>
                  <a:pt x="957199" y="47244"/>
                </a:lnTo>
                <a:lnTo>
                  <a:pt x="984628" y="47244"/>
                </a:lnTo>
                <a:lnTo>
                  <a:pt x="983107" y="44069"/>
                </a:lnTo>
                <a:lnTo>
                  <a:pt x="980494" y="39497"/>
                </a:lnTo>
                <a:lnTo>
                  <a:pt x="951103" y="39497"/>
                </a:lnTo>
                <a:lnTo>
                  <a:pt x="950000" y="38606"/>
                </a:lnTo>
                <a:close/>
              </a:path>
              <a:path w="989329" h="637539">
                <a:moveTo>
                  <a:pt x="41275" y="38100"/>
                </a:moveTo>
                <a:lnTo>
                  <a:pt x="39624" y="39497"/>
                </a:lnTo>
                <a:lnTo>
                  <a:pt x="41152" y="38244"/>
                </a:lnTo>
                <a:lnTo>
                  <a:pt x="41275" y="38100"/>
                </a:lnTo>
                <a:close/>
              </a:path>
              <a:path w="989329" h="637539">
                <a:moveTo>
                  <a:pt x="41152" y="38244"/>
                </a:moveTo>
                <a:lnTo>
                  <a:pt x="39624" y="39497"/>
                </a:lnTo>
                <a:lnTo>
                  <a:pt x="40091" y="39497"/>
                </a:lnTo>
                <a:lnTo>
                  <a:pt x="41152" y="38244"/>
                </a:lnTo>
                <a:close/>
              </a:path>
              <a:path w="989329" h="637539">
                <a:moveTo>
                  <a:pt x="949579" y="38100"/>
                </a:moveTo>
                <a:lnTo>
                  <a:pt x="950000" y="38606"/>
                </a:lnTo>
                <a:lnTo>
                  <a:pt x="951103" y="39497"/>
                </a:lnTo>
                <a:lnTo>
                  <a:pt x="949579" y="38100"/>
                </a:lnTo>
                <a:close/>
              </a:path>
              <a:path w="989329" h="637539">
                <a:moveTo>
                  <a:pt x="979696" y="38100"/>
                </a:moveTo>
                <a:lnTo>
                  <a:pt x="949579" y="38100"/>
                </a:lnTo>
                <a:lnTo>
                  <a:pt x="951103" y="39497"/>
                </a:lnTo>
                <a:lnTo>
                  <a:pt x="980494" y="39497"/>
                </a:lnTo>
                <a:lnTo>
                  <a:pt x="979696" y="38100"/>
                </a:lnTo>
                <a:close/>
              </a:path>
              <a:path w="989329" h="637539">
                <a:moveTo>
                  <a:pt x="977011" y="32004"/>
                </a:moveTo>
                <a:lnTo>
                  <a:pt x="941832" y="32004"/>
                </a:lnTo>
                <a:lnTo>
                  <a:pt x="950000" y="38606"/>
                </a:lnTo>
                <a:lnTo>
                  <a:pt x="949579" y="38100"/>
                </a:lnTo>
                <a:lnTo>
                  <a:pt x="979696" y="38100"/>
                </a:lnTo>
                <a:lnTo>
                  <a:pt x="977011" y="33401"/>
                </a:lnTo>
                <a:lnTo>
                  <a:pt x="977011" y="32004"/>
                </a:lnTo>
                <a:close/>
              </a:path>
              <a:path w="989329" h="637539">
                <a:moveTo>
                  <a:pt x="41328" y="38100"/>
                </a:moveTo>
                <a:lnTo>
                  <a:pt x="41152" y="38244"/>
                </a:lnTo>
                <a:lnTo>
                  <a:pt x="41328" y="38100"/>
                </a:lnTo>
                <a:close/>
              </a:path>
              <a:path w="989329" h="637539">
                <a:moveTo>
                  <a:pt x="48768" y="32004"/>
                </a:moveTo>
                <a:lnTo>
                  <a:pt x="45847" y="33401"/>
                </a:lnTo>
                <a:lnTo>
                  <a:pt x="48396" y="32308"/>
                </a:lnTo>
                <a:lnTo>
                  <a:pt x="48768" y="32004"/>
                </a:lnTo>
                <a:close/>
              </a:path>
              <a:path w="989329" h="637539">
                <a:moveTo>
                  <a:pt x="48396" y="32308"/>
                </a:moveTo>
                <a:lnTo>
                  <a:pt x="45847" y="33401"/>
                </a:lnTo>
                <a:lnTo>
                  <a:pt x="47063" y="33401"/>
                </a:lnTo>
                <a:lnTo>
                  <a:pt x="48396" y="32308"/>
                </a:lnTo>
                <a:close/>
              </a:path>
              <a:path w="989329" h="637539">
                <a:moveTo>
                  <a:pt x="970537" y="24257"/>
                </a:moveTo>
                <a:lnTo>
                  <a:pt x="915924" y="24257"/>
                </a:lnTo>
                <a:lnTo>
                  <a:pt x="922147" y="25908"/>
                </a:lnTo>
                <a:lnTo>
                  <a:pt x="926591" y="25908"/>
                </a:lnTo>
                <a:lnTo>
                  <a:pt x="931163" y="27432"/>
                </a:lnTo>
                <a:lnTo>
                  <a:pt x="935736" y="28829"/>
                </a:lnTo>
                <a:lnTo>
                  <a:pt x="943356" y="33401"/>
                </a:lnTo>
                <a:lnTo>
                  <a:pt x="941832" y="32004"/>
                </a:lnTo>
                <a:lnTo>
                  <a:pt x="977011" y="32004"/>
                </a:lnTo>
                <a:lnTo>
                  <a:pt x="970537" y="24257"/>
                </a:lnTo>
                <a:close/>
              </a:path>
              <a:path w="989329" h="637539">
                <a:moveTo>
                  <a:pt x="922147" y="0"/>
                </a:moveTo>
                <a:lnTo>
                  <a:pt x="65532" y="0"/>
                </a:lnTo>
                <a:lnTo>
                  <a:pt x="59436" y="1397"/>
                </a:lnTo>
                <a:lnTo>
                  <a:pt x="51943" y="2921"/>
                </a:lnTo>
                <a:lnTo>
                  <a:pt x="44196" y="5968"/>
                </a:lnTo>
                <a:lnTo>
                  <a:pt x="33528" y="12065"/>
                </a:lnTo>
                <a:lnTo>
                  <a:pt x="32004" y="13589"/>
                </a:lnTo>
                <a:lnTo>
                  <a:pt x="22860" y="19811"/>
                </a:lnTo>
                <a:lnTo>
                  <a:pt x="22860" y="21335"/>
                </a:lnTo>
                <a:lnTo>
                  <a:pt x="21336" y="21335"/>
                </a:lnTo>
                <a:lnTo>
                  <a:pt x="21336" y="22733"/>
                </a:lnTo>
                <a:lnTo>
                  <a:pt x="13843" y="32004"/>
                </a:lnTo>
                <a:lnTo>
                  <a:pt x="48768" y="32004"/>
                </a:lnTo>
                <a:lnTo>
                  <a:pt x="48396" y="32308"/>
                </a:lnTo>
                <a:lnTo>
                  <a:pt x="56515" y="28829"/>
                </a:lnTo>
                <a:lnTo>
                  <a:pt x="60960" y="27432"/>
                </a:lnTo>
                <a:lnTo>
                  <a:pt x="65532" y="25908"/>
                </a:lnTo>
                <a:lnTo>
                  <a:pt x="70104" y="25908"/>
                </a:lnTo>
                <a:lnTo>
                  <a:pt x="74803" y="24257"/>
                </a:lnTo>
                <a:lnTo>
                  <a:pt x="970537" y="24257"/>
                </a:lnTo>
                <a:lnTo>
                  <a:pt x="969263" y="22733"/>
                </a:lnTo>
                <a:lnTo>
                  <a:pt x="967866" y="21335"/>
                </a:lnTo>
                <a:lnTo>
                  <a:pt x="967866" y="19811"/>
                </a:lnTo>
                <a:lnTo>
                  <a:pt x="958596" y="13589"/>
                </a:lnTo>
                <a:lnTo>
                  <a:pt x="957199" y="12065"/>
                </a:lnTo>
                <a:lnTo>
                  <a:pt x="955675" y="12065"/>
                </a:lnTo>
                <a:lnTo>
                  <a:pt x="937260" y="2921"/>
                </a:lnTo>
                <a:lnTo>
                  <a:pt x="929766" y="1397"/>
                </a:lnTo>
                <a:lnTo>
                  <a:pt x="9221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object 24"/>
          <p:cNvSpPr/>
          <p:nvPr/>
        </p:nvSpPr>
        <p:spPr>
          <a:xfrm>
            <a:off x="3473640" y="2345400"/>
            <a:ext cx="858960" cy="550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1" name="object 25"/>
          <p:cNvSpPr/>
          <p:nvPr/>
        </p:nvSpPr>
        <p:spPr>
          <a:xfrm>
            <a:off x="3469680" y="234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3189"/>
                </a:moveTo>
                <a:lnTo>
                  <a:pt x="32131" y="623189"/>
                </a:lnTo>
                <a:lnTo>
                  <a:pt x="32131" y="624713"/>
                </a:lnTo>
                <a:lnTo>
                  <a:pt x="33528" y="624713"/>
                </a:lnTo>
                <a:lnTo>
                  <a:pt x="45720" y="630936"/>
                </a:lnTo>
                <a:lnTo>
                  <a:pt x="51943" y="633857"/>
                </a:lnTo>
                <a:lnTo>
                  <a:pt x="59562" y="635381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29766" y="635381"/>
                </a:lnTo>
                <a:lnTo>
                  <a:pt x="937260" y="632460"/>
                </a:lnTo>
                <a:lnTo>
                  <a:pt x="945007" y="630936"/>
                </a:lnTo>
                <a:lnTo>
                  <a:pt x="955675" y="624713"/>
                </a:lnTo>
                <a:lnTo>
                  <a:pt x="955675" y="623189"/>
                </a:lnTo>
                <a:close/>
              </a:path>
              <a:path w="989329" h="637539">
                <a:moveTo>
                  <a:pt x="45720" y="601853"/>
                </a:moveTo>
                <a:lnTo>
                  <a:pt x="47371" y="603504"/>
                </a:lnTo>
                <a:lnTo>
                  <a:pt x="12192" y="603504"/>
                </a:lnTo>
                <a:lnTo>
                  <a:pt x="12192" y="605028"/>
                </a:lnTo>
                <a:lnTo>
                  <a:pt x="19938" y="614045"/>
                </a:lnTo>
                <a:lnTo>
                  <a:pt x="21463" y="614045"/>
                </a:lnTo>
                <a:lnTo>
                  <a:pt x="21463" y="615696"/>
                </a:lnTo>
                <a:lnTo>
                  <a:pt x="30607" y="623189"/>
                </a:lnTo>
                <a:lnTo>
                  <a:pt x="957199" y="623189"/>
                </a:lnTo>
                <a:lnTo>
                  <a:pt x="966343" y="615696"/>
                </a:lnTo>
                <a:lnTo>
                  <a:pt x="967866" y="614045"/>
                </a:lnTo>
                <a:lnTo>
                  <a:pt x="970294" y="611124"/>
                </a:lnTo>
                <a:lnTo>
                  <a:pt x="67056" y="611124"/>
                </a:lnTo>
                <a:lnTo>
                  <a:pt x="62611" y="609600"/>
                </a:lnTo>
                <a:lnTo>
                  <a:pt x="58039" y="609600"/>
                </a:lnTo>
                <a:lnTo>
                  <a:pt x="53467" y="606425"/>
                </a:lnTo>
                <a:lnTo>
                  <a:pt x="45720" y="601853"/>
                </a:lnTo>
                <a:close/>
              </a:path>
              <a:path w="989329" h="637539">
                <a:moveTo>
                  <a:pt x="977827" y="601853"/>
                </a:moveTo>
                <a:lnTo>
                  <a:pt x="943356" y="601853"/>
                </a:lnTo>
                <a:lnTo>
                  <a:pt x="932688" y="607949"/>
                </a:lnTo>
                <a:lnTo>
                  <a:pt x="928243" y="609600"/>
                </a:lnTo>
                <a:lnTo>
                  <a:pt x="923671" y="611124"/>
                </a:lnTo>
                <a:lnTo>
                  <a:pt x="970294" y="611124"/>
                </a:lnTo>
                <a:lnTo>
                  <a:pt x="975360" y="605028"/>
                </a:lnTo>
                <a:lnTo>
                  <a:pt x="975360" y="603504"/>
                </a:lnTo>
                <a:lnTo>
                  <a:pt x="977011" y="603504"/>
                </a:lnTo>
                <a:lnTo>
                  <a:pt x="977827" y="601853"/>
                </a:lnTo>
                <a:close/>
              </a:path>
              <a:path w="989329" h="637539">
                <a:moveTo>
                  <a:pt x="967866" y="21335"/>
                </a:moveTo>
                <a:lnTo>
                  <a:pt x="19938" y="21335"/>
                </a:lnTo>
                <a:lnTo>
                  <a:pt x="12192" y="30353"/>
                </a:lnTo>
                <a:lnTo>
                  <a:pt x="12093" y="32111"/>
                </a:lnTo>
                <a:lnTo>
                  <a:pt x="10795" y="33528"/>
                </a:lnTo>
                <a:lnTo>
                  <a:pt x="4699" y="45593"/>
                </a:lnTo>
                <a:lnTo>
                  <a:pt x="3175" y="51689"/>
                </a:lnTo>
                <a:lnTo>
                  <a:pt x="0" y="59436"/>
                </a:lnTo>
                <a:lnTo>
                  <a:pt x="0" y="571500"/>
                </a:lnTo>
                <a:lnTo>
                  <a:pt x="1524" y="577596"/>
                </a:lnTo>
                <a:lnTo>
                  <a:pt x="3175" y="585089"/>
                </a:lnTo>
                <a:lnTo>
                  <a:pt x="6096" y="592836"/>
                </a:lnTo>
                <a:lnTo>
                  <a:pt x="10795" y="603504"/>
                </a:lnTo>
                <a:lnTo>
                  <a:pt x="47371" y="603504"/>
                </a:lnTo>
                <a:lnTo>
                  <a:pt x="39923" y="597281"/>
                </a:lnTo>
                <a:lnTo>
                  <a:pt x="39624" y="597281"/>
                </a:lnTo>
                <a:lnTo>
                  <a:pt x="38100" y="595757"/>
                </a:lnTo>
                <a:lnTo>
                  <a:pt x="38357" y="595757"/>
                </a:lnTo>
                <a:lnTo>
                  <a:pt x="34558" y="591185"/>
                </a:lnTo>
                <a:lnTo>
                  <a:pt x="33528" y="591185"/>
                </a:lnTo>
                <a:lnTo>
                  <a:pt x="27432" y="580517"/>
                </a:lnTo>
                <a:lnTo>
                  <a:pt x="27432" y="575945"/>
                </a:lnTo>
                <a:lnTo>
                  <a:pt x="26034" y="571500"/>
                </a:lnTo>
                <a:lnTo>
                  <a:pt x="24511" y="566928"/>
                </a:lnTo>
                <a:lnTo>
                  <a:pt x="24511" y="67056"/>
                </a:lnTo>
                <a:lnTo>
                  <a:pt x="26034" y="62357"/>
                </a:lnTo>
                <a:lnTo>
                  <a:pt x="27432" y="57785"/>
                </a:lnTo>
                <a:lnTo>
                  <a:pt x="28956" y="53212"/>
                </a:lnTo>
                <a:lnTo>
                  <a:pt x="32613" y="47117"/>
                </a:lnTo>
                <a:lnTo>
                  <a:pt x="32131" y="47117"/>
                </a:lnTo>
                <a:lnTo>
                  <a:pt x="38357" y="39624"/>
                </a:lnTo>
                <a:lnTo>
                  <a:pt x="38100" y="39624"/>
                </a:lnTo>
                <a:lnTo>
                  <a:pt x="39624" y="38100"/>
                </a:lnTo>
                <a:lnTo>
                  <a:pt x="39954" y="38100"/>
                </a:lnTo>
                <a:lnTo>
                  <a:pt x="47371" y="32004"/>
                </a:lnTo>
                <a:lnTo>
                  <a:pt x="48006" y="32004"/>
                </a:lnTo>
                <a:lnTo>
                  <a:pt x="54864" y="27432"/>
                </a:lnTo>
                <a:lnTo>
                  <a:pt x="59562" y="27432"/>
                </a:lnTo>
                <a:lnTo>
                  <a:pt x="64135" y="25781"/>
                </a:lnTo>
                <a:lnTo>
                  <a:pt x="68707" y="24257"/>
                </a:lnTo>
                <a:lnTo>
                  <a:pt x="970294" y="24257"/>
                </a:lnTo>
                <a:lnTo>
                  <a:pt x="967866" y="21335"/>
                </a:lnTo>
                <a:close/>
              </a:path>
              <a:path w="989329" h="637539">
                <a:moveTo>
                  <a:pt x="948632" y="596461"/>
                </a:moveTo>
                <a:lnTo>
                  <a:pt x="940435" y="603504"/>
                </a:lnTo>
                <a:lnTo>
                  <a:pt x="943356" y="601853"/>
                </a:lnTo>
                <a:lnTo>
                  <a:pt x="977827" y="601853"/>
                </a:lnTo>
                <a:lnTo>
                  <a:pt x="980090" y="597281"/>
                </a:lnTo>
                <a:lnTo>
                  <a:pt x="947928" y="597281"/>
                </a:lnTo>
                <a:lnTo>
                  <a:pt x="948632" y="596461"/>
                </a:lnTo>
                <a:close/>
              </a:path>
              <a:path w="989329" h="637539">
                <a:moveTo>
                  <a:pt x="38100" y="595757"/>
                </a:moveTo>
                <a:lnTo>
                  <a:pt x="39624" y="597281"/>
                </a:lnTo>
                <a:lnTo>
                  <a:pt x="38942" y="596461"/>
                </a:lnTo>
                <a:lnTo>
                  <a:pt x="38100" y="595757"/>
                </a:lnTo>
                <a:close/>
              </a:path>
              <a:path w="989329" h="637539">
                <a:moveTo>
                  <a:pt x="38942" y="596461"/>
                </a:moveTo>
                <a:lnTo>
                  <a:pt x="39624" y="597281"/>
                </a:lnTo>
                <a:lnTo>
                  <a:pt x="39923" y="597281"/>
                </a:lnTo>
                <a:lnTo>
                  <a:pt x="38942" y="596461"/>
                </a:lnTo>
                <a:close/>
              </a:path>
              <a:path w="989329" h="637539">
                <a:moveTo>
                  <a:pt x="949452" y="595757"/>
                </a:moveTo>
                <a:lnTo>
                  <a:pt x="948632" y="596461"/>
                </a:lnTo>
                <a:lnTo>
                  <a:pt x="947928" y="597281"/>
                </a:lnTo>
                <a:lnTo>
                  <a:pt x="949452" y="595757"/>
                </a:lnTo>
                <a:close/>
              </a:path>
              <a:path w="989329" h="637539">
                <a:moveTo>
                  <a:pt x="980844" y="595757"/>
                </a:moveTo>
                <a:lnTo>
                  <a:pt x="949452" y="595757"/>
                </a:lnTo>
                <a:lnTo>
                  <a:pt x="947928" y="597281"/>
                </a:lnTo>
                <a:lnTo>
                  <a:pt x="980090" y="597281"/>
                </a:lnTo>
                <a:lnTo>
                  <a:pt x="980844" y="595757"/>
                </a:lnTo>
                <a:close/>
              </a:path>
              <a:path w="989329" h="637539">
                <a:moveTo>
                  <a:pt x="38357" y="595757"/>
                </a:moveTo>
                <a:lnTo>
                  <a:pt x="38100" y="595757"/>
                </a:lnTo>
                <a:lnTo>
                  <a:pt x="38942" y="596461"/>
                </a:lnTo>
                <a:lnTo>
                  <a:pt x="38357" y="595757"/>
                </a:lnTo>
                <a:close/>
              </a:path>
              <a:path w="989329" h="637539">
                <a:moveTo>
                  <a:pt x="955260" y="588746"/>
                </a:moveTo>
                <a:lnTo>
                  <a:pt x="948632" y="596461"/>
                </a:lnTo>
                <a:lnTo>
                  <a:pt x="949452" y="595757"/>
                </a:lnTo>
                <a:lnTo>
                  <a:pt x="980844" y="595757"/>
                </a:lnTo>
                <a:lnTo>
                  <a:pt x="983107" y="591185"/>
                </a:lnTo>
                <a:lnTo>
                  <a:pt x="954024" y="591185"/>
                </a:lnTo>
                <a:lnTo>
                  <a:pt x="955260" y="588746"/>
                </a:lnTo>
                <a:close/>
              </a:path>
              <a:path w="989329" h="637539">
                <a:moveTo>
                  <a:pt x="32131" y="588264"/>
                </a:moveTo>
                <a:lnTo>
                  <a:pt x="33528" y="591185"/>
                </a:lnTo>
                <a:lnTo>
                  <a:pt x="34558" y="591185"/>
                </a:lnTo>
                <a:lnTo>
                  <a:pt x="32131" y="588264"/>
                </a:lnTo>
                <a:close/>
              </a:path>
              <a:path w="989329" h="637539">
                <a:moveTo>
                  <a:pt x="955675" y="588264"/>
                </a:moveTo>
                <a:lnTo>
                  <a:pt x="955260" y="588746"/>
                </a:lnTo>
                <a:lnTo>
                  <a:pt x="954024" y="591185"/>
                </a:lnTo>
                <a:lnTo>
                  <a:pt x="955675" y="588264"/>
                </a:lnTo>
                <a:close/>
              </a:path>
              <a:path w="989329" h="637539">
                <a:moveTo>
                  <a:pt x="984245" y="588264"/>
                </a:moveTo>
                <a:lnTo>
                  <a:pt x="955675" y="588264"/>
                </a:lnTo>
                <a:lnTo>
                  <a:pt x="954024" y="591185"/>
                </a:lnTo>
                <a:lnTo>
                  <a:pt x="983107" y="591185"/>
                </a:lnTo>
                <a:lnTo>
                  <a:pt x="984245" y="588264"/>
                </a:lnTo>
                <a:close/>
              </a:path>
              <a:path w="989329" h="637539">
                <a:moveTo>
                  <a:pt x="954024" y="45593"/>
                </a:moveTo>
                <a:lnTo>
                  <a:pt x="960119" y="54864"/>
                </a:lnTo>
                <a:lnTo>
                  <a:pt x="961771" y="59436"/>
                </a:lnTo>
                <a:lnTo>
                  <a:pt x="961771" y="63881"/>
                </a:lnTo>
                <a:lnTo>
                  <a:pt x="963294" y="68453"/>
                </a:lnTo>
                <a:lnTo>
                  <a:pt x="963294" y="568325"/>
                </a:lnTo>
                <a:lnTo>
                  <a:pt x="961771" y="573024"/>
                </a:lnTo>
                <a:lnTo>
                  <a:pt x="960119" y="577596"/>
                </a:lnTo>
                <a:lnTo>
                  <a:pt x="958596" y="582168"/>
                </a:lnTo>
                <a:lnTo>
                  <a:pt x="955260" y="588746"/>
                </a:lnTo>
                <a:lnTo>
                  <a:pt x="955675" y="588264"/>
                </a:lnTo>
                <a:lnTo>
                  <a:pt x="984245" y="588264"/>
                </a:lnTo>
                <a:lnTo>
                  <a:pt x="986028" y="583692"/>
                </a:lnTo>
                <a:lnTo>
                  <a:pt x="987552" y="577596"/>
                </a:lnTo>
                <a:lnTo>
                  <a:pt x="987552" y="569849"/>
                </a:lnTo>
                <a:lnTo>
                  <a:pt x="989203" y="562356"/>
                </a:lnTo>
                <a:lnTo>
                  <a:pt x="989203" y="73025"/>
                </a:lnTo>
                <a:lnTo>
                  <a:pt x="987552" y="65532"/>
                </a:lnTo>
                <a:lnTo>
                  <a:pt x="987552" y="57785"/>
                </a:lnTo>
                <a:lnTo>
                  <a:pt x="984631" y="50292"/>
                </a:lnTo>
                <a:lnTo>
                  <a:pt x="983329" y="47117"/>
                </a:lnTo>
                <a:lnTo>
                  <a:pt x="955675" y="47117"/>
                </a:lnTo>
                <a:lnTo>
                  <a:pt x="954024" y="45593"/>
                </a:lnTo>
                <a:close/>
              </a:path>
              <a:path w="989329" h="637539">
                <a:moveTo>
                  <a:pt x="33528" y="45593"/>
                </a:moveTo>
                <a:lnTo>
                  <a:pt x="32131" y="47117"/>
                </a:lnTo>
                <a:lnTo>
                  <a:pt x="32613" y="47117"/>
                </a:lnTo>
                <a:lnTo>
                  <a:pt x="33528" y="45593"/>
                </a:lnTo>
                <a:close/>
              </a:path>
              <a:path w="989329" h="637539">
                <a:moveTo>
                  <a:pt x="948668" y="38961"/>
                </a:moveTo>
                <a:lnTo>
                  <a:pt x="955675" y="47117"/>
                </a:lnTo>
                <a:lnTo>
                  <a:pt x="983329" y="47117"/>
                </a:lnTo>
                <a:lnTo>
                  <a:pt x="981456" y="42545"/>
                </a:lnTo>
                <a:lnTo>
                  <a:pt x="980016" y="39624"/>
                </a:lnTo>
                <a:lnTo>
                  <a:pt x="949452" y="39624"/>
                </a:lnTo>
                <a:lnTo>
                  <a:pt x="948668" y="38961"/>
                </a:lnTo>
                <a:close/>
              </a:path>
              <a:path w="989329" h="637539">
                <a:moveTo>
                  <a:pt x="39624" y="38100"/>
                </a:moveTo>
                <a:lnTo>
                  <a:pt x="38100" y="39624"/>
                </a:lnTo>
                <a:lnTo>
                  <a:pt x="38912" y="38956"/>
                </a:lnTo>
                <a:lnTo>
                  <a:pt x="39624" y="38100"/>
                </a:lnTo>
                <a:close/>
              </a:path>
              <a:path w="989329" h="637539">
                <a:moveTo>
                  <a:pt x="38912" y="38956"/>
                </a:moveTo>
                <a:lnTo>
                  <a:pt x="38100" y="39624"/>
                </a:lnTo>
                <a:lnTo>
                  <a:pt x="38357" y="39624"/>
                </a:lnTo>
                <a:lnTo>
                  <a:pt x="38912" y="38956"/>
                </a:lnTo>
                <a:close/>
              </a:path>
              <a:path w="989329" h="637539">
                <a:moveTo>
                  <a:pt x="947928" y="38100"/>
                </a:moveTo>
                <a:lnTo>
                  <a:pt x="948668" y="38961"/>
                </a:lnTo>
                <a:lnTo>
                  <a:pt x="949452" y="39624"/>
                </a:lnTo>
                <a:lnTo>
                  <a:pt x="947928" y="38100"/>
                </a:lnTo>
                <a:close/>
              </a:path>
              <a:path w="989329" h="637539">
                <a:moveTo>
                  <a:pt x="979264" y="38100"/>
                </a:moveTo>
                <a:lnTo>
                  <a:pt x="947928" y="38100"/>
                </a:lnTo>
                <a:lnTo>
                  <a:pt x="949452" y="39624"/>
                </a:lnTo>
                <a:lnTo>
                  <a:pt x="980016" y="39624"/>
                </a:lnTo>
                <a:lnTo>
                  <a:pt x="979264" y="38100"/>
                </a:lnTo>
                <a:close/>
              </a:path>
              <a:path w="989329" h="637539">
                <a:moveTo>
                  <a:pt x="940562" y="32111"/>
                </a:moveTo>
                <a:lnTo>
                  <a:pt x="948668" y="38961"/>
                </a:lnTo>
                <a:lnTo>
                  <a:pt x="947928" y="38100"/>
                </a:lnTo>
                <a:lnTo>
                  <a:pt x="979264" y="38100"/>
                </a:lnTo>
                <a:lnTo>
                  <a:pt x="977011" y="33528"/>
                </a:lnTo>
                <a:lnTo>
                  <a:pt x="943356" y="33528"/>
                </a:lnTo>
                <a:lnTo>
                  <a:pt x="940562" y="32111"/>
                </a:lnTo>
                <a:close/>
              </a:path>
              <a:path w="989329" h="637539">
                <a:moveTo>
                  <a:pt x="39954" y="38100"/>
                </a:moveTo>
                <a:lnTo>
                  <a:pt x="39624" y="38100"/>
                </a:lnTo>
                <a:lnTo>
                  <a:pt x="38912" y="38956"/>
                </a:lnTo>
                <a:lnTo>
                  <a:pt x="39954" y="38100"/>
                </a:lnTo>
                <a:close/>
              </a:path>
              <a:path w="989329" h="637539">
                <a:moveTo>
                  <a:pt x="48006" y="32004"/>
                </a:moveTo>
                <a:lnTo>
                  <a:pt x="47371" y="32004"/>
                </a:lnTo>
                <a:lnTo>
                  <a:pt x="45720" y="33528"/>
                </a:lnTo>
                <a:lnTo>
                  <a:pt x="48006" y="32004"/>
                </a:lnTo>
                <a:close/>
              </a:path>
              <a:path w="989329" h="637539">
                <a:moveTo>
                  <a:pt x="940435" y="32004"/>
                </a:moveTo>
                <a:lnTo>
                  <a:pt x="940562" y="32111"/>
                </a:lnTo>
                <a:lnTo>
                  <a:pt x="943356" y="33528"/>
                </a:lnTo>
                <a:lnTo>
                  <a:pt x="940435" y="32004"/>
                </a:lnTo>
                <a:close/>
              </a:path>
              <a:path w="989329" h="637539">
                <a:moveTo>
                  <a:pt x="977011" y="32004"/>
                </a:moveTo>
                <a:lnTo>
                  <a:pt x="940435" y="32004"/>
                </a:lnTo>
                <a:lnTo>
                  <a:pt x="943356" y="33528"/>
                </a:lnTo>
                <a:lnTo>
                  <a:pt x="977011" y="33528"/>
                </a:lnTo>
                <a:lnTo>
                  <a:pt x="977011" y="32004"/>
                </a:lnTo>
                <a:close/>
              </a:path>
              <a:path w="989329" h="637539">
                <a:moveTo>
                  <a:pt x="970294" y="24257"/>
                </a:moveTo>
                <a:lnTo>
                  <a:pt x="920496" y="24257"/>
                </a:lnTo>
                <a:lnTo>
                  <a:pt x="925194" y="25781"/>
                </a:lnTo>
                <a:lnTo>
                  <a:pt x="929766" y="27432"/>
                </a:lnTo>
                <a:lnTo>
                  <a:pt x="934338" y="28956"/>
                </a:lnTo>
                <a:lnTo>
                  <a:pt x="940562" y="32111"/>
                </a:lnTo>
                <a:lnTo>
                  <a:pt x="940435" y="32004"/>
                </a:lnTo>
                <a:lnTo>
                  <a:pt x="975360" y="32004"/>
                </a:lnTo>
                <a:lnTo>
                  <a:pt x="975360" y="30353"/>
                </a:lnTo>
                <a:lnTo>
                  <a:pt x="970294" y="24257"/>
                </a:lnTo>
                <a:close/>
              </a:path>
              <a:path w="989329" h="637539">
                <a:moveTo>
                  <a:pt x="957199" y="12192"/>
                </a:moveTo>
                <a:lnTo>
                  <a:pt x="30607" y="12192"/>
                </a:lnTo>
                <a:lnTo>
                  <a:pt x="21463" y="19684"/>
                </a:lnTo>
                <a:lnTo>
                  <a:pt x="21463" y="21335"/>
                </a:lnTo>
                <a:lnTo>
                  <a:pt x="966343" y="21335"/>
                </a:lnTo>
                <a:lnTo>
                  <a:pt x="966343" y="19684"/>
                </a:lnTo>
                <a:lnTo>
                  <a:pt x="957199" y="12192"/>
                </a:lnTo>
                <a:close/>
              </a:path>
              <a:path w="989329" h="637539">
                <a:moveTo>
                  <a:pt x="929766" y="0"/>
                </a:moveTo>
                <a:lnTo>
                  <a:pt x="65532" y="0"/>
                </a:lnTo>
                <a:lnTo>
                  <a:pt x="58039" y="1524"/>
                </a:lnTo>
                <a:lnTo>
                  <a:pt x="50292" y="2921"/>
                </a:lnTo>
                <a:lnTo>
                  <a:pt x="44196" y="6096"/>
                </a:lnTo>
                <a:lnTo>
                  <a:pt x="33528" y="10667"/>
                </a:lnTo>
                <a:lnTo>
                  <a:pt x="32131" y="12192"/>
                </a:lnTo>
                <a:lnTo>
                  <a:pt x="955675" y="12192"/>
                </a:lnTo>
                <a:lnTo>
                  <a:pt x="955675" y="10667"/>
                </a:lnTo>
                <a:lnTo>
                  <a:pt x="943356" y="4444"/>
                </a:lnTo>
                <a:lnTo>
                  <a:pt x="935863" y="2921"/>
                </a:lnTo>
                <a:lnTo>
                  <a:pt x="92976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object 26"/>
          <p:cNvSpPr/>
          <p:nvPr/>
        </p:nvSpPr>
        <p:spPr>
          <a:xfrm>
            <a:off x="3599640" y="2453760"/>
            <a:ext cx="612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080"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58.6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27"/>
          <p:cNvSpPr/>
          <p:nvPr/>
        </p:nvSpPr>
        <p:spPr>
          <a:xfrm>
            <a:off x="4710960" y="1752120"/>
            <a:ext cx="849600" cy="539280"/>
          </a:xfrm>
          <a:custGeom>
            <a:avLst/>
            <a:gdLst>
              <a:gd name="textAreaLeft" fmla="*/ 0 w 849600"/>
              <a:gd name="textAreaRight" fmla="*/ 849960 w 8496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3295" h="611505">
                <a:moveTo>
                  <a:pt x="902335" y="0"/>
                </a:moveTo>
                <a:lnTo>
                  <a:pt x="60960" y="0"/>
                </a:lnTo>
                <a:lnTo>
                  <a:pt x="37290" y="4812"/>
                </a:lnTo>
                <a:lnTo>
                  <a:pt x="17907" y="17922"/>
                </a:lnTo>
                <a:lnTo>
                  <a:pt x="4810" y="37343"/>
                </a:lnTo>
                <a:lnTo>
                  <a:pt x="0" y="61087"/>
                </a:lnTo>
                <a:lnTo>
                  <a:pt x="0" y="550164"/>
                </a:lnTo>
                <a:lnTo>
                  <a:pt x="4810" y="573907"/>
                </a:lnTo>
                <a:lnTo>
                  <a:pt x="17907" y="593328"/>
                </a:lnTo>
                <a:lnTo>
                  <a:pt x="37290" y="606438"/>
                </a:lnTo>
                <a:lnTo>
                  <a:pt x="60960" y="611251"/>
                </a:lnTo>
                <a:lnTo>
                  <a:pt x="902335" y="611251"/>
                </a:lnTo>
                <a:lnTo>
                  <a:pt x="925931" y="606438"/>
                </a:lnTo>
                <a:lnTo>
                  <a:pt x="945276" y="593328"/>
                </a:lnTo>
                <a:lnTo>
                  <a:pt x="958359" y="573907"/>
                </a:lnTo>
                <a:lnTo>
                  <a:pt x="963168" y="550164"/>
                </a:lnTo>
                <a:lnTo>
                  <a:pt x="963168" y="61087"/>
                </a:lnTo>
                <a:lnTo>
                  <a:pt x="958359" y="37343"/>
                </a:lnTo>
                <a:lnTo>
                  <a:pt x="945276" y="17922"/>
                </a:lnTo>
                <a:lnTo>
                  <a:pt x="925931" y="4812"/>
                </a:lnTo>
                <a:lnTo>
                  <a:pt x="902335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4" name="object 28"/>
          <p:cNvSpPr/>
          <p:nvPr/>
        </p:nvSpPr>
        <p:spPr>
          <a:xfrm>
            <a:off x="4698720" y="1740240"/>
            <a:ext cx="872640" cy="5634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89329" h="638810">
                <a:moveTo>
                  <a:pt x="923416" y="637032"/>
                </a:moveTo>
                <a:lnTo>
                  <a:pt x="67056" y="637032"/>
                </a:lnTo>
                <a:lnTo>
                  <a:pt x="74549" y="638429"/>
                </a:lnTo>
                <a:lnTo>
                  <a:pt x="915924" y="638429"/>
                </a:lnTo>
                <a:lnTo>
                  <a:pt x="923416" y="637032"/>
                </a:lnTo>
                <a:close/>
              </a:path>
              <a:path w="989329" h="638810">
                <a:moveTo>
                  <a:pt x="956944" y="624840"/>
                </a:moveTo>
                <a:lnTo>
                  <a:pt x="33528" y="624840"/>
                </a:lnTo>
                <a:lnTo>
                  <a:pt x="33528" y="626363"/>
                </a:lnTo>
                <a:lnTo>
                  <a:pt x="45720" y="632332"/>
                </a:lnTo>
                <a:lnTo>
                  <a:pt x="53213" y="635507"/>
                </a:lnTo>
                <a:lnTo>
                  <a:pt x="59436" y="637032"/>
                </a:lnTo>
                <a:lnTo>
                  <a:pt x="931163" y="637032"/>
                </a:lnTo>
                <a:lnTo>
                  <a:pt x="938657" y="633857"/>
                </a:lnTo>
                <a:lnTo>
                  <a:pt x="944753" y="630935"/>
                </a:lnTo>
                <a:lnTo>
                  <a:pt x="955421" y="626363"/>
                </a:lnTo>
                <a:lnTo>
                  <a:pt x="956944" y="624840"/>
                </a:lnTo>
                <a:close/>
              </a:path>
              <a:path w="989329" h="638810">
                <a:moveTo>
                  <a:pt x="958596" y="13588"/>
                </a:moveTo>
                <a:lnTo>
                  <a:pt x="31876" y="13588"/>
                </a:lnTo>
                <a:lnTo>
                  <a:pt x="22860" y="21335"/>
                </a:lnTo>
                <a:lnTo>
                  <a:pt x="21336" y="22732"/>
                </a:lnTo>
                <a:lnTo>
                  <a:pt x="13589" y="32003"/>
                </a:lnTo>
                <a:lnTo>
                  <a:pt x="13589" y="33527"/>
                </a:lnTo>
                <a:lnTo>
                  <a:pt x="12192" y="33527"/>
                </a:lnTo>
                <a:lnTo>
                  <a:pt x="6096" y="45592"/>
                </a:lnTo>
                <a:lnTo>
                  <a:pt x="2921" y="53339"/>
                </a:lnTo>
                <a:lnTo>
                  <a:pt x="1524" y="59435"/>
                </a:lnTo>
                <a:lnTo>
                  <a:pt x="0" y="66928"/>
                </a:lnTo>
                <a:lnTo>
                  <a:pt x="0" y="572896"/>
                </a:lnTo>
                <a:lnTo>
                  <a:pt x="1524" y="578993"/>
                </a:lnTo>
                <a:lnTo>
                  <a:pt x="4445" y="586740"/>
                </a:lnTo>
                <a:lnTo>
                  <a:pt x="6096" y="594232"/>
                </a:lnTo>
                <a:lnTo>
                  <a:pt x="12192" y="605028"/>
                </a:lnTo>
                <a:lnTo>
                  <a:pt x="13589" y="605028"/>
                </a:lnTo>
                <a:lnTo>
                  <a:pt x="13589" y="606424"/>
                </a:lnTo>
                <a:lnTo>
                  <a:pt x="21336" y="615696"/>
                </a:lnTo>
                <a:lnTo>
                  <a:pt x="22860" y="617093"/>
                </a:lnTo>
                <a:lnTo>
                  <a:pt x="31876" y="624840"/>
                </a:lnTo>
                <a:lnTo>
                  <a:pt x="958596" y="624840"/>
                </a:lnTo>
                <a:lnTo>
                  <a:pt x="966088" y="617093"/>
                </a:lnTo>
                <a:lnTo>
                  <a:pt x="967613" y="617093"/>
                </a:lnTo>
                <a:lnTo>
                  <a:pt x="967613" y="615696"/>
                </a:lnTo>
                <a:lnTo>
                  <a:pt x="969263" y="615696"/>
                </a:lnTo>
                <a:lnTo>
                  <a:pt x="971351" y="612521"/>
                </a:lnTo>
                <a:lnTo>
                  <a:pt x="68453" y="612521"/>
                </a:lnTo>
                <a:lnTo>
                  <a:pt x="63881" y="610996"/>
                </a:lnTo>
                <a:lnTo>
                  <a:pt x="59436" y="609599"/>
                </a:lnTo>
                <a:lnTo>
                  <a:pt x="54864" y="608076"/>
                </a:lnTo>
                <a:lnTo>
                  <a:pt x="45720" y="603504"/>
                </a:lnTo>
                <a:lnTo>
                  <a:pt x="46939" y="603504"/>
                </a:lnTo>
                <a:lnTo>
                  <a:pt x="41452" y="598932"/>
                </a:lnTo>
                <a:lnTo>
                  <a:pt x="41021" y="598932"/>
                </a:lnTo>
                <a:lnTo>
                  <a:pt x="39624" y="597407"/>
                </a:lnTo>
                <a:lnTo>
                  <a:pt x="39789" y="597407"/>
                </a:lnTo>
                <a:lnTo>
                  <a:pt x="36094" y="592835"/>
                </a:lnTo>
                <a:lnTo>
                  <a:pt x="34925" y="592835"/>
                </a:lnTo>
                <a:lnTo>
                  <a:pt x="28956" y="582168"/>
                </a:lnTo>
                <a:lnTo>
                  <a:pt x="27432" y="577596"/>
                </a:lnTo>
                <a:lnTo>
                  <a:pt x="25780" y="572896"/>
                </a:lnTo>
                <a:lnTo>
                  <a:pt x="25780" y="68452"/>
                </a:lnTo>
                <a:lnTo>
                  <a:pt x="27432" y="64007"/>
                </a:lnTo>
                <a:lnTo>
                  <a:pt x="27432" y="59435"/>
                </a:lnTo>
                <a:lnTo>
                  <a:pt x="30353" y="54863"/>
                </a:lnTo>
                <a:lnTo>
                  <a:pt x="34925" y="45592"/>
                </a:lnTo>
                <a:lnTo>
                  <a:pt x="36094" y="45592"/>
                </a:lnTo>
                <a:lnTo>
                  <a:pt x="39789" y="41020"/>
                </a:lnTo>
                <a:lnTo>
                  <a:pt x="39624" y="41020"/>
                </a:lnTo>
                <a:lnTo>
                  <a:pt x="41021" y="39496"/>
                </a:lnTo>
                <a:lnTo>
                  <a:pt x="41483" y="39496"/>
                </a:lnTo>
                <a:lnTo>
                  <a:pt x="47063" y="34924"/>
                </a:lnTo>
                <a:lnTo>
                  <a:pt x="45720" y="34924"/>
                </a:lnTo>
                <a:lnTo>
                  <a:pt x="56388" y="28828"/>
                </a:lnTo>
                <a:lnTo>
                  <a:pt x="60960" y="27431"/>
                </a:lnTo>
                <a:lnTo>
                  <a:pt x="65532" y="27431"/>
                </a:lnTo>
                <a:lnTo>
                  <a:pt x="69977" y="25907"/>
                </a:lnTo>
                <a:lnTo>
                  <a:pt x="971351" y="25907"/>
                </a:lnTo>
                <a:lnTo>
                  <a:pt x="969263" y="22732"/>
                </a:lnTo>
                <a:lnTo>
                  <a:pt x="967613" y="22732"/>
                </a:lnTo>
                <a:lnTo>
                  <a:pt x="967613" y="21335"/>
                </a:lnTo>
                <a:lnTo>
                  <a:pt x="966088" y="21335"/>
                </a:lnTo>
                <a:lnTo>
                  <a:pt x="958596" y="13588"/>
                </a:lnTo>
                <a:close/>
              </a:path>
              <a:path w="989329" h="638810">
                <a:moveTo>
                  <a:pt x="943356" y="603504"/>
                </a:moveTo>
                <a:lnTo>
                  <a:pt x="932688" y="609599"/>
                </a:lnTo>
                <a:lnTo>
                  <a:pt x="929513" y="610996"/>
                </a:lnTo>
                <a:lnTo>
                  <a:pt x="925068" y="610996"/>
                </a:lnTo>
                <a:lnTo>
                  <a:pt x="920496" y="612521"/>
                </a:lnTo>
                <a:lnTo>
                  <a:pt x="971351" y="612521"/>
                </a:lnTo>
                <a:lnTo>
                  <a:pt x="975360" y="606424"/>
                </a:lnTo>
                <a:lnTo>
                  <a:pt x="976757" y="605028"/>
                </a:lnTo>
                <a:lnTo>
                  <a:pt x="941831" y="605028"/>
                </a:lnTo>
                <a:lnTo>
                  <a:pt x="943356" y="603504"/>
                </a:lnTo>
                <a:close/>
              </a:path>
              <a:path w="989329" h="638810">
                <a:moveTo>
                  <a:pt x="46939" y="603504"/>
                </a:moveTo>
                <a:lnTo>
                  <a:pt x="45720" y="603504"/>
                </a:lnTo>
                <a:lnTo>
                  <a:pt x="48768" y="605028"/>
                </a:lnTo>
                <a:lnTo>
                  <a:pt x="46939" y="603504"/>
                </a:lnTo>
                <a:close/>
              </a:path>
              <a:path w="989329" h="638810">
                <a:moveTo>
                  <a:pt x="949960" y="598158"/>
                </a:moveTo>
                <a:lnTo>
                  <a:pt x="941831" y="605028"/>
                </a:lnTo>
                <a:lnTo>
                  <a:pt x="976757" y="605028"/>
                </a:lnTo>
                <a:lnTo>
                  <a:pt x="980566" y="598932"/>
                </a:lnTo>
                <a:lnTo>
                  <a:pt x="949325" y="598932"/>
                </a:lnTo>
                <a:lnTo>
                  <a:pt x="949960" y="598158"/>
                </a:lnTo>
                <a:close/>
              </a:path>
              <a:path w="989329" h="638810">
                <a:moveTo>
                  <a:pt x="39624" y="597407"/>
                </a:moveTo>
                <a:lnTo>
                  <a:pt x="41021" y="598932"/>
                </a:lnTo>
                <a:lnTo>
                  <a:pt x="40130" y="597829"/>
                </a:lnTo>
                <a:lnTo>
                  <a:pt x="39624" y="597407"/>
                </a:lnTo>
                <a:close/>
              </a:path>
              <a:path w="989329" h="638810">
                <a:moveTo>
                  <a:pt x="40130" y="597829"/>
                </a:moveTo>
                <a:lnTo>
                  <a:pt x="41021" y="598932"/>
                </a:lnTo>
                <a:lnTo>
                  <a:pt x="41452" y="598932"/>
                </a:lnTo>
                <a:lnTo>
                  <a:pt x="40130" y="597829"/>
                </a:lnTo>
                <a:close/>
              </a:path>
              <a:path w="989329" h="638810">
                <a:moveTo>
                  <a:pt x="950849" y="597407"/>
                </a:moveTo>
                <a:lnTo>
                  <a:pt x="949960" y="598158"/>
                </a:lnTo>
                <a:lnTo>
                  <a:pt x="949325" y="598932"/>
                </a:lnTo>
                <a:lnTo>
                  <a:pt x="950849" y="597407"/>
                </a:lnTo>
                <a:close/>
              </a:path>
              <a:path w="989329" h="638810">
                <a:moveTo>
                  <a:pt x="981519" y="597407"/>
                </a:moveTo>
                <a:lnTo>
                  <a:pt x="950849" y="597407"/>
                </a:lnTo>
                <a:lnTo>
                  <a:pt x="949325" y="598932"/>
                </a:lnTo>
                <a:lnTo>
                  <a:pt x="980566" y="598932"/>
                </a:lnTo>
                <a:lnTo>
                  <a:pt x="981519" y="597407"/>
                </a:lnTo>
                <a:close/>
              </a:path>
              <a:path w="989329" h="638810">
                <a:moveTo>
                  <a:pt x="956944" y="589660"/>
                </a:moveTo>
                <a:lnTo>
                  <a:pt x="949960" y="598158"/>
                </a:lnTo>
                <a:lnTo>
                  <a:pt x="950849" y="597407"/>
                </a:lnTo>
                <a:lnTo>
                  <a:pt x="981519" y="597407"/>
                </a:lnTo>
                <a:lnTo>
                  <a:pt x="984377" y="592835"/>
                </a:lnTo>
                <a:lnTo>
                  <a:pt x="955421" y="592835"/>
                </a:lnTo>
                <a:lnTo>
                  <a:pt x="956944" y="589660"/>
                </a:lnTo>
                <a:close/>
              </a:path>
              <a:path w="989329" h="638810">
                <a:moveTo>
                  <a:pt x="39789" y="597407"/>
                </a:moveTo>
                <a:lnTo>
                  <a:pt x="39624" y="597407"/>
                </a:lnTo>
                <a:lnTo>
                  <a:pt x="40130" y="597829"/>
                </a:lnTo>
                <a:lnTo>
                  <a:pt x="39789" y="597407"/>
                </a:lnTo>
                <a:close/>
              </a:path>
              <a:path w="989329" h="638810">
                <a:moveTo>
                  <a:pt x="33528" y="589660"/>
                </a:moveTo>
                <a:lnTo>
                  <a:pt x="34925" y="592835"/>
                </a:lnTo>
                <a:lnTo>
                  <a:pt x="36094" y="592835"/>
                </a:lnTo>
                <a:lnTo>
                  <a:pt x="33528" y="589660"/>
                </a:lnTo>
                <a:close/>
              </a:path>
              <a:path w="989329" h="638810">
                <a:moveTo>
                  <a:pt x="983444" y="45592"/>
                </a:moveTo>
                <a:lnTo>
                  <a:pt x="955421" y="45592"/>
                </a:lnTo>
                <a:lnTo>
                  <a:pt x="956944" y="48767"/>
                </a:lnTo>
                <a:lnTo>
                  <a:pt x="960119" y="56260"/>
                </a:lnTo>
                <a:lnTo>
                  <a:pt x="961516" y="60832"/>
                </a:lnTo>
                <a:lnTo>
                  <a:pt x="963168" y="65531"/>
                </a:lnTo>
                <a:lnTo>
                  <a:pt x="963168" y="70103"/>
                </a:lnTo>
                <a:lnTo>
                  <a:pt x="964691" y="74675"/>
                </a:lnTo>
                <a:lnTo>
                  <a:pt x="964691" y="563752"/>
                </a:lnTo>
                <a:lnTo>
                  <a:pt x="963168" y="569976"/>
                </a:lnTo>
                <a:lnTo>
                  <a:pt x="963168" y="574421"/>
                </a:lnTo>
                <a:lnTo>
                  <a:pt x="961516" y="578993"/>
                </a:lnTo>
                <a:lnTo>
                  <a:pt x="960119" y="583565"/>
                </a:lnTo>
                <a:lnTo>
                  <a:pt x="955421" y="592835"/>
                </a:lnTo>
                <a:lnTo>
                  <a:pt x="984377" y="592835"/>
                </a:lnTo>
                <a:lnTo>
                  <a:pt x="986028" y="585088"/>
                </a:lnTo>
                <a:lnTo>
                  <a:pt x="987425" y="578993"/>
                </a:lnTo>
                <a:lnTo>
                  <a:pt x="988949" y="571499"/>
                </a:lnTo>
                <a:lnTo>
                  <a:pt x="988949" y="65531"/>
                </a:lnTo>
                <a:lnTo>
                  <a:pt x="987425" y="59435"/>
                </a:lnTo>
                <a:lnTo>
                  <a:pt x="986028" y="51688"/>
                </a:lnTo>
                <a:lnTo>
                  <a:pt x="983444" y="45592"/>
                </a:lnTo>
                <a:close/>
              </a:path>
              <a:path w="989329" h="638810">
                <a:moveTo>
                  <a:pt x="36094" y="45592"/>
                </a:moveTo>
                <a:lnTo>
                  <a:pt x="34925" y="45592"/>
                </a:lnTo>
                <a:lnTo>
                  <a:pt x="33528" y="48767"/>
                </a:lnTo>
                <a:lnTo>
                  <a:pt x="36094" y="45592"/>
                </a:lnTo>
                <a:close/>
              </a:path>
              <a:path w="989329" h="638810">
                <a:moveTo>
                  <a:pt x="956674" y="48439"/>
                </a:moveTo>
                <a:lnTo>
                  <a:pt x="956819" y="48767"/>
                </a:lnTo>
                <a:lnTo>
                  <a:pt x="956674" y="48439"/>
                </a:lnTo>
                <a:close/>
              </a:path>
              <a:path w="989329" h="638810">
                <a:moveTo>
                  <a:pt x="955421" y="45592"/>
                </a:moveTo>
                <a:lnTo>
                  <a:pt x="956674" y="48439"/>
                </a:lnTo>
                <a:lnTo>
                  <a:pt x="956944" y="48767"/>
                </a:lnTo>
                <a:lnTo>
                  <a:pt x="955421" y="45592"/>
                </a:lnTo>
                <a:close/>
              </a:path>
              <a:path w="989329" h="638810">
                <a:moveTo>
                  <a:pt x="949992" y="40309"/>
                </a:moveTo>
                <a:lnTo>
                  <a:pt x="956674" y="48439"/>
                </a:lnTo>
                <a:lnTo>
                  <a:pt x="955421" y="45592"/>
                </a:lnTo>
                <a:lnTo>
                  <a:pt x="983444" y="45592"/>
                </a:lnTo>
                <a:lnTo>
                  <a:pt x="982853" y="44195"/>
                </a:lnTo>
                <a:lnTo>
                  <a:pt x="981038" y="41020"/>
                </a:lnTo>
                <a:lnTo>
                  <a:pt x="950849" y="41020"/>
                </a:lnTo>
                <a:lnTo>
                  <a:pt x="949992" y="40309"/>
                </a:lnTo>
                <a:close/>
              </a:path>
              <a:path w="989329" h="638810">
                <a:moveTo>
                  <a:pt x="41021" y="39496"/>
                </a:moveTo>
                <a:lnTo>
                  <a:pt x="39624" y="41020"/>
                </a:lnTo>
                <a:lnTo>
                  <a:pt x="40113" y="40619"/>
                </a:lnTo>
                <a:lnTo>
                  <a:pt x="41021" y="39496"/>
                </a:lnTo>
                <a:close/>
              </a:path>
              <a:path w="989329" h="638810">
                <a:moveTo>
                  <a:pt x="40113" y="40619"/>
                </a:moveTo>
                <a:lnTo>
                  <a:pt x="39624" y="41020"/>
                </a:lnTo>
                <a:lnTo>
                  <a:pt x="39789" y="41020"/>
                </a:lnTo>
                <a:lnTo>
                  <a:pt x="40113" y="40619"/>
                </a:lnTo>
                <a:close/>
              </a:path>
              <a:path w="989329" h="638810">
                <a:moveTo>
                  <a:pt x="949325" y="39496"/>
                </a:moveTo>
                <a:lnTo>
                  <a:pt x="949992" y="40309"/>
                </a:lnTo>
                <a:lnTo>
                  <a:pt x="950849" y="41020"/>
                </a:lnTo>
                <a:lnTo>
                  <a:pt x="949325" y="39496"/>
                </a:lnTo>
                <a:close/>
              </a:path>
              <a:path w="989329" h="638810">
                <a:moveTo>
                  <a:pt x="980167" y="39496"/>
                </a:moveTo>
                <a:lnTo>
                  <a:pt x="949325" y="39496"/>
                </a:lnTo>
                <a:lnTo>
                  <a:pt x="950849" y="41020"/>
                </a:lnTo>
                <a:lnTo>
                  <a:pt x="981038" y="41020"/>
                </a:lnTo>
                <a:lnTo>
                  <a:pt x="980167" y="39496"/>
                </a:lnTo>
                <a:close/>
              </a:path>
              <a:path w="989329" h="638810">
                <a:moveTo>
                  <a:pt x="41483" y="39496"/>
                </a:moveTo>
                <a:lnTo>
                  <a:pt x="41021" y="39496"/>
                </a:lnTo>
                <a:lnTo>
                  <a:pt x="40113" y="40619"/>
                </a:lnTo>
                <a:lnTo>
                  <a:pt x="41483" y="39496"/>
                </a:lnTo>
                <a:close/>
              </a:path>
              <a:path w="989329" h="638810">
                <a:moveTo>
                  <a:pt x="976757" y="33527"/>
                </a:moveTo>
                <a:lnTo>
                  <a:pt x="941832" y="33527"/>
                </a:lnTo>
                <a:lnTo>
                  <a:pt x="949992" y="40309"/>
                </a:lnTo>
                <a:lnTo>
                  <a:pt x="949325" y="39496"/>
                </a:lnTo>
                <a:lnTo>
                  <a:pt x="980167" y="39496"/>
                </a:lnTo>
                <a:lnTo>
                  <a:pt x="976757" y="33527"/>
                </a:lnTo>
                <a:close/>
              </a:path>
              <a:path w="989329" h="638810">
                <a:moveTo>
                  <a:pt x="48768" y="33527"/>
                </a:moveTo>
                <a:lnTo>
                  <a:pt x="45720" y="34924"/>
                </a:lnTo>
                <a:lnTo>
                  <a:pt x="47063" y="34924"/>
                </a:lnTo>
                <a:lnTo>
                  <a:pt x="48768" y="33527"/>
                </a:lnTo>
                <a:close/>
              </a:path>
              <a:path w="989329" h="638810">
                <a:moveTo>
                  <a:pt x="971351" y="25907"/>
                </a:moveTo>
                <a:lnTo>
                  <a:pt x="922019" y="25907"/>
                </a:lnTo>
                <a:lnTo>
                  <a:pt x="926591" y="27431"/>
                </a:lnTo>
                <a:lnTo>
                  <a:pt x="931163" y="28828"/>
                </a:lnTo>
                <a:lnTo>
                  <a:pt x="934085" y="30352"/>
                </a:lnTo>
                <a:lnTo>
                  <a:pt x="943356" y="34924"/>
                </a:lnTo>
                <a:lnTo>
                  <a:pt x="941832" y="33527"/>
                </a:lnTo>
                <a:lnTo>
                  <a:pt x="976757" y="33527"/>
                </a:lnTo>
                <a:lnTo>
                  <a:pt x="975360" y="32003"/>
                </a:lnTo>
                <a:lnTo>
                  <a:pt x="971351" y="25907"/>
                </a:lnTo>
                <a:close/>
              </a:path>
              <a:path w="989329" h="638810">
                <a:moveTo>
                  <a:pt x="929513" y="1396"/>
                </a:moveTo>
                <a:lnTo>
                  <a:pt x="57785" y="1396"/>
                </a:lnTo>
                <a:lnTo>
                  <a:pt x="51689" y="4571"/>
                </a:lnTo>
                <a:lnTo>
                  <a:pt x="44196" y="7492"/>
                </a:lnTo>
                <a:lnTo>
                  <a:pt x="33528" y="12064"/>
                </a:lnTo>
                <a:lnTo>
                  <a:pt x="33528" y="13588"/>
                </a:lnTo>
                <a:lnTo>
                  <a:pt x="956944" y="13588"/>
                </a:lnTo>
                <a:lnTo>
                  <a:pt x="955421" y="12064"/>
                </a:lnTo>
                <a:lnTo>
                  <a:pt x="943356" y="6095"/>
                </a:lnTo>
                <a:lnTo>
                  <a:pt x="937260" y="2920"/>
                </a:lnTo>
                <a:lnTo>
                  <a:pt x="929513" y="1396"/>
                </a:lnTo>
                <a:close/>
              </a:path>
              <a:path w="989329" h="638810">
                <a:moveTo>
                  <a:pt x="915924" y="0"/>
                </a:moveTo>
                <a:lnTo>
                  <a:pt x="73025" y="0"/>
                </a:lnTo>
                <a:lnTo>
                  <a:pt x="65532" y="1396"/>
                </a:lnTo>
                <a:lnTo>
                  <a:pt x="922019" y="1396"/>
                </a:lnTo>
                <a:lnTo>
                  <a:pt x="9159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5" name="object 29"/>
          <p:cNvSpPr/>
          <p:nvPr/>
        </p:nvSpPr>
        <p:spPr>
          <a:xfrm>
            <a:off x="4515840" y="1560240"/>
            <a:ext cx="858960" cy="546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6" name="object 30"/>
          <p:cNvSpPr/>
          <p:nvPr/>
        </p:nvSpPr>
        <p:spPr>
          <a:xfrm>
            <a:off x="4507560" y="155340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4713"/>
                </a:moveTo>
                <a:lnTo>
                  <a:pt x="35179" y="624713"/>
                </a:lnTo>
                <a:lnTo>
                  <a:pt x="45847" y="632460"/>
                </a:lnTo>
                <a:lnTo>
                  <a:pt x="53467" y="633857"/>
                </a:lnTo>
                <a:lnTo>
                  <a:pt x="60960" y="635381"/>
                </a:lnTo>
                <a:lnTo>
                  <a:pt x="67183" y="637032"/>
                </a:lnTo>
                <a:lnTo>
                  <a:pt x="923671" y="637032"/>
                </a:lnTo>
                <a:lnTo>
                  <a:pt x="931163" y="635381"/>
                </a:lnTo>
                <a:lnTo>
                  <a:pt x="938911" y="633857"/>
                </a:lnTo>
                <a:lnTo>
                  <a:pt x="946404" y="630809"/>
                </a:lnTo>
                <a:lnTo>
                  <a:pt x="955675" y="624713"/>
                </a:lnTo>
                <a:close/>
              </a:path>
              <a:path w="989329" h="637539">
                <a:moveTo>
                  <a:pt x="967866" y="615696"/>
                </a:moveTo>
                <a:lnTo>
                  <a:pt x="22860" y="615696"/>
                </a:lnTo>
                <a:lnTo>
                  <a:pt x="22860" y="617220"/>
                </a:lnTo>
                <a:lnTo>
                  <a:pt x="32004" y="624713"/>
                </a:lnTo>
                <a:lnTo>
                  <a:pt x="958596" y="624713"/>
                </a:lnTo>
                <a:lnTo>
                  <a:pt x="967866" y="617220"/>
                </a:lnTo>
                <a:lnTo>
                  <a:pt x="967866" y="615696"/>
                </a:lnTo>
                <a:close/>
              </a:path>
              <a:path w="989329" h="637539">
                <a:moveTo>
                  <a:pt x="48768" y="33528"/>
                </a:moveTo>
                <a:lnTo>
                  <a:pt x="12192" y="33528"/>
                </a:lnTo>
                <a:lnTo>
                  <a:pt x="6096" y="45720"/>
                </a:lnTo>
                <a:lnTo>
                  <a:pt x="4572" y="53213"/>
                </a:lnTo>
                <a:lnTo>
                  <a:pt x="1524" y="59309"/>
                </a:lnTo>
                <a:lnTo>
                  <a:pt x="1524" y="67056"/>
                </a:lnTo>
                <a:lnTo>
                  <a:pt x="0" y="74549"/>
                </a:lnTo>
                <a:lnTo>
                  <a:pt x="0" y="563753"/>
                </a:lnTo>
                <a:lnTo>
                  <a:pt x="1524" y="571500"/>
                </a:lnTo>
                <a:lnTo>
                  <a:pt x="3175" y="579120"/>
                </a:lnTo>
                <a:lnTo>
                  <a:pt x="4572" y="586613"/>
                </a:lnTo>
                <a:lnTo>
                  <a:pt x="7747" y="592709"/>
                </a:lnTo>
                <a:lnTo>
                  <a:pt x="12192" y="603377"/>
                </a:lnTo>
                <a:lnTo>
                  <a:pt x="13843" y="605028"/>
                </a:lnTo>
                <a:lnTo>
                  <a:pt x="13843" y="606425"/>
                </a:lnTo>
                <a:lnTo>
                  <a:pt x="21336" y="615696"/>
                </a:lnTo>
                <a:lnTo>
                  <a:pt x="969263" y="615696"/>
                </a:lnTo>
                <a:lnTo>
                  <a:pt x="971917" y="612521"/>
                </a:lnTo>
                <a:lnTo>
                  <a:pt x="68707" y="612521"/>
                </a:lnTo>
                <a:lnTo>
                  <a:pt x="64135" y="611124"/>
                </a:lnTo>
                <a:lnTo>
                  <a:pt x="59436" y="609600"/>
                </a:lnTo>
                <a:lnTo>
                  <a:pt x="54864" y="607949"/>
                </a:lnTo>
                <a:lnTo>
                  <a:pt x="50076" y="605028"/>
                </a:lnTo>
                <a:lnTo>
                  <a:pt x="48768" y="605028"/>
                </a:lnTo>
                <a:lnTo>
                  <a:pt x="41572" y="598932"/>
                </a:lnTo>
                <a:lnTo>
                  <a:pt x="41275" y="598932"/>
                </a:lnTo>
                <a:lnTo>
                  <a:pt x="39624" y="597281"/>
                </a:lnTo>
                <a:lnTo>
                  <a:pt x="39876" y="597281"/>
                </a:lnTo>
                <a:lnTo>
                  <a:pt x="33528" y="589788"/>
                </a:lnTo>
                <a:lnTo>
                  <a:pt x="34234" y="589788"/>
                </a:lnTo>
                <a:lnTo>
                  <a:pt x="29083" y="582168"/>
                </a:lnTo>
                <a:lnTo>
                  <a:pt x="27432" y="577596"/>
                </a:lnTo>
                <a:lnTo>
                  <a:pt x="27432" y="573024"/>
                </a:lnTo>
                <a:lnTo>
                  <a:pt x="26034" y="568325"/>
                </a:lnTo>
                <a:lnTo>
                  <a:pt x="26034" y="68453"/>
                </a:lnTo>
                <a:lnTo>
                  <a:pt x="27432" y="63881"/>
                </a:lnTo>
                <a:lnTo>
                  <a:pt x="29083" y="59309"/>
                </a:lnTo>
                <a:lnTo>
                  <a:pt x="30607" y="54864"/>
                </a:lnTo>
                <a:lnTo>
                  <a:pt x="34480" y="47117"/>
                </a:lnTo>
                <a:lnTo>
                  <a:pt x="33528" y="47117"/>
                </a:lnTo>
                <a:lnTo>
                  <a:pt x="41275" y="38100"/>
                </a:lnTo>
                <a:lnTo>
                  <a:pt x="43188" y="38100"/>
                </a:lnTo>
                <a:lnTo>
                  <a:pt x="48768" y="33528"/>
                </a:lnTo>
                <a:close/>
              </a:path>
              <a:path w="989329" h="637539">
                <a:moveTo>
                  <a:pt x="978535" y="603377"/>
                </a:moveTo>
                <a:lnTo>
                  <a:pt x="945007" y="603377"/>
                </a:lnTo>
                <a:lnTo>
                  <a:pt x="934338" y="609600"/>
                </a:lnTo>
                <a:lnTo>
                  <a:pt x="929766" y="609600"/>
                </a:lnTo>
                <a:lnTo>
                  <a:pt x="925068" y="611124"/>
                </a:lnTo>
                <a:lnTo>
                  <a:pt x="920496" y="612521"/>
                </a:lnTo>
                <a:lnTo>
                  <a:pt x="971917" y="612521"/>
                </a:lnTo>
                <a:lnTo>
                  <a:pt x="977011" y="606425"/>
                </a:lnTo>
                <a:lnTo>
                  <a:pt x="977011" y="605028"/>
                </a:lnTo>
                <a:lnTo>
                  <a:pt x="978535" y="603377"/>
                </a:lnTo>
                <a:close/>
              </a:path>
              <a:path w="989329" h="637539">
                <a:moveTo>
                  <a:pt x="47371" y="603377"/>
                </a:moveTo>
                <a:lnTo>
                  <a:pt x="48768" y="605028"/>
                </a:lnTo>
                <a:lnTo>
                  <a:pt x="50076" y="605028"/>
                </a:lnTo>
                <a:lnTo>
                  <a:pt x="47371" y="603377"/>
                </a:lnTo>
                <a:close/>
              </a:path>
              <a:path w="989329" h="637539">
                <a:moveTo>
                  <a:pt x="950560" y="597734"/>
                </a:moveTo>
                <a:lnTo>
                  <a:pt x="941832" y="605028"/>
                </a:lnTo>
                <a:lnTo>
                  <a:pt x="945007" y="603377"/>
                </a:lnTo>
                <a:lnTo>
                  <a:pt x="978535" y="603377"/>
                </a:lnTo>
                <a:lnTo>
                  <a:pt x="980711" y="598932"/>
                </a:lnTo>
                <a:lnTo>
                  <a:pt x="949579" y="598932"/>
                </a:lnTo>
                <a:lnTo>
                  <a:pt x="950560" y="597734"/>
                </a:lnTo>
                <a:close/>
              </a:path>
              <a:path w="989329" h="637539">
                <a:moveTo>
                  <a:pt x="39624" y="597281"/>
                </a:moveTo>
                <a:lnTo>
                  <a:pt x="41275" y="598932"/>
                </a:lnTo>
                <a:lnTo>
                  <a:pt x="40517" y="598038"/>
                </a:lnTo>
                <a:lnTo>
                  <a:pt x="39624" y="597281"/>
                </a:lnTo>
                <a:close/>
              </a:path>
              <a:path w="989329" h="637539">
                <a:moveTo>
                  <a:pt x="40517" y="598038"/>
                </a:moveTo>
                <a:lnTo>
                  <a:pt x="41275" y="598932"/>
                </a:lnTo>
                <a:lnTo>
                  <a:pt x="41572" y="598932"/>
                </a:lnTo>
                <a:lnTo>
                  <a:pt x="40517" y="598038"/>
                </a:lnTo>
                <a:close/>
              </a:path>
              <a:path w="989329" h="637539">
                <a:moveTo>
                  <a:pt x="951103" y="597281"/>
                </a:moveTo>
                <a:lnTo>
                  <a:pt x="950560" y="597734"/>
                </a:lnTo>
                <a:lnTo>
                  <a:pt x="949579" y="598932"/>
                </a:lnTo>
                <a:lnTo>
                  <a:pt x="951103" y="597281"/>
                </a:lnTo>
                <a:close/>
              </a:path>
              <a:path w="989329" h="637539">
                <a:moveTo>
                  <a:pt x="981519" y="597281"/>
                </a:moveTo>
                <a:lnTo>
                  <a:pt x="951103" y="597281"/>
                </a:lnTo>
                <a:lnTo>
                  <a:pt x="949579" y="598932"/>
                </a:lnTo>
                <a:lnTo>
                  <a:pt x="980711" y="598932"/>
                </a:lnTo>
                <a:lnTo>
                  <a:pt x="981519" y="597281"/>
                </a:lnTo>
                <a:close/>
              </a:path>
              <a:path w="989329" h="637539">
                <a:moveTo>
                  <a:pt x="39876" y="597281"/>
                </a:moveTo>
                <a:lnTo>
                  <a:pt x="39624" y="597281"/>
                </a:lnTo>
                <a:lnTo>
                  <a:pt x="40517" y="598038"/>
                </a:lnTo>
                <a:lnTo>
                  <a:pt x="39876" y="597281"/>
                </a:lnTo>
                <a:close/>
              </a:path>
              <a:path w="989329" h="637539">
                <a:moveTo>
                  <a:pt x="984853" y="589788"/>
                </a:moveTo>
                <a:lnTo>
                  <a:pt x="957072" y="589788"/>
                </a:lnTo>
                <a:lnTo>
                  <a:pt x="950560" y="597734"/>
                </a:lnTo>
                <a:lnTo>
                  <a:pt x="951103" y="597281"/>
                </a:lnTo>
                <a:lnTo>
                  <a:pt x="981519" y="597281"/>
                </a:lnTo>
                <a:lnTo>
                  <a:pt x="984504" y="591185"/>
                </a:lnTo>
                <a:lnTo>
                  <a:pt x="984853" y="589788"/>
                </a:lnTo>
                <a:close/>
              </a:path>
              <a:path w="989329" h="637539">
                <a:moveTo>
                  <a:pt x="34234" y="589788"/>
                </a:moveTo>
                <a:lnTo>
                  <a:pt x="33528" y="589788"/>
                </a:lnTo>
                <a:lnTo>
                  <a:pt x="35179" y="591185"/>
                </a:lnTo>
                <a:lnTo>
                  <a:pt x="34234" y="589788"/>
                </a:lnTo>
                <a:close/>
              </a:path>
              <a:path w="989329" h="637539">
                <a:moveTo>
                  <a:pt x="955675" y="45720"/>
                </a:moveTo>
                <a:lnTo>
                  <a:pt x="961771" y="56388"/>
                </a:lnTo>
                <a:lnTo>
                  <a:pt x="963168" y="60960"/>
                </a:lnTo>
                <a:lnTo>
                  <a:pt x="963168" y="65532"/>
                </a:lnTo>
                <a:lnTo>
                  <a:pt x="964691" y="69977"/>
                </a:lnTo>
                <a:lnTo>
                  <a:pt x="964691" y="569849"/>
                </a:lnTo>
                <a:lnTo>
                  <a:pt x="963168" y="574421"/>
                </a:lnTo>
                <a:lnTo>
                  <a:pt x="961771" y="579120"/>
                </a:lnTo>
                <a:lnTo>
                  <a:pt x="960247" y="583692"/>
                </a:lnTo>
                <a:lnTo>
                  <a:pt x="955675" y="591185"/>
                </a:lnTo>
                <a:lnTo>
                  <a:pt x="957072" y="589788"/>
                </a:lnTo>
                <a:lnTo>
                  <a:pt x="984853" y="589788"/>
                </a:lnTo>
                <a:lnTo>
                  <a:pt x="986028" y="585089"/>
                </a:lnTo>
                <a:lnTo>
                  <a:pt x="989203" y="577596"/>
                </a:lnTo>
                <a:lnTo>
                  <a:pt x="989203" y="65532"/>
                </a:lnTo>
                <a:lnTo>
                  <a:pt x="987679" y="57785"/>
                </a:lnTo>
                <a:lnTo>
                  <a:pt x="986028" y="51689"/>
                </a:lnTo>
                <a:lnTo>
                  <a:pt x="984245" y="47117"/>
                </a:lnTo>
                <a:lnTo>
                  <a:pt x="957072" y="47117"/>
                </a:lnTo>
                <a:lnTo>
                  <a:pt x="955675" y="45720"/>
                </a:lnTo>
                <a:close/>
              </a:path>
              <a:path w="989329" h="637539">
                <a:moveTo>
                  <a:pt x="35179" y="45720"/>
                </a:moveTo>
                <a:lnTo>
                  <a:pt x="33528" y="47117"/>
                </a:lnTo>
                <a:lnTo>
                  <a:pt x="34480" y="47117"/>
                </a:lnTo>
                <a:lnTo>
                  <a:pt x="35179" y="45720"/>
                </a:lnTo>
                <a:close/>
              </a:path>
              <a:path w="989329" h="637539">
                <a:moveTo>
                  <a:pt x="980494" y="38100"/>
                </a:moveTo>
                <a:lnTo>
                  <a:pt x="949579" y="38100"/>
                </a:lnTo>
                <a:lnTo>
                  <a:pt x="957072" y="47117"/>
                </a:lnTo>
                <a:lnTo>
                  <a:pt x="984245" y="47117"/>
                </a:lnTo>
                <a:lnTo>
                  <a:pt x="983107" y="44196"/>
                </a:lnTo>
                <a:lnTo>
                  <a:pt x="980494" y="38100"/>
                </a:lnTo>
                <a:close/>
              </a:path>
              <a:path w="989329" h="637539">
                <a:moveTo>
                  <a:pt x="43188" y="38100"/>
                </a:moveTo>
                <a:lnTo>
                  <a:pt x="41275" y="38100"/>
                </a:lnTo>
                <a:lnTo>
                  <a:pt x="39624" y="41021"/>
                </a:lnTo>
                <a:lnTo>
                  <a:pt x="43188" y="38100"/>
                </a:lnTo>
                <a:close/>
              </a:path>
              <a:path w="989329" h="637539">
                <a:moveTo>
                  <a:pt x="941832" y="33528"/>
                </a:moveTo>
                <a:lnTo>
                  <a:pt x="951103" y="41021"/>
                </a:lnTo>
                <a:lnTo>
                  <a:pt x="949579" y="38100"/>
                </a:lnTo>
                <a:lnTo>
                  <a:pt x="980494" y="38100"/>
                </a:lnTo>
                <a:lnTo>
                  <a:pt x="979133" y="34925"/>
                </a:lnTo>
                <a:lnTo>
                  <a:pt x="945007" y="34925"/>
                </a:lnTo>
                <a:lnTo>
                  <a:pt x="941832" y="33528"/>
                </a:lnTo>
                <a:close/>
              </a:path>
              <a:path w="989329" h="637539">
                <a:moveTo>
                  <a:pt x="958596" y="13589"/>
                </a:moveTo>
                <a:lnTo>
                  <a:pt x="32004" y="13589"/>
                </a:lnTo>
                <a:lnTo>
                  <a:pt x="22860" y="21209"/>
                </a:lnTo>
                <a:lnTo>
                  <a:pt x="21336" y="22860"/>
                </a:lnTo>
                <a:lnTo>
                  <a:pt x="13843" y="31877"/>
                </a:lnTo>
                <a:lnTo>
                  <a:pt x="13843" y="33528"/>
                </a:lnTo>
                <a:lnTo>
                  <a:pt x="48768" y="33528"/>
                </a:lnTo>
                <a:lnTo>
                  <a:pt x="47371" y="34925"/>
                </a:lnTo>
                <a:lnTo>
                  <a:pt x="56515" y="28956"/>
                </a:lnTo>
                <a:lnTo>
                  <a:pt x="60960" y="27432"/>
                </a:lnTo>
                <a:lnTo>
                  <a:pt x="65532" y="25781"/>
                </a:lnTo>
                <a:lnTo>
                  <a:pt x="971773" y="25781"/>
                </a:lnTo>
                <a:lnTo>
                  <a:pt x="967866" y="21209"/>
                </a:lnTo>
                <a:lnTo>
                  <a:pt x="958596" y="13589"/>
                </a:lnTo>
                <a:close/>
              </a:path>
              <a:path w="989329" h="637539">
                <a:moveTo>
                  <a:pt x="971773" y="25781"/>
                </a:moveTo>
                <a:lnTo>
                  <a:pt x="926591" y="25781"/>
                </a:lnTo>
                <a:lnTo>
                  <a:pt x="931163" y="27432"/>
                </a:lnTo>
                <a:lnTo>
                  <a:pt x="935736" y="28956"/>
                </a:lnTo>
                <a:lnTo>
                  <a:pt x="945007" y="34925"/>
                </a:lnTo>
                <a:lnTo>
                  <a:pt x="979133" y="34925"/>
                </a:lnTo>
                <a:lnTo>
                  <a:pt x="978535" y="33528"/>
                </a:lnTo>
                <a:lnTo>
                  <a:pt x="977011" y="33528"/>
                </a:lnTo>
                <a:lnTo>
                  <a:pt x="977011" y="31877"/>
                </a:lnTo>
                <a:lnTo>
                  <a:pt x="971773" y="25781"/>
                </a:lnTo>
                <a:close/>
              </a:path>
              <a:path w="989329" h="637539">
                <a:moveTo>
                  <a:pt x="957072" y="12192"/>
                </a:moveTo>
                <a:lnTo>
                  <a:pt x="33528" y="12192"/>
                </a:lnTo>
                <a:lnTo>
                  <a:pt x="33528" y="13589"/>
                </a:lnTo>
                <a:lnTo>
                  <a:pt x="957072" y="13589"/>
                </a:lnTo>
                <a:lnTo>
                  <a:pt x="957072" y="12192"/>
                </a:lnTo>
                <a:close/>
              </a:path>
              <a:path w="989329" h="637539">
                <a:moveTo>
                  <a:pt x="923671" y="0"/>
                </a:moveTo>
                <a:lnTo>
                  <a:pt x="67183" y="0"/>
                </a:lnTo>
                <a:lnTo>
                  <a:pt x="59436" y="1524"/>
                </a:lnTo>
                <a:lnTo>
                  <a:pt x="51943" y="2921"/>
                </a:lnTo>
                <a:lnTo>
                  <a:pt x="44196" y="6096"/>
                </a:lnTo>
                <a:lnTo>
                  <a:pt x="35179" y="12192"/>
                </a:lnTo>
                <a:lnTo>
                  <a:pt x="955675" y="12192"/>
                </a:lnTo>
                <a:lnTo>
                  <a:pt x="945007" y="6096"/>
                </a:lnTo>
                <a:lnTo>
                  <a:pt x="937260" y="2921"/>
                </a:lnTo>
                <a:lnTo>
                  <a:pt x="929766" y="1524"/>
                </a:lnTo>
                <a:lnTo>
                  <a:pt x="923671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7" name="object 31"/>
          <p:cNvSpPr/>
          <p:nvPr/>
        </p:nvSpPr>
        <p:spPr>
          <a:xfrm>
            <a:off x="4773600" y="1733040"/>
            <a:ext cx="3448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ENS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bject 32"/>
          <p:cNvSpPr/>
          <p:nvPr/>
        </p:nvSpPr>
        <p:spPr>
          <a:xfrm>
            <a:off x="4425480" y="2261880"/>
            <a:ext cx="849600" cy="540360"/>
          </a:xfrm>
          <a:custGeom>
            <a:avLst/>
            <a:gdLst>
              <a:gd name="textAreaLeft" fmla="*/ 0 w 849600"/>
              <a:gd name="textAreaRight" fmla="*/ 849960 w 849600"/>
              <a:gd name="textAreaTop" fmla="*/ 0 h 540360"/>
              <a:gd name="textAreaBottom" fmla="*/ 540720 h 540360"/>
            </a:gdLst>
            <a:ahLst/>
            <a:rect l="textAreaLeft" t="textAreaTop" r="textAreaRight" b="textAreaBottom"/>
            <a:pathLst>
              <a:path w="963295" h="612775">
                <a:moveTo>
                  <a:pt x="902335" y="0"/>
                </a:moveTo>
                <a:lnTo>
                  <a:pt x="60960" y="0"/>
                </a:lnTo>
                <a:lnTo>
                  <a:pt x="37290" y="4810"/>
                </a:lnTo>
                <a:lnTo>
                  <a:pt x="17906" y="17907"/>
                </a:lnTo>
                <a:lnTo>
                  <a:pt x="4810" y="37290"/>
                </a:lnTo>
                <a:lnTo>
                  <a:pt x="0" y="60960"/>
                </a:lnTo>
                <a:lnTo>
                  <a:pt x="0" y="551688"/>
                </a:lnTo>
                <a:lnTo>
                  <a:pt x="4810" y="575431"/>
                </a:lnTo>
                <a:lnTo>
                  <a:pt x="17907" y="594852"/>
                </a:lnTo>
                <a:lnTo>
                  <a:pt x="37290" y="607962"/>
                </a:lnTo>
                <a:lnTo>
                  <a:pt x="60960" y="612775"/>
                </a:lnTo>
                <a:lnTo>
                  <a:pt x="902335" y="612775"/>
                </a:lnTo>
                <a:lnTo>
                  <a:pt x="925931" y="607962"/>
                </a:lnTo>
                <a:lnTo>
                  <a:pt x="945276" y="594852"/>
                </a:lnTo>
                <a:lnTo>
                  <a:pt x="958359" y="575431"/>
                </a:lnTo>
                <a:lnTo>
                  <a:pt x="963168" y="551688"/>
                </a:lnTo>
                <a:lnTo>
                  <a:pt x="963168" y="60960"/>
                </a:lnTo>
                <a:lnTo>
                  <a:pt x="958359" y="37290"/>
                </a:lnTo>
                <a:lnTo>
                  <a:pt x="945276" y="17907"/>
                </a:lnTo>
                <a:lnTo>
                  <a:pt x="925931" y="4810"/>
                </a:lnTo>
                <a:lnTo>
                  <a:pt x="902335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object 33"/>
          <p:cNvSpPr/>
          <p:nvPr/>
        </p:nvSpPr>
        <p:spPr>
          <a:xfrm>
            <a:off x="4413600" y="225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421" y="624840"/>
                </a:moveTo>
                <a:lnTo>
                  <a:pt x="33528" y="624840"/>
                </a:lnTo>
                <a:lnTo>
                  <a:pt x="45720" y="630936"/>
                </a:lnTo>
                <a:lnTo>
                  <a:pt x="53213" y="633857"/>
                </a:lnTo>
                <a:lnTo>
                  <a:pt x="59436" y="635508"/>
                </a:lnTo>
                <a:lnTo>
                  <a:pt x="67056" y="637032"/>
                </a:lnTo>
                <a:lnTo>
                  <a:pt x="923416" y="637032"/>
                </a:lnTo>
                <a:lnTo>
                  <a:pt x="931163" y="635508"/>
                </a:lnTo>
                <a:lnTo>
                  <a:pt x="938657" y="633857"/>
                </a:lnTo>
                <a:lnTo>
                  <a:pt x="944753" y="630936"/>
                </a:lnTo>
                <a:lnTo>
                  <a:pt x="955421" y="624840"/>
                </a:lnTo>
                <a:close/>
              </a:path>
              <a:path w="989329" h="637539">
                <a:moveTo>
                  <a:pt x="966088" y="615569"/>
                </a:moveTo>
                <a:lnTo>
                  <a:pt x="22860" y="615569"/>
                </a:lnTo>
                <a:lnTo>
                  <a:pt x="31876" y="623189"/>
                </a:lnTo>
                <a:lnTo>
                  <a:pt x="31876" y="624840"/>
                </a:lnTo>
                <a:lnTo>
                  <a:pt x="956944" y="624840"/>
                </a:lnTo>
                <a:lnTo>
                  <a:pt x="958596" y="623189"/>
                </a:lnTo>
                <a:lnTo>
                  <a:pt x="966088" y="615569"/>
                </a:lnTo>
                <a:close/>
              </a:path>
              <a:path w="989329" h="637539">
                <a:moveTo>
                  <a:pt x="48768" y="32004"/>
                </a:moveTo>
                <a:lnTo>
                  <a:pt x="12192" y="32004"/>
                </a:lnTo>
                <a:lnTo>
                  <a:pt x="12192" y="33401"/>
                </a:lnTo>
                <a:lnTo>
                  <a:pt x="6096" y="45593"/>
                </a:lnTo>
                <a:lnTo>
                  <a:pt x="2921" y="51689"/>
                </a:lnTo>
                <a:lnTo>
                  <a:pt x="1524" y="59436"/>
                </a:lnTo>
                <a:lnTo>
                  <a:pt x="0" y="66929"/>
                </a:lnTo>
                <a:lnTo>
                  <a:pt x="0" y="571500"/>
                </a:lnTo>
                <a:lnTo>
                  <a:pt x="1524" y="578993"/>
                </a:lnTo>
                <a:lnTo>
                  <a:pt x="4445" y="585089"/>
                </a:lnTo>
                <a:lnTo>
                  <a:pt x="6096" y="592836"/>
                </a:lnTo>
                <a:lnTo>
                  <a:pt x="12192" y="603504"/>
                </a:lnTo>
                <a:lnTo>
                  <a:pt x="13589" y="604901"/>
                </a:lnTo>
                <a:lnTo>
                  <a:pt x="21336" y="614172"/>
                </a:lnTo>
                <a:lnTo>
                  <a:pt x="21336" y="615569"/>
                </a:lnTo>
                <a:lnTo>
                  <a:pt x="967613" y="615569"/>
                </a:lnTo>
                <a:lnTo>
                  <a:pt x="969263" y="614172"/>
                </a:lnTo>
                <a:lnTo>
                  <a:pt x="971351" y="610997"/>
                </a:lnTo>
                <a:lnTo>
                  <a:pt x="63881" y="610997"/>
                </a:lnTo>
                <a:lnTo>
                  <a:pt x="59436" y="609600"/>
                </a:lnTo>
                <a:lnTo>
                  <a:pt x="54864" y="608076"/>
                </a:lnTo>
                <a:lnTo>
                  <a:pt x="45720" y="603504"/>
                </a:lnTo>
                <a:lnTo>
                  <a:pt x="48768" y="603504"/>
                </a:lnTo>
                <a:lnTo>
                  <a:pt x="43371" y="598932"/>
                </a:lnTo>
                <a:lnTo>
                  <a:pt x="41021" y="598932"/>
                </a:lnTo>
                <a:lnTo>
                  <a:pt x="33528" y="589661"/>
                </a:lnTo>
                <a:lnTo>
                  <a:pt x="34001" y="589661"/>
                </a:lnTo>
                <a:lnTo>
                  <a:pt x="28956" y="580644"/>
                </a:lnTo>
                <a:lnTo>
                  <a:pt x="27432" y="577469"/>
                </a:lnTo>
                <a:lnTo>
                  <a:pt x="25780" y="572897"/>
                </a:lnTo>
                <a:lnTo>
                  <a:pt x="25780" y="68453"/>
                </a:lnTo>
                <a:lnTo>
                  <a:pt x="27432" y="64008"/>
                </a:lnTo>
                <a:lnTo>
                  <a:pt x="27432" y="59436"/>
                </a:lnTo>
                <a:lnTo>
                  <a:pt x="30353" y="54864"/>
                </a:lnTo>
                <a:lnTo>
                  <a:pt x="34110" y="47244"/>
                </a:lnTo>
                <a:lnTo>
                  <a:pt x="33528" y="47244"/>
                </a:lnTo>
                <a:lnTo>
                  <a:pt x="39876" y="39497"/>
                </a:lnTo>
                <a:lnTo>
                  <a:pt x="39624" y="39497"/>
                </a:lnTo>
                <a:lnTo>
                  <a:pt x="41021" y="38100"/>
                </a:lnTo>
                <a:lnTo>
                  <a:pt x="41328" y="38100"/>
                </a:lnTo>
                <a:lnTo>
                  <a:pt x="47063" y="33401"/>
                </a:lnTo>
                <a:lnTo>
                  <a:pt x="45720" y="33401"/>
                </a:lnTo>
                <a:lnTo>
                  <a:pt x="48768" y="32004"/>
                </a:lnTo>
                <a:close/>
              </a:path>
              <a:path w="989329" h="637539">
                <a:moveTo>
                  <a:pt x="950238" y="597820"/>
                </a:moveTo>
                <a:lnTo>
                  <a:pt x="941832" y="603504"/>
                </a:lnTo>
                <a:lnTo>
                  <a:pt x="943356" y="603504"/>
                </a:lnTo>
                <a:lnTo>
                  <a:pt x="932688" y="608076"/>
                </a:lnTo>
                <a:lnTo>
                  <a:pt x="929513" y="609600"/>
                </a:lnTo>
                <a:lnTo>
                  <a:pt x="925068" y="610997"/>
                </a:lnTo>
                <a:lnTo>
                  <a:pt x="971351" y="610997"/>
                </a:lnTo>
                <a:lnTo>
                  <a:pt x="975360" y="604901"/>
                </a:lnTo>
                <a:lnTo>
                  <a:pt x="976757" y="604901"/>
                </a:lnTo>
                <a:lnTo>
                  <a:pt x="976757" y="603504"/>
                </a:lnTo>
                <a:lnTo>
                  <a:pt x="979614" y="598932"/>
                </a:lnTo>
                <a:lnTo>
                  <a:pt x="949325" y="598932"/>
                </a:lnTo>
                <a:lnTo>
                  <a:pt x="950238" y="597820"/>
                </a:lnTo>
                <a:close/>
              </a:path>
              <a:path w="989329" h="637539">
                <a:moveTo>
                  <a:pt x="39624" y="595757"/>
                </a:moveTo>
                <a:lnTo>
                  <a:pt x="41021" y="598932"/>
                </a:lnTo>
                <a:lnTo>
                  <a:pt x="43371" y="598932"/>
                </a:lnTo>
                <a:lnTo>
                  <a:pt x="39624" y="595757"/>
                </a:lnTo>
                <a:close/>
              </a:path>
              <a:path w="989329" h="637539">
                <a:moveTo>
                  <a:pt x="950849" y="597408"/>
                </a:moveTo>
                <a:lnTo>
                  <a:pt x="950238" y="597820"/>
                </a:lnTo>
                <a:lnTo>
                  <a:pt x="949325" y="598932"/>
                </a:lnTo>
                <a:lnTo>
                  <a:pt x="950849" y="597408"/>
                </a:lnTo>
                <a:close/>
              </a:path>
              <a:path w="989329" h="637539">
                <a:moveTo>
                  <a:pt x="980567" y="597408"/>
                </a:moveTo>
                <a:lnTo>
                  <a:pt x="950849" y="597408"/>
                </a:lnTo>
                <a:lnTo>
                  <a:pt x="949325" y="598932"/>
                </a:lnTo>
                <a:lnTo>
                  <a:pt x="979614" y="598932"/>
                </a:lnTo>
                <a:lnTo>
                  <a:pt x="980567" y="597408"/>
                </a:lnTo>
                <a:close/>
              </a:path>
              <a:path w="989329" h="637539">
                <a:moveTo>
                  <a:pt x="984815" y="589661"/>
                </a:moveTo>
                <a:lnTo>
                  <a:pt x="956944" y="589661"/>
                </a:lnTo>
                <a:lnTo>
                  <a:pt x="950238" y="597820"/>
                </a:lnTo>
                <a:lnTo>
                  <a:pt x="950849" y="597408"/>
                </a:lnTo>
                <a:lnTo>
                  <a:pt x="980567" y="597408"/>
                </a:lnTo>
                <a:lnTo>
                  <a:pt x="984377" y="591312"/>
                </a:lnTo>
                <a:lnTo>
                  <a:pt x="984815" y="589661"/>
                </a:lnTo>
                <a:close/>
              </a:path>
              <a:path w="989329" h="637539">
                <a:moveTo>
                  <a:pt x="34001" y="589661"/>
                </a:moveTo>
                <a:lnTo>
                  <a:pt x="33528" y="589661"/>
                </a:lnTo>
                <a:lnTo>
                  <a:pt x="34925" y="591312"/>
                </a:lnTo>
                <a:lnTo>
                  <a:pt x="34001" y="589661"/>
                </a:lnTo>
                <a:close/>
              </a:path>
              <a:path w="989329" h="637539">
                <a:moveTo>
                  <a:pt x="955421" y="45593"/>
                </a:moveTo>
                <a:lnTo>
                  <a:pt x="961516" y="59436"/>
                </a:lnTo>
                <a:lnTo>
                  <a:pt x="963168" y="64008"/>
                </a:lnTo>
                <a:lnTo>
                  <a:pt x="963168" y="70104"/>
                </a:lnTo>
                <a:lnTo>
                  <a:pt x="964691" y="74676"/>
                </a:lnTo>
                <a:lnTo>
                  <a:pt x="964691" y="563753"/>
                </a:lnTo>
                <a:lnTo>
                  <a:pt x="963168" y="568325"/>
                </a:lnTo>
                <a:lnTo>
                  <a:pt x="963168" y="572897"/>
                </a:lnTo>
                <a:lnTo>
                  <a:pt x="961516" y="577469"/>
                </a:lnTo>
                <a:lnTo>
                  <a:pt x="960119" y="582168"/>
                </a:lnTo>
                <a:lnTo>
                  <a:pt x="955421" y="591312"/>
                </a:lnTo>
                <a:lnTo>
                  <a:pt x="956944" y="589661"/>
                </a:lnTo>
                <a:lnTo>
                  <a:pt x="984815" y="589661"/>
                </a:lnTo>
                <a:lnTo>
                  <a:pt x="986028" y="585089"/>
                </a:lnTo>
                <a:lnTo>
                  <a:pt x="987425" y="577469"/>
                </a:lnTo>
                <a:lnTo>
                  <a:pt x="988949" y="569976"/>
                </a:lnTo>
                <a:lnTo>
                  <a:pt x="988949" y="65532"/>
                </a:lnTo>
                <a:lnTo>
                  <a:pt x="987425" y="57912"/>
                </a:lnTo>
                <a:lnTo>
                  <a:pt x="986028" y="50165"/>
                </a:lnTo>
                <a:lnTo>
                  <a:pt x="984506" y="47244"/>
                </a:lnTo>
                <a:lnTo>
                  <a:pt x="956944" y="47244"/>
                </a:lnTo>
                <a:lnTo>
                  <a:pt x="955421" y="45593"/>
                </a:lnTo>
                <a:close/>
              </a:path>
              <a:path w="989329" h="637539">
                <a:moveTo>
                  <a:pt x="34925" y="45593"/>
                </a:moveTo>
                <a:lnTo>
                  <a:pt x="33528" y="47244"/>
                </a:lnTo>
                <a:lnTo>
                  <a:pt x="34110" y="47244"/>
                </a:lnTo>
                <a:lnTo>
                  <a:pt x="34925" y="45593"/>
                </a:lnTo>
                <a:close/>
              </a:path>
              <a:path w="989329" h="637539">
                <a:moveTo>
                  <a:pt x="949678" y="38524"/>
                </a:moveTo>
                <a:lnTo>
                  <a:pt x="956944" y="47244"/>
                </a:lnTo>
                <a:lnTo>
                  <a:pt x="984506" y="47244"/>
                </a:lnTo>
                <a:lnTo>
                  <a:pt x="982853" y="44069"/>
                </a:lnTo>
                <a:lnTo>
                  <a:pt x="980240" y="39497"/>
                </a:lnTo>
                <a:lnTo>
                  <a:pt x="950849" y="39497"/>
                </a:lnTo>
                <a:lnTo>
                  <a:pt x="949678" y="38524"/>
                </a:lnTo>
                <a:close/>
              </a:path>
              <a:path w="989329" h="637539">
                <a:moveTo>
                  <a:pt x="41021" y="38100"/>
                </a:moveTo>
                <a:lnTo>
                  <a:pt x="39624" y="39497"/>
                </a:lnTo>
                <a:lnTo>
                  <a:pt x="40391" y="38867"/>
                </a:lnTo>
                <a:lnTo>
                  <a:pt x="41021" y="38100"/>
                </a:lnTo>
                <a:close/>
              </a:path>
              <a:path w="989329" h="637539">
                <a:moveTo>
                  <a:pt x="40391" y="38867"/>
                </a:moveTo>
                <a:lnTo>
                  <a:pt x="39624" y="39497"/>
                </a:lnTo>
                <a:lnTo>
                  <a:pt x="39876" y="39497"/>
                </a:lnTo>
                <a:lnTo>
                  <a:pt x="40391" y="38867"/>
                </a:lnTo>
                <a:close/>
              </a:path>
              <a:path w="989329" h="637539">
                <a:moveTo>
                  <a:pt x="949325" y="38100"/>
                </a:moveTo>
                <a:lnTo>
                  <a:pt x="949678" y="38524"/>
                </a:lnTo>
                <a:lnTo>
                  <a:pt x="950849" y="39497"/>
                </a:lnTo>
                <a:lnTo>
                  <a:pt x="949325" y="38100"/>
                </a:lnTo>
                <a:close/>
              </a:path>
              <a:path w="989329" h="637539">
                <a:moveTo>
                  <a:pt x="979442" y="38100"/>
                </a:moveTo>
                <a:lnTo>
                  <a:pt x="949325" y="38100"/>
                </a:lnTo>
                <a:lnTo>
                  <a:pt x="950849" y="39497"/>
                </a:lnTo>
                <a:lnTo>
                  <a:pt x="980240" y="39497"/>
                </a:lnTo>
                <a:lnTo>
                  <a:pt x="979442" y="38100"/>
                </a:lnTo>
                <a:close/>
              </a:path>
              <a:path w="989329" h="637539">
                <a:moveTo>
                  <a:pt x="41328" y="38100"/>
                </a:moveTo>
                <a:lnTo>
                  <a:pt x="41021" y="38100"/>
                </a:lnTo>
                <a:lnTo>
                  <a:pt x="40391" y="38867"/>
                </a:lnTo>
                <a:lnTo>
                  <a:pt x="41328" y="38100"/>
                </a:lnTo>
                <a:close/>
              </a:path>
              <a:path w="989329" h="637539">
                <a:moveTo>
                  <a:pt x="976757" y="32004"/>
                </a:moveTo>
                <a:lnTo>
                  <a:pt x="941832" y="32004"/>
                </a:lnTo>
                <a:lnTo>
                  <a:pt x="949678" y="38524"/>
                </a:lnTo>
                <a:lnTo>
                  <a:pt x="949325" y="38100"/>
                </a:lnTo>
                <a:lnTo>
                  <a:pt x="979442" y="38100"/>
                </a:lnTo>
                <a:lnTo>
                  <a:pt x="976757" y="33401"/>
                </a:lnTo>
                <a:lnTo>
                  <a:pt x="976757" y="32004"/>
                </a:lnTo>
                <a:close/>
              </a:path>
              <a:path w="989329" h="637539">
                <a:moveTo>
                  <a:pt x="48768" y="32004"/>
                </a:moveTo>
                <a:lnTo>
                  <a:pt x="45720" y="33401"/>
                </a:lnTo>
                <a:lnTo>
                  <a:pt x="48535" y="32194"/>
                </a:lnTo>
                <a:lnTo>
                  <a:pt x="48768" y="32004"/>
                </a:lnTo>
                <a:close/>
              </a:path>
              <a:path w="989329" h="637539">
                <a:moveTo>
                  <a:pt x="48535" y="32194"/>
                </a:moveTo>
                <a:lnTo>
                  <a:pt x="45720" y="33401"/>
                </a:lnTo>
                <a:lnTo>
                  <a:pt x="47063" y="33401"/>
                </a:lnTo>
                <a:lnTo>
                  <a:pt x="48535" y="32194"/>
                </a:lnTo>
                <a:close/>
              </a:path>
              <a:path w="989329" h="637539">
                <a:moveTo>
                  <a:pt x="970266" y="24257"/>
                </a:moveTo>
                <a:lnTo>
                  <a:pt x="915924" y="24257"/>
                </a:lnTo>
                <a:lnTo>
                  <a:pt x="922019" y="25908"/>
                </a:lnTo>
                <a:lnTo>
                  <a:pt x="926591" y="25908"/>
                </a:lnTo>
                <a:lnTo>
                  <a:pt x="931163" y="27432"/>
                </a:lnTo>
                <a:lnTo>
                  <a:pt x="934085" y="28829"/>
                </a:lnTo>
                <a:lnTo>
                  <a:pt x="943356" y="33401"/>
                </a:lnTo>
                <a:lnTo>
                  <a:pt x="941832" y="32004"/>
                </a:lnTo>
                <a:lnTo>
                  <a:pt x="975360" y="32004"/>
                </a:lnTo>
                <a:lnTo>
                  <a:pt x="970266" y="24257"/>
                </a:lnTo>
                <a:close/>
              </a:path>
              <a:path w="989329" h="637539">
                <a:moveTo>
                  <a:pt x="956944" y="12065"/>
                </a:moveTo>
                <a:lnTo>
                  <a:pt x="31876" y="12065"/>
                </a:lnTo>
                <a:lnTo>
                  <a:pt x="31876" y="13589"/>
                </a:lnTo>
                <a:lnTo>
                  <a:pt x="22860" y="19811"/>
                </a:lnTo>
                <a:lnTo>
                  <a:pt x="22860" y="21335"/>
                </a:lnTo>
                <a:lnTo>
                  <a:pt x="21336" y="21335"/>
                </a:lnTo>
                <a:lnTo>
                  <a:pt x="21336" y="22733"/>
                </a:lnTo>
                <a:lnTo>
                  <a:pt x="13589" y="32004"/>
                </a:lnTo>
                <a:lnTo>
                  <a:pt x="48768" y="32004"/>
                </a:lnTo>
                <a:lnTo>
                  <a:pt x="48535" y="32194"/>
                </a:lnTo>
                <a:lnTo>
                  <a:pt x="56388" y="28829"/>
                </a:lnTo>
                <a:lnTo>
                  <a:pt x="60960" y="27432"/>
                </a:lnTo>
                <a:lnTo>
                  <a:pt x="65532" y="25908"/>
                </a:lnTo>
                <a:lnTo>
                  <a:pt x="69977" y="25908"/>
                </a:lnTo>
                <a:lnTo>
                  <a:pt x="74549" y="24257"/>
                </a:lnTo>
                <a:lnTo>
                  <a:pt x="970266" y="24257"/>
                </a:lnTo>
                <a:lnTo>
                  <a:pt x="969263" y="22733"/>
                </a:lnTo>
                <a:lnTo>
                  <a:pt x="967613" y="21335"/>
                </a:lnTo>
                <a:lnTo>
                  <a:pt x="966088" y="19811"/>
                </a:lnTo>
                <a:lnTo>
                  <a:pt x="958596" y="13589"/>
                </a:lnTo>
                <a:lnTo>
                  <a:pt x="956944" y="12065"/>
                </a:lnTo>
                <a:close/>
              </a:path>
              <a:path w="989329" h="637539">
                <a:moveTo>
                  <a:pt x="922019" y="0"/>
                </a:moveTo>
                <a:lnTo>
                  <a:pt x="65532" y="0"/>
                </a:lnTo>
                <a:lnTo>
                  <a:pt x="57785" y="1397"/>
                </a:lnTo>
                <a:lnTo>
                  <a:pt x="51689" y="2921"/>
                </a:lnTo>
                <a:lnTo>
                  <a:pt x="44196" y="5968"/>
                </a:lnTo>
                <a:lnTo>
                  <a:pt x="33528" y="12065"/>
                </a:lnTo>
                <a:lnTo>
                  <a:pt x="955421" y="12065"/>
                </a:lnTo>
                <a:lnTo>
                  <a:pt x="937260" y="2921"/>
                </a:lnTo>
                <a:lnTo>
                  <a:pt x="929513" y="1397"/>
                </a:lnTo>
                <a:lnTo>
                  <a:pt x="9220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0" name="object 34"/>
          <p:cNvSpPr/>
          <p:nvPr/>
        </p:nvSpPr>
        <p:spPr>
          <a:xfrm>
            <a:off x="4515840" y="2345400"/>
            <a:ext cx="858960" cy="550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1" name="object 35"/>
          <p:cNvSpPr/>
          <p:nvPr/>
        </p:nvSpPr>
        <p:spPr>
          <a:xfrm>
            <a:off x="4507560" y="234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4713"/>
                </a:moveTo>
                <a:lnTo>
                  <a:pt x="35179" y="624713"/>
                </a:lnTo>
                <a:lnTo>
                  <a:pt x="45847" y="630936"/>
                </a:lnTo>
                <a:lnTo>
                  <a:pt x="53467" y="633857"/>
                </a:lnTo>
                <a:lnTo>
                  <a:pt x="60960" y="635381"/>
                </a:lnTo>
                <a:lnTo>
                  <a:pt x="67183" y="637032"/>
                </a:lnTo>
                <a:lnTo>
                  <a:pt x="923671" y="637032"/>
                </a:lnTo>
                <a:lnTo>
                  <a:pt x="931163" y="635381"/>
                </a:lnTo>
                <a:lnTo>
                  <a:pt x="938911" y="632460"/>
                </a:lnTo>
                <a:lnTo>
                  <a:pt x="946404" y="630936"/>
                </a:lnTo>
                <a:lnTo>
                  <a:pt x="955675" y="624713"/>
                </a:lnTo>
                <a:close/>
              </a:path>
              <a:path w="989329" h="637539">
                <a:moveTo>
                  <a:pt x="957072" y="623189"/>
                </a:moveTo>
                <a:lnTo>
                  <a:pt x="33528" y="623189"/>
                </a:lnTo>
                <a:lnTo>
                  <a:pt x="33528" y="624713"/>
                </a:lnTo>
                <a:lnTo>
                  <a:pt x="957072" y="624713"/>
                </a:lnTo>
                <a:lnTo>
                  <a:pt x="957072" y="623189"/>
                </a:lnTo>
                <a:close/>
              </a:path>
              <a:path w="989329" h="637539">
                <a:moveTo>
                  <a:pt x="47371" y="601853"/>
                </a:moveTo>
                <a:lnTo>
                  <a:pt x="48768" y="603504"/>
                </a:lnTo>
                <a:lnTo>
                  <a:pt x="13843" y="603504"/>
                </a:lnTo>
                <a:lnTo>
                  <a:pt x="13843" y="605028"/>
                </a:lnTo>
                <a:lnTo>
                  <a:pt x="21336" y="614045"/>
                </a:lnTo>
                <a:lnTo>
                  <a:pt x="22860" y="615696"/>
                </a:lnTo>
                <a:lnTo>
                  <a:pt x="32004" y="623189"/>
                </a:lnTo>
                <a:lnTo>
                  <a:pt x="958596" y="623189"/>
                </a:lnTo>
                <a:lnTo>
                  <a:pt x="967866" y="615696"/>
                </a:lnTo>
                <a:lnTo>
                  <a:pt x="971773" y="611124"/>
                </a:lnTo>
                <a:lnTo>
                  <a:pt x="68707" y="611124"/>
                </a:lnTo>
                <a:lnTo>
                  <a:pt x="64135" y="609600"/>
                </a:lnTo>
                <a:lnTo>
                  <a:pt x="59436" y="609600"/>
                </a:lnTo>
                <a:lnTo>
                  <a:pt x="54864" y="606425"/>
                </a:lnTo>
                <a:lnTo>
                  <a:pt x="47371" y="601853"/>
                </a:lnTo>
                <a:close/>
              </a:path>
              <a:path w="989329" h="637539">
                <a:moveTo>
                  <a:pt x="979334" y="601853"/>
                </a:moveTo>
                <a:lnTo>
                  <a:pt x="945007" y="601853"/>
                </a:lnTo>
                <a:lnTo>
                  <a:pt x="934338" y="607949"/>
                </a:lnTo>
                <a:lnTo>
                  <a:pt x="929766" y="609600"/>
                </a:lnTo>
                <a:lnTo>
                  <a:pt x="925068" y="611124"/>
                </a:lnTo>
                <a:lnTo>
                  <a:pt x="971773" y="611124"/>
                </a:lnTo>
                <a:lnTo>
                  <a:pt x="977011" y="605028"/>
                </a:lnTo>
                <a:lnTo>
                  <a:pt x="977011" y="603504"/>
                </a:lnTo>
                <a:lnTo>
                  <a:pt x="978535" y="603504"/>
                </a:lnTo>
                <a:lnTo>
                  <a:pt x="979334" y="601853"/>
                </a:lnTo>
                <a:close/>
              </a:path>
              <a:path w="989329" h="637539">
                <a:moveTo>
                  <a:pt x="969263" y="21335"/>
                </a:moveTo>
                <a:lnTo>
                  <a:pt x="21336" y="21335"/>
                </a:lnTo>
                <a:lnTo>
                  <a:pt x="13843" y="30353"/>
                </a:lnTo>
                <a:lnTo>
                  <a:pt x="13843" y="32004"/>
                </a:lnTo>
                <a:lnTo>
                  <a:pt x="12192" y="33528"/>
                </a:lnTo>
                <a:lnTo>
                  <a:pt x="6096" y="45593"/>
                </a:lnTo>
                <a:lnTo>
                  <a:pt x="4572" y="51689"/>
                </a:lnTo>
                <a:lnTo>
                  <a:pt x="1524" y="59436"/>
                </a:lnTo>
                <a:lnTo>
                  <a:pt x="1524" y="67056"/>
                </a:lnTo>
                <a:lnTo>
                  <a:pt x="0" y="73025"/>
                </a:lnTo>
                <a:lnTo>
                  <a:pt x="0" y="563753"/>
                </a:lnTo>
                <a:lnTo>
                  <a:pt x="1524" y="571500"/>
                </a:lnTo>
                <a:lnTo>
                  <a:pt x="3175" y="577596"/>
                </a:lnTo>
                <a:lnTo>
                  <a:pt x="4572" y="585089"/>
                </a:lnTo>
                <a:lnTo>
                  <a:pt x="7747" y="592836"/>
                </a:lnTo>
                <a:lnTo>
                  <a:pt x="12192" y="603504"/>
                </a:lnTo>
                <a:lnTo>
                  <a:pt x="48768" y="603504"/>
                </a:lnTo>
                <a:lnTo>
                  <a:pt x="41422" y="597281"/>
                </a:lnTo>
                <a:lnTo>
                  <a:pt x="41275" y="597281"/>
                </a:lnTo>
                <a:lnTo>
                  <a:pt x="39624" y="595757"/>
                </a:lnTo>
                <a:lnTo>
                  <a:pt x="39965" y="595757"/>
                </a:lnTo>
                <a:lnTo>
                  <a:pt x="36037" y="591185"/>
                </a:lnTo>
                <a:lnTo>
                  <a:pt x="35179" y="591185"/>
                </a:lnTo>
                <a:lnTo>
                  <a:pt x="29083" y="580517"/>
                </a:lnTo>
                <a:lnTo>
                  <a:pt x="27432" y="575945"/>
                </a:lnTo>
                <a:lnTo>
                  <a:pt x="27432" y="571500"/>
                </a:lnTo>
                <a:lnTo>
                  <a:pt x="26034" y="566928"/>
                </a:lnTo>
                <a:lnTo>
                  <a:pt x="26034" y="67056"/>
                </a:lnTo>
                <a:lnTo>
                  <a:pt x="27432" y="62357"/>
                </a:lnTo>
                <a:lnTo>
                  <a:pt x="29083" y="57785"/>
                </a:lnTo>
                <a:lnTo>
                  <a:pt x="30607" y="53212"/>
                </a:lnTo>
                <a:lnTo>
                  <a:pt x="34264" y="47117"/>
                </a:lnTo>
                <a:lnTo>
                  <a:pt x="33528" y="47117"/>
                </a:lnTo>
                <a:lnTo>
                  <a:pt x="39965" y="39624"/>
                </a:lnTo>
                <a:lnTo>
                  <a:pt x="39624" y="39624"/>
                </a:lnTo>
                <a:lnTo>
                  <a:pt x="41275" y="38100"/>
                </a:lnTo>
                <a:lnTo>
                  <a:pt x="41452" y="38100"/>
                </a:lnTo>
                <a:lnTo>
                  <a:pt x="48768" y="32004"/>
                </a:lnTo>
                <a:lnTo>
                  <a:pt x="49657" y="32004"/>
                </a:lnTo>
                <a:lnTo>
                  <a:pt x="56515" y="27432"/>
                </a:lnTo>
                <a:lnTo>
                  <a:pt x="60960" y="27432"/>
                </a:lnTo>
                <a:lnTo>
                  <a:pt x="65532" y="25781"/>
                </a:lnTo>
                <a:lnTo>
                  <a:pt x="70104" y="24257"/>
                </a:lnTo>
                <a:lnTo>
                  <a:pt x="971773" y="24257"/>
                </a:lnTo>
                <a:lnTo>
                  <a:pt x="969263" y="21335"/>
                </a:lnTo>
                <a:close/>
              </a:path>
              <a:path w="989329" h="637539">
                <a:moveTo>
                  <a:pt x="950260" y="596461"/>
                </a:moveTo>
                <a:lnTo>
                  <a:pt x="941832" y="603504"/>
                </a:lnTo>
                <a:lnTo>
                  <a:pt x="945007" y="601853"/>
                </a:lnTo>
                <a:lnTo>
                  <a:pt x="979334" y="601853"/>
                </a:lnTo>
                <a:lnTo>
                  <a:pt x="981550" y="597281"/>
                </a:lnTo>
                <a:lnTo>
                  <a:pt x="949579" y="597281"/>
                </a:lnTo>
                <a:lnTo>
                  <a:pt x="950260" y="596461"/>
                </a:lnTo>
                <a:close/>
              </a:path>
              <a:path w="989329" h="637539">
                <a:moveTo>
                  <a:pt x="39624" y="595757"/>
                </a:moveTo>
                <a:lnTo>
                  <a:pt x="41275" y="597281"/>
                </a:lnTo>
                <a:lnTo>
                  <a:pt x="40879" y="596820"/>
                </a:lnTo>
                <a:lnTo>
                  <a:pt x="39624" y="595757"/>
                </a:lnTo>
                <a:close/>
              </a:path>
              <a:path w="989329" h="637539">
                <a:moveTo>
                  <a:pt x="40879" y="596820"/>
                </a:moveTo>
                <a:lnTo>
                  <a:pt x="41275" y="597281"/>
                </a:lnTo>
                <a:lnTo>
                  <a:pt x="41422" y="597281"/>
                </a:lnTo>
                <a:lnTo>
                  <a:pt x="40879" y="596820"/>
                </a:lnTo>
                <a:close/>
              </a:path>
              <a:path w="989329" h="637539">
                <a:moveTo>
                  <a:pt x="951103" y="595757"/>
                </a:moveTo>
                <a:lnTo>
                  <a:pt x="950260" y="596461"/>
                </a:lnTo>
                <a:lnTo>
                  <a:pt x="949579" y="597281"/>
                </a:lnTo>
                <a:lnTo>
                  <a:pt x="951103" y="595757"/>
                </a:lnTo>
                <a:close/>
              </a:path>
              <a:path w="989329" h="637539">
                <a:moveTo>
                  <a:pt x="982288" y="595757"/>
                </a:moveTo>
                <a:lnTo>
                  <a:pt x="951103" y="595757"/>
                </a:lnTo>
                <a:lnTo>
                  <a:pt x="949579" y="597281"/>
                </a:lnTo>
                <a:lnTo>
                  <a:pt x="981550" y="597281"/>
                </a:lnTo>
                <a:lnTo>
                  <a:pt x="982288" y="595757"/>
                </a:lnTo>
                <a:close/>
              </a:path>
              <a:path w="989329" h="637539">
                <a:moveTo>
                  <a:pt x="39965" y="595757"/>
                </a:moveTo>
                <a:lnTo>
                  <a:pt x="39624" y="595757"/>
                </a:lnTo>
                <a:lnTo>
                  <a:pt x="40879" y="596820"/>
                </a:lnTo>
                <a:lnTo>
                  <a:pt x="39965" y="595757"/>
                </a:lnTo>
                <a:close/>
              </a:path>
              <a:path w="989329" h="637539">
                <a:moveTo>
                  <a:pt x="957072" y="588264"/>
                </a:moveTo>
                <a:lnTo>
                  <a:pt x="950260" y="596461"/>
                </a:lnTo>
                <a:lnTo>
                  <a:pt x="951103" y="595757"/>
                </a:lnTo>
                <a:lnTo>
                  <a:pt x="982288" y="595757"/>
                </a:lnTo>
                <a:lnTo>
                  <a:pt x="984504" y="591185"/>
                </a:lnTo>
                <a:lnTo>
                  <a:pt x="955675" y="591185"/>
                </a:lnTo>
                <a:lnTo>
                  <a:pt x="957072" y="588264"/>
                </a:lnTo>
                <a:close/>
              </a:path>
              <a:path w="989329" h="637539">
                <a:moveTo>
                  <a:pt x="33528" y="588264"/>
                </a:moveTo>
                <a:lnTo>
                  <a:pt x="35179" y="591185"/>
                </a:lnTo>
                <a:lnTo>
                  <a:pt x="36037" y="591185"/>
                </a:lnTo>
                <a:lnTo>
                  <a:pt x="33528" y="588264"/>
                </a:lnTo>
                <a:close/>
              </a:path>
              <a:path w="989329" h="637539">
                <a:moveTo>
                  <a:pt x="955675" y="45593"/>
                </a:moveTo>
                <a:lnTo>
                  <a:pt x="961771" y="54864"/>
                </a:lnTo>
                <a:lnTo>
                  <a:pt x="963168" y="59436"/>
                </a:lnTo>
                <a:lnTo>
                  <a:pt x="963168" y="63881"/>
                </a:lnTo>
                <a:lnTo>
                  <a:pt x="964691" y="68453"/>
                </a:lnTo>
                <a:lnTo>
                  <a:pt x="964691" y="568325"/>
                </a:lnTo>
                <a:lnTo>
                  <a:pt x="963168" y="573024"/>
                </a:lnTo>
                <a:lnTo>
                  <a:pt x="961771" y="577596"/>
                </a:lnTo>
                <a:lnTo>
                  <a:pt x="960247" y="582168"/>
                </a:lnTo>
                <a:lnTo>
                  <a:pt x="955675" y="591185"/>
                </a:lnTo>
                <a:lnTo>
                  <a:pt x="984504" y="591185"/>
                </a:lnTo>
                <a:lnTo>
                  <a:pt x="986028" y="583692"/>
                </a:lnTo>
                <a:lnTo>
                  <a:pt x="989203" y="577596"/>
                </a:lnTo>
                <a:lnTo>
                  <a:pt x="989203" y="65532"/>
                </a:lnTo>
                <a:lnTo>
                  <a:pt x="987679" y="57785"/>
                </a:lnTo>
                <a:lnTo>
                  <a:pt x="986028" y="50292"/>
                </a:lnTo>
                <a:lnTo>
                  <a:pt x="984830" y="47117"/>
                </a:lnTo>
                <a:lnTo>
                  <a:pt x="957072" y="47117"/>
                </a:lnTo>
                <a:lnTo>
                  <a:pt x="955675" y="45593"/>
                </a:lnTo>
                <a:close/>
              </a:path>
              <a:path w="989329" h="637539">
                <a:moveTo>
                  <a:pt x="35179" y="45593"/>
                </a:moveTo>
                <a:lnTo>
                  <a:pt x="33528" y="47117"/>
                </a:lnTo>
                <a:lnTo>
                  <a:pt x="34264" y="47117"/>
                </a:lnTo>
                <a:lnTo>
                  <a:pt x="35179" y="45593"/>
                </a:lnTo>
                <a:close/>
              </a:path>
              <a:path w="989329" h="637539">
                <a:moveTo>
                  <a:pt x="950290" y="38956"/>
                </a:moveTo>
                <a:lnTo>
                  <a:pt x="957072" y="47117"/>
                </a:lnTo>
                <a:lnTo>
                  <a:pt x="984830" y="47117"/>
                </a:lnTo>
                <a:lnTo>
                  <a:pt x="983107" y="42545"/>
                </a:lnTo>
                <a:lnTo>
                  <a:pt x="981625" y="39624"/>
                </a:lnTo>
                <a:lnTo>
                  <a:pt x="951103" y="39624"/>
                </a:lnTo>
                <a:lnTo>
                  <a:pt x="950290" y="38956"/>
                </a:lnTo>
                <a:close/>
              </a:path>
              <a:path w="989329" h="637539">
                <a:moveTo>
                  <a:pt x="41275" y="38100"/>
                </a:moveTo>
                <a:lnTo>
                  <a:pt x="39624" y="39624"/>
                </a:lnTo>
                <a:lnTo>
                  <a:pt x="40826" y="38621"/>
                </a:lnTo>
                <a:lnTo>
                  <a:pt x="41275" y="38100"/>
                </a:lnTo>
                <a:close/>
              </a:path>
              <a:path w="989329" h="637539">
                <a:moveTo>
                  <a:pt x="40826" y="38621"/>
                </a:moveTo>
                <a:lnTo>
                  <a:pt x="39624" y="39624"/>
                </a:lnTo>
                <a:lnTo>
                  <a:pt x="39965" y="39624"/>
                </a:lnTo>
                <a:lnTo>
                  <a:pt x="40826" y="38621"/>
                </a:lnTo>
                <a:close/>
              </a:path>
              <a:path w="989329" h="637539">
                <a:moveTo>
                  <a:pt x="949579" y="38100"/>
                </a:moveTo>
                <a:lnTo>
                  <a:pt x="950290" y="38956"/>
                </a:lnTo>
                <a:lnTo>
                  <a:pt x="951103" y="39624"/>
                </a:lnTo>
                <a:lnTo>
                  <a:pt x="949579" y="38100"/>
                </a:lnTo>
                <a:close/>
              </a:path>
              <a:path w="989329" h="637539">
                <a:moveTo>
                  <a:pt x="980853" y="38100"/>
                </a:moveTo>
                <a:lnTo>
                  <a:pt x="949579" y="38100"/>
                </a:lnTo>
                <a:lnTo>
                  <a:pt x="951103" y="39624"/>
                </a:lnTo>
                <a:lnTo>
                  <a:pt x="981625" y="39624"/>
                </a:lnTo>
                <a:lnTo>
                  <a:pt x="980853" y="38100"/>
                </a:lnTo>
                <a:close/>
              </a:path>
              <a:path w="989329" h="637539">
                <a:moveTo>
                  <a:pt x="941832" y="32004"/>
                </a:moveTo>
                <a:lnTo>
                  <a:pt x="950290" y="38956"/>
                </a:lnTo>
                <a:lnTo>
                  <a:pt x="949579" y="38100"/>
                </a:lnTo>
                <a:lnTo>
                  <a:pt x="980853" y="38100"/>
                </a:lnTo>
                <a:lnTo>
                  <a:pt x="978535" y="33528"/>
                </a:lnTo>
                <a:lnTo>
                  <a:pt x="945007" y="33528"/>
                </a:lnTo>
                <a:lnTo>
                  <a:pt x="941832" y="32004"/>
                </a:lnTo>
                <a:close/>
              </a:path>
              <a:path w="989329" h="637539">
                <a:moveTo>
                  <a:pt x="41452" y="38100"/>
                </a:moveTo>
                <a:lnTo>
                  <a:pt x="41275" y="38100"/>
                </a:lnTo>
                <a:lnTo>
                  <a:pt x="40826" y="38621"/>
                </a:lnTo>
                <a:lnTo>
                  <a:pt x="41452" y="38100"/>
                </a:lnTo>
                <a:close/>
              </a:path>
              <a:path w="989329" h="637539">
                <a:moveTo>
                  <a:pt x="49657" y="32004"/>
                </a:moveTo>
                <a:lnTo>
                  <a:pt x="48768" y="32004"/>
                </a:lnTo>
                <a:lnTo>
                  <a:pt x="47371" y="33528"/>
                </a:lnTo>
                <a:lnTo>
                  <a:pt x="49657" y="32004"/>
                </a:lnTo>
                <a:close/>
              </a:path>
              <a:path w="989329" h="637539">
                <a:moveTo>
                  <a:pt x="971773" y="24257"/>
                </a:moveTo>
                <a:lnTo>
                  <a:pt x="922147" y="24257"/>
                </a:lnTo>
                <a:lnTo>
                  <a:pt x="926591" y="25781"/>
                </a:lnTo>
                <a:lnTo>
                  <a:pt x="931163" y="27432"/>
                </a:lnTo>
                <a:lnTo>
                  <a:pt x="935736" y="28956"/>
                </a:lnTo>
                <a:lnTo>
                  <a:pt x="945007" y="33528"/>
                </a:lnTo>
                <a:lnTo>
                  <a:pt x="978535" y="33528"/>
                </a:lnTo>
                <a:lnTo>
                  <a:pt x="977011" y="32004"/>
                </a:lnTo>
                <a:lnTo>
                  <a:pt x="977011" y="30353"/>
                </a:lnTo>
                <a:lnTo>
                  <a:pt x="971773" y="24257"/>
                </a:lnTo>
                <a:close/>
              </a:path>
              <a:path w="989329" h="637539">
                <a:moveTo>
                  <a:pt x="958596" y="12192"/>
                </a:moveTo>
                <a:lnTo>
                  <a:pt x="32004" y="12192"/>
                </a:lnTo>
                <a:lnTo>
                  <a:pt x="22860" y="19684"/>
                </a:lnTo>
                <a:lnTo>
                  <a:pt x="22860" y="21335"/>
                </a:lnTo>
                <a:lnTo>
                  <a:pt x="967866" y="21335"/>
                </a:lnTo>
                <a:lnTo>
                  <a:pt x="967866" y="19684"/>
                </a:lnTo>
                <a:lnTo>
                  <a:pt x="958596" y="12192"/>
                </a:lnTo>
                <a:close/>
              </a:path>
              <a:path w="989329" h="637539">
                <a:moveTo>
                  <a:pt x="929766" y="0"/>
                </a:moveTo>
                <a:lnTo>
                  <a:pt x="67183" y="0"/>
                </a:lnTo>
                <a:lnTo>
                  <a:pt x="59436" y="1524"/>
                </a:lnTo>
                <a:lnTo>
                  <a:pt x="51943" y="2921"/>
                </a:lnTo>
                <a:lnTo>
                  <a:pt x="44196" y="6096"/>
                </a:lnTo>
                <a:lnTo>
                  <a:pt x="35179" y="10667"/>
                </a:lnTo>
                <a:lnTo>
                  <a:pt x="33528" y="12192"/>
                </a:lnTo>
                <a:lnTo>
                  <a:pt x="957072" y="12192"/>
                </a:lnTo>
                <a:lnTo>
                  <a:pt x="955675" y="10667"/>
                </a:lnTo>
                <a:lnTo>
                  <a:pt x="945007" y="4444"/>
                </a:lnTo>
                <a:lnTo>
                  <a:pt x="937260" y="2921"/>
                </a:lnTo>
                <a:lnTo>
                  <a:pt x="92976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2" name="object 36"/>
          <p:cNvSpPr/>
          <p:nvPr/>
        </p:nvSpPr>
        <p:spPr>
          <a:xfrm>
            <a:off x="4638960" y="2453760"/>
            <a:ext cx="612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080"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58.6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ject 37"/>
          <p:cNvSpPr/>
          <p:nvPr/>
        </p:nvSpPr>
        <p:spPr>
          <a:xfrm>
            <a:off x="5748840" y="1752120"/>
            <a:ext cx="851400" cy="539280"/>
          </a:xfrm>
          <a:custGeom>
            <a:avLst/>
            <a:gdLst>
              <a:gd name="textAreaLeft" fmla="*/ 0 w 851400"/>
              <a:gd name="textAreaRight" fmla="*/ 851760 w 8514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5200" h="611505">
                <a:moveTo>
                  <a:pt x="903732" y="0"/>
                </a:moveTo>
                <a:lnTo>
                  <a:pt x="62611" y="0"/>
                </a:lnTo>
                <a:lnTo>
                  <a:pt x="37986" y="4812"/>
                </a:lnTo>
                <a:lnTo>
                  <a:pt x="18113" y="17922"/>
                </a:lnTo>
                <a:lnTo>
                  <a:pt x="4835" y="37343"/>
                </a:lnTo>
                <a:lnTo>
                  <a:pt x="0" y="61087"/>
                </a:lnTo>
                <a:lnTo>
                  <a:pt x="0" y="550164"/>
                </a:lnTo>
                <a:lnTo>
                  <a:pt x="4835" y="573907"/>
                </a:lnTo>
                <a:lnTo>
                  <a:pt x="18113" y="593328"/>
                </a:lnTo>
                <a:lnTo>
                  <a:pt x="37986" y="606438"/>
                </a:lnTo>
                <a:lnTo>
                  <a:pt x="62611" y="611251"/>
                </a:lnTo>
                <a:lnTo>
                  <a:pt x="903732" y="611251"/>
                </a:lnTo>
                <a:lnTo>
                  <a:pt x="927421" y="606438"/>
                </a:lnTo>
                <a:lnTo>
                  <a:pt x="946848" y="593328"/>
                </a:lnTo>
                <a:lnTo>
                  <a:pt x="959989" y="573907"/>
                </a:lnTo>
                <a:lnTo>
                  <a:pt x="964819" y="550164"/>
                </a:lnTo>
                <a:lnTo>
                  <a:pt x="964819" y="61087"/>
                </a:lnTo>
                <a:lnTo>
                  <a:pt x="959989" y="37343"/>
                </a:lnTo>
                <a:lnTo>
                  <a:pt x="946848" y="17922"/>
                </a:lnTo>
                <a:lnTo>
                  <a:pt x="927421" y="4812"/>
                </a:lnTo>
                <a:lnTo>
                  <a:pt x="903732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4" name="object 38"/>
          <p:cNvSpPr/>
          <p:nvPr/>
        </p:nvSpPr>
        <p:spPr>
          <a:xfrm>
            <a:off x="5738040" y="1740240"/>
            <a:ext cx="872640" cy="5634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89329" h="638810">
                <a:moveTo>
                  <a:pt x="923671" y="637032"/>
                </a:moveTo>
                <a:lnTo>
                  <a:pt x="67056" y="637032"/>
                </a:lnTo>
                <a:lnTo>
                  <a:pt x="74803" y="638429"/>
                </a:lnTo>
                <a:lnTo>
                  <a:pt x="915924" y="638429"/>
                </a:lnTo>
                <a:lnTo>
                  <a:pt x="923671" y="637032"/>
                </a:lnTo>
                <a:close/>
              </a:path>
              <a:path w="989329" h="638810">
                <a:moveTo>
                  <a:pt x="966343" y="617093"/>
                </a:moveTo>
                <a:lnTo>
                  <a:pt x="22860" y="617093"/>
                </a:lnTo>
                <a:lnTo>
                  <a:pt x="32131" y="624840"/>
                </a:lnTo>
                <a:lnTo>
                  <a:pt x="33528" y="624840"/>
                </a:lnTo>
                <a:lnTo>
                  <a:pt x="33528" y="626363"/>
                </a:lnTo>
                <a:lnTo>
                  <a:pt x="45720" y="632332"/>
                </a:lnTo>
                <a:lnTo>
                  <a:pt x="53467" y="635507"/>
                </a:lnTo>
                <a:lnTo>
                  <a:pt x="59562" y="637032"/>
                </a:lnTo>
                <a:lnTo>
                  <a:pt x="931163" y="637032"/>
                </a:lnTo>
                <a:lnTo>
                  <a:pt x="937260" y="633857"/>
                </a:lnTo>
                <a:lnTo>
                  <a:pt x="945007" y="630935"/>
                </a:lnTo>
                <a:lnTo>
                  <a:pt x="955675" y="626363"/>
                </a:lnTo>
                <a:lnTo>
                  <a:pt x="957199" y="624840"/>
                </a:lnTo>
                <a:lnTo>
                  <a:pt x="966343" y="617093"/>
                </a:lnTo>
                <a:close/>
              </a:path>
              <a:path w="989329" h="638810">
                <a:moveTo>
                  <a:pt x="967866" y="21335"/>
                </a:moveTo>
                <a:lnTo>
                  <a:pt x="21463" y="21335"/>
                </a:lnTo>
                <a:lnTo>
                  <a:pt x="21463" y="22732"/>
                </a:lnTo>
                <a:lnTo>
                  <a:pt x="13843" y="32003"/>
                </a:lnTo>
                <a:lnTo>
                  <a:pt x="0" y="66928"/>
                </a:lnTo>
                <a:lnTo>
                  <a:pt x="0" y="572896"/>
                </a:lnTo>
                <a:lnTo>
                  <a:pt x="1524" y="578993"/>
                </a:lnTo>
                <a:lnTo>
                  <a:pt x="3175" y="586740"/>
                </a:lnTo>
                <a:lnTo>
                  <a:pt x="6096" y="594232"/>
                </a:lnTo>
                <a:lnTo>
                  <a:pt x="12192" y="605027"/>
                </a:lnTo>
                <a:lnTo>
                  <a:pt x="13843" y="606424"/>
                </a:lnTo>
                <a:lnTo>
                  <a:pt x="21463" y="615696"/>
                </a:lnTo>
                <a:lnTo>
                  <a:pt x="21463" y="617093"/>
                </a:lnTo>
                <a:lnTo>
                  <a:pt x="967866" y="617093"/>
                </a:lnTo>
                <a:lnTo>
                  <a:pt x="967866" y="615696"/>
                </a:lnTo>
                <a:lnTo>
                  <a:pt x="970433" y="612521"/>
                </a:lnTo>
                <a:lnTo>
                  <a:pt x="68707" y="612521"/>
                </a:lnTo>
                <a:lnTo>
                  <a:pt x="64135" y="610996"/>
                </a:lnTo>
                <a:lnTo>
                  <a:pt x="59562" y="609599"/>
                </a:lnTo>
                <a:lnTo>
                  <a:pt x="54864" y="608076"/>
                </a:lnTo>
                <a:lnTo>
                  <a:pt x="48767" y="605027"/>
                </a:lnTo>
                <a:lnTo>
                  <a:pt x="47371" y="605027"/>
                </a:lnTo>
                <a:lnTo>
                  <a:pt x="38100" y="597407"/>
                </a:lnTo>
                <a:lnTo>
                  <a:pt x="40001" y="597407"/>
                </a:lnTo>
                <a:lnTo>
                  <a:pt x="36181" y="592835"/>
                </a:lnTo>
                <a:lnTo>
                  <a:pt x="35052" y="592835"/>
                </a:lnTo>
                <a:lnTo>
                  <a:pt x="28956" y="582168"/>
                </a:lnTo>
                <a:lnTo>
                  <a:pt x="27432" y="577596"/>
                </a:lnTo>
                <a:lnTo>
                  <a:pt x="26034" y="572896"/>
                </a:lnTo>
                <a:lnTo>
                  <a:pt x="26034" y="64007"/>
                </a:lnTo>
                <a:lnTo>
                  <a:pt x="27432" y="59435"/>
                </a:lnTo>
                <a:lnTo>
                  <a:pt x="28956" y="54863"/>
                </a:lnTo>
                <a:lnTo>
                  <a:pt x="35052" y="45592"/>
                </a:lnTo>
                <a:lnTo>
                  <a:pt x="36181" y="45592"/>
                </a:lnTo>
                <a:lnTo>
                  <a:pt x="40001" y="41020"/>
                </a:lnTo>
                <a:lnTo>
                  <a:pt x="38100" y="41020"/>
                </a:lnTo>
                <a:lnTo>
                  <a:pt x="47371" y="33527"/>
                </a:lnTo>
                <a:lnTo>
                  <a:pt x="48164" y="33527"/>
                </a:lnTo>
                <a:lnTo>
                  <a:pt x="56388" y="28828"/>
                </a:lnTo>
                <a:lnTo>
                  <a:pt x="60960" y="27431"/>
                </a:lnTo>
                <a:lnTo>
                  <a:pt x="65532" y="27431"/>
                </a:lnTo>
                <a:lnTo>
                  <a:pt x="70231" y="25907"/>
                </a:lnTo>
                <a:lnTo>
                  <a:pt x="970433" y="25907"/>
                </a:lnTo>
                <a:lnTo>
                  <a:pt x="967866" y="22732"/>
                </a:lnTo>
                <a:lnTo>
                  <a:pt x="967866" y="21335"/>
                </a:lnTo>
                <a:close/>
              </a:path>
              <a:path w="989329" h="638810">
                <a:moveTo>
                  <a:pt x="943356" y="603504"/>
                </a:moveTo>
                <a:lnTo>
                  <a:pt x="932688" y="609599"/>
                </a:lnTo>
                <a:lnTo>
                  <a:pt x="929766" y="610996"/>
                </a:lnTo>
                <a:lnTo>
                  <a:pt x="925194" y="610996"/>
                </a:lnTo>
                <a:lnTo>
                  <a:pt x="919099" y="612521"/>
                </a:lnTo>
                <a:lnTo>
                  <a:pt x="970433" y="612521"/>
                </a:lnTo>
                <a:lnTo>
                  <a:pt x="975360" y="606424"/>
                </a:lnTo>
                <a:lnTo>
                  <a:pt x="977011" y="605027"/>
                </a:lnTo>
                <a:lnTo>
                  <a:pt x="941832" y="605027"/>
                </a:lnTo>
                <a:lnTo>
                  <a:pt x="943356" y="603504"/>
                </a:lnTo>
                <a:close/>
              </a:path>
              <a:path w="989329" h="638810">
                <a:moveTo>
                  <a:pt x="45720" y="603504"/>
                </a:moveTo>
                <a:lnTo>
                  <a:pt x="47371" y="605027"/>
                </a:lnTo>
                <a:lnTo>
                  <a:pt x="48767" y="605027"/>
                </a:lnTo>
                <a:lnTo>
                  <a:pt x="45720" y="603504"/>
                </a:lnTo>
                <a:close/>
              </a:path>
              <a:path w="989329" h="638810">
                <a:moveTo>
                  <a:pt x="949702" y="598559"/>
                </a:moveTo>
                <a:lnTo>
                  <a:pt x="941832" y="605027"/>
                </a:lnTo>
                <a:lnTo>
                  <a:pt x="977011" y="605027"/>
                </a:lnTo>
                <a:lnTo>
                  <a:pt x="980059" y="598932"/>
                </a:lnTo>
                <a:lnTo>
                  <a:pt x="949452" y="598932"/>
                </a:lnTo>
                <a:lnTo>
                  <a:pt x="949702" y="598559"/>
                </a:lnTo>
                <a:close/>
              </a:path>
              <a:path w="989329" h="638810">
                <a:moveTo>
                  <a:pt x="40001" y="597407"/>
                </a:moveTo>
                <a:lnTo>
                  <a:pt x="38100" y="597407"/>
                </a:lnTo>
                <a:lnTo>
                  <a:pt x="41275" y="598932"/>
                </a:lnTo>
                <a:lnTo>
                  <a:pt x="40001" y="597407"/>
                </a:lnTo>
                <a:close/>
              </a:path>
              <a:path w="989329" h="638810">
                <a:moveTo>
                  <a:pt x="951103" y="597407"/>
                </a:moveTo>
                <a:lnTo>
                  <a:pt x="949702" y="598559"/>
                </a:lnTo>
                <a:lnTo>
                  <a:pt x="949452" y="598932"/>
                </a:lnTo>
                <a:lnTo>
                  <a:pt x="951103" y="597407"/>
                </a:lnTo>
                <a:close/>
              </a:path>
              <a:path w="989329" h="638810">
                <a:moveTo>
                  <a:pt x="980821" y="597407"/>
                </a:moveTo>
                <a:lnTo>
                  <a:pt x="951103" y="597407"/>
                </a:lnTo>
                <a:lnTo>
                  <a:pt x="949452" y="598932"/>
                </a:lnTo>
                <a:lnTo>
                  <a:pt x="980059" y="598932"/>
                </a:lnTo>
                <a:lnTo>
                  <a:pt x="980821" y="597407"/>
                </a:lnTo>
                <a:close/>
              </a:path>
              <a:path w="989329" h="638810">
                <a:moveTo>
                  <a:pt x="955675" y="589660"/>
                </a:moveTo>
                <a:lnTo>
                  <a:pt x="949702" y="598559"/>
                </a:lnTo>
                <a:lnTo>
                  <a:pt x="951103" y="597407"/>
                </a:lnTo>
                <a:lnTo>
                  <a:pt x="980821" y="597407"/>
                </a:lnTo>
                <a:lnTo>
                  <a:pt x="983107" y="592835"/>
                </a:lnTo>
                <a:lnTo>
                  <a:pt x="955675" y="592835"/>
                </a:lnTo>
                <a:lnTo>
                  <a:pt x="955675" y="589660"/>
                </a:lnTo>
                <a:close/>
              </a:path>
              <a:path w="989329" h="638810">
                <a:moveTo>
                  <a:pt x="33528" y="589660"/>
                </a:moveTo>
                <a:lnTo>
                  <a:pt x="35052" y="592835"/>
                </a:lnTo>
                <a:lnTo>
                  <a:pt x="36181" y="592835"/>
                </a:lnTo>
                <a:lnTo>
                  <a:pt x="33528" y="589660"/>
                </a:lnTo>
                <a:close/>
              </a:path>
              <a:path w="989329" h="638810">
                <a:moveTo>
                  <a:pt x="983651" y="45592"/>
                </a:moveTo>
                <a:lnTo>
                  <a:pt x="955675" y="45592"/>
                </a:lnTo>
                <a:lnTo>
                  <a:pt x="960119" y="56260"/>
                </a:lnTo>
                <a:lnTo>
                  <a:pt x="961771" y="60832"/>
                </a:lnTo>
                <a:lnTo>
                  <a:pt x="963294" y="65531"/>
                </a:lnTo>
                <a:lnTo>
                  <a:pt x="963294" y="574421"/>
                </a:lnTo>
                <a:lnTo>
                  <a:pt x="961771" y="578993"/>
                </a:lnTo>
                <a:lnTo>
                  <a:pt x="960119" y="583565"/>
                </a:lnTo>
                <a:lnTo>
                  <a:pt x="955675" y="592835"/>
                </a:lnTo>
                <a:lnTo>
                  <a:pt x="983107" y="592835"/>
                </a:lnTo>
                <a:lnTo>
                  <a:pt x="986028" y="585088"/>
                </a:lnTo>
                <a:lnTo>
                  <a:pt x="987552" y="578993"/>
                </a:lnTo>
                <a:lnTo>
                  <a:pt x="989203" y="571499"/>
                </a:lnTo>
                <a:lnTo>
                  <a:pt x="989203" y="65531"/>
                </a:lnTo>
                <a:lnTo>
                  <a:pt x="987552" y="59435"/>
                </a:lnTo>
                <a:lnTo>
                  <a:pt x="986028" y="51688"/>
                </a:lnTo>
                <a:lnTo>
                  <a:pt x="983651" y="45592"/>
                </a:lnTo>
                <a:close/>
              </a:path>
              <a:path w="989329" h="638810">
                <a:moveTo>
                  <a:pt x="36181" y="45592"/>
                </a:moveTo>
                <a:lnTo>
                  <a:pt x="35052" y="45592"/>
                </a:lnTo>
                <a:lnTo>
                  <a:pt x="33528" y="48767"/>
                </a:lnTo>
                <a:lnTo>
                  <a:pt x="36181" y="45592"/>
                </a:lnTo>
                <a:close/>
              </a:path>
              <a:path w="989329" h="638810">
                <a:moveTo>
                  <a:pt x="949730" y="39911"/>
                </a:moveTo>
                <a:lnTo>
                  <a:pt x="955675" y="48767"/>
                </a:lnTo>
                <a:lnTo>
                  <a:pt x="955675" y="45592"/>
                </a:lnTo>
                <a:lnTo>
                  <a:pt x="983651" y="45592"/>
                </a:lnTo>
                <a:lnTo>
                  <a:pt x="983107" y="44195"/>
                </a:lnTo>
                <a:lnTo>
                  <a:pt x="981292" y="41020"/>
                </a:lnTo>
                <a:lnTo>
                  <a:pt x="951103" y="41020"/>
                </a:lnTo>
                <a:lnTo>
                  <a:pt x="949730" y="39911"/>
                </a:lnTo>
                <a:close/>
              </a:path>
              <a:path w="989329" h="638810">
                <a:moveTo>
                  <a:pt x="41275" y="39496"/>
                </a:moveTo>
                <a:lnTo>
                  <a:pt x="38100" y="41020"/>
                </a:lnTo>
                <a:lnTo>
                  <a:pt x="40001" y="41020"/>
                </a:lnTo>
                <a:lnTo>
                  <a:pt x="41275" y="39496"/>
                </a:lnTo>
                <a:close/>
              </a:path>
              <a:path w="989329" h="638810">
                <a:moveTo>
                  <a:pt x="949452" y="39496"/>
                </a:moveTo>
                <a:lnTo>
                  <a:pt x="949730" y="39911"/>
                </a:lnTo>
                <a:lnTo>
                  <a:pt x="951103" y="41020"/>
                </a:lnTo>
                <a:lnTo>
                  <a:pt x="949452" y="39496"/>
                </a:lnTo>
                <a:close/>
              </a:path>
              <a:path w="989329" h="638810">
                <a:moveTo>
                  <a:pt x="980421" y="39496"/>
                </a:moveTo>
                <a:lnTo>
                  <a:pt x="949452" y="39496"/>
                </a:lnTo>
                <a:lnTo>
                  <a:pt x="951103" y="41020"/>
                </a:lnTo>
                <a:lnTo>
                  <a:pt x="981292" y="41020"/>
                </a:lnTo>
                <a:lnTo>
                  <a:pt x="980421" y="39496"/>
                </a:lnTo>
                <a:close/>
              </a:path>
              <a:path w="989329" h="638810">
                <a:moveTo>
                  <a:pt x="977011" y="33527"/>
                </a:moveTo>
                <a:lnTo>
                  <a:pt x="941832" y="33527"/>
                </a:lnTo>
                <a:lnTo>
                  <a:pt x="949730" y="39911"/>
                </a:lnTo>
                <a:lnTo>
                  <a:pt x="949452" y="39496"/>
                </a:lnTo>
                <a:lnTo>
                  <a:pt x="980421" y="39496"/>
                </a:lnTo>
                <a:lnTo>
                  <a:pt x="977011" y="33527"/>
                </a:lnTo>
                <a:close/>
              </a:path>
              <a:path w="989329" h="638810">
                <a:moveTo>
                  <a:pt x="48164" y="33527"/>
                </a:moveTo>
                <a:lnTo>
                  <a:pt x="47371" y="33527"/>
                </a:lnTo>
                <a:lnTo>
                  <a:pt x="45720" y="34924"/>
                </a:lnTo>
                <a:lnTo>
                  <a:pt x="48164" y="33527"/>
                </a:lnTo>
                <a:close/>
              </a:path>
              <a:path w="989329" h="638810">
                <a:moveTo>
                  <a:pt x="970433" y="25907"/>
                </a:moveTo>
                <a:lnTo>
                  <a:pt x="920496" y="25907"/>
                </a:lnTo>
                <a:lnTo>
                  <a:pt x="925194" y="27431"/>
                </a:lnTo>
                <a:lnTo>
                  <a:pt x="929766" y="28828"/>
                </a:lnTo>
                <a:lnTo>
                  <a:pt x="934338" y="30352"/>
                </a:lnTo>
                <a:lnTo>
                  <a:pt x="943356" y="34924"/>
                </a:lnTo>
                <a:lnTo>
                  <a:pt x="941832" y="33527"/>
                </a:lnTo>
                <a:lnTo>
                  <a:pt x="977011" y="33527"/>
                </a:lnTo>
                <a:lnTo>
                  <a:pt x="975360" y="32003"/>
                </a:lnTo>
                <a:lnTo>
                  <a:pt x="970433" y="25907"/>
                </a:lnTo>
                <a:close/>
              </a:path>
              <a:path w="989329" h="638810">
                <a:moveTo>
                  <a:pt x="929766" y="1396"/>
                </a:moveTo>
                <a:lnTo>
                  <a:pt x="58039" y="1396"/>
                </a:lnTo>
                <a:lnTo>
                  <a:pt x="51943" y="4571"/>
                </a:lnTo>
                <a:lnTo>
                  <a:pt x="44196" y="7492"/>
                </a:lnTo>
                <a:lnTo>
                  <a:pt x="33528" y="12064"/>
                </a:lnTo>
                <a:lnTo>
                  <a:pt x="33528" y="13588"/>
                </a:lnTo>
                <a:lnTo>
                  <a:pt x="32131" y="13588"/>
                </a:lnTo>
                <a:lnTo>
                  <a:pt x="22860" y="21335"/>
                </a:lnTo>
                <a:lnTo>
                  <a:pt x="966343" y="21335"/>
                </a:lnTo>
                <a:lnTo>
                  <a:pt x="957199" y="13588"/>
                </a:lnTo>
                <a:lnTo>
                  <a:pt x="955675" y="12064"/>
                </a:lnTo>
                <a:lnTo>
                  <a:pt x="943356" y="6095"/>
                </a:lnTo>
                <a:lnTo>
                  <a:pt x="937260" y="2920"/>
                </a:lnTo>
                <a:lnTo>
                  <a:pt x="929766" y="1396"/>
                </a:lnTo>
                <a:close/>
              </a:path>
              <a:path w="989329" h="638810">
                <a:moveTo>
                  <a:pt x="915924" y="0"/>
                </a:moveTo>
                <a:lnTo>
                  <a:pt x="73152" y="0"/>
                </a:lnTo>
                <a:lnTo>
                  <a:pt x="65532" y="1396"/>
                </a:lnTo>
                <a:lnTo>
                  <a:pt x="922019" y="1396"/>
                </a:lnTo>
                <a:lnTo>
                  <a:pt x="9159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5" name="object 39"/>
          <p:cNvSpPr/>
          <p:nvPr/>
        </p:nvSpPr>
        <p:spPr>
          <a:xfrm>
            <a:off x="5554080" y="1560240"/>
            <a:ext cx="858960" cy="546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6" name="object 40"/>
          <p:cNvSpPr/>
          <p:nvPr/>
        </p:nvSpPr>
        <p:spPr>
          <a:xfrm>
            <a:off x="5547240" y="155340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421" y="624713"/>
                </a:moveTo>
                <a:lnTo>
                  <a:pt x="33528" y="624713"/>
                </a:lnTo>
                <a:lnTo>
                  <a:pt x="45593" y="632460"/>
                </a:lnTo>
                <a:lnTo>
                  <a:pt x="53213" y="633857"/>
                </a:lnTo>
                <a:lnTo>
                  <a:pt x="59436" y="635381"/>
                </a:lnTo>
                <a:lnTo>
                  <a:pt x="67056" y="637032"/>
                </a:lnTo>
                <a:lnTo>
                  <a:pt x="923416" y="637032"/>
                </a:lnTo>
                <a:lnTo>
                  <a:pt x="938657" y="633857"/>
                </a:lnTo>
                <a:lnTo>
                  <a:pt x="944753" y="630809"/>
                </a:lnTo>
                <a:lnTo>
                  <a:pt x="955421" y="624713"/>
                </a:lnTo>
                <a:close/>
              </a:path>
              <a:path w="989329" h="637539">
                <a:moveTo>
                  <a:pt x="967613" y="615696"/>
                </a:moveTo>
                <a:lnTo>
                  <a:pt x="22860" y="615696"/>
                </a:lnTo>
                <a:lnTo>
                  <a:pt x="22860" y="617220"/>
                </a:lnTo>
                <a:lnTo>
                  <a:pt x="32004" y="624713"/>
                </a:lnTo>
                <a:lnTo>
                  <a:pt x="958596" y="624713"/>
                </a:lnTo>
                <a:lnTo>
                  <a:pt x="967613" y="617220"/>
                </a:lnTo>
                <a:lnTo>
                  <a:pt x="967613" y="615696"/>
                </a:lnTo>
                <a:close/>
              </a:path>
              <a:path w="989329" h="637539">
                <a:moveTo>
                  <a:pt x="48527" y="604824"/>
                </a:moveTo>
                <a:lnTo>
                  <a:pt x="48768" y="605028"/>
                </a:lnTo>
                <a:lnTo>
                  <a:pt x="13589" y="605028"/>
                </a:lnTo>
                <a:lnTo>
                  <a:pt x="13589" y="606425"/>
                </a:lnTo>
                <a:lnTo>
                  <a:pt x="21336" y="615696"/>
                </a:lnTo>
                <a:lnTo>
                  <a:pt x="969263" y="615696"/>
                </a:lnTo>
                <a:lnTo>
                  <a:pt x="971830" y="612521"/>
                </a:lnTo>
                <a:lnTo>
                  <a:pt x="68453" y="612521"/>
                </a:lnTo>
                <a:lnTo>
                  <a:pt x="63881" y="611124"/>
                </a:lnTo>
                <a:lnTo>
                  <a:pt x="59436" y="609600"/>
                </a:lnTo>
                <a:lnTo>
                  <a:pt x="54864" y="607949"/>
                </a:lnTo>
                <a:lnTo>
                  <a:pt x="48527" y="604824"/>
                </a:lnTo>
                <a:close/>
              </a:path>
              <a:path w="989329" h="637539">
                <a:moveTo>
                  <a:pt x="943356" y="603377"/>
                </a:moveTo>
                <a:lnTo>
                  <a:pt x="934085" y="609600"/>
                </a:lnTo>
                <a:lnTo>
                  <a:pt x="929513" y="609600"/>
                </a:lnTo>
                <a:lnTo>
                  <a:pt x="925068" y="611124"/>
                </a:lnTo>
                <a:lnTo>
                  <a:pt x="920496" y="612521"/>
                </a:lnTo>
                <a:lnTo>
                  <a:pt x="971830" y="612521"/>
                </a:lnTo>
                <a:lnTo>
                  <a:pt x="976757" y="606425"/>
                </a:lnTo>
                <a:lnTo>
                  <a:pt x="976757" y="605028"/>
                </a:lnTo>
                <a:lnTo>
                  <a:pt x="941832" y="605028"/>
                </a:lnTo>
                <a:lnTo>
                  <a:pt x="943356" y="603377"/>
                </a:lnTo>
                <a:close/>
              </a:path>
              <a:path w="989329" h="637539">
                <a:moveTo>
                  <a:pt x="958596" y="13589"/>
                </a:moveTo>
                <a:lnTo>
                  <a:pt x="32004" y="13589"/>
                </a:lnTo>
                <a:lnTo>
                  <a:pt x="22860" y="21209"/>
                </a:lnTo>
                <a:lnTo>
                  <a:pt x="1524" y="59309"/>
                </a:lnTo>
                <a:lnTo>
                  <a:pt x="1524" y="67056"/>
                </a:lnTo>
                <a:lnTo>
                  <a:pt x="0" y="74549"/>
                </a:lnTo>
                <a:lnTo>
                  <a:pt x="0" y="563753"/>
                </a:lnTo>
                <a:lnTo>
                  <a:pt x="1524" y="571500"/>
                </a:lnTo>
                <a:lnTo>
                  <a:pt x="1524" y="579120"/>
                </a:lnTo>
                <a:lnTo>
                  <a:pt x="4445" y="586613"/>
                </a:lnTo>
                <a:lnTo>
                  <a:pt x="7493" y="592709"/>
                </a:lnTo>
                <a:lnTo>
                  <a:pt x="12192" y="603377"/>
                </a:lnTo>
                <a:lnTo>
                  <a:pt x="12192" y="605028"/>
                </a:lnTo>
                <a:lnTo>
                  <a:pt x="48768" y="605028"/>
                </a:lnTo>
                <a:lnTo>
                  <a:pt x="45593" y="603377"/>
                </a:lnTo>
                <a:lnTo>
                  <a:pt x="46819" y="603377"/>
                </a:lnTo>
                <a:lnTo>
                  <a:pt x="41572" y="598932"/>
                </a:lnTo>
                <a:lnTo>
                  <a:pt x="41021" y="598932"/>
                </a:lnTo>
                <a:lnTo>
                  <a:pt x="39727" y="597403"/>
                </a:lnTo>
                <a:lnTo>
                  <a:pt x="33528" y="589788"/>
                </a:lnTo>
                <a:lnTo>
                  <a:pt x="34000" y="589788"/>
                </a:lnTo>
                <a:lnTo>
                  <a:pt x="28956" y="582168"/>
                </a:lnTo>
                <a:lnTo>
                  <a:pt x="27432" y="577596"/>
                </a:lnTo>
                <a:lnTo>
                  <a:pt x="27432" y="573024"/>
                </a:lnTo>
                <a:lnTo>
                  <a:pt x="25780" y="568325"/>
                </a:lnTo>
                <a:lnTo>
                  <a:pt x="25780" y="68453"/>
                </a:lnTo>
                <a:lnTo>
                  <a:pt x="27432" y="63881"/>
                </a:lnTo>
                <a:lnTo>
                  <a:pt x="28956" y="59309"/>
                </a:lnTo>
                <a:lnTo>
                  <a:pt x="30353" y="54864"/>
                </a:lnTo>
                <a:lnTo>
                  <a:pt x="34226" y="47117"/>
                </a:lnTo>
                <a:lnTo>
                  <a:pt x="33528" y="47117"/>
                </a:lnTo>
                <a:lnTo>
                  <a:pt x="41021" y="38100"/>
                </a:lnTo>
                <a:lnTo>
                  <a:pt x="43188" y="38100"/>
                </a:lnTo>
                <a:lnTo>
                  <a:pt x="47063" y="34925"/>
                </a:lnTo>
                <a:lnTo>
                  <a:pt x="45593" y="34925"/>
                </a:lnTo>
                <a:lnTo>
                  <a:pt x="56388" y="28956"/>
                </a:lnTo>
                <a:lnTo>
                  <a:pt x="60960" y="27432"/>
                </a:lnTo>
                <a:lnTo>
                  <a:pt x="65532" y="25781"/>
                </a:lnTo>
                <a:lnTo>
                  <a:pt x="971691" y="25781"/>
                </a:lnTo>
                <a:lnTo>
                  <a:pt x="969263" y="22860"/>
                </a:lnTo>
                <a:lnTo>
                  <a:pt x="967613" y="22860"/>
                </a:lnTo>
                <a:lnTo>
                  <a:pt x="967613" y="21209"/>
                </a:lnTo>
                <a:lnTo>
                  <a:pt x="958596" y="13589"/>
                </a:lnTo>
                <a:close/>
              </a:path>
              <a:path w="989329" h="637539">
                <a:moveTo>
                  <a:pt x="45593" y="603377"/>
                </a:moveTo>
                <a:lnTo>
                  <a:pt x="48768" y="605028"/>
                </a:lnTo>
                <a:lnTo>
                  <a:pt x="48527" y="604824"/>
                </a:lnTo>
                <a:lnTo>
                  <a:pt x="45593" y="603377"/>
                </a:lnTo>
                <a:close/>
              </a:path>
              <a:path w="989329" h="637539">
                <a:moveTo>
                  <a:pt x="950327" y="597729"/>
                </a:moveTo>
                <a:lnTo>
                  <a:pt x="941832" y="605028"/>
                </a:lnTo>
                <a:lnTo>
                  <a:pt x="976757" y="605028"/>
                </a:lnTo>
                <a:lnTo>
                  <a:pt x="976757" y="603377"/>
                </a:lnTo>
                <a:lnTo>
                  <a:pt x="979581" y="598932"/>
                </a:lnTo>
                <a:lnTo>
                  <a:pt x="949325" y="598932"/>
                </a:lnTo>
                <a:lnTo>
                  <a:pt x="950327" y="597729"/>
                </a:lnTo>
                <a:close/>
              </a:path>
              <a:path w="989329" h="637539">
                <a:moveTo>
                  <a:pt x="46819" y="603377"/>
                </a:moveTo>
                <a:lnTo>
                  <a:pt x="45593" y="603377"/>
                </a:lnTo>
                <a:lnTo>
                  <a:pt x="48527" y="604824"/>
                </a:lnTo>
                <a:lnTo>
                  <a:pt x="46819" y="603377"/>
                </a:lnTo>
                <a:close/>
              </a:path>
              <a:path w="989329" h="637539">
                <a:moveTo>
                  <a:pt x="39624" y="597281"/>
                </a:moveTo>
                <a:lnTo>
                  <a:pt x="41021" y="598932"/>
                </a:lnTo>
                <a:lnTo>
                  <a:pt x="39768" y="597403"/>
                </a:lnTo>
                <a:lnTo>
                  <a:pt x="39624" y="597281"/>
                </a:lnTo>
                <a:close/>
              </a:path>
              <a:path w="989329" h="637539">
                <a:moveTo>
                  <a:pt x="39768" y="597403"/>
                </a:moveTo>
                <a:lnTo>
                  <a:pt x="41021" y="598932"/>
                </a:lnTo>
                <a:lnTo>
                  <a:pt x="41572" y="598932"/>
                </a:lnTo>
                <a:lnTo>
                  <a:pt x="39768" y="597403"/>
                </a:lnTo>
                <a:close/>
              </a:path>
              <a:path w="989329" h="637539">
                <a:moveTo>
                  <a:pt x="950849" y="597281"/>
                </a:moveTo>
                <a:lnTo>
                  <a:pt x="950327" y="597729"/>
                </a:lnTo>
                <a:lnTo>
                  <a:pt x="949325" y="598932"/>
                </a:lnTo>
                <a:lnTo>
                  <a:pt x="950849" y="597281"/>
                </a:lnTo>
                <a:close/>
              </a:path>
              <a:path w="989329" h="637539">
                <a:moveTo>
                  <a:pt x="980630" y="597281"/>
                </a:moveTo>
                <a:lnTo>
                  <a:pt x="950849" y="597281"/>
                </a:lnTo>
                <a:lnTo>
                  <a:pt x="949325" y="598932"/>
                </a:lnTo>
                <a:lnTo>
                  <a:pt x="979581" y="598932"/>
                </a:lnTo>
                <a:lnTo>
                  <a:pt x="980630" y="597281"/>
                </a:lnTo>
                <a:close/>
              </a:path>
              <a:path w="989329" h="637539">
                <a:moveTo>
                  <a:pt x="984853" y="589788"/>
                </a:moveTo>
                <a:lnTo>
                  <a:pt x="956944" y="589788"/>
                </a:lnTo>
                <a:lnTo>
                  <a:pt x="950327" y="597729"/>
                </a:lnTo>
                <a:lnTo>
                  <a:pt x="950849" y="597281"/>
                </a:lnTo>
                <a:lnTo>
                  <a:pt x="980630" y="597281"/>
                </a:lnTo>
                <a:lnTo>
                  <a:pt x="984504" y="591185"/>
                </a:lnTo>
                <a:lnTo>
                  <a:pt x="984853" y="589788"/>
                </a:lnTo>
                <a:close/>
              </a:path>
              <a:path w="989329" h="637539">
                <a:moveTo>
                  <a:pt x="39668" y="597281"/>
                </a:moveTo>
              </a:path>
              <a:path w="989329" h="637539">
                <a:moveTo>
                  <a:pt x="34000" y="589788"/>
                </a:moveTo>
                <a:lnTo>
                  <a:pt x="33528" y="589788"/>
                </a:lnTo>
                <a:lnTo>
                  <a:pt x="34925" y="591185"/>
                </a:lnTo>
                <a:lnTo>
                  <a:pt x="34000" y="589788"/>
                </a:lnTo>
                <a:close/>
              </a:path>
              <a:path w="989329" h="637539">
                <a:moveTo>
                  <a:pt x="955421" y="45720"/>
                </a:moveTo>
                <a:lnTo>
                  <a:pt x="961516" y="56388"/>
                </a:lnTo>
                <a:lnTo>
                  <a:pt x="961516" y="60960"/>
                </a:lnTo>
                <a:lnTo>
                  <a:pt x="963168" y="65532"/>
                </a:lnTo>
                <a:lnTo>
                  <a:pt x="964691" y="69977"/>
                </a:lnTo>
                <a:lnTo>
                  <a:pt x="964691" y="569849"/>
                </a:lnTo>
                <a:lnTo>
                  <a:pt x="963168" y="574421"/>
                </a:lnTo>
                <a:lnTo>
                  <a:pt x="961516" y="579120"/>
                </a:lnTo>
                <a:lnTo>
                  <a:pt x="959993" y="583692"/>
                </a:lnTo>
                <a:lnTo>
                  <a:pt x="955421" y="591185"/>
                </a:lnTo>
                <a:lnTo>
                  <a:pt x="956944" y="589788"/>
                </a:lnTo>
                <a:lnTo>
                  <a:pt x="984853" y="589788"/>
                </a:lnTo>
                <a:lnTo>
                  <a:pt x="986028" y="585089"/>
                </a:lnTo>
                <a:lnTo>
                  <a:pt x="987425" y="577596"/>
                </a:lnTo>
                <a:lnTo>
                  <a:pt x="988949" y="569849"/>
                </a:lnTo>
                <a:lnTo>
                  <a:pt x="988949" y="65532"/>
                </a:lnTo>
                <a:lnTo>
                  <a:pt x="987425" y="57785"/>
                </a:lnTo>
                <a:lnTo>
                  <a:pt x="986028" y="51689"/>
                </a:lnTo>
                <a:lnTo>
                  <a:pt x="984090" y="47117"/>
                </a:lnTo>
                <a:lnTo>
                  <a:pt x="956944" y="47117"/>
                </a:lnTo>
                <a:lnTo>
                  <a:pt x="955421" y="45720"/>
                </a:lnTo>
                <a:close/>
              </a:path>
              <a:path w="989329" h="637539">
                <a:moveTo>
                  <a:pt x="34925" y="45720"/>
                </a:moveTo>
                <a:lnTo>
                  <a:pt x="33528" y="47117"/>
                </a:lnTo>
                <a:lnTo>
                  <a:pt x="34226" y="47117"/>
                </a:lnTo>
                <a:lnTo>
                  <a:pt x="34925" y="45720"/>
                </a:lnTo>
                <a:close/>
              </a:path>
              <a:path w="989329" h="637539">
                <a:moveTo>
                  <a:pt x="979369" y="38100"/>
                </a:moveTo>
                <a:lnTo>
                  <a:pt x="949325" y="38100"/>
                </a:lnTo>
                <a:lnTo>
                  <a:pt x="956944" y="47117"/>
                </a:lnTo>
                <a:lnTo>
                  <a:pt x="984090" y="47117"/>
                </a:lnTo>
                <a:lnTo>
                  <a:pt x="982853" y="44196"/>
                </a:lnTo>
                <a:lnTo>
                  <a:pt x="979369" y="38100"/>
                </a:lnTo>
                <a:close/>
              </a:path>
              <a:path w="989329" h="637539">
                <a:moveTo>
                  <a:pt x="43188" y="38100"/>
                </a:moveTo>
                <a:lnTo>
                  <a:pt x="41021" y="38100"/>
                </a:lnTo>
                <a:lnTo>
                  <a:pt x="39624" y="41021"/>
                </a:lnTo>
                <a:lnTo>
                  <a:pt x="43188" y="38100"/>
                </a:lnTo>
                <a:close/>
              </a:path>
              <a:path w="989329" h="637539">
                <a:moveTo>
                  <a:pt x="976757" y="33528"/>
                </a:moveTo>
                <a:lnTo>
                  <a:pt x="941832" y="33528"/>
                </a:lnTo>
                <a:lnTo>
                  <a:pt x="950849" y="41021"/>
                </a:lnTo>
                <a:lnTo>
                  <a:pt x="949325" y="38100"/>
                </a:lnTo>
                <a:lnTo>
                  <a:pt x="979369" y="38100"/>
                </a:lnTo>
                <a:lnTo>
                  <a:pt x="976757" y="33528"/>
                </a:lnTo>
                <a:close/>
              </a:path>
              <a:path w="989329" h="637539">
                <a:moveTo>
                  <a:pt x="48768" y="33528"/>
                </a:moveTo>
                <a:lnTo>
                  <a:pt x="45593" y="34925"/>
                </a:lnTo>
                <a:lnTo>
                  <a:pt x="47063" y="34925"/>
                </a:lnTo>
                <a:lnTo>
                  <a:pt x="48768" y="33528"/>
                </a:lnTo>
                <a:close/>
              </a:path>
              <a:path w="989329" h="637539">
                <a:moveTo>
                  <a:pt x="971691" y="25781"/>
                </a:moveTo>
                <a:lnTo>
                  <a:pt x="926591" y="25781"/>
                </a:lnTo>
                <a:lnTo>
                  <a:pt x="931163" y="27432"/>
                </a:lnTo>
                <a:lnTo>
                  <a:pt x="935736" y="28956"/>
                </a:lnTo>
                <a:lnTo>
                  <a:pt x="943356" y="34925"/>
                </a:lnTo>
                <a:lnTo>
                  <a:pt x="941832" y="33528"/>
                </a:lnTo>
                <a:lnTo>
                  <a:pt x="976757" y="33528"/>
                </a:lnTo>
                <a:lnTo>
                  <a:pt x="976757" y="31877"/>
                </a:lnTo>
                <a:lnTo>
                  <a:pt x="971691" y="25781"/>
                </a:lnTo>
                <a:close/>
              </a:path>
              <a:path w="989329" h="637539">
                <a:moveTo>
                  <a:pt x="921893" y="0"/>
                </a:moveTo>
                <a:lnTo>
                  <a:pt x="65532" y="0"/>
                </a:lnTo>
                <a:lnTo>
                  <a:pt x="59436" y="1524"/>
                </a:lnTo>
                <a:lnTo>
                  <a:pt x="51689" y="2921"/>
                </a:lnTo>
                <a:lnTo>
                  <a:pt x="44196" y="6096"/>
                </a:lnTo>
                <a:lnTo>
                  <a:pt x="33528" y="12192"/>
                </a:lnTo>
                <a:lnTo>
                  <a:pt x="33528" y="13589"/>
                </a:lnTo>
                <a:lnTo>
                  <a:pt x="956944" y="13589"/>
                </a:lnTo>
                <a:lnTo>
                  <a:pt x="956944" y="12192"/>
                </a:lnTo>
                <a:lnTo>
                  <a:pt x="955421" y="12192"/>
                </a:lnTo>
                <a:lnTo>
                  <a:pt x="943356" y="6096"/>
                </a:lnTo>
                <a:lnTo>
                  <a:pt x="937260" y="2921"/>
                </a:lnTo>
                <a:lnTo>
                  <a:pt x="929513" y="1524"/>
                </a:lnTo>
                <a:lnTo>
                  <a:pt x="921893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7" name="object 41"/>
          <p:cNvSpPr/>
          <p:nvPr/>
        </p:nvSpPr>
        <p:spPr>
          <a:xfrm>
            <a:off x="5850720" y="1733040"/>
            <a:ext cx="2656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bject 42"/>
          <p:cNvSpPr/>
          <p:nvPr/>
        </p:nvSpPr>
        <p:spPr>
          <a:xfrm>
            <a:off x="5463720" y="2261880"/>
            <a:ext cx="851400" cy="540360"/>
          </a:xfrm>
          <a:custGeom>
            <a:avLst/>
            <a:gdLst>
              <a:gd name="textAreaLeft" fmla="*/ 0 w 851400"/>
              <a:gd name="textAreaRight" fmla="*/ 851760 w 851400"/>
              <a:gd name="textAreaTop" fmla="*/ 0 h 540360"/>
              <a:gd name="textAreaBottom" fmla="*/ 540720 h 540360"/>
            </a:gdLst>
            <a:ahLst/>
            <a:rect l="textAreaLeft" t="textAreaTop" r="textAreaRight" b="textAreaBottom"/>
            <a:pathLst>
              <a:path w="965200" h="612775">
                <a:moveTo>
                  <a:pt x="903732" y="0"/>
                </a:moveTo>
                <a:lnTo>
                  <a:pt x="62611" y="0"/>
                </a:lnTo>
                <a:lnTo>
                  <a:pt x="37986" y="4810"/>
                </a:lnTo>
                <a:lnTo>
                  <a:pt x="18113" y="17907"/>
                </a:lnTo>
                <a:lnTo>
                  <a:pt x="4835" y="37290"/>
                </a:lnTo>
                <a:lnTo>
                  <a:pt x="0" y="60960"/>
                </a:lnTo>
                <a:lnTo>
                  <a:pt x="0" y="551688"/>
                </a:lnTo>
                <a:lnTo>
                  <a:pt x="4835" y="575431"/>
                </a:lnTo>
                <a:lnTo>
                  <a:pt x="18113" y="594852"/>
                </a:lnTo>
                <a:lnTo>
                  <a:pt x="37986" y="607962"/>
                </a:lnTo>
                <a:lnTo>
                  <a:pt x="62611" y="612775"/>
                </a:lnTo>
                <a:lnTo>
                  <a:pt x="903732" y="612775"/>
                </a:lnTo>
                <a:lnTo>
                  <a:pt x="927421" y="607962"/>
                </a:lnTo>
                <a:lnTo>
                  <a:pt x="946848" y="594852"/>
                </a:lnTo>
                <a:lnTo>
                  <a:pt x="959989" y="575431"/>
                </a:lnTo>
                <a:lnTo>
                  <a:pt x="964819" y="551688"/>
                </a:lnTo>
                <a:lnTo>
                  <a:pt x="964819" y="60960"/>
                </a:lnTo>
                <a:lnTo>
                  <a:pt x="959989" y="37290"/>
                </a:lnTo>
                <a:lnTo>
                  <a:pt x="946848" y="17907"/>
                </a:lnTo>
                <a:lnTo>
                  <a:pt x="927421" y="4810"/>
                </a:lnTo>
                <a:lnTo>
                  <a:pt x="90373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9" name="object 43"/>
          <p:cNvSpPr/>
          <p:nvPr/>
        </p:nvSpPr>
        <p:spPr>
          <a:xfrm>
            <a:off x="5452920" y="225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4840"/>
                </a:moveTo>
                <a:lnTo>
                  <a:pt x="33528" y="624840"/>
                </a:lnTo>
                <a:lnTo>
                  <a:pt x="45720" y="630936"/>
                </a:lnTo>
                <a:lnTo>
                  <a:pt x="53467" y="633857"/>
                </a:lnTo>
                <a:lnTo>
                  <a:pt x="59562" y="635508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31163" y="635508"/>
                </a:lnTo>
                <a:lnTo>
                  <a:pt x="937260" y="633857"/>
                </a:lnTo>
                <a:lnTo>
                  <a:pt x="945007" y="630936"/>
                </a:lnTo>
                <a:lnTo>
                  <a:pt x="955675" y="624840"/>
                </a:lnTo>
                <a:close/>
              </a:path>
              <a:path w="989329" h="637539">
                <a:moveTo>
                  <a:pt x="966343" y="615569"/>
                </a:moveTo>
                <a:lnTo>
                  <a:pt x="22860" y="615569"/>
                </a:lnTo>
                <a:lnTo>
                  <a:pt x="32131" y="623189"/>
                </a:lnTo>
                <a:lnTo>
                  <a:pt x="32131" y="624840"/>
                </a:lnTo>
                <a:lnTo>
                  <a:pt x="957199" y="624840"/>
                </a:lnTo>
                <a:lnTo>
                  <a:pt x="957199" y="623189"/>
                </a:lnTo>
                <a:lnTo>
                  <a:pt x="966343" y="615569"/>
                </a:lnTo>
                <a:close/>
              </a:path>
              <a:path w="989329" h="637539">
                <a:moveTo>
                  <a:pt x="47371" y="32004"/>
                </a:moveTo>
                <a:lnTo>
                  <a:pt x="12192" y="32004"/>
                </a:lnTo>
                <a:lnTo>
                  <a:pt x="12192" y="33401"/>
                </a:lnTo>
                <a:lnTo>
                  <a:pt x="6096" y="45593"/>
                </a:lnTo>
                <a:lnTo>
                  <a:pt x="3175" y="51689"/>
                </a:lnTo>
                <a:lnTo>
                  <a:pt x="1524" y="59436"/>
                </a:lnTo>
                <a:lnTo>
                  <a:pt x="0" y="66929"/>
                </a:lnTo>
                <a:lnTo>
                  <a:pt x="0" y="571500"/>
                </a:lnTo>
                <a:lnTo>
                  <a:pt x="1524" y="578993"/>
                </a:lnTo>
                <a:lnTo>
                  <a:pt x="3175" y="585089"/>
                </a:lnTo>
                <a:lnTo>
                  <a:pt x="6096" y="592836"/>
                </a:lnTo>
                <a:lnTo>
                  <a:pt x="12192" y="603504"/>
                </a:lnTo>
                <a:lnTo>
                  <a:pt x="12192" y="604901"/>
                </a:lnTo>
                <a:lnTo>
                  <a:pt x="13843" y="604901"/>
                </a:lnTo>
                <a:lnTo>
                  <a:pt x="21463" y="614172"/>
                </a:lnTo>
                <a:lnTo>
                  <a:pt x="21463" y="615569"/>
                </a:lnTo>
                <a:lnTo>
                  <a:pt x="967866" y="615569"/>
                </a:lnTo>
                <a:lnTo>
                  <a:pt x="967866" y="614172"/>
                </a:lnTo>
                <a:lnTo>
                  <a:pt x="970433" y="610997"/>
                </a:lnTo>
                <a:lnTo>
                  <a:pt x="64135" y="610997"/>
                </a:lnTo>
                <a:lnTo>
                  <a:pt x="59562" y="609600"/>
                </a:lnTo>
                <a:lnTo>
                  <a:pt x="54864" y="608076"/>
                </a:lnTo>
                <a:lnTo>
                  <a:pt x="45720" y="603504"/>
                </a:lnTo>
                <a:lnTo>
                  <a:pt x="47371" y="603504"/>
                </a:lnTo>
                <a:lnTo>
                  <a:pt x="41899" y="598932"/>
                </a:lnTo>
                <a:lnTo>
                  <a:pt x="41275" y="598932"/>
                </a:lnTo>
                <a:lnTo>
                  <a:pt x="38100" y="595757"/>
                </a:lnTo>
                <a:lnTo>
                  <a:pt x="38621" y="595757"/>
                </a:lnTo>
                <a:lnTo>
                  <a:pt x="33528" y="589661"/>
                </a:lnTo>
                <a:lnTo>
                  <a:pt x="34108" y="589661"/>
                </a:lnTo>
                <a:lnTo>
                  <a:pt x="28956" y="580644"/>
                </a:lnTo>
                <a:lnTo>
                  <a:pt x="27432" y="577469"/>
                </a:lnTo>
                <a:lnTo>
                  <a:pt x="26034" y="572897"/>
                </a:lnTo>
                <a:lnTo>
                  <a:pt x="26034" y="64008"/>
                </a:lnTo>
                <a:lnTo>
                  <a:pt x="27432" y="59436"/>
                </a:lnTo>
                <a:lnTo>
                  <a:pt x="28956" y="54864"/>
                </a:lnTo>
                <a:lnTo>
                  <a:pt x="33966" y="47244"/>
                </a:lnTo>
                <a:lnTo>
                  <a:pt x="33528" y="47244"/>
                </a:lnTo>
                <a:lnTo>
                  <a:pt x="40091" y="39497"/>
                </a:lnTo>
                <a:lnTo>
                  <a:pt x="38100" y="39497"/>
                </a:lnTo>
                <a:lnTo>
                  <a:pt x="47371" y="32004"/>
                </a:lnTo>
                <a:close/>
              </a:path>
              <a:path w="989329" h="637539">
                <a:moveTo>
                  <a:pt x="949978" y="598147"/>
                </a:moveTo>
                <a:lnTo>
                  <a:pt x="941832" y="603504"/>
                </a:lnTo>
                <a:lnTo>
                  <a:pt x="943356" y="603504"/>
                </a:lnTo>
                <a:lnTo>
                  <a:pt x="932688" y="608076"/>
                </a:lnTo>
                <a:lnTo>
                  <a:pt x="929766" y="609600"/>
                </a:lnTo>
                <a:lnTo>
                  <a:pt x="925194" y="610997"/>
                </a:lnTo>
                <a:lnTo>
                  <a:pt x="970433" y="610997"/>
                </a:lnTo>
                <a:lnTo>
                  <a:pt x="975360" y="604901"/>
                </a:lnTo>
                <a:lnTo>
                  <a:pt x="977011" y="604901"/>
                </a:lnTo>
                <a:lnTo>
                  <a:pt x="977011" y="603504"/>
                </a:lnTo>
                <a:lnTo>
                  <a:pt x="979297" y="598932"/>
                </a:lnTo>
                <a:lnTo>
                  <a:pt x="949452" y="598932"/>
                </a:lnTo>
                <a:lnTo>
                  <a:pt x="949978" y="598147"/>
                </a:lnTo>
                <a:close/>
              </a:path>
              <a:path w="989329" h="637539">
                <a:moveTo>
                  <a:pt x="38100" y="595757"/>
                </a:moveTo>
                <a:lnTo>
                  <a:pt x="41275" y="598932"/>
                </a:lnTo>
                <a:lnTo>
                  <a:pt x="39829" y="597202"/>
                </a:lnTo>
                <a:lnTo>
                  <a:pt x="38100" y="595757"/>
                </a:lnTo>
                <a:close/>
              </a:path>
              <a:path w="989329" h="637539">
                <a:moveTo>
                  <a:pt x="39829" y="597202"/>
                </a:moveTo>
                <a:lnTo>
                  <a:pt x="41275" y="598932"/>
                </a:lnTo>
                <a:lnTo>
                  <a:pt x="41899" y="598932"/>
                </a:lnTo>
                <a:lnTo>
                  <a:pt x="39829" y="597202"/>
                </a:lnTo>
                <a:close/>
              </a:path>
              <a:path w="989329" h="637539">
                <a:moveTo>
                  <a:pt x="951103" y="597408"/>
                </a:moveTo>
                <a:lnTo>
                  <a:pt x="949978" y="598147"/>
                </a:lnTo>
                <a:lnTo>
                  <a:pt x="949452" y="598932"/>
                </a:lnTo>
                <a:lnTo>
                  <a:pt x="951103" y="597408"/>
                </a:lnTo>
                <a:close/>
              </a:path>
              <a:path w="989329" h="637539">
                <a:moveTo>
                  <a:pt x="980059" y="597408"/>
                </a:moveTo>
                <a:lnTo>
                  <a:pt x="951103" y="597408"/>
                </a:lnTo>
                <a:lnTo>
                  <a:pt x="949452" y="598932"/>
                </a:lnTo>
                <a:lnTo>
                  <a:pt x="979297" y="598932"/>
                </a:lnTo>
                <a:lnTo>
                  <a:pt x="980059" y="597408"/>
                </a:lnTo>
                <a:close/>
              </a:path>
              <a:path w="989329" h="637539">
                <a:moveTo>
                  <a:pt x="955675" y="589661"/>
                </a:moveTo>
                <a:lnTo>
                  <a:pt x="949978" y="598147"/>
                </a:lnTo>
                <a:lnTo>
                  <a:pt x="951103" y="597408"/>
                </a:lnTo>
                <a:lnTo>
                  <a:pt x="980059" y="597408"/>
                </a:lnTo>
                <a:lnTo>
                  <a:pt x="983107" y="591312"/>
                </a:lnTo>
                <a:lnTo>
                  <a:pt x="955675" y="591312"/>
                </a:lnTo>
                <a:lnTo>
                  <a:pt x="955675" y="589661"/>
                </a:lnTo>
                <a:close/>
              </a:path>
              <a:path w="989329" h="637539">
                <a:moveTo>
                  <a:pt x="38621" y="595757"/>
                </a:moveTo>
                <a:lnTo>
                  <a:pt x="38100" y="595757"/>
                </a:lnTo>
                <a:lnTo>
                  <a:pt x="39829" y="597202"/>
                </a:lnTo>
                <a:lnTo>
                  <a:pt x="38621" y="595757"/>
                </a:lnTo>
                <a:close/>
              </a:path>
              <a:path w="989329" h="637539">
                <a:moveTo>
                  <a:pt x="34108" y="589661"/>
                </a:moveTo>
                <a:lnTo>
                  <a:pt x="33528" y="589661"/>
                </a:lnTo>
                <a:lnTo>
                  <a:pt x="35052" y="591312"/>
                </a:lnTo>
                <a:lnTo>
                  <a:pt x="34108" y="589661"/>
                </a:lnTo>
                <a:close/>
              </a:path>
              <a:path w="989329" h="637539">
                <a:moveTo>
                  <a:pt x="983837" y="45593"/>
                </a:moveTo>
                <a:lnTo>
                  <a:pt x="955675" y="45593"/>
                </a:lnTo>
                <a:lnTo>
                  <a:pt x="960119" y="56261"/>
                </a:lnTo>
                <a:lnTo>
                  <a:pt x="961771" y="59436"/>
                </a:lnTo>
                <a:lnTo>
                  <a:pt x="963294" y="64007"/>
                </a:lnTo>
                <a:lnTo>
                  <a:pt x="963294" y="572897"/>
                </a:lnTo>
                <a:lnTo>
                  <a:pt x="961771" y="577469"/>
                </a:lnTo>
                <a:lnTo>
                  <a:pt x="960119" y="582168"/>
                </a:lnTo>
                <a:lnTo>
                  <a:pt x="955675" y="591312"/>
                </a:lnTo>
                <a:lnTo>
                  <a:pt x="983107" y="591312"/>
                </a:lnTo>
                <a:lnTo>
                  <a:pt x="986028" y="585089"/>
                </a:lnTo>
                <a:lnTo>
                  <a:pt x="987552" y="577469"/>
                </a:lnTo>
                <a:lnTo>
                  <a:pt x="989203" y="569976"/>
                </a:lnTo>
                <a:lnTo>
                  <a:pt x="989203" y="65532"/>
                </a:lnTo>
                <a:lnTo>
                  <a:pt x="987552" y="57912"/>
                </a:lnTo>
                <a:lnTo>
                  <a:pt x="986028" y="50165"/>
                </a:lnTo>
                <a:lnTo>
                  <a:pt x="983837" y="45593"/>
                </a:lnTo>
                <a:close/>
              </a:path>
              <a:path w="989329" h="637539">
                <a:moveTo>
                  <a:pt x="35052" y="45593"/>
                </a:moveTo>
                <a:lnTo>
                  <a:pt x="33528" y="47244"/>
                </a:lnTo>
                <a:lnTo>
                  <a:pt x="33966" y="47244"/>
                </a:lnTo>
                <a:lnTo>
                  <a:pt x="35052" y="45593"/>
                </a:lnTo>
                <a:close/>
              </a:path>
              <a:path w="989329" h="637539">
                <a:moveTo>
                  <a:pt x="949546" y="38239"/>
                </a:moveTo>
                <a:lnTo>
                  <a:pt x="955675" y="47244"/>
                </a:lnTo>
                <a:lnTo>
                  <a:pt x="955675" y="45593"/>
                </a:lnTo>
                <a:lnTo>
                  <a:pt x="983837" y="45593"/>
                </a:lnTo>
                <a:lnTo>
                  <a:pt x="983107" y="44069"/>
                </a:lnTo>
                <a:lnTo>
                  <a:pt x="980494" y="39497"/>
                </a:lnTo>
                <a:lnTo>
                  <a:pt x="951103" y="39497"/>
                </a:lnTo>
                <a:lnTo>
                  <a:pt x="949546" y="38239"/>
                </a:lnTo>
                <a:close/>
              </a:path>
              <a:path w="989329" h="637539">
                <a:moveTo>
                  <a:pt x="41275" y="38100"/>
                </a:moveTo>
                <a:lnTo>
                  <a:pt x="38100" y="39497"/>
                </a:lnTo>
                <a:lnTo>
                  <a:pt x="40091" y="39497"/>
                </a:lnTo>
                <a:lnTo>
                  <a:pt x="41275" y="38100"/>
                </a:lnTo>
                <a:close/>
              </a:path>
              <a:path w="989329" h="637539">
                <a:moveTo>
                  <a:pt x="949452" y="38100"/>
                </a:moveTo>
                <a:lnTo>
                  <a:pt x="949546" y="38239"/>
                </a:lnTo>
                <a:lnTo>
                  <a:pt x="951103" y="39497"/>
                </a:lnTo>
                <a:lnTo>
                  <a:pt x="949452" y="38100"/>
                </a:lnTo>
                <a:close/>
              </a:path>
              <a:path w="989329" h="637539">
                <a:moveTo>
                  <a:pt x="979696" y="38100"/>
                </a:moveTo>
                <a:lnTo>
                  <a:pt x="949452" y="38100"/>
                </a:lnTo>
                <a:lnTo>
                  <a:pt x="951103" y="39497"/>
                </a:lnTo>
                <a:lnTo>
                  <a:pt x="980494" y="39497"/>
                </a:lnTo>
                <a:lnTo>
                  <a:pt x="979696" y="38100"/>
                </a:lnTo>
                <a:close/>
              </a:path>
              <a:path w="989329" h="637539">
                <a:moveTo>
                  <a:pt x="977011" y="32004"/>
                </a:moveTo>
                <a:lnTo>
                  <a:pt x="941832" y="32004"/>
                </a:lnTo>
                <a:lnTo>
                  <a:pt x="949546" y="38239"/>
                </a:lnTo>
                <a:lnTo>
                  <a:pt x="949452" y="38100"/>
                </a:lnTo>
                <a:lnTo>
                  <a:pt x="979696" y="38100"/>
                </a:lnTo>
                <a:lnTo>
                  <a:pt x="977011" y="33401"/>
                </a:lnTo>
                <a:lnTo>
                  <a:pt x="977011" y="32004"/>
                </a:lnTo>
                <a:close/>
              </a:path>
              <a:path w="989329" h="637539">
                <a:moveTo>
                  <a:pt x="957199" y="12065"/>
                </a:moveTo>
                <a:lnTo>
                  <a:pt x="32131" y="12065"/>
                </a:lnTo>
                <a:lnTo>
                  <a:pt x="32131" y="13589"/>
                </a:lnTo>
                <a:lnTo>
                  <a:pt x="22860" y="19811"/>
                </a:lnTo>
                <a:lnTo>
                  <a:pt x="21463" y="21335"/>
                </a:lnTo>
                <a:lnTo>
                  <a:pt x="21463" y="22733"/>
                </a:lnTo>
                <a:lnTo>
                  <a:pt x="13843" y="32004"/>
                </a:lnTo>
                <a:lnTo>
                  <a:pt x="47371" y="32004"/>
                </a:lnTo>
                <a:lnTo>
                  <a:pt x="45720" y="33401"/>
                </a:lnTo>
                <a:lnTo>
                  <a:pt x="56388" y="28829"/>
                </a:lnTo>
                <a:lnTo>
                  <a:pt x="60960" y="27432"/>
                </a:lnTo>
                <a:lnTo>
                  <a:pt x="65532" y="25908"/>
                </a:lnTo>
                <a:lnTo>
                  <a:pt x="70231" y="25908"/>
                </a:lnTo>
                <a:lnTo>
                  <a:pt x="74803" y="24257"/>
                </a:lnTo>
                <a:lnTo>
                  <a:pt x="969098" y="24257"/>
                </a:lnTo>
                <a:lnTo>
                  <a:pt x="967866" y="22733"/>
                </a:lnTo>
                <a:lnTo>
                  <a:pt x="967866" y="21335"/>
                </a:lnTo>
                <a:lnTo>
                  <a:pt x="966343" y="19811"/>
                </a:lnTo>
                <a:lnTo>
                  <a:pt x="957199" y="13589"/>
                </a:lnTo>
                <a:lnTo>
                  <a:pt x="957199" y="12065"/>
                </a:lnTo>
                <a:close/>
              </a:path>
              <a:path w="989329" h="637539">
                <a:moveTo>
                  <a:pt x="969098" y="24257"/>
                </a:moveTo>
                <a:lnTo>
                  <a:pt x="915924" y="24257"/>
                </a:lnTo>
                <a:lnTo>
                  <a:pt x="920496" y="25908"/>
                </a:lnTo>
                <a:lnTo>
                  <a:pt x="925194" y="25908"/>
                </a:lnTo>
                <a:lnTo>
                  <a:pt x="929766" y="27432"/>
                </a:lnTo>
                <a:lnTo>
                  <a:pt x="934338" y="28829"/>
                </a:lnTo>
                <a:lnTo>
                  <a:pt x="943356" y="33401"/>
                </a:lnTo>
                <a:lnTo>
                  <a:pt x="941832" y="32004"/>
                </a:lnTo>
                <a:lnTo>
                  <a:pt x="975360" y="32004"/>
                </a:lnTo>
                <a:lnTo>
                  <a:pt x="969098" y="24257"/>
                </a:lnTo>
                <a:close/>
              </a:path>
              <a:path w="989329" h="637539">
                <a:moveTo>
                  <a:pt x="922019" y="0"/>
                </a:moveTo>
                <a:lnTo>
                  <a:pt x="65532" y="0"/>
                </a:lnTo>
                <a:lnTo>
                  <a:pt x="58039" y="1397"/>
                </a:lnTo>
                <a:lnTo>
                  <a:pt x="51943" y="2921"/>
                </a:lnTo>
                <a:lnTo>
                  <a:pt x="44196" y="5968"/>
                </a:lnTo>
                <a:lnTo>
                  <a:pt x="33528" y="12065"/>
                </a:lnTo>
                <a:lnTo>
                  <a:pt x="955675" y="12065"/>
                </a:lnTo>
                <a:lnTo>
                  <a:pt x="937260" y="2921"/>
                </a:lnTo>
                <a:lnTo>
                  <a:pt x="929766" y="1397"/>
                </a:lnTo>
                <a:lnTo>
                  <a:pt x="9220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0" name="object 44"/>
          <p:cNvSpPr/>
          <p:nvPr/>
        </p:nvSpPr>
        <p:spPr>
          <a:xfrm>
            <a:off x="5554080" y="2345400"/>
            <a:ext cx="858960" cy="550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1" name="object 45"/>
          <p:cNvSpPr/>
          <p:nvPr/>
        </p:nvSpPr>
        <p:spPr>
          <a:xfrm>
            <a:off x="5547240" y="234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6944" y="623189"/>
                </a:moveTo>
                <a:lnTo>
                  <a:pt x="33528" y="623189"/>
                </a:lnTo>
                <a:lnTo>
                  <a:pt x="33528" y="624713"/>
                </a:lnTo>
                <a:lnTo>
                  <a:pt x="45593" y="630936"/>
                </a:lnTo>
                <a:lnTo>
                  <a:pt x="53213" y="633857"/>
                </a:lnTo>
                <a:lnTo>
                  <a:pt x="59436" y="635381"/>
                </a:lnTo>
                <a:lnTo>
                  <a:pt x="67056" y="637032"/>
                </a:lnTo>
                <a:lnTo>
                  <a:pt x="923416" y="637032"/>
                </a:lnTo>
                <a:lnTo>
                  <a:pt x="931163" y="635381"/>
                </a:lnTo>
                <a:lnTo>
                  <a:pt x="938657" y="632460"/>
                </a:lnTo>
                <a:lnTo>
                  <a:pt x="944753" y="630936"/>
                </a:lnTo>
                <a:lnTo>
                  <a:pt x="955421" y="624713"/>
                </a:lnTo>
                <a:lnTo>
                  <a:pt x="956944" y="624713"/>
                </a:lnTo>
                <a:lnTo>
                  <a:pt x="956944" y="623189"/>
                </a:lnTo>
                <a:close/>
              </a:path>
              <a:path w="989329" h="637539">
                <a:moveTo>
                  <a:pt x="969263" y="21335"/>
                </a:moveTo>
                <a:lnTo>
                  <a:pt x="21336" y="21335"/>
                </a:lnTo>
                <a:lnTo>
                  <a:pt x="13589" y="30353"/>
                </a:lnTo>
                <a:lnTo>
                  <a:pt x="13589" y="32004"/>
                </a:lnTo>
                <a:lnTo>
                  <a:pt x="12192" y="32004"/>
                </a:lnTo>
                <a:lnTo>
                  <a:pt x="12192" y="33528"/>
                </a:lnTo>
                <a:lnTo>
                  <a:pt x="6096" y="45593"/>
                </a:lnTo>
                <a:lnTo>
                  <a:pt x="2921" y="51689"/>
                </a:lnTo>
                <a:lnTo>
                  <a:pt x="1524" y="59436"/>
                </a:lnTo>
                <a:lnTo>
                  <a:pt x="1524" y="67056"/>
                </a:lnTo>
                <a:lnTo>
                  <a:pt x="0" y="73025"/>
                </a:lnTo>
                <a:lnTo>
                  <a:pt x="0" y="563753"/>
                </a:lnTo>
                <a:lnTo>
                  <a:pt x="1524" y="571500"/>
                </a:lnTo>
                <a:lnTo>
                  <a:pt x="1524" y="577596"/>
                </a:lnTo>
                <a:lnTo>
                  <a:pt x="7493" y="592836"/>
                </a:lnTo>
                <a:lnTo>
                  <a:pt x="12192" y="603504"/>
                </a:lnTo>
                <a:lnTo>
                  <a:pt x="13589" y="605028"/>
                </a:lnTo>
                <a:lnTo>
                  <a:pt x="21336" y="614045"/>
                </a:lnTo>
                <a:lnTo>
                  <a:pt x="22860" y="615696"/>
                </a:lnTo>
                <a:lnTo>
                  <a:pt x="32004" y="623189"/>
                </a:lnTo>
                <a:lnTo>
                  <a:pt x="958596" y="623189"/>
                </a:lnTo>
                <a:lnTo>
                  <a:pt x="967613" y="615696"/>
                </a:lnTo>
                <a:lnTo>
                  <a:pt x="967613" y="614045"/>
                </a:lnTo>
                <a:lnTo>
                  <a:pt x="969263" y="614045"/>
                </a:lnTo>
                <a:lnTo>
                  <a:pt x="971691" y="611124"/>
                </a:lnTo>
                <a:lnTo>
                  <a:pt x="68453" y="611124"/>
                </a:lnTo>
                <a:lnTo>
                  <a:pt x="63881" y="609600"/>
                </a:lnTo>
                <a:lnTo>
                  <a:pt x="59436" y="609600"/>
                </a:lnTo>
                <a:lnTo>
                  <a:pt x="54864" y="606425"/>
                </a:lnTo>
                <a:lnTo>
                  <a:pt x="48940" y="603504"/>
                </a:lnTo>
                <a:lnTo>
                  <a:pt x="48768" y="603504"/>
                </a:lnTo>
                <a:lnTo>
                  <a:pt x="45593" y="601853"/>
                </a:lnTo>
                <a:lnTo>
                  <a:pt x="46819" y="601853"/>
                </a:lnTo>
                <a:lnTo>
                  <a:pt x="41422" y="597281"/>
                </a:lnTo>
                <a:lnTo>
                  <a:pt x="41021" y="597281"/>
                </a:lnTo>
                <a:lnTo>
                  <a:pt x="39624" y="595757"/>
                </a:lnTo>
                <a:lnTo>
                  <a:pt x="39754" y="595757"/>
                </a:lnTo>
                <a:lnTo>
                  <a:pt x="35955" y="591185"/>
                </a:lnTo>
                <a:lnTo>
                  <a:pt x="34925" y="591185"/>
                </a:lnTo>
                <a:lnTo>
                  <a:pt x="28956" y="580517"/>
                </a:lnTo>
                <a:lnTo>
                  <a:pt x="27432" y="575945"/>
                </a:lnTo>
                <a:lnTo>
                  <a:pt x="27432" y="571500"/>
                </a:lnTo>
                <a:lnTo>
                  <a:pt x="25780" y="566928"/>
                </a:lnTo>
                <a:lnTo>
                  <a:pt x="25780" y="67056"/>
                </a:lnTo>
                <a:lnTo>
                  <a:pt x="27432" y="62357"/>
                </a:lnTo>
                <a:lnTo>
                  <a:pt x="28956" y="57785"/>
                </a:lnTo>
                <a:lnTo>
                  <a:pt x="30353" y="53212"/>
                </a:lnTo>
                <a:lnTo>
                  <a:pt x="34010" y="47117"/>
                </a:lnTo>
                <a:lnTo>
                  <a:pt x="33528" y="47117"/>
                </a:lnTo>
                <a:lnTo>
                  <a:pt x="39754" y="39624"/>
                </a:lnTo>
                <a:lnTo>
                  <a:pt x="39624" y="39624"/>
                </a:lnTo>
                <a:lnTo>
                  <a:pt x="41021" y="38100"/>
                </a:lnTo>
                <a:lnTo>
                  <a:pt x="41452" y="38100"/>
                </a:lnTo>
                <a:lnTo>
                  <a:pt x="46939" y="33528"/>
                </a:lnTo>
                <a:lnTo>
                  <a:pt x="45593" y="33528"/>
                </a:lnTo>
                <a:lnTo>
                  <a:pt x="56388" y="27432"/>
                </a:lnTo>
                <a:lnTo>
                  <a:pt x="60960" y="27432"/>
                </a:lnTo>
                <a:lnTo>
                  <a:pt x="65532" y="25781"/>
                </a:lnTo>
                <a:lnTo>
                  <a:pt x="70104" y="24257"/>
                </a:lnTo>
                <a:lnTo>
                  <a:pt x="971691" y="24257"/>
                </a:lnTo>
                <a:lnTo>
                  <a:pt x="969263" y="21335"/>
                </a:lnTo>
                <a:close/>
              </a:path>
              <a:path w="989329" h="637539">
                <a:moveTo>
                  <a:pt x="943356" y="601853"/>
                </a:moveTo>
                <a:lnTo>
                  <a:pt x="934085" y="607949"/>
                </a:lnTo>
                <a:lnTo>
                  <a:pt x="929513" y="609600"/>
                </a:lnTo>
                <a:lnTo>
                  <a:pt x="925068" y="611124"/>
                </a:lnTo>
                <a:lnTo>
                  <a:pt x="971691" y="611124"/>
                </a:lnTo>
                <a:lnTo>
                  <a:pt x="976757" y="605028"/>
                </a:lnTo>
                <a:lnTo>
                  <a:pt x="976757" y="603504"/>
                </a:lnTo>
                <a:lnTo>
                  <a:pt x="941832" y="603504"/>
                </a:lnTo>
                <a:lnTo>
                  <a:pt x="943356" y="601853"/>
                </a:lnTo>
                <a:close/>
              </a:path>
              <a:path w="989329" h="637539">
                <a:moveTo>
                  <a:pt x="45593" y="601853"/>
                </a:moveTo>
                <a:lnTo>
                  <a:pt x="48768" y="603504"/>
                </a:lnTo>
                <a:lnTo>
                  <a:pt x="48527" y="603300"/>
                </a:lnTo>
                <a:lnTo>
                  <a:pt x="45593" y="601853"/>
                </a:lnTo>
                <a:close/>
              </a:path>
              <a:path w="989329" h="637539">
                <a:moveTo>
                  <a:pt x="48527" y="603300"/>
                </a:moveTo>
                <a:lnTo>
                  <a:pt x="48768" y="603504"/>
                </a:lnTo>
                <a:lnTo>
                  <a:pt x="48940" y="603504"/>
                </a:lnTo>
                <a:lnTo>
                  <a:pt x="48527" y="603300"/>
                </a:lnTo>
                <a:close/>
              </a:path>
              <a:path w="989329" h="637539">
                <a:moveTo>
                  <a:pt x="949987" y="596497"/>
                </a:moveTo>
                <a:lnTo>
                  <a:pt x="941832" y="603504"/>
                </a:lnTo>
                <a:lnTo>
                  <a:pt x="976757" y="603504"/>
                </a:lnTo>
                <a:lnTo>
                  <a:pt x="980670" y="597281"/>
                </a:lnTo>
                <a:lnTo>
                  <a:pt x="949325" y="597281"/>
                </a:lnTo>
                <a:lnTo>
                  <a:pt x="949987" y="596497"/>
                </a:lnTo>
                <a:close/>
              </a:path>
              <a:path w="989329" h="637539">
                <a:moveTo>
                  <a:pt x="46819" y="601853"/>
                </a:moveTo>
                <a:lnTo>
                  <a:pt x="45593" y="601853"/>
                </a:lnTo>
                <a:lnTo>
                  <a:pt x="48527" y="603300"/>
                </a:lnTo>
                <a:lnTo>
                  <a:pt x="46819" y="601853"/>
                </a:lnTo>
                <a:close/>
              </a:path>
              <a:path w="989329" h="637539">
                <a:moveTo>
                  <a:pt x="39624" y="595757"/>
                </a:moveTo>
                <a:lnTo>
                  <a:pt x="41021" y="597281"/>
                </a:lnTo>
                <a:lnTo>
                  <a:pt x="40065" y="596130"/>
                </a:lnTo>
                <a:lnTo>
                  <a:pt x="39624" y="595757"/>
                </a:lnTo>
                <a:close/>
              </a:path>
              <a:path w="989329" h="637539">
                <a:moveTo>
                  <a:pt x="40065" y="596130"/>
                </a:moveTo>
                <a:lnTo>
                  <a:pt x="41021" y="597281"/>
                </a:lnTo>
                <a:lnTo>
                  <a:pt x="41422" y="597281"/>
                </a:lnTo>
                <a:lnTo>
                  <a:pt x="40065" y="596130"/>
                </a:lnTo>
                <a:close/>
              </a:path>
              <a:path w="989329" h="637539">
                <a:moveTo>
                  <a:pt x="950849" y="595757"/>
                </a:moveTo>
                <a:lnTo>
                  <a:pt x="949987" y="596497"/>
                </a:lnTo>
                <a:lnTo>
                  <a:pt x="949325" y="597281"/>
                </a:lnTo>
                <a:lnTo>
                  <a:pt x="950849" y="595757"/>
                </a:lnTo>
                <a:close/>
              </a:path>
              <a:path w="989329" h="637539">
                <a:moveTo>
                  <a:pt x="981628" y="595757"/>
                </a:moveTo>
                <a:lnTo>
                  <a:pt x="950849" y="595757"/>
                </a:lnTo>
                <a:lnTo>
                  <a:pt x="949325" y="597281"/>
                </a:lnTo>
                <a:lnTo>
                  <a:pt x="980670" y="597281"/>
                </a:lnTo>
                <a:lnTo>
                  <a:pt x="981628" y="595757"/>
                </a:lnTo>
                <a:close/>
              </a:path>
              <a:path w="989329" h="637539">
                <a:moveTo>
                  <a:pt x="956837" y="588390"/>
                </a:moveTo>
                <a:lnTo>
                  <a:pt x="949987" y="596497"/>
                </a:lnTo>
                <a:lnTo>
                  <a:pt x="950849" y="595757"/>
                </a:lnTo>
                <a:lnTo>
                  <a:pt x="981628" y="595757"/>
                </a:lnTo>
                <a:lnTo>
                  <a:pt x="984504" y="591185"/>
                </a:lnTo>
                <a:lnTo>
                  <a:pt x="955421" y="591185"/>
                </a:lnTo>
                <a:lnTo>
                  <a:pt x="956837" y="588390"/>
                </a:lnTo>
                <a:close/>
              </a:path>
              <a:path w="989329" h="637539">
                <a:moveTo>
                  <a:pt x="39754" y="595757"/>
                </a:moveTo>
                <a:lnTo>
                  <a:pt x="39624" y="595757"/>
                </a:lnTo>
                <a:lnTo>
                  <a:pt x="40065" y="596130"/>
                </a:lnTo>
                <a:lnTo>
                  <a:pt x="39754" y="595757"/>
                </a:lnTo>
                <a:close/>
              </a:path>
              <a:path w="989329" h="637539">
                <a:moveTo>
                  <a:pt x="33528" y="588264"/>
                </a:moveTo>
                <a:lnTo>
                  <a:pt x="34925" y="591185"/>
                </a:lnTo>
                <a:lnTo>
                  <a:pt x="35955" y="591185"/>
                </a:lnTo>
                <a:lnTo>
                  <a:pt x="33528" y="588264"/>
                </a:lnTo>
                <a:close/>
              </a:path>
              <a:path w="989329" h="637539">
                <a:moveTo>
                  <a:pt x="956944" y="588264"/>
                </a:moveTo>
                <a:lnTo>
                  <a:pt x="955421" y="591185"/>
                </a:lnTo>
                <a:lnTo>
                  <a:pt x="956944" y="588264"/>
                </a:lnTo>
                <a:close/>
              </a:path>
              <a:path w="989329" h="637539">
                <a:moveTo>
                  <a:pt x="985098" y="588264"/>
                </a:moveTo>
                <a:lnTo>
                  <a:pt x="956944" y="588264"/>
                </a:lnTo>
                <a:lnTo>
                  <a:pt x="955421" y="591185"/>
                </a:lnTo>
                <a:lnTo>
                  <a:pt x="984504" y="591185"/>
                </a:lnTo>
                <a:lnTo>
                  <a:pt x="985098" y="588264"/>
                </a:lnTo>
                <a:close/>
              </a:path>
              <a:path w="989329" h="637539">
                <a:moveTo>
                  <a:pt x="955421" y="45593"/>
                </a:moveTo>
                <a:lnTo>
                  <a:pt x="961516" y="54864"/>
                </a:lnTo>
                <a:lnTo>
                  <a:pt x="961516" y="59436"/>
                </a:lnTo>
                <a:lnTo>
                  <a:pt x="963168" y="63881"/>
                </a:lnTo>
                <a:lnTo>
                  <a:pt x="964691" y="68453"/>
                </a:lnTo>
                <a:lnTo>
                  <a:pt x="964691" y="568325"/>
                </a:lnTo>
                <a:lnTo>
                  <a:pt x="963168" y="573024"/>
                </a:lnTo>
                <a:lnTo>
                  <a:pt x="961516" y="577596"/>
                </a:lnTo>
                <a:lnTo>
                  <a:pt x="959993" y="582168"/>
                </a:lnTo>
                <a:lnTo>
                  <a:pt x="956837" y="588390"/>
                </a:lnTo>
                <a:lnTo>
                  <a:pt x="985098" y="588264"/>
                </a:lnTo>
                <a:lnTo>
                  <a:pt x="986028" y="583692"/>
                </a:lnTo>
                <a:lnTo>
                  <a:pt x="987425" y="577596"/>
                </a:lnTo>
                <a:lnTo>
                  <a:pt x="988949" y="569849"/>
                </a:lnTo>
                <a:lnTo>
                  <a:pt x="988949" y="65532"/>
                </a:lnTo>
                <a:lnTo>
                  <a:pt x="987425" y="57785"/>
                </a:lnTo>
                <a:lnTo>
                  <a:pt x="986028" y="50292"/>
                </a:lnTo>
                <a:lnTo>
                  <a:pt x="984726" y="47117"/>
                </a:lnTo>
                <a:lnTo>
                  <a:pt x="956944" y="47117"/>
                </a:lnTo>
                <a:lnTo>
                  <a:pt x="955421" y="45593"/>
                </a:lnTo>
                <a:close/>
              </a:path>
              <a:path w="989329" h="637539">
                <a:moveTo>
                  <a:pt x="34925" y="45593"/>
                </a:moveTo>
                <a:lnTo>
                  <a:pt x="33528" y="47117"/>
                </a:lnTo>
                <a:lnTo>
                  <a:pt x="34010" y="47117"/>
                </a:lnTo>
                <a:lnTo>
                  <a:pt x="34925" y="45593"/>
                </a:lnTo>
                <a:close/>
              </a:path>
              <a:path w="989329" h="637539">
                <a:moveTo>
                  <a:pt x="950023" y="38925"/>
                </a:moveTo>
                <a:lnTo>
                  <a:pt x="956944" y="47117"/>
                </a:lnTo>
                <a:lnTo>
                  <a:pt x="984726" y="47117"/>
                </a:lnTo>
                <a:lnTo>
                  <a:pt x="982853" y="42545"/>
                </a:lnTo>
                <a:lnTo>
                  <a:pt x="980878" y="39624"/>
                </a:lnTo>
                <a:lnTo>
                  <a:pt x="950849" y="39624"/>
                </a:lnTo>
                <a:lnTo>
                  <a:pt x="950023" y="38925"/>
                </a:lnTo>
                <a:close/>
              </a:path>
              <a:path w="989329" h="637539">
                <a:moveTo>
                  <a:pt x="41021" y="38100"/>
                </a:moveTo>
                <a:lnTo>
                  <a:pt x="39624" y="39624"/>
                </a:lnTo>
                <a:lnTo>
                  <a:pt x="40048" y="39270"/>
                </a:lnTo>
                <a:lnTo>
                  <a:pt x="41021" y="38100"/>
                </a:lnTo>
                <a:close/>
              </a:path>
              <a:path w="989329" h="637539">
                <a:moveTo>
                  <a:pt x="40048" y="39270"/>
                </a:moveTo>
                <a:lnTo>
                  <a:pt x="39624" y="39624"/>
                </a:lnTo>
                <a:lnTo>
                  <a:pt x="39754" y="39624"/>
                </a:lnTo>
                <a:lnTo>
                  <a:pt x="40048" y="39270"/>
                </a:lnTo>
                <a:close/>
              </a:path>
              <a:path w="989329" h="637539">
                <a:moveTo>
                  <a:pt x="949325" y="38100"/>
                </a:moveTo>
                <a:lnTo>
                  <a:pt x="950023" y="38925"/>
                </a:lnTo>
                <a:lnTo>
                  <a:pt x="950849" y="39624"/>
                </a:lnTo>
                <a:lnTo>
                  <a:pt x="949325" y="38100"/>
                </a:lnTo>
                <a:close/>
              </a:path>
              <a:path w="989329" h="637539">
                <a:moveTo>
                  <a:pt x="979847" y="38100"/>
                </a:moveTo>
                <a:lnTo>
                  <a:pt x="949325" y="38100"/>
                </a:lnTo>
                <a:lnTo>
                  <a:pt x="950849" y="39624"/>
                </a:lnTo>
                <a:lnTo>
                  <a:pt x="980878" y="39624"/>
                </a:lnTo>
                <a:lnTo>
                  <a:pt x="979847" y="38100"/>
                </a:lnTo>
                <a:close/>
              </a:path>
              <a:path w="989329" h="637539">
                <a:moveTo>
                  <a:pt x="41452" y="38100"/>
                </a:moveTo>
                <a:lnTo>
                  <a:pt x="41021" y="38100"/>
                </a:lnTo>
                <a:lnTo>
                  <a:pt x="40048" y="39270"/>
                </a:lnTo>
                <a:lnTo>
                  <a:pt x="41452" y="38100"/>
                </a:lnTo>
                <a:close/>
              </a:path>
              <a:path w="989329" h="637539">
                <a:moveTo>
                  <a:pt x="976757" y="32004"/>
                </a:moveTo>
                <a:lnTo>
                  <a:pt x="941832" y="32004"/>
                </a:lnTo>
                <a:lnTo>
                  <a:pt x="950023" y="38925"/>
                </a:lnTo>
                <a:lnTo>
                  <a:pt x="949325" y="38100"/>
                </a:lnTo>
                <a:lnTo>
                  <a:pt x="979847" y="38100"/>
                </a:lnTo>
                <a:lnTo>
                  <a:pt x="976757" y="33528"/>
                </a:lnTo>
                <a:lnTo>
                  <a:pt x="976757" y="32004"/>
                </a:lnTo>
                <a:close/>
              </a:path>
              <a:path w="989329" h="637539">
                <a:moveTo>
                  <a:pt x="48768" y="32004"/>
                </a:moveTo>
                <a:lnTo>
                  <a:pt x="45593" y="33528"/>
                </a:lnTo>
                <a:lnTo>
                  <a:pt x="46939" y="33528"/>
                </a:lnTo>
                <a:lnTo>
                  <a:pt x="48768" y="32004"/>
                </a:lnTo>
                <a:close/>
              </a:path>
              <a:path w="989329" h="637539">
                <a:moveTo>
                  <a:pt x="971691" y="24257"/>
                </a:moveTo>
                <a:lnTo>
                  <a:pt x="921893" y="24257"/>
                </a:lnTo>
                <a:lnTo>
                  <a:pt x="926591" y="25781"/>
                </a:lnTo>
                <a:lnTo>
                  <a:pt x="931163" y="27432"/>
                </a:lnTo>
                <a:lnTo>
                  <a:pt x="935736" y="28956"/>
                </a:lnTo>
                <a:lnTo>
                  <a:pt x="943356" y="33528"/>
                </a:lnTo>
                <a:lnTo>
                  <a:pt x="941832" y="32004"/>
                </a:lnTo>
                <a:lnTo>
                  <a:pt x="976757" y="32004"/>
                </a:lnTo>
                <a:lnTo>
                  <a:pt x="976757" y="30353"/>
                </a:lnTo>
                <a:lnTo>
                  <a:pt x="971691" y="24257"/>
                </a:lnTo>
                <a:close/>
              </a:path>
              <a:path w="989329" h="637539">
                <a:moveTo>
                  <a:pt x="958596" y="12192"/>
                </a:moveTo>
                <a:lnTo>
                  <a:pt x="32004" y="12192"/>
                </a:lnTo>
                <a:lnTo>
                  <a:pt x="22860" y="19684"/>
                </a:lnTo>
                <a:lnTo>
                  <a:pt x="22860" y="21335"/>
                </a:lnTo>
                <a:lnTo>
                  <a:pt x="967613" y="21335"/>
                </a:lnTo>
                <a:lnTo>
                  <a:pt x="967613" y="19684"/>
                </a:lnTo>
                <a:lnTo>
                  <a:pt x="958596" y="12192"/>
                </a:lnTo>
                <a:close/>
              </a:path>
              <a:path w="989329" h="637539">
                <a:moveTo>
                  <a:pt x="929513" y="0"/>
                </a:moveTo>
                <a:lnTo>
                  <a:pt x="65532" y="0"/>
                </a:lnTo>
                <a:lnTo>
                  <a:pt x="59436" y="1524"/>
                </a:lnTo>
                <a:lnTo>
                  <a:pt x="51689" y="2921"/>
                </a:lnTo>
                <a:lnTo>
                  <a:pt x="33528" y="10667"/>
                </a:lnTo>
                <a:lnTo>
                  <a:pt x="33528" y="12192"/>
                </a:lnTo>
                <a:lnTo>
                  <a:pt x="956944" y="12192"/>
                </a:lnTo>
                <a:lnTo>
                  <a:pt x="955421" y="10667"/>
                </a:lnTo>
                <a:lnTo>
                  <a:pt x="943356" y="4444"/>
                </a:lnTo>
                <a:lnTo>
                  <a:pt x="937260" y="2921"/>
                </a:lnTo>
                <a:lnTo>
                  <a:pt x="929513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2" name="object 46"/>
          <p:cNvSpPr/>
          <p:nvPr/>
        </p:nvSpPr>
        <p:spPr>
          <a:xfrm>
            <a:off x="5677200" y="2453760"/>
            <a:ext cx="612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720"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58.6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bject 47"/>
          <p:cNvSpPr/>
          <p:nvPr/>
        </p:nvSpPr>
        <p:spPr>
          <a:xfrm>
            <a:off x="5463720" y="3049920"/>
            <a:ext cx="851400" cy="539280"/>
          </a:xfrm>
          <a:custGeom>
            <a:avLst/>
            <a:gdLst>
              <a:gd name="textAreaLeft" fmla="*/ 0 w 851400"/>
              <a:gd name="textAreaRight" fmla="*/ 851760 w 8514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5200" h="611504">
                <a:moveTo>
                  <a:pt x="903732" y="0"/>
                </a:moveTo>
                <a:lnTo>
                  <a:pt x="62611" y="0"/>
                </a:lnTo>
                <a:lnTo>
                  <a:pt x="37986" y="4810"/>
                </a:lnTo>
                <a:lnTo>
                  <a:pt x="18113" y="17907"/>
                </a:lnTo>
                <a:lnTo>
                  <a:pt x="4835" y="37290"/>
                </a:lnTo>
                <a:lnTo>
                  <a:pt x="0" y="60960"/>
                </a:lnTo>
                <a:lnTo>
                  <a:pt x="0" y="550164"/>
                </a:lnTo>
                <a:lnTo>
                  <a:pt x="4835" y="573833"/>
                </a:lnTo>
                <a:lnTo>
                  <a:pt x="18113" y="593217"/>
                </a:lnTo>
                <a:lnTo>
                  <a:pt x="37986" y="606313"/>
                </a:lnTo>
                <a:lnTo>
                  <a:pt x="62611" y="611124"/>
                </a:lnTo>
                <a:lnTo>
                  <a:pt x="903732" y="611124"/>
                </a:lnTo>
                <a:lnTo>
                  <a:pt x="927421" y="606313"/>
                </a:lnTo>
                <a:lnTo>
                  <a:pt x="946848" y="593217"/>
                </a:lnTo>
                <a:lnTo>
                  <a:pt x="959989" y="573833"/>
                </a:lnTo>
                <a:lnTo>
                  <a:pt x="964819" y="550164"/>
                </a:lnTo>
                <a:lnTo>
                  <a:pt x="964819" y="60960"/>
                </a:lnTo>
                <a:lnTo>
                  <a:pt x="959989" y="37290"/>
                </a:lnTo>
                <a:lnTo>
                  <a:pt x="946848" y="17907"/>
                </a:lnTo>
                <a:lnTo>
                  <a:pt x="927421" y="4810"/>
                </a:lnTo>
                <a:lnTo>
                  <a:pt x="903732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4" name="object 48"/>
          <p:cNvSpPr/>
          <p:nvPr/>
        </p:nvSpPr>
        <p:spPr>
          <a:xfrm>
            <a:off x="5452920" y="30380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66343" y="617093"/>
                </a:moveTo>
                <a:lnTo>
                  <a:pt x="22860" y="617093"/>
                </a:lnTo>
                <a:lnTo>
                  <a:pt x="32131" y="624713"/>
                </a:lnTo>
                <a:lnTo>
                  <a:pt x="33528" y="624713"/>
                </a:lnTo>
                <a:lnTo>
                  <a:pt x="33528" y="626364"/>
                </a:lnTo>
                <a:lnTo>
                  <a:pt x="45720" y="632460"/>
                </a:lnTo>
                <a:lnTo>
                  <a:pt x="53467" y="633857"/>
                </a:lnTo>
                <a:lnTo>
                  <a:pt x="59562" y="637032"/>
                </a:lnTo>
                <a:lnTo>
                  <a:pt x="923671" y="637032"/>
                </a:lnTo>
                <a:lnTo>
                  <a:pt x="931163" y="635381"/>
                </a:lnTo>
                <a:lnTo>
                  <a:pt x="937260" y="633857"/>
                </a:lnTo>
                <a:lnTo>
                  <a:pt x="945007" y="630936"/>
                </a:lnTo>
                <a:lnTo>
                  <a:pt x="955675" y="626364"/>
                </a:lnTo>
                <a:lnTo>
                  <a:pt x="957199" y="624713"/>
                </a:lnTo>
                <a:lnTo>
                  <a:pt x="966343" y="617093"/>
                </a:lnTo>
                <a:close/>
              </a:path>
              <a:path w="989329" h="637539">
                <a:moveTo>
                  <a:pt x="967866" y="21336"/>
                </a:moveTo>
                <a:lnTo>
                  <a:pt x="21463" y="21336"/>
                </a:lnTo>
                <a:lnTo>
                  <a:pt x="21463" y="22860"/>
                </a:lnTo>
                <a:lnTo>
                  <a:pt x="13843" y="32004"/>
                </a:lnTo>
                <a:lnTo>
                  <a:pt x="12192" y="32004"/>
                </a:lnTo>
                <a:lnTo>
                  <a:pt x="12192" y="33528"/>
                </a:lnTo>
                <a:lnTo>
                  <a:pt x="6096" y="45593"/>
                </a:lnTo>
                <a:lnTo>
                  <a:pt x="3175" y="53213"/>
                </a:lnTo>
                <a:lnTo>
                  <a:pt x="1524" y="59436"/>
                </a:lnTo>
                <a:lnTo>
                  <a:pt x="0" y="66929"/>
                </a:lnTo>
                <a:lnTo>
                  <a:pt x="0" y="571500"/>
                </a:lnTo>
                <a:lnTo>
                  <a:pt x="1524" y="578993"/>
                </a:lnTo>
                <a:lnTo>
                  <a:pt x="3175" y="586613"/>
                </a:lnTo>
                <a:lnTo>
                  <a:pt x="6096" y="594360"/>
                </a:lnTo>
                <a:lnTo>
                  <a:pt x="12192" y="603504"/>
                </a:lnTo>
                <a:lnTo>
                  <a:pt x="12192" y="605028"/>
                </a:lnTo>
                <a:lnTo>
                  <a:pt x="13843" y="606425"/>
                </a:lnTo>
                <a:lnTo>
                  <a:pt x="21463" y="615696"/>
                </a:lnTo>
                <a:lnTo>
                  <a:pt x="21463" y="617093"/>
                </a:lnTo>
                <a:lnTo>
                  <a:pt x="967866" y="617093"/>
                </a:lnTo>
                <a:lnTo>
                  <a:pt x="967866" y="615696"/>
                </a:lnTo>
                <a:lnTo>
                  <a:pt x="970433" y="612521"/>
                </a:lnTo>
                <a:lnTo>
                  <a:pt x="68707" y="612521"/>
                </a:lnTo>
                <a:lnTo>
                  <a:pt x="64135" y="611124"/>
                </a:lnTo>
                <a:lnTo>
                  <a:pt x="59562" y="609600"/>
                </a:lnTo>
                <a:lnTo>
                  <a:pt x="54864" y="607949"/>
                </a:lnTo>
                <a:lnTo>
                  <a:pt x="48855" y="605028"/>
                </a:lnTo>
                <a:lnTo>
                  <a:pt x="47371" y="605028"/>
                </a:lnTo>
                <a:lnTo>
                  <a:pt x="38100" y="597281"/>
                </a:lnTo>
                <a:lnTo>
                  <a:pt x="39895" y="597281"/>
                </a:lnTo>
                <a:lnTo>
                  <a:pt x="36181" y="592836"/>
                </a:lnTo>
                <a:lnTo>
                  <a:pt x="35052" y="592836"/>
                </a:lnTo>
                <a:lnTo>
                  <a:pt x="28956" y="582168"/>
                </a:lnTo>
                <a:lnTo>
                  <a:pt x="27432" y="577596"/>
                </a:lnTo>
                <a:lnTo>
                  <a:pt x="26034" y="573024"/>
                </a:lnTo>
                <a:lnTo>
                  <a:pt x="26034" y="63881"/>
                </a:lnTo>
                <a:lnTo>
                  <a:pt x="27432" y="59436"/>
                </a:lnTo>
                <a:lnTo>
                  <a:pt x="28956" y="54864"/>
                </a:lnTo>
                <a:lnTo>
                  <a:pt x="35052" y="45593"/>
                </a:lnTo>
                <a:lnTo>
                  <a:pt x="36217" y="45593"/>
                </a:lnTo>
                <a:lnTo>
                  <a:pt x="40091" y="41021"/>
                </a:lnTo>
                <a:lnTo>
                  <a:pt x="38100" y="41021"/>
                </a:lnTo>
                <a:lnTo>
                  <a:pt x="47371" y="33528"/>
                </a:lnTo>
                <a:lnTo>
                  <a:pt x="48164" y="33528"/>
                </a:lnTo>
                <a:lnTo>
                  <a:pt x="56388" y="28829"/>
                </a:lnTo>
                <a:lnTo>
                  <a:pt x="60960" y="27432"/>
                </a:lnTo>
                <a:lnTo>
                  <a:pt x="65532" y="25781"/>
                </a:lnTo>
                <a:lnTo>
                  <a:pt x="970260" y="25781"/>
                </a:lnTo>
                <a:lnTo>
                  <a:pt x="967866" y="22860"/>
                </a:lnTo>
                <a:lnTo>
                  <a:pt x="967866" y="21336"/>
                </a:lnTo>
                <a:close/>
              </a:path>
              <a:path w="989329" h="637539">
                <a:moveTo>
                  <a:pt x="943356" y="603504"/>
                </a:moveTo>
                <a:lnTo>
                  <a:pt x="932688" y="609600"/>
                </a:lnTo>
                <a:lnTo>
                  <a:pt x="929766" y="611124"/>
                </a:lnTo>
                <a:lnTo>
                  <a:pt x="925194" y="611124"/>
                </a:lnTo>
                <a:lnTo>
                  <a:pt x="919099" y="612521"/>
                </a:lnTo>
                <a:lnTo>
                  <a:pt x="970433" y="612521"/>
                </a:lnTo>
                <a:lnTo>
                  <a:pt x="975360" y="606425"/>
                </a:lnTo>
                <a:lnTo>
                  <a:pt x="977011" y="605028"/>
                </a:lnTo>
                <a:lnTo>
                  <a:pt x="941832" y="605028"/>
                </a:lnTo>
                <a:lnTo>
                  <a:pt x="943356" y="603504"/>
                </a:lnTo>
                <a:close/>
              </a:path>
              <a:path w="989329" h="637539">
                <a:moveTo>
                  <a:pt x="45720" y="603504"/>
                </a:moveTo>
                <a:lnTo>
                  <a:pt x="47371" y="605028"/>
                </a:lnTo>
                <a:lnTo>
                  <a:pt x="48855" y="605028"/>
                </a:lnTo>
                <a:lnTo>
                  <a:pt x="45720" y="603504"/>
                </a:lnTo>
                <a:close/>
              </a:path>
              <a:path w="989329" h="637539">
                <a:moveTo>
                  <a:pt x="949866" y="598313"/>
                </a:moveTo>
                <a:lnTo>
                  <a:pt x="941832" y="605028"/>
                </a:lnTo>
                <a:lnTo>
                  <a:pt x="977011" y="605028"/>
                </a:lnTo>
                <a:lnTo>
                  <a:pt x="977011" y="603504"/>
                </a:lnTo>
                <a:lnTo>
                  <a:pt x="979623" y="598932"/>
                </a:lnTo>
                <a:lnTo>
                  <a:pt x="949452" y="598932"/>
                </a:lnTo>
                <a:lnTo>
                  <a:pt x="949866" y="598313"/>
                </a:lnTo>
                <a:close/>
              </a:path>
              <a:path w="989329" h="637539">
                <a:moveTo>
                  <a:pt x="39895" y="597281"/>
                </a:moveTo>
                <a:lnTo>
                  <a:pt x="38100" y="597281"/>
                </a:lnTo>
                <a:lnTo>
                  <a:pt x="41275" y="598932"/>
                </a:lnTo>
                <a:lnTo>
                  <a:pt x="39895" y="597281"/>
                </a:lnTo>
                <a:close/>
              </a:path>
              <a:path w="989329" h="637539">
                <a:moveTo>
                  <a:pt x="951103" y="597281"/>
                </a:moveTo>
                <a:lnTo>
                  <a:pt x="949866" y="598313"/>
                </a:lnTo>
                <a:lnTo>
                  <a:pt x="949452" y="598932"/>
                </a:lnTo>
                <a:lnTo>
                  <a:pt x="951103" y="597281"/>
                </a:lnTo>
                <a:close/>
              </a:path>
              <a:path w="989329" h="637539">
                <a:moveTo>
                  <a:pt x="980567" y="597281"/>
                </a:moveTo>
                <a:lnTo>
                  <a:pt x="951103" y="597281"/>
                </a:lnTo>
                <a:lnTo>
                  <a:pt x="949452" y="598932"/>
                </a:lnTo>
                <a:lnTo>
                  <a:pt x="979623" y="598932"/>
                </a:lnTo>
                <a:lnTo>
                  <a:pt x="980567" y="597281"/>
                </a:lnTo>
                <a:close/>
              </a:path>
              <a:path w="989329" h="637539">
                <a:moveTo>
                  <a:pt x="955675" y="589661"/>
                </a:moveTo>
                <a:lnTo>
                  <a:pt x="949866" y="598313"/>
                </a:lnTo>
                <a:lnTo>
                  <a:pt x="951103" y="597281"/>
                </a:lnTo>
                <a:lnTo>
                  <a:pt x="980567" y="597281"/>
                </a:lnTo>
                <a:lnTo>
                  <a:pt x="983107" y="592836"/>
                </a:lnTo>
                <a:lnTo>
                  <a:pt x="955675" y="592836"/>
                </a:lnTo>
                <a:lnTo>
                  <a:pt x="955675" y="589661"/>
                </a:lnTo>
                <a:close/>
              </a:path>
              <a:path w="989329" h="637539">
                <a:moveTo>
                  <a:pt x="33528" y="589661"/>
                </a:moveTo>
                <a:lnTo>
                  <a:pt x="35052" y="592836"/>
                </a:lnTo>
                <a:lnTo>
                  <a:pt x="36181" y="592836"/>
                </a:lnTo>
                <a:lnTo>
                  <a:pt x="33528" y="589661"/>
                </a:lnTo>
                <a:close/>
              </a:path>
              <a:path w="989329" h="637539">
                <a:moveTo>
                  <a:pt x="983651" y="45593"/>
                </a:moveTo>
                <a:lnTo>
                  <a:pt x="955675" y="45593"/>
                </a:lnTo>
                <a:lnTo>
                  <a:pt x="960119" y="56261"/>
                </a:lnTo>
                <a:lnTo>
                  <a:pt x="961771" y="60960"/>
                </a:lnTo>
                <a:lnTo>
                  <a:pt x="963294" y="65532"/>
                </a:lnTo>
                <a:lnTo>
                  <a:pt x="963294" y="574421"/>
                </a:lnTo>
                <a:lnTo>
                  <a:pt x="961771" y="578993"/>
                </a:lnTo>
                <a:lnTo>
                  <a:pt x="960119" y="583692"/>
                </a:lnTo>
                <a:lnTo>
                  <a:pt x="955675" y="592836"/>
                </a:lnTo>
                <a:lnTo>
                  <a:pt x="983107" y="592836"/>
                </a:lnTo>
                <a:lnTo>
                  <a:pt x="986028" y="585089"/>
                </a:lnTo>
                <a:lnTo>
                  <a:pt x="987552" y="577596"/>
                </a:lnTo>
                <a:lnTo>
                  <a:pt x="989203" y="571500"/>
                </a:lnTo>
                <a:lnTo>
                  <a:pt x="989203" y="65532"/>
                </a:lnTo>
                <a:lnTo>
                  <a:pt x="987552" y="59436"/>
                </a:lnTo>
                <a:lnTo>
                  <a:pt x="986028" y="51689"/>
                </a:lnTo>
                <a:lnTo>
                  <a:pt x="983651" y="45593"/>
                </a:lnTo>
                <a:close/>
              </a:path>
              <a:path w="989329" h="637539">
                <a:moveTo>
                  <a:pt x="36217" y="45593"/>
                </a:moveTo>
                <a:lnTo>
                  <a:pt x="35052" y="45593"/>
                </a:lnTo>
                <a:lnTo>
                  <a:pt x="33528" y="48768"/>
                </a:lnTo>
                <a:lnTo>
                  <a:pt x="36217" y="45593"/>
                </a:lnTo>
                <a:close/>
              </a:path>
              <a:path w="989329" h="637539">
                <a:moveTo>
                  <a:pt x="949546" y="39763"/>
                </a:moveTo>
                <a:lnTo>
                  <a:pt x="955675" y="48768"/>
                </a:lnTo>
                <a:lnTo>
                  <a:pt x="955675" y="45593"/>
                </a:lnTo>
                <a:lnTo>
                  <a:pt x="983651" y="45593"/>
                </a:lnTo>
                <a:lnTo>
                  <a:pt x="983107" y="44196"/>
                </a:lnTo>
                <a:lnTo>
                  <a:pt x="981292" y="41021"/>
                </a:lnTo>
                <a:lnTo>
                  <a:pt x="951103" y="41021"/>
                </a:lnTo>
                <a:lnTo>
                  <a:pt x="949546" y="39763"/>
                </a:lnTo>
                <a:close/>
              </a:path>
              <a:path w="989329" h="637539">
                <a:moveTo>
                  <a:pt x="41275" y="39624"/>
                </a:moveTo>
                <a:lnTo>
                  <a:pt x="38100" y="41021"/>
                </a:lnTo>
                <a:lnTo>
                  <a:pt x="40091" y="41021"/>
                </a:lnTo>
                <a:lnTo>
                  <a:pt x="41275" y="39624"/>
                </a:lnTo>
                <a:close/>
              </a:path>
              <a:path w="989329" h="637539">
                <a:moveTo>
                  <a:pt x="949452" y="39624"/>
                </a:moveTo>
                <a:lnTo>
                  <a:pt x="949546" y="39763"/>
                </a:lnTo>
                <a:lnTo>
                  <a:pt x="951103" y="41021"/>
                </a:lnTo>
                <a:lnTo>
                  <a:pt x="949452" y="39624"/>
                </a:lnTo>
                <a:close/>
              </a:path>
              <a:path w="989329" h="637539">
                <a:moveTo>
                  <a:pt x="980494" y="39624"/>
                </a:moveTo>
                <a:lnTo>
                  <a:pt x="949452" y="39624"/>
                </a:lnTo>
                <a:lnTo>
                  <a:pt x="951103" y="41021"/>
                </a:lnTo>
                <a:lnTo>
                  <a:pt x="981292" y="41021"/>
                </a:lnTo>
                <a:lnTo>
                  <a:pt x="980494" y="39624"/>
                </a:lnTo>
                <a:close/>
              </a:path>
              <a:path w="989329" h="637539">
                <a:moveTo>
                  <a:pt x="977011" y="33528"/>
                </a:moveTo>
                <a:lnTo>
                  <a:pt x="941832" y="33528"/>
                </a:lnTo>
                <a:lnTo>
                  <a:pt x="949546" y="39763"/>
                </a:lnTo>
                <a:lnTo>
                  <a:pt x="949452" y="39624"/>
                </a:lnTo>
                <a:lnTo>
                  <a:pt x="980494" y="39624"/>
                </a:lnTo>
                <a:lnTo>
                  <a:pt x="977011" y="33528"/>
                </a:lnTo>
                <a:close/>
              </a:path>
              <a:path w="989329" h="637539">
                <a:moveTo>
                  <a:pt x="48164" y="33528"/>
                </a:moveTo>
                <a:lnTo>
                  <a:pt x="47371" y="33528"/>
                </a:lnTo>
                <a:lnTo>
                  <a:pt x="45720" y="34925"/>
                </a:lnTo>
                <a:lnTo>
                  <a:pt x="48164" y="33528"/>
                </a:lnTo>
                <a:close/>
              </a:path>
              <a:path w="989329" h="637539">
                <a:moveTo>
                  <a:pt x="970260" y="25781"/>
                </a:moveTo>
                <a:lnTo>
                  <a:pt x="920496" y="25781"/>
                </a:lnTo>
                <a:lnTo>
                  <a:pt x="925194" y="27432"/>
                </a:lnTo>
                <a:lnTo>
                  <a:pt x="929766" y="27432"/>
                </a:lnTo>
                <a:lnTo>
                  <a:pt x="934338" y="30353"/>
                </a:lnTo>
                <a:lnTo>
                  <a:pt x="943356" y="34925"/>
                </a:lnTo>
                <a:lnTo>
                  <a:pt x="941832" y="33528"/>
                </a:lnTo>
                <a:lnTo>
                  <a:pt x="977011" y="33528"/>
                </a:lnTo>
                <a:lnTo>
                  <a:pt x="977011" y="32004"/>
                </a:lnTo>
                <a:lnTo>
                  <a:pt x="975360" y="32004"/>
                </a:lnTo>
                <a:lnTo>
                  <a:pt x="970260" y="25781"/>
                </a:lnTo>
                <a:close/>
              </a:path>
              <a:path w="989329" h="637539">
                <a:moveTo>
                  <a:pt x="922019" y="0"/>
                </a:moveTo>
                <a:lnTo>
                  <a:pt x="73152" y="0"/>
                </a:lnTo>
                <a:lnTo>
                  <a:pt x="65532" y="1524"/>
                </a:lnTo>
                <a:lnTo>
                  <a:pt x="58039" y="1524"/>
                </a:lnTo>
                <a:lnTo>
                  <a:pt x="51943" y="4572"/>
                </a:lnTo>
                <a:lnTo>
                  <a:pt x="44196" y="6096"/>
                </a:lnTo>
                <a:lnTo>
                  <a:pt x="33528" y="12192"/>
                </a:lnTo>
                <a:lnTo>
                  <a:pt x="32131" y="13589"/>
                </a:lnTo>
                <a:lnTo>
                  <a:pt x="22860" y="21336"/>
                </a:lnTo>
                <a:lnTo>
                  <a:pt x="966343" y="21336"/>
                </a:lnTo>
                <a:lnTo>
                  <a:pt x="957199" y="13589"/>
                </a:lnTo>
                <a:lnTo>
                  <a:pt x="957199" y="12192"/>
                </a:lnTo>
                <a:lnTo>
                  <a:pt x="955675" y="12192"/>
                </a:lnTo>
                <a:lnTo>
                  <a:pt x="943356" y="6096"/>
                </a:lnTo>
                <a:lnTo>
                  <a:pt x="937260" y="2921"/>
                </a:lnTo>
                <a:lnTo>
                  <a:pt x="929766" y="1524"/>
                </a:lnTo>
                <a:lnTo>
                  <a:pt x="9220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5" name="object 49"/>
          <p:cNvSpPr/>
          <p:nvPr/>
        </p:nvSpPr>
        <p:spPr>
          <a:xfrm>
            <a:off x="5554080" y="3133440"/>
            <a:ext cx="858960" cy="5508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6" name="object 50"/>
          <p:cNvSpPr/>
          <p:nvPr/>
        </p:nvSpPr>
        <p:spPr>
          <a:xfrm>
            <a:off x="5547240" y="31280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421" y="624840"/>
                </a:moveTo>
                <a:lnTo>
                  <a:pt x="33528" y="624840"/>
                </a:lnTo>
                <a:lnTo>
                  <a:pt x="45593" y="632586"/>
                </a:lnTo>
                <a:lnTo>
                  <a:pt x="53213" y="634110"/>
                </a:lnTo>
                <a:lnTo>
                  <a:pt x="59436" y="635507"/>
                </a:lnTo>
                <a:lnTo>
                  <a:pt x="67056" y="637032"/>
                </a:lnTo>
                <a:lnTo>
                  <a:pt x="923416" y="637032"/>
                </a:lnTo>
                <a:lnTo>
                  <a:pt x="931163" y="635507"/>
                </a:lnTo>
                <a:lnTo>
                  <a:pt x="938657" y="634110"/>
                </a:lnTo>
                <a:lnTo>
                  <a:pt x="944753" y="630935"/>
                </a:lnTo>
                <a:lnTo>
                  <a:pt x="955421" y="624840"/>
                </a:lnTo>
                <a:close/>
              </a:path>
              <a:path w="989329" h="637539">
                <a:moveTo>
                  <a:pt x="48527" y="604951"/>
                </a:moveTo>
                <a:lnTo>
                  <a:pt x="48768" y="605155"/>
                </a:lnTo>
                <a:lnTo>
                  <a:pt x="13589" y="605155"/>
                </a:lnTo>
                <a:lnTo>
                  <a:pt x="13589" y="606679"/>
                </a:lnTo>
                <a:lnTo>
                  <a:pt x="21336" y="614171"/>
                </a:lnTo>
                <a:lnTo>
                  <a:pt x="21336" y="615822"/>
                </a:lnTo>
                <a:lnTo>
                  <a:pt x="22860" y="615822"/>
                </a:lnTo>
                <a:lnTo>
                  <a:pt x="22860" y="617346"/>
                </a:lnTo>
                <a:lnTo>
                  <a:pt x="32004" y="624840"/>
                </a:lnTo>
                <a:lnTo>
                  <a:pt x="956944" y="624840"/>
                </a:lnTo>
                <a:lnTo>
                  <a:pt x="958596" y="623443"/>
                </a:lnTo>
                <a:lnTo>
                  <a:pt x="967613" y="617346"/>
                </a:lnTo>
                <a:lnTo>
                  <a:pt x="967613" y="615822"/>
                </a:lnTo>
                <a:lnTo>
                  <a:pt x="970788" y="612647"/>
                </a:lnTo>
                <a:lnTo>
                  <a:pt x="74549" y="612647"/>
                </a:lnTo>
                <a:lnTo>
                  <a:pt x="68453" y="611251"/>
                </a:lnTo>
                <a:lnTo>
                  <a:pt x="63881" y="611251"/>
                </a:lnTo>
                <a:lnTo>
                  <a:pt x="59436" y="609599"/>
                </a:lnTo>
                <a:lnTo>
                  <a:pt x="54864" y="608076"/>
                </a:lnTo>
                <a:lnTo>
                  <a:pt x="48527" y="604951"/>
                </a:lnTo>
                <a:close/>
              </a:path>
              <a:path w="989329" h="637539">
                <a:moveTo>
                  <a:pt x="943356" y="603504"/>
                </a:moveTo>
                <a:lnTo>
                  <a:pt x="934085" y="608076"/>
                </a:lnTo>
                <a:lnTo>
                  <a:pt x="929513" y="609599"/>
                </a:lnTo>
                <a:lnTo>
                  <a:pt x="925068" y="611251"/>
                </a:lnTo>
                <a:lnTo>
                  <a:pt x="920496" y="611251"/>
                </a:lnTo>
                <a:lnTo>
                  <a:pt x="915924" y="612647"/>
                </a:lnTo>
                <a:lnTo>
                  <a:pt x="970788" y="612647"/>
                </a:lnTo>
                <a:lnTo>
                  <a:pt x="976757" y="606679"/>
                </a:lnTo>
                <a:lnTo>
                  <a:pt x="976757" y="605155"/>
                </a:lnTo>
                <a:lnTo>
                  <a:pt x="941832" y="605155"/>
                </a:lnTo>
                <a:lnTo>
                  <a:pt x="943356" y="603504"/>
                </a:lnTo>
                <a:close/>
              </a:path>
              <a:path w="989329" h="637539">
                <a:moveTo>
                  <a:pt x="921893" y="0"/>
                </a:moveTo>
                <a:lnTo>
                  <a:pt x="65532" y="0"/>
                </a:lnTo>
                <a:lnTo>
                  <a:pt x="59436" y="1650"/>
                </a:lnTo>
                <a:lnTo>
                  <a:pt x="51689" y="3047"/>
                </a:lnTo>
                <a:lnTo>
                  <a:pt x="44196" y="6222"/>
                </a:lnTo>
                <a:lnTo>
                  <a:pt x="33528" y="12318"/>
                </a:lnTo>
                <a:lnTo>
                  <a:pt x="32004" y="13842"/>
                </a:lnTo>
                <a:lnTo>
                  <a:pt x="22860" y="21335"/>
                </a:lnTo>
                <a:lnTo>
                  <a:pt x="21336" y="21335"/>
                </a:lnTo>
                <a:lnTo>
                  <a:pt x="21336" y="22986"/>
                </a:lnTo>
                <a:lnTo>
                  <a:pt x="13589" y="32003"/>
                </a:lnTo>
                <a:lnTo>
                  <a:pt x="12192" y="33654"/>
                </a:lnTo>
                <a:lnTo>
                  <a:pt x="6096" y="45846"/>
                </a:lnTo>
                <a:lnTo>
                  <a:pt x="2921" y="51942"/>
                </a:lnTo>
                <a:lnTo>
                  <a:pt x="1524" y="59435"/>
                </a:lnTo>
                <a:lnTo>
                  <a:pt x="1524" y="67182"/>
                </a:lnTo>
                <a:lnTo>
                  <a:pt x="0" y="74675"/>
                </a:lnTo>
                <a:lnTo>
                  <a:pt x="0" y="563880"/>
                </a:lnTo>
                <a:lnTo>
                  <a:pt x="1524" y="571499"/>
                </a:lnTo>
                <a:lnTo>
                  <a:pt x="1524" y="579246"/>
                </a:lnTo>
                <a:lnTo>
                  <a:pt x="4445" y="586740"/>
                </a:lnTo>
                <a:lnTo>
                  <a:pt x="7493" y="592835"/>
                </a:lnTo>
                <a:lnTo>
                  <a:pt x="12192" y="603504"/>
                </a:lnTo>
                <a:lnTo>
                  <a:pt x="12192" y="605155"/>
                </a:lnTo>
                <a:lnTo>
                  <a:pt x="48768" y="605155"/>
                </a:lnTo>
                <a:lnTo>
                  <a:pt x="45593" y="603504"/>
                </a:lnTo>
                <a:lnTo>
                  <a:pt x="46819" y="603504"/>
                </a:lnTo>
                <a:lnTo>
                  <a:pt x="41422" y="598932"/>
                </a:lnTo>
                <a:lnTo>
                  <a:pt x="41021" y="598932"/>
                </a:lnTo>
                <a:lnTo>
                  <a:pt x="39624" y="597407"/>
                </a:lnTo>
                <a:lnTo>
                  <a:pt x="39754" y="597407"/>
                </a:lnTo>
                <a:lnTo>
                  <a:pt x="33528" y="589915"/>
                </a:lnTo>
                <a:lnTo>
                  <a:pt x="34143" y="589915"/>
                </a:lnTo>
                <a:lnTo>
                  <a:pt x="28956" y="580644"/>
                </a:lnTo>
                <a:lnTo>
                  <a:pt x="27432" y="577722"/>
                </a:lnTo>
                <a:lnTo>
                  <a:pt x="27432" y="573151"/>
                </a:lnTo>
                <a:lnTo>
                  <a:pt x="25780" y="568579"/>
                </a:lnTo>
                <a:lnTo>
                  <a:pt x="25780" y="68579"/>
                </a:lnTo>
                <a:lnTo>
                  <a:pt x="27432" y="64007"/>
                </a:lnTo>
                <a:lnTo>
                  <a:pt x="28956" y="59435"/>
                </a:lnTo>
                <a:lnTo>
                  <a:pt x="30353" y="54990"/>
                </a:lnTo>
                <a:lnTo>
                  <a:pt x="34226" y="47243"/>
                </a:lnTo>
                <a:lnTo>
                  <a:pt x="33528" y="47243"/>
                </a:lnTo>
                <a:lnTo>
                  <a:pt x="41021" y="38099"/>
                </a:lnTo>
                <a:lnTo>
                  <a:pt x="43343" y="38099"/>
                </a:lnTo>
                <a:lnTo>
                  <a:pt x="46908" y="35178"/>
                </a:lnTo>
                <a:lnTo>
                  <a:pt x="45593" y="35178"/>
                </a:lnTo>
                <a:lnTo>
                  <a:pt x="56388" y="29082"/>
                </a:lnTo>
                <a:lnTo>
                  <a:pt x="60960" y="27431"/>
                </a:lnTo>
                <a:lnTo>
                  <a:pt x="65532" y="25907"/>
                </a:lnTo>
                <a:lnTo>
                  <a:pt x="971691" y="25907"/>
                </a:lnTo>
                <a:lnTo>
                  <a:pt x="969263" y="22986"/>
                </a:lnTo>
                <a:lnTo>
                  <a:pt x="967613" y="21335"/>
                </a:lnTo>
                <a:lnTo>
                  <a:pt x="958596" y="13842"/>
                </a:lnTo>
                <a:lnTo>
                  <a:pt x="956944" y="12318"/>
                </a:lnTo>
                <a:lnTo>
                  <a:pt x="955421" y="12318"/>
                </a:lnTo>
                <a:lnTo>
                  <a:pt x="943356" y="6222"/>
                </a:lnTo>
                <a:lnTo>
                  <a:pt x="937260" y="3047"/>
                </a:lnTo>
                <a:lnTo>
                  <a:pt x="929513" y="1650"/>
                </a:lnTo>
                <a:lnTo>
                  <a:pt x="921893" y="0"/>
                </a:lnTo>
                <a:close/>
              </a:path>
              <a:path w="989329" h="637539">
                <a:moveTo>
                  <a:pt x="45593" y="603504"/>
                </a:moveTo>
                <a:lnTo>
                  <a:pt x="48768" y="605155"/>
                </a:lnTo>
                <a:lnTo>
                  <a:pt x="48527" y="604951"/>
                </a:lnTo>
                <a:lnTo>
                  <a:pt x="45593" y="603504"/>
                </a:lnTo>
                <a:close/>
              </a:path>
              <a:path w="989329" h="637539">
                <a:moveTo>
                  <a:pt x="949987" y="598148"/>
                </a:moveTo>
                <a:lnTo>
                  <a:pt x="941832" y="605155"/>
                </a:lnTo>
                <a:lnTo>
                  <a:pt x="976757" y="605155"/>
                </a:lnTo>
                <a:lnTo>
                  <a:pt x="976757" y="603504"/>
                </a:lnTo>
                <a:lnTo>
                  <a:pt x="979662" y="598932"/>
                </a:lnTo>
                <a:lnTo>
                  <a:pt x="949325" y="598932"/>
                </a:lnTo>
                <a:lnTo>
                  <a:pt x="949987" y="598148"/>
                </a:lnTo>
                <a:close/>
              </a:path>
              <a:path w="989329" h="637539">
                <a:moveTo>
                  <a:pt x="46819" y="603504"/>
                </a:moveTo>
                <a:lnTo>
                  <a:pt x="45593" y="603504"/>
                </a:lnTo>
                <a:lnTo>
                  <a:pt x="48527" y="604951"/>
                </a:lnTo>
                <a:lnTo>
                  <a:pt x="46819" y="603504"/>
                </a:lnTo>
                <a:close/>
              </a:path>
              <a:path w="989329" h="637539">
                <a:moveTo>
                  <a:pt x="39624" y="597407"/>
                </a:moveTo>
                <a:lnTo>
                  <a:pt x="41021" y="598932"/>
                </a:lnTo>
                <a:lnTo>
                  <a:pt x="40065" y="597781"/>
                </a:lnTo>
                <a:lnTo>
                  <a:pt x="39624" y="597407"/>
                </a:lnTo>
                <a:close/>
              </a:path>
              <a:path w="989329" h="637539">
                <a:moveTo>
                  <a:pt x="40065" y="597781"/>
                </a:moveTo>
                <a:lnTo>
                  <a:pt x="41021" y="598932"/>
                </a:lnTo>
                <a:lnTo>
                  <a:pt x="41422" y="598932"/>
                </a:lnTo>
                <a:lnTo>
                  <a:pt x="40065" y="597781"/>
                </a:lnTo>
                <a:close/>
              </a:path>
              <a:path w="989329" h="637539">
                <a:moveTo>
                  <a:pt x="950849" y="597407"/>
                </a:moveTo>
                <a:lnTo>
                  <a:pt x="949987" y="598148"/>
                </a:lnTo>
                <a:lnTo>
                  <a:pt x="949325" y="598932"/>
                </a:lnTo>
                <a:lnTo>
                  <a:pt x="950849" y="597407"/>
                </a:lnTo>
                <a:close/>
              </a:path>
              <a:path w="989329" h="637539">
                <a:moveTo>
                  <a:pt x="980630" y="597407"/>
                </a:moveTo>
                <a:lnTo>
                  <a:pt x="950849" y="597407"/>
                </a:lnTo>
                <a:lnTo>
                  <a:pt x="949325" y="598932"/>
                </a:lnTo>
                <a:lnTo>
                  <a:pt x="979662" y="598932"/>
                </a:lnTo>
                <a:lnTo>
                  <a:pt x="980630" y="597407"/>
                </a:lnTo>
                <a:close/>
              </a:path>
              <a:path w="989329" h="637539">
                <a:moveTo>
                  <a:pt x="984860" y="589915"/>
                </a:moveTo>
                <a:lnTo>
                  <a:pt x="956944" y="589915"/>
                </a:lnTo>
                <a:lnTo>
                  <a:pt x="949987" y="598148"/>
                </a:lnTo>
                <a:lnTo>
                  <a:pt x="950849" y="597407"/>
                </a:lnTo>
                <a:lnTo>
                  <a:pt x="980630" y="597407"/>
                </a:lnTo>
                <a:lnTo>
                  <a:pt x="984504" y="591311"/>
                </a:lnTo>
                <a:lnTo>
                  <a:pt x="984860" y="589915"/>
                </a:lnTo>
                <a:close/>
              </a:path>
              <a:path w="989329" h="637539">
                <a:moveTo>
                  <a:pt x="39754" y="597407"/>
                </a:moveTo>
                <a:lnTo>
                  <a:pt x="39624" y="597407"/>
                </a:lnTo>
                <a:lnTo>
                  <a:pt x="40065" y="597781"/>
                </a:lnTo>
                <a:lnTo>
                  <a:pt x="39754" y="597407"/>
                </a:lnTo>
                <a:close/>
              </a:path>
              <a:path w="989329" h="637539">
                <a:moveTo>
                  <a:pt x="34143" y="589915"/>
                </a:moveTo>
                <a:lnTo>
                  <a:pt x="33528" y="589915"/>
                </a:lnTo>
                <a:lnTo>
                  <a:pt x="34925" y="591311"/>
                </a:lnTo>
                <a:lnTo>
                  <a:pt x="34143" y="589915"/>
                </a:lnTo>
                <a:close/>
              </a:path>
              <a:path w="989329" h="637539">
                <a:moveTo>
                  <a:pt x="955421" y="45846"/>
                </a:moveTo>
                <a:lnTo>
                  <a:pt x="961516" y="56514"/>
                </a:lnTo>
                <a:lnTo>
                  <a:pt x="961516" y="61086"/>
                </a:lnTo>
                <a:lnTo>
                  <a:pt x="963168" y="65531"/>
                </a:lnTo>
                <a:lnTo>
                  <a:pt x="964691" y="70103"/>
                </a:lnTo>
                <a:lnTo>
                  <a:pt x="964691" y="569976"/>
                </a:lnTo>
                <a:lnTo>
                  <a:pt x="963168" y="574547"/>
                </a:lnTo>
                <a:lnTo>
                  <a:pt x="961516" y="579246"/>
                </a:lnTo>
                <a:lnTo>
                  <a:pt x="959993" y="582168"/>
                </a:lnTo>
                <a:lnTo>
                  <a:pt x="955421" y="591311"/>
                </a:lnTo>
                <a:lnTo>
                  <a:pt x="956944" y="589915"/>
                </a:lnTo>
                <a:lnTo>
                  <a:pt x="984860" y="589915"/>
                </a:lnTo>
                <a:lnTo>
                  <a:pt x="986028" y="585343"/>
                </a:lnTo>
                <a:lnTo>
                  <a:pt x="987425" y="577722"/>
                </a:lnTo>
                <a:lnTo>
                  <a:pt x="988949" y="569976"/>
                </a:lnTo>
                <a:lnTo>
                  <a:pt x="988949" y="65531"/>
                </a:lnTo>
                <a:lnTo>
                  <a:pt x="987425" y="57911"/>
                </a:lnTo>
                <a:lnTo>
                  <a:pt x="986028" y="51942"/>
                </a:lnTo>
                <a:lnTo>
                  <a:pt x="984070" y="47243"/>
                </a:lnTo>
                <a:lnTo>
                  <a:pt x="956944" y="47243"/>
                </a:lnTo>
                <a:lnTo>
                  <a:pt x="955421" y="45846"/>
                </a:lnTo>
                <a:close/>
              </a:path>
              <a:path w="989329" h="637539">
                <a:moveTo>
                  <a:pt x="34925" y="45846"/>
                </a:moveTo>
                <a:lnTo>
                  <a:pt x="33528" y="47243"/>
                </a:lnTo>
                <a:lnTo>
                  <a:pt x="34226" y="47243"/>
                </a:lnTo>
                <a:lnTo>
                  <a:pt x="34925" y="45846"/>
                </a:lnTo>
                <a:close/>
              </a:path>
              <a:path w="989329" h="637539">
                <a:moveTo>
                  <a:pt x="979297" y="38099"/>
                </a:moveTo>
                <a:lnTo>
                  <a:pt x="949325" y="38099"/>
                </a:lnTo>
                <a:lnTo>
                  <a:pt x="956944" y="47243"/>
                </a:lnTo>
                <a:lnTo>
                  <a:pt x="984070" y="47243"/>
                </a:lnTo>
                <a:lnTo>
                  <a:pt x="982853" y="44322"/>
                </a:lnTo>
                <a:lnTo>
                  <a:pt x="979297" y="38099"/>
                </a:lnTo>
                <a:close/>
              </a:path>
              <a:path w="989329" h="637539">
                <a:moveTo>
                  <a:pt x="43343" y="38099"/>
                </a:moveTo>
                <a:lnTo>
                  <a:pt x="41021" y="38099"/>
                </a:lnTo>
                <a:lnTo>
                  <a:pt x="39624" y="41147"/>
                </a:lnTo>
                <a:lnTo>
                  <a:pt x="43343" y="38099"/>
                </a:lnTo>
                <a:close/>
              </a:path>
              <a:path w="989329" h="637539">
                <a:moveTo>
                  <a:pt x="976757" y="33654"/>
                </a:moveTo>
                <a:lnTo>
                  <a:pt x="941832" y="33654"/>
                </a:lnTo>
                <a:lnTo>
                  <a:pt x="950849" y="41147"/>
                </a:lnTo>
                <a:lnTo>
                  <a:pt x="949325" y="38099"/>
                </a:lnTo>
                <a:lnTo>
                  <a:pt x="979297" y="38099"/>
                </a:lnTo>
                <a:lnTo>
                  <a:pt x="976757" y="33654"/>
                </a:lnTo>
                <a:close/>
              </a:path>
              <a:path w="989329" h="637539">
                <a:moveTo>
                  <a:pt x="48768" y="33654"/>
                </a:moveTo>
                <a:lnTo>
                  <a:pt x="45593" y="35178"/>
                </a:lnTo>
                <a:lnTo>
                  <a:pt x="46908" y="35178"/>
                </a:lnTo>
                <a:lnTo>
                  <a:pt x="48768" y="33654"/>
                </a:lnTo>
                <a:close/>
              </a:path>
              <a:path w="989329" h="637539">
                <a:moveTo>
                  <a:pt x="971691" y="25907"/>
                </a:moveTo>
                <a:lnTo>
                  <a:pt x="926591" y="25907"/>
                </a:lnTo>
                <a:lnTo>
                  <a:pt x="931163" y="27431"/>
                </a:lnTo>
                <a:lnTo>
                  <a:pt x="935736" y="29082"/>
                </a:lnTo>
                <a:lnTo>
                  <a:pt x="943356" y="35178"/>
                </a:lnTo>
                <a:lnTo>
                  <a:pt x="941832" y="33654"/>
                </a:lnTo>
                <a:lnTo>
                  <a:pt x="976757" y="33654"/>
                </a:lnTo>
                <a:lnTo>
                  <a:pt x="976757" y="32003"/>
                </a:lnTo>
                <a:lnTo>
                  <a:pt x="971691" y="25907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7" name="object 51"/>
          <p:cNvSpPr/>
          <p:nvPr/>
        </p:nvSpPr>
        <p:spPr>
          <a:xfrm>
            <a:off x="5677200" y="3240720"/>
            <a:ext cx="612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720"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58.5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bject 52"/>
          <p:cNvSpPr/>
          <p:nvPr/>
        </p:nvSpPr>
        <p:spPr>
          <a:xfrm>
            <a:off x="5467680" y="4787280"/>
            <a:ext cx="851400" cy="678600"/>
          </a:xfrm>
          <a:custGeom>
            <a:avLst/>
            <a:gdLst>
              <a:gd name="textAreaLeft" fmla="*/ 0 w 851400"/>
              <a:gd name="textAreaRight" fmla="*/ 851760 w 851400"/>
              <a:gd name="textAreaTop" fmla="*/ 0 h 678600"/>
              <a:gd name="textAreaBottom" fmla="*/ 678960 h 678600"/>
            </a:gdLst>
            <a:ahLst/>
            <a:rect l="textAreaLeft" t="textAreaTop" r="textAreaRight" b="textAreaBottom"/>
            <a:pathLst>
              <a:path w="965200" h="769620">
                <a:moveTo>
                  <a:pt x="886968" y="0"/>
                </a:moveTo>
                <a:lnTo>
                  <a:pt x="77724" y="0"/>
                </a:lnTo>
                <a:lnTo>
                  <a:pt x="47630" y="6123"/>
                </a:lnTo>
                <a:lnTo>
                  <a:pt x="22907" y="22796"/>
                </a:lnTo>
                <a:lnTo>
                  <a:pt x="6161" y="47470"/>
                </a:lnTo>
                <a:lnTo>
                  <a:pt x="0" y="77597"/>
                </a:lnTo>
                <a:lnTo>
                  <a:pt x="0" y="693293"/>
                </a:lnTo>
                <a:lnTo>
                  <a:pt x="6161" y="723201"/>
                </a:lnTo>
                <a:lnTo>
                  <a:pt x="22907" y="747395"/>
                </a:lnTo>
                <a:lnTo>
                  <a:pt x="47630" y="763587"/>
                </a:lnTo>
                <a:lnTo>
                  <a:pt x="77724" y="769493"/>
                </a:lnTo>
                <a:lnTo>
                  <a:pt x="886968" y="769493"/>
                </a:lnTo>
                <a:lnTo>
                  <a:pt x="917168" y="763587"/>
                </a:lnTo>
                <a:lnTo>
                  <a:pt x="941879" y="747395"/>
                </a:lnTo>
                <a:lnTo>
                  <a:pt x="958566" y="723201"/>
                </a:lnTo>
                <a:lnTo>
                  <a:pt x="964691" y="693293"/>
                </a:lnTo>
                <a:lnTo>
                  <a:pt x="964691" y="77597"/>
                </a:lnTo>
                <a:lnTo>
                  <a:pt x="958566" y="47470"/>
                </a:lnTo>
                <a:lnTo>
                  <a:pt x="941879" y="22796"/>
                </a:lnTo>
                <a:lnTo>
                  <a:pt x="917168" y="6123"/>
                </a:lnTo>
                <a:lnTo>
                  <a:pt x="886968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9" name="object 53"/>
          <p:cNvSpPr/>
          <p:nvPr/>
        </p:nvSpPr>
        <p:spPr>
          <a:xfrm>
            <a:off x="5457240" y="4776840"/>
            <a:ext cx="872640" cy="701640"/>
          </a:xfrm>
          <a:custGeom>
            <a:avLst/>
            <a:gdLst>
              <a:gd name="textAreaLeft" fmla="*/ 0 w 872640"/>
              <a:gd name="textAreaRight" fmla="*/ 873000 w 872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989329" h="795654">
                <a:moveTo>
                  <a:pt x="908304" y="0"/>
                </a:moveTo>
                <a:lnTo>
                  <a:pt x="79121" y="0"/>
                </a:lnTo>
                <a:lnTo>
                  <a:pt x="71501" y="1396"/>
                </a:lnTo>
                <a:lnTo>
                  <a:pt x="62357" y="4571"/>
                </a:lnTo>
                <a:lnTo>
                  <a:pt x="54864" y="7492"/>
                </a:lnTo>
                <a:lnTo>
                  <a:pt x="45593" y="10667"/>
                </a:lnTo>
                <a:lnTo>
                  <a:pt x="15240" y="39496"/>
                </a:lnTo>
                <a:lnTo>
                  <a:pt x="0" y="80771"/>
                </a:lnTo>
                <a:lnTo>
                  <a:pt x="0" y="714628"/>
                </a:lnTo>
                <a:lnTo>
                  <a:pt x="15240" y="755903"/>
                </a:lnTo>
                <a:lnTo>
                  <a:pt x="21336" y="763396"/>
                </a:lnTo>
                <a:lnTo>
                  <a:pt x="25908" y="769492"/>
                </a:lnTo>
                <a:lnTo>
                  <a:pt x="64008" y="790828"/>
                </a:lnTo>
                <a:lnTo>
                  <a:pt x="71501" y="794003"/>
                </a:lnTo>
                <a:lnTo>
                  <a:pt x="80772" y="794003"/>
                </a:lnTo>
                <a:lnTo>
                  <a:pt x="89789" y="795527"/>
                </a:lnTo>
                <a:lnTo>
                  <a:pt x="900557" y="795527"/>
                </a:lnTo>
                <a:lnTo>
                  <a:pt x="909701" y="794003"/>
                </a:lnTo>
                <a:lnTo>
                  <a:pt x="917321" y="792352"/>
                </a:lnTo>
                <a:lnTo>
                  <a:pt x="926465" y="790828"/>
                </a:lnTo>
                <a:lnTo>
                  <a:pt x="934212" y="787780"/>
                </a:lnTo>
                <a:lnTo>
                  <a:pt x="941832" y="783335"/>
                </a:lnTo>
                <a:lnTo>
                  <a:pt x="949325" y="778763"/>
                </a:lnTo>
                <a:lnTo>
                  <a:pt x="957072" y="774191"/>
                </a:lnTo>
                <a:lnTo>
                  <a:pt x="961770" y="769492"/>
                </a:lnTo>
                <a:lnTo>
                  <a:pt x="82296" y="769492"/>
                </a:lnTo>
                <a:lnTo>
                  <a:pt x="76200" y="768095"/>
                </a:lnTo>
                <a:lnTo>
                  <a:pt x="44196" y="749680"/>
                </a:lnTo>
                <a:lnTo>
                  <a:pt x="39497" y="745235"/>
                </a:lnTo>
                <a:lnTo>
                  <a:pt x="36576" y="740663"/>
                </a:lnTo>
                <a:lnTo>
                  <a:pt x="33401" y="736091"/>
                </a:lnTo>
                <a:lnTo>
                  <a:pt x="30353" y="729995"/>
                </a:lnTo>
                <a:lnTo>
                  <a:pt x="27432" y="723899"/>
                </a:lnTo>
                <a:lnTo>
                  <a:pt x="25908" y="717803"/>
                </a:lnTo>
                <a:lnTo>
                  <a:pt x="25908" y="82295"/>
                </a:lnTo>
                <a:lnTo>
                  <a:pt x="27432" y="76199"/>
                </a:lnTo>
                <a:lnTo>
                  <a:pt x="28829" y="70103"/>
                </a:lnTo>
                <a:lnTo>
                  <a:pt x="30353" y="63880"/>
                </a:lnTo>
                <a:lnTo>
                  <a:pt x="33401" y="57784"/>
                </a:lnTo>
                <a:lnTo>
                  <a:pt x="36576" y="53339"/>
                </a:lnTo>
                <a:lnTo>
                  <a:pt x="41021" y="48767"/>
                </a:lnTo>
                <a:lnTo>
                  <a:pt x="44196" y="44195"/>
                </a:lnTo>
                <a:lnTo>
                  <a:pt x="48768" y="39496"/>
                </a:lnTo>
                <a:lnTo>
                  <a:pt x="54864" y="36448"/>
                </a:lnTo>
                <a:lnTo>
                  <a:pt x="59436" y="33527"/>
                </a:lnTo>
                <a:lnTo>
                  <a:pt x="65532" y="30352"/>
                </a:lnTo>
                <a:lnTo>
                  <a:pt x="71501" y="27431"/>
                </a:lnTo>
                <a:lnTo>
                  <a:pt x="77597" y="25780"/>
                </a:lnTo>
                <a:lnTo>
                  <a:pt x="961644" y="25780"/>
                </a:lnTo>
                <a:lnTo>
                  <a:pt x="955421" y="19684"/>
                </a:lnTo>
                <a:lnTo>
                  <a:pt x="949325" y="15239"/>
                </a:lnTo>
                <a:lnTo>
                  <a:pt x="941832" y="10667"/>
                </a:lnTo>
                <a:lnTo>
                  <a:pt x="934212" y="7492"/>
                </a:lnTo>
                <a:lnTo>
                  <a:pt x="925068" y="4571"/>
                </a:lnTo>
                <a:lnTo>
                  <a:pt x="917321" y="1396"/>
                </a:lnTo>
                <a:lnTo>
                  <a:pt x="908304" y="0"/>
                </a:lnTo>
                <a:close/>
              </a:path>
              <a:path w="989329" h="795654">
                <a:moveTo>
                  <a:pt x="961644" y="25780"/>
                </a:moveTo>
                <a:lnTo>
                  <a:pt x="906653" y="25780"/>
                </a:lnTo>
                <a:lnTo>
                  <a:pt x="912876" y="27431"/>
                </a:lnTo>
                <a:lnTo>
                  <a:pt x="918972" y="28828"/>
                </a:lnTo>
                <a:lnTo>
                  <a:pt x="925068" y="30352"/>
                </a:lnTo>
                <a:lnTo>
                  <a:pt x="931163" y="33527"/>
                </a:lnTo>
                <a:lnTo>
                  <a:pt x="935736" y="36448"/>
                </a:lnTo>
                <a:lnTo>
                  <a:pt x="940308" y="41020"/>
                </a:lnTo>
                <a:lnTo>
                  <a:pt x="944753" y="44195"/>
                </a:lnTo>
                <a:lnTo>
                  <a:pt x="949325" y="48767"/>
                </a:lnTo>
                <a:lnTo>
                  <a:pt x="952500" y="54863"/>
                </a:lnTo>
                <a:lnTo>
                  <a:pt x="955421" y="59435"/>
                </a:lnTo>
                <a:lnTo>
                  <a:pt x="958596" y="65531"/>
                </a:lnTo>
                <a:lnTo>
                  <a:pt x="961644" y="71627"/>
                </a:lnTo>
                <a:lnTo>
                  <a:pt x="963168" y="77596"/>
                </a:lnTo>
                <a:lnTo>
                  <a:pt x="963168" y="713231"/>
                </a:lnTo>
                <a:lnTo>
                  <a:pt x="961644" y="719327"/>
                </a:lnTo>
                <a:lnTo>
                  <a:pt x="959993" y="725296"/>
                </a:lnTo>
                <a:lnTo>
                  <a:pt x="958596" y="731392"/>
                </a:lnTo>
                <a:lnTo>
                  <a:pt x="955421" y="736091"/>
                </a:lnTo>
                <a:lnTo>
                  <a:pt x="952500" y="742060"/>
                </a:lnTo>
                <a:lnTo>
                  <a:pt x="947801" y="746759"/>
                </a:lnTo>
                <a:lnTo>
                  <a:pt x="944753" y="751331"/>
                </a:lnTo>
                <a:lnTo>
                  <a:pt x="940308" y="755903"/>
                </a:lnTo>
                <a:lnTo>
                  <a:pt x="934212" y="758824"/>
                </a:lnTo>
                <a:lnTo>
                  <a:pt x="929640" y="761999"/>
                </a:lnTo>
                <a:lnTo>
                  <a:pt x="923544" y="764920"/>
                </a:lnTo>
                <a:lnTo>
                  <a:pt x="917321" y="766571"/>
                </a:lnTo>
                <a:lnTo>
                  <a:pt x="911225" y="768095"/>
                </a:lnTo>
                <a:lnTo>
                  <a:pt x="905129" y="769492"/>
                </a:lnTo>
                <a:lnTo>
                  <a:pt x="961770" y="769492"/>
                </a:lnTo>
                <a:lnTo>
                  <a:pt x="969263" y="761999"/>
                </a:lnTo>
                <a:lnTo>
                  <a:pt x="973836" y="754252"/>
                </a:lnTo>
                <a:lnTo>
                  <a:pt x="978408" y="748156"/>
                </a:lnTo>
                <a:lnTo>
                  <a:pt x="981329" y="739139"/>
                </a:lnTo>
                <a:lnTo>
                  <a:pt x="984504" y="731392"/>
                </a:lnTo>
                <a:lnTo>
                  <a:pt x="987425" y="722248"/>
                </a:lnTo>
                <a:lnTo>
                  <a:pt x="989076" y="714628"/>
                </a:lnTo>
                <a:lnTo>
                  <a:pt x="989076" y="79120"/>
                </a:lnTo>
                <a:lnTo>
                  <a:pt x="987425" y="71627"/>
                </a:lnTo>
                <a:lnTo>
                  <a:pt x="984504" y="62356"/>
                </a:lnTo>
                <a:lnTo>
                  <a:pt x="981329" y="54863"/>
                </a:lnTo>
                <a:lnTo>
                  <a:pt x="978408" y="45592"/>
                </a:lnTo>
                <a:lnTo>
                  <a:pt x="973836" y="39496"/>
                </a:lnTo>
                <a:lnTo>
                  <a:pt x="967740" y="32003"/>
                </a:lnTo>
                <a:lnTo>
                  <a:pt x="961644" y="257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0" name="object 54"/>
          <p:cNvSpPr/>
          <p:nvPr/>
        </p:nvSpPr>
        <p:spPr>
          <a:xfrm>
            <a:off x="5556600" y="4872240"/>
            <a:ext cx="860400" cy="6894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1" name="object 55"/>
          <p:cNvSpPr/>
          <p:nvPr/>
        </p:nvSpPr>
        <p:spPr>
          <a:xfrm>
            <a:off x="5551200" y="4866840"/>
            <a:ext cx="872640" cy="701640"/>
          </a:xfrm>
          <a:custGeom>
            <a:avLst/>
            <a:gdLst>
              <a:gd name="textAreaLeft" fmla="*/ 0 w 872640"/>
              <a:gd name="textAreaRight" fmla="*/ 873000 w 872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989329" h="795654">
                <a:moveTo>
                  <a:pt x="908304" y="0"/>
                </a:moveTo>
                <a:lnTo>
                  <a:pt x="80772" y="0"/>
                </a:lnTo>
                <a:lnTo>
                  <a:pt x="71755" y="1651"/>
                </a:lnTo>
                <a:lnTo>
                  <a:pt x="62611" y="4572"/>
                </a:lnTo>
                <a:lnTo>
                  <a:pt x="54991" y="7747"/>
                </a:lnTo>
                <a:lnTo>
                  <a:pt x="47244" y="10668"/>
                </a:lnTo>
                <a:lnTo>
                  <a:pt x="39751" y="15240"/>
                </a:lnTo>
                <a:lnTo>
                  <a:pt x="32004" y="21336"/>
                </a:lnTo>
                <a:lnTo>
                  <a:pt x="25908" y="25908"/>
                </a:lnTo>
                <a:lnTo>
                  <a:pt x="19812" y="32004"/>
                </a:lnTo>
                <a:lnTo>
                  <a:pt x="15240" y="39751"/>
                </a:lnTo>
                <a:lnTo>
                  <a:pt x="10668" y="47244"/>
                </a:lnTo>
                <a:lnTo>
                  <a:pt x="7747" y="54991"/>
                </a:lnTo>
                <a:lnTo>
                  <a:pt x="4572" y="64008"/>
                </a:lnTo>
                <a:lnTo>
                  <a:pt x="1651" y="71755"/>
                </a:lnTo>
                <a:lnTo>
                  <a:pt x="0" y="80772"/>
                </a:lnTo>
                <a:lnTo>
                  <a:pt x="0" y="705612"/>
                </a:lnTo>
                <a:lnTo>
                  <a:pt x="1651" y="714883"/>
                </a:lnTo>
                <a:lnTo>
                  <a:pt x="1651" y="723900"/>
                </a:lnTo>
                <a:lnTo>
                  <a:pt x="4572" y="733044"/>
                </a:lnTo>
                <a:lnTo>
                  <a:pt x="7747" y="740791"/>
                </a:lnTo>
                <a:lnTo>
                  <a:pt x="10668" y="748411"/>
                </a:lnTo>
                <a:lnTo>
                  <a:pt x="16891" y="755904"/>
                </a:lnTo>
                <a:lnTo>
                  <a:pt x="21336" y="762000"/>
                </a:lnTo>
                <a:lnTo>
                  <a:pt x="27559" y="769747"/>
                </a:lnTo>
                <a:lnTo>
                  <a:pt x="33655" y="774319"/>
                </a:lnTo>
                <a:lnTo>
                  <a:pt x="41148" y="780415"/>
                </a:lnTo>
                <a:lnTo>
                  <a:pt x="47244" y="784987"/>
                </a:lnTo>
                <a:lnTo>
                  <a:pt x="54991" y="787908"/>
                </a:lnTo>
                <a:lnTo>
                  <a:pt x="64008" y="791083"/>
                </a:lnTo>
                <a:lnTo>
                  <a:pt x="73279" y="792480"/>
                </a:lnTo>
                <a:lnTo>
                  <a:pt x="80772" y="794004"/>
                </a:lnTo>
                <a:lnTo>
                  <a:pt x="90043" y="795655"/>
                </a:lnTo>
                <a:lnTo>
                  <a:pt x="909955" y="794004"/>
                </a:lnTo>
                <a:lnTo>
                  <a:pt x="918972" y="792480"/>
                </a:lnTo>
                <a:lnTo>
                  <a:pt x="957072" y="774319"/>
                </a:lnTo>
                <a:lnTo>
                  <a:pt x="961644" y="769747"/>
                </a:lnTo>
                <a:lnTo>
                  <a:pt x="82423" y="769747"/>
                </a:lnTo>
                <a:lnTo>
                  <a:pt x="76200" y="768223"/>
                </a:lnTo>
                <a:lnTo>
                  <a:pt x="70104" y="766572"/>
                </a:lnTo>
                <a:lnTo>
                  <a:pt x="64008" y="763651"/>
                </a:lnTo>
                <a:lnTo>
                  <a:pt x="59436" y="762000"/>
                </a:lnTo>
                <a:lnTo>
                  <a:pt x="53340" y="757555"/>
                </a:lnTo>
                <a:lnTo>
                  <a:pt x="48768" y="754380"/>
                </a:lnTo>
                <a:lnTo>
                  <a:pt x="44323" y="749808"/>
                </a:lnTo>
                <a:lnTo>
                  <a:pt x="39751" y="745236"/>
                </a:lnTo>
                <a:lnTo>
                  <a:pt x="36576" y="740791"/>
                </a:lnTo>
                <a:lnTo>
                  <a:pt x="33655" y="734568"/>
                </a:lnTo>
                <a:lnTo>
                  <a:pt x="30480" y="730123"/>
                </a:lnTo>
                <a:lnTo>
                  <a:pt x="29083" y="723900"/>
                </a:lnTo>
                <a:lnTo>
                  <a:pt x="27559" y="717804"/>
                </a:lnTo>
                <a:lnTo>
                  <a:pt x="25908" y="711708"/>
                </a:lnTo>
                <a:lnTo>
                  <a:pt x="25908" y="82423"/>
                </a:lnTo>
                <a:lnTo>
                  <a:pt x="27559" y="76200"/>
                </a:lnTo>
                <a:lnTo>
                  <a:pt x="29083" y="70104"/>
                </a:lnTo>
                <a:lnTo>
                  <a:pt x="30480" y="64008"/>
                </a:lnTo>
                <a:lnTo>
                  <a:pt x="33655" y="57912"/>
                </a:lnTo>
                <a:lnTo>
                  <a:pt x="36576" y="53340"/>
                </a:lnTo>
                <a:lnTo>
                  <a:pt x="41148" y="47244"/>
                </a:lnTo>
                <a:lnTo>
                  <a:pt x="44323" y="44323"/>
                </a:lnTo>
                <a:lnTo>
                  <a:pt x="50419" y="39751"/>
                </a:lnTo>
                <a:lnTo>
                  <a:pt x="54991" y="35179"/>
                </a:lnTo>
                <a:lnTo>
                  <a:pt x="59436" y="32004"/>
                </a:lnTo>
                <a:lnTo>
                  <a:pt x="65659" y="30480"/>
                </a:lnTo>
                <a:lnTo>
                  <a:pt x="71755" y="27559"/>
                </a:lnTo>
                <a:lnTo>
                  <a:pt x="77851" y="25908"/>
                </a:lnTo>
                <a:lnTo>
                  <a:pt x="83947" y="25908"/>
                </a:lnTo>
                <a:lnTo>
                  <a:pt x="90043" y="24511"/>
                </a:lnTo>
                <a:lnTo>
                  <a:pt x="961771" y="24511"/>
                </a:lnTo>
                <a:lnTo>
                  <a:pt x="957072" y="19812"/>
                </a:lnTo>
                <a:lnTo>
                  <a:pt x="949579" y="15240"/>
                </a:lnTo>
                <a:lnTo>
                  <a:pt x="941959" y="10668"/>
                </a:lnTo>
                <a:lnTo>
                  <a:pt x="934212" y="6223"/>
                </a:lnTo>
                <a:lnTo>
                  <a:pt x="925068" y="3048"/>
                </a:lnTo>
                <a:lnTo>
                  <a:pt x="908304" y="0"/>
                </a:lnTo>
                <a:close/>
              </a:path>
              <a:path w="989329" h="795654">
                <a:moveTo>
                  <a:pt x="961771" y="24511"/>
                </a:moveTo>
                <a:lnTo>
                  <a:pt x="899287" y="24511"/>
                </a:lnTo>
                <a:lnTo>
                  <a:pt x="906780" y="25908"/>
                </a:lnTo>
                <a:lnTo>
                  <a:pt x="912876" y="25908"/>
                </a:lnTo>
                <a:lnTo>
                  <a:pt x="918972" y="27559"/>
                </a:lnTo>
                <a:lnTo>
                  <a:pt x="944880" y="44323"/>
                </a:lnTo>
                <a:lnTo>
                  <a:pt x="949579" y="48768"/>
                </a:lnTo>
                <a:lnTo>
                  <a:pt x="954151" y="53340"/>
                </a:lnTo>
                <a:lnTo>
                  <a:pt x="957072" y="59436"/>
                </a:lnTo>
                <a:lnTo>
                  <a:pt x="958722" y="65659"/>
                </a:lnTo>
                <a:lnTo>
                  <a:pt x="961644" y="71755"/>
                </a:lnTo>
                <a:lnTo>
                  <a:pt x="963168" y="77851"/>
                </a:lnTo>
                <a:lnTo>
                  <a:pt x="963168" y="83947"/>
                </a:lnTo>
                <a:lnTo>
                  <a:pt x="964819" y="89916"/>
                </a:lnTo>
                <a:lnTo>
                  <a:pt x="964819" y="705612"/>
                </a:lnTo>
                <a:lnTo>
                  <a:pt x="963168" y="711708"/>
                </a:lnTo>
                <a:lnTo>
                  <a:pt x="963168" y="719455"/>
                </a:lnTo>
                <a:lnTo>
                  <a:pt x="961644" y="725551"/>
                </a:lnTo>
                <a:lnTo>
                  <a:pt x="958722" y="730123"/>
                </a:lnTo>
                <a:lnTo>
                  <a:pt x="955547" y="736219"/>
                </a:lnTo>
                <a:lnTo>
                  <a:pt x="952500" y="742315"/>
                </a:lnTo>
                <a:lnTo>
                  <a:pt x="949579" y="746887"/>
                </a:lnTo>
                <a:lnTo>
                  <a:pt x="944880" y="751459"/>
                </a:lnTo>
                <a:lnTo>
                  <a:pt x="940308" y="754380"/>
                </a:lnTo>
                <a:lnTo>
                  <a:pt x="935736" y="759079"/>
                </a:lnTo>
                <a:lnTo>
                  <a:pt x="929640" y="762000"/>
                </a:lnTo>
                <a:lnTo>
                  <a:pt x="923544" y="765048"/>
                </a:lnTo>
                <a:lnTo>
                  <a:pt x="917447" y="766572"/>
                </a:lnTo>
                <a:lnTo>
                  <a:pt x="911479" y="768223"/>
                </a:lnTo>
                <a:lnTo>
                  <a:pt x="905383" y="769747"/>
                </a:lnTo>
                <a:lnTo>
                  <a:pt x="961644" y="769747"/>
                </a:lnTo>
                <a:lnTo>
                  <a:pt x="969391" y="762000"/>
                </a:lnTo>
                <a:lnTo>
                  <a:pt x="973836" y="754380"/>
                </a:lnTo>
                <a:lnTo>
                  <a:pt x="978408" y="746887"/>
                </a:lnTo>
                <a:lnTo>
                  <a:pt x="982980" y="739140"/>
                </a:lnTo>
                <a:lnTo>
                  <a:pt x="986155" y="731647"/>
                </a:lnTo>
                <a:lnTo>
                  <a:pt x="987679" y="722376"/>
                </a:lnTo>
                <a:lnTo>
                  <a:pt x="989076" y="713359"/>
                </a:lnTo>
                <a:lnTo>
                  <a:pt x="989076" y="79248"/>
                </a:lnTo>
                <a:lnTo>
                  <a:pt x="987679" y="70104"/>
                </a:lnTo>
                <a:lnTo>
                  <a:pt x="984504" y="62611"/>
                </a:lnTo>
                <a:lnTo>
                  <a:pt x="981583" y="53340"/>
                </a:lnTo>
                <a:lnTo>
                  <a:pt x="978408" y="45847"/>
                </a:lnTo>
                <a:lnTo>
                  <a:pt x="973836" y="38100"/>
                </a:lnTo>
                <a:lnTo>
                  <a:pt x="967740" y="32004"/>
                </a:lnTo>
                <a:lnTo>
                  <a:pt x="963168" y="25908"/>
                </a:lnTo>
                <a:lnTo>
                  <a:pt x="961771" y="24511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2" name="object 56"/>
          <p:cNvSpPr/>
          <p:nvPr/>
        </p:nvSpPr>
        <p:spPr>
          <a:xfrm>
            <a:off x="5613840" y="5047920"/>
            <a:ext cx="74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41400">
              <a:lnSpc>
                <a:spcPts val="1117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NOI/RROF&amp;</a:t>
            </a:r>
            <a:r>
              <a:rPr b="0" lang="en-US" sz="97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marL="11160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unless</a:t>
            </a:r>
            <a:r>
              <a:rPr b="0" lang="en-US" sz="970" spc="-55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xempt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ject 57"/>
          <p:cNvSpPr/>
          <p:nvPr/>
        </p:nvSpPr>
        <p:spPr>
          <a:xfrm>
            <a:off x="6788520" y="1752120"/>
            <a:ext cx="851400" cy="539280"/>
          </a:xfrm>
          <a:custGeom>
            <a:avLst/>
            <a:gdLst>
              <a:gd name="textAreaLeft" fmla="*/ 0 w 851400"/>
              <a:gd name="textAreaRight" fmla="*/ 851760 w 8514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5200" h="611505">
                <a:moveTo>
                  <a:pt x="902081" y="0"/>
                </a:moveTo>
                <a:lnTo>
                  <a:pt x="60960" y="0"/>
                </a:lnTo>
                <a:lnTo>
                  <a:pt x="37290" y="4812"/>
                </a:lnTo>
                <a:lnTo>
                  <a:pt x="17907" y="17922"/>
                </a:lnTo>
                <a:lnTo>
                  <a:pt x="4810" y="37343"/>
                </a:lnTo>
                <a:lnTo>
                  <a:pt x="0" y="61087"/>
                </a:lnTo>
                <a:lnTo>
                  <a:pt x="0" y="550164"/>
                </a:lnTo>
                <a:lnTo>
                  <a:pt x="4810" y="573907"/>
                </a:lnTo>
                <a:lnTo>
                  <a:pt x="17907" y="593328"/>
                </a:lnTo>
                <a:lnTo>
                  <a:pt x="37290" y="606438"/>
                </a:lnTo>
                <a:lnTo>
                  <a:pt x="60960" y="611251"/>
                </a:lnTo>
                <a:lnTo>
                  <a:pt x="902081" y="611251"/>
                </a:lnTo>
                <a:lnTo>
                  <a:pt x="926705" y="606438"/>
                </a:lnTo>
                <a:lnTo>
                  <a:pt x="946578" y="593328"/>
                </a:lnTo>
                <a:lnTo>
                  <a:pt x="959856" y="573907"/>
                </a:lnTo>
                <a:lnTo>
                  <a:pt x="964691" y="550164"/>
                </a:lnTo>
                <a:lnTo>
                  <a:pt x="964691" y="61087"/>
                </a:lnTo>
                <a:lnTo>
                  <a:pt x="959856" y="37343"/>
                </a:lnTo>
                <a:lnTo>
                  <a:pt x="946578" y="17922"/>
                </a:lnTo>
                <a:lnTo>
                  <a:pt x="926705" y="4812"/>
                </a:lnTo>
                <a:lnTo>
                  <a:pt x="902081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4" name="object 58"/>
          <p:cNvSpPr/>
          <p:nvPr/>
        </p:nvSpPr>
        <p:spPr>
          <a:xfrm>
            <a:off x="6777720" y="1740240"/>
            <a:ext cx="872640" cy="5634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89329" h="638810">
                <a:moveTo>
                  <a:pt x="923544" y="637032"/>
                </a:moveTo>
                <a:lnTo>
                  <a:pt x="67183" y="637032"/>
                </a:lnTo>
                <a:lnTo>
                  <a:pt x="73279" y="638429"/>
                </a:lnTo>
                <a:lnTo>
                  <a:pt x="916051" y="638429"/>
                </a:lnTo>
                <a:lnTo>
                  <a:pt x="923544" y="637032"/>
                </a:lnTo>
                <a:close/>
              </a:path>
              <a:path w="989329" h="638810">
                <a:moveTo>
                  <a:pt x="955547" y="624840"/>
                </a:moveTo>
                <a:lnTo>
                  <a:pt x="33655" y="624840"/>
                </a:lnTo>
                <a:lnTo>
                  <a:pt x="33655" y="626363"/>
                </a:lnTo>
                <a:lnTo>
                  <a:pt x="45847" y="632332"/>
                </a:lnTo>
                <a:lnTo>
                  <a:pt x="51943" y="635507"/>
                </a:lnTo>
                <a:lnTo>
                  <a:pt x="59436" y="637032"/>
                </a:lnTo>
                <a:lnTo>
                  <a:pt x="931291" y="637032"/>
                </a:lnTo>
                <a:lnTo>
                  <a:pt x="937387" y="633857"/>
                </a:lnTo>
                <a:lnTo>
                  <a:pt x="944880" y="630935"/>
                </a:lnTo>
                <a:lnTo>
                  <a:pt x="955547" y="626363"/>
                </a:lnTo>
                <a:lnTo>
                  <a:pt x="955547" y="624840"/>
                </a:lnTo>
                <a:close/>
              </a:path>
              <a:path w="989329" h="638810">
                <a:moveTo>
                  <a:pt x="966343" y="617093"/>
                </a:moveTo>
                <a:lnTo>
                  <a:pt x="22987" y="617093"/>
                </a:lnTo>
                <a:lnTo>
                  <a:pt x="32004" y="624840"/>
                </a:lnTo>
                <a:lnTo>
                  <a:pt x="957072" y="624840"/>
                </a:lnTo>
                <a:lnTo>
                  <a:pt x="966343" y="617093"/>
                </a:lnTo>
                <a:close/>
              </a:path>
              <a:path w="989329" h="638810">
                <a:moveTo>
                  <a:pt x="967740" y="21335"/>
                </a:moveTo>
                <a:lnTo>
                  <a:pt x="21336" y="21335"/>
                </a:lnTo>
                <a:lnTo>
                  <a:pt x="21336" y="22732"/>
                </a:lnTo>
                <a:lnTo>
                  <a:pt x="13843" y="32003"/>
                </a:lnTo>
                <a:lnTo>
                  <a:pt x="0" y="66928"/>
                </a:lnTo>
                <a:lnTo>
                  <a:pt x="0" y="572896"/>
                </a:lnTo>
                <a:lnTo>
                  <a:pt x="1651" y="578993"/>
                </a:lnTo>
                <a:lnTo>
                  <a:pt x="3048" y="586740"/>
                </a:lnTo>
                <a:lnTo>
                  <a:pt x="6223" y="594232"/>
                </a:lnTo>
                <a:lnTo>
                  <a:pt x="12319" y="605027"/>
                </a:lnTo>
                <a:lnTo>
                  <a:pt x="13843" y="606424"/>
                </a:lnTo>
                <a:lnTo>
                  <a:pt x="21336" y="615696"/>
                </a:lnTo>
                <a:lnTo>
                  <a:pt x="21336" y="617093"/>
                </a:lnTo>
                <a:lnTo>
                  <a:pt x="967740" y="617093"/>
                </a:lnTo>
                <a:lnTo>
                  <a:pt x="967740" y="615696"/>
                </a:lnTo>
                <a:lnTo>
                  <a:pt x="970393" y="612521"/>
                </a:lnTo>
                <a:lnTo>
                  <a:pt x="68580" y="612521"/>
                </a:lnTo>
                <a:lnTo>
                  <a:pt x="64008" y="610996"/>
                </a:lnTo>
                <a:lnTo>
                  <a:pt x="59436" y="609599"/>
                </a:lnTo>
                <a:lnTo>
                  <a:pt x="54991" y="608076"/>
                </a:lnTo>
                <a:lnTo>
                  <a:pt x="48894" y="605027"/>
                </a:lnTo>
                <a:lnTo>
                  <a:pt x="47244" y="605027"/>
                </a:lnTo>
                <a:lnTo>
                  <a:pt x="39928" y="598932"/>
                </a:lnTo>
                <a:lnTo>
                  <a:pt x="39751" y="598932"/>
                </a:lnTo>
                <a:lnTo>
                  <a:pt x="38100" y="597407"/>
                </a:lnTo>
                <a:lnTo>
                  <a:pt x="38748" y="597407"/>
                </a:lnTo>
                <a:lnTo>
                  <a:pt x="35742" y="592835"/>
                </a:lnTo>
                <a:lnTo>
                  <a:pt x="33655" y="592835"/>
                </a:lnTo>
                <a:lnTo>
                  <a:pt x="29083" y="582168"/>
                </a:lnTo>
                <a:lnTo>
                  <a:pt x="27559" y="577596"/>
                </a:lnTo>
                <a:lnTo>
                  <a:pt x="25908" y="572896"/>
                </a:lnTo>
                <a:lnTo>
                  <a:pt x="25908" y="64007"/>
                </a:lnTo>
                <a:lnTo>
                  <a:pt x="27559" y="59435"/>
                </a:lnTo>
                <a:lnTo>
                  <a:pt x="29083" y="54863"/>
                </a:lnTo>
                <a:lnTo>
                  <a:pt x="33655" y="45592"/>
                </a:lnTo>
                <a:lnTo>
                  <a:pt x="35742" y="45592"/>
                </a:lnTo>
                <a:lnTo>
                  <a:pt x="38748" y="41020"/>
                </a:lnTo>
                <a:lnTo>
                  <a:pt x="38100" y="41020"/>
                </a:lnTo>
                <a:lnTo>
                  <a:pt x="39751" y="39496"/>
                </a:lnTo>
                <a:lnTo>
                  <a:pt x="39959" y="39496"/>
                </a:lnTo>
                <a:lnTo>
                  <a:pt x="47244" y="33527"/>
                </a:lnTo>
                <a:lnTo>
                  <a:pt x="48291" y="33527"/>
                </a:lnTo>
                <a:lnTo>
                  <a:pt x="56515" y="28828"/>
                </a:lnTo>
                <a:lnTo>
                  <a:pt x="59436" y="27431"/>
                </a:lnTo>
                <a:lnTo>
                  <a:pt x="64008" y="27431"/>
                </a:lnTo>
                <a:lnTo>
                  <a:pt x="70104" y="25907"/>
                </a:lnTo>
                <a:lnTo>
                  <a:pt x="970393" y="25907"/>
                </a:lnTo>
                <a:lnTo>
                  <a:pt x="967740" y="22732"/>
                </a:lnTo>
                <a:lnTo>
                  <a:pt x="967740" y="21335"/>
                </a:lnTo>
                <a:close/>
              </a:path>
              <a:path w="989329" h="638810">
                <a:moveTo>
                  <a:pt x="943483" y="603504"/>
                </a:moveTo>
                <a:lnTo>
                  <a:pt x="932815" y="609599"/>
                </a:lnTo>
                <a:lnTo>
                  <a:pt x="929640" y="610996"/>
                </a:lnTo>
                <a:lnTo>
                  <a:pt x="923544" y="610996"/>
                </a:lnTo>
                <a:lnTo>
                  <a:pt x="918972" y="612521"/>
                </a:lnTo>
                <a:lnTo>
                  <a:pt x="970393" y="612521"/>
                </a:lnTo>
                <a:lnTo>
                  <a:pt x="975487" y="606424"/>
                </a:lnTo>
                <a:lnTo>
                  <a:pt x="977011" y="605027"/>
                </a:lnTo>
                <a:lnTo>
                  <a:pt x="941959" y="605027"/>
                </a:lnTo>
                <a:lnTo>
                  <a:pt x="943483" y="603504"/>
                </a:lnTo>
                <a:close/>
              </a:path>
              <a:path w="989329" h="638810">
                <a:moveTo>
                  <a:pt x="45847" y="603504"/>
                </a:moveTo>
                <a:lnTo>
                  <a:pt x="47244" y="605027"/>
                </a:lnTo>
                <a:lnTo>
                  <a:pt x="48894" y="605027"/>
                </a:lnTo>
                <a:lnTo>
                  <a:pt x="45847" y="603504"/>
                </a:lnTo>
                <a:close/>
              </a:path>
              <a:path w="989329" h="638810">
                <a:moveTo>
                  <a:pt x="980741" y="597407"/>
                </a:moveTo>
                <a:lnTo>
                  <a:pt x="950976" y="597407"/>
                </a:lnTo>
                <a:lnTo>
                  <a:pt x="941959" y="605027"/>
                </a:lnTo>
                <a:lnTo>
                  <a:pt x="977011" y="605027"/>
                </a:lnTo>
                <a:lnTo>
                  <a:pt x="980741" y="597407"/>
                </a:lnTo>
                <a:close/>
              </a:path>
              <a:path w="989329" h="638810">
                <a:moveTo>
                  <a:pt x="38100" y="597407"/>
                </a:moveTo>
                <a:lnTo>
                  <a:pt x="39751" y="598932"/>
                </a:lnTo>
                <a:lnTo>
                  <a:pt x="39535" y="598604"/>
                </a:lnTo>
                <a:lnTo>
                  <a:pt x="38100" y="597407"/>
                </a:lnTo>
                <a:close/>
              </a:path>
              <a:path w="989329" h="638810">
                <a:moveTo>
                  <a:pt x="39535" y="598604"/>
                </a:moveTo>
                <a:lnTo>
                  <a:pt x="39751" y="598932"/>
                </a:lnTo>
                <a:lnTo>
                  <a:pt x="39928" y="598932"/>
                </a:lnTo>
                <a:lnTo>
                  <a:pt x="39535" y="598604"/>
                </a:lnTo>
                <a:close/>
              </a:path>
              <a:path w="989329" h="638810">
                <a:moveTo>
                  <a:pt x="955547" y="589660"/>
                </a:moveTo>
                <a:lnTo>
                  <a:pt x="948055" y="598932"/>
                </a:lnTo>
                <a:lnTo>
                  <a:pt x="950976" y="597407"/>
                </a:lnTo>
                <a:lnTo>
                  <a:pt x="980741" y="597407"/>
                </a:lnTo>
                <a:lnTo>
                  <a:pt x="982980" y="592835"/>
                </a:lnTo>
                <a:lnTo>
                  <a:pt x="954151" y="592835"/>
                </a:lnTo>
                <a:lnTo>
                  <a:pt x="955547" y="589660"/>
                </a:lnTo>
                <a:close/>
              </a:path>
              <a:path w="989329" h="638810">
                <a:moveTo>
                  <a:pt x="38748" y="597407"/>
                </a:moveTo>
                <a:lnTo>
                  <a:pt x="38100" y="597407"/>
                </a:lnTo>
                <a:lnTo>
                  <a:pt x="39535" y="598604"/>
                </a:lnTo>
                <a:lnTo>
                  <a:pt x="38748" y="597407"/>
                </a:lnTo>
                <a:close/>
              </a:path>
              <a:path w="989329" h="638810">
                <a:moveTo>
                  <a:pt x="33655" y="589660"/>
                </a:moveTo>
                <a:lnTo>
                  <a:pt x="33655" y="592835"/>
                </a:lnTo>
                <a:lnTo>
                  <a:pt x="35742" y="592835"/>
                </a:lnTo>
                <a:lnTo>
                  <a:pt x="33655" y="589660"/>
                </a:lnTo>
                <a:close/>
              </a:path>
              <a:path w="989329" h="638810">
                <a:moveTo>
                  <a:pt x="983571" y="45592"/>
                </a:moveTo>
                <a:lnTo>
                  <a:pt x="954151" y="45592"/>
                </a:lnTo>
                <a:lnTo>
                  <a:pt x="960247" y="56260"/>
                </a:lnTo>
                <a:lnTo>
                  <a:pt x="961644" y="60832"/>
                </a:lnTo>
                <a:lnTo>
                  <a:pt x="963168" y="65531"/>
                </a:lnTo>
                <a:lnTo>
                  <a:pt x="963168" y="574421"/>
                </a:lnTo>
                <a:lnTo>
                  <a:pt x="961644" y="578993"/>
                </a:lnTo>
                <a:lnTo>
                  <a:pt x="960247" y="583565"/>
                </a:lnTo>
                <a:lnTo>
                  <a:pt x="954151" y="592835"/>
                </a:lnTo>
                <a:lnTo>
                  <a:pt x="982980" y="592835"/>
                </a:lnTo>
                <a:lnTo>
                  <a:pt x="986155" y="585088"/>
                </a:lnTo>
                <a:lnTo>
                  <a:pt x="987679" y="578993"/>
                </a:lnTo>
                <a:lnTo>
                  <a:pt x="989076" y="571499"/>
                </a:lnTo>
                <a:lnTo>
                  <a:pt x="989076" y="65531"/>
                </a:lnTo>
                <a:lnTo>
                  <a:pt x="987679" y="59435"/>
                </a:lnTo>
                <a:lnTo>
                  <a:pt x="986155" y="51688"/>
                </a:lnTo>
                <a:lnTo>
                  <a:pt x="983571" y="45592"/>
                </a:lnTo>
                <a:close/>
              </a:path>
              <a:path w="989329" h="638810">
                <a:moveTo>
                  <a:pt x="35742" y="45592"/>
                </a:moveTo>
                <a:lnTo>
                  <a:pt x="33655" y="45592"/>
                </a:lnTo>
                <a:lnTo>
                  <a:pt x="33655" y="48767"/>
                </a:lnTo>
                <a:lnTo>
                  <a:pt x="35742" y="45592"/>
                </a:lnTo>
                <a:close/>
              </a:path>
              <a:path w="989329" h="638810">
                <a:moveTo>
                  <a:pt x="948055" y="39496"/>
                </a:moveTo>
                <a:lnTo>
                  <a:pt x="955547" y="48767"/>
                </a:lnTo>
                <a:lnTo>
                  <a:pt x="954151" y="45592"/>
                </a:lnTo>
                <a:lnTo>
                  <a:pt x="983571" y="45592"/>
                </a:lnTo>
                <a:lnTo>
                  <a:pt x="982980" y="44195"/>
                </a:lnTo>
                <a:lnTo>
                  <a:pt x="981203" y="41020"/>
                </a:lnTo>
                <a:lnTo>
                  <a:pt x="950976" y="41020"/>
                </a:lnTo>
                <a:lnTo>
                  <a:pt x="948055" y="39496"/>
                </a:lnTo>
                <a:close/>
              </a:path>
              <a:path w="989329" h="638810">
                <a:moveTo>
                  <a:pt x="39751" y="39496"/>
                </a:moveTo>
                <a:lnTo>
                  <a:pt x="38100" y="41020"/>
                </a:lnTo>
                <a:lnTo>
                  <a:pt x="39507" y="39867"/>
                </a:lnTo>
                <a:lnTo>
                  <a:pt x="39751" y="39496"/>
                </a:lnTo>
                <a:close/>
              </a:path>
              <a:path w="989329" h="638810">
                <a:moveTo>
                  <a:pt x="39507" y="39867"/>
                </a:moveTo>
                <a:lnTo>
                  <a:pt x="38100" y="41020"/>
                </a:lnTo>
                <a:lnTo>
                  <a:pt x="38748" y="41020"/>
                </a:lnTo>
                <a:lnTo>
                  <a:pt x="39507" y="39867"/>
                </a:lnTo>
                <a:close/>
              </a:path>
              <a:path w="989329" h="638810">
                <a:moveTo>
                  <a:pt x="977011" y="33527"/>
                </a:moveTo>
                <a:lnTo>
                  <a:pt x="941959" y="33527"/>
                </a:lnTo>
                <a:lnTo>
                  <a:pt x="950976" y="41020"/>
                </a:lnTo>
                <a:lnTo>
                  <a:pt x="981203" y="41020"/>
                </a:lnTo>
                <a:lnTo>
                  <a:pt x="977011" y="33527"/>
                </a:lnTo>
                <a:close/>
              </a:path>
              <a:path w="989329" h="638810">
                <a:moveTo>
                  <a:pt x="39959" y="39496"/>
                </a:moveTo>
                <a:lnTo>
                  <a:pt x="39751" y="39496"/>
                </a:lnTo>
                <a:lnTo>
                  <a:pt x="39507" y="39867"/>
                </a:lnTo>
                <a:lnTo>
                  <a:pt x="39959" y="39496"/>
                </a:lnTo>
                <a:close/>
              </a:path>
              <a:path w="989329" h="638810">
                <a:moveTo>
                  <a:pt x="48291" y="33527"/>
                </a:moveTo>
                <a:lnTo>
                  <a:pt x="47244" y="33527"/>
                </a:lnTo>
                <a:lnTo>
                  <a:pt x="45847" y="34924"/>
                </a:lnTo>
                <a:lnTo>
                  <a:pt x="48291" y="33527"/>
                </a:lnTo>
                <a:close/>
              </a:path>
              <a:path w="989329" h="638810">
                <a:moveTo>
                  <a:pt x="970393" y="25907"/>
                </a:moveTo>
                <a:lnTo>
                  <a:pt x="920622" y="25907"/>
                </a:lnTo>
                <a:lnTo>
                  <a:pt x="925068" y="27431"/>
                </a:lnTo>
                <a:lnTo>
                  <a:pt x="929640" y="28828"/>
                </a:lnTo>
                <a:lnTo>
                  <a:pt x="934212" y="30352"/>
                </a:lnTo>
                <a:lnTo>
                  <a:pt x="943483" y="34924"/>
                </a:lnTo>
                <a:lnTo>
                  <a:pt x="941959" y="33527"/>
                </a:lnTo>
                <a:lnTo>
                  <a:pt x="977011" y="33527"/>
                </a:lnTo>
                <a:lnTo>
                  <a:pt x="975487" y="32003"/>
                </a:lnTo>
                <a:lnTo>
                  <a:pt x="970393" y="25907"/>
                </a:lnTo>
                <a:close/>
              </a:path>
              <a:path w="989329" h="638810">
                <a:moveTo>
                  <a:pt x="957072" y="13588"/>
                </a:moveTo>
                <a:lnTo>
                  <a:pt x="32004" y="13588"/>
                </a:lnTo>
                <a:lnTo>
                  <a:pt x="22987" y="21335"/>
                </a:lnTo>
                <a:lnTo>
                  <a:pt x="966343" y="21335"/>
                </a:lnTo>
                <a:lnTo>
                  <a:pt x="957072" y="13588"/>
                </a:lnTo>
                <a:close/>
              </a:path>
              <a:path w="989329" h="638810">
                <a:moveTo>
                  <a:pt x="929640" y="1396"/>
                </a:moveTo>
                <a:lnTo>
                  <a:pt x="57912" y="1396"/>
                </a:lnTo>
                <a:lnTo>
                  <a:pt x="51943" y="4571"/>
                </a:lnTo>
                <a:lnTo>
                  <a:pt x="44323" y="7492"/>
                </a:lnTo>
                <a:lnTo>
                  <a:pt x="33655" y="12064"/>
                </a:lnTo>
                <a:lnTo>
                  <a:pt x="33655" y="13588"/>
                </a:lnTo>
                <a:lnTo>
                  <a:pt x="955547" y="13588"/>
                </a:lnTo>
                <a:lnTo>
                  <a:pt x="955547" y="12064"/>
                </a:lnTo>
                <a:lnTo>
                  <a:pt x="943483" y="6095"/>
                </a:lnTo>
                <a:lnTo>
                  <a:pt x="937387" y="2920"/>
                </a:lnTo>
                <a:lnTo>
                  <a:pt x="929640" y="1396"/>
                </a:lnTo>
                <a:close/>
              </a:path>
              <a:path w="989329" h="638810">
                <a:moveTo>
                  <a:pt x="916051" y="0"/>
                </a:moveTo>
                <a:lnTo>
                  <a:pt x="73279" y="0"/>
                </a:lnTo>
                <a:lnTo>
                  <a:pt x="65659" y="1396"/>
                </a:lnTo>
                <a:lnTo>
                  <a:pt x="922147" y="1396"/>
                </a:lnTo>
                <a:lnTo>
                  <a:pt x="91605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5" name="object 59"/>
          <p:cNvSpPr/>
          <p:nvPr/>
        </p:nvSpPr>
        <p:spPr>
          <a:xfrm>
            <a:off x="6590880" y="1560240"/>
            <a:ext cx="862920" cy="54684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6" name="object 60"/>
          <p:cNvSpPr/>
          <p:nvPr/>
        </p:nvSpPr>
        <p:spPr>
          <a:xfrm>
            <a:off x="6586560" y="155340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4713"/>
                </a:moveTo>
                <a:lnTo>
                  <a:pt x="33528" y="624713"/>
                </a:lnTo>
                <a:lnTo>
                  <a:pt x="45720" y="632460"/>
                </a:lnTo>
                <a:lnTo>
                  <a:pt x="53467" y="633857"/>
                </a:lnTo>
                <a:lnTo>
                  <a:pt x="59562" y="635381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31163" y="635381"/>
                </a:lnTo>
                <a:lnTo>
                  <a:pt x="938911" y="633857"/>
                </a:lnTo>
                <a:lnTo>
                  <a:pt x="945007" y="630809"/>
                </a:lnTo>
                <a:lnTo>
                  <a:pt x="955675" y="624713"/>
                </a:lnTo>
                <a:close/>
              </a:path>
              <a:path w="989329" h="637539">
                <a:moveTo>
                  <a:pt x="967866" y="615696"/>
                </a:moveTo>
                <a:lnTo>
                  <a:pt x="22860" y="615696"/>
                </a:lnTo>
                <a:lnTo>
                  <a:pt x="22860" y="617220"/>
                </a:lnTo>
                <a:lnTo>
                  <a:pt x="32131" y="624713"/>
                </a:lnTo>
                <a:lnTo>
                  <a:pt x="957199" y="624713"/>
                </a:lnTo>
                <a:lnTo>
                  <a:pt x="966343" y="617220"/>
                </a:lnTo>
                <a:lnTo>
                  <a:pt x="967866" y="615696"/>
                </a:lnTo>
                <a:close/>
              </a:path>
              <a:path w="989329" h="637539">
                <a:moveTo>
                  <a:pt x="48402" y="604718"/>
                </a:moveTo>
                <a:lnTo>
                  <a:pt x="48768" y="605028"/>
                </a:lnTo>
                <a:lnTo>
                  <a:pt x="13843" y="605028"/>
                </a:lnTo>
                <a:lnTo>
                  <a:pt x="13843" y="606425"/>
                </a:lnTo>
                <a:lnTo>
                  <a:pt x="21463" y="615696"/>
                </a:lnTo>
                <a:lnTo>
                  <a:pt x="969263" y="615696"/>
                </a:lnTo>
                <a:lnTo>
                  <a:pt x="971351" y="612521"/>
                </a:lnTo>
                <a:lnTo>
                  <a:pt x="68707" y="612521"/>
                </a:lnTo>
                <a:lnTo>
                  <a:pt x="64135" y="611124"/>
                </a:lnTo>
                <a:lnTo>
                  <a:pt x="59562" y="609600"/>
                </a:lnTo>
                <a:lnTo>
                  <a:pt x="54864" y="607949"/>
                </a:lnTo>
                <a:lnTo>
                  <a:pt x="48402" y="604718"/>
                </a:lnTo>
                <a:close/>
              </a:path>
              <a:path w="989329" h="637539">
                <a:moveTo>
                  <a:pt x="943356" y="603377"/>
                </a:moveTo>
                <a:lnTo>
                  <a:pt x="932688" y="609600"/>
                </a:lnTo>
                <a:lnTo>
                  <a:pt x="929766" y="609600"/>
                </a:lnTo>
                <a:lnTo>
                  <a:pt x="925068" y="611124"/>
                </a:lnTo>
                <a:lnTo>
                  <a:pt x="920496" y="612521"/>
                </a:lnTo>
                <a:lnTo>
                  <a:pt x="971351" y="612521"/>
                </a:lnTo>
                <a:lnTo>
                  <a:pt x="975360" y="606425"/>
                </a:lnTo>
                <a:lnTo>
                  <a:pt x="977011" y="605028"/>
                </a:lnTo>
                <a:lnTo>
                  <a:pt x="941832" y="605028"/>
                </a:lnTo>
                <a:lnTo>
                  <a:pt x="943356" y="603377"/>
                </a:lnTo>
                <a:close/>
              </a:path>
              <a:path w="989329" h="637539">
                <a:moveTo>
                  <a:pt x="922019" y="0"/>
                </a:moveTo>
                <a:lnTo>
                  <a:pt x="65532" y="0"/>
                </a:lnTo>
                <a:lnTo>
                  <a:pt x="58039" y="1524"/>
                </a:lnTo>
                <a:lnTo>
                  <a:pt x="51943" y="2921"/>
                </a:lnTo>
                <a:lnTo>
                  <a:pt x="44196" y="6096"/>
                </a:lnTo>
                <a:lnTo>
                  <a:pt x="33528" y="12192"/>
                </a:lnTo>
                <a:lnTo>
                  <a:pt x="32131" y="13589"/>
                </a:lnTo>
                <a:lnTo>
                  <a:pt x="22860" y="21209"/>
                </a:lnTo>
                <a:lnTo>
                  <a:pt x="13843" y="31877"/>
                </a:lnTo>
                <a:lnTo>
                  <a:pt x="12192" y="33528"/>
                </a:lnTo>
                <a:lnTo>
                  <a:pt x="6096" y="45720"/>
                </a:lnTo>
                <a:lnTo>
                  <a:pt x="3175" y="53213"/>
                </a:lnTo>
                <a:lnTo>
                  <a:pt x="1524" y="59309"/>
                </a:lnTo>
                <a:lnTo>
                  <a:pt x="0" y="67056"/>
                </a:lnTo>
                <a:lnTo>
                  <a:pt x="0" y="571500"/>
                </a:lnTo>
                <a:lnTo>
                  <a:pt x="1524" y="579120"/>
                </a:lnTo>
                <a:lnTo>
                  <a:pt x="4699" y="586613"/>
                </a:lnTo>
                <a:lnTo>
                  <a:pt x="6096" y="592709"/>
                </a:lnTo>
                <a:lnTo>
                  <a:pt x="12192" y="603377"/>
                </a:lnTo>
                <a:lnTo>
                  <a:pt x="12192" y="605028"/>
                </a:lnTo>
                <a:lnTo>
                  <a:pt x="48768" y="605028"/>
                </a:lnTo>
                <a:lnTo>
                  <a:pt x="45720" y="603377"/>
                </a:lnTo>
                <a:lnTo>
                  <a:pt x="46819" y="603377"/>
                </a:lnTo>
                <a:lnTo>
                  <a:pt x="41572" y="598932"/>
                </a:lnTo>
                <a:lnTo>
                  <a:pt x="41275" y="598932"/>
                </a:lnTo>
                <a:lnTo>
                  <a:pt x="39624" y="597281"/>
                </a:lnTo>
                <a:lnTo>
                  <a:pt x="39876" y="597281"/>
                </a:lnTo>
                <a:lnTo>
                  <a:pt x="33528" y="589788"/>
                </a:lnTo>
                <a:lnTo>
                  <a:pt x="34214" y="589788"/>
                </a:lnTo>
                <a:lnTo>
                  <a:pt x="28956" y="582168"/>
                </a:lnTo>
                <a:lnTo>
                  <a:pt x="27432" y="577596"/>
                </a:lnTo>
                <a:lnTo>
                  <a:pt x="26034" y="573024"/>
                </a:lnTo>
                <a:lnTo>
                  <a:pt x="26034" y="68453"/>
                </a:lnTo>
                <a:lnTo>
                  <a:pt x="27432" y="63881"/>
                </a:lnTo>
                <a:lnTo>
                  <a:pt x="27432" y="59309"/>
                </a:lnTo>
                <a:lnTo>
                  <a:pt x="30607" y="54864"/>
                </a:lnTo>
                <a:lnTo>
                  <a:pt x="34480" y="47117"/>
                </a:lnTo>
                <a:lnTo>
                  <a:pt x="33528" y="47117"/>
                </a:lnTo>
                <a:lnTo>
                  <a:pt x="41275" y="38100"/>
                </a:lnTo>
                <a:lnTo>
                  <a:pt x="43188" y="38100"/>
                </a:lnTo>
                <a:lnTo>
                  <a:pt x="47063" y="34925"/>
                </a:lnTo>
                <a:lnTo>
                  <a:pt x="45720" y="34925"/>
                </a:lnTo>
                <a:lnTo>
                  <a:pt x="56388" y="28956"/>
                </a:lnTo>
                <a:lnTo>
                  <a:pt x="60960" y="27432"/>
                </a:lnTo>
                <a:lnTo>
                  <a:pt x="65532" y="25781"/>
                </a:lnTo>
                <a:lnTo>
                  <a:pt x="971238" y="25781"/>
                </a:lnTo>
                <a:lnTo>
                  <a:pt x="969263" y="22860"/>
                </a:lnTo>
                <a:lnTo>
                  <a:pt x="967866" y="22860"/>
                </a:lnTo>
                <a:lnTo>
                  <a:pt x="967866" y="21209"/>
                </a:lnTo>
                <a:lnTo>
                  <a:pt x="966343" y="21209"/>
                </a:lnTo>
                <a:lnTo>
                  <a:pt x="957199" y="13589"/>
                </a:lnTo>
                <a:lnTo>
                  <a:pt x="957199" y="12192"/>
                </a:lnTo>
                <a:lnTo>
                  <a:pt x="955675" y="12192"/>
                </a:lnTo>
                <a:lnTo>
                  <a:pt x="943356" y="6096"/>
                </a:lnTo>
                <a:lnTo>
                  <a:pt x="937260" y="2921"/>
                </a:lnTo>
                <a:lnTo>
                  <a:pt x="929766" y="1524"/>
                </a:lnTo>
                <a:lnTo>
                  <a:pt x="922019" y="0"/>
                </a:lnTo>
                <a:close/>
              </a:path>
              <a:path w="989329" h="637539">
                <a:moveTo>
                  <a:pt x="45720" y="603377"/>
                </a:moveTo>
                <a:lnTo>
                  <a:pt x="48768" y="605028"/>
                </a:lnTo>
                <a:lnTo>
                  <a:pt x="48402" y="604718"/>
                </a:lnTo>
                <a:lnTo>
                  <a:pt x="45720" y="603377"/>
                </a:lnTo>
                <a:close/>
              </a:path>
              <a:path w="989329" h="637539">
                <a:moveTo>
                  <a:pt x="950615" y="597688"/>
                </a:moveTo>
                <a:lnTo>
                  <a:pt x="941832" y="605028"/>
                </a:lnTo>
                <a:lnTo>
                  <a:pt x="977011" y="605028"/>
                </a:lnTo>
                <a:lnTo>
                  <a:pt x="977011" y="603377"/>
                </a:lnTo>
                <a:lnTo>
                  <a:pt x="979789" y="598932"/>
                </a:lnTo>
                <a:lnTo>
                  <a:pt x="949579" y="598932"/>
                </a:lnTo>
                <a:lnTo>
                  <a:pt x="950615" y="597688"/>
                </a:lnTo>
                <a:close/>
              </a:path>
              <a:path w="989329" h="637539">
                <a:moveTo>
                  <a:pt x="46819" y="603377"/>
                </a:moveTo>
                <a:lnTo>
                  <a:pt x="45720" y="603377"/>
                </a:lnTo>
                <a:lnTo>
                  <a:pt x="48402" y="604718"/>
                </a:lnTo>
                <a:lnTo>
                  <a:pt x="46819" y="603377"/>
                </a:lnTo>
                <a:close/>
              </a:path>
              <a:path w="989329" h="637539">
                <a:moveTo>
                  <a:pt x="39624" y="597281"/>
                </a:moveTo>
                <a:lnTo>
                  <a:pt x="41275" y="598932"/>
                </a:lnTo>
                <a:lnTo>
                  <a:pt x="40517" y="598038"/>
                </a:lnTo>
                <a:lnTo>
                  <a:pt x="39624" y="597281"/>
                </a:lnTo>
                <a:close/>
              </a:path>
              <a:path w="989329" h="637539">
                <a:moveTo>
                  <a:pt x="40517" y="598038"/>
                </a:moveTo>
                <a:lnTo>
                  <a:pt x="41275" y="598932"/>
                </a:lnTo>
                <a:lnTo>
                  <a:pt x="41572" y="598932"/>
                </a:lnTo>
                <a:lnTo>
                  <a:pt x="40517" y="598038"/>
                </a:lnTo>
                <a:close/>
              </a:path>
              <a:path w="989329" h="637539">
                <a:moveTo>
                  <a:pt x="951103" y="597281"/>
                </a:moveTo>
                <a:lnTo>
                  <a:pt x="950615" y="597688"/>
                </a:lnTo>
                <a:lnTo>
                  <a:pt x="949579" y="598932"/>
                </a:lnTo>
                <a:lnTo>
                  <a:pt x="951103" y="597281"/>
                </a:lnTo>
                <a:close/>
              </a:path>
              <a:path w="989329" h="637539">
                <a:moveTo>
                  <a:pt x="980821" y="597281"/>
                </a:moveTo>
                <a:lnTo>
                  <a:pt x="951103" y="597281"/>
                </a:lnTo>
                <a:lnTo>
                  <a:pt x="949579" y="598932"/>
                </a:lnTo>
                <a:lnTo>
                  <a:pt x="979789" y="598932"/>
                </a:lnTo>
                <a:lnTo>
                  <a:pt x="980821" y="597281"/>
                </a:lnTo>
                <a:close/>
              </a:path>
              <a:path w="989329" h="637539">
                <a:moveTo>
                  <a:pt x="39876" y="597281"/>
                </a:moveTo>
                <a:lnTo>
                  <a:pt x="39624" y="597281"/>
                </a:lnTo>
                <a:lnTo>
                  <a:pt x="40517" y="598038"/>
                </a:lnTo>
                <a:lnTo>
                  <a:pt x="39876" y="597281"/>
                </a:lnTo>
                <a:close/>
              </a:path>
              <a:path w="989329" h="637539">
                <a:moveTo>
                  <a:pt x="984951" y="589788"/>
                </a:moveTo>
                <a:lnTo>
                  <a:pt x="957199" y="589788"/>
                </a:lnTo>
                <a:lnTo>
                  <a:pt x="950615" y="597688"/>
                </a:lnTo>
                <a:lnTo>
                  <a:pt x="951103" y="597281"/>
                </a:lnTo>
                <a:lnTo>
                  <a:pt x="980821" y="597281"/>
                </a:lnTo>
                <a:lnTo>
                  <a:pt x="984631" y="591185"/>
                </a:lnTo>
                <a:lnTo>
                  <a:pt x="984951" y="589788"/>
                </a:lnTo>
                <a:close/>
              </a:path>
              <a:path w="989329" h="637539">
                <a:moveTo>
                  <a:pt x="34214" y="589788"/>
                </a:moveTo>
                <a:lnTo>
                  <a:pt x="33528" y="589788"/>
                </a:lnTo>
                <a:lnTo>
                  <a:pt x="35179" y="591185"/>
                </a:lnTo>
                <a:lnTo>
                  <a:pt x="34214" y="589788"/>
                </a:lnTo>
                <a:close/>
              </a:path>
              <a:path w="989329" h="637539">
                <a:moveTo>
                  <a:pt x="955675" y="45720"/>
                </a:moveTo>
                <a:lnTo>
                  <a:pt x="960119" y="56388"/>
                </a:lnTo>
                <a:lnTo>
                  <a:pt x="961771" y="60960"/>
                </a:lnTo>
                <a:lnTo>
                  <a:pt x="963168" y="65532"/>
                </a:lnTo>
                <a:lnTo>
                  <a:pt x="963168" y="69977"/>
                </a:lnTo>
                <a:lnTo>
                  <a:pt x="964691" y="74549"/>
                </a:lnTo>
                <a:lnTo>
                  <a:pt x="964691" y="563753"/>
                </a:lnTo>
                <a:lnTo>
                  <a:pt x="963168" y="569849"/>
                </a:lnTo>
                <a:lnTo>
                  <a:pt x="963168" y="574421"/>
                </a:lnTo>
                <a:lnTo>
                  <a:pt x="961771" y="579120"/>
                </a:lnTo>
                <a:lnTo>
                  <a:pt x="960119" y="583692"/>
                </a:lnTo>
                <a:lnTo>
                  <a:pt x="955675" y="591185"/>
                </a:lnTo>
                <a:lnTo>
                  <a:pt x="957199" y="589788"/>
                </a:lnTo>
                <a:lnTo>
                  <a:pt x="984951" y="589788"/>
                </a:lnTo>
                <a:lnTo>
                  <a:pt x="986028" y="585089"/>
                </a:lnTo>
                <a:lnTo>
                  <a:pt x="987679" y="577596"/>
                </a:lnTo>
                <a:lnTo>
                  <a:pt x="989203" y="569849"/>
                </a:lnTo>
                <a:lnTo>
                  <a:pt x="989203" y="65532"/>
                </a:lnTo>
                <a:lnTo>
                  <a:pt x="987679" y="57785"/>
                </a:lnTo>
                <a:lnTo>
                  <a:pt x="986028" y="51689"/>
                </a:lnTo>
                <a:lnTo>
                  <a:pt x="984245" y="47117"/>
                </a:lnTo>
                <a:lnTo>
                  <a:pt x="957199" y="47117"/>
                </a:lnTo>
                <a:lnTo>
                  <a:pt x="955675" y="45720"/>
                </a:lnTo>
                <a:close/>
              </a:path>
              <a:path w="989329" h="637539">
                <a:moveTo>
                  <a:pt x="35179" y="45720"/>
                </a:moveTo>
                <a:lnTo>
                  <a:pt x="33528" y="47117"/>
                </a:lnTo>
                <a:lnTo>
                  <a:pt x="34480" y="47117"/>
                </a:lnTo>
                <a:lnTo>
                  <a:pt x="35179" y="45720"/>
                </a:lnTo>
                <a:close/>
              </a:path>
              <a:path w="989329" h="637539">
                <a:moveTo>
                  <a:pt x="979623" y="38100"/>
                </a:moveTo>
                <a:lnTo>
                  <a:pt x="949579" y="38100"/>
                </a:lnTo>
                <a:lnTo>
                  <a:pt x="957199" y="47117"/>
                </a:lnTo>
                <a:lnTo>
                  <a:pt x="984245" y="47117"/>
                </a:lnTo>
                <a:lnTo>
                  <a:pt x="983107" y="44196"/>
                </a:lnTo>
                <a:lnTo>
                  <a:pt x="979623" y="38100"/>
                </a:lnTo>
                <a:close/>
              </a:path>
              <a:path w="989329" h="637539">
                <a:moveTo>
                  <a:pt x="43188" y="38100"/>
                </a:moveTo>
                <a:lnTo>
                  <a:pt x="41275" y="38100"/>
                </a:lnTo>
                <a:lnTo>
                  <a:pt x="39624" y="41021"/>
                </a:lnTo>
                <a:lnTo>
                  <a:pt x="43188" y="38100"/>
                </a:lnTo>
                <a:close/>
              </a:path>
              <a:path w="989329" h="637539">
                <a:moveTo>
                  <a:pt x="977011" y="33528"/>
                </a:moveTo>
                <a:lnTo>
                  <a:pt x="941832" y="33528"/>
                </a:lnTo>
                <a:lnTo>
                  <a:pt x="951103" y="41021"/>
                </a:lnTo>
                <a:lnTo>
                  <a:pt x="949579" y="38100"/>
                </a:lnTo>
                <a:lnTo>
                  <a:pt x="979623" y="38100"/>
                </a:lnTo>
                <a:lnTo>
                  <a:pt x="977011" y="33528"/>
                </a:lnTo>
                <a:close/>
              </a:path>
              <a:path w="989329" h="637539">
                <a:moveTo>
                  <a:pt x="48768" y="33528"/>
                </a:moveTo>
                <a:lnTo>
                  <a:pt x="45720" y="34925"/>
                </a:lnTo>
                <a:lnTo>
                  <a:pt x="47063" y="34925"/>
                </a:lnTo>
                <a:lnTo>
                  <a:pt x="48768" y="33528"/>
                </a:lnTo>
                <a:close/>
              </a:path>
              <a:path w="989329" h="637539">
                <a:moveTo>
                  <a:pt x="971238" y="25781"/>
                </a:moveTo>
                <a:lnTo>
                  <a:pt x="926591" y="25781"/>
                </a:lnTo>
                <a:lnTo>
                  <a:pt x="931163" y="27432"/>
                </a:lnTo>
                <a:lnTo>
                  <a:pt x="934338" y="28956"/>
                </a:lnTo>
                <a:lnTo>
                  <a:pt x="943356" y="34925"/>
                </a:lnTo>
                <a:lnTo>
                  <a:pt x="941832" y="33528"/>
                </a:lnTo>
                <a:lnTo>
                  <a:pt x="977011" y="33528"/>
                </a:lnTo>
                <a:lnTo>
                  <a:pt x="977011" y="31877"/>
                </a:lnTo>
                <a:lnTo>
                  <a:pt x="975360" y="31877"/>
                </a:lnTo>
                <a:lnTo>
                  <a:pt x="971238" y="25781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7" name="object 61"/>
          <p:cNvSpPr/>
          <p:nvPr/>
        </p:nvSpPr>
        <p:spPr>
          <a:xfrm>
            <a:off x="6946560" y="1733040"/>
            <a:ext cx="15444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62"/>
          <p:cNvSpPr/>
          <p:nvPr/>
        </p:nvSpPr>
        <p:spPr>
          <a:xfrm>
            <a:off x="6503400" y="2261880"/>
            <a:ext cx="851400" cy="540360"/>
          </a:xfrm>
          <a:custGeom>
            <a:avLst/>
            <a:gdLst>
              <a:gd name="textAreaLeft" fmla="*/ 0 w 851400"/>
              <a:gd name="textAreaRight" fmla="*/ 851760 w 851400"/>
              <a:gd name="textAreaTop" fmla="*/ 0 h 540360"/>
              <a:gd name="textAreaBottom" fmla="*/ 540720 h 540360"/>
            </a:gdLst>
            <a:ahLst/>
            <a:rect l="textAreaLeft" t="textAreaTop" r="textAreaRight" b="textAreaBottom"/>
            <a:pathLst>
              <a:path w="965200" h="612775">
                <a:moveTo>
                  <a:pt x="902081" y="0"/>
                </a:moveTo>
                <a:lnTo>
                  <a:pt x="60960" y="0"/>
                </a:lnTo>
                <a:lnTo>
                  <a:pt x="37290" y="4810"/>
                </a:lnTo>
                <a:lnTo>
                  <a:pt x="17906" y="17907"/>
                </a:lnTo>
                <a:lnTo>
                  <a:pt x="4810" y="37290"/>
                </a:lnTo>
                <a:lnTo>
                  <a:pt x="0" y="60960"/>
                </a:lnTo>
                <a:lnTo>
                  <a:pt x="0" y="551688"/>
                </a:lnTo>
                <a:lnTo>
                  <a:pt x="4810" y="575431"/>
                </a:lnTo>
                <a:lnTo>
                  <a:pt x="17907" y="594852"/>
                </a:lnTo>
                <a:lnTo>
                  <a:pt x="37290" y="607962"/>
                </a:lnTo>
                <a:lnTo>
                  <a:pt x="60960" y="612775"/>
                </a:lnTo>
                <a:lnTo>
                  <a:pt x="902081" y="612775"/>
                </a:lnTo>
                <a:lnTo>
                  <a:pt x="926705" y="607962"/>
                </a:lnTo>
                <a:lnTo>
                  <a:pt x="946578" y="594852"/>
                </a:lnTo>
                <a:lnTo>
                  <a:pt x="959856" y="575431"/>
                </a:lnTo>
                <a:lnTo>
                  <a:pt x="964691" y="551688"/>
                </a:lnTo>
                <a:lnTo>
                  <a:pt x="964691" y="60960"/>
                </a:lnTo>
                <a:lnTo>
                  <a:pt x="959856" y="37290"/>
                </a:lnTo>
                <a:lnTo>
                  <a:pt x="946578" y="17907"/>
                </a:lnTo>
                <a:lnTo>
                  <a:pt x="926705" y="4810"/>
                </a:lnTo>
                <a:lnTo>
                  <a:pt x="902081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9" name="object 63"/>
          <p:cNvSpPr/>
          <p:nvPr/>
        </p:nvSpPr>
        <p:spPr>
          <a:xfrm>
            <a:off x="6492600" y="225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547" y="624840"/>
                </a:moveTo>
                <a:lnTo>
                  <a:pt x="33655" y="624840"/>
                </a:lnTo>
                <a:lnTo>
                  <a:pt x="45847" y="630936"/>
                </a:lnTo>
                <a:lnTo>
                  <a:pt x="51943" y="633857"/>
                </a:lnTo>
                <a:lnTo>
                  <a:pt x="59436" y="635508"/>
                </a:lnTo>
                <a:lnTo>
                  <a:pt x="67183" y="637032"/>
                </a:lnTo>
                <a:lnTo>
                  <a:pt x="923544" y="637032"/>
                </a:lnTo>
                <a:lnTo>
                  <a:pt x="931291" y="635508"/>
                </a:lnTo>
                <a:lnTo>
                  <a:pt x="937387" y="633857"/>
                </a:lnTo>
                <a:lnTo>
                  <a:pt x="944880" y="630936"/>
                </a:lnTo>
                <a:lnTo>
                  <a:pt x="955547" y="624840"/>
                </a:lnTo>
                <a:close/>
              </a:path>
              <a:path w="989329" h="637539">
                <a:moveTo>
                  <a:pt x="966343" y="615569"/>
                </a:moveTo>
                <a:lnTo>
                  <a:pt x="22987" y="615569"/>
                </a:lnTo>
                <a:lnTo>
                  <a:pt x="32004" y="623189"/>
                </a:lnTo>
                <a:lnTo>
                  <a:pt x="32004" y="624840"/>
                </a:lnTo>
                <a:lnTo>
                  <a:pt x="957072" y="624840"/>
                </a:lnTo>
                <a:lnTo>
                  <a:pt x="957072" y="623189"/>
                </a:lnTo>
                <a:lnTo>
                  <a:pt x="966343" y="615569"/>
                </a:lnTo>
                <a:close/>
              </a:path>
              <a:path w="989329" h="637539">
                <a:moveTo>
                  <a:pt x="47244" y="32004"/>
                </a:moveTo>
                <a:lnTo>
                  <a:pt x="12319" y="32004"/>
                </a:lnTo>
                <a:lnTo>
                  <a:pt x="12319" y="33401"/>
                </a:lnTo>
                <a:lnTo>
                  <a:pt x="6223" y="45593"/>
                </a:lnTo>
                <a:lnTo>
                  <a:pt x="3048" y="51689"/>
                </a:lnTo>
                <a:lnTo>
                  <a:pt x="1651" y="59436"/>
                </a:lnTo>
                <a:lnTo>
                  <a:pt x="0" y="66929"/>
                </a:lnTo>
                <a:lnTo>
                  <a:pt x="0" y="571500"/>
                </a:lnTo>
                <a:lnTo>
                  <a:pt x="1651" y="578993"/>
                </a:lnTo>
                <a:lnTo>
                  <a:pt x="3048" y="585089"/>
                </a:lnTo>
                <a:lnTo>
                  <a:pt x="6223" y="592836"/>
                </a:lnTo>
                <a:lnTo>
                  <a:pt x="12319" y="603504"/>
                </a:lnTo>
                <a:lnTo>
                  <a:pt x="12319" y="604901"/>
                </a:lnTo>
                <a:lnTo>
                  <a:pt x="13843" y="604901"/>
                </a:lnTo>
                <a:lnTo>
                  <a:pt x="21336" y="614172"/>
                </a:lnTo>
                <a:lnTo>
                  <a:pt x="21336" y="615569"/>
                </a:lnTo>
                <a:lnTo>
                  <a:pt x="967740" y="615569"/>
                </a:lnTo>
                <a:lnTo>
                  <a:pt x="967740" y="614172"/>
                </a:lnTo>
                <a:lnTo>
                  <a:pt x="970393" y="610997"/>
                </a:lnTo>
                <a:lnTo>
                  <a:pt x="64008" y="610997"/>
                </a:lnTo>
                <a:lnTo>
                  <a:pt x="59436" y="609600"/>
                </a:lnTo>
                <a:lnTo>
                  <a:pt x="54991" y="608076"/>
                </a:lnTo>
                <a:lnTo>
                  <a:pt x="45847" y="603504"/>
                </a:lnTo>
                <a:lnTo>
                  <a:pt x="47244" y="603504"/>
                </a:lnTo>
                <a:lnTo>
                  <a:pt x="41847" y="598932"/>
                </a:lnTo>
                <a:lnTo>
                  <a:pt x="39751" y="598932"/>
                </a:lnTo>
                <a:lnTo>
                  <a:pt x="34740" y="591312"/>
                </a:lnTo>
                <a:lnTo>
                  <a:pt x="33655" y="591312"/>
                </a:lnTo>
                <a:lnTo>
                  <a:pt x="29083" y="580644"/>
                </a:lnTo>
                <a:lnTo>
                  <a:pt x="27559" y="577469"/>
                </a:lnTo>
                <a:lnTo>
                  <a:pt x="25908" y="572897"/>
                </a:lnTo>
                <a:lnTo>
                  <a:pt x="25908" y="64008"/>
                </a:lnTo>
                <a:lnTo>
                  <a:pt x="27559" y="59436"/>
                </a:lnTo>
                <a:lnTo>
                  <a:pt x="29083" y="54864"/>
                </a:lnTo>
                <a:lnTo>
                  <a:pt x="33655" y="45593"/>
                </a:lnTo>
                <a:lnTo>
                  <a:pt x="34755" y="45593"/>
                </a:lnTo>
                <a:lnTo>
                  <a:pt x="38819" y="39497"/>
                </a:lnTo>
                <a:lnTo>
                  <a:pt x="38100" y="39497"/>
                </a:lnTo>
                <a:lnTo>
                  <a:pt x="39751" y="38100"/>
                </a:lnTo>
                <a:lnTo>
                  <a:pt x="47244" y="32004"/>
                </a:lnTo>
                <a:close/>
              </a:path>
              <a:path w="989329" h="637539">
                <a:moveTo>
                  <a:pt x="979995" y="597408"/>
                </a:moveTo>
                <a:lnTo>
                  <a:pt x="950976" y="597408"/>
                </a:lnTo>
                <a:lnTo>
                  <a:pt x="941959" y="603504"/>
                </a:lnTo>
                <a:lnTo>
                  <a:pt x="943483" y="603504"/>
                </a:lnTo>
                <a:lnTo>
                  <a:pt x="932815" y="608076"/>
                </a:lnTo>
                <a:lnTo>
                  <a:pt x="929640" y="609600"/>
                </a:lnTo>
                <a:lnTo>
                  <a:pt x="923544" y="610997"/>
                </a:lnTo>
                <a:lnTo>
                  <a:pt x="970393" y="610997"/>
                </a:lnTo>
                <a:lnTo>
                  <a:pt x="975487" y="604901"/>
                </a:lnTo>
                <a:lnTo>
                  <a:pt x="977011" y="604901"/>
                </a:lnTo>
                <a:lnTo>
                  <a:pt x="977011" y="603504"/>
                </a:lnTo>
                <a:lnTo>
                  <a:pt x="979995" y="597408"/>
                </a:lnTo>
                <a:close/>
              </a:path>
              <a:path w="989329" h="637539">
                <a:moveTo>
                  <a:pt x="38100" y="595757"/>
                </a:moveTo>
                <a:lnTo>
                  <a:pt x="39751" y="598932"/>
                </a:lnTo>
                <a:lnTo>
                  <a:pt x="41847" y="598932"/>
                </a:lnTo>
                <a:lnTo>
                  <a:pt x="38100" y="595757"/>
                </a:lnTo>
                <a:close/>
              </a:path>
              <a:path w="989329" h="637539">
                <a:moveTo>
                  <a:pt x="983822" y="589661"/>
                </a:moveTo>
                <a:lnTo>
                  <a:pt x="955547" y="589661"/>
                </a:lnTo>
                <a:lnTo>
                  <a:pt x="948055" y="598932"/>
                </a:lnTo>
                <a:lnTo>
                  <a:pt x="950976" y="597408"/>
                </a:lnTo>
                <a:lnTo>
                  <a:pt x="979995" y="597408"/>
                </a:lnTo>
                <a:lnTo>
                  <a:pt x="982980" y="591312"/>
                </a:lnTo>
                <a:lnTo>
                  <a:pt x="983822" y="589661"/>
                </a:lnTo>
                <a:close/>
              </a:path>
              <a:path w="989329" h="637539">
                <a:moveTo>
                  <a:pt x="33655" y="589661"/>
                </a:moveTo>
                <a:lnTo>
                  <a:pt x="33655" y="591312"/>
                </a:lnTo>
                <a:lnTo>
                  <a:pt x="34740" y="591312"/>
                </a:lnTo>
                <a:lnTo>
                  <a:pt x="33655" y="589661"/>
                </a:lnTo>
                <a:close/>
              </a:path>
              <a:path w="989329" h="637539">
                <a:moveTo>
                  <a:pt x="954151" y="45593"/>
                </a:moveTo>
                <a:lnTo>
                  <a:pt x="960247" y="56261"/>
                </a:lnTo>
                <a:lnTo>
                  <a:pt x="961644" y="59436"/>
                </a:lnTo>
                <a:lnTo>
                  <a:pt x="963168" y="64007"/>
                </a:lnTo>
                <a:lnTo>
                  <a:pt x="963168" y="572897"/>
                </a:lnTo>
                <a:lnTo>
                  <a:pt x="961644" y="577469"/>
                </a:lnTo>
                <a:lnTo>
                  <a:pt x="960247" y="582168"/>
                </a:lnTo>
                <a:lnTo>
                  <a:pt x="954151" y="591312"/>
                </a:lnTo>
                <a:lnTo>
                  <a:pt x="955547" y="589661"/>
                </a:lnTo>
                <a:lnTo>
                  <a:pt x="983822" y="589661"/>
                </a:lnTo>
                <a:lnTo>
                  <a:pt x="986155" y="585089"/>
                </a:lnTo>
                <a:lnTo>
                  <a:pt x="987679" y="577469"/>
                </a:lnTo>
                <a:lnTo>
                  <a:pt x="989076" y="569976"/>
                </a:lnTo>
                <a:lnTo>
                  <a:pt x="989076" y="65532"/>
                </a:lnTo>
                <a:lnTo>
                  <a:pt x="987679" y="57912"/>
                </a:lnTo>
                <a:lnTo>
                  <a:pt x="986155" y="50165"/>
                </a:lnTo>
                <a:lnTo>
                  <a:pt x="984633" y="47244"/>
                </a:lnTo>
                <a:lnTo>
                  <a:pt x="955547" y="47244"/>
                </a:lnTo>
                <a:lnTo>
                  <a:pt x="954151" y="45593"/>
                </a:lnTo>
                <a:close/>
              </a:path>
              <a:path w="989329" h="637539">
                <a:moveTo>
                  <a:pt x="34755" y="45593"/>
                </a:moveTo>
                <a:lnTo>
                  <a:pt x="33655" y="45593"/>
                </a:lnTo>
                <a:lnTo>
                  <a:pt x="33655" y="47244"/>
                </a:lnTo>
                <a:lnTo>
                  <a:pt x="34755" y="45593"/>
                </a:lnTo>
                <a:close/>
              </a:path>
              <a:path w="989329" h="637539">
                <a:moveTo>
                  <a:pt x="948055" y="38100"/>
                </a:moveTo>
                <a:lnTo>
                  <a:pt x="955547" y="47244"/>
                </a:lnTo>
                <a:lnTo>
                  <a:pt x="984633" y="47244"/>
                </a:lnTo>
                <a:lnTo>
                  <a:pt x="982980" y="44069"/>
                </a:lnTo>
                <a:lnTo>
                  <a:pt x="980421" y="39497"/>
                </a:lnTo>
                <a:lnTo>
                  <a:pt x="950976" y="39497"/>
                </a:lnTo>
                <a:lnTo>
                  <a:pt x="948055" y="38100"/>
                </a:lnTo>
                <a:close/>
              </a:path>
              <a:path w="989329" h="637539">
                <a:moveTo>
                  <a:pt x="39751" y="38100"/>
                </a:moveTo>
                <a:lnTo>
                  <a:pt x="38100" y="39497"/>
                </a:lnTo>
                <a:lnTo>
                  <a:pt x="39686" y="38197"/>
                </a:lnTo>
                <a:close/>
              </a:path>
              <a:path w="989329" h="637539">
                <a:moveTo>
                  <a:pt x="39686" y="38197"/>
                </a:moveTo>
                <a:lnTo>
                  <a:pt x="38100" y="39497"/>
                </a:lnTo>
                <a:lnTo>
                  <a:pt x="38819" y="39497"/>
                </a:lnTo>
                <a:lnTo>
                  <a:pt x="39686" y="38197"/>
                </a:lnTo>
                <a:close/>
              </a:path>
              <a:path w="989329" h="637539">
                <a:moveTo>
                  <a:pt x="977011" y="32004"/>
                </a:moveTo>
                <a:lnTo>
                  <a:pt x="941959" y="32004"/>
                </a:lnTo>
                <a:lnTo>
                  <a:pt x="950976" y="39497"/>
                </a:lnTo>
                <a:lnTo>
                  <a:pt x="980421" y="39497"/>
                </a:lnTo>
                <a:lnTo>
                  <a:pt x="977011" y="33401"/>
                </a:lnTo>
                <a:lnTo>
                  <a:pt x="977011" y="32004"/>
                </a:lnTo>
                <a:close/>
              </a:path>
              <a:path w="989329" h="637539">
                <a:moveTo>
                  <a:pt x="39804" y="38100"/>
                </a:moveTo>
              </a:path>
              <a:path w="989329" h="637539">
                <a:moveTo>
                  <a:pt x="957072" y="12065"/>
                </a:moveTo>
                <a:lnTo>
                  <a:pt x="32004" y="12065"/>
                </a:lnTo>
                <a:lnTo>
                  <a:pt x="32004" y="13589"/>
                </a:lnTo>
                <a:lnTo>
                  <a:pt x="22987" y="19811"/>
                </a:lnTo>
                <a:lnTo>
                  <a:pt x="21336" y="21335"/>
                </a:lnTo>
                <a:lnTo>
                  <a:pt x="21336" y="22733"/>
                </a:lnTo>
                <a:lnTo>
                  <a:pt x="13843" y="32004"/>
                </a:lnTo>
                <a:lnTo>
                  <a:pt x="47244" y="32004"/>
                </a:lnTo>
                <a:lnTo>
                  <a:pt x="45847" y="33401"/>
                </a:lnTo>
                <a:lnTo>
                  <a:pt x="56515" y="28829"/>
                </a:lnTo>
                <a:lnTo>
                  <a:pt x="59436" y="27432"/>
                </a:lnTo>
                <a:lnTo>
                  <a:pt x="64008" y="25908"/>
                </a:lnTo>
                <a:lnTo>
                  <a:pt x="70104" y="25908"/>
                </a:lnTo>
                <a:lnTo>
                  <a:pt x="74676" y="24257"/>
                </a:lnTo>
                <a:lnTo>
                  <a:pt x="969013" y="24257"/>
                </a:lnTo>
                <a:lnTo>
                  <a:pt x="967740" y="22733"/>
                </a:lnTo>
                <a:lnTo>
                  <a:pt x="967740" y="21335"/>
                </a:lnTo>
                <a:lnTo>
                  <a:pt x="966343" y="19811"/>
                </a:lnTo>
                <a:lnTo>
                  <a:pt x="957072" y="13589"/>
                </a:lnTo>
                <a:lnTo>
                  <a:pt x="957072" y="12065"/>
                </a:lnTo>
                <a:close/>
              </a:path>
              <a:path w="989329" h="637539">
                <a:moveTo>
                  <a:pt x="969013" y="24257"/>
                </a:moveTo>
                <a:lnTo>
                  <a:pt x="916051" y="24257"/>
                </a:lnTo>
                <a:lnTo>
                  <a:pt x="920622" y="25908"/>
                </a:lnTo>
                <a:lnTo>
                  <a:pt x="925068" y="25908"/>
                </a:lnTo>
                <a:lnTo>
                  <a:pt x="929640" y="27432"/>
                </a:lnTo>
                <a:lnTo>
                  <a:pt x="934212" y="28829"/>
                </a:lnTo>
                <a:lnTo>
                  <a:pt x="943483" y="33401"/>
                </a:lnTo>
                <a:lnTo>
                  <a:pt x="941959" y="32004"/>
                </a:lnTo>
                <a:lnTo>
                  <a:pt x="975487" y="32004"/>
                </a:lnTo>
                <a:lnTo>
                  <a:pt x="969013" y="24257"/>
                </a:lnTo>
                <a:close/>
              </a:path>
              <a:path w="989329" h="637539">
                <a:moveTo>
                  <a:pt x="922147" y="0"/>
                </a:moveTo>
                <a:lnTo>
                  <a:pt x="65659" y="0"/>
                </a:lnTo>
                <a:lnTo>
                  <a:pt x="57912" y="1397"/>
                </a:lnTo>
                <a:lnTo>
                  <a:pt x="51943" y="2921"/>
                </a:lnTo>
                <a:lnTo>
                  <a:pt x="44323" y="5968"/>
                </a:lnTo>
                <a:lnTo>
                  <a:pt x="33655" y="12065"/>
                </a:lnTo>
                <a:lnTo>
                  <a:pt x="955547" y="12065"/>
                </a:lnTo>
                <a:lnTo>
                  <a:pt x="937387" y="2921"/>
                </a:lnTo>
                <a:lnTo>
                  <a:pt x="929640" y="1397"/>
                </a:lnTo>
                <a:lnTo>
                  <a:pt x="9221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0" name="object 64"/>
          <p:cNvSpPr/>
          <p:nvPr/>
        </p:nvSpPr>
        <p:spPr>
          <a:xfrm>
            <a:off x="6590880" y="2345400"/>
            <a:ext cx="862920" cy="550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1" name="object 65"/>
          <p:cNvSpPr/>
          <p:nvPr/>
        </p:nvSpPr>
        <p:spPr>
          <a:xfrm>
            <a:off x="6586560" y="23414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69263" y="21335"/>
                </a:moveTo>
                <a:lnTo>
                  <a:pt x="21463" y="21335"/>
                </a:lnTo>
                <a:lnTo>
                  <a:pt x="13843" y="30353"/>
                </a:lnTo>
                <a:lnTo>
                  <a:pt x="13843" y="32004"/>
                </a:lnTo>
                <a:lnTo>
                  <a:pt x="12192" y="32004"/>
                </a:lnTo>
                <a:lnTo>
                  <a:pt x="12192" y="33528"/>
                </a:lnTo>
                <a:lnTo>
                  <a:pt x="6096" y="45593"/>
                </a:lnTo>
                <a:lnTo>
                  <a:pt x="3175" y="51689"/>
                </a:lnTo>
                <a:lnTo>
                  <a:pt x="1524" y="59436"/>
                </a:lnTo>
                <a:lnTo>
                  <a:pt x="0" y="67056"/>
                </a:lnTo>
                <a:lnTo>
                  <a:pt x="0" y="571500"/>
                </a:lnTo>
                <a:lnTo>
                  <a:pt x="1524" y="577596"/>
                </a:lnTo>
                <a:lnTo>
                  <a:pt x="4699" y="585089"/>
                </a:lnTo>
                <a:lnTo>
                  <a:pt x="6096" y="592836"/>
                </a:lnTo>
                <a:lnTo>
                  <a:pt x="12192" y="603504"/>
                </a:lnTo>
                <a:lnTo>
                  <a:pt x="13843" y="605028"/>
                </a:lnTo>
                <a:lnTo>
                  <a:pt x="22860" y="615696"/>
                </a:lnTo>
                <a:lnTo>
                  <a:pt x="32131" y="623189"/>
                </a:lnTo>
                <a:lnTo>
                  <a:pt x="33528" y="624713"/>
                </a:lnTo>
                <a:lnTo>
                  <a:pt x="45720" y="630936"/>
                </a:lnTo>
                <a:lnTo>
                  <a:pt x="53467" y="633857"/>
                </a:lnTo>
                <a:lnTo>
                  <a:pt x="59562" y="635381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31163" y="635381"/>
                </a:lnTo>
                <a:lnTo>
                  <a:pt x="938911" y="632460"/>
                </a:lnTo>
                <a:lnTo>
                  <a:pt x="945007" y="630936"/>
                </a:lnTo>
                <a:lnTo>
                  <a:pt x="955675" y="624713"/>
                </a:lnTo>
                <a:lnTo>
                  <a:pt x="957199" y="624713"/>
                </a:lnTo>
                <a:lnTo>
                  <a:pt x="957199" y="623189"/>
                </a:lnTo>
                <a:lnTo>
                  <a:pt x="966343" y="615696"/>
                </a:lnTo>
                <a:lnTo>
                  <a:pt x="967866" y="615696"/>
                </a:lnTo>
                <a:lnTo>
                  <a:pt x="967866" y="614045"/>
                </a:lnTo>
                <a:lnTo>
                  <a:pt x="969263" y="614045"/>
                </a:lnTo>
                <a:lnTo>
                  <a:pt x="971238" y="611124"/>
                </a:lnTo>
                <a:lnTo>
                  <a:pt x="68707" y="611124"/>
                </a:lnTo>
                <a:lnTo>
                  <a:pt x="64135" y="609600"/>
                </a:lnTo>
                <a:lnTo>
                  <a:pt x="59562" y="609600"/>
                </a:lnTo>
                <a:lnTo>
                  <a:pt x="54864" y="606425"/>
                </a:lnTo>
                <a:lnTo>
                  <a:pt x="49022" y="603504"/>
                </a:lnTo>
                <a:lnTo>
                  <a:pt x="48768" y="603504"/>
                </a:lnTo>
                <a:lnTo>
                  <a:pt x="45720" y="601853"/>
                </a:lnTo>
                <a:lnTo>
                  <a:pt x="46819" y="601853"/>
                </a:lnTo>
                <a:lnTo>
                  <a:pt x="41422" y="597281"/>
                </a:lnTo>
                <a:lnTo>
                  <a:pt x="41275" y="597281"/>
                </a:lnTo>
                <a:lnTo>
                  <a:pt x="39624" y="595757"/>
                </a:lnTo>
                <a:lnTo>
                  <a:pt x="39965" y="595757"/>
                </a:lnTo>
                <a:lnTo>
                  <a:pt x="36037" y="591185"/>
                </a:lnTo>
                <a:lnTo>
                  <a:pt x="35179" y="591185"/>
                </a:lnTo>
                <a:lnTo>
                  <a:pt x="28956" y="580517"/>
                </a:lnTo>
                <a:lnTo>
                  <a:pt x="27432" y="575945"/>
                </a:lnTo>
                <a:lnTo>
                  <a:pt x="26034" y="571500"/>
                </a:lnTo>
                <a:lnTo>
                  <a:pt x="26034" y="67056"/>
                </a:lnTo>
                <a:lnTo>
                  <a:pt x="27432" y="62357"/>
                </a:lnTo>
                <a:lnTo>
                  <a:pt x="27432" y="57785"/>
                </a:lnTo>
                <a:lnTo>
                  <a:pt x="30607" y="53212"/>
                </a:lnTo>
                <a:lnTo>
                  <a:pt x="34264" y="47117"/>
                </a:lnTo>
                <a:lnTo>
                  <a:pt x="33528" y="47117"/>
                </a:lnTo>
                <a:lnTo>
                  <a:pt x="39965" y="39624"/>
                </a:lnTo>
                <a:lnTo>
                  <a:pt x="39624" y="39624"/>
                </a:lnTo>
                <a:lnTo>
                  <a:pt x="41275" y="38100"/>
                </a:lnTo>
                <a:lnTo>
                  <a:pt x="41452" y="38100"/>
                </a:lnTo>
                <a:lnTo>
                  <a:pt x="46939" y="33528"/>
                </a:lnTo>
                <a:lnTo>
                  <a:pt x="45720" y="33528"/>
                </a:lnTo>
                <a:lnTo>
                  <a:pt x="56388" y="27432"/>
                </a:lnTo>
                <a:lnTo>
                  <a:pt x="60960" y="27432"/>
                </a:lnTo>
                <a:lnTo>
                  <a:pt x="65532" y="25781"/>
                </a:lnTo>
                <a:lnTo>
                  <a:pt x="70231" y="24257"/>
                </a:lnTo>
                <a:lnTo>
                  <a:pt x="971238" y="24257"/>
                </a:lnTo>
                <a:lnTo>
                  <a:pt x="969263" y="21335"/>
                </a:lnTo>
                <a:close/>
              </a:path>
              <a:path w="989329" h="637539">
                <a:moveTo>
                  <a:pt x="943356" y="601853"/>
                </a:moveTo>
                <a:lnTo>
                  <a:pt x="929766" y="609600"/>
                </a:lnTo>
                <a:lnTo>
                  <a:pt x="925068" y="611124"/>
                </a:lnTo>
                <a:lnTo>
                  <a:pt x="971238" y="611124"/>
                </a:lnTo>
                <a:lnTo>
                  <a:pt x="975360" y="605028"/>
                </a:lnTo>
                <a:lnTo>
                  <a:pt x="977011" y="605028"/>
                </a:lnTo>
                <a:lnTo>
                  <a:pt x="977011" y="603504"/>
                </a:lnTo>
                <a:lnTo>
                  <a:pt x="941832" y="603504"/>
                </a:lnTo>
                <a:lnTo>
                  <a:pt x="943356" y="601853"/>
                </a:lnTo>
                <a:close/>
              </a:path>
              <a:path w="989329" h="637539">
                <a:moveTo>
                  <a:pt x="45720" y="601853"/>
                </a:moveTo>
                <a:lnTo>
                  <a:pt x="48768" y="603504"/>
                </a:lnTo>
                <a:lnTo>
                  <a:pt x="48402" y="603194"/>
                </a:lnTo>
                <a:lnTo>
                  <a:pt x="45720" y="601853"/>
                </a:lnTo>
                <a:close/>
              </a:path>
              <a:path w="989329" h="637539">
                <a:moveTo>
                  <a:pt x="48402" y="603194"/>
                </a:moveTo>
                <a:lnTo>
                  <a:pt x="48768" y="603504"/>
                </a:lnTo>
                <a:lnTo>
                  <a:pt x="49022" y="603504"/>
                </a:lnTo>
                <a:lnTo>
                  <a:pt x="48402" y="603194"/>
                </a:lnTo>
                <a:close/>
              </a:path>
              <a:path w="989329" h="637539">
                <a:moveTo>
                  <a:pt x="950299" y="596428"/>
                </a:moveTo>
                <a:lnTo>
                  <a:pt x="941832" y="603504"/>
                </a:lnTo>
                <a:lnTo>
                  <a:pt x="977011" y="603504"/>
                </a:lnTo>
                <a:lnTo>
                  <a:pt x="980860" y="597281"/>
                </a:lnTo>
                <a:lnTo>
                  <a:pt x="949579" y="597281"/>
                </a:lnTo>
                <a:lnTo>
                  <a:pt x="950299" y="596428"/>
                </a:lnTo>
                <a:close/>
              </a:path>
              <a:path w="989329" h="637539">
                <a:moveTo>
                  <a:pt x="46819" y="601853"/>
                </a:moveTo>
                <a:lnTo>
                  <a:pt x="45720" y="601853"/>
                </a:lnTo>
                <a:lnTo>
                  <a:pt x="48402" y="603194"/>
                </a:lnTo>
                <a:lnTo>
                  <a:pt x="46819" y="601853"/>
                </a:lnTo>
                <a:close/>
              </a:path>
              <a:path w="989329" h="637539">
                <a:moveTo>
                  <a:pt x="39624" y="595757"/>
                </a:moveTo>
                <a:lnTo>
                  <a:pt x="41275" y="597281"/>
                </a:lnTo>
                <a:lnTo>
                  <a:pt x="40879" y="596820"/>
                </a:lnTo>
                <a:lnTo>
                  <a:pt x="39624" y="595757"/>
                </a:lnTo>
                <a:close/>
              </a:path>
              <a:path w="989329" h="637539">
                <a:moveTo>
                  <a:pt x="40879" y="596820"/>
                </a:moveTo>
                <a:lnTo>
                  <a:pt x="41275" y="597281"/>
                </a:lnTo>
                <a:lnTo>
                  <a:pt x="41422" y="597281"/>
                </a:lnTo>
                <a:lnTo>
                  <a:pt x="40879" y="596820"/>
                </a:lnTo>
                <a:close/>
              </a:path>
              <a:path w="989329" h="637539">
                <a:moveTo>
                  <a:pt x="951103" y="595757"/>
                </a:moveTo>
                <a:lnTo>
                  <a:pt x="950299" y="596428"/>
                </a:lnTo>
                <a:lnTo>
                  <a:pt x="949579" y="597281"/>
                </a:lnTo>
                <a:lnTo>
                  <a:pt x="951103" y="595757"/>
                </a:lnTo>
                <a:close/>
              </a:path>
              <a:path w="989329" h="637539">
                <a:moveTo>
                  <a:pt x="981802" y="595757"/>
                </a:moveTo>
                <a:lnTo>
                  <a:pt x="951103" y="595757"/>
                </a:lnTo>
                <a:lnTo>
                  <a:pt x="949579" y="597281"/>
                </a:lnTo>
                <a:lnTo>
                  <a:pt x="980860" y="597281"/>
                </a:lnTo>
                <a:lnTo>
                  <a:pt x="981802" y="595757"/>
                </a:lnTo>
                <a:close/>
              </a:path>
              <a:path w="989329" h="637539">
                <a:moveTo>
                  <a:pt x="39965" y="595757"/>
                </a:moveTo>
                <a:lnTo>
                  <a:pt x="39624" y="595757"/>
                </a:lnTo>
                <a:lnTo>
                  <a:pt x="40879" y="596820"/>
                </a:lnTo>
                <a:lnTo>
                  <a:pt x="39965" y="595757"/>
                </a:lnTo>
                <a:close/>
              </a:path>
              <a:path w="989329" h="637539">
                <a:moveTo>
                  <a:pt x="956997" y="588502"/>
                </a:moveTo>
                <a:lnTo>
                  <a:pt x="950299" y="596428"/>
                </a:lnTo>
                <a:lnTo>
                  <a:pt x="951103" y="595757"/>
                </a:lnTo>
                <a:lnTo>
                  <a:pt x="981802" y="595757"/>
                </a:lnTo>
                <a:lnTo>
                  <a:pt x="984631" y="591185"/>
                </a:lnTo>
                <a:lnTo>
                  <a:pt x="955675" y="591185"/>
                </a:lnTo>
                <a:lnTo>
                  <a:pt x="956997" y="588502"/>
                </a:lnTo>
                <a:close/>
              </a:path>
              <a:path w="989329" h="637539">
                <a:moveTo>
                  <a:pt x="33528" y="588264"/>
                </a:moveTo>
                <a:lnTo>
                  <a:pt x="35179" y="591185"/>
                </a:lnTo>
                <a:lnTo>
                  <a:pt x="36037" y="591185"/>
                </a:lnTo>
                <a:lnTo>
                  <a:pt x="33528" y="588264"/>
                </a:lnTo>
                <a:close/>
              </a:path>
              <a:path w="989329" h="637539">
                <a:moveTo>
                  <a:pt x="957199" y="588264"/>
                </a:moveTo>
                <a:lnTo>
                  <a:pt x="956997" y="588502"/>
                </a:lnTo>
                <a:lnTo>
                  <a:pt x="955675" y="591185"/>
                </a:lnTo>
                <a:lnTo>
                  <a:pt x="957199" y="588264"/>
                </a:lnTo>
                <a:close/>
              </a:path>
              <a:path w="989329" h="637539">
                <a:moveTo>
                  <a:pt x="985175" y="588264"/>
                </a:moveTo>
                <a:lnTo>
                  <a:pt x="957199" y="588264"/>
                </a:lnTo>
                <a:lnTo>
                  <a:pt x="955675" y="591185"/>
                </a:lnTo>
                <a:lnTo>
                  <a:pt x="984631" y="591185"/>
                </a:lnTo>
                <a:lnTo>
                  <a:pt x="985175" y="588264"/>
                </a:lnTo>
                <a:close/>
              </a:path>
              <a:path w="989329" h="637539">
                <a:moveTo>
                  <a:pt x="955675" y="45593"/>
                </a:moveTo>
                <a:lnTo>
                  <a:pt x="960119" y="54864"/>
                </a:lnTo>
                <a:lnTo>
                  <a:pt x="961771" y="59436"/>
                </a:lnTo>
                <a:lnTo>
                  <a:pt x="963168" y="63881"/>
                </a:lnTo>
                <a:lnTo>
                  <a:pt x="963168" y="68453"/>
                </a:lnTo>
                <a:lnTo>
                  <a:pt x="964691" y="73025"/>
                </a:lnTo>
                <a:lnTo>
                  <a:pt x="964691" y="562356"/>
                </a:lnTo>
                <a:lnTo>
                  <a:pt x="963168" y="568325"/>
                </a:lnTo>
                <a:lnTo>
                  <a:pt x="963168" y="573024"/>
                </a:lnTo>
                <a:lnTo>
                  <a:pt x="961771" y="577596"/>
                </a:lnTo>
                <a:lnTo>
                  <a:pt x="960119" y="582168"/>
                </a:lnTo>
                <a:lnTo>
                  <a:pt x="956997" y="588502"/>
                </a:lnTo>
                <a:lnTo>
                  <a:pt x="957199" y="588264"/>
                </a:lnTo>
                <a:lnTo>
                  <a:pt x="985175" y="588264"/>
                </a:lnTo>
                <a:lnTo>
                  <a:pt x="986028" y="583692"/>
                </a:lnTo>
                <a:lnTo>
                  <a:pt x="987679" y="577596"/>
                </a:lnTo>
                <a:lnTo>
                  <a:pt x="989203" y="569849"/>
                </a:lnTo>
                <a:lnTo>
                  <a:pt x="989203" y="65532"/>
                </a:lnTo>
                <a:lnTo>
                  <a:pt x="987679" y="57785"/>
                </a:lnTo>
                <a:lnTo>
                  <a:pt x="986028" y="50292"/>
                </a:lnTo>
                <a:lnTo>
                  <a:pt x="984830" y="47117"/>
                </a:lnTo>
                <a:lnTo>
                  <a:pt x="957199" y="47117"/>
                </a:lnTo>
                <a:lnTo>
                  <a:pt x="955675" y="45593"/>
                </a:lnTo>
                <a:close/>
              </a:path>
              <a:path w="989329" h="637539">
                <a:moveTo>
                  <a:pt x="35179" y="45593"/>
                </a:moveTo>
                <a:lnTo>
                  <a:pt x="33528" y="47117"/>
                </a:lnTo>
                <a:lnTo>
                  <a:pt x="34264" y="47117"/>
                </a:lnTo>
                <a:lnTo>
                  <a:pt x="35179" y="45593"/>
                </a:lnTo>
                <a:close/>
              </a:path>
              <a:path w="989329" h="637539">
                <a:moveTo>
                  <a:pt x="950329" y="38988"/>
                </a:moveTo>
                <a:lnTo>
                  <a:pt x="957199" y="47117"/>
                </a:lnTo>
                <a:lnTo>
                  <a:pt x="984830" y="47117"/>
                </a:lnTo>
                <a:lnTo>
                  <a:pt x="983107" y="42545"/>
                </a:lnTo>
                <a:lnTo>
                  <a:pt x="981132" y="39624"/>
                </a:lnTo>
                <a:lnTo>
                  <a:pt x="951103" y="39624"/>
                </a:lnTo>
                <a:lnTo>
                  <a:pt x="950329" y="38988"/>
                </a:lnTo>
                <a:close/>
              </a:path>
              <a:path w="989329" h="637539">
                <a:moveTo>
                  <a:pt x="41275" y="38100"/>
                </a:moveTo>
                <a:lnTo>
                  <a:pt x="39624" y="39624"/>
                </a:lnTo>
                <a:lnTo>
                  <a:pt x="40826" y="38621"/>
                </a:lnTo>
                <a:lnTo>
                  <a:pt x="41275" y="38100"/>
                </a:lnTo>
                <a:close/>
              </a:path>
              <a:path w="989329" h="637539">
                <a:moveTo>
                  <a:pt x="40826" y="38621"/>
                </a:moveTo>
                <a:lnTo>
                  <a:pt x="39624" y="39624"/>
                </a:lnTo>
                <a:lnTo>
                  <a:pt x="39965" y="39624"/>
                </a:lnTo>
                <a:lnTo>
                  <a:pt x="40826" y="38621"/>
                </a:lnTo>
                <a:close/>
              </a:path>
              <a:path w="989329" h="637539">
                <a:moveTo>
                  <a:pt x="949579" y="38100"/>
                </a:moveTo>
                <a:lnTo>
                  <a:pt x="950329" y="38988"/>
                </a:lnTo>
                <a:lnTo>
                  <a:pt x="951103" y="39624"/>
                </a:lnTo>
                <a:lnTo>
                  <a:pt x="949579" y="38100"/>
                </a:lnTo>
                <a:close/>
              </a:path>
              <a:path w="989329" h="637539">
                <a:moveTo>
                  <a:pt x="980101" y="38100"/>
                </a:moveTo>
                <a:lnTo>
                  <a:pt x="949579" y="38100"/>
                </a:lnTo>
                <a:lnTo>
                  <a:pt x="951103" y="39624"/>
                </a:lnTo>
                <a:lnTo>
                  <a:pt x="981132" y="39624"/>
                </a:lnTo>
                <a:lnTo>
                  <a:pt x="980101" y="38100"/>
                </a:lnTo>
                <a:close/>
              </a:path>
              <a:path w="989329" h="637539">
                <a:moveTo>
                  <a:pt x="977011" y="32004"/>
                </a:moveTo>
                <a:lnTo>
                  <a:pt x="941832" y="32004"/>
                </a:lnTo>
                <a:lnTo>
                  <a:pt x="950329" y="38988"/>
                </a:lnTo>
                <a:lnTo>
                  <a:pt x="949579" y="38100"/>
                </a:lnTo>
                <a:lnTo>
                  <a:pt x="980101" y="38100"/>
                </a:lnTo>
                <a:lnTo>
                  <a:pt x="977011" y="33528"/>
                </a:lnTo>
                <a:lnTo>
                  <a:pt x="977011" y="32004"/>
                </a:lnTo>
                <a:close/>
              </a:path>
              <a:path w="989329" h="637539">
                <a:moveTo>
                  <a:pt x="41452" y="38100"/>
                </a:moveTo>
                <a:lnTo>
                  <a:pt x="41275" y="38100"/>
                </a:lnTo>
                <a:lnTo>
                  <a:pt x="40826" y="38621"/>
                </a:lnTo>
                <a:lnTo>
                  <a:pt x="41452" y="38100"/>
                </a:lnTo>
                <a:close/>
              </a:path>
              <a:path w="989329" h="637539">
                <a:moveTo>
                  <a:pt x="48768" y="32004"/>
                </a:moveTo>
                <a:lnTo>
                  <a:pt x="45720" y="33528"/>
                </a:lnTo>
                <a:lnTo>
                  <a:pt x="46939" y="33528"/>
                </a:lnTo>
                <a:lnTo>
                  <a:pt x="48768" y="32004"/>
                </a:lnTo>
                <a:close/>
              </a:path>
              <a:path w="989329" h="637539">
                <a:moveTo>
                  <a:pt x="971238" y="24257"/>
                </a:moveTo>
                <a:lnTo>
                  <a:pt x="922019" y="24257"/>
                </a:lnTo>
                <a:lnTo>
                  <a:pt x="926591" y="25781"/>
                </a:lnTo>
                <a:lnTo>
                  <a:pt x="931163" y="27432"/>
                </a:lnTo>
                <a:lnTo>
                  <a:pt x="934338" y="28956"/>
                </a:lnTo>
                <a:lnTo>
                  <a:pt x="943356" y="33528"/>
                </a:lnTo>
                <a:lnTo>
                  <a:pt x="941832" y="32004"/>
                </a:lnTo>
                <a:lnTo>
                  <a:pt x="977011" y="32004"/>
                </a:lnTo>
                <a:lnTo>
                  <a:pt x="975360" y="30353"/>
                </a:lnTo>
                <a:lnTo>
                  <a:pt x="971238" y="24257"/>
                </a:lnTo>
                <a:close/>
              </a:path>
              <a:path w="989329" h="637539">
                <a:moveTo>
                  <a:pt x="929766" y="0"/>
                </a:moveTo>
                <a:lnTo>
                  <a:pt x="65532" y="0"/>
                </a:lnTo>
                <a:lnTo>
                  <a:pt x="58039" y="1524"/>
                </a:lnTo>
                <a:lnTo>
                  <a:pt x="51943" y="2921"/>
                </a:lnTo>
                <a:lnTo>
                  <a:pt x="44196" y="6096"/>
                </a:lnTo>
                <a:lnTo>
                  <a:pt x="33528" y="10667"/>
                </a:lnTo>
                <a:lnTo>
                  <a:pt x="33528" y="12192"/>
                </a:lnTo>
                <a:lnTo>
                  <a:pt x="32131" y="12192"/>
                </a:lnTo>
                <a:lnTo>
                  <a:pt x="22860" y="19684"/>
                </a:lnTo>
                <a:lnTo>
                  <a:pt x="22860" y="21335"/>
                </a:lnTo>
                <a:lnTo>
                  <a:pt x="967866" y="21335"/>
                </a:lnTo>
                <a:lnTo>
                  <a:pt x="966343" y="19684"/>
                </a:lnTo>
                <a:lnTo>
                  <a:pt x="957199" y="12192"/>
                </a:lnTo>
                <a:lnTo>
                  <a:pt x="955675" y="10667"/>
                </a:lnTo>
                <a:lnTo>
                  <a:pt x="943356" y="4444"/>
                </a:lnTo>
                <a:lnTo>
                  <a:pt x="937260" y="2921"/>
                </a:lnTo>
                <a:lnTo>
                  <a:pt x="929766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2" name="object 66"/>
          <p:cNvSpPr/>
          <p:nvPr/>
        </p:nvSpPr>
        <p:spPr>
          <a:xfrm>
            <a:off x="6716520" y="2453760"/>
            <a:ext cx="612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080"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58.6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67"/>
          <p:cNvSpPr/>
          <p:nvPr/>
        </p:nvSpPr>
        <p:spPr>
          <a:xfrm>
            <a:off x="6503400" y="3049920"/>
            <a:ext cx="851400" cy="539280"/>
          </a:xfrm>
          <a:custGeom>
            <a:avLst/>
            <a:gdLst>
              <a:gd name="textAreaLeft" fmla="*/ 0 w 851400"/>
              <a:gd name="textAreaRight" fmla="*/ 851760 w 8514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5200" h="611504">
                <a:moveTo>
                  <a:pt x="902081" y="0"/>
                </a:moveTo>
                <a:lnTo>
                  <a:pt x="60960" y="0"/>
                </a:lnTo>
                <a:lnTo>
                  <a:pt x="37290" y="4810"/>
                </a:lnTo>
                <a:lnTo>
                  <a:pt x="17906" y="17907"/>
                </a:lnTo>
                <a:lnTo>
                  <a:pt x="4810" y="37290"/>
                </a:lnTo>
                <a:lnTo>
                  <a:pt x="0" y="60960"/>
                </a:lnTo>
                <a:lnTo>
                  <a:pt x="0" y="550164"/>
                </a:lnTo>
                <a:lnTo>
                  <a:pt x="4810" y="573833"/>
                </a:lnTo>
                <a:lnTo>
                  <a:pt x="17907" y="593217"/>
                </a:lnTo>
                <a:lnTo>
                  <a:pt x="37290" y="606313"/>
                </a:lnTo>
                <a:lnTo>
                  <a:pt x="60960" y="611124"/>
                </a:lnTo>
                <a:lnTo>
                  <a:pt x="902081" y="611124"/>
                </a:lnTo>
                <a:lnTo>
                  <a:pt x="926705" y="606313"/>
                </a:lnTo>
                <a:lnTo>
                  <a:pt x="946578" y="593217"/>
                </a:lnTo>
                <a:lnTo>
                  <a:pt x="959856" y="573833"/>
                </a:lnTo>
                <a:lnTo>
                  <a:pt x="964691" y="550164"/>
                </a:lnTo>
                <a:lnTo>
                  <a:pt x="964691" y="60960"/>
                </a:lnTo>
                <a:lnTo>
                  <a:pt x="959856" y="37290"/>
                </a:lnTo>
                <a:lnTo>
                  <a:pt x="946578" y="17907"/>
                </a:lnTo>
                <a:lnTo>
                  <a:pt x="926705" y="4810"/>
                </a:lnTo>
                <a:lnTo>
                  <a:pt x="902081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object 68"/>
          <p:cNvSpPr/>
          <p:nvPr/>
        </p:nvSpPr>
        <p:spPr>
          <a:xfrm>
            <a:off x="6492600" y="30380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547" y="624713"/>
                </a:moveTo>
                <a:lnTo>
                  <a:pt x="33655" y="624713"/>
                </a:lnTo>
                <a:lnTo>
                  <a:pt x="33655" y="626364"/>
                </a:lnTo>
                <a:lnTo>
                  <a:pt x="45847" y="632460"/>
                </a:lnTo>
                <a:lnTo>
                  <a:pt x="51943" y="633857"/>
                </a:lnTo>
                <a:lnTo>
                  <a:pt x="59436" y="637032"/>
                </a:lnTo>
                <a:lnTo>
                  <a:pt x="923544" y="637032"/>
                </a:lnTo>
                <a:lnTo>
                  <a:pt x="931291" y="635381"/>
                </a:lnTo>
                <a:lnTo>
                  <a:pt x="937387" y="633857"/>
                </a:lnTo>
                <a:lnTo>
                  <a:pt x="944880" y="630936"/>
                </a:lnTo>
                <a:lnTo>
                  <a:pt x="955547" y="626364"/>
                </a:lnTo>
                <a:lnTo>
                  <a:pt x="955547" y="624713"/>
                </a:lnTo>
                <a:close/>
              </a:path>
              <a:path w="989329" h="637539">
                <a:moveTo>
                  <a:pt x="966343" y="617093"/>
                </a:moveTo>
                <a:lnTo>
                  <a:pt x="22987" y="617093"/>
                </a:lnTo>
                <a:lnTo>
                  <a:pt x="32004" y="624713"/>
                </a:lnTo>
                <a:lnTo>
                  <a:pt x="957072" y="624713"/>
                </a:lnTo>
                <a:lnTo>
                  <a:pt x="966343" y="617093"/>
                </a:lnTo>
                <a:close/>
              </a:path>
              <a:path w="989329" h="637539">
                <a:moveTo>
                  <a:pt x="967740" y="21336"/>
                </a:moveTo>
                <a:lnTo>
                  <a:pt x="21336" y="21336"/>
                </a:lnTo>
                <a:lnTo>
                  <a:pt x="21336" y="22860"/>
                </a:lnTo>
                <a:lnTo>
                  <a:pt x="13843" y="32004"/>
                </a:lnTo>
                <a:lnTo>
                  <a:pt x="12319" y="32004"/>
                </a:lnTo>
                <a:lnTo>
                  <a:pt x="12319" y="33528"/>
                </a:lnTo>
                <a:lnTo>
                  <a:pt x="6223" y="45593"/>
                </a:lnTo>
                <a:lnTo>
                  <a:pt x="3048" y="53213"/>
                </a:lnTo>
                <a:lnTo>
                  <a:pt x="1651" y="59436"/>
                </a:lnTo>
                <a:lnTo>
                  <a:pt x="0" y="66929"/>
                </a:lnTo>
                <a:lnTo>
                  <a:pt x="0" y="571500"/>
                </a:lnTo>
                <a:lnTo>
                  <a:pt x="1651" y="578993"/>
                </a:lnTo>
                <a:lnTo>
                  <a:pt x="3048" y="586613"/>
                </a:lnTo>
                <a:lnTo>
                  <a:pt x="6223" y="594360"/>
                </a:lnTo>
                <a:lnTo>
                  <a:pt x="12319" y="603504"/>
                </a:lnTo>
                <a:lnTo>
                  <a:pt x="12319" y="605028"/>
                </a:lnTo>
                <a:lnTo>
                  <a:pt x="13843" y="606425"/>
                </a:lnTo>
                <a:lnTo>
                  <a:pt x="21336" y="615696"/>
                </a:lnTo>
                <a:lnTo>
                  <a:pt x="21336" y="617093"/>
                </a:lnTo>
                <a:lnTo>
                  <a:pt x="967740" y="617093"/>
                </a:lnTo>
                <a:lnTo>
                  <a:pt x="967740" y="615696"/>
                </a:lnTo>
                <a:lnTo>
                  <a:pt x="970393" y="612521"/>
                </a:lnTo>
                <a:lnTo>
                  <a:pt x="68580" y="612521"/>
                </a:lnTo>
                <a:lnTo>
                  <a:pt x="64008" y="611124"/>
                </a:lnTo>
                <a:lnTo>
                  <a:pt x="59436" y="609600"/>
                </a:lnTo>
                <a:lnTo>
                  <a:pt x="54991" y="607949"/>
                </a:lnTo>
                <a:lnTo>
                  <a:pt x="48982" y="605028"/>
                </a:lnTo>
                <a:lnTo>
                  <a:pt x="47244" y="605028"/>
                </a:lnTo>
                <a:lnTo>
                  <a:pt x="40048" y="598932"/>
                </a:lnTo>
                <a:lnTo>
                  <a:pt x="39751" y="598932"/>
                </a:lnTo>
                <a:lnTo>
                  <a:pt x="38100" y="597281"/>
                </a:lnTo>
                <a:lnTo>
                  <a:pt x="38665" y="597281"/>
                </a:lnTo>
                <a:lnTo>
                  <a:pt x="35742" y="592836"/>
                </a:lnTo>
                <a:lnTo>
                  <a:pt x="33655" y="592836"/>
                </a:lnTo>
                <a:lnTo>
                  <a:pt x="29083" y="582168"/>
                </a:lnTo>
                <a:lnTo>
                  <a:pt x="27559" y="577596"/>
                </a:lnTo>
                <a:lnTo>
                  <a:pt x="25908" y="573024"/>
                </a:lnTo>
                <a:lnTo>
                  <a:pt x="25908" y="63881"/>
                </a:lnTo>
                <a:lnTo>
                  <a:pt x="27559" y="59436"/>
                </a:lnTo>
                <a:lnTo>
                  <a:pt x="29083" y="54864"/>
                </a:lnTo>
                <a:lnTo>
                  <a:pt x="33655" y="45593"/>
                </a:lnTo>
                <a:lnTo>
                  <a:pt x="35771" y="45593"/>
                </a:lnTo>
                <a:lnTo>
                  <a:pt x="38819" y="41021"/>
                </a:lnTo>
                <a:lnTo>
                  <a:pt x="38100" y="41021"/>
                </a:lnTo>
                <a:lnTo>
                  <a:pt x="39751" y="39624"/>
                </a:lnTo>
                <a:lnTo>
                  <a:pt x="47244" y="33528"/>
                </a:lnTo>
                <a:lnTo>
                  <a:pt x="48291" y="33528"/>
                </a:lnTo>
                <a:lnTo>
                  <a:pt x="56515" y="28829"/>
                </a:lnTo>
                <a:lnTo>
                  <a:pt x="59436" y="27432"/>
                </a:lnTo>
                <a:lnTo>
                  <a:pt x="64008" y="25781"/>
                </a:lnTo>
                <a:lnTo>
                  <a:pt x="970214" y="25781"/>
                </a:lnTo>
                <a:lnTo>
                  <a:pt x="967740" y="22860"/>
                </a:lnTo>
                <a:lnTo>
                  <a:pt x="967740" y="21336"/>
                </a:lnTo>
                <a:close/>
              </a:path>
              <a:path w="989329" h="637539">
                <a:moveTo>
                  <a:pt x="943483" y="603504"/>
                </a:moveTo>
                <a:lnTo>
                  <a:pt x="932815" y="609600"/>
                </a:lnTo>
                <a:lnTo>
                  <a:pt x="929640" y="611124"/>
                </a:lnTo>
                <a:lnTo>
                  <a:pt x="923544" y="611124"/>
                </a:lnTo>
                <a:lnTo>
                  <a:pt x="918972" y="612521"/>
                </a:lnTo>
                <a:lnTo>
                  <a:pt x="970393" y="612521"/>
                </a:lnTo>
                <a:lnTo>
                  <a:pt x="975487" y="606425"/>
                </a:lnTo>
                <a:lnTo>
                  <a:pt x="977011" y="605028"/>
                </a:lnTo>
                <a:lnTo>
                  <a:pt x="941959" y="605028"/>
                </a:lnTo>
                <a:lnTo>
                  <a:pt x="943483" y="603504"/>
                </a:lnTo>
                <a:close/>
              </a:path>
              <a:path w="989329" h="637539">
                <a:moveTo>
                  <a:pt x="45847" y="603504"/>
                </a:moveTo>
                <a:lnTo>
                  <a:pt x="47244" y="605028"/>
                </a:lnTo>
                <a:lnTo>
                  <a:pt x="48982" y="605028"/>
                </a:lnTo>
                <a:lnTo>
                  <a:pt x="45847" y="603504"/>
                </a:lnTo>
                <a:close/>
              </a:path>
              <a:path w="989329" h="637539">
                <a:moveTo>
                  <a:pt x="980492" y="597281"/>
                </a:moveTo>
                <a:lnTo>
                  <a:pt x="950976" y="597281"/>
                </a:lnTo>
                <a:lnTo>
                  <a:pt x="941959" y="605028"/>
                </a:lnTo>
                <a:lnTo>
                  <a:pt x="977011" y="605028"/>
                </a:lnTo>
                <a:lnTo>
                  <a:pt x="977011" y="603504"/>
                </a:lnTo>
                <a:lnTo>
                  <a:pt x="980492" y="597281"/>
                </a:lnTo>
                <a:close/>
              </a:path>
              <a:path w="989329" h="637539">
                <a:moveTo>
                  <a:pt x="38100" y="597281"/>
                </a:moveTo>
                <a:lnTo>
                  <a:pt x="39751" y="598932"/>
                </a:lnTo>
                <a:lnTo>
                  <a:pt x="39376" y="598362"/>
                </a:lnTo>
                <a:lnTo>
                  <a:pt x="38100" y="597281"/>
                </a:lnTo>
                <a:close/>
              </a:path>
              <a:path w="989329" h="637539">
                <a:moveTo>
                  <a:pt x="39376" y="598362"/>
                </a:moveTo>
                <a:lnTo>
                  <a:pt x="39751" y="598932"/>
                </a:lnTo>
                <a:lnTo>
                  <a:pt x="40048" y="598932"/>
                </a:lnTo>
                <a:lnTo>
                  <a:pt x="39376" y="598362"/>
                </a:lnTo>
                <a:close/>
              </a:path>
              <a:path w="989329" h="637539">
                <a:moveTo>
                  <a:pt x="955547" y="589661"/>
                </a:moveTo>
                <a:lnTo>
                  <a:pt x="948055" y="598932"/>
                </a:lnTo>
                <a:lnTo>
                  <a:pt x="950976" y="597281"/>
                </a:lnTo>
                <a:lnTo>
                  <a:pt x="980492" y="597281"/>
                </a:lnTo>
                <a:lnTo>
                  <a:pt x="982980" y="592836"/>
                </a:lnTo>
                <a:lnTo>
                  <a:pt x="954151" y="592836"/>
                </a:lnTo>
                <a:lnTo>
                  <a:pt x="955547" y="589661"/>
                </a:lnTo>
                <a:close/>
              </a:path>
              <a:path w="989329" h="637539">
                <a:moveTo>
                  <a:pt x="38665" y="597281"/>
                </a:moveTo>
                <a:lnTo>
                  <a:pt x="38100" y="597281"/>
                </a:lnTo>
                <a:lnTo>
                  <a:pt x="39376" y="598362"/>
                </a:lnTo>
                <a:lnTo>
                  <a:pt x="38665" y="597281"/>
                </a:lnTo>
                <a:close/>
              </a:path>
              <a:path w="989329" h="637539">
                <a:moveTo>
                  <a:pt x="33655" y="589661"/>
                </a:moveTo>
                <a:lnTo>
                  <a:pt x="33655" y="592836"/>
                </a:lnTo>
                <a:lnTo>
                  <a:pt x="35742" y="592836"/>
                </a:lnTo>
                <a:lnTo>
                  <a:pt x="33655" y="589661"/>
                </a:lnTo>
                <a:close/>
              </a:path>
              <a:path w="989329" h="637539">
                <a:moveTo>
                  <a:pt x="983571" y="45593"/>
                </a:moveTo>
                <a:lnTo>
                  <a:pt x="954151" y="45593"/>
                </a:lnTo>
                <a:lnTo>
                  <a:pt x="960247" y="56261"/>
                </a:lnTo>
                <a:lnTo>
                  <a:pt x="961644" y="60960"/>
                </a:lnTo>
                <a:lnTo>
                  <a:pt x="963168" y="65532"/>
                </a:lnTo>
                <a:lnTo>
                  <a:pt x="963168" y="574421"/>
                </a:lnTo>
                <a:lnTo>
                  <a:pt x="961644" y="578993"/>
                </a:lnTo>
                <a:lnTo>
                  <a:pt x="960247" y="583692"/>
                </a:lnTo>
                <a:lnTo>
                  <a:pt x="954151" y="592836"/>
                </a:lnTo>
                <a:lnTo>
                  <a:pt x="982980" y="592836"/>
                </a:lnTo>
                <a:lnTo>
                  <a:pt x="986155" y="585089"/>
                </a:lnTo>
                <a:lnTo>
                  <a:pt x="987679" y="577596"/>
                </a:lnTo>
                <a:lnTo>
                  <a:pt x="989076" y="571500"/>
                </a:lnTo>
                <a:lnTo>
                  <a:pt x="989076" y="65532"/>
                </a:lnTo>
                <a:lnTo>
                  <a:pt x="987679" y="59436"/>
                </a:lnTo>
                <a:lnTo>
                  <a:pt x="986155" y="51689"/>
                </a:lnTo>
                <a:lnTo>
                  <a:pt x="983571" y="45593"/>
                </a:lnTo>
                <a:close/>
              </a:path>
              <a:path w="989329" h="637539">
                <a:moveTo>
                  <a:pt x="35771" y="45593"/>
                </a:moveTo>
                <a:lnTo>
                  <a:pt x="33655" y="45593"/>
                </a:lnTo>
                <a:lnTo>
                  <a:pt x="33655" y="48768"/>
                </a:lnTo>
                <a:lnTo>
                  <a:pt x="35771" y="45593"/>
                </a:lnTo>
                <a:close/>
              </a:path>
              <a:path w="989329" h="637539">
                <a:moveTo>
                  <a:pt x="948055" y="39624"/>
                </a:moveTo>
                <a:lnTo>
                  <a:pt x="955547" y="48768"/>
                </a:lnTo>
                <a:lnTo>
                  <a:pt x="954151" y="45593"/>
                </a:lnTo>
                <a:lnTo>
                  <a:pt x="983571" y="45593"/>
                </a:lnTo>
                <a:lnTo>
                  <a:pt x="982980" y="44196"/>
                </a:lnTo>
                <a:lnTo>
                  <a:pt x="981203" y="41021"/>
                </a:lnTo>
                <a:lnTo>
                  <a:pt x="950976" y="41021"/>
                </a:lnTo>
                <a:lnTo>
                  <a:pt x="948055" y="39624"/>
                </a:lnTo>
                <a:close/>
              </a:path>
              <a:path w="989329" h="637539">
                <a:moveTo>
                  <a:pt x="39751" y="39624"/>
                </a:moveTo>
                <a:lnTo>
                  <a:pt x="38100" y="41021"/>
                </a:lnTo>
                <a:lnTo>
                  <a:pt x="39686" y="39721"/>
                </a:lnTo>
                <a:close/>
              </a:path>
              <a:path w="989329" h="637539">
                <a:moveTo>
                  <a:pt x="39686" y="39721"/>
                </a:moveTo>
                <a:lnTo>
                  <a:pt x="38100" y="41021"/>
                </a:lnTo>
                <a:lnTo>
                  <a:pt x="38819" y="41021"/>
                </a:lnTo>
                <a:lnTo>
                  <a:pt x="39686" y="39721"/>
                </a:lnTo>
                <a:close/>
              </a:path>
              <a:path w="989329" h="637539">
                <a:moveTo>
                  <a:pt x="977011" y="33528"/>
                </a:moveTo>
                <a:lnTo>
                  <a:pt x="941959" y="33528"/>
                </a:lnTo>
                <a:lnTo>
                  <a:pt x="950976" y="41021"/>
                </a:lnTo>
                <a:lnTo>
                  <a:pt x="981203" y="41021"/>
                </a:lnTo>
                <a:lnTo>
                  <a:pt x="977011" y="33528"/>
                </a:lnTo>
                <a:close/>
              </a:path>
              <a:path w="989329" h="637539">
                <a:moveTo>
                  <a:pt x="39804" y="39624"/>
                </a:moveTo>
              </a:path>
              <a:path w="989329" h="637539">
                <a:moveTo>
                  <a:pt x="48291" y="33528"/>
                </a:moveTo>
                <a:lnTo>
                  <a:pt x="47244" y="33528"/>
                </a:lnTo>
                <a:lnTo>
                  <a:pt x="45847" y="34925"/>
                </a:lnTo>
                <a:lnTo>
                  <a:pt x="48291" y="33528"/>
                </a:lnTo>
                <a:close/>
              </a:path>
              <a:path w="989329" h="637539">
                <a:moveTo>
                  <a:pt x="970214" y="25781"/>
                </a:moveTo>
                <a:lnTo>
                  <a:pt x="920622" y="25781"/>
                </a:lnTo>
                <a:lnTo>
                  <a:pt x="925068" y="27432"/>
                </a:lnTo>
                <a:lnTo>
                  <a:pt x="929640" y="27432"/>
                </a:lnTo>
                <a:lnTo>
                  <a:pt x="934212" y="30353"/>
                </a:lnTo>
                <a:lnTo>
                  <a:pt x="943483" y="34925"/>
                </a:lnTo>
                <a:lnTo>
                  <a:pt x="941959" y="33528"/>
                </a:lnTo>
                <a:lnTo>
                  <a:pt x="977011" y="33528"/>
                </a:lnTo>
                <a:lnTo>
                  <a:pt x="977011" y="32004"/>
                </a:lnTo>
                <a:lnTo>
                  <a:pt x="975487" y="32004"/>
                </a:lnTo>
                <a:lnTo>
                  <a:pt x="970214" y="25781"/>
                </a:lnTo>
                <a:close/>
              </a:path>
              <a:path w="989329" h="637539">
                <a:moveTo>
                  <a:pt x="922147" y="0"/>
                </a:moveTo>
                <a:lnTo>
                  <a:pt x="73279" y="0"/>
                </a:lnTo>
                <a:lnTo>
                  <a:pt x="65659" y="1524"/>
                </a:lnTo>
                <a:lnTo>
                  <a:pt x="57912" y="1524"/>
                </a:lnTo>
                <a:lnTo>
                  <a:pt x="51943" y="4572"/>
                </a:lnTo>
                <a:lnTo>
                  <a:pt x="44323" y="6096"/>
                </a:lnTo>
                <a:lnTo>
                  <a:pt x="33655" y="12192"/>
                </a:lnTo>
                <a:lnTo>
                  <a:pt x="32004" y="13589"/>
                </a:lnTo>
                <a:lnTo>
                  <a:pt x="22987" y="21336"/>
                </a:lnTo>
                <a:lnTo>
                  <a:pt x="966343" y="21336"/>
                </a:lnTo>
                <a:lnTo>
                  <a:pt x="957072" y="13589"/>
                </a:lnTo>
                <a:lnTo>
                  <a:pt x="955547" y="12192"/>
                </a:lnTo>
                <a:lnTo>
                  <a:pt x="943483" y="6096"/>
                </a:lnTo>
                <a:lnTo>
                  <a:pt x="937387" y="2921"/>
                </a:lnTo>
                <a:lnTo>
                  <a:pt x="929640" y="1524"/>
                </a:lnTo>
                <a:lnTo>
                  <a:pt x="9221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5" name="object 69"/>
          <p:cNvSpPr/>
          <p:nvPr/>
        </p:nvSpPr>
        <p:spPr>
          <a:xfrm>
            <a:off x="6590880" y="3133440"/>
            <a:ext cx="862920" cy="550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6" name="object 70"/>
          <p:cNvSpPr/>
          <p:nvPr/>
        </p:nvSpPr>
        <p:spPr>
          <a:xfrm>
            <a:off x="6586560" y="31280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4840"/>
                </a:moveTo>
                <a:lnTo>
                  <a:pt x="33528" y="624840"/>
                </a:lnTo>
                <a:lnTo>
                  <a:pt x="45720" y="632586"/>
                </a:lnTo>
                <a:lnTo>
                  <a:pt x="53467" y="634110"/>
                </a:lnTo>
                <a:lnTo>
                  <a:pt x="59562" y="635507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31163" y="635507"/>
                </a:lnTo>
                <a:lnTo>
                  <a:pt x="938911" y="634110"/>
                </a:lnTo>
                <a:lnTo>
                  <a:pt x="945007" y="630935"/>
                </a:lnTo>
                <a:lnTo>
                  <a:pt x="955675" y="624840"/>
                </a:lnTo>
                <a:close/>
              </a:path>
              <a:path w="989329" h="637539">
                <a:moveTo>
                  <a:pt x="48402" y="604845"/>
                </a:moveTo>
                <a:lnTo>
                  <a:pt x="48768" y="605155"/>
                </a:lnTo>
                <a:lnTo>
                  <a:pt x="13843" y="605155"/>
                </a:lnTo>
                <a:lnTo>
                  <a:pt x="13843" y="606679"/>
                </a:lnTo>
                <a:lnTo>
                  <a:pt x="21463" y="614171"/>
                </a:lnTo>
                <a:lnTo>
                  <a:pt x="21463" y="615822"/>
                </a:lnTo>
                <a:lnTo>
                  <a:pt x="22860" y="615822"/>
                </a:lnTo>
                <a:lnTo>
                  <a:pt x="22860" y="617346"/>
                </a:lnTo>
                <a:lnTo>
                  <a:pt x="32131" y="624840"/>
                </a:lnTo>
                <a:lnTo>
                  <a:pt x="957199" y="624840"/>
                </a:lnTo>
                <a:lnTo>
                  <a:pt x="957199" y="623443"/>
                </a:lnTo>
                <a:lnTo>
                  <a:pt x="966343" y="617346"/>
                </a:lnTo>
                <a:lnTo>
                  <a:pt x="967866" y="615822"/>
                </a:lnTo>
                <a:lnTo>
                  <a:pt x="969263" y="614171"/>
                </a:lnTo>
                <a:lnTo>
                  <a:pt x="970503" y="612647"/>
                </a:lnTo>
                <a:lnTo>
                  <a:pt x="74803" y="612647"/>
                </a:lnTo>
                <a:lnTo>
                  <a:pt x="68707" y="611251"/>
                </a:lnTo>
                <a:lnTo>
                  <a:pt x="64135" y="611251"/>
                </a:lnTo>
                <a:lnTo>
                  <a:pt x="59562" y="609599"/>
                </a:lnTo>
                <a:lnTo>
                  <a:pt x="54864" y="608076"/>
                </a:lnTo>
                <a:lnTo>
                  <a:pt x="48402" y="604845"/>
                </a:lnTo>
                <a:close/>
              </a:path>
              <a:path w="989329" h="637539">
                <a:moveTo>
                  <a:pt x="943356" y="603504"/>
                </a:moveTo>
                <a:lnTo>
                  <a:pt x="932688" y="608076"/>
                </a:lnTo>
                <a:lnTo>
                  <a:pt x="929766" y="609599"/>
                </a:lnTo>
                <a:lnTo>
                  <a:pt x="925068" y="611251"/>
                </a:lnTo>
                <a:lnTo>
                  <a:pt x="920496" y="611251"/>
                </a:lnTo>
                <a:lnTo>
                  <a:pt x="914400" y="612647"/>
                </a:lnTo>
                <a:lnTo>
                  <a:pt x="970503" y="612647"/>
                </a:lnTo>
                <a:lnTo>
                  <a:pt x="975360" y="606679"/>
                </a:lnTo>
                <a:lnTo>
                  <a:pt x="977011" y="605155"/>
                </a:lnTo>
                <a:lnTo>
                  <a:pt x="941832" y="605155"/>
                </a:lnTo>
                <a:lnTo>
                  <a:pt x="943356" y="603504"/>
                </a:lnTo>
                <a:close/>
              </a:path>
              <a:path w="989329" h="637539">
                <a:moveTo>
                  <a:pt x="967866" y="21335"/>
                </a:moveTo>
                <a:lnTo>
                  <a:pt x="21463" y="21335"/>
                </a:lnTo>
                <a:lnTo>
                  <a:pt x="21463" y="22986"/>
                </a:lnTo>
                <a:lnTo>
                  <a:pt x="13843" y="32003"/>
                </a:lnTo>
                <a:lnTo>
                  <a:pt x="0" y="67182"/>
                </a:lnTo>
                <a:lnTo>
                  <a:pt x="0" y="571499"/>
                </a:lnTo>
                <a:lnTo>
                  <a:pt x="1524" y="579246"/>
                </a:lnTo>
                <a:lnTo>
                  <a:pt x="4699" y="586740"/>
                </a:lnTo>
                <a:lnTo>
                  <a:pt x="6096" y="592835"/>
                </a:lnTo>
                <a:lnTo>
                  <a:pt x="12192" y="603504"/>
                </a:lnTo>
                <a:lnTo>
                  <a:pt x="12192" y="605155"/>
                </a:lnTo>
                <a:lnTo>
                  <a:pt x="48768" y="605155"/>
                </a:lnTo>
                <a:lnTo>
                  <a:pt x="45720" y="603504"/>
                </a:lnTo>
                <a:lnTo>
                  <a:pt x="46819" y="603504"/>
                </a:lnTo>
                <a:lnTo>
                  <a:pt x="41422" y="598932"/>
                </a:lnTo>
                <a:lnTo>
                  <a:pt x="41275" y="598932"/>
                </a:lnTo>
                <a:lnTo>
                  <a:pt x="39624" y="597407"/>
                </a:lnTo>
                <a:lnTo>
                  <a:pt x="39965" y="597407"/>
                </a:lnTo>
                <a:lnTo>
                  <a:pt x="33528" y="589915"/>
                </a:lnTo>
                <a:lnTo>
                  <a:pt x="34364" y="589915"/>
                </a:lnTo>
                <a:lnTo>
                  <a:pt x="28956" y="580644"/>
                </a:lnTo>
                <a:lnTo>
                  <a:pt x="27432" y="577722"/>
                </a:lnTo>
                <a:lnTo>
                  <a:pt x="26034" y="573151"/>
                </a:lnTo>
                <a:lnTo>
                  <a:pt x="26034" y="68579"/>
                </a:lnTo>
                <a:lnTo>
                  <a:pt x="27432" y="64007"/>
                </a:lnTo>
                <a:lnTo>
                  <a:pt x="27432" y="59435"/>
                </a:lnTo>
                <a:lnTo>
                  <a:pt x="30607" y="54990"/>
                </a:lnTo>
                <a:lnTo>
                  <a:pt x="34480" y="47243"/>
                </a:lnTo>
                <a:lnTo>
                  <a:pt x="33528" y="47243"/>
                </a:lnTo>
                <a:lnTo>
                  <a:pt x="41275" y="38099"/>
                </a:lnTo>
                <a:lnTo>
                  <a:pt x="43343" y="38099"/>
                </a:lnTo>
                <a:lnTo>
                  <a:pt x="46908" y="35178"/>
                </a:lnTo>
                <a:lnTo>
                  <a:pt x="45720" y="35178"/>
                </a:lnTo>
                <a:lnTo>
                  <a:pt x="56388" y="29082"/>
                </a:lnTo>
                <a:lnTo>
                  <a:pt x="60960" y="27431"/>
                </a:lnTo>
                <a:lnTo>
                  <a:pt x="65532" y="25907"/>
                </a:lnTo>
                <a:lnTo>
                  <a:pt x="971238" y="25907"/>
                </a:lnTo>
                <a:lnTo>
                  <a:pt x="969263" y="22986"/>
                </a:lnTo>
                <a:lnTo>
                  <a:pt x="967866" y="21335"/>
                </a:lnTo>
                <a:close/>
              </a:path>
              <a:path w="989329" h="637539">
                <a:moveTo>
                  <a:pt x="45720" y="603504"/>
                </a:moveTo>
                <a:lnTo>
                  <a:pt x="48768" y="605155"/>
                </a:lnTo>
                <a:lnTo>
                  <a:pt x="48402" y="604845"/>
                </a:lnTo>
                <a:lnTo>
                  <a:pt x="45720" y="603504"/>
                </a:lnTo>
                <a:close/>
              </a:path>
              <a:path w="989329" h="637539">
                <a:moveTo>
                  <a:pt x="950299" y="598079"/>
                </a:moveTo>
                <a:lnTo>
                  <a:pt x="941832" y="605155"/>
                </a:lnTo>
                <a:lnTo>
                  <a:pt x="977011" y="605155"/>
                </a:lnTo>
                <a:lnTo>
                  <a:pt x="977011" y="603504"/>
                </a:lnTo>
                <a:lnTo>
                  <a:pt x="979868" y="598932"/>
                </a:lnTo>
                <a:lnTo>
                  <a:pt x="949579" y="598932"/>
                </a:lnTo>
                <a:lnTo>
                  <a:pt x="950299" y="598079"/>
                </a:lnTo>
                <a:close/>
              </a:path>
              <a:path w="989329" h="637539">
                <a:moveTo>
                  <a:pt x="46819" y="603504"/>
                </a:moveTo>
                <a:lnTo>
                  <a:pt x="45720" y="603504"/>
                </a:lnTo>
                <a:lnTo>
                  <a:pt x="48402" y="604845"/>
                </a:lnTo>
                <a:lnTo>
                  <a:pt x="46819" y="603504"/>
                </a:lnTo>
                <a:close/>
              </a:path>
              <a:path w="989329" h="637539">
                <a:moveTo>
                  <a:pt x="39624" y="597407"/>
                </a:moveTo>
                <a:lnTo>
                  <a:pt x="41275" y="598932"/>
                </a:lnTo>
                <a:lnTo>
                  <a:pt x="40879" y="598471"/>
                </a:lnTo>
                <a:lnTo>
                  <a:pt x="39624" y="597407"/>
                </a:lnTo>
                <a:close/>
              </a:path>
              <a:path w="989329" h="637539">
                <a:moveTo>
                  <a:pt x="40879" y="598471"/>
                </a:moveTo>
                <a:lnTo>
                  <a:pt x="41275" y="598932"/>
                </a:lnTo>
                <a:lnTo>
                  <a:pt x="41422" y="598932"/>
                </a:lnTo>
                <a:lnTo>
                  <a:pt x="40879" y="598471"/>
                </a:lnTo>
                <a:close/>
              </a:path>
              <a:path w="989329" h="637539">
                <a:moveTo>
                  <a:pt x="951103" y="597407"/>
                </a:moveTo>
                <a:lnTo>
                  <a:pt x="950299" y="598079"/>
                </a:lnTo>
                <a:lnTo>
                  <a:pt x="949579" y="598932"/>
                </a:lnTo>
                <a:lnTo>
                  <a:pt x="951103" y="597407"/>
                </a:lnTo>
                <a:close/>
              </a:path>
              <a:path w="989329" h="637539">
                <a:moveTo>
                  <a:pt x="980821" y="597407"/>
                </a:moveTo>
                <a:lnTo>
                  <a:pt x="951103" y="597407"/>
                </a:lnTo>
                <a:lnTo>
                  <a:pt x="949579" y="598932"/>
                </a:lnTo>
                <a:lnTo>
                  <a:pt x="979868" y="598932"/>
                </a:lnTo>
                <a:lnTo>
                  <a:pt x="980821" y="597407"/>
                </a:lnTo>
                <a:close/>
              </a:path>
              <a:path w="989329" h="637539">
                <a:moveTo>
                  <a:pt x="39965" y="597407"/>
                </a:moveTo>
                <a:lnTo>
                  <a:pt x="39624" y="597407"/>
                </a:lnTo>
                <a:lnTo>
                  <a:pt x="40879" y="598471"/>
                </a:lnTo>
                <a:lnTo>
                  <a:pt x="39965" y="597407"/>
                </a:lnTo>
                <a:close/>
              </a:path>
              <a:path w="989329" h="637539">
                <a:moveTo>
                  <a:pt x="984957" y="589915"/>
                </a:moveTo>
                <a:lnTo>
                  <a:pt x="957199" y="589915"/>
                </a:lnTo>
                <a:lnTo>
                  <a:pt x="950299" y="598079"/>
                </a:lnTo>
                <a:lnTo>
                  <a:pt x="951103" y="597407"/>
                </a:lnTo>
                <a:lnTo>
                  <a:pt x="980821" y="597407"/>
                </a:lnTo>
                <a:lnTo>
                  <a:pt x="984631" y="591311"/>
                </a:lnTo>
                <a:lnTo>
                  <a:pt x="984957" y="589915"/>
                </a:lnTo>
                <a:close/>
              </a:path>
              <a:path w="989329" h="637539">
                <a:moveTo>
                  <a:pt x="34364" y="589915"/>
                </a:moveTo>
                <a:lnTo>
                  <a:pt x="33528" y="589915"/>
                </a:lnTo>
                <a:lnTo>
                  <a:pt x="35179" y="591311"/>
                </a:lnTo>
                <a:lnTo>
                  <a:pt x="34364" y="589915"/>
                </a:lnTo>
                <a:close/>
              </a:path>
              <a:path w="989329" h="637539">
                <a:moveTo>
                  <a:pt x="955675" y="45846"/>
                </a:moveTo>
                <a:lnTo>
                  <a:pt x="960119" y="56514"/>
                </a:lnTo>
                <a:lnTo>
                  <a:pt x="961771" y="61086"/>
                </a:lnTo>
                <a:lnTo>
                  <a:pt x="963168" y="65531"/>
                </a:lnTo>
                <a:lnTo>
                  <a:pt x="963168" y="70103"/>
                </a:lnTo>
                <a:lnTo>
                  <a:pt x="964691" y="74675"/>
                </a:lnTo>
                <a:lnTo>
                  <a:pt x="964691" y="563880"/>
                </a:lnTo>
                <a:lnTo>
                  <a:pt x="963168" y="569976"/>
                </a:lnTo>
                <a:lnTo>
                  <a:pt x="963168" y="574547"/>
                </a:lnTo>
                <a:lnTo>
                  <a:pt x="961771" y="579246"/>
                </a:lnTo>
                <a:lnTo>
                  <a:pt x="960119" y="582168"/>
                </a:lnTo>
                <a:lnTo>
                  <a:pt x="955675" y="591311"/>
                </a:lnTo>
                <a:lnTo>
                  <a:pt x="957199" y="589915"/>
                </a:lnTo>
                <a:lnTo>
                  <a:pt x="984957" y="589915"/>
                </a:lnTo>
                <a:lnTo>
                  <a:pt x="986028" y="585343"/>
                </a:lnTo>
                <a:lnTo>
                  <a:pt x="987679" y="577722"/>
                </a:lnTo>
                <a:lnTo>
                  <a:pt x="989203" y="569976"/>
                </a:lnTo>
                <a:lnTo>
                  <a:pt x="989203" y="65531"/>
                </a:lnTo>
                <a:lnTo>
                  <a:pt x="987679" y="57911"/>
                </a:lnTo>
                <a:lnTo>
                  <a:pt x="986028" y="51942"/>
                </a:lnTo>
                <a:lnTo>
                  <a:pt x="984226" y="47243"/>
                </a:lnTo>
                <a:lnTo>
                  <a:pt x="957199" y="47243"/>
                </a:lnTo>
                <a:lnTo>
                  <a:pt x="955675" y="45846"/>
                </a:lnTo>
                <a:close/>
              </a:path>
              <a:path w="989329" h="637539">
                <a:moveTo>
                  <a:pt x="35179" y="45846"/>
                </a:moveTo>
                <a:lnTo>
                  <a:pt x="33528" y="47243"/>
                </a:lnTo>
                <a:lnTo>
                  <a:pt x="34480" y="47243"/>
                </a:lnTo>
                <a:lnTo>
                  <a:pt x="35179" y="45846"/>
                </a:lnTo>
                <a:close/>
              </a:path>
              <a:path w="989329" h="637539">
                <a:moveTo>
                  <a:pt x="979551" y="38099"/>
                </a:moveTo>
                <a:lnTo>
                  <a:pt x="949579" y="38099"/>
                </a:lnTo>
                <a:lnTo>
                  <a:pt x="957199" y="47243"/>
                </a:lnTo>
                <a:lnTo>
                  <a:pt x="984226" y="47243"/>
                </a:lnTo>
                <a:lnTo>
                  <a:pt x="983107" y="44322"/>
                </a:lnTo>
                <a:lnTo>
                  <a:pt x="979551" y="38099"/>
                </a:lnTo>
                <a:close/>
              </a:path>
              <a:path w="989329" h="637539">
                <a:moveTo>
                  <a:pt x="43343" y="38099"/>
                </a:moveTo>
                <a:lnTo>
                  <a:pt x="41275" y="38099"/>
                </a:lnTo>
                <a:lnTo>
                  <a:pt x="39624" y="41147"/>
                </a:lnTo>
                <a:lnTo>
                  <a:pt x="43343" y="38099"/>
                </a:lnTo>
                <a:close/>
              </a:path>
              <a:path w="989329" h="637539">
                <a:moveTo>
                  <a:pt x="977011" y="33654"/>
                </a:moveTo>
                <a:lnTo>
                  <a:pt x="941832" y="33654"/>
                </a:lnTo>
                <a:lnTo>
                  <a:pt x="951103" y="41147"/>
                </a:lnTo>
                <a:lnTo>
                  <a:pt x="949579" y="38099"/>
                </a:lnTo>
                <a:lnTo>
                  <a:pt x="979551" y="38099"/>
                </a:lnTo>
                <a:lnTo>
                  <a:pt x="977011" y="33654"/>
                </a:lnTo>
                <a:close/>
              </a:path>
              <a:path w="989329" h="637539">
                <a:moveTo>
                  <a:pt x="48768" y="33654"/>
                </a:moveTo>
                <a:lnTo>
                  <a:pt x="45720" y="35178"/>
                </a:lnTo>
                <a:lnTo>
                  <a:pt x="46908" y="35178"/>
                </a:lnTo>
                <a:lnTo>
                  <a:pt x="48768" y="33654"/>
                </a:lnTo>
                <a:close/>
              </a:path>
              <a:path w="989329" h="637539">
                <a:moveTo>
                  <a:pt x="971238" y="25907"/>
                </a:moveTo>
                <a:lnTo>
                  <a:pt x="926591" y="25907"/>
                </a:lnTo>
                <a:lnTo>
                  <a:pt x="931163" y="27431"/>
                </a:lnTo>
                <a:lnTo>
                  <a:pt x="934338" y="29082"/>
                </a:lnTo>
                <a:lnTo>
                  <a:pt x="943356" y="35178"/>
                </a:lnTo>
                <a:lnTo>
                  <a:pt x="941832" y="33654"/>
                </a:lnTo>
                <a:lnTo>
                  <a:pt x="977011" y="33654"/>
                </a:lnTo>
                <a:lnTo>
                  <a:pt x="977011" y="32003"/>
                </a:lnTo>
                <a:lnTo>
                  <a:pt x="975360" y="32003"/>
                </a:lnTo>
                <a:lnTo>
                  <a:pt x="971238" y="25907"/>
                </a:lnTo>
                <a:close/>
              </a:path>
              <a:path w="989329" h="637539">
                <a:moveTo>
                  <a:pt x="957199" y="12318"/>
                </a:moveTo>
                <a:lnTo>
                  <a:pt x="32131" y="12318"/>
                </a:lnTo>
                <a:lnTo>
                  <a:pt x="32131" y="13842"/>
                </a:lnTo>
                <a:lnTo>
                  <a:pt x="22860" y="21335"/>
                </a:lnTo>
                <a:lnTo>
                  <a:pt x="966343" y="21335"/>
                </a:lnTo>
                <a:lnTo>
                  <a:pt x="957199" y="13842"/>
                </a:lnTo>
                <a:lnTo>
                  <a:pt x="957199" y="12318"/>
                </a:lnTo>
                <a:close/>
              </a:path>
              <a:path w="989329" h="637539">
                <a:moveTo>
                  <a:pt x="922019" y="0"/>
                </a:moveTo>
                <a:lnTo>
                  <a:pt x="65532" y="0"/>
                </a:lnTo>
                <a:lnTo>
                  <a:pt x="51943" y="3047"/>
                </a:lnTo>
                <a:lnTo>
                  <a:pt x="44196" y="6222"/>
                </a:lnTo>
                <a:lnTo>
                  <a:pt x="33528" y="12318"/>
                </a:lnTo>
                <a:lnTo>
                  <a:pt x="955675" y="12318"/>
                </a:lnTo>
                <a:lnTo>
                  <a:pt x="943356" y="6222"/>
                </a:lnTo>
                <a:lnTo>
                  <a:pt x="937260" y="3047"/>
                </a:lnTo>
                <a:lnTo>
                  <a:pt x="929766" y="1650"/>
                </a:lnTo>
                <a:lnTo>
                  <a:pt x="922019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7" name="object 71"/>
          <p:cNvSpPr/>
          <p:nvPr/>
        </p:nvSpPr>
        <p:spPr>
          <a:xfrm>
            <a:off x="6716520" y="3240720"/>
            <a:ext cx="612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080"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58.5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72"/>
          <p:cNvSpPr/>
          <p:nvPr/>
        </p:nvSpPr>
        <p:spPr>
          <a:xfrm>
            <a:off x="6503400" y="3836520"/>
            <a:ext cx="851400" cy="540360"/>
          </a:xfrm>
          <a:custGeom>
            <a:avLst/>
            <a:gdLst>
              <a:gd name="textAreaLeft" fmla="*/ 0 w 851400"/>
              <a:gd name="textAreaRight" fmla="*/ 851760 w 851400"/>
              <a:gd name="textAreaTop" fmla="*/ 0 h 540360"/>
              <a:gd name="textAreaBottom" fmla="*/ 540720 h 540360"/>
            </a:gdLst>
            <a:ahLst/>
            <a:rect l="textAreaLeft" t="textAreaTop" r="textAreaRight" b="textAreaBottom"/>
            <a:pathLst>
              <a:path w="965200" h="612775">
                <a:moveTo>
                  <a:pt x="902081" y="0"/>
                </a:moveTo>
                <a:lnTo>
                  <a:pt x="60960" y="0"/>
                </a:lnTo>
                <a:lnTo>
                  <a:pt x="37290" y="4810"/>
                </a:lnTo>
                <a:lnTo>
                  <a:pt x="17906" y="17907"/>
                </a:lnTo>
                <a:lnTo>
                  <a:pt x="4810" y="37290"/>
                </a:lnTo>
                <a:lnTo>
                  <a:pt x="0" y="60960"/>
                </a:lnTo>
                <a:lnTo>
                  <a:pt x="0" y="550164"/>
                </a:lnTo>
                <a:lnTo>
                  <a:pt x="4810" y="574788"/>
                </a:lnTo>
                <a:lnTo>
                  <a:pt x="17907" y="594661"/>
                </a:lnTo>
                <a:lnTo>
                  <a:pt x="37290" y="607939"/>
                </a:lnTo>
                <a:lnTo>
                  <a:pt x="60960" y="612775"/>
                </a:lnTo>
                <a:lnTo>
                  <a:pt x="902081" y="612775"/>
                </a:lnTo>
                <a:lnTo>
                  <a:pt x="926705" y="607939"/>
                </a:lnTo>
                <a:lnTo>
                  <a:pt x="946578" y="594661"/>
                </a:lnTo>
                <a:lnTo>
                  <a:pt x="959856" y="574788"/>
                </a:lnTo>
                <a:lnTo>
                  <a:pt x="964691" y="550164"/>
                </a:lnTo>
                <a:lnTo>
                  <a:pt x="964691" y="60960"/>
                </a:lnTo>
                <a:lnTo>
                  <a:pt x="959856" y="37290"/>
                </a:lnTo>
                <a:lnTo>
                  <a:pt x="946578" y="17907"/>
                </a:lnTo>
                <a:lnTo>
                  <a:pt x="926705" y="4810"/>
                </a:lnTo>
                <a:lnTo>
                  <a:pt x="902081" y="0"/>
                </a:lnTo>
                <a:close/>
              </a:path>
            </a:pathLst>
          </a:custGeom>
          <a:solidFill>
            <a:srgbClr val="4aa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9" name="object 73"/>
          <p:cNvSpPr/>
          <p:nvPr/>
        </p:nvSpPr>
        <p:spPr>
          <a:xfrm>
            <a:off x="6492600" y="382608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547" y="624840"/>
                </a:moveTo>
                <a:lnTo>
                  <a:pt x="33655" y="624840"/>
                </a:lnTo>
                <a:lnTo>
                  <a:pt x="45847" y="630936"/>
                </a:lnTo>
                <a:lnTo>
                  <a:pt x="51943" y="633857"/>
                </a:lnTo>
                <a:lnTo>
                  <a:pt x="59436" y="635508"/>
                </a:lnTo>
                <a:lnTo>
                  <a:pt x="67183" y="637032"/>
                </a:lnTo>
                <a:lnTo>
                  <a:pt x="923544" y="637032"/>
                </a:lnTo>
                <a:lnTo>
                  <a:pt x="931291" y="635508"/>
                </a:lnTo>
                <a:lnTo>
                  <a:pt x="937387" y="633857"/>
                </a:lnTo>
                <a:lnTo>
                  <a:pt x="944880" y="630936"/>
                </a:lnTo>
                <a:lnTo>
                  <a:pt x="955547" y="624840"/>
                </a:lnTo>
                <a:close/>
              </a:path>
              <a:path w="989329" h="637539">
                <a:moveTo>
                  <a:pt x="966343" y="615696"/>
                </a:moveTo>
                <a:lnTo>
                  <a:pt x="22987" y="615696"/>
                </a:lnTo>
                <a:lnTo>
                  <a:pt x="32004" y="623189"/>
                </a:lnTo>
                <a:lnTo>
                  <a:pt x="32004" y="624840"/>
                </a:lnTo>
                <a:lnTo>
                  <a:pt x="957072" y="624840"/>
                </a:lnTo>
                <a:lnTo>
                  <a:pt x="957072" y="623189"/>
                </a:lnTo>
                <a:lnTo>
                  <a:pt x="966343" y="615696"/>
                </a:lnTo>
                <a:close/>
              </a:path>
              <a:path w="989329" h="637539">
                <a:moveTo>
                  <a:pt x="47244" y="32004"/>
                </a:moveTo>
                <a:lnTo>
                  <a:pt x="12319" y="32004"/>
                </a:lnTo>
                <a:lnTo>
                  <a:pt x="12319" y="33528"/>
                </a:lnTo>
                <a:lnTo>
                  <a:pt x="6223" y="45593"/>
                </a:lnTo>
                <a:lnTo>
                  <a:pt x="3048" y="51689"/>
                </a:lnTo>
                <a:lnTo>
                  <a:pt x="1651" y="59436"/>
                </a:lnTo>
                <a:lnTo>
                  <a:pt x="0" y="66929"/>
                </a:lnTo>
                <a:lnTo>
                  <a:pt x="0" y="571500"/>
                </a:lnTo>
                <a:lnTo>
                  <a:pt x="1651" y="578993"/>
                </a:lnTo>
                <a:lnTo>
                  <a:pt x="3048" y="585089"/>
                </a:lnTo>
                <a:lnTo>
                  <a:pt x="6223" y="592836"/>
                </a:lnTo>
                <a:lnTo>
                  <a:pt x="12319" y="603504"/>
                </a:lnTo>
                <a:lnTo>
                  <a:pt x="12319" y="605028"/>
                </a:lnTo>
                <a:lnTo>
                  <a:pt x="13843" y="605028"/>
                </a:lnTo>
                <a:lnTo>
                  <a:pt x="21336" y="614172"/>
                </a:lnTo>
                <a:lnTo>
                  <a:pt x="21336" y="615696"/>
                </a:lnTo>
                <a:lnTo>
                  <a:pt x="967740" y="615696"/>
                </a:lnTo>
                <a:lnTo>
                  <a:pt x="967740" y="614172"/>
                </a:lnTo>
                <a:lnTo>
                  <a:pt x="970429" y="610997"/>
                </a:lnTo>
                <a:lnTo>
                  <a:pt x="64008" y="610997"/>
                </a:lnTo>
                <a:lnTo>
                  <a:pt x="59436" y="609600"/>
                </a:lnTo>
                <a:lnTo>
                  <a:pt x="54991" y="607949"/>
                </a:lnTo>
                <a:lnTo>
                  <a:pt x="48323" y="603504"/>
                </a:lnTo>
                <a:lnTo>
                  <a:pt x="47244" y="603504"/>
                </a:lnTo>
                <a:lnTo>
                  <a:pt x="41847" y="598932"/>
                </a:lnTo>
                <a:lnTo>
                  <a:pt x="39751" y="598932"/>
                </a:lnTo>
                <a:lnTo>
                  <a:pt x="34657" y="591185"/>
                </a:lnTo>
                <a:lnTo>
                  <a:pt x="33655" y="591185"/>
                </a:lnTo>
                <a:lnTo>
                  <a:pt x="29083" y="580517"/>
                </a:lnTo>
                <a:lnTo>
                  <a:pt x="27559" y="577596"/>
                </a:lnTo>
                <a:lnTo>
                  <a:pt x="25908" y="571500"/>
                </a:lnTo>
                <a:lnTo>
                  <a:pt x="25908" y="62357"/>
                </a:lnTo>
                <a:lnTo>
                  <a:pt x="27559" y="57785"/>
                </a:lnTo>
                <a:lnTo>
                  <a:pt x="29083" y="54864"/>
                </a:lnTo>
                <a:lnTo>
                  <a:pt x="33655" y="45593"/>
                </a:lnTo>
                <a:lnTo>
                  <a:pt x="34685" y="45593"/>
                </a:lnTo>
                <a:lnTo>
                  <a:pt x="38806" y="39497"/>
                </a:lnTo>
                <a:lnTo>
                  <a:pt x="38100" y="39497"/>
                </a:lnTo>
                <a:lnTo>
                  <a:pt x="39751" y="38100"/>
                </a:lnTo>
                <a:lnTo>
                  <a:pt x="47244" y="32004"/>
                </a:lnTo>
                <a:close/>
              </a:path>
              <a:path w="989329" h="637539">
                <a:moveTo>
                  <a:pt x="943483" y="601853"/>
                </a:moveTo>
                <a:lnTo>
                  <a:pt x="932815" y="607949"/>
                </a:lnTo>
                <a:lnTo>
                  <a:pt x="929640" y="609600"/>
                </a:lnTo>
                <a:lnTo>
                  <a:pt x="923544" y="610997"/>
                </a:lnTo>
                <a:lnTo>
                  <a:pt x="970429" y="610997"/>
                </a:lnTo>
                <a:lnTo>
                  <a:pt x="975487" y="605028"/>
                </a:lnTo>
                <a:lnTo>
                  <a:pt x="977011" y="605028"/>
                </a:lnTo>
                <a:lnTo>
                  <a:pt x="977011" y="603504"/>
                </a:lnTo>
                <a:lnTo>
                  <a:pt x="941959" y="603504"/>
                </a:lnTo>
                <a:lnTo>
                  <a:pt x="943483" y="601853"/>
                </a:lnTo>
                <a:close/>
              </a:path>
              <a:path w="989329" h="637539">
                <a:moveTo>
                  <a:pt x="45847" y="601853"/>
                </a:moveTo>
                <a:lnTo>
                  <a:pt x="47244" y="603504"/>
                </a:lnTo>
                <a:lnTo>
                  <a:pt x="48323" y="603504"/>
                </a:lnTo>
                <a:lnTo>
                  <a:pt x="45847" y="601853"/>
                </a:lnTo>
                <a:close/>
              </a:path>
              <a:path w="989329" h="637539">
                <a:moveTo>
                  <a:pt x="949814" y="596754"/>
                </a:moveTo>
                <a:lnTo>
                  <a:pt x="941959" y="603504"/>
                </a:lnTo>
                <a:lnTo>
                  <a:pt x="977011" y="603504"/>
                </a:lnTo>
                <a:lnTo>
                  <a:pt x="979226" y="598932"/>
                </a:lnTo>
                <a:lnTo>
                  <a:pt x="948055" y="598932"/>
                </a:lnTo>
                <a:lnTo>
                  <a:pt x="949814" y="596754"/>
                </a:lnTo>
                <a:close/>
              </a:path>
              <a:path w="989329" h="637539">
                <a:moveTo>
                  <a:pt x="38100" y="595757"/>
                </a:moveTo>
                <a:lnTo>
                  <a:pt x="39751" y="598932"/>
                </a:lnTo>
                <a:lnTo>
                  <a:pt x="41847" y="598932"/>
                </a:lnTo>
                <a:lnTo>
                  <a:pt x="38100" y="595757"/>
                </a:lnTo>
                <a:close/>
              </a:path>
              <a:path w="989329" h="637539">
                <a:moveTo>
                  <a:pt x="950976" y="595757"/>
                </a:moveTo>
                <a:lnTo>
                  <a:pt x="949814" y="596754"/>
                </a:lnTo>
                <a:lnTo>
                  <a:pt x="948055" y="598932"/>
                </a:lnTo>
                <a:lnTo>
                  <a:pt x="950976" y="595757"/>
                </a:lnTo>
                <a:close/>
              </a:path>
              <a:path w="989329" h="637539">
                <a:moveTo>
                  <a:pt x="980764" y="595757"/>
                </a:moveTo>
                <a:lnTo>
                  <a:pt x="950976" y="595757"/>
                </a:lnTo>
                <a:lnTo>
                  <a:pt x="948055" y="598932"/>
                </a:lnTo>
                <a:lnTo>
                  <a:pt x="979226" y="598932"/>
                </a:lnTo>
                <a:lnTo>
                  <a:pt x="980764" y="595757"/>
                </a:lnTo>
                <a:close/>
              </a:path>
              <a:path w="989329" h="637539">
                <a:moveTo>
                  <a:pt x="983773" y="589661"/>
                </a:moveTo>
                <a:lnTo>
                  <a:pt x="955547" y="589661"/>
                </a:lnTo>
                <a:lnTo>
                  <a:pt x="949814" y="596754"/>
                </a:lnTo>
                <a:lnTo>
                  <a:pt x="950976" y="595757"/>
                </a:lnTo>
                <a:lnTo>
                  <a:pt x="980764" y="595757"/>
                </a:lnTo>
                <a:lnTo>
                  <a:pt x="982980" y="591185"/>
                </a:lnTo>
                <a:lnTo>
                  <a:pt x="983773" y="589661"/>
                </a:lnTo>
                <a:close/>
              </a:path>
              <a:path w="989329" h="637539">
                <a:moveTo>
                  <a:pt x="33655" y="589661"/>
                </a:moveTo>
                <a:lnTo>
                  <a:pt x="33655" y="591185"/>
                </a:lnTo>
                <a:lnTo>
                  <a:pt x="34657" y="591185"/>
                </a:lnTo>
                <a:lnTo>
                  <a:pt x="33655" y="589661"/>
                </a:lnTo>
                <a:close/>
              </a:path>
              <a:path w="989329" h="637539">
                <a:moveTo>
                  <a:pt x="954151" y="45593"/>
                </a:moveTo>
                <a:lnTo>
                  <a:pt x="960247" y="56261"/>
                </a:lnTo>
                <a:lnTo>
                  <a:pt x="961644" y="59436"/>
                </a:lnTo>
                <a:lnTo>
                  <a:pt x="963168" y="64007"/>
                </a:lnTo>
                <a:lnTo>
                  <a:pt x="963168" y="572897"/>
                </a:lnTo>
                <a:lnTo>
                  <a:pt x="961644" y="577596"/>
                </a:lnTo>
                <a:lnTo>
                  <a:pt x="960247" y="582168"/>
                </a:lnTo>
                <a:lnTo>
                  <a:pt x="954151" y="591185"/>
                </a:lnTo>
                <a:lnTo>
                  <a:pt x="955547" y="589661"/>
                </a:lnTo>
                <a:lnTo>
                  <a:pt x="983773" y="589661"/>
                </a:lnTo>
                <a:lnTo>
                  <a:pt x="986155" y="585089"/>
                </a:lnTo>
                <a:lnTo>
                  <a:pt x="987679" y="577596"/>
                </a:lnTo>
                <a:lnTo>
                  <a:pt x="989076" y="569849"/>
                </a:lnTo>
                <a:lnTo>
                  <a:pt x="989076" y="65532"/>
                </a:lnTo>
                <a:lnTo>
                  <a:pt x="987679" y="57785"/>
                </a:lnTo>
                <a:lnTo>
                  <a:pt x="986155" y="50165"/>
                </a:lnTo>
                <a:lnTo>
                  <a:pt x="984533" y="47117"/>
                </a:lnTo>
                <a:lnTo>
                  <a:pt x="955547" y="47117"/>
                </a:lnTo>
                <a:lnTo>
                  <a:pt x="954151" y="45593"/>
                </a:lnTo>
                <a:close/>
              </a:path>
              <a:path w="989329" h="637539">
                <a:moveTo>
                  <a:pt x="34685" y="45593"/>
                </a:moveTo>
                <a:lnTo>
                  <a:pt x="33655" y="45593"/>
                </a:lnTo>
                <a:lnTo>
                  <a:pt x="33655" y="47117"/>
                </a:lnTo>
                <a:lnTo>
                  <a:pt x="34685" y="45593"/>
                </a:lnTo>
                <a:close/>
              </a:path>
              <a:path w="989329" h="637539">
                <a:moveTo>
                  <a:pt x="948055" y="38100"/>
                </a:moveTo>
                <a:lnTo>
                  <a:pt x="955547" y="47117"/>
                </a:lnTo>
                <a:lnTo>
                  <a:pt x="984533" y="47117"/>
                </a:lnTo>
                <a:lnTo>
                  <a:pt x="982980" y="44196"/>
                </a:lnTo>
                <a:lnTo>
                  <a:pt x="980350" y="39497"/>
                </a:lnTo>
                <a:lnTo>
                  <a:pt x="950976" y="39497"/>
                </a:lnTo>
                <a:lnTo>
                  <a:pt x="948055" y="38100"/>
                </a:lnTo>
                <a:close/>
              </a:path>
              <a:path w="989329" h="637539">
                <a:moveTo>
                  <a:pt x="39751" y="38100"/>
                </a:moveTo>
                <a:lnTo>
                  <a:pt x="38100" y="39497"/>
                </a:lnTo>
                <a:lnTo>
                  <a:pt x="39684" y="38198"/>
                </a:lnTo>
                <a:close/>
              </a:path>
              <a:path w="989329" h="637539">
                <a:moveTo>
                  <a:pt x="39684" y="38198"/>
                </a:moveTo>
                <a:lnTo>
                  <a:pt x="38100" y="39497"/>
                </a:lnTo>
                <a:lnTo>
                  <a:pt x="38806" y="39497"/>
                </a:lnTo>
                <a:lnTo>
                  <a:pt x="39684" y="38198"/>
                </a:lnTo>
                <a:close/>
              </a:path>
              <a:path w="989329" h="637539">
                <a:moveTo>
                  <a:pt x="977011" y="32004"/>
                </a:moveTo>
                <a:lnTo>
                  <a:pt x="941959" y="32004"/>
                </a:lnTo>
                <a:lnTo>
                  <a:pt x="950976" y="39497"/>
                </a:lnTo>
                <a:lnTo>
                  <a:pt x="980350" y="39497"/>
                </a:lnTo>
                <a:lnTo>
                  <a:pt x="977011" y="33528"/>
                </a:lnTo>
                <a:lnTo>
                  <a:pt x="977011" y="32004"/>
                </a:lnTo>
                <a:close/>
              </a:path>
              <a:path w="989329" h="637539">
                <a:moveTo>
                  <a:pt x="39804" y="38100"/>
                </a:moveTo>
              </a:path>
              <a:path w="989329" h="637539">
                <a:moveTo>
                  <a:pt x="957072" y="12065"/>
                </a:moveTo>
                <a:lnTo>
                  <a:pt x="32004" y="12065"/>
                </a:lnTo>
                <a:lnTo>
                  <a:pt x="22987" y="19684"/>
                </a:lnTo>
                <a:lnTo>
                  <a:pt x="21336" y="21335"/>
                </a:lnTo>
                <a:lnTo>
                  <a:pt x="21336" y="22859"/>
                </a:lnTo>
                <a:lnTo>
                  <a:pt x="13843" y="32004"/>
                </a:lnTo>
                <a:lnTo>
                  <a:pt x="47244" y="32004"/>
                </a:lnTo>
                <a:lnTo>
                  <a:pt x="45847" y="33528"/>
                </a:lnTo>
                <a:lnTo>
                  <a:pt x="56515" y="28829"/>
                </a:lnTo>
                <a:lnTo>
                  <a:pt x="59436" y="27432"/>
                </a:lnTo>
                <a:lnTo>
                  <a:pt x="64008" y="25908"/>
                </a:lnTo>
                <a:lnTo>
                  <a:pt x="70104" y="24257"/>
                </a:lnTo>
                <a:lnTo>
                  <a:pt x="968923" y="24257"/>
                </a:lnTo>
                <a:lnTo>
                  <a:pt x="967740" y="22859"/>
                </a:lnTo>
                <a:lnTo>
                  <a:pt x="967740" y="21335"/>
                </a:lnTo>
                <a:lnTo>
                  <a:pt x="966343" y="19684"/>
                </a:lnTo>
                <a:lnTo>
                  <a:pt x="957072" y="12065"/>
                </a:lnTo>
                <a:close/>
              </a:path>
              <a:path w="989329" h="637539">
                <a:moveTo>
                  <a:pt x="968923" y="24257"/>
                </a:moveTo>
                <a:lnTo>
                  <a:pt x="916051" y="24257"/>
                </a:lnTo>
                <a:lnTo>
                  <a:pt x="920622" y="25908"/>
                </a:lnTo>
                <a:lnTo>
                  <a:pt x="925068" y="25908"/>
                </a:lnTo>
                <a:lnTo>
                  <a:pt x="929640" y="27432"/>
                </a:lnTo>
                <a:lnTo>
                  <a:pt x="934212" y="28829"/>
                </a:lnTo>
                <a:lnTo>
                  <a:pt x="943483" y="33528"/>
                </a:lnTo>
                <a:lnTo>
                  <a:pt x="941959" y="32004"/>
                </a:lnTo>
                <a:lnTo>
                  <a:pt x="975487" y="32004"/>
                </a:lnTo>
                <a:lnTo>
                  <a:pt x="968923" y="24257"/>
                </a:lnTo>
                <a:close/>
              </a:path>
              <a:path w="989329" h="637539">
                <a:moveTo>
                  <a:pt x="922147" y="0"/>
                </a:moveTo>
                <a:lnTo>
                  <a:pt x="65659" y="0"/>
                </a:lnTo>
                <a:lnTo>
                  <a:pt x="57912" y="1397"/>
                </a:lnTo>
                <a:lnTo>
                  <a:pt x="51943" y="2921"/>
                </a:lnTo>
                <a:lnTo>
                  <a:pt x="44323" y="6096"/>
                </a:lnTo>
                <a:lnTo>
                  <a:pt x="33655" y="12065"/>
                </a:lnTo>
                <a:lnTo>
                  <a:pt x="955547" y="12065"/>
                </a:lnTo>
                <a:lnTo>
                  <a:pt x="943483" y="4572"/>
                </a:lnTo>
                <a:lnTo>
                  <a:pt x="937387" y="2921"/>
                </a:lnTo>
                <a:lnTo>
                  <a:pt x="929640" y="1397"/>
                </a:lnTo>
                <a:lnTo>
                  <a:pt x="9221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0" name="object 74"/>
          <p:cNvSpPr/>
          <p:nvPr/>
        </p:nvSpPr>
        <p:spPr>
          <a:xfrm>
            <a:off x="6590880" y="3921480"/>
            <a:ext cx="862920" cy="54828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1" name="object 75"/>
          <p:cNvSpPr/>
          <p:nvPr/>
        </p:nvSpPr>
        <p:spPr>
          <a:xfrm>
            <a:off x="6586560" y="3914640"/>
            <a:ext cx="872640" cy="5634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89329" h="638810">
                <a:moveTo>
                  <a:pt x="923671" y="637031"/>
                </a:moveTo>
                <a:lnTo>
                  <a:pt x="67056" y="637031"/>
                </a:lnTo>
                <a:lnTo>
                  <a:pt x="74803" y="638682"/>
                </a:lnTo>
                <a:lnTo>
                  <a:pt x="915924" y="638682"/>
                </a:lnTo>
                <a:lnTo>
                  <a:pt x="923671" y="637031"/>
                </a:lnTo>
                <a:close/>
              </a:path>
              <a:path w="989329" h="638810">
                <a:moveTo>
                  <a:pt x="915924" y="0"/>
                </a:moveTo>
                <a:lnTo>
                  <a:pt x="73279" y="0"/>
                </a:lnTo>
                <a:lnTo>
                  <a:pt x="58039" y="3174"/>
                </a:lnTo>
                <a:lnTo>
                  <a:pt x="51943" y="4571"/>
                </a:lnTo>
                <a:lnTo>
                  <a:pt x="33528" y="12191"/>
                </a:lnTo>
                <a:lnTo>
                  <a:pt x="33528" y="13842"/>
                </a:lnTo>
                <a:lnTo>
                  <a:pt x="32131" y="13842"/>
                </a:lnTo>
                <a:lnTo>
                  <a:pt x="22860" y="21335"/>
                </a:lnTo>
                <a:lnTo>
                  <a:pt x="21463" y="22859"/>
                </a:lnTo>
                <a:lnTo>
                  <a:pt x="13843" y="32003"/>
                </a:lnTo>
                <a:lnTo>
                  <a:pt x="13843" y="33527"/>
                </a:lnTo>
                <a:lnTo>
                  <a:pt x="12192" y="33527"/>
                </a:lnTo>
                <a:lnTo>
                  <a:pt x="12192" y="35178"/>
                </a:lnTo>
                <a:lnTo>
                  <a:pt x="6096" y="45846"/>
                </a:lnTo>
                <a:lnTo>
                  <a:pt x="3175" y="53339"/>
                </a:lnTo>
                <a:lnTo>
                  <a:pt x="1524" y="60959"/>
                </a:lnTo>
                <a:lnTo>
                  <a:pt x="0" y="67182"/>
                </a:lnTo>
                <a:lnTo>
                  <a:pt x="0" y="573150"/>
                </a:lnTo>
                <a:lnTo>
                  <a:pt x="1524" y="579246"/>
                </a:lnTo>
                <a:lnTo>
                  <a:pt x="4699" y="586739"/>
                </a:lnTo>
                <a:lnTo>
                  <a:pt x="6096" y="594359"/>
                </a:lnTo>
                <a:lnTo>
                  <a:pt x="12192" y="605027"/>
                </a:lnTo>
                <a:lnTo>
                  <a:pt x="13843" y="606678"/>
                </a:lnTo>
                <a:lnTo>
                  <a:pt x="22860" y="617346"/>
                </a:lnTo>
                <a:lnTo>
                  <a:pt x="32131" y="624839"/>
                </a:lnTo>
                <a:lnTo>
                  <a:pt x="33528" y="626363"/>
                </a:lnTo>
                <a:lnTo>
                  <a:pt x="45720" y="632459"/>
                </a:lnTo>
                <a:lnTo>
                  <a:pt x="53467" y="635507"/>
                </a:lnTo>
                <a:lnTo>
                  <a:pt x="59562" y="637031"/>
                </a:lnTo>
                <a:lnTo>
                  <a:pt x="931163" y="637031"/>
                </a:lnTo>
                <a:lnTo>
                  <a:pt x="938911" y="634110"/>
                </a:lnTo>
                <a:lnTo>
                  <a:pt x="945007" y="630935"/>
                </a:lnTo>
                <a:lnTo>
                  <a:pt x="955675" y="626363"/>
                </a:lnTo>
                <a:lnTo>
                  <a:pt x="957199" y="626363"/>
                </a:lnTo>
                <a:lnTo>
                  <a:pt x="957199" y="624839"/>
                </a:lnTo>
                <a:lnTo>
                  <a:pt x="966343" y="617346"/>
                </a:lnTo>
                <a:lnTo>
                  <a:pt x="967866" y="617346"/>
                </a:lnTo>
                <a:lnTo>
                  <a:pt x="967866" y="615695"/>
                </a:lnTo>
                <a:lnTo>
                  <a:pt x="969263" y="615695"/>
                </a:lnTo>
                <a:lnTo>
                  <a:pt x="971238" y="612774"/>
                </a:lnTo>
                <a:lnTo>
                  <a:pt x="68707" y="612774"/>
                </a:lnTo>
                <a:lnTo>
                  <a:pt x="64135" y="611250"/>
                </a:lnTo>
                <a:lnTo>
                  <a:pt x="59562" y="609599"/>
                </a:lnTo>
                <a:lnTo>
                  <a:pt x="54864" y="608202"/>
                </a:lnTo>
                <a:lnTo>
                  <a:pt x="45720" y="603503"/>
                </a:lnTo>
                <a:lnTo>
                  <a:pt x="46939" y="603503"/>
                </a:lnTo>
                <a:lnTo>
                  <a:pt x="41452" y="598931"/>
                </a:lnTo>
                <a:lnTo>
                  <a:pt x="41275" y="598931"/>
                </a:lnTo>
                <a:lnTo>
                  <a:pt x="39624" y="597407"/>
                </a:lnTo>
                <a:lnTo>
                  <a:pt x="39965" y="597407"/>
                </a:lnTo>
                <a:lnTo>
                  <a:pt x="36037" y="592835"/>
                </a:lnTo>
                <a:lnTo>
                  <a:pt x="35179" y="592835"/>
                </a:lnTo>
                <a:lnTo>
                  <a:pt x="28956" y="582167"/>
                </a:lnTo>
                <a:lnTo>
                  <a:pt x="27432" y="577595"/>
                </a:lnTo>
                <a:lnTo>
                  <a:pt x="26034" y="573150"/>
                </a:lnTo>
                <a:lnTo>
                  <a:pt x="26034" y="68706"/>
                </a:lnTo>
                <a:lnTo>
                  <a:pt x="27432" y="64007"/>
                </a:lnTo>
                <a:lnTo>
                  <a:pt x="27432" y="59435"/>
                </a:lnTo>
                <a:lnTo>
                  <a:pt x="30607" y="54863"/>
                </a:lnTo>
                <a:lnTo>
                  <a:pt x="34326" y="48767"/>
                </a:lnTo>
                <a:lnTo>
                  <a:pt x="33528" y="48767"/>
                </a:lnTo>
                <a:lnTo>
                  <a:pt x="39965" y="41274"/>
                </a:lnTo>
                <a:lnTo>
                  <a:pt x="39624" y="41274"/>
                </a:lnTo>
                <a:lnTo>
                  <a:pt x="41275" y="39750"/>
                </a:lnTo>
                <a:lnTo>
                  <a:pt x="41422" y="39750"/>
                </a:lnTo>
                <a:lnTo>
                  <a:pt x="46819" y="35178"/>
                </a:lnTo>
                <a:lnTo>
                  <a:pt x="45720" y="35178"/>
                </a:lnTo>
                <a:lnTo>
                  <a:pt x="56388" y="29082"/>
                </a:lnTo>
                <a:lnTo>
                  <a:pt x="60960" y="27431"/>
                </a:lnTo>
                <a:lnTo>
                  <a:pt x="65532" y="27431"/>
                </a:lnTo>
                <a:lnTo>
                  <a:pt x="70231" y="25907"/>
                </a:lnTo>
                <a:lnTo>
                  <a:pt x="971295" y="25907"/>
                </a:lnTo>
                <a:lnTo>
                  <a:pt x="969263" y="22859"/>
                </a:lnTo>
                <a:lnTo>
                  <a:pt x="967866" y="22859"/>
                </a:lnTo>
                <a:lnTo>
                  <a:pt x="967866" y="21335"/>
                </a:lnTo>
                <a:lnTo>
                  <a:pt x="966343" y="21335"/>
                </a:lnTo>
                <a:lnTo>
                  <a:pt x="957199" y="13842"/>
                </a:lnTo>
                <a:lnTo>
                  <a:pt x="955675" y="12191"/>
                </a:lnTo>
                <a:lnTo>
                  <a:pt x="943356" y="6095"/>
                </a:lnTo>
                <a:lnTo>
                  <a:pt x="937260" y="4571"/>
                </a:lnTo>
                <a:lnTo>
                  <a:pt x="929766" y="1650"/>
                </a:lnTo>
                <a:lnTo>
                  <a:pt x="922019" y="1650"/>
                </a:lnTo>
                <a:lnTo>
                  <a:pt x="915924" y="0"/>
                </a:lnTo>
                <a:close/>
              </a:path>
              <a:path w="989329" h="638810">
                <a:moveTo>
                  <a:pt x="943356" y="603503"/>
                </a:moveTo>
                <a:lnTo>
                  <a:pt x="929766" y="611250"/>
                </a:lnTo>
                <a:lnTo>
                  <a:pt x="925068" y="611250"/>
                </a:lnTo>
                <a:lnTo>
                  <a:pt x="920496" y="612774"/>
                </a:lnTo>
                <a:lnTo>
                  <a:pt x="971238" y="612774"/>
                </a:lnTo>
                <a:lnTo>
                  <a:pt x="975360" y="606678"/>
                </a:lnTo>
                <a:lnTo>
                  <a:pt x="977011" y="606678"/>
                </a:lnTo>
                <a:lnTo>
                  <a:pt x="977011" y="605027"/>
                </a:lnTo>
                <a:lnTo>
                  <a:pt x="941832" y="605027"/>
                </a:lnTo>
                <a:lnTo>
                  <a:pt x="943356" y="603503"/>
                </a:lnTo>
                <a:close/>
              </a:path>
              <a:path w="989329" h="638810">
                <a:moveTo>
                  <a:pt x="46939" y="603503"/>
                </a:moveTo>
                <a:lnTo>
                  <a:pt x="45720" y="603503"/>
                </a:lnTo>
                <a:lnTo>
                  <a:pt x="48768" y="605027"/>
                </a:lnTo>
                <a:lnTo>
                  <a:pt x="46939" y="603503"/>
                </a:lnTo>
                <a:close/>
              </a:path>
              <a:path w="989329" h="638810">
                <a:moveTo>
                  <a:pt x="950329" y="598043"/>
                </a:moveTo>
                <a:lnTo>
                  <a:pt x="941832" y="605027"/>
                </a:lnTo>
                <a:lnTo>
                  <a:pt x="977011" y="605027"/>
                </a:lnTo>
                <a:lnTo>
                  <a:pt x="980821" y="598931"/>
                </a:lnTo>
                <a:lnTo>
                  <a:pt x="949579" y="598931"/>
                </a:lnTo>
                <a:lnTo>
                  <a:pt x="950329" y="598043"/>
                </a:lnTo>
                <a:close/>
              </a:path>
              <a:path w="989329" h="638810">
                <a:moveTo>
                  <a:pt x="39624" y="597407"/>
                </a:moveTo>
                <a:lnTo>
                  <a:pt x="41275" y="598931"/>
                </a:lnTo>
                <a:lnTo>
                  <a:pt x="40826" y="598410"/>
                </a:lnTo>
                <a:lnTo>
                  <a:pt x="39624" y="597407"/>
                </a:lnTo>
                <a:close/>
              </a:path>
              <a:path w="989329" h="638810">
                <a:moveTo>
                  <a:pt x="40826" y="598410"/>
                </a:moveTo>
                <a:lnTo>
                  <a:pt x="41275" y="598931"/>
                </a:lnTo>
                <a:lnTo>
                  <a:pt x="41452" y="598931"/>
                </a:lnTo>
                <a:lnTo>
                  <a:pt x="40826" y="598410"/>
                </a:lnTo>
                <a:close/>
              </a:path>
              <a:path w="989329" h="638810">
                <a:moveTo>
                  <a:pt x="951103" y="597407"/>
                </a:moveTo>
                <a:lnTo>
                  <a:pt x="950329" y="598043"/>
                </a:lnTo>
                <a:lnTo>
                  <a:pt x="949579" y="598931"/>
                </a:lnTo>
                <a:lnTo>
                  <a:pt x="951103" y="597407"/>
                </a:lnTo>
                <a:close/>
              </a:path>
              <a:path w="989329" h="638810">
                <a:moveTo>
                  <a:pt x="981773" y="597407"/>
                </a:moveTo>
                <a:lnTo>
                  <a:pt x="951103" y="597407"/>
                </a:lnTo>
                <a:lnTo>
                  <a:pt x="949579" y="598931"/>
                </a:lnTo>
                <a:lnTo>
                  <a:pt x="980821" y="598931"/>
                </a:lnTo>
                <a:lnTo>
                  <a:pt x="981773" y="597407"/>
                </a:lnTo>
                <a:close/>
              </a:path>
              <a:path w="989329" h="638810">
                <a:moveTo>
                  <a:pt x="39965" y="597407"/>
                </a:moveTo>
                <a:lnTo>
                  <a:pt x="39624" y="597407"/>
                </a:lnTo>
                <a:lnTo>
                  <a:pt x="40826" y="598410"/>
                </a:lnTo>
                <a:lnTo>
                  <a:pt x="39965" y="597407"/>
                </a:lnTo>
                <a:close/>
              </a:path>
              <a:path w="989329" h="638810">
                <a:moveTo>
                  <a:pt x="956953" y="590204"/>
                </a:moveTo>
                <a:lnTo>
                  <a:pt x="950329" y="598043"/>
                </a:lnTo>
                <a:lnTo>
                  <a:pt x="951103" y="597407"/>
                </a:lnTo>
                <a:lnTo>
                  <a:pt x="981773" y="597407"/>
                </a:lnTo>
                <a:lnTo>
                  <a:pt x="984631" y="592835"/>
                </a:lnTo>
                <a:lnTo>
                  <a:pt x="955675" y="592835"/>
                </a:lnTo>
                <a:lnTo>
                  <a:pt x="956953" y="590204"/>
                </a:lnTo>
                <a:close/>
              </a:path>
              <a:path w="989329" h="638810">
                <a:moveTo>
                  <a:pt x="33528" y="589914"/>
                </a:moveTo>
                <a:lnTo>
                  <a:pt x="35179" y="592835"/>
                </a:lnTo>
                <a:lnTo>
                  <a:pt x="36037" y="592835"/>
                </a:lnTo>
                <a:lnTo>
                  <a:pt x="33528" y="589914"/>
                </a:lnTo>
                <a:close/>
              </a:path>
              <a:path w="989329" h="638810">
                <a:moveTo>
                  <a:pt x="957199" y="589914"/>
                </a:moveTo>
                <a:lnTo>
                  <a:pt x="956953" y="590204"/>
                </a:lnTo>
                <a:lnTo>
                  <a:pt x="955675" y="592835"/>
                </a:lnTo>
                <a:lnTo>
                  <a:pt x="957199" y="589914"/>
                </a:lnTo>
                <a:close/>
              </a:path>
              <a:path w="989329" h="638810">
                <a:moveTo>
                  <a:pt x="985175" y="589914"/>
                </a:moveTo>
                <a:lnTo>
                  <a:pt x="957199" y="589914"/>
                </a:lnTo>
                <a:lnTo>
                  <a:pt x="955675" y="592835"/>
                </a:lnTo>
                <a:lnTo>
                  <a:pt x="984631" y="592835"/>
                </a:lnTo>
                <a:lnTo>
                  <a:pt x="985175" y="589914"/>
                </a:lnTo>
                <a:close/>
              </a:path>
              <a:path w="989329" h="638810">
                <a:moveTo>
                  <a:pt x="955675" y="47370"/>
                </a:moveTo>
                <a:lnTo>
                  <a:pt x="960119" y="56514"/>
                </a:lnTo>
                <a:lnTo>
                  <a:pt x="961771" y="60959"/>
                </a:lnTo>
                <a:lnTo>
                  <a:pt x="963168" y="65531"/>
                </a:lnTo>
                <a:lnTo>
                  <a:pt x="963168" y="70103"/>
                </a:lnTo>
                <a:lnTo>
                  <a:pt x="964691" y="74802"/>
                </a:lnTo>
                <a:lnTo>
                  <a:pt x="964691" y="564006"/>
                </a:lnTo>
                <a:lnTo>
                  <a:pt x="963168" y="570102"/>
                </a:lnTo>
                <a:lnTo>
                  <a:pt x="963168" y="574674"/>
                </a:lnTo>
                <a:lnTo>
                  <a:pt x="961771" y="579246"/>
                </a:lnTo>
                <a:lnTo>
                  <a:pt x="960119" y="583691"/>
                </a:lnTo>
                <a:lnTo>
                  <a:pt x="956953" y="590204"/>
                </a:lnTo>
                <a:lnTo>
                  <a:pt x="957199" y="589914"/>
                </a:lnTo>
                <a:lnTo>
                  <a:pt x="985175" y="589914"/>
                </a:lnTo>
                <a:lnTo>
                  <a:pt x="986028" y="585342"/>
                </a:lnTo>
                <a:lnTo>
                  <a:pt x="987679" y="579246"/>
                </a:lnTo>
                <a:lnTo>
                  <a:pt x="989203" y="571499"/>
                </a:lnTo>
                <a:lnTo>
                  <a:pt x="989203" y="67182"/>
                </a:lnTo>
                <a:lnTo>
                  <a:pt x="987679" y="59435"/>
                </a:lnTo>
                <a:lnTo>
                  <a:pt x="986028" y="51942"/>
                </a:lnTo>
                <a:lnTo>
                  <a:pt x="984830" y="48767"/>
                </a:lnTo>
                <a:lnTo>
                  <a:pt x="957199" y="48767"/>
                </a:lnTo>
                <a:lnTo>
                  <a:pt x="955675" y="47370"/>
                </a:lnTo>
                <a:close/>
              </a:path>
              <a:path w="989329" h="638810">
                <a:moveTo>
                  <a:pt x="35179" y="47370"/>
                </a:moveTo>
                <a:lnTo>
                  <a:pt x="33528" y="48767"/>
                </a:lnTo>
                <a:lnTo>
                  <a:pt x="34326" y="48767"/>
                </a:lnTo>
                <a:lnTo>
                  <a:pt x="35179" y="47370"/>
                </a:lnTo>
                <a:close/>
              </a:path>
              <a:path w="989329" h="638810">
                <a:moveTo>
                  <a:pt x="950299" y="40603"/>
                </a:moveTo>
                <a:lnTo>
                  <a:pt x="957199" y="48767"/>
                </a:lnTo>
                <a:lnTo>
                  <a:pt x="984830" y="48767"/>
                </a:lnTo>
                <a:lnTo>
                  <a:pt x="983107" y="44195"/>
                </a:lnTo>
                <a:lnTo>
                  <a:pt x="981132" y="41274"/>
                </a:lnTo>
                <a:lnTo>
                  <a:pt x="951103" y="41274"/>
                </a:lnTo>
                <a:lnTo>
                  <a:pt x="950299" y="40603"/>
                </a:lnTo>
                <a:close/>
              </a:path>
              <a:path w="989329" h="638810">
                <a:moveTo>
                  <a:pt x="41275" y="39750"/>
                </a:moveTo>
                <a:lnTo>
                  <a:pt x="39624" y="41274"/>
                </a:lnTo>
                <a:lnTo>
                  <a:pt x="40879" y="40211"/>
                </a:lnTo>
                <a:lnTo>
                  <a:pt x="41275" y="39750"/>
                </a:lnTo>
                <a:close/>
              </a:path>
              <a:path w="989329" h="638810">
                <a:moveTo>
                  <a:pt x="40879" y="40211"/>
                </a:moveTo>
                <a:lnTo>
                  <a:pt x="39624" y="41274"/>
                </a:lnTo>
                <a:lnTo>
                  <a:pt x="39965" y="41274"/>
                </a:lnTo>
                <a:lnTo>
                  <a:pt x="40879" y="40211"/>
                </a:lnTo>
                <a:close/>
              </a:path>
              <a:path w="989329" h="638810">
                <a:moveTo>
                  <a:pt x="949579" y="39750"/>
                </a:moveTo>
                <a:lnTo>
                  <a:pt x="950299" y="40603"/>
                </a:lnTo>
                <a:lnTo>
                  <a:pt x="951103" y="41274"/>
                </a:lnTo>
                <a:lnTo>
                  <a:pt x="949579" y="39750"/>
                </a:lnTo>
                <a:close/>
              </a:path>
              <a:path w="989329" h="638810">
                <a:moveTo>
                  <a:pt x="980101" y="39750"/>
                </a:moveTo>
                <a:lnTo>
                  <a:pt x="949579" y="39750"/>
                </a:lnTo>
                <a:lnTo>
                  <a:pt x="951103" y="41274"/>
                </a:lnTo>
                <a:lnTo>
                  <a:pt x="981132" y="41274"/>
                </a:lnTo>
                <a:lnTo>
                  <a:pt x="980101" y="39750"/>
                </a:lnTo>
                <a:close/>
              </a:path>
              <a:path w="989329" h="638810">
                <a:moveTo>
                  <a:pt x="977011" y="33527"/>
                </a:moveTo>
                <a:lnTo>
                  <a:pt x="941832" y="33527"/>
                </a:lnTo>
                <a:lnTo>
                  <a:pt x="950299" y="40603"/>
                </a:lnTo>
                <a:lnTo>
                  <a:pt x="949579" y="39750"/>
                </a:lnTo>
                <a:lnTo>
                  <a:pt x="980101" y="39750"/>
                </a:lnTo>
                <a:lnTo>
                  <a:pt x="977011" y="35178"/>
                </a:lnTo>
                <a:lnTo>
                  <a:pt x="977011" y="33527"/>
                </a:lnTo>
                <a:close/>
              </a:path>
              <a:path w="989329" h="638810">
                <a:moveTo>
                  <a:pt x="41422" y="39750"/>
                </a:moveTo>
                <a:lnTo>
                  <a:pt x="41275" y="39750"/>
                </a:lnTo>
                <a:lnTo>
                  <a:pt x="40879" y="40211"/>
                </a:lnTo>
                <a:lnTo>
                  <a:pt x="41422" y="39750"/>
                </a:lnTo>
                <a:close/>
              </a:path>
              <a:path w="989329" h="638810">
                <a:moveTo>
                  <a:pt x="48768" y="33527"/>
                </a:moveTo>
                <a:lnTo>
                  <a:pt x="45720" y="35178"/>
                </a:lnTo>
                <a:lnTo>
                  <a:pt x="46819" y="35178"/>
                </a:lnTo>
                <a:lnTo>
                  <a:pt x="48768" y="33527"/>
                </a:lnTo>
                <a:close/>
              </a:path>
              <a:path w="989329" h="638810">
                <a:moveTo>
                  <a:pt x="971295" y="25907"/>
                </a:moveTo>
                <a:lnTo>
                  <a:pt x="922019" y="25907"/>
                </a:lnTo>
                <a:lnTo>
                  <a:pt x="926591" y="27431"/>
                </a:lnTo>
                <a:lnTo>
                  <a:pt x="931163" y="29082"/>
                </a:lnTo>
                <a:lnTo>
                  <a:pt x="934338" y="30606"/>
                </a:lnTo>
                <a:lnTo>
                  <a:pt x="943356" y="35178"/>
                </a:lnTo>
                <a:lnTo>
                  <a:pt x="941832" y="33527"/>
                </a:lnTo>
                <a:lnTo>
                  <a:pt x="977011" y="33527"/>
                </a:lnTo>
                <a:lnTo>
                  <a:pt x="975360" y="32003"/>
                </a:lnTo>
                <a:lnTo>
                  <a:pt x="971295" y="25907"/>
                </a:lnTo>
                <a:close/>
              </a:path>
            </a:pathLst>
          </a:custGeom>
          <a:solidFill>
            <a:srgbClr val="4aa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2" name="object 76"/>
          <p:cNvSpPr/>
          <p:nvPr/>
        </p:nvSpPr>
        <p:spPr>
          <a:xfrm>
            <a:off x="6729840" y="4095720"/>
            <a:ext cx="585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A</a:t>
            </a:r>
            <a:r>
              <a:rPr b="0" lang="en-US" sz="970" spc="-58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77"/>
          <p:cNvSpPr/>
          <p:nvPr/>
        </p:nvSpPr>
        <p:spPr>
          <a:xfrm>
            <a:off x="6503400" y="4623480"/>
            <a:ext cx="851400" cy="540360"/>
          </a:xfrm>
          <a:custGeom>
            <a:avLst/>
            <a:gdLst>
              <a:gd name="textAreaLeft" fmla="*/ 0 w 851400"/>
              <a:gd name="textAreaRight" fmla="*/ 851760 w 851400"/>
              <a:gd name="textAreaTop" fmla="*/ 0 h 540360"/>
              <a:gd name="textAreaBottom" fmla="*/ 540720 h 540360"/>
            </a:gdLst>
            <a:ahLst/>
            <a:rect l="textAreaLeft" t="textAreaTop" r="textAreaRight" b="textAreaBottom"/>
            <a:pathLst>
              <a:path w="965200" h="612775">
                <a:moveTo>
                  <a:pt x="902081" y="0"/>
                </a:moveTo>
                <a:lnTo>
                  <a:pt x="60960" y="0"/>
                </a:lnTo>
                <a:lnTo>
                  <a:pt x="37290" y="4831"/>
                </a:lnTo>
                <a:lnTo>
                  <a:pt x="17906" y="18081"/>
                </a:lnTo>
                <a:lnTo>
                  <a:pt x="4810" y="37879"/>
                </a:lnTo>
                <a:lnTo>
                  <a:pt x="0" y="62357"/>
                </a:lnTo>
                <a:lnTo>
                  <a:pt x="0" y="551561"/>
                </a:lnTo>
                <a:lnTo>
                  <a:pt x="4810" y="575230"/>
                </a:lnTo>
                <a:lnTo>
                  <a:pt x="17907" y="594614"/>
                </a:lnTo>
                <a:lnTo>
                  <a:pt x="37290" y="607710"/>
                </a:lnTo>
                <a:lnTo>
                  <a:pt x="60960" y="612521"/>
                </a:lnTo>
                <a:lnTo>
                  <a:pt x="902081" y="612521"/>
                </a:lnTo>
                <a:lnTo>
                  <a:pt x="926705" y="607710"/>
                </a:lnTo>
                <a:lnTo>
                  <a:pt x="946578" y="594614"/>
                </a:lnTo>
                <a:lnTo>
                  <a:pt x="959856" y="575230"/>
                </a:lnTo>
                <a:lnTo>
                  <a:pt x="964691" y="551561"/>
                </a:lnTo>
                <a:lnTo>
                  <a:pt x="964691" y="62357"/>
                </a:lnTo>
                <a:lnTo>
                  <a:pt x="959856" y="37879"/>
                </a:lnTo>
                <a:lnTo>
                  <a:pt x="946578" y="18081"/>
                </a:lnTo>
                <a:lnTo>
                  <a:pt x="926705" y="4831"/>
                </a:lnTo>
                <a:lnTo>
                  <a:pt x="902081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4" name="object 78"/>
          <p:cNvSpPr/>
          <p:nvPr/>
        </p:nvSpPr>
        <p:spPr>
          <a:xfrm>
            <a:off x="6492600" y="461268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547" y="624713"/>
                </a:moveTo>
                <a:lnTo>
                  <a:pt x="33655" y="624713"/>
                </a:lnTo>
                <a:lnTo>
                  <a:pt x="33655" y="626364"/>
                </a:lnTo>
                <a:lnTo>
                  <a:pt x="45847" y="632460"/>
                </a:lnTo>
                <a:lnTo>
                  <a:pt x="51943" y="633857"/>
                </a:lnTo>
                <a:lnTo>
                  <a:pt x="67183" y="637032"/>
                </a:lnTo>
                <a:lnTo>
                  <a:pt x="923544" y="637032"/>
                </a:lnTo>
                <a:lnTo>
                  <a:pt x="931291" y="635381"/>
                </a:lnTo>
                <a:lnTo>
                  <a:pt x="937387" y="633857"/>
                </a:lnTo>
                <a:lnTo>
                  <a:pt x="955547" y="626364"/>
                </a:lnTo>
                <a:lnTo>
                  <a:pt x="955547" y="624713"/>
                </a:lnTo>
                <a:close/>
              </a:path>
              <a:path w="989329" h="637539">
                <a:moveTo>
                  <a:pt x="967740" y="21209"/>
                </a:moveTo>
                <a:lnTo>
                  <a:pt x="21336" y="21209"/>
                </a:lnTo>
                <a:lnTo>
                  <a:pt x="21336" y="22860"/>
                </a:lnTo>
                <a:lnTo>
                  <a:pt x="13843" y="31877"/>
                </a:lnTo>
                <a:lnTo>
                  <a:pt x="12319" y="31877"/>
                </a:lnTo>
                <a:lnTo>
                  <a:pt x="12319" y="33528"/>
                </a:lnTo>
                <a:lnTo>
                  <a:pt x="6223" y="45720"/>
                </a:lnTo>
                <a:lnTo>
                  <a:pt x="3048" y="53213"/>
                </a:lnTo>
                <a:lnTo>
                  <a:pt x="1651" y="59309"/>
                </a:lnTo>
                <a:lnTo>
                  <a:pt x="0" y="67056"/>
                </a:lnTo>
                <a:lnTo>
                  <a:pt x="0" y="571500"/>
                </a:lnTo>
                <a:lnTo>
                  <a:pt x="1651" y="579120"/>
                </a:lnTo>
                <a:lnTo>
                  <a:pt x="3048" y="586613"/>
                </a:lnTo>
                <a:lnTo>
                  <a:pt x="6223" y="594360"/>
                </a:lnTo>
                <a:lnTo>
                  <a:pt x="12319" y="603377"/>
                </a:lnTo>
                <a:lnTo>
                  <a:pt x="12319" y="605028"/>
                </a:lnTo>
                <a:lnTo>
                  <a:pt x="13843" y="606425"/>
                </a:lnTo>
                <a:lnTo>
                  <a:pt x="21336" y="615696"/>
                </a:lnTo>
                <a:lnTo>
                  <a:pt x="22987" y="617220"/>
                </a:lnTo>
                <a:lnTo>
                  <a:pt x="32004" y="624713"/>
                </a:lnTo>
                <a:lnTo>
                  <a:pt x="957072" y="624713"/>
                </a:lnTo>
                <a:lnTo>
                  <a:pt x="966343" y="617220"/>
                </a:lnTo>
                <a:lnTo>
                  <a:pt x="967740" y="615696"/>
                </a:lnTo>
                <a:lnTo>
                  <a:pt x="970393" y="612521"/>
                </a:lnTo>
                <a:lnTo>
                  <a:pt x="68580" y="612521"/>
                </a:lnTo>
                <a:lnTo>
                  <a:pt x="64008" y="611124"/>
                </a:lnTo>
                <a:lnTo>
                  <a:pt x="59436" y="609600"/>
                </a:lnTo>
                <a:lnTo>
                  <a:pt x="54991" y="607949"/>
                </a:lnTo>
                <a:lnTo>
                  <a:pt x="49149" y="605028"/>
                </a:lnTo>
                <a:lnTo>
                  <a:pt x="47244" y="605028"/>
                </a:lnTo>
                <a:lnTo>
                  <a:pt x="40048" y="598932"/>
                </a:lnTo>
                <a:lnTo>
                  <a:pt x="39751" y="598932"/>
                </a:lnTo>
                <a:lnTo>
                  <a:pt x="38100" y="597281"/>
                </a:lnTo>
                <a:lnTo>
                  <a:pt x="38650" y="597281"/>
                </a:lnTo>
                <a:lnTo>
                  <a:pt x="34586" y="591185"/>
                </a:lnTo>
                <a:lnTo>
                  <a:pt x="33655" y="591185"/>
                </a:lnTo>
                <a:lnTo>
                  <a:pt x="29083" y="582168"/>
                </a:lnTo>
                <a:lnTo>
                  <a:pt x="27559" y="577596"/>
                </a:lnTo>
                <a:lnTo>
                  <a:pt x="25908" y="573024"/>
                </a:lnTo>
                <a:lnTo>
                  <a:pt x="25908" y="63881"/>
                </a:lnTo>
                <a:lnTo>
                  <a:pt x="27559" y="59309"/>
                </a:lnTo>
                <a:lnTo>
                  <a:pt x="29083" y="54864"/>
                </a:lnTo>
                <a:lnTo>
                  <a:pt x="33655" y="45720"/>
                </a:lnTo>
                <a:lnTo>
                  <a:pt x="34599" y="45720"/>
                </a:lnTo>
                <a:lnTo>
                  <a:pt x="39751" y="38100"/>
                </a:lnTo>
                <a:lnTo>
                  <a:pt x="41664" y="38100"/>
                </a:lnTo>
                <a:lnTo>
                  <a:pt x="47244" y="33528"/>
                </a:lnTo>
                <a:lnTo>
                  <a:pt x="48343" y="33528"/>
                </a:lnTo>
                <a:lnTo>
                  <a:pt x="56515" y="28956"/>
                </a:lnTo>
                <a:lnTo>
                  <a:pt x="59436" y="27432"/>
                </a:lnTo>
                <a:lnTo>
                  <a:pt x="64008" y="25781"/>
                </a:lnTo>
                <a:lnTo>
                  <a:pt x="970249" y="25781"/>
                </a:lnTo>
                <a:lnTo>
                  <a:pt x="967740" y="22860"/>
                </a:lnTo>
                <a:lnTo>
                  <a:pt x="967740" y="21209"/>
                </a:lnTo>
                <a:close/>
              </a:path>
              <a:path w="989329" h="637539">
                <a:moveTo>
                  <a:pt x="943483" y="603377"/>
                </a:moveTo>
                <a:lnTo>
                  <a:pt x="932815" y="609600"/>
                </a:lnTo>
                <a:lnTo>
                  <a:pt x="929640" y="609600"/>
                </a:lnTo>
                <a:lnTo>
                  <a:pt x="923544" y="611124"/>
                </a:lnTo>
                <a:lnTo>
                  <a:pt x="918972" y="612521"/>
                </a:lnTo>
                <a:lnTo>
                  <a:pt x="970393" y="612521"/>
                </a:lnTo>
                <a:lnTo>
                  <a:pt x="975487" y="606425"/>
                </a:lnTo>
                <a:lnTo>
                  <a:pt x="977011" y="605028"/>
                </a:lnTo>
                <a:lnTo>
                  <a:pt x="941959" y="605028"/>
                </a:lnTo>
                <a:lnTo>
                  <a:pt x="943483" y="603377"/>
                </a:lnTo>
                <a:close/>
              </a:path>
              <a:path w="989329" h="637539">
                <a:moveTo>
                  <a:pt x="45847" y="603377"/>
                </a:moveTo>
                <a:lnTo>
                  <a:pt x="47244" y="605028"/>
                </a:lnTo>
                <a:lnTo>
                  <a:pt x="49149" y="605028"/>
                </a:lnTo>
                <a:lnTo>
                  <a:pt x="45847" y="603377"/>
                </a:lnTo>
                <a:close/>
              </a:path>
              <a:path w="989329" h="637539">
                <a:moveTo>
                  <a:pt x="979995" y="597281"/>
                </a:moveTo>
                <a:lnTo>
                  <a:pt x="950976" y="597281"/>
                </a:lnTo>
                <a:lnTo>
                  <a:pt x="941959" y="605028"/>
                </a:lnTo>
                <a:lnTo>
                  <a:pt x="977011" y="605028"/>
                </a:lnTo>
                <a:lnTo>
                  <a:pt x="977011" y="603377"/>
                </a:lnTo>
                <a:lnTo>
                  <a:pt x="979995" y="597281"/>
                </a:lnTo>
                <a:close/>
              </a:path>
              <a:path w="989329" h="637539">
                <a:moveTo>
                  <a:pt x="38100" y="597281"/>
                </a:moveTo>
                <a:lnTo>
                  <a:pt x="39751" y="598932"/>
                </a:lnTo>
                <a:lnTo>
                  <a:pt x="39364" y="598352"/>
                </a:lnTo>
                <a:lnTo>
                  <a:pt x="38100" y="597281"/>
                </a:lnTo>
                <a:close/>
              </a:path>
              <a:path w="989329" h="637539">
                <a:moveTo>
                  <a:pt x="39364" y="598352"/>
                </a:moveTo>
                <a:lnTo>
                  <a:pt x="39751" y="598932"/>
                </a:lnTo>
                <a:lnTo>
                  <a:pt x="40048" y="598932"/>
                </a:lnTo>
                <a:lnTo>
                  <a:pt x="39364" y="598352"/>
                </a:lnTo>
                <a:close/>
              </a:path>
              <a:path w="989329" h="637539">
                <a:moveTo>
                  <a:pt x="983707" y="589788"/>
                </a:moveTo>
                <a:lnTo>
                  <a:pt x="955547" y="589788"/>
                </a:lnTo>
                <a:lnTo>
                  <a:pt x="948055" y="598932"/>
                </a:lnTo>
                <a:lnTo>
                  <a:pt x="950976" y="597281"/>
                </a:lnTo>
                <a:lnTo>
                  <a:pt x="979995" y="597281"/>
                </a:lnTo>
                <a:lnTo>
                  <a:pt x="982980" y="591185"/>
                </a:lnTo>
                <a:lnTo>
                  <a:pt x="983707" y="589788"/>
                </a:lnTo>
                <a:close/>
              </a:path>
              <a:path w="989329" h="637539">
                <a:moveTo>
                  <a:pt x="38650" y="597281"/>
                </a:moveTo>
                <a:lnTo>
                  <a:pt x="38100" y="597281"/>
                </a:lnTo>
                <a:lnTo>
                  <a:pt x="39364" y="598352"/>
                </a:lnTo>
                <a:lnTo>
                  <a:pt x="38650" y="597281"/>
                </a:lnTo>
                <a:close/>
              </a:path>
              <a:path w="989329" h="637539">
                <a:moveTo>
                  <a:pt x="33655" y="589788"/>
                </a:moveTo>
                <a:lnTo>
                  <a:pt x="33655" y="591185"/>
                </a:lnTo>
                <a:lnTo>
                  <a:pt x="34586" y="591185"/>
                </a:lnTo>
                <a:lnTo>
                  <a:pt x="33655" y="589788"/>
                </a:lnTo>
                <a:close/>
              </a:path>
              <a:path w="989329" h="637539">
                <a:moveTo>
                  <a:pt x="954151" y="45720"/>
                </a:moveTo>
                <a:lnTo>
                  <a:pt x="960247" y="56388"/>
                </a:lnTo>
                <a:lnTo>
                  <a:pt x="961644" y="60960"/>
                </a:lnTo>
                <a:lnTo>
                  <a:pt x="963168" y="65532"/>
                </a:lnTo>
                <a:lnTo>
                  <a:pt x="963168" y="574421"/>
                </a:lnTo>
                <a:lnTo>
                  <a:pt x="961644" y="579120"/>
                </a:lnTo>
                <a:lnTo>
                  <a:pt x="960247" y="583692"/>
                </a:lnTo>
                <a:lnTo>
                  <a:pt x="954151" y="591185"/>
                </a:lnTo>
                <a:lnTo>
                  <a:pt x="955547" y="589788"/>
                </a:lnTo>
                <a:lnTo>
                  <a:pt x="983707" y="589788"/>
                </a:lnTo>
                <a:lnTo>
                  <a:pt x="986155" y="585089"/>
                </a:lnTo>
                <a:lnTo>
                  <a:pt x="987679" y="577596"/>
                </a:lnTo>
                <a:lnTo>
                  <a:pt x="989076" y="569849"/>
                </a:lnTo>
                <a:lnTo>
                  <a:pt x="989076" y="65532"/>
                </a:lnTo>
                <a:lnTo>
                  <a:pt x="987679" y="57785"/>
                </a:lnTo>
                <a:lnTo>
                  <a:pt x="986155" y="51689"/>
                </a:lnTo>
                <a:lnTo>
                  <a:pt x="984217" y="47117"/>
                </a:lnTo>
                <a:lnTo>
                  <a:pt x="955547" y="47117"/>
                </a:lnTo>
                <a:lnTo>
                  <a:pt x="954151" y="45720"/>
                </a:lnTo>
                <a:close/>
              </a:path>
              <a:path w="989329" h="637539">
                <a:moveTo>
                  <a:pt x="34599" y="45720"/>
                </a:moveTo>
                <a:lnTo>
                  <a:pt x="33655" y="45720"/>
                </a:lnTo>
                <a:lnTo>
                  <a:pt x="33655" y="47117"/>
                </a:lnTo>
                <a:lnTo>
                  <a:pt x="34599" y="45720"/>
                </a:lnTo>
                <a:close/>
              </a:path>
              <a:path w="989329" h="637539">
                <a:moveTo>
                  <a:pt x="949380" y="39695"/>
                </a:moveTo>
                <a:lnTo>
                  <a:pt x="955547" y="47117"/>
                </a:lnTo>
                <a:lnTo>
                  <a:pt x="984217" y="47117"/>
                </a:lnTo>
                <a:lnTo>
                  <a:pt x="982980" y="44196"/>
                </a:lnTo>
                <a:lnTo>
                  <a:pt x="981203" y="41021"/>
                </a:lnTo>
                <a:lnTo>
                  <a:pt x="950976" y="41021"/>
                </a:lnTo>
                <a:lnTo>
                  <a:pt x="949380" y="39695"/>
                </a:lnTo>
                <a:close/>
              </a:path>
              <a:path w="989329" h="637539">
                <a:moveTo>
                  <a:pt x="41664" y="38100"/>
                </a:moveTo>
                <a:lnTo>
                  <a:pt x="39751" y="38100"/>
                </a:lnTo>
                <a:lnTo>
                  <a:pt x="38100" y="41021"/>
                </a:lnTo>
                <a:lnTo>
                  <a:pt x="41664" y="38100"/>
                </a:lnTo>
                <a:close/>
              </a:path>
              <a:path w="989329" h="637539">
                <a:moveTo>
                  <a:pt x="948055" y="38100"/>
                </a:moveTo>
                <a:lnTo>
                  <a:pt x="949380" y="39695"/>
                </a:lnTo>
                <a:lnTo>
                  <a:pt x="950976" y="41021"/>
                </a:lnTo>
                <a:lnTo>
                  <a:pt x="948055" y="38100"/>
                </a:lnTo>
                <a:close/>
              </a:path>
              <a:path w="989329" h="637539">
                <a:moveTo>
                  <a:pt x="979569" y="38100"/>
                </a:moveTo>
                <a:lnTo>
                  <a:pt x="948055" y="38100"/>
                </a:lnTo>
                <a:lnTo>
                  <a:pt x="950976" y="41021"/>
                </a:lnTo>
                <a:lnTo>
                  <a:pt x="981203" y="41021"/>
                </a:lnTo>
                <a:lnTo>
                  <a:pt x="979569" y="38100"/>
                </a:lnTo>
                <a:close/>
              </a:path>
              <a:path w="989329" h="637539">
                <a:moveTo>
                  <a:pt x="977011" y="33528"/>
                </a:moveTo>
                <a:lnTo>
                  <a:pt x="941959" y="33528"/>
                </a:lnTo>
                <a:lnTo>
                  <a:pt x="949380" y="39695"/>
                </a:lnTo>
                <a:lnTo>
                  <a:pt x="948055" y="38100"/>
                </a:lnTo>
                <a:lnTo>
                  <a:pt x="979569" y="38100"/>
                </a:lnTo>
                <a:lnTo>
                  <a:pt x="977011" y="33528"/>
                </a:lnTo>
                <a:close/>
              </a:path>
              <a:path w="989329" h="637539">
                <a:moveTo>
                  <a:pt x="48343" y="33528"/>
                </a:moveTo>
                <a:lnTo>
                  <a:pt x="47244" y="33528"/>
                </a:lnTo>
                <a:lnTo>
                  <a:pt x="45847" y="34925"/>
                </a:lnTo>
                <a:lnTo>
                  <a:pt x="48343" y="33528"/>
                </a:lnTo>
                <a:close/>
              </a:path>
              <a:path w="989329" h="637539">
                <a:moveTo>
                  <a:pt x="970249" y="25781"/>
                </a:moveTo>
                <a:lnTo>
                  <a:pt x="920622" y="25781"/>
                </a:lnTo>
                <a:lnTo>
                  <a:pt x="925068" y="27432"/>
                </a:lnTo>
                <a:lnTo>
                  <a:pt x="929640" y="27432"/>
                </a:lnTo>
                <a:lnTo>
                  <a:pt x="934212" y="28956"/>
                </a:lnTo>
                <a:lnTo>
                  <a:pt x="943483" y="34925"/>
                </a:lnTo>
                <a:lnTo>
                  <a:pt x="941959" y="33528"/>
                </a:lnTo>
                <a:lnTo>
                  <a:pt x="977011" y="33528"/>
                </a:lnTo>
                <a:lnTo>
                  <a:pt x="977011" y="31877"/>
                </a:lnTo>
                <a:lnTo>
                  <a:pt x="975487" y="31877"/>
                </a:lnTo>
                <a:lnTo>
                  <a:pt x="970249" y="25781"/>
                </a:lnTo>
                <a:close/>
              </a:path>
              <a:path w="989329" h="637539">
                <a:moveTo>
                  <a:pt x="922147" y="0"/>
                </a:moveTo>
                <a:lnTo>
                  <a:pt x="65659" y="0"/>
                </a:lnTo>
                <a:lnTo>
                  <a:pt x="57912" y="1524"/>
                </a:lnTo>
                <a:lnTo>
                  <a:pt x="51943" y="2921"/>
                </a:lnTo>
                <a:lnTo>
                  <a:pt x="44323" y="6096"/>
                </a:lnTo>
                <a:lnTo>
                  <a:pt x="33655" y="12192"/>
                </a:lnTo>
                <a:lnTo>
                  <a:pt x="22987" y="21209"/>
                </a:lnTo>
                <a:lnTo>
                  <a:pt x="966343" y="21209"/>
                </a:lnTo>
                <a:lnTo>
                  <a:pt x="957072" y="13589"/>
                </a:lnTo>
                <a:lnTo>
                  <a:pt x="955547" y="12192"/>
                </a:lnTo>
                <a:lnTo>
                  <a:pt x="943483" y="6096"/>
                </a:lnTo>
                <a:lnTo>
                  <a:pt x="937387" y="2921"/>
                </a:lnTo>
                <a:lnTo>
                  <a:pt x="929640" y="1524"/>
                </a:lnTo>
                <a:lnTo>
                  <a:pt x="9221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5" name="object 79"/>
          <p:cNvSpPr/>
          <p:nvPr/>
        </p:nvSpPr>
        <p:spPr>
          <a:xfrm>
            <a:off x="6590880" y="4706640"/>
            <a:ext cx="862920" cy="5508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6" name="object 80"/>
          <p:cNvSpPr/>
          <p:nvPr/>
        </p:nvSpPr>
        <p:spPr>
          <a:xfrm>
            <a:off x="6586560" y="470268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675" y="624839"/>
                </a:moveTo>
                <a:lnTo>
                  <a:pt x="33528" y="624839"/>
                </a:lnTo>
                <a:lnTo>
                  <a:pt x="45720" y="630935"/>
                </a:lnTo>
                <a:lnTo>
                  <a:pt x="53467" y="634110"/>
                </a:lnTo>
                <a:lnTo>
                  <a:pt x="59562" y="635507"/>
                </a:lnTo>
                <a:lnTo>
                  <a:pt x="67056" y="637031"/>
                </a:lnTo>
                <a:lnTo>
                  <a:pt x="923671" y="637031"/>
                </a:lnTo>
                <a:lnTo>
                  <a:pt x="931163" y="635507"/>
                </a:lnTo>
                <a:lnTo>
                  <a:pt x="938911" y="634110"/>
                </a:lnTo>
                <a:lnTo>
                  <a:pt x="945007" y="630935"/>
                </a:lnTo>
                <a:lnTo>
                  <a:pt x="955675" y="624839"/>
                </a:lnTo>
                <a:close/>
              </a:path>
              <a:path w="989329" h="637539">
                <a:moveTo>
                  <a:pt x="966343" y="615695"/>
                </a:moveTo>
                <a:lnTo>
                  <a:pt x="22860" y="615695"/>
                </a:lnTo>
                <a:lnTo>
                  <a:pt x="22860" y="617346"/>
                </a:lnTo>
                <a:lnTo>
                  <a:pt x="32131" y="623442"/>
                </a:lnTo>
                <a:lnTo>
                  <a:pt x="32131" y="624839"/>
                </a:lnTo>
                <a:lnTo>
                  <a:pt x="957199" y="624839"/>
                </a:lnTo>
                <a:lnTo>
                  <a:pt x="957199" y="623442"/>
                </a:lnTo>
                <a:lnTo>
                  <a:pt x="966343" y="615695"/>
                </a:lnTo>
                <a:close/>
              </a:path>
              <a:path w="989329" h="637539">
                <a:moveTo>
                  <a:pt x="967866" y="21335"/>
                </a:moveTo>
                <a:lnTo>
                  <a:pt x="21463" y="21335"/>
                </a:lnTo>
                <a:lnTo>
                  <a:pt x="21463" y="22986"/>
                </a:lnTo>
                <a:lnTo>
                  <a:pt x="13843" y="32003"/>
                </a:lnTo>
                <a:lnTo>
                  <a:pt x="0" y="67182"/>
                </a:lnTo>
                <a:lnTo>
                  <a:pt x="0" y="571499"/>
                </a:lnTo>
                <a:lnTo>
                  <a:pt x="1524" y="579246"/>
                </a:lnTo>
                <a:lnTo>
                  <a:pt x="4699" y="586739"/>
                </a:lnTo>
                <a:lnTo>
                  <a:pt x="6096" y="592835"/>
                </a:lnTo>
                <a:lnTo>
                  <a:pt x="12192" y="603503"/>
                </a:lnTo>
                <a:lnTo>
                  <a:pt x="12192" y="605027"/>
                </a:lnTo>
                <a:lnTo>
                  <a:pt x="13843" y="605027"/>
                </a:lnTo>
                <a:lnTo>
                  <a:pt x="21463" y="614171"/>
                </a:lnTo>
                <a:lnTo>
                  <a:pt x="21463" y="615695"/>
                </a:lnTo>
                <a:lnTo>
                  <a:pt x="967866" y="615695"/>
                </a:lnTo>
                <a:lnTo>
                  <a:pt x="969263" y="614171"/>
                </a:lnTo>
                <a:lnTo>
                  <a:pt x="971211" y="611250"/>
                </a:lnTo>
                <a:lnTo>
                  <a:pt x="64135" y="611250"/>
                </a:lnTo>
                <a:lnTo>
                  <a:pt x="59562" y="609599"/>
                </a:lnTo>
                <a:lnTo>
                  <a:pt x="54864" y="608075"/>
                </a:lnTo>
                <a:lnTo>
                  <a:pt x="45720" y="603503"/>
                </a:lnTo>
                <a:lnTo>
                  <a:pt x="48768" y="603503"/>
                </a:lnTo>
                <a:lnTo>
                  <a:pt x="41909" y="598931"/>
                </a:lnTo>
                <a:lnTo>
                  <a:pt x="41275" y="598931"/>
                </a:lnTo>
                <a:lnTo>
                  <a:pt x="39624" y="597407"/>
                </a:lnTo>
                <a:lnTo>
                  <a:pt x="39965" y="597407"/>
                </a:lnTo>
                <a:lnTo>
                  <a:pt x="33528" y="589914"/>
                </a:lnTo>
                <a:lnTo>
                  <a:pt x="34300" y="589914"/>
                </a:lnTo>
                <a:lnTo>
                  <a:pt x="28956" y="580643"/>
                </a:lnTo>
                <a:lnTo>
                  <a:pt x="27432" y="577595"/>
                </a:lnTo>
                <a:lnTo>
                  <a:pt x="26034" y="573150"/>
                </a:lnTo>
                <a:lnTo>
                  <a:pt x="26034" y="68706"/>
                </a:lnTo>
                <a:lnTo>
                  <a:pt x="27432" y="64007"/>
                </a:lnTo>
                <a:lnTo>
                  <a:pt x="27432" y="59435"/>
                </a:lnTo>
                <a:lnTo>
                  <a:pt x="30607" y="54863"/>
                </a:lnTo>
                <a:lnTo>
                  <a:pt x="34470" y="47243"/>
                </a:lnTo>
                <a:lnTo>
                  <a:pt x="33528" y="47243"/>
                </a:lnTo>
                <a:lnTo>
                  <a:pt x="39876" y="39750"/>
                </a:lnTo>
                <a:lnTo>
                  <a:pt x="39624" y="39750"/>
                </a:lnTo>
                <a:lnTo>
                  <a:pt x="41275" y="38099"/>
                </a:lnTo>
                <a:lnTo>
                  <a:pt x="42049" y="38099"/>
                </a:lnTo>
                <a:lnTo>
                  <a:pt x="48768" y="33527"/>
                </a:lnTo>
                <a:lnTo>
                  <a:pt x="45720" y="33527"/>
                </a:lnTo>
                <a:lnTo>
                  <a:pt x="56388" y="29082"/>
                </a:lnTo>
                <a:lnTo>
                  <a:pt x="60960" y="27431"/>
                </a:lnTo>
                <a:lnTo>
                  <a:pt x="65532" y="25907"/>
                </a:lnTo>
                <a:lnTo>
                  <a:pt x="971238" y="25907"/>
                </a:lnTo>
                <a:lnTo>
                  <a:pt x="969263" y="22986"/>
                </a:lnTo>
                <a:lnTo>
                  <a:pt x="967866" y="21335"/>
                </a:lnTo>
                <a:close/>
              </a:path>
              <a:path w="989329" h="637539">
                <a:moveTo>
                  <a:pt x="950571" y="597757"/>
                </a:moveTo>
                <a:lnTo>
                  <a:pt x="941832" y="603503"/>
                </a:lnTo>
                <a:lnTo>
                  <a:pt x="943356" y="603503"/>
                </a:lnTo>
                <a:lnTo>
                  <a:pt x="932688" y="608075"/>
                </a:lnTo>
                <a:lnTo>
                  <a:pt x="929766" y="609599"/>
                </a:lnTo>
                <a:lnTo>
                  <a:pt x="925068" y="611250"/>
                </a:lnTo>
                <a:lnTo>
                  <a:pt x="971211" y="611250"/>
                </a:lnTo>
                <a:lnTo>
                  <a:pt x="975360" y="605027"/>
                </a:lnTo>
                <a:lnTo>
                  <a:pt x="977011" y="605027"/>
                </a:lnTo>
                <a:lnTo>
                  <a:pt x="977011" y="603503"/>
                </a:lnTo>
                <a:lnTo>
                  <a:pt x="979898" y="598931"/>
                </a:lnTo>
                <a:lnTo>
                  <a:pt x="949579" y="598931"/>
                </a:lnTo>
                <a:lnTo>
                  <a:pt x="950571" y="597757"/>
                </a:lnTo>
                <a:close/>
              </a:path>
              <a:path w="989329" h="637539">
                <a:moveTo>
                  <a:pt x="39624" y="597407"/>
                </a:moveTo>
                <a:lnTo>
                  <a:pt x="41275" y="598931"/>
                </a:lnTo>
                <a:lnTo>
                  <a:pt x="40423" y="597941"/>
                </a:lnTo>
                <a:lnTo>
                  <a:pt x="39624" y="597407"/>
                </a:lnTo>
                <a:close/>
              </a:path>
              <a:path w="989329" h="637539">
                <a:moveTo>
                  <a:pt x="40423" y="597941"/>
                </a:moveTo>
                <a:lnTo>
                  <a:pt x="41275" y="598931"/>
                </a:lnTo>
                <a:lnTo>
                  <a:pt x="41909" y="598931"/>
                </a:lnTo>
                <a:lnTo>
                  <a:pt x="40423" y="597941"/>
                </a:lnTo>
                <a:close/>
              </a:path>
              <a:path w="989329" h="637539">
                <a:moveTo>
                  <a:pt x="951103" y="597407"/>
                </a:moveTo>
                <a:lnTo>
                  <a:pt x="950571" y="597757"/>
                </a:lnTo>
                <a:lnTo>
                  <a:pt x="949579" y="598931"/>
                </a:lnTo>
                <a:lnTo>
                  <a:pt x="951103" y="597407"/>
                </a:lnTo>
                <a:close/>
              </a:path>
              <a:path w="989329" h="637539">
                <a:moveTo>
                  <a:pt x="980861" y="597407"/>
                </a:moveTo>
                <a:lnTo>
                  <a:pt x="951103" y="597407"/>
                </a:lnTo>
                <a:lnTo>
                  <a:pt x="949579" y="598931"/>
                </a:lnTo>
                <a:lnTo>
                  <a:pt x="979898" y="598931"/>
                </a:lnTo>
                <a:lnTo>
                  <a:pt x="980861" y="597407"/>
                </a:lnTo>
                <a:close/>
              </a:path>
              <a:path w="989329" h="637539">
                <a:moveTo>
                  <a:pt x="39965" y="597407"/>
                </a:moveTo>
                <a:lnTo>
                  <a:pt x="39624" y="597407"/>
                </a:lnTo>
                <a:lnTo>
                  <a:pt x="40423" y="597941"/>
                </a:lnTo>
                <a:lnTo>
                  <a:pt x="39965" y="597407"/>
                </a:lnTo>
                <a:close/>
              </a:path>
              <a:path w="989329" h="637539">
                <a:moveTo>
                  <a:pt x="984980" y="589914"/>
                </a:moveTo>
                <a:lnTo>
                  <a:pt x="957199" y="589914"/>
                </a:lnTo>
                <a:lnTo>
                  <a:pt x="950571" y="597757"/>
                </a:lnTo>
                <a:lnTo>
                  <a:pt x="951103" y="597407"/>
                </a:lnTo>
                <a:lnTo>
                  <a:pt x="980861" y="597407"/>
                </a:lnTo>
                <a:lnTo>
                  <a:pt x="984631" y="591438"/>
                </a:lnTo>
                <a:lnTo>
                  <a:pt x="984980" y="589914"/>
                </a:lnTo>
                <a:close/>
              </a:path>
              <a:path w="989329" h="637539">
                <a:moveTo>
                  <a:pt x="34300" y="589914"/>
                </a:moveTo>
                <a:lnTo>
                  <a:pt x="33528" y="589914"/>
                </a:lnTo>
                <a:lnTo>
                  <a:pt x="35179" y="591438"/>
                </a:lnTo>
                <a:lnTo>
                  <a:pt x="34300" y="589914"/>
                </a:lnTo>
                <a:close/>
              </a:path>
              <a:path w="989329" h="637539">
                <a:moveTo>
                  <a:pt x="955675" y="45846"/>
                </a:moveTo>
                <a:lnTo>
                  <a:pt x="960119" y="56514"/>
                </a:lnTo>
                <a:lnTo>
                  <a:pt x="961771" y="59435"/>
                </a:lnTo>
                <a:lnTo>
                  <a:pt x="963168" y="64007"/>
                </a:lnTo>
                <a:lnTo>
                  <a:pt x="963168" y="70103"/>
                </a:lnTo>
                <a:lnTo>
                  <a:pt x="964691" y="74675"/>
                </a:lnTo>
                <a:lnTo>
                  <a:pt x="964691" y="564006"/>
                </a:lnTo>
                <a:lnTo>
                  <a:pt x="963168" y="568578"/>
                </a:lnTo>
                <a:lnTo>
                  <a:pt x="963168" y="573150"/>
                </a:lnTo>
                <a:lnTo>
                  <a:pt x="961771" y="579246"/>
                </a:lnTo>
                <a:lnTo>
                  <a:pt x="960119" y="582167"/>
                </a:lnTo>
                <a:lnTo>
                  <a:pt x="955675" y="591438"/>
                </a:lnTo>
                <a:lnTo>
                  <a:pt x="957199" y="589914"/>
                </a:lnTo>
                <a:lnTo>
                  <a:pt x="984980" y="589914"/>
                </a:lnTo>
                <a:lnTo>
                  <a:pt x="986028" y="585342"/>
                </a:lnTo>
                <a:lnTo>
                  <a:pt x="987679" y="577595"/>
                </a:lnTo>
                <a:lnTo>
                  <a:pt x="989203" y="569975"/>
                </a:lnTo>
                <a:lnTo>
                  <a:pt x="989203" y="65531"/>
                </a:lnTo>
                <a:lnTo>
                  <a:pt x="987679" y="58038"/>
                </a:lnTo>
                <a:lnTo>
                  <a:pt x="986028" y="51942"/>
                </a:lnTo>
                <a:lnTo>
                  <a:pt x="984256" y="47243"/>
                </a:lnTo>
                <a:lnTo>
                  <a:pt x="957199" y="47243"/>
                </a:lnTo>
                <a:lnTo>
                  <a:pt x="955675" y="45846"/>
                </a:lnTo>
                <a:close/>
              </a:path>
              <a:path w="989329" h="637539">
                <a:moveTo>
                  <a:pt x="35179" y="45846"/>
                </a:moveTo>
                <a:lnTo>
                  <a:pt x="33528" y="47243"/>
                </a:lnTo>
                <a:lnTo>
                  <a:pt x="34470" y="47243"/>
                </a:lnTo>
                <a:lnTo>
                  <a:pt x="35179" y="45846"/>
                </a:lnTo>
                <a:close/>
              </a:path>
              <a:path w="989329" h="637539">
                <a:moveTo>
                  <a:pt x="950766" y="39525"/>
                </a:moveTo>
                <a:lnTo>
                  <a:pt x="957199" y="47243"/>
                </a:lnTo>
                <a:lnTo>
                  <a:pt x="984256" y="47243"/>
                </a:lnTo>
                <a:lnTo>
                  <a:pt x="983107" y="44195"/>
                </a:lnTo>
                <a:lnTo>
                  <a:pt x="980566" y="39750"/>
                </a:lnTo>
                <a:lnTo>
                  <a:pt x="951103" y="39750"/>
                </a:lnTo>
                <a:lnTo>
                  <a:pt x="950766" y="39525"/>
                </a:lnTo>
                <a:close/>
              </a:path>
              <a:path w="989329" h="637539">
                <a:moveTo>
                  <a:pt x="41275" y="38099"/>
                </a:moveTo>
                <a:lnTo>
                  <a:pt x="39624" y="39750"/>
                </a:lnTo>
                <a:lnTo>
                  <a:pt x="40219" y="39345"/>
                </a:lnTo>
                <a:lnTo>
                  <a:pt x="41275" y="38099"/>
                </a:lnTo>
                <a:close/>
              </a:path>
              <a:path w="989329" h="637539">
                <a:moveTo>
                  <a:pt x="40219" y="39345"/>
                </a:moveTo>
                <a:lnTo>
                  <a:pt x="39624" y="39750"/>
                </a:lnTo>
                <a:lnTo>
                  <a:pt x="39876" y="39750"/>
                </a:lnTo>
                <a:lnTo>
                  <a:pt x="40219" y="39345"/>
                </a:lnTo>
                <a:close/>
              </a:path>
              <a:path w="989329" h="637539">
                <a:moveTo>
                  <a:pt x="949579" y="38099"/>
                </a:moveTo>
                <a:lnTo>
                  <a:pt x="950766" y="39525"/>
                </a:lnTo>
                <a:lnTo>
                  <a:pt x="951103" y="39750"/>
                </a:lnTo>
                <a:lnTo>
                  <a:pt x="949579" y="38099"/>
                </a:lnTo>
                <a:close/>
              </a:path>
              <a:path w="989329" h="637539">
                <a:moveTo>
                  <a:pt x="979623" y="38099"/>
                </a:moveTo>
                <a:lnTo>
                  <a:pt x="949579" y="38099"/>
                </a:lnTo>
                <a:lnTo>
                  <a:pt x="951103" y="39750"/>
                </a:lnTo>
                <a:lnTo>
                  <a:pt x="980566" y="39750"/>
                </a:lnTo>
                <a:lnTo>
                  <a:pt x="979623" y="38099"/>
                </a:lnTo>
                <a:close/>
              </a:path>
              <a:path w="989329" h="637539">
                <a:moveTo>
                  <a:pt x="971238" y="25907"/>
                </a:moveTo>
                <a:lnTo>
                  <a:pt x="926591" y="25907"/>
                </a:lnTo>
                <a:lnTo>
                  <a:pt x="931163" y="27431"/>
                </a:lnTo>
                <a:lnTo>
                  <a:pt x="934338" y="29082"/>
                </a:lnTo>
                <a:lnTo>
                  <a:pt x="943356" y="33527"/>
                </a:lnTo>
                <a:lnTo>
                  <a:pt x="941832" y="33527"/>
                </a:lnTo>
                <a:lnTo>
                  <a:pt x="950766" y="39525"/>
                </a:lnTo>
                <a:lnTo>
                  <a:pt x="949579" y="38099"/>
                </a:lnTo>
                <a:lnTo>
                  <a:pt x="979623" y="38099"/>
                </a:lnTo>
                <a:lnTo>
                  <a:pt x="977011" y="33527"/>
                </a:lnTo>
                <a:lnTo>
                  <a:pt x="977011" y="32003"/>
                </a:lnTo>
                <a:lnTo>
                  <a:pt x="975360" y="32003"/>
                </a:lnTo>
                <a:lnTo>
                  <a:pt x="971238" y="25907"/>
                </a:lnTo>
                <a:close/>
              </a:path>
              <a:path w="989329" h="637539">
                <a:moveTo>
                  <a:pt x="42049" y="38099"/>
                </a:moveTo>
                <a:lnTo>
                  <a:pt x="41275" y="38099"/>
                </a:lnTo>
                <a:lnTo>
                  <a:pt x="40219" y="39345"/>
                </a:lnTo>
                <a:lnTo>
                  <a:pt x="42049" y="38099"/>
                </a:lnTo>
                <a:close/>
              </a:path>
              <a:path w="989329" h="637539">
                <a:moveTo>
                  <a:pt x="957199" y="12318"/>
                </a:moveTo>
                <a:lnTo>
                  <a:pt x="32131" y="12318"/>
                </a:lnTo>
                <a:lnTo>
                  <a:pt x="32131" y="13842"/>
                </a:lnTo>
                <a:lnTo>
                  <a:pt x="22860" y="21335"/>
                </a:lnTo>
                <a:lnTo>
                  <a:pt x="966343" y="21335"/>
                </a:lnTo>
                <a:lnTo>
                  <a:pt x="957199" y="13842"/>
                </a:lnTo>
                <a:lnTo>
                  <a:pt x="957199" y="12318"/>
                </a:lnTo>
                <a:close/>
              </a:path>
              <a:path w="989329" h="637539">
                <a:moveTo>
                  <a:pt x="922019" y="0"/>
                </a:moveTo>
                <a:lnTo>
                  <a:pt x="65532" y="0"/>
                </a:lnTo>
                <a:lnTo>
                  <a:pt x="58039" y="1650"/>
                </a:lnTo>
                <a:lnTo>
                  <a:pt x="51943" y="3174"/>
                </a:lnTo>
                <a:lnTo>
                  <a:pt x="44196" y="6095"/>
                </a:lnTo>
                <a:lnTo>
                  <a:pt x="33528" y="12318"/>
                </a:lnTo>
                <a:lnTo>
                  <a:pt x="955675" y="12318"/>
                </a:lnTo>
                <a:lnTo>
                  <a:pt x="943356" y="6095"/>
                </a:lnTo>
                <a:lnTo>
                  <a:pt x="937260" y="3174"/>
                </a:lnTo>
                <a:lnTo>
                  <a:pt x="922019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7" name="object 81"/>
          <p:cNvSpPr/>
          <p:nvPr/>
        </p:nvSpPr>
        <p:spPr>
          <a:xfrm>
            <a:off x="6859080" y="4882680"/>
            <a:ext cx="32796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82"/>
          <p:cNvSpPr/>
          <p:nvPr/>
        </p:nvSpPr>
        <p:spPr>
          <a:xfrm>
            <a:off x="6496560" y="5414040"/>
            <a:ext cx="851400" cy="540360"/>
          </a:xfrm>
          <a:custGeom>
            <a:avLst/>
            <a:gdLst>
              <a:gd name="textAreaLeft" fmla="*/ 0 w 851400"/>
              <a:gd name="textAreaRight" fmla="*/ 851760 w 851400"/>
              <a:gd name="textAreaTop" fmla="*/ 0 h 540360"/>
              <a:gd name="textAreaBottom" fmla="*/ 540720 h 540360"/>
            </a:gdLst>
            <a:ahLst/>
            <a:rect l="textAreaLeft" t="textAreaTop" r="textAreaRight" b="textAreaBottom"/>
            <a:pathLst>
              <a:path w="965200" h="612775">
                <a:moveTo>
                  <a:pt x="902208" y="0"/>
                </a:moveTo>
                <a:lnTo>
                  <a:pt x="61087" y="0"/>
                </a:lnTo>
                <a:lnTo>
                  <a:pt x="37343" y="4812"/>
                </a:lnTo>
                <a:lnTo>
                  <a:pt x="17922" y="17922"/>
                </a:lnTo>
                <a:lnTo>
                  <a:pt x="4812" y="37343"/>
                </a:lnTo>
                <a:lnTo>
                  <a:pt x="0" y="61086"/>
                </a:lnTo>
                <a:lnTo>
                  <a:pt x="0" y="551814"/>
                </a:lnTo>
                <a:lnTo>
                  <a:pt x="4812" y="575464"/>
                </a:lnTo>
                <a:lnTo>
                  <a:pt x="17922" y="594804"/>
                </a:lnTo>
                <a:lnTo>
                  <a:pt x="37343" y="607857"/>
                </a:lnTo>
                <a:lnTo>
                  <a:pt x="61087" y="612647"/>
                </a:lnTo>
                <a:lnTo>
                  <a:pt x="902208" y="612647"/>
                </a:lnTo>
                <a:lnTo>
                  <a:pt x="926832" y="607857"/>
                </a:lnTo>
                <a:lnTo>
                  <a:pt x="946705" y="594804"/>
                </a:lnTo>
                <a:lnTo>
                  <a:pt x="959983" y="575464"/>
                </a:lnTo>
                <a:lnTo>
                  <a:pt x="964819" y="551814"/>
                </a:lnTo>
                <a:lnTo>
                  <a:pt x="964819" y="61086"/>
                </a:lnTo>
                <a:lnTo>
                  <a:pt x="959983" y="37343"/>
                </a:lnTo>
                <a:lnTo>
                  <a:pt x="946705" y="17922"/>
                </a:lnTo>
                <a:lnTo>
                  <a:pt x="926832" y="4812"/>
                </a:lnTo>
                <a:lnTo>
                  <a:pt x="902208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9" name="object 83"/>
          <p:cNvSpPr/>
          <p:nvPr/>
        </p:nvSpPr>
        <p:spPr>
          <a:xfrm>
            <a:off x="6485760" y="540324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40">
                <a:moveTo>
                  <a:pt x="955675" y="624840"/>
                </a:moveTo>
                <a:lnTo>
                  <a:pt x="33528" y="624840"/>
                </a:lnTo>
                <a:lnTo>
                  <a:pt x="45720" y="630936"/>
                </a:lnTo>
                <a:lnTo>
                  <a:pt x="51943" y="634111"/>
                </a:lnTo>
                <a:lnTo>
                  <a:pt x="59562" y="635635"/>
                </a:lnTo>
                <a:lnTo>
                  <a:pt x="67056" y="637032"/>
                </a:lnTo>
                <a:lnTo>
                  <a:pt x="923671" y="637032"/>
                </a:lnTo>
                <a:lnTo>
                  <a:pt x="931163" y="635635"/>
                </a:lnTo>
                <a:lnTo>
                  <a:pt x="937260" y="634111"/>
                </a:lnTo>
                <a:lnTo>
                  <a:pt x="945007" y="630936"/>
                </a:lnTo>
                <a:lnTo>
                  <a:pt x="955675" y="624840"/>
                </a:lnTo>
                <a:close/>
              </a:path>
              <a:path w="989329" h="637540">
                <a:moveTo>
                  <a:pt x="966343" y="615696"/>
                </a:moveTo>
                <a:lnTo>
                  <a:pt x="22860" y="615696"/>
                </a:lnTo>
                <a:lnTo>
                  <a:pt x="32131" y="623443"/>
                </a:lnTo>
                <a:lnTo>
                  <a:pt x="32131" y="624840"/>
                </a:lnTo>
                <a:lnTo>
                  <a:pt x="957199" y="624840"/>
                </a:lnTo>
                <a:lnTo>
                  <a:pt x="957199" y="623443"/>
                </a:lnTo>
                <a:lnTo>
                  <a:pt x="966343" y="615696"/>
                </a:lnTo>
                <a:close/>
              </a:path>
              <a:path w="989329" h="637540">
                <a:moveTo>
                  <a:pt x="957199" y="12192"/>
                </a:moveTo>
                <a:lnTo>
                  <a:pt x="32131" y="12192"/>
                </a:lnTo>
                <a:lnTo>
                  <a:pt x="32131" y="13843"/>
                </a:lnTo>
                <a:lnTo>
                  <a:pt x="22860" y="19939"/>
                </a:lnTo>
                <a:lnTo>
                  <a:pt x="19938" y="22860"/>
                </a:lnTo>
                <a:lnTo>
                  <a:pt x="13843" y="32004"/>
                </a:lnTo>
                <a:lnTo>
                  <a:pt x="12192" y="32004"/>
                </a:lnTo>
                <a:lnTo>
                  <a:pt x="12192" y="33528"/>
                </a:lnTo>
                <a:lnTo>
                  <a:pt x="6096" y="45847"/>
                </a:lnTo>
                <a:lnTo>
                  <a:pt x="3175" y="51943"/>
                </a:lnTo>
                <a:lnTo>
                  <a:pt x="1524" y="59436"/>
                </a:lnTo>
                <a:lnTo>
                  <a:pt x="0" y="67183"/>
                </a:lnTo>
                <a:lnTo>
                  <a:pt x="0" y="571500"/>
                </a:lnTo>
                <a:lnTo>
                  <a:pt x="1524" y="579247"/>
                </a:lnTo>
                <a:lnTo>
                  <a:pt x="3175" y="585343"/>
                </a:lnTo>
                <a:lnTo>
                  <a:pt x="6096" y="592836"/>
                </a:lnTo>
                <a:lnTo>
                  <a:pt x="12192" y="603504"/>
                </a:lnTo>
                <a:lnTo>
                  <a:pt x="12192" y="605028"/>
                </a:lnTo>
                <a:lnTo>
                  <a:pt x="13843" y="605028"/>
                </a:lnTo>
                <a:lnTo>
                  <a:pt x="19938" y="614172"/>
                </a:lnTo>
                <a:lnTo>
                  <a:pt x="21463" y="615696"/>
                </a:lnTo>
                <a:lnTo>
                  <a:pt x="967866" y="615696"/>
                </a:lnTo>
                <a:lnTo>
                  <a:pt x="967866" y="614172"/>
                </a:lnTo>
                <a:lnTo>
                  <a:pt x="970364" y="611124"/>
                </a:lnTo>
                <a:lnTo>
                  <a:pt x="64135" y="611124"/>
                </a:lnTo>
                <a:lnTo>
                  <a:pt x="59562" y="609600"/>
                </a:lnTo>
                <a:lnTo>
                  <a:pt x="54864" y="608203"/>
                </a:lnTo>
                <a:lnTo>
                  <a:pt x="45720" y="603504"/>
                </a:lnTo>
                <a:lnTo>
                  <a:pt x="47371" y="603504"/>
                </a:lnTo>
                <a:lnTo>
                  <a:pt x="40269" y="598932"/>
                </a:lnTo>
                <a:lnTo>
                  <a:pt x="39624" y="598932"/>
                </a:lnTo>
                <a:lnTo>
                  <a:pt x="38100" y="597535"/>
                </a:lnTo>
                <a:lnTo>
                  <a:pt x="38463" y="597535"/>
                </a:lnTo>
                <a:lnTo>
                  <a:pt x="32131" y="589915"/>
                </a:lnTo>
                <a:lnTo>
                  <a:pt x="32874" y="589915"/>
                </a:lnTo>
                <a:lnTo>
                  <a:pt x="28956" y="580771"/>
                </a:lnTo>
                <a:lnTo>
                  <a:pt x="27432" y="577596"/>
                </a:lnTo>
                <a:lnTo>
                  <a:pt x="26034" y="573024"/>
                </a:lnTo>
                <a:lnTo>
                  <a:pt x="26034" y="64135"/>
                </a:lnTo>
                <a:lnTo>
                  <a:pt x="27432" y="59436"/>
                </a:lnTo>
                <a:lnTo>
                  <a:pt x="28956" y="54864"/>
                </a:lnTo>
                <a:lnTo>
                  <a:pt x="33528" y="45847"/>
                </a:lnTo>
                <a:lnTo>
                  <a:pt x="34530" y="45847"/>
                </a:lnTo>
                <a:lnTo>
                  <a:pt x="38621" y="39624"/>
                </a:lnTo>
                <a:lnTo>
                  <a:pt x="38100" y="39624"/>
                </a:lnTo>
                <a:lnTo>
                  <a:pt x="39624" y="38100"/>
                </a:lnTo>
                <a:lnTo>
                  <a:pt x="40417" y="38100"/>
                </a:lnTo>
                <a:lnTo>
                  <a:pt x="47371" y="33528"/>
                </a:lnTo>
                <a:lnTo>
                  <a:pt x="45720" y="33528"/>
                </a:lnTo>
                <a:lnTo>
                  <a:pt x="56388" y="29083"/>
                </a:lnTo>
                <a:lnTo>
                  <a:pt x="59562" y="27432"/>
                </a:lnTo>
                <a:lnTo>
                  <a:pt x="64135" y="26035"/>
                </a:lnTo>
                <a:lnTo>
                  <a:pt x="970468" y="26035"/>
                </a:lnTo>
                <a:lnTo>
                  <a:pt x="967866" y="22860"/>
                </a:lnTo>
                <a:lnTo>
                  <a:pt x="967866" y="21336"/>
                </a:lnTo>
                <a:lnTo>
                  <a:pt x="966343" y="19939"/>
                </a:lnTo>
                <a:lnTo>
                  <a:pt x="957199" y="13843"/>
                </a:lnTo>
                <a:lnTo>
                  <a:pt x="957199" y="12192"/>
                </a:lnTo>
                <a:close/>
              </a:path>
              <a:path w="989329" h="637540">
                <a:moveTo>
                  <a:pt x="980026" y="597535"/>
                </a:moveTo>
                <a:lnTo>
                  <a:pt x="951103" y="597535"/>
                </a:lnTo>
                <a:lnTo>
                  <a:pt x="941832" y="603504"/>
                </a:lnTo>
                <a:lnTo>
                  <a:pt x="943356" y="603504"/>
                </a:lnTo>
                <a:lnTo>
                  <a:pt x="932688" y="608203"/>
                </a:lnTo>
                <a:lnTo>
                  <a:pt x="928243" y="609600"/>
                </a:lnTo>
                <a:lnTo>
                  <a:pt x="923671" y="611124"/>
                </a:lnTo>
                <a:lnTo>
                  <a:pt x="970364" y="611124"/>
                </a:lnTo>
                <a:lnTo>
                  <a:pt x="975360" y="605028"/>
                </a:lnTo>
                <a:lnTo>
                  <a:pt x="977011" y="603504"/>
                </a:lnTo>
                <a:lnTo>
                  <a:pt x="980026" y="597535"/>
                </a:lnTo>
                <a:close/>
              </a:path>
              <a:path w="989329" h="637540">
                <a:moveTo>
                  <a:pt x="38100" y="597535"/>
                </a:moveTo>
                <a:lnTo>
                  <a:pt x="39624" y="598932"/>
                </a:lnTo>
                <a:lnTo>
                  <a:pt x="38880" y="598037"/>
                </a:lnTo>
                <a:lnTo>
                  <a:pt x="38100" y="597535"/>
                </a:lnTo>
                <a:close/>
              </a:path>
              <a:path w="989329" h="637540">
                <a:moveTo>
                  <a:pt x="38880" y="598037"/>
                </a:moveTo>
                <a:lnTo>
                  <a:pt x="39624" y="598932"/>
                </a:lnTo>
                <a:lnTo>
                  <a:pt x="40269" y="598932"/>
                </a:lnTo>
                <a:lnTo>
                  <a:pt x="38880" y="598037"/>
                </a:lnTo>
                <a:close/>
              </a:path>
              <a:path w="989329" h="637540">
                <a:moveTo>
                  <a:pt x="983837" y="589915"/>
                </a:moveTo>
                <a:lnTo>
                  <a:pt x="955675" y="589915"/>
                </a:lnTo>
                <a:lnTo>
                  <a:pt x="947928" y="598932"/>
                </a:lnTo>
                <a:lnTo>
                  <a:pt x="951103" y="597535"/>
                </a:lnTo>
                <a:lnTo>
                  <a:pt x="980026" y="597535"/>
                </a:lnTo>
                <a:lnTo>
                  <a:pt x="983107" y="591439"/>
                </a:lnTo>
                <a:lnTo>
                  <a:pt x="983837" y="589915"/>
                </a:lnTo>
                <a:close/>
              </a:path>
              <a:path w="989329" h="637540">
                <a:moveTo>
                  <a:pt x="38463" y="597535"/>
                </a:moveTo>
                <a:lnTo>
                  <a:pt x="38100" y="597535"/>
                </a:lnTo>
                <a:lnTo>
                  <a:pt x="38880" y="598037"/>
                </a:lnTo>
                <a:lnTo>
                  <a:pt x="38463" y="597535"/>
                </a:lnTo>
                <a:close/>
              </a:path>
              <a:path w="989329" h="637540">
                <a:moveTo>
                  <a:pt x="32874" y="589915"/>
                </a:moveTo>
                <a:lnTo>
                  <a:pt x="32131" y="589915"/>
                </a:lnTo>
                <a:lnTo>
                  <a:pt x="33528" y="591439"/>
                </a:lnTo>
                <a:lnTo>
                  <a:pt x="32874" y="589915"/>
                </a:lnTo>
                <a:close/>
              </a:path>
              <a:path w="989329" h="637540">
                <a:moveTo>
                  <a:pt x="954024" y="45847"/>
                </a:moveTo>
                <a:lnTo>
                  <a:pt x="961771" y="59436"/>
                </a:lnTo>
                <a:lnTo>
                  <a:pt x="963168" y="64135"/>
                </a:lnTo>
                <a:lnTo>
                  <a:pt x="963168" y="573024"/>
                </a:lnTo>
                <a:lnTo>
                  <a:pt x="961771" y="577596"/>
                </a:lnTo>
                <a:lnTo>
                  <a:pt x="960119" y="582168"/>
                </a:lnTo>
                <a:lnTo>
                  <a:pt x="954024" y="591439"/>
                </a:lnTo>
                <a:lnTo>
                  <a:pt x="955675" y="589915"/>
                </a:lnTo>
                <a:lnTo>
                  <a:pt x="983837" y="589915"/>
                </a:lnTo>
                <a:lnTo>
                  <a:pt x="986028" y="585343"/>
                </a:lnTo>
                <a:lnTo>
                  <a:pt x="987679" y="577596"/>
                </a:lnTo>
                <a:lnTo>
                  <a:pt x="989203" y="570103"/>
                </a:lnTo>
                <a:lnTo>
                  <a:pt x="989203" y="65532"/>
                </a:lnTo>
                <a:lnTo>
                  <a:pt x="987679" y="58039"/>
                </a:lnTo>
                <a:lnTo>
                  <a:pt x="986028" y="51943"/>
                </a:lnTo>
                <a:lnTo>
                  <a:pt x="984304" y="47371"/>
                </a:lnTo>
                <a:lnTo>
                  <a:pt x="955675" y="47371"/>
                </a:lnTo>
                <a:lnTo>
                  <a:pt x="954024" y="45847"/>
                </a:lnTo>
                <a:close/>
              </a:path>
              <a:path w="989329" h="637540">
                <a:moveTo>
                  <a:pt x="34530" y="45847"/>
                </a:moveTo>
                <a:lnTo>
                  <a:pt x="33528" y="45847"/>
                </a:lnTo>
                <a:lnTo>
                  <a:pt x="33528" y="47371"/>
                </a:lnTo>
                <a:lnTo>
                  <a:pt x="34530" y="45847"/>
                </a:lnTo>
                <a:close/>
              </a:path>
              <a:path w="989329" h="637540">
                <a:moveTo>
                  <a:pt x="947928" y="38100"/>
                </a:moveTo>
                <a:lnTo>
                  <a:pt x="955675" y="47371"/>
                </a:lnTo>
                <a:lnTo>
                  <a:pt x="984304" y="47371"/>
                </a:lnTo>
                <a:lnTo>
                  <a:pt x="983107" y="44196"/>
                </a:lnTo>
                <a:lnTo>
                  <a:pt x="980494" y="39624"/>
                </a:lnTo>
                <a:lnTo>
                  <a:pt x="951103" y="39624"/>
                </a:lnTo>
                <a:lnTo>
                  <a:pt x="947928" y="38100"/>
                </a:lnTo>
                <a:close/>
              </a:path>
              <a:path w="989329" h="637540">
                <a:moveTo>
                  <a:pt x="39624" y="38100"/>
                </a:moveTo>
                <a:lnTo>
                  <a:pt x="38100" y="39624"/>
                </a:lnTo>
                <a:lnTo>
                  <a:pt x="39019" y="39019"/>
                </a:lnTo>
                <a:lnTo>
                  <a:pt x="39624" y="38100"/>
                </a:lnTo>
                <a:close/>
              </a:path>
              <a:path w="989329" h="637540">
                <a:moveTo>
                  <a:pt x="39019" y="39019"/>
                </a:moveTo>
                <a:lnTo>
                  <a:pt x="38100" y="39624"/>
                </a:lnTo>
                <a:lnTo>
                  <a:pt x="38621" y="39624"/>
                </a:lnTo>
                <a:lnTo>
                  <a:pt x="39019" y="39019"/>
                </a:lnTo>
                <a:close/>
              </a:path>
              <a:path w="989329" h="637540">
                <a:moveTo>
                  <a:pt x="975360" y="32004"/>
                </a:moveTo>
                <a:lnTo>
                  <a:pt x="941832" y="32004"/>
                </a:lnTo>
                <a:lnTo>
                  <a:pt x="951103" y="39624"/>
                </a:lnTo>
                <a:lnTo>
                  <a:pt x="980494" y="39624"/>
                </a:lnTo>
                <a:lnTo>
                  <a:pt x="977011" y="33528"/>
                </a:lnTo>
                <a:lnTo>
                  <a:pt x="975360" y="32004"/>
                </a:lnTo>
                <a:close/>
              </a:path>
              <a:path w="989329" h="637540">
                <a:moveTo>
                  <a:pt x="40417" y="38100"/>
                </a:moveTo>
                <a:lnTo>
                  <a:pt x="39624" y="38100"/>
                </a:lnTo>
                <a:lnTo>
                  <a:pt x="39019" y="39019"/>
                </a:lnTo>
                <a:lnTo>
                  <a:pt x="40417" y="38100"/>
                </a:lnTo>
                <a:close/>
              </a:path>
              <a:path w="989329" h="637540">
                <a:moveTo>
                  <a:pt x="970468" y="26035"/>
                </a:moveTo>
                <a:lnTo>
                  <a:pt x="925068" y="26035"/>
                </a:lnTo>
                <a:lnTo>
                  <a:pt x="929766" y="27432"/>
                </a:lnTo>
                <a:lnTo>
                  <a:pt x="934338" y="29083"/>
                </a:lnTo>
                <a:lnTo>
                  <a:pt x="943356" y="33528"/>
                </a:lnTo>
                <a:lnTo>
                  <a:pt x="941832" y="32004"/>
                </a:lnTo>
                <a:lnTo>
                  <a:pt x="975360" y="32004"/>
                </a:lnTo>
                <a:lnTo>
                  <a:pt x="970468" y="26035"/>
                </a:lnTo>
                <a:close/>
              </a:path>
              <a:path w="989329" h="637540">
                <a:moveTo>
                  <a:pt x="922019" y="0"/>
                </a:moveTo>
                <a:lnTo>
                  <a:pt x="65532" y="0"/>
                </a:lnTo>
                <a:lnTo>
                  <a:pt x="58039" y="1524"/>
                </a:lnTo>
                <a:lnTo>
                  <a:pt x="51943" y="3175"/>
                </a:lnTo>
                <a:lnTo>
                  <a:pt x="44196" y="6096"/>
                </a:lnTo>
                <a:lnTo>
                  <a:pt x="33528" y="12192"/>
                </a:lnTo>
                <a:lnTo>
                  <a:pt x="955675" y="12192"/>
                </a:lnTo>
                <a:lnTo>
                  <a:pt x="943356" y="6096"/>
                </a:lnTo>
                <a:lnTo>
                  <a:pt x="935863" y="3175"/>
                </a:lnTo>
                <a:lnTo>
                  <a:pt x="929766" y="1524"/>
                </a:lnTo>
                <a:lnTo>
                  <a:pt x="9220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0" name="object 84"/>
          <p:cNvSpPr/>
          <p:nvPr/>
        </p:nvSpPr>
        <p:spPr>
          <a:xfrm>
            <a:off x="6584040" y="5498640"/>
            <a:ext cx="862920" cy="54684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1" name="object 85"/>
          <p:cNvSpPr/>
          <p:nvPr/>
        </p:nvSpPr>
        <p:spPr>
          <a:xfrm>
            <a:off x="6580080" y="5493240"/>
            <a:ext cx="872640" cy="5616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1600"/>
              <a:gd name="textAreaBottom" fmla="*/ 561960 h 561600"/>
            </a:gdLst>
            <a:ahLst/>
            <a:rect l="textAreaLeft" t="textAreaTop" r="textAreaRight" b="textAreaBottom"/>
            <a:pathLst>
              <a:path w="989329" h="636904">
                <a:moveTo>
                  <a:pt x="966088" y="615568"/>
                </a:moveTo>
                <a:lnTo>
                  <a:pt x="22860" y="615568"/>
                </a:lnTo>
                <a:lnTo>
                  <a:pt x="32004" y="623188"/>
                </a:lnTo>
                <a:lnTo>
                  <a:pt x="33528" y="624839"/>
                </a:lnTo>
                <a:lnTo>
                  <a:pt x="45593" y="630935"/>
                </a:lnTo>
                <a:lnTo>
                  <a:pt x="53213" y="633856"/>
                </a:lnTo>
                <a:lnTo>
                  <a:pt x="59436" y="635507"/>
                </a:lnTo>
                <a:lnTo>
                  <a:pt x="67056" y="636904"/>
                </a:lnTo>
                <a:lnTo>
                  <a:pt x="923416" y="636904"/>
                </a:lnTo>
                <a:lnTo>
                  <a:pt x="931163" y="635507"/>
                </a:lnTo>
                <a:lnTo>
                  <a:pt x="938657" y="632332"/>
                </a:lnTo>
                <a:lnTo>
                  <a:pt x="944753" y="630935"/>
                </a:lnTo>
                <a:lnTo>
                  <a:pt x="955421" y="624839"/>
                </a:lnTo>
                <a:lnTo>
                  <a:pt x="957072" y="624839"/>
                </a:lnTo>
                <a:lnTo>
                  <a:pt x="957072" y="623188"/>
                </a:lnTo>
                <a:lnTo>
                  <a:pt x="966088" y="615568"/>
                </a:lnTo>
                <a:close/>
              </a:path>
              <a:path w="989329" h="636904">
                <a:moveTo>
                  <a:pt x="47117" y="32003"/>
                </a:moveTo>
                <a:lnTo>
                  <a:pt x="12192" y="32003"/>
                </a:lnTo>
                <a:lnTo>
                  <a:pt x="12192" y="33400"/>
                </a:lnTo>
                <a:lnTo>
                  <a:pt x="6096" y="45592"/>
                </a:lnTo>
                <a:lnTo>
                  <a:pt x="2921" y="51688"/>
                </a:lnTo>
                <a:lnTo>
                  <a:pt x="1524" y="59435"/>
                </a:lnTo>
                <a:lnTo>
                  <a:pt x="0" y="66928"/>
                </a:lnTo>
                <a:lnTo>
                  <a:pt x="0" y="571499"/>
                </a:lnTo>
                <a:lnTo>
                  <a:pt x="1524" y="578992"/>
                </a:lnTo>
                <a:lnTo>
                  <a:pt x="2921" y="585088"/>
                </a:lnTo>
                <a:lnTo>
                  <a:pt x="6096" y="592835"/>
                </a:lnTo>
                <a:lnTo>
                  <a:pt x="12192" y="603503"/>
                </a:lnTo>
                <a:lnTo>
                  <a:pt x="13589" y="604900"/>
                </a:lnTo>
                <a:lnTo>
                  <a:pt x="21336" y="614171"/>
                </a:lnTo>
                <a:lnTo>
                  <a:pt x="21336" y="615568"/>
                </a:lnTo>
                <a:lnTo>
                  <a:pt x="967613" y="615568"/>
                </a:lnTo>
                <a:lnTo>
                  <a:pt x="967613" y="614171"/>
                </a:lnTo>
                <a:lnTo>
                  <a:pt x="969263" y="614171"/>
                </a:lnTo>
                <a:lnTo>
                  <a:pt x="971351" y="610996"/>
                </a:lnTo>
                <a:lnTo>
                  <a:pt x="68453" y="610996"/>
                </a:lnTo>
                <a:lnTo>
                  <a:pt x="63881" y="609599"/>
                </a:lnTo>
                <a:lnTo>
                  <a:pt x="59436" y="609599"/>
                </a:lnTo>
                <a:lnTo>
                  <a:pt x="54864" y="606424"/>
                </a:lnTo>
                <a:lnTo>
                  <a:pt x="48771" y="603503"/>
                </a:lnTo>
                <a:lnTo>
                  <a:pt x="47117" y="603503"/>
                </a:lnTo>
                <a:lnTo>
                  <a:pt x="38100" y="595756"/>
                </a:lnTo>
                <a:lnTo>
                  <a:pt x="39424" y="595756"/>
                </a:lnTo>
                <a:lnTo>
                  <a:pt x="35124" y="591311"/>
                </a:lnTo>
                <a:lnTo>
                  <a:pt x="34925" y="591311"/>
                </a:lnTo>
                <a:lnTo>
                  <a:pt x="33528" y="589660"/>
                </a:lnTo>
                <a:lnTo>
                  <a:pt x="34001" y="589660"/>
                </a:lnTo>
                <a:lnTo>
                  <a:pt x="28956" y="580643"/>
                </a:lnTo>
                <a:lnTo>
                  <a:pt x="27432" y="576071"/>
                </a:lnTo>
                <a:lnTo>
                  <a:pt x="25780" y="571499"/>
                </a:lnTo>
                <a:lnTo>
                  <a:pt x="25780" y="62356"/>
                </a:lnTo>
                <a:lnTo>
                  <a:pt x="27432" y="57911"/>
                </a:lnTo>
                <a:lnTo>
                  <a:pt x="28956" y="53339"/>
                </a:lnTo>
                <a:lnTo>
                  <a:pt x="33652" y="47243"/>
                </a:lnTo>
                <a:lnTo>
                  <a:pt x="39876" y="39496"/>
                </a:lnTo>
                <a:lnTo>
                  <a:pt x="38100" y="39496"/>
                </a:lnTo>
                <a:lnTo>
                  <a:pt x="47117" y="32003"/>
                </a:lnTo>
                <a:close/>
              </a:path>
              <a:path w="989329" h="636904">
                <a:moveTo>
                  <a:pt x="943356" y="601979"/>
                </a:moveTo>
                <a:lnTo>
                  <a:pt x="932561" y="608075"/>
                </a:lnTo>
                <a:lnTo>
                  <a:pt x="929513" y="609599"/>
                </a:lnTo>
                <a:lnTo>
                  <a:pt x="925068" y="610996"/>
                </a:lnTo>
                <a:lnTo>
                  <a:pt x="971351" y="610996"/>
                </a:lnTo>
                <a:lnTo>
                  <a:pt x="975360" y="604900"/>
                </a:lnTo>
                <a:lnTo>
                  <a:pt x="976757" y="604900"/>
                </a:lnTo>
                <a:lnTo>
                  <a:pt x="976757" y="603503"/>
                </a:lnTo>
                <a:lnTo>
                  <a:pt x="941832" y="603503"/>
                </a:lnTo>
                <a:lnTo>
                  <a:pt x="943356" y="601979"/>
                </a:lnTo>
                <a:close/>
              </a:path>
              <a:path w="989329" h="636904">
                <a:moveTo>
                  <a:pt x="45593" y="601979"/>
                </a:moveTo>
                <a:lnTo>
                  <a:pt x="47117" y="603503"/>
                </a:lnTo>
                <a:lnTo>
                  <a:pt x="48771" y="603503"/>
                </a:lnTo>
                <a:lnTo>
                  <a:pt x="45593" y="601979"/>
                </a:lnTo>
                <a:close/>
              </a:path>
              <a:path w="989329" h="636904">
                <a:moveTo>
                  <a:pt x="950154" y="596353"/>
                </a:moveTo>
                <a:lnTo>
                  <a:pt x="941832" y="603503"/>
                </a:lnTo>
                <a:lnTo>
                  <a:pt x="976757" y="603503"/>
                </a:lnTo>
                <a:lnTo>
                  <a:pt x="979805" y="597407"/>
                </a:lnTo>
                <a:lnTo>
                  <a:pt x="949325" y="597407"/>
                </a:lnTo>
                <a:lnTo>
                  <a:pt x="950154" y="596353"/>
                </a:lnTo>
                <a:close/>
              </a:path>
              <a:path w="989329" h="636904">
                <a:moveTo>
                  <a:pt x="39424" y="595756"/>
                </a:moveTo>
                <a:lnTo>
                  <a:pt x="38100" y="595756"/>
                </a:lnTo>
                <a:lnTo>
                  <a:pt x="41021" y="597407"/>
                </a:lnTo>
                <a:lnTo>
                  <a:pt x="39424" y="595756"/>
                </a:lnTo>
                <a:close/>
              </a:path>
              <a:path w="989329" h="636904">
                <a:moveTo>
                  <a:pt x="950849" y="595756"/>
                </a:moveTo>
                <a:lnTo>
                  <a:pt x="950154" y="596353"/>
                </a:lnTo>
                <a:lnTo>
                  <a:pt x="949325" y="597407"/>
                </a:lnTo>
                <a:lnTo>
                  <a:pt x="950849" y="595756"/>
                </a:lnTo>
                <a:close/>
              </a:path>
              <a:path w="989329" h="636904">
                <a:moveTo>
                  <a:pt x="980630" y="595756"/>
                </a:moveTo>
                <a:lnTo>
                  <a:pt x="950849" y="595756"/>
                </a:lnTo>
                <a:lnTo>
                  <a:pt x="949325" y="597407"/>
                </a:lnTo>
                <a:lnTo>
                  <a:pt x="979805" y="597407"/>
                </a:lnTo>
                <a:lnTo>
                  <a:pt x="980630" y="595756"/>
                </a:lnTo>
                <a:close/>
              </a:path>
              <a:path w="989329" h="636904">
                <a:moveTo>
                  <a:pt x="955421" y="589660"/>
                </a:moveTo>
                <a:lnTo>
                  <a:pt x="950154" y="596353"/>
                </a:lnTo>
                <a:lnTo>
                  <a:pt x="950849" y="595756"/>
                </a:lnTo>
                <a:lnTo>
                  <a:pt x="980630" y="595756"/>
                </a:lnTo>
                <a:lnTo>
                  <a:pt x="982853" y="591311"/>
                </a:lnTo>
                <a:lnTo>
                  <a:pt x="955421" y="591311"/>
                </a:lnTo>
                <a:lnTo>
                  <a:pt x="955421" y="589660"/>
                </a:lnTo>
                <a:close/>
              </a:path>
              <a:path w="989329" h="636904">
                <a:moveTo>
                  <a:pt x="33528" y="589660"/>
                </a:moveTo>
                <a:lnTo>
                  <a:pt x="34925" y="591311"/>
                </a:lnTo>
                <a:lnTo>
                  <a:pt x="34650" y="590821"/>
                </a:lnTo>
                <a:lnTo>
                  <a:pt x="33528" y="589660"/>
                </a:lnTo>
                <a:close/>
              </a:path>
              <a:path w="989329" h="636904">
                <a:moveTo>
                  <a:pt x="34650" y="590821"/>
                </a:moveTo>
                <a:lnTo>
                  <a:pt x="34925" y="591311"/>
                </a:lnTo>
                <a:lnTo>
                  <a:pt x="35124" y="591311"/>
                </a:lnTo>
                <a:lnTo>
                  <a:pt x="34650" y="590821"/>
                </a:lnTo>
                <a:close/>
              </a:path>
              <a:path w="989329" h="636904">
                <a:moveTo>
                  <a:pt x="983646" y="45592"/>
                </a:moveTo>
                <a:lnTo>
                  <a:pt x="955421" y="45592"/>
                </a:lnTo>
                <a:lnTo>
                  <a:pt x="959993" y="54736"/>
                </a:lnTo>
                <a:lnTo>
                  <a:pt x="961516" y="59435"/>
                </a:lnTo>
                <a:lnTo>
                  <a:pt x="963168" y="64007"/>
                </a:lnTo>
                <a:lnTo>
                  <a:pt x="963168" y="572896"/>
                </a:lnTo>
                <a:lnTo>
                  <a:pt x="961516" y="577468"/>
                </a:lnTo>
                <a:lnTo>
                  <a:pt x="959993" y="582167"/>
                </a:lnTo>
                <a:lnTo>
                  <a:pt x="955421" y="591311"/>
                </a:lnTo>
                <a:lnTo>
                  <a:pt x="982853" y="591311"/>
                </a:lnTo>
                <a:lnTo>
                  <a:pt x="986028" y="583564"/>
                </a:lnTo>
                <a:lnTo>
                  <a:pt x="987425" y="577468"/>
                </a:lnTo>
                <a:lnTo>
                  <a:pt x="988949" y="569975"/>
                </a:lnTo>
                <a:lnTo>
                  <a:pt x="988949" y="65404"/>
                </a:lnTo>
                <a:lnTo>
                  <a:pt x="987425" y="57911"/>
                </a:lnTo>
                <a:lnTo>
                  <a:pt x="986028" y="50164"/>
                </a:lnTo>
                <a:lnTo>
                  <a:pt x="983646" y="45592"/>
                </a:lnTo>
                <a:close/>
              </a:path>
              <a:path w="989329" h="636904">
                <a:moveTo>
                  <a:pt x="34001" y="589660"/>
                </a:moveTo>
                <a:lnTo>
                  <a:pt x="33528" y="589660"/>
                </a:lnTo>
                <a:lnTo>
                  <a:pt x="34650" y="590821"/>
                </a:lnTo>
                <a:lnTo>
                  <a:pt x="34001" y="589660"/>
                </a:lnTo>
                <a:close/>
              </a:path>
              <a:path w="989329" h="636904">
                <a:moveTo>
                  <a:pt x="34925" y="45592"/>
                </a:moveTo>
                <a:lnTo>
                  <a:pt x="33528" y="47243"/>
                </a:lnTo>
                <a:lnTo>
                  <a:pt x="34925" y="45592"/>
                </a:lnTo>
                <a:close/>
              </a:path>
              <a:path w="989329" h="636904">
                <a:moveTo>
                  <a:pt x="949520" y="38392"/>
                </a:moveTo>
                <a:lnTo>
                  <a:pt x="955421" y="47243"/>
                </a:lnTo>
                <a:lnTo>
                  <a:pt x="955421" y="45592"/>
                </a:lnTo>
                <a:lnTo>
                  <a:pt x="983646" y="45592"/>
                </a:lnTo>
                <a:lnTo>
                  <a:pt x="982853" y="44068"/>
                </a:lnTo>
                <a:lnTo>
                  <a:pt x="980240" y="39496"/>
                </a:lnTo>
                <a:lnTo>
                  <a:pt x="950849" y="39496"/>
                </a:lnTo>
                <a:lnTo>
                  <a:pt x="949520" y="38392"/>
                </a:lnTo>
                <a:close/>
              </a:path>
              <a:path w="989329" h="636904">
                <a:moveTo>
                  <a:pt x="41021" y="38099"/>
                </a:moveTo>
                <a:lnTo>
                  <a:pt x="38100" y="39496"/>
                </a:lnTo>
                <a:lnTo>
                  <a:pt x="39876" y="39496"/>
                </a:lnTo>
                <a:lnTo>
                  <a:pt x="41021" y="38099"/>
                </a:lnTo>
                <a:close/>
              </a:path>
              <a:path w="989329" h="636904">
                <a:moveTo>
                  <a:pt x="949325" y="38099"/>
                </a:moveTo>
                <a:lnTo>
                  <a:pt x="949520" y="38392"/>
                </a:lnTo>
                <a:lnTo>
                  <a:pt x="950849" y="39496"/>
                </a:lnTo>
                <a:lnTo>
                  <a:pt x="949325" y="38099"/>
                </a:lnTo>
                <a:close/>
              </a:path>
              <a:path w="989329" h="636904">
                <a:moveTo>
                  <a:pt x="979442" y="38099"/>
                </a:moveTo>
                <a:lnTo>
                  <a:pt x="949325" y="38099"/>
                </a:lnTo>
                <a:lnTo>
                  <a:pt x="950849" y="39496"/>
                </a:lnTo>
                <a:lnTo>
                  <a:pt x="980240" y="39496"/>
                </a:lnTo>
                <a:lnTo>
                  <a:pt x="979442" y="38099"/>
                </a:lnTo>
                <a:close/>
              </a:path>
              <a:path w="989329" h="636904">
                <a:moveTo>
                  <a:pt x="976757" y="32003"/>
                </a:moveTo>
                <a:lnTo>
                  <a:pt x="941832" y="32003"/>
                </a:lnTo>
                <a:lnTo>
                  <a:pt x="949520" y="38392"/>
                </a:lnTo>
                <a:lnTo>
                  <a:pt x="949325" y="38099"/>
                </a:lnTo>
                <a:lnTo>
                  <a:pt x="979442" y="38099"/>
                </a:lnTo>
                <a:lnTo>
                  <a:pt x="976757" y="33400"/>
                </a:lnTo>
                <a:lnTo>
                  <a:pt x="976757" y="32003"/>
                </a:lnTo>
                <a:close/>
              </a:path>
              <a:path w="989329" h="636904">
                <a:moveTo>
                  <a:pt x="921893" y="0"/>
                </a:moveTo>
                <a:lnTo>
                  <a:pt x="65532" y="0"/>
                </a:lnTo>
                <a:lnTo>
                  <a:pt x="57785" y="1396"/>
                </a:lnTo>
                <a:lnTo>
                  <a:pt x="51689" y="3047"/>
                </a:lnTo>
                <a:lnTo>
                  <a:pt x="44196" y="5968"/>
                </a:lnTo>
                <a:lnTo>
                  <a:pt x="33528" y="10667"/>
                </a:lnTo>
                <a:lnTo>
                  <a:pt x="33528" y="12064"/>
                </a:lnTo>
                <a:lnTo>
                  <a:pt x="32004" y="12064"/>
                </a:lnTo>
                <a:lnTo>
                  <a:pt x="22860" y="19811"/>
                </a:lnTo>
                <a:lnTo>
                  <a:pt x="21336" y="21335"/>
                </a:lnTo>
                <a:lnTo>
                  <a:pt x="13589" y="30479"/>
                </a:lnTo>
                <a:lnTo>
                  <a:pt x="13589" y="32003"/>
                </a:lnTo>
                <a:lnTo>
                  <a:pt x="47117" y="32003"/>
                </a:lnTo>
                <a:lnTo>
                  <a:pt x="45593" y="33400"/>
                </a:lnTo>
                <a:lnTo>
                  <a:pt x="56261" y="27304"/>
                </a:lnTo>
                <a:lnTo>
                  <a:pt x="60960" y="27304"/>
                </a:lnTo>
                <a:lnTo>
                  <a:pt x="65532" y="25907"/>
                </a:lnTo>
                <a:lnTo>
                  <a:pt x="70104" y="24256"/>
                </a:lnTo>
                <a:lnTo>
                  <a:pt x="971211" y="24256"/>
                </a:lnTo>
                <a:lnTo>
                  <a:pt x="969263" y="21335"/>
                </a:lnTo>
                <a:lnTo>
                  <a:pt x="967613" y="21335"/>
                </a:lnTo>
                <a:lnTo>
                  <a:pt x="966088" y="19811"/>
                </a:lnTo>
                <a:lnTo>
                  <a:pt x="957072" y="12064"/>
                </a:lnTo>
                <a:lnTo>
                  <a:pt x="955421" y="10667"/>
                </a:lnTo>
                <a:lnTo>
                  <a:pt x="943356" y="4571"/>
                </a:lnTo>
                <a:lnTo>
                  <a:pt x="937260" y="3047"/>
                </a:lnTo>
                <a:lnTo>
                  <a:pt x="929513" y="1396"/>
                </a:lnTo>
                <a:lnTo>
                  <a:pt x="921893" y="0"/>
                </a:lnTo>
                <a:close/>
              </a:path>
              <a:path w="989329" h="636904">
                <a:moveTo>
                  <a:pt x="971211" y="24256"/>
                </a:moveTo>
                <a:lnTo>
                  <a:pt x="920496" y="24256"/>
                </a:lnTo>
                <a:lnTo>
                  <a:pt x="925068" y="25907"/>
                </a:lnTo>
                <a:lnTo>
                  <a:pt x="931163" y="27304"/>
                </a:lnTo>
                <a:lnTo>
                  <a:pt x="934085" y="28828"/>
                </a:lnTo>
                <a:lnTo>
                  <a:pt x="943356" y="33400"/>
                </a:lnTo>
                <a:lnTo>
                  <a:pt x="941832" y="32003"/>
                </a:lnTo>
                <a:lnTo>
                  <a:pt x="976757" y="32003"/>
                </a:lnTo>
                <a:lnTo>
                  <a:pt x="975360" y="30479"/>
                </a:lnTo>
                <a:lnTo>
                  <a:pt x="971211" y="24256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2" name="object 86"/>
          <p:cNvSpPr/>
          <p:nvPr/>
        </p:nvSpPr>
        <p:spPr>
          <a:xfrm>
            <a:off x="6673680" y="5673240"/>
            <a:ext cx="6865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OI/RRO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lang="en-US" sz="97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87"/>
          <p:cNvSpPr/>
          <p:nvPr/>
        </p:nvSpPr>
        <p:spPr>
          <a:xfrm>
            <a:off x="7871040" y="1752120"/>
            <a:ext cx="849600" cy="539280"/>
          </a:xfrm>
          <a:custGeom>
            <a:avLst/>
            <a:gdLst>
              <a:gd name="textAreaLeft" fmla="*/ 0 w 849600"/>
              <a:gd name="textAreaRight" fmla="*/ 849960 w 8496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3295" h="611505">
                <a:moveTo>
                  <a:pt x="902335" y="0"/>
                </a:moveTo>
                <a:lnTo>
                  <a:pt x="60960" y="0"/>
                </a:lnTo>
                <a:lnTo>
                  <a:pt x="37290" y="4812"/>
                </a:lnTo>
                <a:lnTo>
                  <a:pt x="17907" y="17922"/>
                </a:lnTo>
                <a:lnTo>
                  <a:pt x="4810" y="37343"/>
                </a:lnTo>
                <a:lnTo>
                  <a:pt x="0" y="61087"/>
                </a:lnTo>
                <a:lnTo>
                  <a:pt x="0" y="550164"/>
                </a:lnTo>
                <a:lnTo>
                  <a:pt x="4810" y="573907"/>
                </a:lnTo>
                <a:lnTo>
                  <a:pt x="17907" y="593328"/>
                </a:lnTo>
                <a:lnTo>
                  <a:pt x="37290" y="606438"/>
                </a:lnTo>
                <a:lnTo>
                  <a:pt x="60960" y="611251"/>
                </a:lnTo>
                <a:lnTo>
                  <a:pt x="902335" y="611251"/>
                </a:lnTo>
                <a:lnTo>
                  <a:pt x="925931" y="606438"/>
                </a:lnTo>
                <a:lnTo>
                  <a:pt x="945276" y="593328"/>
                </a:lnTo>
                <a:lnTo>
                  <a:pt x="958359" y="573907"/>
                </a:lnTo>
                <a:lnTo>
                  <a:pt x="963168" y="550164"/>
                </a:lnTo>
                <a:lnTo>
                  <a:pt x="963168" y="61087"/>
                </a:lnTo>
                <a:lnTo>
                  <a:pt x="958359" y="37343"/>
                </a:lnTo>
                <a:lnTo>
                  <a:pt x="945276" y="17922"/>
                </a:lnTo>
                <a:lnTo>
                  <a:pt x="925931" y="4812"/>
                </a:lnTo>
                <a:lnTo>
                  <a:pt x="902335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4" name="object 88"/>
          <p:cNvSpPr/>
          <p:nvPr/>
        </p:nvSpPr>
        <p:spPr>
          <a:xfrm>
            <a:off x="7860240" y="1740240"/>
            <a:ext cx="872640" cy="5634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89329" h="638810">
                <a:moveTo>
                  <a:pt x="923544" y="637032"/>
                </a:moveTo>
                <a:lnTo>
                  <a:pt x="66929" y="637032"/>
                </a:lnTo>
                <a:lnTo>
                  <a:pt x="73025" y="638429"/>
                </a:lnTo>
                <a:lnTo>
                  <a:pt x="914400" y="638429"/>
                </a:lnTo>
                <a:lnTo>
                  <a:pt x="923544" y="637032"/>
                </a:lnTo>
                <a:close/>
              </a:path>
              <a:path w="989329" h="638810">
                <a:moveTo>
                  <a:pt x="955421" y="624840"/>
                </a:moveTo>
                <a:lnTo>
                  <a:pt x="32004" y="624840"/>
                </a:lnTo>
                <a:lnTo>
                  <a:pt x="33401" y="626363"/>
                </a:lnTo>
                <a:lnTo>
                  <a:pt x="44196" y="632332"/>
                </a:lnTo>
                <a:lnTo>
                  <a:pt x="51689" y="635507"/>
                </a:lnTo>
                <a:lnTo>
                  <a:pt x="59436" y="637032"/>
                </a:lnTo>
                <a:lnTo>
                  <a:pt x="929640" y="637032"/>
                </a:lnTo>
                <a:lnTo>
                  <a:pt x="937133" y="633857"/>
                </a:lnTo>
                <a:lnTo>
                  <a:pt x="944753" y="630935"/>
                </a:lnTo>
                <a:lnTo>
                  <a:pt x="953897" y="626363"/>
                </a:lnTo>
                <a:lnTo>
                  <a:pt x="955421" y="624840"/>
                </a:lnTo>
                <a:close/>
              </a:path>
              <a:path w="989329" h="638810">
                <a:moveTo>
                  <a:pt x="45593" y="603504"/>
                </a:moveTo>
                <a:lnTo>
                  <a:pt x="47244" y="605027"/>
                </a:lnTo>
                <a:lnTo>
                  <a:pt x="12065" y="605027"/>
                </a:lnTo>
                <a:lnTo>
                  <a:pt x="12065" y="606424"/>
                </a:lnTo>
                <a:lnTo>
                  <a:pt x="19812" y="615696"/>
                </a:lnTo>
                <a:lnTo>
                  <a:pt x="21336" y="615696"/>
                </a:lnTo>
                <a:lnTo>
                  <a:pt x="21336" y="617093"/>
                </a:lnTo>
                <a:lnTo>
                  <a:pt x="30353" y="624840"/>
                </a:lnTo>
                <a:lnTo>
                  <a:pt x="957072" y="624840"/>
                </a:lnTo>
                <a:lnTo>
                  <a:pt x="966088" y="617093"/>
                </a:lnTo>
                <a:lnTo>
                  <a:pt x="967740" y="615696"/>
                </a:lnTo>
                <a:lnTo>
                  <a:pt x="970306" y="612521"/>
                </a:lnTo>
                <a:lnTo>
                  <a:pt x="66929" y="612521"/>
                </a:lnTo>
                <a:lnTo>
                  <a:pt x="62357" y="610996"/>
                </a:lnTo>
                <a:lnTo>
                  <a:pt x="57912" y="609599"/>
                </a:lnTo>
                <a:lnTo>
                  <a:pt x="53340" y="608076"/>
                </a:lnTo>
                <a:lnTo>
                  <a:pt x="45593" y="603504"/>
                </a:lnTo>
                <a:close/>
              </a:path>
              <a:path w="989329" h="638810">
                <a:moveTo>
                  <a:pt x="977519" y="603504"/>
                </a:moveTo>
                <a:lnTo>
                  <a:pt x="943229" y="603504"/>
                </a:lnTo>
                <a:lnTo>
                  <a:pt x="932561" y="609599"/>
                </a:lnTo>
                <a:lnTo>
                  <a:pt x="927988" y="610996"/>
                </a:lnTo>
                <a:lnTo>
                  <a:pt x="923544" y="610996"/>
                </a:lnTo>
                <a:lnTo>
                  <a:pt x="918972" y="612521"/>
                </a:lnTo>
                <a:lnTo>
                  <a:pt x="970306" y="612521"/>
                </a:lnTo>
                <a:lnTo>
                  <a:pt x="975233" y="606424"/>
                </a:lnTo>
                <a:lnTo>
                  <a:pt x="975233" y="605027"/>
                </a:lnTo>
                <a:lnTo>
                  <a:pt x="976757" y="605027"/>
                </a:lnTo>
                <a:lnTo>
                  <a:pt x="977519" y="603504"/>
                </a:lnTo>
                <a:close/>
              </a:path>
              <a:path w="989329" h="638810">
                <a:moveTo>
                  <a:pt x="47244" y="33527"/>
                </a:moveTo>
                <a:lnTo>
                  <a:pt x="10668" y="33527"/>
                </a:lnTo>
                <a:lnTo>
                  <a:pt x="4572" y="45592"/>
                </a:lnTo>
                <a:lnTo>
                  <a:pt x="2921" y="53339"/>
                </a:lnTo>
                <a:lnTo>
                  <a:pt x="0" y="59435"/>
                </a:lnTo>
                <a:lnTo>
                  <a:pt x="0" y="572896"/>
                </a:lnTo>
                <a:lnTo>
                  <a:pt x="1397" y="578993"/>
                </a:lnTo>
                <a:lnTo>
                  <a:pt x="2921" y="586740"/>
                </a:lnTo>
                <a:lnTo>
                  <a:pt x="10668" y="605027"/>
                </a:lnTo>
                <a:lnTo>
                  <a:pt x="47244" y="605027"/>
                </a:lnTo>
                <a:lnTo>
                  <a:pt x="39928" y="598932"/>
                </a:lnTo>
                <a:lnTo>
                  <a:pt x="39497" y="598932"/>
                </a:lnTo>
                <a:lnTo>
                  <a:pt x="38100" y="597407"/>
                </a:lnTo>
                <a:lnTo>
                  <a:pt x="38265" y="597407"/>
                </a:lnTo>
                <a:lnTo>
                  <a:pt x="34570" y="592835"/>
                </a:lnTo>
                <a:lnTo>
                  <a:pt x="33401" y="592835"/>
                </a:lnTo>
                <a:lnTo>
                  <a:pt x="27432" y="582168"/>
                </a:lnTo>
                <a:lnTo>
                  <a:pt x="25908" y="577596"/>
                </a:lnTo>
                <a:lnTo>
                  <a:pt x="25908" y="572896"/>
                </a:lnTo>
                <a:lnTo>
                  <a:pt x="24257" y="568324"/>
                </a:lnTo>
                <a:lnTo>
                  <a:pt x="24257" y="68452"/>
                </a:lnTo>
                <a:lnTo>
                  <a:pt x="25908" y="64007"/>
                </a:lnTo>
                <a:lnTo>
                  <a:pt x="27432" y="59435"/>
                </a:lnTo>
                <a:lnTo>
                  <a:pt x="28829" y="54863"/>
                </a:lnTo>
                <a:lnTo>
                  <a:pt x="33401" y="45592"/>
                </a:lnTo>
                <a:lnTo>
                  <a:pt x="34570" y="45592"/>
                </a:lnTo>
                <a:lnTo>
                  <a:pt x="38265" y="41020"/>
                </a:lnTo>
                <a:lnTo>
                  <a:pt x="38100" y="41020"/>
                </a:lnTo>
                <a:lnTo>
                  <a:pt x="39497" y="39496"/>
                </a:lnTo>
                <a:lnTo>
                  <a:pt x="39959" y="39496"/>
                </a:lnTo>
                <a:lnTo>
                  <a:pt x="47244" y="33527"/>
                </a:lnTo>
                <a:close/>
              </a:path>
              <a:path w="989329" h="638810">
                <a:moveTo>
                  <a:pt x="948436" y="598158"/>
                </a:moveTo>
                <a:lnTo>
                  <a:pt x="940308" y="605027"/>
                </a:lnTo>
                <a:lnTo>
                  <a:pt x="943229" y="603504"/>
                </a:lnTo>
                <a:lnTo>
                  <a:pt x="977519" y="603504"/>
                </a:lnTo>
                <a:lnTo>
                  <a:pt x="979804" y="598932"/>
                </a:lnTo>
                <a:lnTo>
                  <a:pt x="947801" y="598932"/>
                </a:lnTo>
                <a:lnTo>
                  <a:pt x="948436" y="598158"/>
                </a:lnTo>
                <a:close/>
              </a:path>
              <a:path w="989329" h="638810">
                <a:moveTo>
                  <a:pt x="38100" y="597407"/>
                </a:moveTo>
                <a:lnTo>
                  <a:pt x="39497" y="598932"/>
                </a:lnTo>
                <a:lnTo>
                  <a:pt x="38606" y="597829"/>
                </a:lnTo>
                <a:lnTo>
                  <a:pt x="38100" y="597407"/>
                </a:lnTo>
                <a:close/>
              </a:path>
              <a:path w="989329" h="638810">
                <a:moveTo>
                  <a:pt x="38606" y="597829"/>
                </a:moveTo>
                <a:lnTo>
                  <a:pt x="39497" y="598932"/>
                </a:lnTo>
                <a:lnTo>
                  <a:pt x="39928" y="598932"/>
                </a:lnTo>
                <a:lnTo>
                  <a:pt x="38606" y="597829"/>
                </a:lnTo>
                <a:close/>
              </a:path>
              <a:path w="989329" h="638810">
                <a:moveTo>
                  <a:pt x="949325" y="597407"/>
                </a:moveTo>
                <a:lnTo>
                  <a:pt x="948436" y="598158"/>
                </a:lnTo>
                <a:lnTo>
                  <a:pt x="947801" y="598932"/>
                </a:lnTo>
                <a:lnTo>
                  <a:pt x="949325" y="597407"/>
                </a:lnTo>
                <a:close/>
              </a:path>
              <a:path w="989329" h="638810">
                <a:moveTo>
                  <a:pt x="980566" y="597407"/>
                </a:moveTo>
                <a:lnTo>
                  <a:pt x="949325" y="597407"/>
                </a:lnTo>
                <a:lnTo>
                  <a:pt x="947801" y="598932"/>
                </a:lnTo>
                <a:lnTo>
                  <a:pt x="979804" y="598932"/>
                </a:lnTo>
                <a:lnTo>
                  <a:pt x="980566" y="597407"/>
                </a:lnTo>
                <a:close/>
              </a:path>
              <a:path w="989329" h="638810">
                <a:moveTo>
                  <a:pt x="955421" y="589660"/>
                </a:moveTo>
                <a:lnTo>
                  <a:pt x="948436" y="598158"/>
                </a:lnTo>
                <a:lnTo>
                  <a:pt x="949325" y="597407"/>
                </a:lnTo>
                <a:lnTo>
                  <a:pt x="980566" y="597407"/>
                </a:lnTo>
                <a:lnTo>
                  <a:pt x="982853" y="592835"/>
                </a:lnTo>
                <a:lnTo>
                  <a:pt x="953897" y="592835"/>
                </a:lnTo>
                <a:lnTo>
                  <a:pt x="955421" y="589660"/>
                </a:lnTo>
                <a:close/>
              </a:path>
              <a:path w="989329" h="638810">
                <a:moveTo>
                  <a:pt x="38265" y="597407"/>
                </a:moveTo>
                <a:lnTo>
                  <a:pt x="38100" y="597407"/>
                </a:lnTo>
                <a:lnTo>
                  <a:pt x="38606" y="597829"/>
                </a:lnTo>
                <a:lnTo>
                  <a:pt x="38265" y="597407"/>
                </a:lnTo>
                <a:close/>
              </a:path>
              <a:path w="989329" h="638810">
                <a:moveTo>
                  <a:pt x="32004" y="589660"/>
                </a:moveTo>
                <a:lnTo>
                  <a:pt x="33401" y="592835"/>
                </a:lnTo>
                <a:lnTo>
                  <a:pt x="34570" y="592835"/>
                </a:lnTo>
                <a:lnTo>
                  <a:pt x="32004" y="589660"/>
                </a:lnTo>
                <a:close/>
              </a:path>
              <a:path w="989329" h="638810">
                <a:moveTo>
                  <a:pt x="981920" y="45592"/>
                </a:moveTo>
                <a:lnTo>
                  <a:pt x="953897" y="45592"/>
                </a:lnTo>
                <a:lnTo>
                  <a:pt x="959993" y="56260"/>
                </a:lnTo>
                <a:lnTo>
                  <a:pt x="961644" y="60832"/>
                </a:lnTo>
                <a:lnTo>
                  <a:pt x="961644" y="65531"/>
                </a:lnTo>
                <a:lnTo>
                  <a:pt x="963168" y="70103"/>
                </a:lnTo>
                <a:lnTo>
                  <a:pt x="963168" y="569976"/>
                </a:lnTo>
                <a:lnTo>
                  <a:pt x="961644" y="574421"/>
                </a:lnTo>
                <a:lnTo>
                  <a:pt x="959993" y="578993"/>
                </a:lnTo>
                <a:lnTo>
                  <a:pt x="958596" y="583565"/>
                </a:lnTo>
                <a:lnTo>
                  <a:pt x="953897" y="592835"/>
                </a:lnTo>
                <a:lnTo>
                  <a:pt x="982853" y="592835"/>
                </a:lnTo>
                <a:lnTo>
                  <a:pt x="984504" y="585088"/>
                </a:lnTo>
                <a:lnTo>
                  <a:pt x="987425" y="578993"/>
                </a:lnTo>
                <a:lnTo>
                  <a:pt x="987425" y="571499"/>
                </a:lnTo>
                <a:lnTo>
                  <a:pt x="989076" y="563752"/>
                </a:lnTo>
                <a:lnTo>
                  <a:pt x="989076" y="74675"/>
                </a:lnTo>
                <a:lnTo>
                  <a:pt x="987425" y="65531"/>
                </a:lnTo>
                <a:lnTo>
                  <a:pt x="985901" y="59435"/>
                </a:lnTo>
                <a:lnTo>
                  <a:pt x="984504" y="51688"/>
                </a:lnTo>
                <a:lnTo>
                  <a:pt x="981920" y="45592"/>
                </a:lnTo>
                <a:close/>
              </a:path>
              <a:path w="989329" h="638810">
                <a:moveTo>
                  <a:pt x="34570" y="45592"/>
                </a:moveTo>
                <a:lnTo>
                  <a:pt x="33401" y="45592"/>
                </a:lnTo>
                <a:lnTo>
                  <a:pt x="32004" y="48767"/>
                </a:lnTo>
                <a:lnTo>
                  <a:pt x="34570" y="45592"/>
                </a:lnTo>
                <a:close/>
              </a:path>
              <a:path w="989329" h="638810">
                <a:moveTo>
                  <a:pt x="948468" y="40309"/>
                </a:moveTo>
                <a:lnTo>
                  <a:pt x="955421" y="48767"/>
                </a:lnTo>
                <a:lnTo>
                  <a:pt x="953897" y="45592"/>
                </a:lnTo>
                <a:lnTo>
                  <a:pt x="981920" y="45592"/>
                </a:lnTo>
                <a:lnTo>
                  <a:pt x="979968" y="41020"/>
                </a:lnTo>
                <a:lnTo>
                  <a:pt x="949325" y="41020"/>
                </a:lnTo>
                <a:lnTo>
                  <a:pt x="948468" y="40309"/>
                </a:lnTo>
                <a:close/>
              </a:path>
              <a:path w="989329" h="638810">
                <a:moveTo>
                  <a:pt x="39497" y="39496"/>
                </a:moveTo>
                <a:lnTo>
                  <a:pt x="38100" y="41020"/>
                </a:lnTo>
                <a:lnTo>
                  <a:pt x="38589" y="40619"/>
                </a:lnTo>
                <a:lnTo>
                  <a:pt x="39497" y="39496"/>
                </a:lnTo>
                <a:close/>
              </a:path>
              <a:path w="989329" h="638810">
                <a:moveTo>
                  <a:pt x="38589" y="40619"/>
                </a:moveTo>
                <a:lnTo>
                  <a:pt x="38100" y="41020"/>
                </a:lnTo>
                <a:lnTo>
                  <a:pt x="38265" y="41020"/>
                </a:lnTo>
                <a:lnTo>
                  <a:pt x="38589" y="40619"/>
                </a:lnTo>
                <a:close/>
              </a:path>
              <a:path w="989329" h="638810">
                <a:moveTo>
                  <a:pt x="947801" y="39496"/>
                </a:moveTo>
                <a:lnTo>
                  <a:pt x="948468" y="40309"/>
                </a:lnTo>
                <a:lnTo>
                  <a:pt x="949325" y="41020"/>
                </a:lnTo>
                <a:lnTo>
                  <a:pt x="947801" y="39496"/>
                </a:lnTo>
                <a:close/>
              </a:path>
              <a:path w="989329" h="638810">
                <a:moveTo>
                  <a:pt x="979315" y="39496"/>
                </a:moveTo>
                <a:lnTo>
                  <a:pt x="947801" y="39496"/>
                </a:lnTo>
                <a:lnTo>
                  <a:pt x="949325" y="41020"/>
                </a:lnTo>
                <a:lnTo>
                  <a:pt x="979968" y="41020"/>
                </a:lnTo>
                <a:lnTo>
                  <a:pt x="979315" y="39496"/>
                </a:lnTo>
                <a:close/>
              </a:path>
              <a:path w="989329" h="638810">
                <a:moveTo>
                  <a:pt x="39959" y="39496"/>
                </a:moveTo>
                <a:lnTo>
                  <a:pt x="39497" y="39496"/>
                </a:lnTo>
                <a:lnTo>
                  <a:pt x="38589" y="40619"/>
                </a:lnTo>
                <a:lnTo>
                  <a:pt x="39959" y="39496"/>
                </a:lnTo>
                <a:close/>
              </a:path>
              <a:path w="989329" h="638810">
                <a:moveTo>
                  <a:pt x="940308" y="33527"/>
                </a:moveTo>
                <a:lnTo>
                  <a:pt x="948468" y="40309"/>
                </a:lnTo>
                <a:lnTo>
                  <a:pt x="947801" y="39496"/>
                </a:lnTo>
                <a:lnTo>
                  <a:pt x="979315" y="39496"/>
                </a:lnTo>
                <a:lnTo>
                  <a:pt x="977355" y="34924"/>
                </a:lnTo>
                <a:lnTo>
                  <a:pt x="943229" y="34924"/>
                </a:lnTo>
                <a:lnTo>
                  <a:pt x="940308" y="33527"/>
                </a:lnTo>
                <a:close/>
              </a:path>
              <a:path w="989329" h="638810">
                <a:moveTo>
                  <a:pt x="957072" y="13588"/>
                </a:moveTo>
                <a:lnTo>
                  <a:pt x="30353" y="13588"/>
                </a:lnTo>
                <a:lnTo>
                  <a:pt x="21336" y="21335"/>
                </a:lnTo>
                <a:lnTo>
                  <a:pt x="19812" y="22732"/>
                </a:lnTo>
                <a:lnTo>
                  <a:pt x="12065" y="32003"/>
                </a:lnTo>
                <a:lnTo>
                  <a:pt x="12065" y="33527"/>
                </a:lnTo>
                <a:lnTo>
                  <a:pt x="47244" y="33527"/>
                </a:lnTo>
                <a:lnTo>
                  <a:pt x="45593" y="34924"/>
                </a:lnTo>
                <a:lnTo>
                  <a:pt x="54864" y="28828"/>
                </a:lnTo>
                <a:lnTo>
                  <a:pt x="59436" y="27431"/>
                </a:lnTo>
                <a:lnTo>
                  <a:pt x="64008" y="27431"/>
                </a:lnTo>
                <a:lnTo>
                  <a:pt x="68453" y="25907"/>
                </a:lnTo>
                <a:lnTo>
                  <a:pt x="970306" y="25907"/>
                </a:lnTo>
                <a:lnTo>
                  <a:pt x="967740" y="22732"/>
                </a:lnTo>
                <a:lnTo>
                  <a:pt x="966088" y="21335"/>
                </a:lnTo>
                <a:lnTo>
                  <a:pt x="957072" y="13588"/>
                </a:lnTo>
                <a:close/>
              </a:path>
              <a:path w="989329" h="638810">
                <a:moveTo>
                  <a:pt x="970306" y="25907"/>
                </a:moveTo>
                <a:lnTo>
                  <a:pt x="920496" y="25907"/>
                </a:lnTo>
                <a:lnTo>
                  <a:pt x="925068" y="27431"/>
                </a:lnTo>
                <a:lnTo>
                  <a:pt x="929640" y="28828"/>
                </a:lnTo>
                <a:lnTo>
                  <a:pt x="934212" y="30352"/>
                </a:lnTo>
                <a:lnTo>
                  <a:pt x="943229" y="34924"/>
                </a:lnTo>
                <a:lnTo>
                  <a:pt x="977355" y="34924"/>
                </a:lnTo>
                <a:lnTo>
                  <a:pt x="976757" y="33527"/>
                </a:lnTo>
                <a:lnTo>
                  <a:pt x="975233" y="33527"/>
                </a:lnTo>
                <a:lnTo>
                  <a:pt x="975233" y="32003"/>
                </a:lnTo>
                <a:lnTo>
                  <a:pt x="970306" y="25907"/>
                </a:lnTo>
                <a:close/>
              </a:path>
              <a:path w="989329" h="638810">
                <a:moveTo>
                  <a:pt x="927988" y="1396"/>
                </a:moveTo>
                <a:lnTo>
                  <a:pt x="57912" y="1396"/>
                </a:lnTo>
                <a:lnTo>
                  <a:pt x="50165" y="4571"/>
                </a:lnTo>
                <a:lnTo>
                  <a:pt x="42672" y="7492"/>
                </a:lnTo>
                <a:lnTo>
                  <a:pt x="33401" y="12064"/>
                </a:lnTo>
                <a:lnTo>
                  <a:pt x="32004" y="13588"/>
                </a:lnTo>
                <a:lnTo>
                  <a:pt x="955421" y="13588"/>
                </a:lnTo>
                <a:lnTo>
                  <a:pt x="953897" y="12064"/>
                </a:lnTo>
                <a:lnTo>
                  <a:pt x="943229" y="6095"/>
                </a:lnTo>
                <a:lnTo>
                  <a:pt x="935736" y="2920"/>
                </a:lnTo>
                <a:lnTo>
                  <a:pt x="927988" y="1396"/>
                </a:lnTo>
                <a:close/>
              </a:path>
              <a:path w="989329" h="638810">
                <a:moveTo>
                  <a:pt x="914400" y="0"/>
                </a:moveTo>
                <a:lnTo>
                  <a:pt x="73025" y="0"/>
                </a:lnTo>
                <a:lnTo>
                  <a:pt x="65532" y="1396"/>
                </a:lnTo>
                <a:lnTo>
                  <a:pt x="921893" y="1396"/>
                </a:lnTo>
                <a:lnTo>
                  <a:pt x="9144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5" name="object 89"/>
          <p:cNvSpPr/>
          <p:nvPr/>
        </p:nvSpPr>
        <p:spPr>
          <a:xfrm>
            <a:off x="7673040" y="1560240"/>
            <a:ext cx="858960" cy="54684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6" name="object 90"/>
          <p:cNvSpPr/>
          <p:nvPr/>
        </p:nvSpPr>
        <p:spPr>
          <a:xfrm>
            <a:off x="7669080" y="155340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547" y="624713"/>
                </a:moveTo>
                <a:lnTo>
                  <a:pt x="33655" y="624713"/>
                </a:lnTo>
                <a:lnTo>
                  <a:pt x="45847" y="632460"/>
                </a:lnTo>
                <a:lnTo>
                  <a:pt x="51943" y="633857"/>
                </a:lnTo>
                <a:lnTo>
                  <a:pt x="67183" y="637032"/>
                </a:lnTo>
                <a:lnTo>
                  <a:pt x="923544" y="637032"/>
                </a:lnTo>
                <a:lnTo>
                  <a:pt x="931291" y="635381"/>
                </a:lnTo>
                <a:lnTo>
                  <a:pt x="937387" y="633857"/>
                </a:lnTo>
                <a:lnTo>
                  <a:pt x="944880" y="630809"/>
                </a:lnTo>
                <a:lnTo>
                  <a:pt x="955547" y="624713"/>
                </a:lnTo>
                <a:close/>
              </a:path>
              <a:path w="989329" h="637539">
                <a:moveTo>
                  <a:pt x="966343" y="615696"/>
                </a:moveTo>
                <a:lnTo>
                  <a:pt x="21336" y="615696"/>
                </a:lnTo>
                <a:lnTo>
                  <a:pt x="22987" y="617220"/>
                </a:lnTo>
                <a:lnTo>
                  <a:pt x="32004" y="624713"/>
                </a:lnTo>
                <a:lnTo>
                  <a:pt x="957072" y="624713"/>
                </a:lnTo>
                <a:lnTo>
                  <a:pt x="966343" y="617220"/>
                </a:lnTo>
                <a:lnTo>
                  <a:pt x="966343" y="615696"/>
                </a:lnTo>
                <a:close/>
              </a:path>
              <a:path w="989329" h="637539">
                <a:moveTo>
                  <a:pt x="922147" y="0"/>
                </a:moveTo>
                <a:lnTo>
                  <a:pt x="65659" y="0"/>
                </a:lnTo>
                <a:lnTo>
                  <a:pt x="57912" y="1524"/>
                </a:lnTo>
                <a:lnTo>
                  <a:pt x="50419" y="2921"/>
                </a:lnTo>
                <a:lnTo>
                  <a:pt x="44323" y="6096"/>
                </a:lnTo>
                <a:lnTo>
                  <a:pt x="33655" y="12192"/>
                </a:lnTo>
                <a:lnTo>
                  <a:pt x="32004" y="12192"/>
                </a:lnTo>
                <a:lnTo>
                  <a:pt x="32004" y="13589"/>
                </a:lnTo>
                <a:lnTo>
                  <a:pt x="22987" y="21209"/>
                </a:lnTo>
                <a:lnTo>
                  <a:pt x="21336" y="21209"/>
                </a:lnTo>
                <a:lnTo>
                  <a:pt x="21336" y="22860"/>
                </a:lnTo>
                <a:lnTo>
                  <a:pt x="19812" y="22860"/>
                </a:lnTo>
                <a:lnTo>
                  <a:pt x="13843" y="31877"/>
                </a:lnTo>
                <a:lnTo>
                  <a:pt x="12319" y="31877"/>
                </a:lnTo>
                <a:lnTo>
                  <a:pt x="12319" y="33528"/>
                </a:lnTo>
                <a:lnTo>
                  <a:pt x="4572" y="45720"/>
                </a:lnTo>
                <a:lnTo>
                  <a:pt x="3048" y="53213"/>
                </a:lnTo>
                <a:lnTo>
                  <a:pt x="1651" y="59309"/>
                </a:lnTo>
                <a:lnTo>
                  <a:pt x="0" y="67056"/>
                </a:lnTo>
                <a:lnTo>
                  <a:pt x="0" y="571500"/>
                </a:lnTo>
                <a:lnTo>
                  <a:pt x="1651" y="579120"/>
                </a:lnTo>
                <a:lnTo>
                  <a:pt x="3048" y="586613"/>
                </a:lnTo>
                <a:lnTo>
                  <a:pt x="6223" y="592709"/>
                </a:lnTo>
                <a:lnTo>
                  <a:pt x="12319" y="603377"/>
                </a:lnTo>
                <a:lnTo>
                  <a:pt x="12319" y="605028"/>
                </a:lnTo>
                <a:lnTo>
                  <a:pt x="13843" y="606425"/>
                </a:lnTo>
                <a:lnTo>
                  <a:pt x="19812" y="615696"/>
                </a:lnTo>
                <a:lnTo>
                  <a:pt x="967740" y="615696"/>
                </a:lnTo>
                <a:lnTo>
                  <a:pt x="970393" y="612521"/>
                </a:lnTo>
                <a:lnTo>
                  <a:pt x="68580" y="612521"/>
                </a:lnTo>
                <a:lnTo>
                  <a:pt x="62611" y="611124"/>
                </a:lnTo>
                <a:lnTo>
                  <a:pt x="57912" y="609600"/>
                </a:lnTo>
                <a:lnTo>
                  <a:pt x="54991" y="607949"/>
                </a:lnTo>
                <a:lnTo>
                  <a:pt x="49149" y="605028"/>
                </a:lnTo>
                <a:lnTo>
                  <a:pt x="47244" y="605028"/>
                </a:lnTo>
                <a:lnTo>
                  <a:pt x="40048" y="598932"/>
                </a:lnTo>
                <a:lnTo>
                  <a:pt x="39751" y="598932"/>
                </a:lnTo>
                <a:lnTo>
                  <a:pt x="38100" y="597281"/>
                </a:lnTo>
                <a:lnTo>
                  <a:pt x="38352" y="597281"/>
                </a:lnTo>
                <a:lnTo>
                  <a:pt x="32004" y="589788"/>
                </a:lnTo>
                <a:lnTo>
                  <a:pt x="32946" y="589788"/>
                </a:lnTo>
                <a:lnTo>
                  <a:pt x="29083" y="582168"/>
                </a:lnTo>
                <a:lnTo>
                  <a:pt x="27559" y="577596"/>
                </a:lnTo>
                <a:lnTo>
                  <a:pt x="25908" y="573024"/>
                </a:lnTo>
                <a:lnTo>
                  <a:pt x="25908" y="568325"/>
                </a:lnTo>
                <a:lnTo>
                  <a:pt x="24511" y="563753"/>
                </a:lnTo>
                <a:lnTo>
                  <a:pt x="24511" y="74549"/>
                </a:lnTo>
                <a:lnTo>
                  <a:pt x="25908" y="68453"/>
                </a:lnTo>
                <a:lnTo>
                  <a:pt x="25908" y="63881"/>
                </a:lnTo>
                <a:lnTo>
                  <a:pt x="27559" y="59309"/>
                </a:lnTo>
                <a:lnTo>
                  <a:pt x="29083" y="54864"/>
                </a:lnTo>
                <a:lnTo>
                  <a:pt x="32956" y="47117"/>
                </a:lnTo>
                <a:lnTo>
                  <a:pt x="32004" y="47117"/>
                </a:lnTo>
                <a:lnTo>
                  <a:pt x="39751" y="38100"/>
                </a:lnTo>
                <a:lnTo>
                  <a:pt x="41664" y="38100"/>
                </a:lnTo>
                <a:lnTo>
                  <a:pt x="47244" y="33528"/>
                </a:lnTo>
                <a:lnTo>
                  <a:pt x="48343" y="33528"/>
                </a:lnTo>
                <a:lnTo>
                  <a:pt x="56515" y="28956"/>
                </a:lnTo>
                <a:lnTo>
                  <a:pt x="59436" y="27432"/>
                </a:lnTo>
                <a:lnTo>
                  <a:pt x="64008" y="25781"/>
                </a:lnTo>
                <a:lnTo>
                  <a:pt x="970249" y="25781"/>
                </a:lnTo>
                <a:lnTo>
                  <a:pt x="966343" y="21209"/>
                </a:lnTo>
                <a:lnTo>
                  <a:pt x="957072" y="13589"/>
                </a:lnTo>
                <a:lnTo>
                  <a:pt x="955547" y="12192"/>
                </a:lnTo>
                <a:lnTo>
                  <a:pt x="943483" y="6096"/>
                </a:lnTo>
                <a:lnTo>
                  <a:pt x="935736" y="2921"/>
                </a:lnTo>
                <a:lnTo>
                  <a:pt x="929640" y="1524"/>
                </a:lnTo>
                <a:lnTo>
                  <a:pt x="922147" y="0"/>
                </a:lnTo>
                <a:close/>
              </a:path>
              <a:path w="989329" h="637539">
                <a:moveTo>
                  <a:pt x="943483" y="603377"/>
                </a:moveTo>
                <a:lnTo>
                  <a:pt x="932815" y="609600"/>
                </a:lnTo>
                <a:lnTo>
                  <a:pt x="928243" y="609600"/>
                </a:lnTo>
                <a:lnTo>
                  <a:pt x="923544" y="611124"/>
                </a:lnTo>
                <a:lnTo>
                  <a:pt x="918972" y="612521"/>
                </a:lnTo>
                <a:lnTo>
                  <a:pt x="970393" y="612521"/>
                </a:lnTo>
                <a:lnTo>
                  <a:pt x="975487" y="606425"/>
                </a:lnTo>
                <a:lnTo>
                  <a:pt x="975487" y="605028"/>
                </a:lnTo>
                <a:lnTo>
                  <a:pt x="941959" y="605028"/>
                </a:lnTo>
                <a:lnTo>
                  <a:pt x="943483" y="603377"/>
                </a:lnTo>
                <a:close/>
              </a:path>
              <a:path w="989329" h="637539">
                <a:moveTo>
                  <a:pt x="45847" y="603377"/>
                </a:moveTo>
                <a:lnTo>
                  <a:pt x="47244" y="605028"/>
                </a:lnTo>
                <a:lnTo>
                  <a:pt x="49149" y="605028"/>
                </a:lnTo>
                <a:lnTo>
                  <a:pt x="45847" y="603377"/>
                </a:lnTo>
                <a:close/>
              </a:path>
              <a:path w="989329" h="637539">
                <a:moveTo>
                  <a:pt x="979995" y="597281"/>
                </a:moveTo>
                <a:lnTo>
                  <a:pt x="949579" y="597281"/>
                </a:lnTo>
                <a:lnTo>
                  <a:pt x="948055" y="598932"/>
                </a:lnTo>
                <a:lnTo>
                  <a:pt x="941959" y="605028"/>
                </a:lnTo>
                <a:lnTo>
                  <a:pt x="977011" y="605028"/>
                </a:lnTo>
                <a:lnTo>
                  <a:pt x="977011" y="603377"/>
                </a:lnTo>
                <a:lnTo>
                  <a:pt x="979995" y="597281"/>
                </a:lnTo>
                <a:close/>
              </a:path>
              <a:path w="989329" h="637539">
                <a:moveTo>
                  <a:pt x="38100" y="597281"/>
                </a:moveTo>
                <a:lnTo>
                  <a:pt x="39751" y="598932"/>
                </a:lnTo>
                <a:lnTo>
                  <a:pt x="38993" y="598038"/>
                </a:lnTo>
                <a:lnTo>
                  <a:pt x="38100" y="597281"/>
                </a:lnTo>
                <a:close/>
              </a:path>
              <a:path w="989329" h="637539">
                <a:moveTo>
                  <a:pt x="38993" y="598038"/>
                </a:moveTo>
                <a:lnTo>
                  <a:pt x="39751" y="598932"/>
                </a:lnTo>
                <a:lnTo>
                  <a:pt x="40048" y="598932"/>
                </a:lnTo>
                <a:lnTo>
                  <a:pt x="38993" y="598038"/>
                </a:lnTo>
                <a:close/>
              </a:path>
              <a:path w="989329" h="637539">
                <a:moveTo>
                  <a:pt x="948553" y="598323"/>
                </a:moveTo>
                <a:lnTo>
                  <a:pt x="947955" y="598932"/>
                </a:lnTo>
                <a:lnTo>
                  <a:pt x="948553" y="598323"/>
                </a:lnTo>
                <a:close/>
              </a:path>
              <a:path w="989329" h="637539">
                <a:moveTo>
                  <a:pt x="949579" y="597281"/>
                </a:moveTo>
                <a:lnTo>
                  <a:pt x="948553" y="598323"/>
                </a:lnTo>
                <a:lnTo>
                  <a:pt x="948055" y="598932"/>
                </a:lnTo>
                <a:lnTo>
                  <a:pt x="949579" y="597281"/>
                </a:lnTo>
                <a:close/>
              </a:path>
              <a:path w="989329" h="637539">
                <a:moveTo>
                  <a:pt x="983707" y="589788"/>
                </a:moveTo>
                <a:lnTo>
                  <a:pt x="955547" y="589788"/>
                </a:lnTo>
                <a:lnTo>
                  <a:pt x="948553" y="598323"/>
                </a:lnTo>
                <a:lnTo>
                  <a:pt x="949579" y="597281"/>
                </a:lnTo>
                <a:lnTo>
                  <a:pt x="979995" y="597281"/>
                </a:lnTo>
                <a:lnTo>
                  <a:pt x="982980" y="591185"/>
                </a:lnTo>
                <a:lnTo>
                  <a:pt x="983707" y="589788"/>
                </a:lnTo>
                <a:close/>
              </a:path>
              <a:path w="989329" h="637539">
                <a:moveTo>
                  <a:pt x="38352" y="597281"/>
                </a:moveTo>
                <a:lnTo>
                  <a:pt x="38100" y="597281"/>
                </a:lnTo>
                <a:lnTo>
                  <a:pt x="38993" y="598038"/>
                </a:lnTo>
                <a:lnTo>
                  <a:pt x="38352" y="597281"/>
                </a:lnTo>
                <a:close/>
              </a:path>
              <a:path w="989329" h="637539">
                <a:moveTo>
                  <a:pt x="32946" y="589788"/>
                </a:moveTo>
                <a:lnTo>
                  <a:pt x="32004" y="589788"/>
                </a:lnTo>
                <a:lnTo>
                  <a:pt x="33655" y="591185"/>
                </a:lnTo>
                <a:lnTo>
                  <a:pt x="32946" y="589788"/>
                </a:lnTo>
                <a:close/>
              </a:path>
              <a:path w="989329" h="637539">
                <a:moveTo>
                  <a:pt x="954151" y="45720"/>
                </a:moveTo>
                <a:lnTo>
                  <a:pt x="960247" y="56388"/>
                </a:lnTo>
                <a:lnTo>
                  <a:pt x="961644" y="60960"/>
                </a:lnTo>
                <a:lnTo>
                  <a:pt x="963168" y="65532"/>
                </a:lnTo>
                <a:lnTo>
                  <a:pt x="963168" y="569849"/>
                </a:lnTo>
                <a:lnTo>
                  <a:pt x="961644" y="574421"/>
                </a:lnTo>
                <a:lnTo>
                  <a:pt x="961644" y="579120"/>
                </a:lnTo>
                <a:lnTo>
                  <a:pt x="958722" y="583692"/>
                </a:lnTo>
                <a:lnTo>
                  <a:pt x="954151" y="591185"/>
                </a:lnTo>
                <a:lnTo>
                  <a:pt x="955547" y="589788"/>
                </a:lnTo>
                <a:lnTo>
                  <a:pt x="983707" y="589788"/>
                </a:lnTo>
                <a:lnTo>
                  <a:pt x="986155" y="585089"/>
                </a:lnTo>
                <a:lnTo>
                  <a:pt x="987679" y="577596"/>
                </a:lnTo>
                <a:lnTo>
                  <a:pt x="989076" y="569849"/>
                </a:lnTo>
                <a:lnTo>
                  <a:pt x="989076" y="65532"/>
                </a:lnTo>
                <a:lnTo>
                  <a:pt x="987679" y="57785"/>
                </a:lnTo>
                <a:lnTo>
                  <a:pt x="984504" y="51689"/>
                </a:lnTo>
                <a:lnTo>
                  <a:pt x="983574" y="47117"/>
                </a:lnTo>
                <a:lnTo>
                  <a:pt x="955547" y="47117"/>
                </a:lnTo>
                <a:lnTo>
                  <a:pt x="954151" y="45720"/>
                </a:lnTo>
                <a:close/>
              </a:path>
              <a:path w="989329" h="637539">
                <a:moveTo>
                  <a:pt x="33655" y="45720"/>
                </a:moveTo>
                <a:lnTo>
                  <a:pt x="32004" y="47117"/>
                </a:lnTo>
                <a:lnTo>
                  <a:pt x="32956" y="47117"/>
                </a:lnTo>
                <a:lnTo>
                  <a:pt x="33655" y="45720"/>
                </a:lnTo>
                <a:close/>
              </a:path>
              <a:path w="989329" h="637539">
                <a:moveTo>
                  <a:pt x="979569" y="38100"/>
                </a:moveTo>
                <a:lnTo>
                  <a:pt x="948055" y="38100"/>
                </a:lnTo>
                <a:lnTo>
                  <a:pt x="955547" y="47117"/>
                </a:lnTo>
                <a:lnTo>
                  <a:pt x="983574" y="47117"/>
                </a:lnTo>
                <a:lnTo>
                  <a:pt x="982980" y="44196"/>
                </a:lnTo>
                <a:lnTo>
                  <a:pt x="979569" y="38100"/>
                </a:lnTo>
                <a:close/>
              </a:path>
              <a:path w="989329" h="637539">
                <a:moveTo>
                  <a:pt x="41664" y="38100"/>
                </a:moveTo>
                <a:lnTo>
                  <a:pt x="39751" y="38100"/>
                </a:lnTo>
                <a:lnTo>
                  <a:pt x="38100" y="41021"/>
                </a:lnTo>
                <a:lnTo>
                  <a:pt x="41664" y="38100"/>
                </a:lnTo>
                <a:close/>
              </a:path>
              <a:path w="989329" h="637539">
                <a:moveTo>
                  <a:pt x="977011" y="33528"/>
                </a:moveTo>
                <a:lnTo>
                  <a:pt x="941959" y="33528"/>
                </a:lnTo>
                <a:lnTo>
                  <a:pt x="943483" y="34925"/>
                </a:lnTo>
                <a:lnTo>
                  <a:pt x="949579" y="41021"/>
                </a:lnTo>
                <a:lnTo>
                  <a:pt x="948055" y="38100"/>
                </a:lnTo>
                <a:lnTo>
                  <a:pt x="979569" y="38100"/>
                </a:lnTo>
                <a:lnTo>
                  <a:pt x="977011" y="33528"/>
                </a:lnTo>
                <a:close/>
              </a:path>
              <a:path w="989329" h="637539">
                <a:moveTo>
                  <a:pt x="48343" y="33528"/>
                </a:moveTo>
                <a:lnTo>
                  <a:pt x="47244" y="33528"/>
                </a:lnTo>
                <a:lnTo>
                  <a:pt x="45847" y="34925"/>
                </a:lnTo>
                <a:lnTo>
                  <a:pt x="48343" y="33528"/>
                </a:lnTo>
                <a:close/>
              </a:path>
              <a:path w="989329" h="637539">
                <a:moveTo>
                  <a:pt x="943183" y="34732"/>
                </a:moveTo>
                <a:lnTo>
                  <a:pt x="943379" y="34925"/>
                </a:lnTo>
                <a:lnTo>
                  <a:pt x="943183" y="34732"/>
                </a:lnTo>
                <a:close/>
              </a:path>
              <a:path w="989329" h="637539">
                <a:moveTo>
                  <a:pt x="941959" y="33528"/>
                </a:moveTo>
                <a:lnTo>
                  <a:pt x="943183" y="34732"/>
                </a:lnTo>
                <a:lnTo>
                  <a:pt x="943483" y="34925"/>
                </a:lnTo>
                <a:lnTo>
                  <a:pt x="941959" y="33528"/>
                </a:lnTo>
                <a:close/>
              </a:path>
              <a:path w="989329" h="637539">
                <a:moveTo>
                  <a:pt x="970249" y="25781"/>
                </a:moveTo>
                <a:lnTo>
                  <a:pt x="925068" y="25781"/>
                </a:lnTo>
                <a:lnTo>
                  <a:pt x="929640" y="27432"/>
                </a:lnTo>
                <a:lnTo>
                  <a:pt x="934212" y="28956"/>
                </a:lnTo>
                <a:lnTo>
                  <a:pt x="943183" y="34732"/>
                </a:lnTo>
                <a:lnTo>
                  <a:pt x="941959" y="33528"/>
                </a:lnTo>
                <a:lnTo>
                  <a:pt x="977011" y="33528"/>
                </a:lnTo>
                <a:lnTo>
                  <a:pt x="975487" y="31877"/>
                </a:lnTo>
                <a:lnTo>
                  <a:pt x="970249" y="25781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7" name="object 91"/>
          <p:cNvSpPr/>
          <p:nvPr/>
        </p:nvSpPr>
        <p:spPr>
          <a:xfrm>
            <a:off x="8020800" y="1733040"/>
            <a:ext cx="17064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92"/>
          <p:cNvSpPr/>
          <p:nvPr/>
        </p:nvSpPr>
        <p:spPr>
          <a:xfrm>
            <a:off x="7585560" y="2263320"/>
            <a:ext cx="849600" cy="550800"/>
          </a:xfrm>
          <a:custGeom>
            <a:avLst/>
            <a:gdLst>
              <a:gd name="textAreaLeft" fmla="*/ 0 w 849600"/>
              <a:gd name="textAreaRight" fmla="*/ 849960 w 8496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963295" h="624839">
                <a:moveTo>
                  <a:pt x="900811" y="0"/>
                </a:moveTo>
                <a:lnTo>
                  <a:pt x="62611" y="0"/>
                </a:lnTo>
                <a:lnTo>
                  <a:pt x="37986" y="4835"/>
                </a:lnTo>
                <a:lnTo>
                  <a:pt x="18113" y="18113"/>
                </a:lnTo>
                <a:lnTo>
                  <a:pt x="4835" y="37986"/>
                </a:lnTo>
                <a:lnTo>
                  <a:pt x="0" y="62611"/>
                </a:lnTo>
                <a:lnTo>
                  <a:pt x="0" y="562483"/>
                </a:lnTo>
                <a:lnTo>
                  <a:pt x="4835" y="586960"/>
                </a:lnTo>
                <a:lnTo>
                  <a:pt x="18113" y="606758"/>
                </a:lnTo>
                <a:lnTo>
                  <a:pt x="37986" y="620008"/>
                </a:lnTo>
                <a:lnTo>
                  <a:pt x="62611" y="624840"/>
                </a:lnTo>
                <a:lnTo>
                  <a:pt x="900811" y="624840"/>
                </a:lnTo>
                <a:lnTo>
                  <a:pt x="925288" y="620008"/>
                </a:lnTo>
                <a:lnTo>
                  <a:pt x="945086" y="606758"/>
                </a:lnTo>
                <a:lnTo>
                  <a:pt x="958336" y="586960"/>
                </a:lnTo>
                <a:lnTo>
                  <a:pt x="963168" y="562483"/>
                </a:lnTo>
                <a:lnTo>
                  <a:pt x="963168" y="62611"/>
                </a:lnTo>
                <a:lnTo>
                  <a:pt x="958336" y="37986"/>
                </a:lnTo>
                <a:lnTo>
                  <a:pt x="945086" y="18113"/>
                </a:lnTo>
                <a:lnTo>
                  <a:pt x="925288" y="4835"/>
                </a:lnTo>
                <a:lnTo>
                  <a:pt x="900811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9" name="object 93"/>
          <p:cNvSpPr/>
          <p:nvPr/>
        </p:nvSpPr>
        <p:spPr>
          <a:xfrm>
            <a:off x="7575120" y="2251440"/>
            <a:ext cx="872640" cy="573840"/>
          </a:xfrm>
          <a:custGeom>
            <a:avLst/>
            <a:gdLst>
              <a:gd name="textAreaLeft" fmla="*/ 0 w 872640"/>
              <a:gd name="textAreaRight" fmla="*/ 873000 w 872640"/>
              <a:gd name="textAreaTop" fmla="*/ 0 h 573840"/>
              <a:gd name="textAreaBottom" fmla="*/ 574200 h 573840"/>
            </a:gdLst>
            <a:ahLst/>
            <a:rect l="textAreaLeft" t="textAreaTop" r="textAreaRight" b="textAreaBottom"/>
            <a:pathLst>
              <a:path w="989329" h="650875">
                <a:moveTo>
                  <a:pt x="953897" y="638429"/>
                </a:moveTo>
                <a:lnTo>
                  <a:pt x="33401" y="638429"/>
                </a:lnTo>
                <a:lnTo>
                  <a:pt x="33401" y="639953"/>
                </a:lnTo>
                <a:lnTo>
                  <a:pt x="45593" y="646176"/>
                </a:lnTo>
                <a:lnTo>
                  <a:pt x="53340" y="647700"/>
                </a:lnTo>
                <a:lnTo>
                  <a:pt x="59436" y="650621"/>
                </a:lnTo>
                <a:lnTo>
                  <a:pt x="921893" y="650621"/>
                </a:lnTo>
                <a:lnTo>
                  <a:pt x="929640" y="649097"/>
                </a:lnTo>
                <a:lnTo>
                  <a:pt x="935736" y="647700"/>
                </a:lnTo>
                <a:lnTo>
                  <a:pt x="941832" y="646176"/>
                </a:lnTo>
                <a:lnTo>
                  <a:pt x="943229" y="644525"/>
                </a:lnTo>
                <a:lnTo>
                  <a:pt x="953897" y="638429"/>
                </a:lnTo>
                <a:close/>
              </a:path>
              <a:path w="989329" h="650875">
                <a:moveTo>
                  <a:pt x="927988" y="1397"/>
                </a:moveTo>
                <a:lnTo>
                  <a:pt x="57912" y="1397"/>
                </a:lnTo>
                <a:lnTo>
                  <a:pt x="51689" y="4572"/>
                </a:lnTo>
                <a:lnTo>
                  <a:pt x="44196" y="7492"/>
                </a:lnTo>
                <a:lnTo>
                  <a:pt x="33401" y="12065"/>
                </a:lnTo>
                <a:lnTo>
                  <a:pt x="33401" y="13589"/>
                </a:lnTo>
                <a:lnTo>
                  <a:pt x="32004" y="13589"/>
                </a:lnTo>
                <a:lnTo>
                  <a:pt x="22733" y="21335"/>
                </a:lnTo>
                <a:lnTo>
                  <a:pt x="12065" y="32004"/>
                </a:lnTo>
                <a:lnTo>
                  <a:pt x="12065" y="33401"/>
                </a:lnTo>
                <a:lnTo>
                  <a:pt x="10668" y="34925"/>
                </a:lnTo>
                <a:lnTo>
                  <a:pt x="4572" y="47244"/>
                </a:lnTo>
                <a:lnTo>
                  <a:pt x="2921" y="53340"/>
                </a:lnTo>
                <a:lnTo>
                  <a:pt x="0" y="60833"/>
                </a:lnTo>
                <a:lnTo>
                  <a:pt x="0" y="585089"/>
                </a:lnTo>
                <a:lnTo>
                  <a:pt x="1397" y="592836"/>
                </a:lnTo>
                <a:lnTo>
                  <a:pt x="21336" y="629412"/>
                </a:lnTo>
                <a:lnTo>
                  <a:pt x="32004" y="638429"/>
                </a:lnTo>
                <a:lnTo>
                  <a:pt x="955421" y="638429"/>
                </a:lnTo>
                <a:lnTo>
                  <a:pt x="964565" y="630936"/>
                </a:lnTo>
                <a:lnTo>
                  <a:pt x="967740" y="627761"/>
                </a:lnTo>
                <a:lnTo>
                  <a:pt x="968900" y="626364"/>
                </a:lnTo>
                <a:lnTo>
                  <a:pt x="68453" y="626364"/>
                </a:lnTo>
                <a:lnTo>
                  <a:pt x="64008" y="624840"/>
                </a:lnTo>
                <a:lnTo>
                  <a:pt x="59436" y="623189"/>
                </a:lnTo>
                <a:lnTo>
                  <a:pt x="54864" y="621665"/>
                </a:lnTo>
                <a:lnTo>
                  <a:pt x="48940" y="618744"/>
                </a:lnTo>
                <a:lnTo>
                  <a:pt x="47244" y="618744"/>
                </a:lnTo>
                <a:lnTo>
                  <a:pt x="39898" y="612521"/>
                </a:lnTo>
                <a:lnTo>
                  <a:pt x="39497" y="612521"/>
                </a:lnTo>
                <a:lnTo>
                  <a:pt x="38100" y="610997"/>
                </a:lnTo>
                <a:lnTo>
                  <a:pt x="38230" y="610997"/>
                </a:lnTo>
                <a:lnTo>
                  <a:pt x="32004" y="603504"/>
                </a:lnTo>
                <a:lnTo>
                  <a:pt x="32619" y="603504"/>
                </a:lnTo>
                <a:lnTo>
                  <a:pt x="27432" y="594233"/>
                </a:lnTo>
                <a:lnTo>
                  <a:pt x="27432" y="589661"/>
                </a:lnTo>
                <a:lnTo>
                  <a:pt x="25908" y="585089"/>
                </a:lnTo>
                <a:lnTo>
                  <a:pt x="24257" y="580644"/>
                </a:lnTo>
                <a:lnTo>
                  <a:pt x="24257" y="70104"/>
                </a:lnTo>
                <a:lnTo>
                  <a:pt x="25908" y="65532"/>
                </a:lnTo>
                <a:lnTo>
                  <a:pt x="27432" y="60833"/>
                </a:lnTo>
                <a:lnTo>
                  <a:pt x="28829" y="56261"/>
                </a:lnTo>
                <a:lnTo>
                  <a:pt x="32628" y="48768"/>
                </a:lnTo>
                <a:lnTo>
                  <a:pt x="32004" y="48768"/>
                </a:lnTo>
                <a:lnTo>
                  <a:pt x="38265" y="41021"/>
                </a:lnTo>
                <a:lnTo>
                  <a:pt x="38100" y="41021"/>
                </a:lnTo>
                <a:lnTo>
                  <a:pt x="39497" y="39497"/>
                </a:lnTo>
                <a:lnTo>
                  <a:pt x="39928" y="39497"/>
                </a:lnTo>
                <a:lnTo>
                  <a:pt x="47244" y="33401"/>
                </a:lnTo>
                <a:lnTo>
                  <a:pt x="48260" y="33401"/>
                </a:lnTo>
                <a:lnTo>
                  <a:pt x="56261" y="28829"/>
                </a:lnTo>
                <a:lnTo>
                  <a:pt x="60833" y="27432"/>
                </a:lnTo>
                <a:lnTo>
                  <a:pt x="65532" y="27432"/>
                </a:lnTo>
                <a:lnTo>
                  <a:pt x="70104" y="25908"/>
                </a:lnTo>
                <a:lnTo>
                  <a:pt x="970306" y="25908"/>
                </a:lnTo>
                <a:lnTo>
                  <a:pt x="967740" y="22733"/>
                </a:lnTo>
                <a:lnTo>
                  <a:pt x="966088" y="22733"/>
                </a:lnTo>
                <a:lnTo>
                  <a:pt x="966088" y="21335"/>
                </a:lnTo>
                <a:lnTo>
                  <a:pt x="955421" y="13589"/>
                </a:lnTo>
                <a:lnTo>
                  <a:pt x="953897" y="12065"/>
                </a:lnTo>
                <a:lnTo>
                  <a:pt x="943229" y="7492"/>
                </a:lnTo>
                <a:lnTo>
                  <a:pt x="943229" y="5968"/>
                </a:lnTo>
                <a:lnTo>
                  <a:pt x="941832" y="5968"/>
                </a:lnTo>
                <a:lnTo>
                  <a:pt x="935736" y="2921"/>
                </a:lnTo>
                <a:lnTo>
                  <a:pt x="927988" y="1397"/>
                </a:lnTo>
                <a:close/>
              </a:path>
              <a:path w="989329" h="650875">
                <a:moveTo>
                  <a:pt x="941832" y="617093"/>
                </a:moveTo>
                <a:lnTo>
                  <a:pt x="931163" y="623189"/>
                </a:lnTo>
                <a:lnTo>
                  <a:pt x="927988" y="623189"/>
                </a:lnTo>
                <a:lnTo>
                  <a:pt x="921893" y="624840"/>
                </a:lnTo>
                <a:lnTo>
                  <a:pt x="917321" y="626364"/>
                </a:lnTo>
                <a:lnTo>
                  <a:pt x="968900" y="626364"/>
                </a:lnTo>
                <a:lnTo>
                  <a:pt x="971539" y="623189"/>
                </a:lnTo>
                <a:lnTo>
                  <a:pt x="931163" y="623189"/>
                </a:lnTo>
                <a:lnTo>
                  <a:pt x="932561" y="621665"/>
                </a:lnTo>
                <a:lnTo>
                  <a:pt x="972805" y="621665"/>
                </a:lnTo>
                <a:lnTo>
                  <a:pt x="975233" y="618744"/>
                </a:lnTo>
                <a:lnTo>
                  <a:pt x="940308" y="618744"/>
                </a:lnTo>
                <a:lnTo>
                  <a:pt x="941832" y="617093"/>
                </a:lnTo>
                <a:close/>
              </a:path>
              <a:path w="989329" h="650875">
                <a:moveTo>
                  <a:pt x="45593" y="617093"/>
                </a:moveTo>
                <a:lnTo>
                  <a:pt x="47244" y="618744"/>
                </a:lnTo>
                <a:lnTo>
                  <a:pt x="48940" y="618744"/>
                </a:lnTo>
                <a:lnTo>
                  <a:pt x="45593" y="617093"/>
                </a:lnTo>
                <a:close/>
              </a:path>
              <a:path w="989329" h="650875">
                <a:moveTo>
                  <a:pt x="948463" y="611737"/>
                </a:moveTo>
                <a:lnTo>
                  <a:pt x="940308" y="618744"/>
                </a:lnTo>
                <a:lnTo>
                  <a:pt x="975233" y="618744"/>
                </a:lnTo>
                <a:lnTo>
                  <a:pt x="976757" y="617093"/>
                </a:lnTo>
                <a:lnTo>
                  <a:pt x="979043" y="612521"/>
                </a:lnTo>
                <a:lnTo>
                  <a:pt x="947801" y="612521"/>
                </a:lnTo>
                <a:lnTo>
                  <a:pt x="948463" y="611737"/>
                </a:lnTo>
                <a:close/>
              </a:path>
              <a:path w="989329" h="650875">
                <a:moveTo>
                  <a:pt x="38100" y="610997"/>
                </a:moveTo>
                <a:lnTo>
                  <a:pt x="39497" y="612521"/>
                </a:lnTo>
                <a:lnTo>
                  <a:pt x="38541" y="611370"/>
                </a:lnTo>
                <a:lnTo>
                  <a:pt x="38100" y="610997"/>
                </a:lnTo>
                <a:close/>
              </a:path>
              <a:path w="989329" h="650875">
                <a:moveTo>
                  <a:pt x="38541" y="611370"/>
                </a:moveTo>
                <a:lnTo>
                  <a:pt x="39497" y="612521"/>
                </a:lnTo>
                <a:lnTo>
                  <a:pt x="39898" y="612521"/>
                </a:lnTo>
                <a:lnTo>
                  <a:pt x="38541" y="611370"/>
                </a:lnTo>
                <a:close/>
              </a:path>
              <a:path w="989329" h="650875">
                <a:moveTo>
                  <a:pt x="949325" y="610997"/>
                </a:moveTo>
                <a:lnTo>
                  <a:pt x="948463" y="611737"/>
                </a:lnTo>
                <a:lnTo>
                  <a:pt x="947801" y="612521"/>
                </a:lnTo>
                <a:lnTo>
                  <a:pt x="949325" y="610997"/>
                </a:lnTo>
                <a:close/>
              </a:path>
              <a:path w="989329" h="650875">
                <a:moveTo>
                  <a:pt x="979805" y="610997"/>
                </a:moveTo>
                <a:lnTo>
                  <a:pt x="949325" y="610997"/>
                </a:lnTo>
                <a:lnTo>
                  <a:pt x="947801" y="612521"/>
                </a:lnTo>
                <a:lnTo>
                  <a:pt x="979043" y="612521"/>
                </a:lnTo>
                <a:lnTo>
                  <a:pt x="979805" y="610997"/>
                </a:lnTo>
                <a:close/>
              </a:path>
              <a:path w="989329" h="650875">
                <a:moveTo>
                  <a:pt x="983239" y="603504"/>
                </a:moveTo>
                <a:lnTo>
                  <a:pt x="955421" y="603504"/>
                </a:lnTo>
                <a:lnTo>
                  <a:pt x="948463" y="611737"/>
                </a:lnTo>
                <a:lnTo>
                  <a:pt x="949325" y="610997"/>
                </a:lnTo>
                <a:lnTo>
                  <a:pt x="979805" y="610997"/>
                </a:lnTo>
                <a:lnTo>
                  <a:pt x="982853" y="604901"/>
                </a:lnTo>
                <a:lnTo>
                  <a:pt x="983239" y="603504"/>
                </a:lnTo>
                <a:close/>
              </a:path>
              <a:path w="989329" h="650875">
                <a:moveTo>
                  <a:pt x="38230" y="610997"/>
                </a:moveTo>
                <a:lnTo>
                  <a:pt x="38100" y="610997"/>
                </a:lnTo>
                <a:lnTo>
                  <a:pt x="38541" y="611370"/>
                </a:lnTo>
                <a:lnTo>
                  <a:pt x="38230" y="610997"/>
                </a:lnTo>
                <a:close/>
              </a:path>
              <a:path w="989329" h="650875">
                <a:moveTo>
                  <a:pt x="32619" y="603504"/>
                </a:moveTo>
                <a:lnTo>
                  <a:pt x="32004" y="603504"/>
                </a:lnTo>
                <a:lnTo>
                  <a:pt x="33401" y="604901"/>
                </a:lnTo>
                <a:lnTo>
                  <a:pt x="32619" y="603504"/>
                </a:lnTo>
                <a:close/>
              </a:path>
              <a:path w="989329" h="650875">
                <a:moveTo>
                  <a:pt x="953897" y="47244"/>
                </a:moveTo>
                <a:lnTo>
                  <a:pt x="961644" y="60833"/>
                </a:lnTo>
                <a:lnTo>
                  <a:pt x="961644" y="66929"/>
                </a:lnTo>
                <a:lnTo>
                  <a:pt x="963168" y="71501"/>
                </a:lnTo>
                <a:lnTo>
                  <a:pt x="963168" y="582168"/>
                </a:lnTo>
                <a:lnTo>
                  <a:pt x="961644" y="586740"/>
                </a:lnTo>
                <a:lnTo>
                  <a:pt x="959993" y="591312"/>
                </a:lnTo>
                <a:lnTo>
                  <a:pt x="958596" y="595757"/>
                </a:lnTo>
                <a:lnTo>
                  <a:pt x="953897" y="604901"/>
                </a:lnTo>
                <a:lnTo>
                  <a:pt x="955421" y="603504"/>
                </a:lnTo>
                <a:lnTo>
                  <a:pt x="983239" y="603504"/>
                </a:lnTo>
                <a:lnTo>
                  <a:pt x="984504" y="598932"/>
                </a:lnTo>
                <a:lnTo>
                  <a:pt x="987425" y="591312"/>
                </a:lnTo>
                <a:lnTo>
                  <a:pt x="987425" y="583565"/>
                </a:lnTo>
                <a:lnTo>
                  <a:pt x="989076" y="576072"/>
                </a:lnTo>
                <a:lnTo>
                  <a:pt x="989076" y="74676"/>
                </a:lnTo>
                <a:lnTo>
                  <a:pt x="987425" y="66929"/>
                </a:lnTo>
                <a:lnTo>
                  <a:pt x="985901" y="59436"/>
                </a:lnTo>
                <a:lnTo>
                  <a:pt x="984504" y="53340"/>
                </a:lnTo>
                <a:lnTo>
                  <a:pt x="982630" y="48768"/>
                </a:lnTo>
                <a:lnTo>
                  <a:pt x="955421" y="48768"/>
                </a:lnTo>
                <a:lnTo>
                  <a:pt x="953897" y="47244"/>
                </a:lnTo>
                <a:close/>
              </a:path>
              <a:path w="989329" h="650875">
                <a:moveTo>
                  <a:pt x="33401" y="47244"/>
                </a:moveTo>
                <a:lnTo>
                  <a:pt x="32004" y="48768"/>
                </a:lnTo>
                <a:lnTo>
                  <a:pt x="32628" y="48768"/>
                </a:lnTo>
                <a:lnTo>
                  <a:pt x="33401" y="47244"/>
                </a:lnTo>
                <a:close/>
              </a:path>
              <a:path w="989329" h="650875">
                <a:moveTo>
                  <a:pt x="948436" y="40270"/>
                </a:moveTo>
                <a:lnTo>
                  <a:pt x="955421" y="48768"/>
                </a:lnTo>
                <a:lnTo>
                  <a:pt x="982630" y="48768"/>
                </a:lnTo>
                <a:lnTo>
                  <a:pt x="981329" y="45593"/>
                </a:lnTo>
                <a:lnTo>
                  <a:pt x="979369" y="41021"/>
                </a:lnTo>
                <a:lnTo>
                  <a:pt x="949325" y="41021"/>
                </a:lnTo>
                <a:lnTo>
                  <a:pt x="948436" y="40270"/>
                </a:lnTo>
                <a:close/>
              </a:path>
              <a:path w="989329" h="650875">
                <a:moveTo>
                  <a:pt x="39497" y="39497"/>
                </a:moveTo>
                <a:lnTo>
                  <a:pt x="38100" y="41021"/>
                </a:lnTo>
                <a:lnTo>
                  <a:pt x="38606" y="40599"/>
                </a:lnTo>
                <a:lnTo>
                  <a:pt x="39497" y="39497"/>
                </a:lnTo>
                <a:close/>
              </a:path>
              <a:path w="989329" h="650875">
                <a:moveTo>
                  <a:pt x="38606" y="40599"/>
                </a:moveTo>
                <a:lnTo>
                  <a:pt x="38100" y="41021"/>
                </a:lnTo>
                <a:lnTo>
                  <a:pt x="38265" y="41021"/>
                </a:lnTo>
                <a:lnTo>
                  <a:pt x="38606" y="40599"/>
                </a:lnTo>
                <a:close/>
              </a:path>
              <a:path w="989329" h="650875">
                <a:moveTo>
                  <a:pt x="947801" y="39497"/>
                </a:moveTo>
                <a:lnTo>
                  <a:pt x="948436" y="40270"/>
                </a:lnTo>
                <a:lnTo>
                  <a:pt x="949325" y="41021"/>
                </a:lnTo>
                <a:lnTo>
                  <a:pt x="947801" y="39497"/>
                </a:lnTo>
                <a:close/>
              </a:path>
              <a:path w="989329" h="650875">
                <a:moveTo>
                  <a:pt x="978716" y="39497"/>
                </a:moveTo>
                <a:lnTo>
                  <a:pt x="947801" y="39497"/>
                </a:lnTo>
                <a:lnTo>
                  <a:pt x="949325" y="41021"/>
                </a:lnTo>
                <a:lnTo>
                  <a:pt x="979369" y="41021"/>
                </a:lnTo>
                <a:lnTo>
                  <a:pt x="978716" y="39497"/>
                </a:lnTo>
                <a:close/>
              </a:path>
              <a:path w="989329" h="650875">
                <a:moveTo>
                  <a:pt x="39928" y="39497"/>
                </a:moveTo>
                <a:lnTo>
                  <a:pt x="39497" y="39497"/>
                </a:lnTo>
                <a:lnTo>
                  <a:pt x="38606" y="40599"/>
                </a:lnTo>
                <a:lnTo>
                  <a:pt x="39928" y="39497"/>
                </a:lnTo>
                <a:close/>
              </a:path>
              <a:path w="989329" h="650875">
                <a:moveTo>
                  <a:pt x="975233" y="33401"/>
                </a:moveTo>
                <a:lnTo>
                  <a:pt x="940308" y="33401"/>
                </a:lnTo>
                <a:lnTo>
                  <a:pt x="948436" y="40270"/>
                </a:lnTo>
                <a:lnTo>
                  <a:pt x="947801" y="39497"/>
                </a:lnTo>
                <a:lnTo>
                  <a:pt x="978716" y="39497"/>
                </a:lnTo>
                <a:lnTo>
                  <a:pt x="976757" y="34925"/>
                </a:lnTo>
                <a:lnTo>
                  <a:pt x="975233" y="33401"/>
                </a:lnTo>
                <a:close/>
              </a:path>
              <a:path w="989329" h="650875">
                <a:moveTo>
                  <a:pt x="48260" y="33401"/>
                </a:moveTo>
                <a:lnTo>
                  <a:pt x="47244" y="33401"/>
                </a:lnTo>
                <a:lnTo>
                  <a:pt x="45593" y="34925"/>
                </a:lnTo>
                <a:lnTo>
                  <a:pt x="48260" y="33401"/>
                </a:lnTo>
                <a:close/>
              </a:path>
              <a:path w="989329" h="650875">
                <a:moveTo>
                  <a:pt x="972666" y="28829"/>
                </a:moveTo>
                <a:lnTo>
                  <a:pt x="931163" y="28829"/>
                </a:lnTo>
                <a:lnTo>
                  <a:pt x="941832" y="34925"/>
                </a:lnTo>
                <a:lnTo>
                  <a:pt x="940308" y="33401"/>
                </a:lnTo>
                <a:lnTo>
                  <a:pt x="975233" y="33401"/>
                </a:lnTo>
                <a:lnTo>
                  <a:pt x="975233" y="32004"/>
                </a:lnTo>
                <a:lnTo>
                  <a:pt x="972666" y="28829"/>
                </a:lnTo>
                <a:close/>
              </a:path>
              <a:path w="989329" h="650875">
                <a:moveTo>
                  <a:pt x="970306" y="25908"/>
                </a:moveTo>
                <a:lnTo>
                  <a:pt x="918972" y="25908"/>
                </a:lnTo>
                <a:lnTo>
                  <a:pt x="923544" y="27432"/>
                </a:lnTo>
                <a:lnTo>
                  <a:pt x="927988" y="28829"/>
                </a:lnTo>
                <a:lnTo>
                  <a:pt x="932561" y="30353"/>
                </a:lnTo>
                <a:lnTo>
                  <a:pt x="931163" y="28829"/>
                </a:lnTo>
                <a:lnTo>
                  <a:pt x="972666" y="28829"/>
                </a:lnTo>
                <a:lnTo>
                  <a:pt x="970306" y="25908"/>
                </a:lnTo>
                <a:close/>
              </a:path>
              <a:path w="989329" h="650875">
                <a:moveTo>
                  <a:pt x="912876" y="0"/>
                </a:moveTo>
                <a:lnTo>
                  <a:pt x="74676" y="0"/>
                </a:lnTo>
                <a:lnTo>
                  <a:pt x="65532" y="1397"/>
                </a:lnTo>
                <a:lnTo>
                  <a:pt x="920496" y="1397"/>
                </a:lnTo>
                <a:lnTo>
                  <a:pt x="9128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0" name="object 94"/>
          <p:cNvSpPr/>
          <p:nvPr/>
        </p:nvSpPr>
        <p:spPr>
          <a:xfrm>
            <a:off x="7673040" y="2345400"/>
            <a:ext cx="858960" cy="56592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1" name="object 95"/>
          <p:cNvSpPr/>
          <p:nvPr/>
        </p:nvSpPr>
        <p:spPr>
          <a:xfrm>
            <a:off x="7669080" y="2341440"/>
            <a:ext cx="872640" cy="573840"/>
          </a:xfrm>
          <a:custGeom>
            <a:avLst/>
            <a:gdLst>
              <a:gd name="textAreaLeft" fmla="*/ 0 w 872640"/>
              <a:gd name="textAreaRight" fmla="*/ 873000 w 872640"/>
              <a:gd name="textAreaTop" fmla="*/ 0 h 573840"/>
              <a:gd name="textAreaBottom" fmla="*/ 574200 h 573840"/>
            </a:gdLst>
            <a:ahLst/>
            <a:rect l="textAreaLeft" t="textAreaTop" r="textAreaRight" b="textAreaBottom"/>
            <a:pathLst>
              <a:path w="989329" h="650875">
                <a:moveTo>
                  <a:pt x="954151" y="638556"/>
                </a:moveTo>
                <a:lnTo>
                  <a:pt x="33655" y="638556"/>
                </a:lnTo>
                <a:lnTo>
                  <a:pt x="45847" y="644525"/>
                </a:lnTo>
                <a:lnTo>
                  <a:pt x="53340" y="647700"/>
                </a:lnTo>
                <a:lnTo>
                  <a:pt x="61087" y="649224"/>
                </a:lnTo>
                <a:lnTo>
                  <a:pt x="68580" y="650621"/>
                </a:lnTo>
                <a:lnTo>
                  <a:pt x="922147" y="650621"/>
                </a:lnTo>
                <a:lnTo>
                  <a:pt x="929640" y="649224"/>
                </a:lnTo>
                <a:lnTo>
                  <a:pt x="935736" y="647700"/>
                </a:lnTo>
                <a:lnTo>
                  <a:pt x="941959" y="644525"/>
                </a:lnTo>
                <a:lnTo>
                  <a:pt x="943483" y="644525"/>
                </a:lnTo>
                <a:lnTo>
                  <a:pt x="954151" y="638556"/>
                </a:lnTo>
                <a:close/>
              </a:path>
              <a:path w="989329" h="650875">
                <a:moveTo>
                  <a:pt x="966343" y="629285"/>
                </a:moveTo>
                <a:lnTo>
                  <a:pt x="22987" y="629285"/>
                </a:lnTo>
                <a:lnTo>
                  <a:pt x="32004" y="637032"/>
                </a:lnTo>
                <a:lnTo>
                  <a:pt x="32004" y="638556"/>
                </a:lnTo>
                <a:lnTo>
                  <a:pt x="955547" y="638556"/>
                </a:lnTo>
                <a:lnTo>
                  <a:pt x="957072" y="637032"/>
                </a:lnTo>
                <a:lnTo>
                  <a:pt x="966343" y="629285"/>
                </a:lnTo>
                <a:close/>
              </a:path>
              <a:path w="989329" h="650875">
                <a:moveTo>
                  <a:pt x="920622" y="0"/>
                </a:moveTo>
                <a:lnTo>
                  <a:pt x="67183" y="0"/>
                </a:lnTo>
                <a:lnTo>
                  <a:pt x="59436" y="1524"/>
                </a:lnTo>
                <a:lnTo>
                  <a:pt x="51943" y="2921"/>
                </a:lnTo>
                <a:lnTo>
                  <a:pt x="44323" y="6096"/>
                </a:lnTo>
                <a:lnTo>
                  <a:pt x="33655" y="12192"/>
                </a:lnTo>
                <a:lnTo>
                  <a:pt x="32004" y="13589"/>
                </a:lnTo>
                <a:lnTo>
                  <a:pt x="22987" y="21336"/>
                </a:lnTo>
                <a:lnTo>
                  <a:pt x="21336" y="21336"/>
                </a:lnTo>
                <a:lnTo>
                  <a:pt x="21336" y="22860"/>
                </a:lnTo>
                <a:lnTo>
                  <a:pt x="13843" y="32004"/>
                </a:lnTo>
                <a:lnTo>
                  <a:pt x="12319" y="33528"/>
                </a:lnTo>
                <a:lnTo>
                  <a:pt x="12319" y="34925"/>
                </a:lnTo>
                <a:lnTo>
                  <a:pt x="6223" y="47117"/>
                </a:lnTo>
                <a:lnTo>
                  <a:pt x="3048" y="53213"/>
                </a:lnTo>
                <a:lnTo>
                  <a:pt x="1651" y="60960"/>
                </a:lnTo>
                <a:lnTo>
                  <a:pt x="0" y="68453"/>
                </a:lnTo>
                <a:lnTo>
                  <a:pt x="0" y="583692"/>
                </a:lnTo>
                <a:lnTo>
                  <a:pt x="1651" y="591185"/>
                </a:lnTo>
                <a:lnTo>
                  <a:pt x="3048" y="598932"/>
                </a:lnTo>
                <a:lnTo>
                  <a:pt x="6223" y="606425"/>
                </a:lnTo>
                <a:lnTo>
                  <a:pt x="12319" y="617093"/>
                </a:lnTo>
                <a:lnTo>
                  <a:pt x="12319" y="618617"/>
                </a:lnTo>
                <a:lnTo>
                  <a:pt x="13843" y="618617"/>
                </a:lnTo>
                <a:lnTo>
                  <a:pt x="21336" y="627761"/>
                </a:lnTo>
                <a:lnTo>
                  <a:pt x="21336" y="629285"/>
                </a:lnTo>
                <a:lnTo>
                  <a:pt x="967740" y="629285"/>
                </a:lnTo>
                <a:lnTo>
                  <a:pt x="967740" y="627761"/>
                </a:lnTo>
                <a:lnTo>
                  <a:pt x="968923" y="626364"/>
                </a:lnTo>
                <a:lnTo>
                  <a:pt x="74676" y="626364"/>
                </a:lnTo>
                <a:lnTo>
                  <a:pt x="68580" y="624713"/>
                </a:lnTo>
                <a:lnTo>
                  <a:pt x="64008" y="624713"/>
                </a:lnTo>
                <a:lnTo>
                  <a:pt x="59436" y="623189"/>
                </a:lnTo>
                <a:lnTo>
                  <a:pt x="54991" y="621792"/>
                </a:lnTo>
                <a:lnTo>
                  <a:pt x="45847" y="617093"/>
                </a:lnTo>
                <a:lnTo>
                  <a:pt x="48768" y="617093"/>
                </a:lnTo>
                <a:lnTo>
                  <a:pt x="42258" y="612521"/>
                </a:lnTo>
                <a:lnTo>
                  <a:pt x="41148" y="612521"/>
                </a:lnTo>
                <a:lnTo>
                  <a:pt x="38100" y="609600"/>
                </a:lnTo>
                <a:lnTo>
                  <a:pt x="38720" y="609600"/>
                </a:lnTo>
                <a:lnTo>
                  <a:pt x="34921" y="605028"/>
                </a:lnTo>
                <a:lnTo>
                  <a:pt x="33655" y="605028"/>
                </a:lnTo>
                <a:lnTo>
                  <a:pt x="29083" y="594360"/>
                </a:lnTo>
                <a:lnTo>
                  <a:pt x="27559" y="589661"/>
                </a:lnTo>
                <a:lnTo>
                  <a:pt x="25908" y="585089"/>
                </a:lnTo>
                <a:lnTo>
                  <a:pt x="25908" y="580517"/>
                </a:lnTo>
                <a:lnTo>
                  <a:pt x="24511" y="575945"/>
                </a:lnTo>
                <a:lnTo>
                  <a:pt x="24511" y="74549"/>
                </a:lnTo>
                <a:lnTo>
                  <a:pt x="25908" y="70104"/>
                </a:lnTo>
                <a:lnTo>
                  <a:pt x="25908" y="63881"/>
                </a:lnTo>
                <a:lnTo>
                  <a:pt x="27559" y="59436"/>
                </a:lnTo>
                <a:lnTo>
                  <a:pt x="29083" y="54864"/>
                </a:lnTo>
                <a:lnTo>
                  <a:pt x="33655" y="45593"/>
                </a:lnTo>
                <a:lnTo>
                  <a:pt x="36256" y="45593"/>
                </a:lnTo>
                <a:lnTo>
                  <a:pt x="40003" y="41021"/>
                </a:lnTo>
                <a:lnTo>
                  <a:pt x="39751" y="41021"/>
                </a:lnTo>
                <a:lnTo>
                  <a:pt x="41148" y="39624"/>
                </a:lnTo>
                <a:lnTo>
                  <a:pt x="41432" y="39624"/>
                </a:lnTo>
                <a:lnTo>
                  <a:pt x="47086" y="34925"/>
                </a:lnTo>
                <a:lnTo>
                  <a:pt x="45847" y="34925"/>
                </a:lnTo>
                <a:lnTo>
                  <a:pt x="56515" y="28956"/>
                </a:lnTo>
                <a:lnTo>
                  <a:pt x="61087" y="27432"/>
                </a:lnTo>
                <a:lnTo>
                  <a:pt x="65659" y="25781"/>
                </a:lnTo>
                <a:lnTo>
                  <a:pt x="970214" y="25781"/>
                </a:lnTo>
                <a:lnTo>
                  <a:pt x="967740" y="22860"/>
                </a:lnTo>
                <a:lnTo>
                  <a:pt x="966343" y="21336"/>
                </a:lnTo>
                <a:lnTo>
                  <a:pt x="957072" y="13589"/>
                </a:lnTo>
                <a:lnTo>
                  <a:pt x="955547" y="13589"/>
                </a:lnTo>
                <a:lnTo>
                  <a:pt x="955547" y="12192"/>
                </a:lnTo>
                <a:lnTo>
                  <a:pt x="954151" y="12192"/>
                </a:lnTo>
                <a:lnTo>
                  <a:pt x="943483" y="6096"/>
                </a:lnTo>
                <a:lnTo>
                  <a:pt x="941959" y="6096"/>
                </a:lnTo>
                <a:lnTo>
                  <a:pt x="935736" y="2921"/>
                </a:lnTo>
                <a:lnTo>
                  <a:pt x="928243" y="1524"/>
                </a:lnTo>
                <a:lnTo>
                  <a:pt x="920622" y="0"/>
                </a:lnTo>
                <a:close/>
              </a:path>
              <a:path w="989329" h="650875">
                <a:moveTo>
                  <a:pt x="949579" y="609600"/>
                </a:moveTo>
                <a:lnTo>
                  <a:pt x="940308" y="617093"/>
                </a:lnTo>
                <a:lnTo>
                  <a:pt x="941959" y="617093"/>
                </a:lnTo>
                <a:lnTo>
                  <a:pt x="931291" y="621792"/>
                </a:lnTo>
                <a:lnTo>
                  <a:pt x="934212" y="621792"/>
                </a:lnTo>
                <a:lnTo>
                  <a:pt x="928243" y="623189"/>
                </a:lnTo>
                <a:lnTo>
                  <a:pt x="922147" y="624713"/>
                </a:lnTo>
                <a:lnTo>
                  <a:pt x="917447" y="624713"/>
                </a:lnTo>
                <a:lnTo>
                  <a:pt x="912876" y="626364"/>
                </a:lnTo>
                <a:lnTo>
                  <a:pt x="968923" y="626364"/>
                </a:lnTo>
                <a:lnTo>
                  <a:pt x="975487" y="618617"/>
                </a:lnTo>
                <a:lnTo>
                  <a:pt x="977011" y="617093"/>
                </a:lnTo>
                <a:lnTo>
                  <a:pt x="979272" y="612521"/>
                </a:lnTo>
                <a:lnTo>
                  <a:pt x="948055" y="612521"/>
                </a:lnTo>
                <a:lnTo>
                  <a:pt x="949579" y="609600"/>
                </a:lnTo>
                <a:close/>
              </a:path>
              <a:path w="989329" h="650875">
                <a:moveTo>
                  <a:pt x="38100" y="609600"/>
                </a:moveTo>
                <a:lnTo>
                  <a:pt x="41148" y="612521"/>
                </a:lnTo>
                <a:lnTo>
                  <a:pt x="39590" y="610647"/>
                </a:lnTo>
                <a:lnTo>
                  <a:pt x="38100" y="609600"/>
                </a:lnTo>
                <a:close/>
              </a:path>
              <a:path w="989329" h="650875">
                <a:moveTo>
                  <a:pt x="39590" y="610647"/>
                </a:moveTo>
                <a:lnTo>
                  <a:pt x="41148" y="612521"/>
                </a:lnTo>
                <a:lnTo>
                  <a:pt x="42258" y="612521"/>
                </a:lnTo>
                <a:lnTo>
                  <a:pt x="39590" y="610647"/>
                </a:lnTo>
                <a:close/>
              </a:path>
              <a:path w="989329" h="650875">
                <a:moveTo>
                  <a:pt x="983604" y="603504"/>
                </a:moveTo>
                <a:lnTo>
                  <a:pt x="955547" y="603504"/>
                </a:lnTo>
                <a:lnTo>
                  <a:pt x="948055" y="612521"/>
                </a:lnTo>
                <a:lnTo>
                  <a:pt x="979272" y="612521"/>
                </a:lnTo>
                <a:lnTo>
                  <a:pt x="982980" y="605028"/>
                </a:lnTo>
                <a:lnTo>
                  <a:pt x="983604" y="603504"/>
                </a:lnTo>
                <a:close/>
              </a:path>
              <a:path w="989329" h="650875">
                <a:moveTo>
                  <a:pt x="38720" y="609600"/>
                </a:moveTo>
                <a:lnTo>
                  <a:pt x="38100" y="609600"/>
                </a:lnTo>
                <a:lnTo>
                  <a:pt x="39590" y="610647"/>
                </a:lnTo>
                <a:lnTo>
                  <a:pt x="38720" y="609600"/>
                </a:lnTo>
                <a:close/>
              </a:path>
              <a:path w="989329" h="650875">
                <a:moveTo>
                  <a:pt x="33655" y="603504"/>
                </a:moveTo>
                <a:lnTo>
                  <a:pt x="33655" y="605028"/>
                </a:lnTo>
                <a:lnTo>
                  <a:pt x="34921" y="605028"/>
                </a:lnTo>
                <a:lnTo>
                  <a:pt x="33655" y="603504"/>
                </a:lnTo>
                <a:close/>
              </a:path>
              <a:path w="989329" h="650875">
                <a:moveTo>
                  <a:pt x="982980" y="45593"/>
                </a:moveTo>
                <a:lnTo>
                  <a:pt x="954151" y="45593"/>
                </a:lnTo>
                <a:lnTo>
                  <a:pt x="960247" y="56261"/>
                </a:lnTo>
                <a:lnTo>
                  <a:pt x="961644" y="60960"/>
                </a:lnTo>
                <a:lnTo>
                  <a:pt x="963168" y="65532"/>
                </a:lnTo>
                <a:lnTo>
                  <a:pt x="963168" y="582168"/>
                </a:lnTo>
                <a:lnTo>
                  <a:pt x="961644" y="586613"/>
                </a:lnTo>
                <a:lnTo>
                  <a:pt x="961644" y="591185"/>
                </a:lnTo>
                <a:lnTo>
                  <a:pt x="958722" y="595757"/>
                </a:lnTo>
                <a:lnTo>
                  <a:pt x="954151" y="605028"/>
                </a:lnTo>
                <a:lnTo>
                  <a:pt x="955547" y="603504"/>
                </a:lnTo>
                <a:lnTo>
                  <a:pt x="983604" y="603504"/>
                </a:lnTo>
                <a:lnTo>
                  <a:pt x="986155" y="597281"/>
                </a:lnTo>
                <a:lnTo>
                  <a:pt x="987679" y="589661"/>
                </a:lnTo>
                <a:lnTo>
                  <a:pt x="989076" y="582168"/>
                </a:lnTo>
                <a:lnTo>
                  <a:pt x="989076" y="67056"/>
                </a:lnTo>
                <a:lnTo>
                  <a:pt x="987679" y="59436"/>
                </a:lnTo>
                <a:lnTo>
                  <a:pt x="984504" y="51689"/>
                </a:lnTo>
                <a:lnTo>
                  <a:pt x="982980" y="45593"/>
                </a:lnTo>
                <a:close/>
              </a:path>
              <a:path w="989329" h="650875">
                <a:moveTo>
                  <a:pt x="36256" y="45593"/>
                </a:moveTo>
                <a:lnTo>
                  <a:pt x="33655" y="45593"/>
                </a:lnTo>
                <a:lnTo>
                  <a:pt x="33655" y="48768"/>
                </a:lnTo>
                <a:lnTo>
                  <a:pt x="36256" y="45593"/>
                </a:lnTo>
                <a:close/>
              </a:path>
              <a:path w="989329" h="650875">
                <a:moveTo>
                  <a:pt x="948456" y="40113"/>
                </a:moveTo>
                <a:lnTo>
                  <a:pt x="955547" y="48768"/>
                </a:lnTo>
                <a:lnTo>
                  <a:pt x="954151" y="45593"/>
                </a:lnTo>
                <a:lnTo>
                  <a:pt x="982980" y="45593"/>
                </a:lnTo>
                <a:lnTo>
                  <a:pt x="980421" y="41021"/>
                </a:lnTo>
                <a:lnTo>
                  <a:pt x="949579" y="41021"/>
                </a:lnTo>
                <a:lnTo>
                  <a:pt x="948456" y="40113"/>
                </a:lnTo>
                <a:close/>
              </a:path>
              <a:path w="989329" h="650875">
                <a:moveTo>
                  <a:pt x="41148" y="39624"/>
                </a:moveTo>
                <a:lnTo>
                  <a:pt x="39751" y="41021"/>
                </a:lnTo>
                <a:lnTo>
                  <a:pt x="40541" y="40364"/>
                </a:lnTo>
                <a:lnTo>
                  <a:pt x="41148" y="39624"/>
                </a:lnTo>
                <a:close/>
              </a:path>
              <a:path w="989329" h="650875">
                <a:moveTo>
                  <a:pt x="40541" y="40364"/>
                </a:moveTo>
                <a:lnTo>
                  <a:pt x="39751" y="41021"/>
                </a:lnTo>
                <a:lnTo>
                  <a:pt x="40003" y="41021"/>
                </a:lnTo>
                <a:lnTo>
                  <a:pt x="40541" y="40364"/>
                </a:lnTo>
                <a:close/>
              </a:path>
              <a:path w="989329" h="650875">
                <a:moveTo>
                  <a:pt x="948055" y="39624"/>
                </a:moveTo>
                <a:lnTo>
                  <a:pt x="948456" y="40113"/>
                </a:lnTo>
                <a:lnTo>
                  <a:pt x="949579" y="41021"/>
                </a:lnTo>
                <a:lnTo>
                  <a:pt x="948055" y="39624"/>
                </a:lnTo>
                <a:close/>
              </a:path>
              <a:path w="989329" h="650875">
                <a:moveTo>
                  <a:pt x="979640" y="39624"/>
                </a:moveTo>
                <a:lnTo>
                  <a:pt x="948055" y="39624"/>
                </a:lnTo>
                <a:lnTo>
                  <a:pt x="949579" y="41021"/>
                </a:lnTo>
                <a:lnTo>
                  <a:pt x="980421" y="41021"/>
                </a:lnTo>
                <a:lnTo>
                  <a:pt x="979640" y="39624"/>
                </a:lnTo>
                <a:close/>
              </a:path>
              <a:path w="989329" h="650875">
                <a:moveTo>
                  <a:pt x="41432" y="39624"/>
                </a:moveTo>
                <a:lnTo>
                  <a:pt x="41148" y="39624"/>
                </a:lnTo>
                <a:lnTo>
                  <a:pt x="40541" y="40364"/>
                </a:lnTo>
                <a:lnTo>
                  <a:pt x="41432" y="39624"/>
                </a:lnTo>
                <a:close/>
              </a:path>
              <a:path w="989329" h="650875">
                <a:moveTo>
                  <a:pt x="977011" y="33528"/>
                </a:moveTo>
                <a:lnTo>
                  <a:pt x="940308" y="33528"/>
                </a:lnTo>
                <a:lnTo>
                  <a:pt x="948456" y="40113"/>
                </a:lnTo>
                <a:lnTo>
                  <a:pt x="948055" y="39624"/>
                </a:lnTo>
                <a:lnTo>
                  <a:pt x="979640" y="39624"/>
                </a:lnTo>
                <a:lnTo>
                  <a:pt x="977011" y="34925"/>
                </a:lnTo>
                <a:lnTo>
                  <a:pt x="977011" y="33528"/>
                </a:lnTo>
                <a:close/>
              </a:path>
              <a:path w="989329" h="650875">
                <a:moveTo>
                  <a:pt x="48768" y="33528"/>
                </a:moveTo>
                <a:lnTo>
                  <a:pt x="45847" y="34925"/>
                </a:lnTo>
                <a:lnTo>
                  <a:pt x="47086" y="34925"/>
                </a:lnTo>
                <a:lnTo>
                  <a:pt x="48768" y="33528"/>
                </a:lnTo>
                <a:close/>
              </a:path>
              <a:path w="989329" h="650875">
                <a:moveTo>
                  <a:pt x="970214" y="25781"/>
                </a:moveTo>
                <a:lnTo>
                  <a:pt x="923544" y="25781"/>
                </a:lnTo>
                <a:lnTo>
                  <a:pt x="928243" y="27432"/>
                </a:lnTo>
                <a:lnTo>
                  <a:pt x="934212" y="28956"/>
                </a:lnTo>
                <a:lnTo>
                  <a:pt x="931291" y="28956"/>
                </a:lnTo>
                <a:lnTo>
                  <a:pt x="941959" y="34925"/>
                </a:lnTo>
                <a:lnTo>
                  <a:pt x="940308" y="33528"/>
                </a:lnTo>
                <a:lnTo>
                  <a:pt x="975487" y="33528"/>
                </a:lnTo>
                <a:lnTo>
                  <a:pt x="975487" y="32004"/>
                </a:lnTo>
                <a:lnTo>
                  <a:pt x="970214" y="25781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2" name="object 96"/>
          <p:cNvSpPr/>
          <p:nvPr/>
        </p:nvSpPr>
        <p:spPr>
          <a:xfrm>
            <a:off x="7799040" y="2459160"/>
            <a:ext cx="612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58.6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bject 97"/>
          <p:cNvSpPr/>
          <p:nvPr/>
        </p:nvSpPr>
        <p:spPr>
          <a:xfrm>
            <a:off x="7585560" y="3062160"/>
            <a:ext cx="849600" cy="539280"/>
          </a:xfrm>
          <a:custGeom>
            <a:avLst/>
            <a:gdLst>
              <a:gd name="textAreaLeft" fmla="*/ 0 w 849600"/>
              <a:gd name="textAreaRight" fmla="*/ 849960 w 8496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3295" h="611504">
                <a:moveTo>
                  <a:pt x="902335" y="0"/>
                </a:moveTo>
                <a:lnTo>
                  <a:pt x="60960" y="0"/>
                </a:lnTo>
                <a:lnTo>
                  <a:pt x="37290" y="4810"/>
                </a:lnTo>
                <a:lnTo>
                  <a:pt x="17906" y="17907"/>
                </a:lnTo>
                <a:lnTo>
                  <a:pt x="4810" y="37290"/>
                </a:lnTo>
                <a:lnTo>
                  <a:pt x="0" y="60960"/>
                </a:lnTo>
                <a:lnTo>
                  <a:pt x="0" y="550164"/>
                </a:lnTo>
                <a:lnTo>
                  <a:pt x="4810" y="573813"/>
                </a:lnTo>
                <a:lnTo>
                  <a:pt x="17907" y="593153"/>
                </a:lnTo>
                <a:lnTo>
                  <a:pt x="37290" y="606206"/>
                </a:lnTo>
                <a:lnTo>
                  <a:pt x="60960" y="610997"/>
                </a:lnTo>
                <a:lnTo>
                  <a:pt x="902335" y="610997"/>
                </a:lnTo>
                <a:lnTo>
                  <a:pt x="925931" y="606206"/>
                </a:lnTo>
                <a:lnTo>
                  <a:pt x="945276" y="593153"/>
                </a:lnTo>
                <a:lnTo>
                  <a:pt x="958359" y="573813"/>
                </a:lnTo>
                <a:lnTo>
                  <a:pt x="963168" y="550164"/>
                </a:lnTo>
                <a:lnTo>
                  <a:pt x="963168" y="60960"/>
                </a:lnTo>
                <a:lnTo>
                  <a:pt x="958359" y="37290"/>
                </a:lnTo>
                <a:lnTo>
                  <a:pt x="945276" y="17907"/>
                </a:lnTo>
                <a:lnTo>
                  <a:pt x="925931" y="4810"/>
                </a:lnTo>
                <a:lnTo>
                  <a:pt x="902335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4" name="object 98"/>
          <p:cNvSpPr/>
          <p:nvPr/>
        </p:nvSpPr>
        <p:spPr>
          <a:xfrm>
            <a:off x="7575120" y="304992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39">
                <a:moveTo>
                  <a:pt x="955421" y="624839"/>
                </a:moveTo>
                <a:lnTo>
                  <a:pt x="32004" y="624839"/>
                </a:lnTo>
                <a:lnTo>
                  <a:pt x="33401" y="626363"/>
                </a:lnTo>
                <a:lnTo>
                  <a:pt x="44196" y="632459"/>
                </a:lnTo>
                <a:lnTo>
                  <a:pt x="51689" y="634110"/>
                </a:lnTo>
                <a:lnTo>
                  <a:pt x="59436" y="637031"/>
                </a:lnTo>
                <a:lnTo>
                  <a:pt x="923544" y="637031"/>
                </a:lnTo>
                <a:lnTo>
                  <a:pt x="929640" y="635634"/>
                </a:lnTo>
                <a:lnTo>
                  <a:pt x="937133" y="634110"/>
                </a:lnTo>
                <a:lnTo>
                  <a:pt x="944753" y="630935"/>
                </a:lnTo>
                <a:lnTo>
                  <a:pt x="953897" y="626363"/>
                </a:lnTo>
                <a:lnTo>
                  <a:pt x="955421" y="624839"/>
                </a:lnTo>
                <a:close/>
              </a:path>
              <a:path w="989329" h="637539">
                <a:moveTo>
                  <a:pt x="966088" y="615695"/>
                </a:moveTo>
                <a:lnTo>
                  <a:pt x="21336" y="615695"/>
                </a:lnTo>
                <a:lnTo>
                  <a:pt x="21336" y="617346"/>
                </a:lnTo>
                <a:lnTo>
                  <a:pt x="30353" y="624839"/>
                </a:lnTo>
                <a:lnTo>
                  <a:pt x="957072" y="624839"/>
                </a:lnTo>
                <a:lnTo>
                  <a:pt x="966088" y="617346"/>
                </a:lnTo>
                <a:lnTo>
                  <a:pt x="966088" y="615695"/>
                </a:lnTo>
                <a:close/>
              </a:path>
              <a:path w="989329" h="637539">
                <a:moveTo>
                  <a:pt x="47244" y="33527"/>
                </a:moveTo>
                <a:lnTo>
                  <a:pt x="10668" y="33527"/>
                </a:lnTo>
                <a:lnTo>
                  <a:pt x="4572" y="45846"/>
                </a:lnTo>
                <a:lnTo>
                  <a:pt x="2921" y="53339"/>
                </a:lnTo>
                <a:lnTo>
                  <a:pt x="0" y="59435"/>
                </a:lnTo>
                <a:lnTo>
                  <a:pt x="0" y="571499"/>
                </a:lnTo>
                <a:lnTo>
                  <a:pt x="1397" y="579246"/>
                </a:lnTo>
                <a:lnTo>
                  <a:pt x="2921" y="586739"/>
                </a:lnTo>
                <a:lnTo>
                  <a:pt x="6096" y="594359"/>
                </a:lnTo>
                <a:lnTo>
                  <a:pt x="10668" y="603503"/>
                </a:lnTo>
                <a:lnTo>
                  <a:pt x="12065" y="605027"/>
                </a:lnTo>
                <a:lnTo>
                  <a:pt x="12065" y="606678"/>
                </a:lnTo>
                <a:lnTo>
                  <a:pt x="19812" y="615695"/>
                </a:lnTo>
                <a:lnTo>
                  <a:pt x="967740" y="615695"/>
                </a:lnTo>
                <a:lnTo>
                  <a:pt x="970167" y="612774"/>
                </a:lnTo>
                <a:lnTo>
                  <a:pt x="66929" y="612774"/>
                </a:lnTo>
                <a:lnTo>
                  <a:pt x="62357" y="611123"/>
                </a:lnTo>
                <a:lnTo>
                  <a:pt x="57912" y="609599"/>
                </a:lnTo>
                <a:lnTo>
                  <a:pt x="53340" y="608202"/>
                </a:lnTo>
                <a:lnTo>
                  <a:pt x="48105" y="605027"/>
                </a:lnTo>
                <a:lnTo>
                  <a:pt x="47244" y="605027"/>
                </a:lnTo>
                <a:lnTo>
                  <a:pt x="39804" y="598931"/>
                </a:lnTo>
                <a:lnTo>
                  <a:pt x="39497" y="598931"/>
                </a:lnTo>
                <a:lnTo>
                  <a:pt x="38100" y="597534"/>
                </a:lnTo>
                <a:lnTo>
                  <a:pt x="38336" y="597534"/>
                </a:lnTo>
                <a:lnTo>
                  <a:pt x="32004" y="589914"/>
                </a:lnTo>
                <a:lnTo>
                  <a:pt x="32419" y="589914"/>
                </a:lnTo>
                <a:lnTo>
                  <a:pt x="27432" y="582167"/>
                </a:lnTo>
                <a:lnTo>
                  <a:pt x="25908" y="577595"/>
                </a:lnTo>
                <a:lnTo>
                  <a:pt x="25908" y="573023"/>
                </a:lnTo>
                <a:lnTo>
                  <a:pt x="24257" y="568578"/>
                </a:lnTo>
                <a:lnTo>
                  <a:pt x="24257" y="68706"/>
                </a:lnTo>
                <a:lnTo>
                  <a:pt x="25908" y="64134"/>
                </a:lnTo>
                <a:lnTo>
                  <a:pt x="27432" y="59435"/>
                </a:lnTo>
                <a:lnTo>
                  <a:pt x="28829" y="54863"/>
                </a:lnTo>
                <a:lnTo>
                  <a:pt x="33401" y="45846"/>
                </a:lnTo>
                <a:lnTo>
                  <a:pt x="34397" y="45846"/>
                </a:lnTo>
                <a:lnTo>
                  <a:pt x="38144" y="41274"/>
                </a:lnTo>
                <a:lnTo>
                  <a:pt x="39497" y="39623"/>
                </a:lnTo>
                <a:lnTo>
                  <a:pt x="40048" y="39623"/>
                </a:lnTo>
                <a:lnTo>
                  <a:pt x="47244" y="33527"/>
                </a:lnTo>
                <a:close/>
              </a:path>
              <a:path w="989329" h="637539">
                <a:moveTo>
                  <a:pt x="976757" y="603503"/>
                </a:moveTo>
                <a:lnTo>
                  <a:pt x="943229" y="603503"/>
                </a:lnTo>
                <a:lnTo>
                  <a:pt x="932561" y="609599"/>
                </a:lnTo>
                <a:lnTo>
                  <a:pt x="927988" y="609599"/>
                </a:lnTo>
                <a:lnTo>
                  <a:pt x="923544" y="611123"/>
                </a:lnTo>
                <a:lnTo>
                  <a:pt x="918972" y="612774"/>
                </a:lnTo>
                <a:lnTo>
                  <a:pt x="970167" y="612774"/>
                </a:lnTo>
                <a:lnTo>
                  <a:pt x="975233" y="606678"/>
                </a:lnTo>
                <a:lnTo>
                  <a:pt x="975233" y="605027"/>
                </a:lnTo>
                <a:lnTo>
                  <a:pt x="976757" y="603503"/>
                </a:lnTo>
                <a:close/>
              </a:path>
              <a:path w="989329" h="637539">
                <a:moveTo>
                  <a:pt x="45593" y="603503"/>
                </a:moveTo>
                <a:lnTo>
                  <a:pt x="47244" y="605027"/>
                </a:lnTo>
                <a:lnTo>
                  <a:pt x="48105" y="605027"/>
                </a:lnTo>
                <a:lnTo>
                  <a:pt x="45593" y="603503"/>
                </a:lnTo>
                <a:close/>
              </a:path>
              <a:path w="989329" h="637539">
                <a:moveTo>
                  <a:pt x="948171" y="598493"/>
                </a:moveTo>
                <a:lnTo>
                  <a:pt x="940308" y="605027"/>
                </a:lnTo>
                <a:lnTo>
                  <a:pt x="943229" y="603503"/>
                </a:lnTo>
                <a:lnTo>
                  <a:pt x="976757" y="603503"/>
                </a:lnTo>
                <a:lnTo>
                  <a:pt x="979369" y="598931"/>
                </a:lnTo>
                <a:lnTo>
                  <a:pt x="947801" y="598931"/>
                </a:lnTo>
                <a:lnTo>
                  <a:pt x="948171" y="598493"/>
                </a:lnTo>
                <a:close/>
              </a:path>
              <a:path w="989329" h="637539">
                <a:moveTo>
                  <a:pt x="38100" y="597534"/>
                </a:moveTo>
                <a:lnTo>
                  <a:pt x="39497" y="598931"/>
                </a:lnTo>
                <a:lnTo>
                  <a:pt x="38840" y="598141"/>
                </a:lnTo>
                <a:lnTo>
                  <a:pt x="38100" y="597534"/>
                </a:lnTo>
                <a:close/>
              </a:path>
              <a:path w="989329" h="637539">
                <a:moveTo>
                  <a:pt x="38840" y="598141"/>
                </a:moveTo>
                <a:lnTo>
                  <a:pt x="39497" y="598931"/>
                </a:lnTo>
                <a:lnTo>
                  <a:pt x="39804" y="598931"/>
                </a:lnTo>
                <a:lnTo>
                  <a:pt x="38840" y="598141"/>
                </a:lnTo>
                <a:close/>
              </a:path>
              <a:path w="989329" h="637539">
                <a:moveTo>
                  <a:pt x="949325" y="597534"/>
                </a:moveTo>
                <a:lnTo>
                  <a:pt x="948171" y="598493"/>
                </a:lnTo>
                <a:lnTo>
                  <a:pt x="947801" y="598931"/>
                </a:lnTo>
                <a:lnTo>
                  <a:pt x="949325" y="597534"/>
                </a:lnTo>
                <a:close/>
              </a:path>
              <a:path w="989329" h="637539">
                <a:moveTo>
                  <a:pt x="980167" y="597534"/>
                </a:moveTo>
                <a:lnTo>
                  <a:pt x="949325" y="597534"/>
                </a:lnTo>
                <a:lnTo>
                  <a:pt x="947801" y="598931"/>
                </a:lnTo>
                <a:lnTo>
                  <a:pt x="979369" y="598931"/>
                </a:lnTo>
                <a:lnTo>
                  <a:pt x="980167" y="597534"/>
                </a:lnTo>
                <a:close/>
              </a:path>
              <a:path w="989329" h="637539">
                <a:moveTo>
                  <a:pt x="983496" y="589914"/>
                </a:moveTo>
                <a:lnTo>
                  <a:pt x="955421" y="589914"/>
                </a:lnTo>
                <a:lnTo>
                  <a:pt x="948171" y="598493"/>
                </a:lnTo>
                <a:lnTo>
                  <a:pt x="949325" y="597534"/>
                </a:lnTo>
                <a:lnTo>
                  <a:pt x="980167" y="597534"/>
                </a:lnTo>
                <a:lnTo>
                  <a:pt x="982853" y="592835"/>
                </a:lnTo>
                <a:lnTo>
                  <a:pt x="983496" y="589914"/>
                </a:lnTo>
                <a:close/>
              </a:path>
              <a:path w="989329" h="637539">
                <a:moveTo>
                  <a:pt x="38336" y="597534"/>
                </a:moveTo>
                <a:lnTo>
                  <a:pt x="38100" y="597534"/>
                </a:lnTo>
                <a:lnTo>
                  <a:pt x="38840" y="598141"/>
                </a:lnTo>
                <a:lnTo>
                  <a:pt x="38336" y="597534"/>
                </a:lnTo>
                <a:close/>
              </a:path>
              <a:path w="989329" h="637539">
                <a:moveTo>
                  <a:pt x="32419" y="589914"/>
                </a:moveTo>
                <a:lnTo>
                  <a:pt x="32004" y="589914"/>
                </a:lnTo>
                <a:lnTo>
                  <a:pt x="33401" y="591438"/>
                </a:lnTo>
                <a:lnTo>
                  <a:pt x="32419" y="589914"/>
                </a:lnTo>
                <a:close/>
              </a:path>
              <a:path w="989329" h="637539">
                <a:moveTo>
                  <a:pt x="982005" y="45846"/>
                </a:moveTo>
                <a:lnTo>
                  <a:pt x="953897" y="45846"/>
                </a:lnTo>
                <a:lnTo>
                  <a:pt x="959993" y="56514"/>
                </a:lnTo>
                <a:lnTo>
                  <a:pt x="961644" y="60959"/>
                </a:lnTo>
                <a:lnTo>
                  <a:pt x="961644" y="65531"/>
                </a:lnTo>
                <a:lnTo>
                  <a:pt x="963168" y="70103"/>
                </a:lnTo>
                <a:lnTo>
                  <a:pt x="963168" y="570102"/>
                </a:lnTo>
                <a:lnTo>
                  <a:pt x="961644" y="574674"/>
                </a:lnTo>
                <a:lnTo>
                  <a:pt x="959993" y="579246"/>
                </a:lnTo>
                <a:lnTo>
                  <a:pt x="958596" y="583691"/>
                </a:lnTo>
                <a:lnTo>
                  <a:pt x="953897" y="591438"/>
                </a:lnTo>
                <a:lnTo>
                  <a:pt x="955421" y="589914"/>
                </a:lnTo>
                <a:lnTo>
                  <a:pt x="983496" y="589914"/>
                </a:lnTo>
                <a:lnTo>
                  <a:pt x="984504" y="585342"/>
                </a:lnTo>
                <a:lnTo>
                  <a:pt x="987425" y="577595"/>
                </a:lnTo>
                <a:lnTo>
                  <a:pt x="987425" y="570102"/>
                </a:lnTo>
                <a:lnTo>
                  <a:pt x="989076" y="564006"/>
                </a:lnTo>
                <a:lnTo>
                  <a:pt x="989076" y="73278"/>
                </a:lnTo>
                <a:lnTo>
                  <a:pt x="987425" y="65531"/>
                </a:lnTo>
                <a:lnTo>
                  <a:pt x="985901" y="59435"/>
                </a:lnTo>
                <a:lnTo>
                  <a:pt x="984504" y="51942"/>
                </a:lnTo>
                <a:lnTo>
                  <a:pt x="982005" y="45846"/>
                </a:lnTo>
                <a:close/>
              </a:path>
              <a:path w="989329" h="637539">
                <a:moveTo>
                  <a:pt x="34397" y="45846"/>
                </a:moveTo>
                <a:lnTo>
                  <a:pt x="33401" y="45846"/>
                </a:lnTo>
                <a:lnTo>
                  <a:pt x="32004" y="48767"/>
                </a:lnTo>
                <a:lnTo>
                  <a:pt x="34397" y="45846"/>
                </a:lnTo>
                <a:close/>
              </a:path>
              <a:path w="989329" h="637539">
                <a:moveTo>
                  <a:pt x="948803" y="40826"/>
                </a:moveTo>
                <a:lnTo>
                  <a:pt x="955421" y="48767"/>
                </a:lnTo>
                <a:lnTo>
                  <a:pt x="953897" y="45846"/>
                </a:lnTo>
                <a:lnTo>
                  <a:pt x="982005" y="45846"/>
                </a:lnTo>
                <a:lnTo>
                  <a:pt x="981329" y="44195"/>
                </a:lnTo>
                <a:lnTo>
                  <a:pt x="980077" y="41274"/>
                </a:lnTo>
                <a:lnTo>
                  <a:pt x="949325" y="41274"/>
                </a:lnTo>
                <a:lnTo>
                  <a:pt x="948803" y="40826"/>
                </a:lnTo>
                <a:close/>
              </a:path>
              <a:path w="989329" h="637539">
                <a:moveTo>
                  <a:pt x="39497" y="39623"/>
                </a:moveTo>
                <a:lnTo>
                  <a:pt x="38100" y="41274"/>
                </a:lnTo>
                <a:lnTo>
                  <a:pt x="38244" y="41152"/>
                </a:lnTo>
                <a:lnTo>
                  <a:pt x="39497" y="39623"/>
                </a:lnTo>
                <a:close/>
              </a:path>
              <a:path w="989329" h="637539">
                <a:moveTo>
                  <a:pt x="38244" y="41152"/>
                </a:moveTo>
                <a:lnTo>
                  <a:pt x="38100" y="41274"/>
                </a:lnTo>
                <a:lnTo>
                  <a:pt x="38244" y="41152"/>
                </a:lnTo>
                <a:close/>
              </a:path>
              <a:path w="989329" h="637539">
                <a:moveTo>
                  <a:pt x="947801" y="39623"/>
                </a:moveTo>
                <a:lnTo>
                  <a:pt x="948803" y="40826"/>
                </a:lnTo>
                <a:lnTo>
                  <a:pt x="949325" y="41274"/>
                </a:lnTo>
                <a:lnTo>
                  <a:pt x="947801" y="39623"/>
                </a:lnTo>
                <a:close/>
              </a:path>
              <a:path w="989329" h="637539">
                <a:moveTo>
                  <a:pt x="979369" y="39623"/>
                </a:moveTo>
                <a:lnTo>
                  <a:pt x="947801" y="39623"/>
                </a:lnTo>
                <a:lnTo>
                  <a:pt x="949325" y="41274"/>
                </a:lnTo>
                <a:lnTo>
                  <a:pt x="980077" y="41274"/>
                </a:lnTo>
                <a:lnTo>
                  <a:pt x="979369" y="39623"/>
                </a:lnTo>
                <a:close/>
              </a:path>
              <a:path w="989329" h="637539">
                <a:moveTo>
                  <a:pt x="40048" y="39623"/>
                </a:moveTo>
                <a:lnTo>
                  <a:pt x="39497" y="39623"/>
                </a:lnTo>
                <a:lnTo>
                  <a:pt x="38244" y="41152"/>
                </a:lnTo>
                <a:lnTo>
                  <a:pt x="40048" y="39623"/>
                </a:lnTo>
                <a:close/>
              </a:path>
              <a:path w="989329" h="637539">
                <a:moveTo>
                  <a:pt x="940790" y="33942"/>
                </a:moveTo>
                <a:lnTo>
                  <a:pt x="948803" y="40826"/>
                </a:lnTo>
                <a:lnTo>
                  <a:pt x="947801" y="39623"/>
                </a:lnTo>
                <a:lnTo>
                  <a:pt x="979369" y="39623"/>
                </a:lnTo>
                <a:lnTo>
                  <a:pt x="977464" y="35178"/>
                </a:lnTo>
                <a:lnTo>
                  <a:pt x="943229" y="35178"/>
                </a:lnTo>
                <a:lnTo>
                  <a:pt x="940790" y="33942"/>
                </a:lnTo>
                <a:close/>
              </a:path>
              <a:path w="989329" h="637539">
                <a:moveTo>
                  <a:pt x="957072" y="13842"/>
                </a:moveTo>
                <a:lnTo>
                  <a:pt x="30353" y="13842"/>
                </a:lnTo>
                <a:lnTo>
                  <a:pt x="21336" y="21335"/>
                </a:lnTo>
                <a:lnTo>
                  <a:pt x="19812" y="22859"/>
                </a:lnTo>
                <a:lnTo>
                  <a:pt x="12065" y="32003"/>
                </a:lnTo>
                <a:lnTo>
                  <a:pt x="12065" y="33527"/>
                </a:lnTo>
                <a:lnTo>
                  <a:pt x="47244" y="33527"/>
                </a:lnTo>
                <a:lnTo>
                  <a:pt x="45593" y="35178"/>
                </a:lnTo>
                <a:lnTo>
                  <a:pt x="54864" y="29082"/>
                </a:lnTo>
                <a:lnTo>
                  <a:pt x="59436" y="27431"/>
                </a:lnTo>
                <a:lnTo>
                  <a:pt x="64008" y="26034"/>
                </a:lnTo>
                <a:lnTo>
                  <a:pt x="970341" y="26034"/>
                </a:lnTo>
                <a:lnTo>
                  <a:pt x="967740" y="22859"/>
                </a:lnTo>
                <a:lnTo>
                  <a:pt x="966088" y="21335"/>
                </a:lnTo>
                <a:lnTo>
                  <a:pt x="957072" y="13842"/>
                </a:lnTo>
                <a:close/>
              </a:path>
              <a:path w="989329" h="637539">
                <a:moveTo>
                  <a:pt x="940308" y="33527"/>
                </a:moveTo>
                <a:lnTo>
                  <a:pt x="940790" y="33942"/>
                </a:lnTo>
                <a:lnTo>
                  <a:pt x="943229" y="35178"/>
                </a:lnTo>
                <a:lnTo>
                  <a:pt x="940308" y="33527"/>
                </a:lnTo>
                <a:close/>
              </a:path>
              <a:path w="989329" h="637539">
                <a:moveTo>
                  <a:pt x="976757" y="33527"/>
                </a:moveTo>
                <a:lnTo>
                  <a:pt x="940308" y="33527"/>
                </a:lnTo>
                <a:lnTo>
                  <a:pt x="943229" y="35178"/>
                </a:lnTo>
                <a:lnTo>
                  <a:pt x="977464" y="35178"/>
                </a:lnTo>
                <a:lnTo>
                  <a:pt x="976757" y="33527"/>
                </a:lnTo>
                <a:close/>
              </a:path>
              <a:path w="989329" h="637539">
                <a:moveTo>
                  <a:pt x="970341" y="26034"/>
                </a:moveTo>
                <a:lnTo>
                  <a:pt x="920496" y="26034"/>
                </a:lnTo>
                <a:lnTo>
                  <a:pt x="925068" y="27431"/>
                </a:lnTo>
                <a:lnTo>
                  <a:pt x="929640" y="27431"/>
                </a:lnTo>
                <a:lnTo>
                  <a:pt x="934212" y="30606"/>
                </a:lnTo>
                <a:lnTo>
                  <a:pt x="940790" y="33942"/>
                </a:lnTo>
                <a:lnTo>
                  <a:pt x="940308" y="33527"/>
                </a:lnTo>
                <a:lnTo>
                  <a:pt x="975233" y="33527"/>
                </a:lnTo>
                <a:lnTo>
                  <a:pt x="975233" y="32003"/>
                </a:lnTo>
                <a:lnTo>
                  <a:pt x="970341" y="26034"/>
                </a:lnTo>
                <a:close/>
              </a:path>
              <a:path w="989329" h="637539">
                <a:moveTo>
                  <a:pt x="955421" y="12191"/>
                </a:moveTo>
                <a:lnTo>
                  <a:pt x="32004" y="12191"/>
                </a:lnTo>
                <a:lnTo>
                  <a:pt x="32004" y="13842"/>
                </a:lnTo>
                <a:lnTo>
                  <a:pt x="955421" y="13842"/>
                </a:lnTo>
                <a:lnTo>
                  <a:pt x="955421" y="12191"/>
                </a:lnTo>
                <a:close/>
              </a:path>
              <a:path w="989329" h="637539">
                <a:moveTo>
                  <a:pt x="921893" y="0"/>
                </a:moveTo>
                <a:lnTo>
                  <a:pt x="73025" y="0"/>
                </a:lnTo>
                <a:lnTo>
                  <a:pt x="65532" y="1523"/>
                </a:lnTo>
                <a:lnTo>
                  <a:pt x="57912" y="1523"/>
                </a:lnTo>
                <a:lnTo>
                  <a:pt x="50165" y="4571"/>
                </a:lnTo>
                <a:lnTo>
                  <a:pt x="42672" y="6095"/>
                </a:lnTo>
                <a:lnTo>
                  <a:pt x="33401" y="12191"/>
                </a:lnTo>
                <a:lnTo>
                  <a:pt x="953897" y="12191"/>
                </a:lnTo>
                <a:lnTo>
                  <a:pt x="943229" y="6095"/>
                </a:lnTo>
                <a:lnTo>
                  <a:pt x="935736" y="3174"/>
                </a:lnTo>
                <a:lnTo>
                  <a:pt x="927988" y="1523"/>
                </a:lnTo>
                <a:lnTo>
                  <a:pt x="92189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5" name="object 99"/>
          <p:cNvSpPr/>
          <p:nvPr/>
        </p:nvSpPr>
        <p:spPr>
          <a:xfrm>
            <a:off x="7673040" y="3144240"/>
            <a:ext cx="858960" cy="5508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6" name="object 100"/>
          <p:cNvSpPr/>
          <p:nvPr/>
        </p:nvSpPr>
        <p:spPr>
          <a:xfrm>
            <a:off x="7669080" y="3140280"/>
            <a:ext cx="872640" cy="5616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1600"/>
              <a:gd name="textAreaBottom" fmla="*/ 561960 h 561600"/>
            </a:gdLst>
            <a:ahLst/>
            <a:rect l="textAreaLeft" t="textAreaTop" r="textAreaRight" b="textAreaBottom"/>
            <a:pathLst>
              <a:path w="989329" h="636904">
                <a:moveTo>
                  <a:pt x="955547" y="624840"/>
                </a:moveTo>
                <a:lnTo>
                  <a:pt x="33655" y="624840"/>
                </a:lnTo>
                <a:lnTo>
                  <a:pt x="45847" y="630936"/>
                </a:lnTo>
                <a:lnTo>
                  <a:pt x="51943" y="633857"/>
                </a:lnTo>
                <a:lnTo>
                  <a:pt x="59436" y="635508"/>
                </a:lnTo>
                <a:lnTo>
                  <a:pt x="67183" y="636905"/>
                </a:lnTo>
                <a:lnTo>
                  <a:pt x="923544" y="636905"/>
                </a:lnTo>
                <a:lnTo>
                  <a:pt x="931291" y="635508"/>
                </a:lnTo>
                <a:lnTo>
                  <a:pt x="937387" y="633857"/>
                </a:lnTo>
                <a:lnTo>
                  <a:pt x="944880" y="630936"/>
                </a:lnTo>
                <a:lnTo>
                  <a:pt x="955547" y="624840"/>
                </a:lnTo>
                <a:close/>
              </a:path>
              <a:path w="989329" h="636904">
                <a:moveTo>
                  <a:pt x="45847" y="603504"/>
                </a:moveTo>
                <a:lnTo>
                  <a:pt x="47244" y="604901"/>
                </a:lnTo>
                <a:lnTo>
                  <a:pt x="13843" y="604901"/>
                </a:lnTo>
                <a:lnTo>
                  <a:pt x="19812" y="614172"/>
                </a:lnTo>
                <a:lnTo>
                  <a:pt x="22987" y="617093"/>
                </a:lnTo>
                <a:lnTo>
                  <a:pt x="32004" y="623189"/>
                </a:lnTo>
                <a:lnTo>
                  <a:pt x="32004" y="624840"/>
                </a:lnTo>
                <a:lnTo>
                  <a:pt x="957072" y="624840"/>
                </a:lnTo>
                <a:lnTo>
                  <a:pt x="957072" y="623189"/>
                </a:lnTo>
                <a:lnTo>
                  <a:pt x="966343" y="617093"/>
                </a:lnTo>
                <a:lnTo>
                  <a:pt x="966343" y="615569"/>
                </a:lnTo>
                <a:lnTo>
                  <a:pt x="967740" y="615569"/>
                </a:lnTo>
                <a:lnTo>
                  <a:pt x="967740" y="614172"/>
                </a:lnTo>
                <a:lnTo>
                  <a:pt x="969013" y="612648"/>
                </a:lnTo>
                <a:lnTo>
                  <a:pt x="73279" y="612648"/>
                </a:lnTo>
                <a:lnTo>
                  <a:pt x="68580" y="610997"/>
                </a:lnTo>
                <a:lnTo>
                  <a:pt x="62611" y="610997"/>
                </a:lnTo>
                <a:lnTo>
                  <a:pt x="57912" y="609600"/>
                </a:lnTo>
                <a:lnTo>
                  <a:pt x="54991" y="608076"/>
                </a:lnTo>
                <a:lnTo>
                  <a:pt x="45847" y="603504"/>
                </a:lnTo>
                <a:close/>
              </a:path>
              <a:path w="989329" h="636904">
                <a:moveTo>
                  <a:pt x="943299" y="603582"/>
                </a:moveTo>
                <a:lnTo>
                  <a:pt x="932815" y="608076"/>
                </a:lnTo>
                <a:lnTo>
                  <a:pt x="928243" y="609600"/>
                </a:lnTo>
                <a:lnTo>
                  <a:pt x="923544" y="610997"/>
                </a:lnTo>
                <a:lnTo>
                  <a:pt x="918972" y="610997"/>
                </a:lnTo>
                <a:lnTo>
                  <a:pt x="914400" y="612648"/>
                </a:lnTo>
                <a:lnTo>
                  <a:pt x="969013" y="612648"/>
                </a:lnTo>
                <a:lnTo>
                  <a:pt x="975487" y="604901"/>
                </a:lnTo>
                <a:lnTo>
                  <a:pt x="941959" y="604901"/>
                </a:lnTo>
                <a:lnTo>
                  <a:pt x="943299" y="603582"/>
                </a:lnTo>
                <a:close/>
              </a:path>
              <a:path w="989329" h="636904">
                <a:moveTo>
                  <a:pt x="967740" y="21335"/>
                </a:moveTo>
                <a:lnTo>
                  <a:pt x="21336" y="21335"/>
                </a:lnTo>
                <a:lnTo>
                  <a:pt x="19812" y="22733"/>
                </a:lnTo>
                <a:lnTo>
                  <a:pt x="13843" y="32004"/>
                </a:lnTo>
                <a:lnTo>
                  <a:pt x="12319" y="32004"/>
                </a:lnTo>
                <a:lnTo>
                  <a:pt x="12319" y="33401"/>
                </a:lnTo>
                <a:lnTo>
                  <a:pt x="4572" y="45593"/>
                </a:lnTo>
                <a:lnTo>
                  <a:pt x="3048" y="51689"/>
                </a:lnTo>
                <a:lnTo>
                  <a:pt x="1651" y="59436"/>
                </a:lnTo>
                <a:lnTo>
                  <a:pt x="0" y="66929"/>
                </a:lnTo>
                <a:lnTo>
                  <a:pt x="0" y="571500"/>
                </a:lnTo>
                <a:lnTo>
                  <a:pt x="1651" y="578993"/>
                </a:lnTo>
                <a:lnTo>
                  <a:pt x="3048" y="586740"/>
                </a:lnTo>
                <a:lnTo>
                  <a:pt x="6223" y="592836"/>
                </a:lnTo>
                <a:lnTo>
                  <a:pt x="12319" y="603504"/>
                </a:lnTo>
                <a:lnTo>
                  <a:pt x="12319" y="604901"/>
                </a:lnTo>
                <a:lnTo>
                  <a:pt x="47244" y="604901"/>
                </a:lnTo>
                <a:lnTo>
                  <a:pt x="39804" y="598805"/>
                </a:lnTo>
                <a:lnTo>
                  <a:pt x="38100" y="597408"/>
                </a:lnTo>
                <a:lnTo>
                  <a:pt x="38567" y="597408"/>
                </a:lnTo>
                <a:lnTo>
                  <a:pt x="32004" y="589661"/>
                </a:lnTo>
                <a:lnTo>
                  <a:pt x="32947" y="589661"/>
                </a:lnTo>
                <a:lnTo>
                  <a:pt x="29083" y="580644"/>
                </a:lnTo>
                <a:lnTo>
                  <a:pt x="27559" y="577469"/>
                </a:lnTo>
                <a:lnTo>
                  <a:pt x="25908" y="572897"/>
                </a:lnTo>
                <a:lnTo>
                  <a:pt x="25908" y="568325"/>
                </a:lnTo>
                <a:lnTo>
                  <a:pt x="24511" y="562229"/>
                </a:lnTo>
                <a:lnTo>
                  <a:pt x="24511" y="73025"/>
                </a:lnTo>
                <a:lnTo>
                  <a:pt x="25908" y="68580"/>
                </a:lnTo>
                <a:lnTo>
                  <a:pt x="25908" y="64008"/>
                </a:lnTo>
                <a:lnTo>
                  <a:pt x="27559" y="59436"/>
                </a:lnTo>
                <a:lnTo>
                  <a:pt x="29083" y="54737"/>
                </a:lnTo>
                <a:lnTo>
                  <a:pt x="32829" y="47244"/>
                </a:lnTo>
                <a:lnTo>
                  <a:pt x="32004" y="47244"/>
                </a:lnTo>
                <a:lnTo>
                  <a:pt x="39751" y="38100"/>
                </a:lnTo>
                <a:lnTo>
                  <a:pt x="41697" y="38100"/>
                </a:lnTo>
                <a:lnTo>
                  <a:pt x="47244" y="33401"/>
                </a:lnTo>
                <a:lnTo>
                  <a:pt x="48514" y="33401"/>
                </a:lnTo>
                <a:lnTo>
                  <a:pt x="56515" y="28829"/>
                </a:lnTo>
                <a:lnTo>
                  <a:pt x="59436" y="27305"/>
                </a:lnTo>
                <a:lnTo>
                  <a:pt x="64008" y="25908"/>
                </a:lnTo>
                <a:lnTo>
                  <a:pt x="970393" y="25908"/>
                </a:lnTo>
                <a:lnTo>
                  <a:pt x="967740" y="22733"/>
                </a:lnTo>
                <a:lnTo>
                  <a:pt x="967740" y="21335"/>
                </a:lnTo>
                <a:close/>
              </a:path>
              <a:path w="989329" h="636904">
                <a:moveTo>
                  <a:pt x="943483" y="603504"/>
                </a:moveTo>
                <a:lnTo>
                  <a:pt x="943299" y="603582"/>
                </a:lnTo>
                <a:lnTo>
                  <a:pt x="941959" y="604901"/>
                </a:lnTo>
                <a:lnTo>
                  <a:pt x="943483" y="603504"/>
                </a:lnTo>
                <a:close/>
              </a:path>
              <a:path w="989329" h="636904">
                <a:moveTo>
                  <a:pt x="977011" y="603504"/>
                </a:moveTo>
                <a:lnTo>
                  <a:pt x="943483" y="603504"/>
                </a:lnTo>
                <a:lnTo>
                  <a:pt x="941959" y="604901"/>
                </a:lnTo>
                <a:lnTo>
                  <a:pt x="977011" y="604901"/>
                </a:lnTo>
                <a:lnTo>
                  <a:pt x="977011" y="603504"/>
                </a:lnTo>
                <a:close/>
              </a:path>
              <a:path w="989329" h="636904">
                <a:moveTo>
                  <a:pt x="979995" y="597408"/>
                </a:moveTo>
                <a:lnTo>
                  <a:pt x="949579" y="597408"/>
                </a:lnTo>
                <a:lnTo>
                  <a:pt x="943299" y="603582"/>
                </a:lnTo>
                <a:lnTo>
                  <a:pt x="943483" y="603504"/>
                </a:lnTo>
                <a:lnTo>
                  <a:pt x="977011" y="603504"/>
                </a:lnTo>
                <a:lnTo>
                  <a:pt x="979995" y="597408"/>
                </a:lnTo>
                <a:close/>
              </a:path>
              <a:path w="989329" h="636904">
                <a:moveTo>
                  <a:pt x="38100" y="597408"/>
                </a:moveTo>
                <a:lnTo>
                  <a:pt x="39751" y="598805"/>
                </a:lnTo>
                <a:lnTo>
                  <a:pt x="39628" y="598660"/>
                </a:lnTo>
                <a:lnTo>
                  <a:pt x="38100" y="597408"/>
                </a:lnTo>
                <a:close/>
              </a:path>
              <a:path w="989329" h="636904">
                <a:moveTo>
                  <a:pt x="39628" y="598660"/>
                </a:moveTo>
                <a:lnTo>
                  <a:pt x="39751" y="598805"/>
                </a:lnTo>
                <a:lnTo>
                  <a:pt x="39628" y="598660"/>
                </a:lnTo>
                <a:close/>
              </a:path>
              <a:path w="989329" h="636904">
                <a:moveTo>
                  <a:pt x="983822" y="589661"/>
                </a:moveTo>
                <a:lnTo>
                  <a:pt x="955547" y="589661"/>
                </a:lnTo>
                <a:lnTo>
                  <a:pt x="948055" y="598805"/>
                </a:lnTo>
                <a:lnTo>
                  <a:pt x="949579" y="597408"/>
                </a:lnTo>
                <a:lnTo>
                  <a:pt x="979995" y="597408"/>
                </a:lnTo>
                <a:lnTo>
                  <a:pt x="982980" y="591312"/>
                </a:lnTo>
                <a:lnTo>
                  <a:pt x="983822" y="589661"/>
                </a:lnTo>
                <a:close/>
              </a:path>
              <a:path w="989329" h="636904">
                <a:moveTo>
                  <a:pt x="38567" y="597408"/>
                </a:moveTo>
                <a:lnTo>
                  <a:pt x="38100" y="597408"/>
                </a:lnTo>
                <a:lnTo>
                  <a:pt x="39628" y="598660"/>
                </a:lnTo>
                <a:lnTo>
                  <a:pt x="38567" y="597408"/>
                </a:lnTo>
                <a:close/>
              </a:path>
              <a:path w="989329" h="636904">
                <a:moveTo>
                  <a:pt x="32947" y="589661"/>
                </a:moveTo>
                <a:lnTo>
                  <a:pt x="32004" y="589661"/>
                </a:lnTo>
                <a:lnTo>
                  <a:pt x="33655" y="591312"/>
                </a:lnTo>
                <a:lnTo>
                  <a:pt x="32947" y="589661"/>
                </a:lnTo>
                <a:close/>
              </a:path>
              <a:path w="989329" h="636904">
                <a:moveTo>
                  <a:pt x="954151" y="45593"/>
                </a:moveTo>
                <a:lnTo>
                  <a:pt x="960247" y="56261"/>
                </a:lnTo>
                <a:lnTo>
                  <a:pt x="961644" y="59436"/>
                </a:lnTo>
                <a:lnTo>
                  <a:pt x="963168" y="64007"/>
                </a:lnTo>
                <a:lnTo>
                  <a:pt x="963168" y="568325"/>
                </a:lnTo>
                <a:lnTo>
                  <a:pt x="961644" y="572897"/>
                </a:lnTo>
                <a:lnTo>
                  <a:pt x="961644" y="578993"/>
                </a:lnTo>
                <a:lnTo>
                  <a:pt x="958722" y="582168"/>
                </a:lnTo>
                <a:lnTo>
                  <a:pt x="954151" y="591312"/>
                </a:lnTo>
                <a:lnTo>
                  <a:pt x="955547" y="589661"/>
                </a:lnTo>
                <a:lnTo>
                  <a:pt x="983822" y="589661"/>
                </a:lnTo>
                <a:lnTo>
                  <a:pt x="986155" y="585089"/>
                </a:lnTo>
                <a:lnTo>
                  <a:pt x="987679" y="577469"/>
                </a:lnTo>
                <a:lnTo>
                  <a:pt x="989076" y="569976"/>
                </a:lnTo>
                <a:lnTo>
                  <a:pt x="989076" y="65405"/>
                </a:lnTo>
                <a:lnTo>
                  <a:pt x="987679" y="57912"/>
                </a:lnTo>
                <a:lnTo>
                  <a:pt x="984504" y="51689"/>
                </a:lnTo>
                <a:lnTo>
                  <a:pt x="983615" y="47244"/>
                </a:lnTo>
                <a:lnTo>
                  <a:pt x="955547" y="47244"/>
                </a:lnTo>
                <a:lnTo>
                  <a:pt x="954151" y="45593"/>
                </a:lnTo>
                <a:close/>
              </a:path>
              <a:path w="989329" h="636904">
                <a:moveTo>
                  <a:pt x="33655" y="45593"/>
                </a:moveTo>
                <a:lnTo>
                  <a:pt x="32004" y="47244"/>
                </a:lnTo>
                <a:lnTo>
                  <a:pt x="32829" y="47244"/>
                </a:lnTo>
                <a:lnTo>
                  <a:pt x="33655" y="45593"/>
                </a:lnTo>
                <a:close/>
              </a:path>
              <a:path w="989329" h="636904">
                <a:moveTo>
                  <a:pt x="948477" y="38616"/>
                </a:moveTo>
                <a:lnTo>
                  <a:pt x="955547" y="47244"/>
                </a:lnTo>
                <a:lnTo>
                  <a:pt x="983615" y="47244"/>
                </a:lnTo>
                <a:lnTo>
                  <a:pt x="982980" y="44069"/>
                </a:lnTo>
                <a:lnTo>
                  <a:pt x="980421" y="39497"/>
                </a:lnTo>
                <a:lnTo>
                  <a:pt x="949579" y="39497"/>
                </a:lnTo>
                <a:lnTo>
                  <a:pt x="948477" y="38616"/>
                </a:lnTo>
                <a:close/>
              </a:path>
              <a:path w="989329" h="636904">
                <a:moveTo>
                  <a:pt x="41697" y="38100"/>
                </a:moveTo>
                <a:lnTo>
                  <a:pt x="39751" y="38100"/>
                </a:lnTo>
                <a:lnTo>
                  <a:pt x="38100" y="41148"/>
                </a:lnTo>
                <a:lnTo>
                  <a:pt x="41697" y="38100"/>
                </a:lnTo>
                <a:close/>
              </a:path>
              <a:path w="989329" h="636904">
                <a:moveTo>
                  <a:pt x="948055" y="38100"/>
                </a:moveTo>
                <a:lnTo>
                  <a:pt x="948477" y="38616"/>
                </a:lnTo>
                <a:lnTo>
                  <a:pt x="949579" y="39497"/>
                </a:lnTo>
                <a:lnTo>
                  <a:pt x="948055" y="38100"/>
                </a:lnTo>
                <a:close/>
              </a:path>
              <a:path w="989329" h="636904">
                <a:moveTo>
                  <a:pt x="979640" y="38100"/>
                </a:moveTo>
                <a:lnTo>
                  <a:pt x="948055" y="38100"/>
                </a:lnTo>
                <a:lnTo>
                  <a:pt x="949579" y="39497"/>
                </a:lnTo>
                <a:lnTo>
                  <a:pt x="980421" y="39497"/>
                </a:lnTo>
                <a:lnTo>
                  <a:pt x="979640" y="38100"/>
                </a:lnTo>
                <a:close/>
              </a:path>
              <a:path w="989329" h="636904">
                <a:moveTo>
                  <a:pt x="977011" y="33401"/>
                </a:moveTo>
                <a:lnTo>
                  <a:pt x="941959" y="33401"/>
                </a:lnTo>
                <a:lnTo>
                  <a:pt x="948477" y="38616"/>
                </a:lnTo>
                <a:lnTo>
                  <a:pt x="948055" y="38100"/>
                </a:lnTo>
                <a:lnTo>
                  <a:pt x="979640" y="38100"/>
                </a:lnTo>
                <a:lnTo>
                  <a:pt x="977011" y="33401"/>
                </a:lnTo>
                <a:close/>
              </a:path>
              <a:path w="989329" h="636904">
                <a:moveTo>
                  <a:pt x="48514" y="33401"/>
                </a:moveTo>
                <a:lnTo>
                  <a:pt x="47244" y="33401"/>
                </a:lnTo>
                <a:lnTo>
                  <a:pt x="45847" y="34925"/>
                </a:lnTo>
                <a:lnTo>
                  <a:pt x="48514" y="33401"/>
                </a:lnTo>
                <a:close/>
              </a:path>
              <a:path w="989329" h="636904">
                <a:moveTo>
                  <a:pt x="970393" y="25908"/>
                </a:moveTo>
                <a:lnTo>
                  <a:pt x="925068" y="25908"/>
                </a:lnTo>
                <a:lnTo>
                  <a:pt x="929640" y="27305"/>
                </a:lnTo>
                <a:lnTo>
                  <a:pt x="934212" y="28829"/>
                </a:lnTo>
                <a:lnTo>
                  <a:pt x="943483" y="34925"/>
                </a:lnTo>
                <a:lnTo>
                  <a:pt x="941959" y="33401"/>
                </a:lnTo>
                <a:lnTo>
                  <a:pt x="977011" y="33401"/>
                </a:lnTo>
                <a:lnTo>
                  <a:pt x="975487" y="32004"/>
                </a:lnTo>
                <a:lnTo>
                  <a:pt x="970393" y="25908"/>
                </a:lnTo>
                <a:close/>
              </a:path>
              <a:path w="989329" h="636904">
                <a:moveTo>
                  <a:pt x="957072" y="12065"/>
                </a:moveTo>
                <a:lnTo>
                  <a:pt x="32004" y="12065"/>
                </a:lnTo>
                <a:lnTo>
                  <a:pt x="32004" y="13589"/>
                </a:lnTo>
                <a:lnTo>
                  <a:pt x="22987" y="21335"/>
                </a:lnTo>
                <a:lnTo>
                  <a:pt x="966343" y="21335"/>
                </a:lnTo>
                <a:lnTo>
                  <a:pt x="957072" y="13589"/>
                </a:lnTo>
                <a:lnTo>
                  <a:pt x="957072" y="12065"/>
                </a:lnTo>
                <a:close/>
              </a:path>
              <a:path w="989329" h="636904">
                <a:moveTo>
                  <a:pt x="922147" y="0"/>
                </a:moveTo>
                <a:lnTo>
                  <a:pt x="65659" y="0"/>
                </a:lnTo>
                <a:lnTo>
                  <a:pt x="57912" y="1397"/>
                </a:lnTo>
                <a:lnTo>
                  <a:pt x="50419" y="3048"/>
                </a:lnTo>
                <a:lnTo>
                  <a:pt x="44323" y="5968"/>
                </a:lnTo>
                <a:lnTo>
                  <a:pt x="33655" y="12065"/>
                </a:lnTo>
                <a:lnTo>
                  <a:pt x="955547" y="12065"/>
                </a:lnTo>
                <a:lnTo>
                  <a:pt x="943483" y="5968"/>
                </a:lnTo>
                <a:lnTo>
                  <a:pt x="935736" y="3048"/>
                </a:lnTo>
                <a:lnTo>
                  <a:pt x="929640" y="1397"/>
                </a:lnTo>
                <a:lnTo>
                  <a:pt x="922147" y="0"/>
                </a:lnTo>
                <a:close/>
              </a:path>
            </a:pathLst>
          </a:custGeom>
          <a:solidFill>
            <a:srgbClr val="9bb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7" name="object 101"/>
          <p:cNvSpPr/>
          <p:nvPr/>
        </p:nvSpPr>
        <p:spPr>
          <a:xfrm>
            <a:off x="7799040" y="3252600"/>
            <a:ext cx="6120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080"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58.5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ject 102"/>
          <p:cNvSpPr/>
          <p:nvPr/>
        </p:nvSpPr>
        <p:spPr>
          <a:xfrm>
            <a:off x="7585560" y="3848760"/>
            <a:ext cx="849600" cy="851400"/>
          </a:xfrm>
          <a:custGeom>
            <a:avLst/>
            <a:gdLst>
              <a:gd name="textAreaLeft" fmla="*/ 0 w 849600"/>
              <a:gd name="textAreaRight" fmla="*/ 849960 w 849600"/>
              <a:gd name="textAreaTop" fmla="*/ 0 h 851400"/>
              <a:gd name="textAreaBottom" fmla="*/ 851760 h 851400"/>
            </a:gdLst>
            <a:ahLst/>
            <a:rect l="textAreaLeft" t="textAreaTop" r="textAreaRight" b="textAreaBottom"/>
            <a:pathLst>
              <a:path w="963295" h="965200">
                <a:moveTo>
                  <a:pt x="867156" y="0"/>
                </a:moveTo>
                <a:lnTo>
                  <a:pt x="96139" y="0"/>
                </a:lnTo>
                <a:lnTo>
                  <a:pt x="58614" y="7481"/>
                </a:lnTo>
                <a:lnTo>
                  <a:pt x="28067" y="27940"/>
                </a:lnTo>
                <a:lnTo>
                  <a:pt x="7520" y="58400"/>
                </a:lnTo>
                <a:lnTo>
                  <a:pt x="0" y="95885"/>
                </a:lnTo>
                <a:lnTo>
                  <a:pt x="0" y="868553"/>
                </a:lnTo>
                <a:lnTo>
                  <a:pt x="7520" y="906131"/>
                </a:lnTo>
                <a:lnTo>
                  <a:pt x="28067" y="936672"/>
                </a:lnTo>
                <a:lnTo>
                  <a:pt x="58614" y="957189"/>
                </a:lnTo>
                <a:lnTo>
                  <a:pt x="96139" y="964692"/>
                </a:lnTo>
                <a:lnTo>
                  <a:pt x="867156" y="964692"/>
                </a:lnTo>
                <a:lnTo>
                  <a:pt x="904660" y="957189"/>
                </a:lnTo>
                <a:lnTo>
                  <a:pt x="935164" y="936672"/>
                </a:lnTo>
                <a:lnTo>
                  <a:pt x="955667" y="906131"/>
                </a:lnTo>
                <a:lnTo>
                  <a:pt x="963168" y="868553"/>
                </a:lnTo>
                <a:lnTo>
                  <a:pt x="963168" y="95885"/>
                </a:lnTo>
                <a:lnTo>
                  <a:pt x="955667" y="58400"/>
                </a:lnTo>
                <a:lnTo>
                  <a:pt x="935164" y="27940"/>
                </a:lnTo>
                <a:lnTo>
                  <a:pt x="904660" y="7481"/>
                </a:lnTo>
                <a:lnTo>
                  <a:pt x="867156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9" name="object 103"/>
          <p:cNvSpPr/>
          <p:nvPr/>
        </p:nvSpPr>
        <p:spPr>
          <a:xfrm>
            <a:off x="7575120" y="3837960"/>
            <a:ext cx="872640" cy="872640"/>
          </a:xfrm>
          <a:custGeom>
            <a:avLst/>
            <a:gdLst>
              <a:gd name="textAreaLeft" fmla="*/ 0 w 872640"/>
              <a:gd name="textAreaRight" fmla="*/ 873000 w 872640"/>
              <a:gd name="textAreaTop" fmla="*/ 0 h 872640"/>
              <a:gd name="textAreaBottom" fmla="*/ 873000 h 872640"/>
            </a:gdLst>
            <a:ahLst/>
            <a:rect l="textAreaLeft" t="textAreaTop" r="textAreaRight" b="textAreaBottom"/>
            <a:pathLst>
              <a:path w="989329" h="989329">
                <a:moveTo>
                  <a:pt x="889888" y="0"/>
                </a:moveTo>
                <a:lnTo>
                  <a:pt x="96012" y="0"/>
                </a:lnTo>
                <a:lnTo>
                  <a:pt x="85344" y="1651"/>
                </a:lnTo>
                <a:lnTo>
                  <a:pt x="74676" y="4572"/>
                </a:lnTo>
                <a:lnTo>
                  <a:pt x="65532" y="7747"/>
                </a:lnTo>
                <a:lnTo>
                  <a:pt x="56261" y="13843"/>
                </a:lnTo>
                <a:lnTo>
                  <a:pt x="47244" y="18415"/>
                </a:lnTo>
                <a:lnTo>
                  <a:pt x="18161" y="48768"/>
                </a:lnTo>
                <a:lnTo>
                  <a:pt x="1397" y="86868"/>
                </a:lnTo>
                <a:lnTo>
                  <a:pt x="0" y="97536"/>
                </a:lnTo>
                <a:lnTo>
                  <a:pt x="0" y="891540"/>
                </a:lnTo>
                <a:lnTo>
                  <a:pt x="1396" y="903732"/>
                </a:lnTo>
                <a:lnTo>
                  <a:pt x="4572" y="912876"/>
                </a:lnTo>
                <a:lnTo>
                  <a:pt x="7493" y="923671"/>
                </a:lnTo>
                <a:lnTo>
                  <a:pt x="12065" y="932815"/>
                </a:lnTo>
                <a:lnTo>
                  <a:pt x="18161" y="941832"/>
                </a:lnTo>
                <a:lnTo>
                  <a:pt x="24257" y="950976"/>
                </a:lnTo>
                <a:lnTo>
                  <a:pt x="56261" y="977011"/>
                </a:lnTo>
                <a:lnTo>
                  <a:pt x="97536" y="989076"/>
                </a:lnTo>
                <a:lnTo>
                  <a:pt x="891540" y="989076"/>
                </a:lnTo>
                <a:lnTo>
                  <a:pt x="902208" y="987679"/>
                </a:lnTo>
                <a:lnTo>
                  <a:pt x="912876" y="984504"/>
                </a:lnTo>
                <a:lnTo>
                  <a:pt x="921893" y="981583"/>
                </a:lnTo>
                <a:lnTo>
                  <a:pt x="931163" y="975360"/>
                </a:lnTo>
                <a:lnTo>
                  <a:pt x="940308" y="970915"/>
                </a:lnTo>
                <a:lnTo>
                  <a:pt x="949325" y="964819"/>
                </a:lnTo>
                <a:lnTo>
                  <a:pt x="108204" y="964819"/>
                </a:lnTo>
                <a:lnTo>
                  <a:pt x="91440" y="961771"/>
                </a:lnTo>
                <a:lnTo>
                  <a:pt x="54864" y="945007"/>
                </a:lnTo>
                <a:lnTo>
                  <a:pt x="34925" y="920496"/>
                </a:lnTo>
                <a:lnTo>
                  <a:pt x="30353" y="912876"/>
                </a:lnTo>
                <a:lnTo>
                  <a:pt x="27432" y="905383"/>
                </a:lnTo>
                <a:lnTo>
                  <a:pt x="25908" y="896239"/>
                </a:lnTo>
                <a:lnTo>
                  <a:pt x="24257" y="888619"/>
                </a:lnTo>
                <a:lnTo>
                  <a:pt x="24257" y="99060"/>
                </a:lnTo>
                <a:lnTo>
                  <a:pt x="25908" y="91440"/>
                </a:lnTo>
                <a:lnTo>
                  <a:pt x="28829" y="82296"/>
                </a:lnTo>
                <a:lnTo>
                  <a:pt x="32004" y="76200"/>
                </a:lnTo>
                <a:lnTo>
                  <a:pt x="34925" y="68707"/>
                </a:lnTo>
                <a:lnTo>
                  <a:pt x="62357" y="39751"/>
                </a:lnTo>
                <a:lnTo>
                  <a:pt x="68453" y="35179"/>
                </a:lnTo>
                <a:lnTo>
                  <a:pt x="76200" y="32004"/>
                </a:lnTo>
                <a:lnTo>
                  <a:pt x="83693" y="29083"/>
                </a:lnTo>
                <a:lnTo>
                  <a:pt x="91440" y="25908"/>
                </a:lnTo>
                <a:lnTo>
                  <a:pt x="100457" y="25908"/>
                </a:lnTo>
                <a:lnTo>
                  <a:pt x="108204" y="24511"/>
                </a:lnTo>
                <a:lnTo>
                  <a:pt x="947801" y="24511"/>
                </a:lnTo>
                <a:lnTo>
                  <a:pt x="911225" y="4572"/>
                </a:lnTo>
                <a:lnTo>
                  <a:pt x="900557" y="1651"/>
                </a:lnTo>
                <a:lnTo>
                  <a:pt x="889888" y="0"/>
                </a:lnTo>
                <a:close/>
              </a:path>
              <a:path w="989329" h="989329">
                <a:moveTo>
                  <a:pt x="947801" y="24511"/>
                </a:moveTo>
                <a:lnTo>
                  <a:pt x="879221" y="24511"/>
                </a:lnTo>
                <a:lnTo>
                  <a:pt x="888365" y="25908"/>
                </a:lnTo>
                <a:lnTo>
                  <a:pt x="896112" y="27432"/>
                </a:lnTo>
                <a:lnTo>
                  <a:pt x="905129" y="29083"/>
                </a:lnTo>
                <a:lnTo>
                  <a:pt x="912876" y="32004"/>
                </a:lnTo>
                <a:lnTo>
                  <a:pt x="920496" y="35179"/>
                </a:lnTo>
                <a:lnTo>
                  <a:pt x="926465" y="39751"/>
                </a:lnTo>
                <a:lnTo>
                  <a:pt x="932561" y="44196"/>
                </a:lnTo>
                <a:lnTo>
                  <a:pt x="938657" y="50419"/>
                </a:lnTo>
                <a:lnTo>
                  <a:pt x="944753" y="56515"/>
                </a:lnTo>
                <a:lnTo>
                  <a:pt x="949325" y="62611"/>
                </a:lnTo>
                <a:lnTo>
                  <a:pt x="952500" y="68707"/>
                </a:lnTo>
                <a:lnTo>
                  <a:pt x="957072" y="76200"/>
                </a:lnTo>
                <a:lnTo>
                  <a:pt x="959993" y="83947"/>
                </a:lnTo>
                <a:lnTo>
                  <a:pt x="961644" y="92964"/>
                </a:lnTo>
                <a:lnTo>
                  <a:pt x="963168" y="100711"/>
                </a:lnTo>
                <a:lnTo>
                  <a:pt x="963168" y="890143"/>
                </a:lnTo>
                <a:lnTo>
                  <a:pt x="961644" y="897636"/>
                </a:lnTo>
                <a:lnTo>
                  <a:pt x="958596" y="906907"/>
                </a:lnTo>
                <a:lnTo>
                  <a:pt x="955421" y="912876"/>
                </a:lnTo>
                <a:lnTo>
                  <a:pt x="952500" y="920496"/>
                </a:lnTo>
                <a:lnTo>
                  <a:pt x="947801" y="928243"/>
                </a:lnTo>
                <a:lnTo>
                  <a:pt x="943229" y="934339"/>
                </a:lnTo>
                <a:lnTo>
                  <a:pt x="938657" y="940308"/>
                </a:lnTo>
                <a:lnTo>
                  <a:pt x="932561" y="945007"/>
                </a:lnTo>
                <a:lnTo>
                  <a:pt x="925068" y="950976"/>
                </a:lnTo>
                <a:lnTo>
                  <a:pt x="918972" y="954151"/>
                </a:lnTo>
                <a:lnTo>
                  <a:pt x="911225" y="957072"/>
                </a:lnTo>
                <a:lnTo>
                  <a:pt x="903732" y="960247"/>
                </a:lnTo>
                <a:lnTo>
                  <a:pt x="896112" y="963168"/>
                </a:lnTo>
                <a:lnTo>
                  <a:pt x="886968" y="963168"/>
                </a:lnTo>
                <a:lnTo>
                  <a:pt x="879221" y="964819"/>
                </a:lnTo>
                <a:lnTo>
                  <a:pt x="949325" y="964819"/>
                </a:lnTo>
                <a:lnTo>
                  <a:pt x="957072" y="957072"/>
                </a:lnTo>
                <a:lnTo>
                  <a:pt x="970661" y="940308"/>
                </a:lnTo>
                <a:lnTo>
                  <a:pt x="975233" y="931164"/>
                </a:lnTo>
                <a:lnTo>
                  <a:pt x="979932" y="922147"/>
                </a:lnTo>
                <a:lnTo>
                  <a:pt x="982853" y="912876"/>
                </a:lnTo>
                <a:lnTo>
                  <a:pt x="985901" y="902208"/>
                </a:lnTo>
                <a:lnTo>
                  <a:pt x="987425" y="891540"/>
                </a:lnTo>
                <a:lnTo>
                  <a:pt x="989076" y="880872"/>
                </a:lnTo>
                <a:lnTo>
                  <a:pt x="989076" y="108204"/>
                </a:lnTo>
                <a:lnTo>
                  <a:pt x="987425" y="97536"/>
                </a:lnTo>
                <a:lnTo>
                  <a:pt x="985901" y="85471"/>
                </a:lnTo>
                <a:lnTo>
                  <a:pt x="982853" y="76200"/>
                </a:lnTo>
                <a:lnTo>
                  <a:pt x="979932" y="65532"/>
                </a:lnTo>
                <a:lnTo>
                  <a:pt x="975233" y="56515"/>
                </a:lnTo>
                <a:lnTo>
                  <a:pt x="969263" y="47371"/>
                </a:lnTo>
                <a:lnTo>
                  <a:pt x="963168" y="38100"/>
                </a:lnTo>
                <a:lnTo>
                  <a:pt x="955421" y="30607"/>
                </a:lnTo>
                <a:lnTo>
                  <a:pt x="947801" y="245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0" name="object 104"/>
          <p:cNvSpPr/>
          <p:nvPr/>
        </p:nvSpPr>
        <p:spPr>
          <a:xfrm>
            <a:off x="7673040" y="3932280"/>
            <a:ext cx="858960" cy="86292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1" name="object 105"/>
          <p:cNvSpPr/>
          <p:nvPr/>
        </p:nvSpPr>
        <p:spPr>
          <a:xfrm>
            <a:off x="7669080" y="3926880"/>
            <a:ext cx="872640" cy="873720"/>
          </a:xfrm>
          <a:custGeom>
            <a:avLst/>
            <a:gdLst>
              <a:gd name="textAreaLeft" fmla="*/ 0 w 872640"/>
              <a:gd name="textAreaRight" fmla="*/ 873000 w 872640"/>
              <a:gd name="textAreaTop" fmla="*/ 0 h 873720"/>
              <a:gd name="textAreaBottom" fmla="*/ 874080 h 873720"/>
            </a:gdLst>
            <a:ahLst/>
            <a:rect l="textAreaLeft" t="textAreaTop" r="textAreaRight" b="textAreaBottom"/>
            <a:pathLst>
              <a:path w="989329" h="990600">
                <a:moveTo>
                  <a:pt x="879347" y="0"/>
                </a:moveTo>
                <a:lnTo>
                  <a:pt x="108204" y="0"/>
                </a:lnTo>
                <a:lnTo>
                  <a:pt x="97536" y="1397"/>
                </a:lnTo>
                <a:lnTo>
                  <a:pt x="86868" y="2921"/>
                </a:lnTo>
                <a:lnTo>
                  <a:pt x="76200" y="6096"/>
                </a:lnTo>
                <a:lnTo>
                  <a:pt x="65659" y="9017"/>
                </a:lnTo>
                <a:lnTo>
                  <a:pt x="30480" y="33528"/>
                </a:lnTo>
                <a:lnTo>
                  <a:pt x="7747" y="66929"/>
                </a:lnTo>
                <a:lnTo>
                  <a:pt x="0" y="99060"/>
                </a:lnTo>
                <a:lnTo>
                  <a:pt x="0" y="893064"/>
                </a:lnTo>
                <a:lnTo>
                  <a:pt x="1651" y="903732"/>
                </a:lnTo>
                <a:lnTo>
                  <a:pt x="4572" y="914400"/>
                </a:lnTo>
                <a:lnTo>
                  <a:pt x="9144" y="925068"/>
                </a:lnTo>
                <a:lnTo>
                  <a:pt x="13843" y="934085"/>
                </a:lnTo>
                <a:lnTo>
                  <a:pt x="18415" y="943229"/>
                </a:lnTo>
                <a:lnTo>
                  <a:pt x="57912" y="978408"/>
                </a:lnTo>
                <a:lnTo>
                  <a:pt x="77851" y="986028"/>
                </a:lnTo>
                <a:lnTo>
                  <a:pt x="86868" y="988949"/>
                </a:lnTo>
                <a:lnTo>
                  <a:pt x="99187" y="990600"/>
                </a:lnTo>
                <a:lnTo>
                  <a:pt x="891540" y="990600"/>
                </a:lnTo>
                <a:lnTo>
                  <a:pt x="902208" y="988949"/>
                </a:lnTo>
                <a:lnTo>
                  <a:pt x="912876" y="986028"/>
                </a:lnTo>
                <a:lnTo>
                  <a:pt x="922147" y="981329"/>
                </a:lnTo>
                <a:lnTo>
                  <a:pt x="932815" y="976757"/>
                </a:lnTo>
                <a:lnTo>
                  <a:pt x="941959" y="972185"/>
                </a:lnTo>
                <a:lnTo>
                  <a:pt x="949579" y="964565"/>
                </a:lnTo>
                <a:lnTo>
                  <a:pt x="99187" y="964565"/>
                </a:lnTo>
                <a:lnTo>
                  <a:pt x="91440" y="963168"/>
                </a:lnTo>
                <a:lnTo>
                  <a:pt x="54991" y="946404"/>
                </a:lnTo>
                <a:lnTo>
                  <a:pt x="44323" y="934085"/>
                </a:lnTo>
                <a:lnTo>
                  <a:pt x="39751" y="927989"/>
                </a:lnTo>
                <a:lnTo>
                  <a:pt x="35179" y="920496"/>
                </a:lnTo>
                <a:lnTo>
                  <a:pt x="32004" y="914400"/>
                </a:lnTo>
                <a:lnTo>
                  <a:pt x="29083" y="905129"/>
                </a:lnTo>
                <a:lnTo>
                  <a:pt x="27559" y="897636"/>
                </a:lnTo>
                <a:lnTo>
                  <a:pt x="25908" y="889889"/>
                </a:lnTo>
                <a:lnTo>
                  <a:pt x="24511" y="880872"/>
                </a:lnTo>
                <a:lnTo>
                  <a:pt x="24511" y="109728"/>
                </a:lnTo>
                <a:lnTo>
                  <a:pt x="25908" y="100457"/>
                </a:lnTo>
                <a:lnTo>
                  <a:pt x="27559" y="92964"/>
                </a:lnTo>
                <a:lnTo>
                  <a:pt x="29083" y="83693"/>
                </a:lnTo>
                <a:lnTo>
                  <a:pt x="50419" y="50165"/>
                </a:lnTo>
                <a:lnTo>
                  <a:pt x="83947" y="28829"/>
                </a:lnTo>
                <a:lnTo>
                  <a:pt x="93091" y="27432"/>
                </a:lnTo>
                <a:lnTo>
                  <a:pt x="100711" y="25908"/>
                </a:lnTo>
                <a:lnTo>
                  <a:pt x="949976" y="25908"/>
                </a:lnTo>
                <a:lnTo>
                  <a:pt x="948055" y="24257"/>
                </a:lnTo>
                <a:lnTo>
                  <a:pt x="911479" y="4572"/>
                </a:lnTo>
                <a:lnTo>
                  <a:pt x="890143" y="1397"/>
                </a:lnTo>
                <a:lnTo>
                  <a:pt x="879347" y="0"/>
                </a:lnTo>
                <a:close/>
              </a:path>
              <a:path w="989329" h="990600">
                <a:moveTo>
                  <a:pt x="949976" y="25908"/>
                </a:moveTo>
                <a:lnTo>
                  <a:pt x="888619" y="25908"/>
                </a:lnTo>
                <a:lnTo>
                  <a:pt x="897636" y="27432"/>
                </a:lnTo>
                <a:lnTo>
                  <a:pt x="905383" y="30353"/>
                </a:lnTo>
                <a:lnTo>
                  <a:pt x="912876" y="33528"/>
                </a:lnTo>
                <a:lnTo>
                  <a:pt x="920622" y="36449"/>
                </a:lnTo>
                <a:lnTo>
                  <a:pt x="926719" y="41021"/>
                </a:lnTo>
                <a:lnTo>
                  <a:pt x="934212" y="45593"/>
                </a:lnTo>
                <a:lnTo>
                  <a:pt x="938911" y="50165"/>
                </a:lnTo>
                <a:lnTo>
                  <a:pt x="944880" y="56261"/>
                </a:lnTo>
                <a:lnTo>
                  <a:pt x="949579" y="64008"/>
                </a:lnTo>
                <a:lnTo>
                  <a:pt x="954151" y="70104"/>
                </a:lnTo>
                <a:lnTo>
                  <a:pt x="957072" y="77597"/>
                </a:lnTo>
                <a:lnTo>
                  <a:pt x="960247" y="85217"/>
                </a:lnTo>
                <a:lnTo>
                  <a:pt x="961644" y="92964"/>
                </a:lnTo>
                <a:lnTo>
                  <a:pt x="963168" y="102108"/>
                </a:lnTo>
                <a:lnTo>
                  <a:pt x="963168" y="891540"/>
                </a:lnTo>
                <a:lnTo>
                  <a:pt x="961644" y="899160"/>
                </a:lnTo>
                <a:lnTo>
                  <a:pt x="960247" y="906653"/>
                </a:lnTo>
                <a:lnTo>
                  <a:pt x="957072" y="914400"/>
                </a:lnTo>
                <a:lnTo>
                  <a:pt x="952500" y="921893"/>
                </a:lnTo>
                <a:lnTo>
                  <a:pt x="949579" y="929640"/>
                </a:lnTo>
                <a:lnTo>
                  <a:pt x="943483" y="935736"/>
                </a:lnTo>
                <a:lnTo>
                  <a:pt x="938911" y="941832"/>
                </a:lnTo>
                <a:lnTo>
                  <a:pt x="932815" y="946404"/>
                </a:lnTo>
                <a:lnTo>
                  <a:pt x="896112" y="963168"/>
                </a:lnTo>
                <a:lnTo>
                  <a:pt x="886968" y="964565"/>
                </a:lnTo>
                <a:lnTo>
                  <a:pt x="949579" y="964565"/>
                </a:lnTo>
                <a:lnTo>
                  <a:pt x="957072" y="958596"/>
                </a:lnTo>
                <a:lnTo>
                  <a:pt x="964819" y="950849"/>
                </a:lnTo>
                <a:lnTo>
                  <a:pt x="970915" y="941832"/>
                </a:lnTo>
                <a:lnTo>
                  <a:pt x="975487" y="932561"/>
                </a:lnTo>
                <a:lnTo>
                  <a:pt x="980059" y="923417"/>
                </a:lnTo>
                <a:lnTo>
                  <a:pt x="984504" y="912749"/>
                </a:lnTo>
                <a:lnTo>
                  <a:pt x="986155" y="903732"/>
                </a:lnTo>
                <a:lnTo>
                  <a:pt x="987679" y="891540"/>
                </a:lnTo>
                <a:lnTo>
                  <a:pt x="989076" y="880872"/>
                </a:lnTo>
                <a:lnTo>
                  <a:pt x="989076" y="109728"/>
                </a:lnTo>
                <a:lnTo>
                  <a:pt x="987679" y="97536"/>
                </a:lnTo>
                <a:lnTo>
                  <a:pt x="975487" y="57785"/>
                </a:lnTo>
                <a:lnTo>
                  <a:pt x="969391" y="48768"/>
                </a:lnTo>
                <a:lnTo>
                  <a:pt x="963168" y="39497"/>
                </a:lnTo>
                <a:lnTo>
                  <a:pt x="957072" y="32004"/>
                </a:lnTo>
                <a:lnTo>
                  <a:pt x="949976" y="25908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2" name="object 106"/>
          <p:cNvSpPr/>
          <p:nvPr/>
        </p:nvSpPr>
        <p:spPr>
          <a:xfrm>
            <a:off x="7741440" y="4195440"/>
            <a:ext cx="729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algn="ctr">
              <a:lnSpc>
                <a:spcPts val="1117"/>
              </a:lnSpc>
              <a:spcBef>
                <a:spcPts val="88"/>
              </a:spcBef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CEQ</a:t>
            </a:r>
            <a:r>
              <a:rPr b="0" lang="en-US" sz="970" spc="-24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EIS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17"/>
              </a:lnSpc>
            </a:pP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Re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qui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re</a:t>
            </a:r>
            <a:r>
              <a:rPr b="0" lang="en-US" sz="970" spc="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ts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107"/>
          <p:cNvSpPr/>
          <p:nvPr/>
        </p:nvSpPr>
        <p:spPr>
          <a:xfrm>
            <a:off x="7585560" y="4947480"/>
            <a:ext cx="849600" cy="539280"/>
          </a:xfrm>
          <a:custGeom>
            <a:avLst/>
            <a:gdLst>
              <a:gd name="textAreaLeft" fmla="*/ 0 w 849600"/>
              <a:gd name="textAreaRight" fmla="*/ 849960 w 849600"/>
              <a:gd name="textAreaTop" fmla="*/ 0 h 539280"/>
              <a:gd name="textAreaBottom" fmla="*/ 539640 h 539280"/>
            </a:gdLst>
            <a:ahLst/>
            <a:rect l="textAreaLeft" t="textAreaTop" r="textAreaRight" b="textAreaBottom"/>
            <a:pathLst>
              <a:path w="963295" h="611504">
                <a:moveTo>
                  <a:pt x="902335" y="0"/>
                </a:moveTo>
                <a:lnTo>
                  <a:pt x="60960" y="0"/>
                </a:lnTo>
                <a:lnTo>
                  <a:pt x="37290" y="4810"/>
                </a:lnTo>
                <a:lnTo>
                  <a:pt x="17906" y="17907"/>
                </a:lnTo>
                <a:lnTo>
                  <a:pt x="4810" y="37290"/>
                </a:lnTo>
                <a:lnTo>
                  <a:pt x="0" y="60960"/>
                </a:lnTo>
                <a:lnTo>
                  <a:pt x="0" y="550164"/>
                </a:lnTo>
                <a:lnTo>
                  <a:pt x="4810" y="573907"/>
                </a:lnTo>
                <a:lnTo>
                  <a:pt x="17907" y="593328"/>
                </a:lnTo>
                <a:lnTo>
                  <a:pt x="37290" y="606438"/>
                </a:lnTo>
                <a:lnTo>
                  <a:pt x="60960" y="611251"/>
                </a:lnTo>
                <a:lnTo>
                  <a:pt x="902335" y="611251"/>
                </a:lnTo>
                <a:lnTo>
                  <a:pt x="925931" y="606438"/>
                </a:lnTo>
                <a:lnTo>
                  <a:pt x="945276" y="593328"/>
                </a:lnTo>
                <a:lnTo>
                  <a:pt x="958359" y="573907"/>
                </a:lnTo>
                <a:lnTo>
                  <a:pt x="963168" y="550164"/>
                </a:lnTo>
                <a:lnTo>
                  <a:pt x="963168" y="60960"/>
                </a:lnTo>
                <a:lnTo>
                  <a:pt x="958359" y="37290"/>
                </a:lnTo>
                <a:lnTo>
                  <a:pt x="945276" y="17907"/>
                </a:lnTo>
                <a:lnTo>
                  <a:pt x="925931" y="4810"/>
                </a:lnTo>
                <a:lnTo>
                  <a:pt x="902335" y="0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4" name="object 108"/>
          <p:cNvSpPr/>
          <p:nvPr/>
        </p:nvSpPr>
        <p:spPr>
          <a:xfrm>
            <a:off x="7575120" y="4936680"/>
            <a:ext cx="872640" cy="562320"/>
          </a:xfrm>
          <a:custGeom>
            <a:avLst/>
            <a:gdLst>
              <a:gd name="textAreaLeft" fmla="*/ 0 w 872640"/>
              <a:gd name="textAreaRight" fmla="*/ 873000 w 872640"/>
              <a:gd name="textAreaTop" fmla="*/ 0 h 562320"/>
              <a:gd name="textAreaBottom" fmla="*/ 562680 h 562320"/>
            </a:gdLst>
            <a:ahLst/>
            <a:rect l="textAreaLeft" t="textAreaTop" r="textAreaRight" b="textAreaBottom"/>
            <a:pathLst>
              <a:path w="989329" h="637540">
                <a:moveTo>
                  <a:pt x="953897" y="624966"/>
                </a:moveTo>
                <a:lnTo>
                  <a:pt x="33401" y="624966"/>
                </a:lnTo>
                <a:lnTo>
                  <a:pt x="44196" y="631062"/>
                </a:lnTo>
                <a:lnTo>
                  <a:pt x="51689" y="634110"/>
                </a:lnTo>
                <a:lnTo>
                  <a:pt x="59436" y="635634"/>
                </a:lnTo>
                <a:lnTo>
                  <a:pt x="66929" y="637031"/>
                </a:lnTo>
                <a:lnTo>
                  <a:pt x="914400" y="637031"/>
                </a:lnTo>
                <a:lnTo>
                  <a:pt x="923544" y="635634"/>
                </a:lnTo>
                <a:lnTo>
                  <a:pt x="929640" y="635634"/>
                </a:lnTo>
                <a:lnTo>
                  <a:pt x="937133" y="632459"/>
                </a:lnTo>
                <a:lnTo>
                  <a:pt x="944753" y="631062"/>
                </a:lnTo>
                <a:lnTo>
                  <a:pt x="953897" y="624966"/>
                </a:lnTo>
                <a:close/>
              </a:path>
              <a:path w="989329" h="637540">
                <a:moveTo>
                  <a:pt x="955421" y="623442"/>
                </a:moveTo>
                <a:lnTo>
                  <a:pt x="32004" y="623442"/>
                </a:lnTo>
                <a:lnTo>
                  <a:pt x="32004" y="624966"/>
                </a:lnTo>
                <a:lnTo>
                  <a:pt x="955421" y="624966"/>
                </a:lnTo>
                <a:lnTo>
                  <a:pt x="955421" y="623442"/>
                </a:lnTo>
                <a:close/>
              </a:path>
              <a:path w="989329" h="637540">
                <a:moveTo>
                  <a:pt x="45593" y="602106"/>
                </a:moveTo>
                <a:lnTo>
                  <a:pt x="47244" y="603630"/>
                </a:lnTo>
                <a:lnTo>
                  <a:pt x="12065" y="603630"/>
                </a:lnTo>
                <a:lnTo>
                  <a:pt x="12065" y="605027"/>
                </a:lnTo>
                <a:lnTo>
                  <a:pt x="19812" y="614298"/>
                </a:lnTo>
                <a:lnTo>
                  <a:pt x="21336" y="614298"/>
                </a:lnTo>
                <a:lnTo>
                  <a:pt x="21336" y="615695"/>
                </a:lnTo>
                <a:lnTo>
                  <a:pt x="30353" y="623442"/>
                </a:lnTo>
                <a:lnTo>
                  <a:pt x="957072" y="623442"/>
                </a:lnTo>
                <a:lnTo>
                  <a:pt x="966088" y="615695"/>
                </a:lnTo>
                <a:lnTo>
                  <a:pt x="967740" y="614298"/>
                </a:lnTo>
                <a:lnTo>
                  <a:pt x="970306" y="611123"/>
                </a:lnTo>
                <a:lnTo>
                  <a:pt x="66929" y="611123"/>
                </a:lnTo>
                <a:lnTo>
                  <a:pt x="62357" y="609599"/>
                </a:lnTo>
                <a:lnTo>
                  <a:pt x="57912" y="609599"/>
                </a:lnTo>
                <a:lnTo>
                  <a:pt x="53340" y="606551"/>
                </a:lnTo>
                <a:lnTo>
                  <a:pt x="45593" y="602106"/>
                </a:lnTo>
                <a:close/>
              </a:path>
              <a:path w="989329" h="637540">
                <a:moveTo>
                  <a:pt x="977519" y="602106"/>
                </a:moveTo>
                <a:lnTo>
                  <a:pt x="943229" y="602106"/>
                </a:lnTo>
                <a:lnTo>
                  <a:pt x="932561" y="608202"/>
                </a:lnTo>
                <a:lnTo>
                  <a:pt x="927988" y="609599"/>
                </a:lnTo>
                <a:lnTo>
                  <a:pt x="923544" y="611123"/>
                </a:lnTo>
                <a:lnTo>
                  <a:pt x="970306" y="611123"/>
                </a:lnTo>
                <a:lnTo>
                  <a:pt x="975233" y="605027"/>
                </a:lnTo>
                <a:lnTo>
                  <a:pt x="975233" y="603630"/>
                </a:lnTo>
                <a:lnTo>
                  <a:pt x="976757" y="603630"/>
                </a:lnTo>
                <a:lnTo>
                  <a:pt x="977519" y="602106"/>
                </a:lnTo>
                <a:close/>
              </a:path>
              <a:path w="989329" h="637540">
                <a:moveTo>
                  <a:pt x="967740" y="21462"/>
                </a:moveTo>
                <a:lnTo>
                  <a:pt x="19812" y="21462"/>
                </a:lnTo>
                <a:lnTo>
                  <a:pt x="12065" y="30606"/>
                </a:lnTo>
                <a:lnTo>
                  <a:pt x="12065" y="32130"/>
                </a:lnTo>
                <a:lnTo>
                  <a:pt x="10668" y="33527"/>
                </a:lnTo>
                <a:lnTo>
                  <a:pt x="4572" y="45719"/>
                </a:lnTo>
                <a:lnTo>
                  <a:pt x="2921" y="51942"/>
                </a:lnTo>
                <a:lnTo>
                  <a:pt x="0" y="59562"/>
                </a:lnTo>
                <a:lnTo>
                  <a:pt x="0" y="571499"/>
                </a:lnTo>
                <a:lnTo>
                  <a:pt x="1397" y="577595"/>
                </a:lnTo>
                <a:lnTo>
                  <a:pt x="2921" y="585342"/>
                </a:lnTo>
                <a:lnTo>
                  <a:pt x="6096" y="592962"/>
                </a:lnTo>
                <a:lnTo>
                  <a:pt x="10668" y="603630"/>
                </a:lnTo>
                <a:lnTo>
                  <a:pt x="47244" y="603630"/>
                </a:lnTo>
                <a:lnTo>
                  <a:pt x="39928" y="597534"/>
                </a:lnTo>
                <a:lnTo>
                  <a:pt x="39497" y="597534"/>
                </a:lnTo>
                <a:lnTo>
                  <a:pt x="38100" y="596010"/>
                </a:lnTo>
                <a:lnTo>
                  <a:pt x="38265" y="596010"/>
                </a:lnTo>
                <a:lnTo>
                  <a:pt x="34570" y="591438"/>
                </a:lnTo>
                <a:lnTo>
                  <a:pt x="33401" y="591438"/>
                </a:lnTo>
                <a:lnTo>
                  <a:pt x="27432" y="580770"/>
                </a:lnTo>
                <a:lnTo>
                  <a:pt x="25908" y="576198"/>
                </a:lnTo>
                <a:lnTo>
                  <a:pt x="25908" y="571499"/>
                </a:lnTo>
                <a:lnTo>
                  <a:pt x="24257" y="566927"/>
                </a:lnTo>
                <a:lnTo>
                  <a:pt x="24257" y="67055"/>
                </a:lnTo>
                <a:lnTo>
                  <a:pt x="25908" y="62610"/>
                </a:lnTo>
                <a:lnTo>
                  <a:pt x="27432" y="58038"/>
                </a:lnTo>
                <a:lnTo>
                  <a:pt x="28829" y="53466"/>
                </a:lnTo>
                <a:lnTo>
                  <a:pt x="32426" y="47370"/>
                </a:lnTo>
                <a:lnTo>
                  <a:pt x="32004" y="47370"/>
                </a:lnTo>
                <a:lnTo>
                  <a:pt x="38265" y="39623"/>
                </a:lnTo>
                <a:lnTo>
                  <a:pt x="38100" y="39623"/>
                </a:lnTo>
                <a:lnTo>
                  <a:pt x="39497" y="38099"/>
                </a:lnTo>
                <a:lnTo>
                  <a:pt x="39959" y="38099"/>
                </a:lnTo>
                <a:lnTo>
                  <a:pt x="47244" y="32130"/>
                </a:lnTo>
                <a:lnTo>
                  <a:pt x="47717" y="32130"/>
                </a:lnTo>
                <a:lnTo>
                  <a:pt x="54864" y="27431"/>
                </a:lnTo>
                <a:lnTo>
                  <a:pt x="59436" y="26034"/>
                </a:lnTo>
                <a:lnTo>
                  <a:pt x="64008" y="26034"/>
                </a:lnTo>
                <a:lnTo>
                  <a:pt x="68453" y="24510"/>
                </a:lnTo>
                <a:lnTo>
                  <a:pt x="970237" y="24510"/>
                </a:lnTo>
                <a:lnTo>
                  <a:pt x="967740" y="21462"/>
                </a:lnTo>
                <a:close/>
              </a:path>
              <a:path w="989329" h="637540">
                <a:moveTo>
                  <a:pt x="948436" y="596761"/>
                </a:moveTo>
                <a:lnTo>
                  <a:pt x="940308" y="603630"/>
                </a:lnTo>
                <a:lnTo>
                  <a:pt x="943229" y="602106"/>
                </a:lnTo>
                <a:lnTo>
                  <a:pt x="977519" y="602106"/>
                </a:lnTo>
                <a:lnTo>
                  <a:pt x="979805" y="597534"/>
                </a:lnTo>
                <a:lnTo>
                  <a:pt x="947801" y="597534"/>
                </a:lnTo>
                <a:lnTo>
                  <a:pt x="948436" y="596761"/>
                </a:lnTo>
                <a:close/>
              </a:path>
              <a:path w="989329" h="637540">
                <a:moveTo>
                  <a:pt x="38100" y="596010"/>
                </a:moveTo>
                <a:lnTo>
                  <a:pt x="39497" y="597534"/>
                </a:lnTo>
                <a:lnTo>
                  <a:pt x="38606" y="596432"/>
                </a:lnTo>
                <a:lnTo>
                  <a:pt x="38100" y="596010"/>
                </a:lnTo>
                <a:close/>
              </a:path>
              <a:path w="989329" h="637540">
                <a:moveTo>
                  <a:pt x="38606" y="596432"/>
                </a:moveTo>
                <a:lnTo>
                  <a:pt x="39497" y="597534"/>
                </a:lnTo>
                <a:lnTo>
                  <a:pt x="39928" y="597534"/>
                </a:lnTo>
                <a:lnTo>
                  <a:pt x="38606" y="596432"/>
                </a:lnTo>
                <a:close/>
              </a:path>
              <a:path w="989329" h="637540">
                <a:moveTo>
                  <a:pt x="949325" y="596010"/>
                </a:moveTo>
                <a:lnTo>
                  <a:pt x="948436" y="596761"/>
                </a:lnTo>
                <a:lnTo>
                  <a:pt x="947801" y="597534"/>
                </a:lnTo>
                <a:lnTo>
                  <a:pt x="949325" y="596010"/>
                </a:lnTo>
                <a:close/>
              </a:path>
              <a:path w="989329" h="637540">
                <a:moveTo>
                  <a:pt x="980566" y="596010"/>
                </a:moveTo>
                <a:lnTo>
                  <a:pt x="949325" y="596010"/>
                </a:lnTo>
                <a:lnTo>
                  <a:pt x="947801" y="597534"/>
                </a:lnTo>
                <a:lnTo>
                  <a:pt x="979805" y="597534"/>
                </a:lnTo>
                <a:lnTo>
                  <a:pt x="980566" y="596010"/>
                </a:lnTo>
                <a:close/>
              </a:path>
              <a:path w="989329" h="637540">
                <a:moveTo>
                  <a:pt x="955421" y="588263"/>
                </a:moveTo>
                <a:lnTo>
                  <a:pt x="948436" y="596761"/>
                </a:lnTo>
                <a:lnTo>
                  <a:pt x="949325" y="596010"/>
                </a:lnTo>
                <a:lnTo>
                  <a:pt x="980566" y="596010"/>
                </a:lnTo>
                <a:lnTo>
                  <a:pt x="982853" y="591438"/>
                </a:lnTo>
                <a:lnTo>
                  <a:pt x="953897" y="591438"/>
                </a:lnTo>
                <a:lnTo>
                  <a:pt x="955421" y="588263"/>
                </a:lnTo>
                <a:close/>
              </a:path>
              <a:path w="989329" h="637540">
                <a:moveTo>
                  <a:pt x="38265" y="596010"/>
                </a:moveTo>
                <a:lnTo>
                  <a:pt x="38100" y="596010"/>
                </a:lnTo>
                <a:lnTo>
                  <a:pt x="38606" y="596432"/>
                </a:lnTo>
                <a:lnTo>
                  <a:pt x="38265" y="596010"/>
                </a:lnTo>
                <a:close/>
              </a:path>
              <a:path w="989329" h="637540">
                <a:moveTo>
                  <a:pt x="32004" y="588263"/>
                </a:moveTo>
                <a:lnTo>
                  <a:pt x="33401" y="591438"/>
                </a:lnTo>
                <a:lnTo>
                  <a:pt x="34570" y="591438"/>
                </a:lnTo>
                <a:lnTo>
                  <a:pt x="32004" y="588263"/>
                </a:lnTo>
                <a:close/>
              </a:path>
              <a:path w="989329" h="637540">
                <a:moveTo>
                  <a:pt x="953897" y="45719"/>
                </a:moveTo>
                <a:lnTo>
                  <a:pt x="959993" y="54863"/>
                </a:lnTo>
                <a:lnTo>
                  <a:pt x="961644" y="59562"/>
                </a:lnTo>
                <a:lnTo>
                  <a:pt x="961644" y="64134"/>
                </a:lnTo>
                <a:lnTo>
                  <a:pt x="963168" y="68706"/>
                </a:lnTo>
                <a:lnTo>
                  <a:pt x="963168" y="568451"/>
                </a:lnTo>
                <a:lnTo>
                  <a:pt x="961644" y="573023"/>
                </a:lnTo>
                <a:lnTo>
                  <a:pt x="959993" y="577595"/>
                </a:lnTo>
                <a:lnTo>
                  <a:pt x="958596" y="582167"/>
                </a:lnTo>
                <a:lnTo>
                  <a:pt x="953897" y="591438"/>
                </a:lnTo>
                <a:lnTo>
                  <a:pt x="982853" y="591438"/>
                </a:lnTo>
                <a:lnTo>
                  <a:pt x="984504" y="583691"/>
                </a:lnTo>
                <a:lnTo>
                  <a:pt x="987425" y="577595"/>
                </a:lnTo>
                <a:lnTo>
                  <a:pt x="987425" y="570102"/>
                </a:lnTo>
                <a:lnTo>
                  <a:pt x="989076" y="562355"/>
                </a:lnTo>
                <a:lnTo>
                  <a:pt x="989076" y="73151"/>
                </a:lnTo>
                <a:lnTo>
                  <a:pt x="987425" y="65531"/>
                </a:lnTo>
                <a:lnTo>
                  <a:pt x="985901" y="58038"/>
                </a:lnTo>
                <a:lnTo>
                  <a:pt x="984504" y="50291"/>
                </a:lnTo>
                <a:lnTo>
                  <a:pt x="983266" y="47370"/>
                </a:lnTo>
                <a:lnTo>
                  <a:pt x="955421" y="47370"/>
                </a:lnTo>
                <a:lnTo>
                  <a:pt x="953897" y="45719"/>
                </a:lnTo>
                <a:close/>
              </a:path>
              <a:path w="989329" h="637540">
                <a:moveTo>
                  <a:pt x="33401" y="45719"/>
                </a:moveTo>
                <a:lnTo>
                  <a:pt x="32004" y="47370"/>
                </a:lnTo>
                <a:lnTo>
                  <a:pt x="32426" y="47370"/>
                </a:lnTo>
                <a:lnTo>
                  <a:pt x="33401" y="45719"/>
                </a:lnTo>
                <a:close/>
              </a:path>
              <a:path w="989329" h="637540">
                <a:moveTo>
                  <a:pt x="948468" y="38912"/>
                </a:moveTo>
                <a:lnTo>
                  <a:pt x="955421" y="47370"/>
                </a:lnTo>
                <a:lnTo>
                  <a:pt x="983266" y="47370"/>
                </a:lnTo>
                <a:lnTo>
                  <a:pt x="981329" y="42798"/>
                </a:lnTo>
                <a:lnTo>
                  <a:pt x="979763" y="39623"/>
                </a:lnTo>
                <a:lnTo>
                  <a:pt x="949325" y="39623"/>
                </a:lnTo>
                <a:lnTo>
                  <a:pt x="948468" y="38912"/>
                </a:lnTo>
                <a:close/>
              </a:path>
              <a:path w="989329" h="637540">
                <a:moveTo>
                  <a:pt x="39497" y="38099"/>
                </a:moveTo>
                <a:lnTo>
                  <a:pt x="38100" y="39623"/>
                </a:lnTo>
                <a:lnTo>
                  <a:pt x="38589" y="39222"/>
                </a:lnTo>
                <a:lnTo>
                  <a:pt x="39497" y="38099"/>
                </a:lnTo>
                <a:close/>
              </a:path>
              <a:path w="989329" h="637540">
                <a:moveTo>
                  <a:pt x="38589" y="39222"/>
                </a:moveTo>
                <a:lnTo>
                  <a:pt x="38100" y="39623"/>
                </a:lnTo>
                <a:lnTo>
                  <a:pt x="38265" y="39623"/>
                </a:lnTo>
                <a:lnTo>
                  <a:pt x="38589" y="39222"/>
                </a:lnTo>
                <a:close/>
              </a:path>
              <a:path w="989329" h="637540">
                <a:moveTo>
                  <a:pt x="947801" y="38099"/>
                </a:moveTo>
                <a:lnTo>
                  <a:pt x="948468" y="38912"/>
                </a:lnTo>
                <a:lnTo>
                  <a:pt x="949325" y="39623"/>
                </a:lnTo>
                <a:lnTo>
                  <a:pt x="947801" y="38099"/>
                </a:lnTo>
                <a:close/>
              </a:path>
              <a:path w="989329" h="637540">
                <a:moveTo>
                  <a:pt x="979011" y="38099"/>
                </a:moveTo>
                <a:lnTo>
                  <a:pt x="947801" y="38099"/>
                </a:lnTo>
                <a:lnTo>
                  <a:pt x="949325" y="39623"/>
                </a:lnTo>
                <a:lnTo>
                  <a:pt x="979763" y="39623"/>
                </a:lnTo>
                <a:lnTo>
                  <a:pt x="979011" y="38099"/>
                </a:lnTo>
                <a:close/>
              </a:path>
              <a:path w="989329" h="637540">
                <a:moveTo>
                  <a:pt x="39959" y="38099"/>
                </a:moveTo>
                <a:lnTo>
                  <a:pt x="39497" y="38099"/>
                </a:lnTo>
                <a:lnTo>
                  <a:pt x="38589" y="39222"/>
                </a:lnTo>
                <a:lnTo>
                  <a:pt x="39959" y="38099"/>
                </a:lnTo>
                <a:close/>
              </a:path>
              <a:path w="989329" h="637540">
                <a:moveTo>
                  <a:pt x="940308" y="32130"/>
                </a:moveTo>
                <a:lnTo>
                  <a:pt x="948468" y="38912"/>
                </a:lnTo>
                <a:lnTo>
                  <a:pt x="947801" y="38099"/>
                </a:lnTo>
                <a:lnTo>
                  <a:pt x="979011" y="38099"/>
                </a:lnTo>
                <a:lnTo>
                  <a:pt x="976757" y="33527"/>
                </a:lnTo>
                <a:lnTo>
                  <a:pt x="943229" y="33527"/>
                </a:lnTo>
                <a:lnTo>
                  <a:pt x="940308" y="32130"/>
                </a:lnTo>
                <a:close/>
              </a:path>
              <a:path w="989329" h="637540">
                <a:moveTo>
                  <a:pt x="47717" y="32130"/>
                </a:moveTo>
                <a:lnTo>
                  <a:pt x="47244" y="32130"/>
                </a:lnTo>
                <a:lnTo>
                  <a:pt x="45593" y="33527"/>
                </a:lnTo>
                <a:lnTo>
                  <a:pt x="47717" y="32130"/>
                </a:lnTo>
                <a:close/>
              </a:path>
              <a:path w="989329" h="637540">
                <a:moveTo>
                  <a:pt x="970237" y="24510"/>
                </a:moveTo>
                <a:lnTo>
                  <a:pt x="920496" y="24510"/>
                </a:lnTo>
                <a:lnTo>
                  <a:pt x="925068" y="26034"/>
                </a:lnTo>
                <a:lnTo>
                  <a:pt x="929640" y="27431"/>
                </a:lnTo>
                <a:lnTo>
                  <a:pt x="934212" y="28955"/>
                </a:lnTo>
                <a:lnTo>
                  <a:pt x="943229" y="33527"/>
                </a:lnTo>
                <a:lnTo>
                  <a:pt x="976757" y="33527"/>
                </a:lnTo>
                <a:lnTo>
                  <a:pt x="975233" y="32130"/>
                </a:lnTo>
                <a:lnTo>
                  <a:pt x="975233" y="30606"/>
                </a:lnTo>
                <a:lnTo>
                  <a:pt x="970237" y="24510"/>
                </a:lnTo>
                <a:close/>
              </a:path>
              <a:path w="989329" h="637540">
                <a:moveTo>
                  <a:pt x="957072" y="12191"/>
                </a:moveTo>
                <a:lnTo>
                  <a:pt x="30353" y="12191"/>
                </a:lnTo>
                <a:lnTo>
                  <a:pt x="21336" y="19938"/>
                </a:lnTo>
                <a:lnTo>
                  <a:pt x="21336" y="21462"/>
                </a:lnTo>
                <a:lnTo>
                  <a:pt x="966088" y="21462"/>
                </a:lnTo>
                <a:lnTo>
                  <a:pt x="966088" y="19938"/>
                </a:lnTo>
                <a:lnTo>
                  <a:pt x="957072" y="12191"/>
                </a:lnTo>
                <a:close/>
              </a:path>
              <a:path w="989329" h="637540">
                <a:moveTo>
                  <a:pt x="927988" y="0"/>
                </a:moveTo>
                <a:lnTo>
                  <a:pt x="65532" y="0"/>
                </a:lnTo>
                <a:lnTo>
                  <a:pt x="57912" y="1523"/>
                </a:lnTo>
                <a:lnTo>
                  <a:pt x="50165" y="3174"/>
                </a:lnTo>
                <a:lnTo>
                  <a:pt x="42672" y="6095"/>
                </a:lnTo>
                <a:lnTo>
                  <a:pt x="33401" y="10667"/>
                </a:lnTo>
                <a:lnTo>
                  <a:pt x="32004" y="12191"/>
                </a:lnTo>
                <a:lnTo>
                  <a:pt x="955421" y="12191"/>
                </a:lnTo>
                <a:lnTo>
                  <a:pt x="953897" y="10667"/>
                </a:lnTo>
                <a:lnTo>
                  <a:pt x="943229" y="4698"/>
                </a:lnTo>
                <a:lnTo>
                  <a:pt x="935736" y="3174"/>
                </a:lnTo>
                <a:lnTo>
                  <a:pt x="9279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5" name="object 109"/>
          <p:cNvSpPr/>
          <p:nvPr/>
        </p:nvSpPr>
        <p:spPr>
          <a:xfrm>
            <a:off x="7673040" y="5033520"/>
            <a:ext cx="858960" cy="54684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6" name="object 110"/>
          <p:cNvSpPr/>
          <p:nvPr/>
        </p:nvSpPr>
        <p:spPr>
          <a:xfrm>
            <a:off x="7669080" y="5025600"/>
            <a:ext cx="872640" cy="563400"/>
          </a:xfrm>
          <a:custGeom>
            <a:avLst/>
            <a:gdLst>
              <a:gd name="textAreaLeft" fmla="*/ 0 w 872640"/>
              <a:gd name="textAreaRight" fmla="*/ 873000 w 87264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89329" h="638809">
                <a:moveTo>
                  <a:pt x="916051" y="637032"/>
                </a:moveTo>
                <a:lnTo>
                  <a:pt x="67183" y="637032"/>
                </a:lnTo>
                <a:lnTo>
                  <a:pt x="73279" y="638556"/>
                </a:lnTo>
                <a:lnTo>
                  <a:pt x="916051" y="637032"/>
                </a:lnTo>
                <a:close/>
              </a:path>
              <a:path w="989329" h="638809">
                <a:moveTo>
                  <a:pt x="922147" y="0"/>
                </a:moveTo>
                <a:lnTo>
                  <a:pt x="73279" y="0"/>
                </a:lnTo>
                <a:lnTo>
                  <a:pt x="65659" y="1524"/>
                </a:lnTo>
                <a:lnTo>
                  <a:pt x="57912" y="1524"/>
                </a:lnTo>
                <a:lnTo>
                  <a:pt x="50419" y="4445"/>
                </a:lnTo>
                <a:lnTo>
                  <a:pt x="44323" y="6096"/>
                </a:lnTo>
                <a:lnTo>
                  <a:pt x="33655" y="12192"/>
                </a:lnTo>
                <a:lnTo>
                  <a:pt x="32004" y="12192"/>
                </a:lnTo>
                <a:lnTo>
                  <a:pt x="32004" y="13589"/>
                </a:lnTo>
                <a:lnTo>
                  <a:pt x="22987" y="21209"/>
                </a:lnTo>
                <a:lnTo>
                  <a:pt x="21336" y="21209"/>
                </a:lnTo>
                <a:lnTo>
                  <a:pt x="21336" y="22860"/>
                </a:lnTo>
                <a:lnTo>
                  <a:pt x="19812" y="22860"/>
                </a:lnTo>
                <a:lnTo>
                  <a:pt x="13843" y="31877"/>
                </a:lnTo>
                <a:lnTo>
                  <a:pt x="12319" y="33528"/>
                </a:lnTo>
                <a:lnTo>
                  <a:pt x="4572" y="45720"/>
                </a:lnTo>
                <a:lnTo>
                  <a:pt x="3048" y="53213"/>
                </a:lnTo>
                <a:lnTo>
                  <a:pt x="1651" y="59309"/>
                </a:lnTo>
                <a:lnTo>
                  <a:pt x="0" y="67056"/>
                </a:lnTo>
                <a:lnTo>
                  <a:pt x="0" y="571500"/>
                </a:lnTo>
                <a:lnTo>
                  <a:pt x="1651" y="579120"/>
                </a:lnTo>
                <a:lnTo>
                  <a:pt x="3048" y="586613"/>
                </a:lnTo>
                <a:lnTo>
                  <a:pt x="6223" y="594360"/>
                </a:lnTo>
                <a:lnTo>
                  <a:pt x="12319" y="603377"/>
                </a:lnTo>
                <a:lnTo>
                  <a:pt x="12319" y="605028"/>
                </a:lnTo>
                <a:lnTo>
                  <a:pt x="13843" y="606552"/>
                </a:lnTo>
                <a:lnTo>
                  <a:pt x="19812" y="615696"/>
                </a:lnTo>
                <a:lnTo>
                  <a:pt x="21336" y="615696"/>
                </a:lnTo>
                <a:lnTo>
                  <a:pt x="21336" y="617220"/>
                </a:lnTo>
                <a:lnTo>
                  <a:pt x="22987" y="617220"/>
                </a:lnTo>
                <a:lnTo>
                  <a:pt x="32004" y="624713"/>
                </a:lnTo>
                <a:lnTo>
                  <a:pt x="33655" y="626364"/>
                </a:lnTo>
                <a:lnTo>
                  <a:pt x="45847" y="632460"/>
                </a:lnTo>
                <a:lnTo>
                  <a:pt x="51943" y="633857"/>
                </a:lnTo>
                <a:lnTo>
                  <a:pt x="59436" y="637032"/>
                </a:lnTo>
                <a:lnTo>
                  <a:pt x="923544" y="637032"/>
                </a:lnTo>
                <a:lnTo>
                  <a:pt x="931291" y="635381"/>
                </a:lnTo>
                <a:lnTo>
                  <a:pt x="937387" y="633857"/>
                </a:lnTo>
                <a:lnTo>
                  <a:pt x="955547" y="626364"/>
                </a:lnTo>
                <a:lnTo>
                  <a:pt x="955547" y="624713"/>
                </a:lnTo>
                <a:lnTo>
                  <a:pt x="957072" y="624713"/>
                </a:lnTo>
                <a:lnTo>
                  <a:pt x="966343" y="617220"/>
                </a:lnTo>
                <a:lnTo>
                  <a:pt x="967740" y="615696"/>
                </a:lnTo>
                <a:lnTo>
                  <a:pt x="970429" y="612521"/>
                </a:lnTo>
                <a:lnTo>
                  <a:pt x="68580" y="612521"/>
                </a:lnTo>
                <a:lnTo>
                  <a:pt x="62611" y="611124"/>
                </a:lnTo>
                <a:lnTo>
                  <a:pt x="57912" y="609600"/>
                </a:lnTo>
                <a:lnTo>
                  <a:pt x="54991" y="607949"/>
                </a:lnTo>
                <a:lnTo>
                  <a:pt x="49149" y="605028"/>
                </a:lnTo>
                <a:lnTo>
                  <a:pt x="47244" y="605028"/>
                </a:lnTo>
                <a:lnTo>
                  <a:pt x="40048" y="598932"/>
                </a:lnTo>
                <a:lnTo>
                  <a:pt x="39751" y="598932"/>
                </a:lnTo>
                <a:lnTo>
                  <a:pt x="38100" y="597281"/>
                </a:lnTo>
                <a:lnTo>
                  <a:pt x="38352" y="597281"/>
                </a:lnTo>
                <a:lnTo>
                  <a:pt x="34478" y="592709"/>
                </a:lnTo>
                <a:lnTo>
                  <a:pt x="33655" y="592709"/>
                </a:lnTo>
                <a:lnTo>
                  <a:pt x="32004" y="589788"/>
                </a:lnTo>
                <a:lnTo>
                  <a:pt x="32403" y="589788"/>
                </a:lnTo>
                <a:lnTo>
                  <a:pt x="29083" y="582041"/>
                </a:lnTo>
                <a:lnTo>
                  <a:pt x="27559" y="577596"/>
                </a:lnTo>
                <a:lnTo>
                  <a:pt x="25908" y="573024"/>
                </a:lnTo>
                <a:lnTo>
                  <a:pt x="25908" y="568452"/>
                </a:lnTo>
                <a:lnTo>
                  <a:pt x="24511" y="563753"/>
                </a:lnTo>
                <a:lnTo>
                  <a:pt x="24511" y="74549"/>
                </a:lnTo>
                <a:lnTo>
                  <a:pt x="25908" y="68453"/>
                </a:lnTo>
                <a:lnTo>
                  <a:pt x="25908" y="63881"/>
                </a:lnTo>
                <a:lnTo>
                  <a:pt x="27559" y="59309"/>
                </a:lnTo>
                <a:lnTo>
                  <a:pt x="29083" y="54864"/>
                </a:lnTo>
                <a:lnTo>
                  <a:pt x="32194" y="48641"/>
                </a:lnTo>
                <a:lnTo>
                  <a:pt x="32004" y="48641"/>
                </a:lnTo>
                <a:lnTo>
                  <a:pt x="33655" y="45720"/>
                </a:lnTo>
                <a:lnTo>
                  <a:pt x="34513" y="45720"/>
                </a:lnTo>
                <a:lnTo>
                  <a:pt x="38550" y="41021"/>
                </a:lnTo>
                <a:lnTo>
                  <a:pt x="38100" y="41021"/>
                </a:lnTo>
                <a:lnTo>
                  <a:pt x="39751" y="39624"/>
                </a:lnTo>
                <a:lnTo>
                  <a:pt x="47244" y="33528"/>
                </a:lnTo>
                <a:lnTo>
                  <a:pt x="48514" y="33528"/>
                </a:lnTo>
                <a:lnTo>
                  <a:pt x="56515" y="28956"/>
                </a:lnTo>
                <a:lnTo>
                  <a:pt x="59436" y="27432"/>
                </a:lnTo>
                <a:lnTo>
                  <a:pt x="64008" y="25781"/>
                </a:lnTo>
                <a:lnTo>
                  <a:pt x="970249" y="25781"/>
                </a:lnTo>
                <a:lnTo>
                  <a:pt x="966343" y="21209"/>
                </a:lnTo>
                <a:lnTo>
                  <a:pt x="957072" y="13589"/>
                </a:lnTo>
                <a:lnTo>
                  <a:pt x="955547" y="12192"/>
                </a:lnTo>
                <a:lnTo>
                  <a:pt x="943483" y="6096"/>
                </a:lnTo>
                <a:lnTo>
                  <a:pt x="935736" y="2921"/>
                </a:lnTo>
                <a:lnTo>
                  <a:pt x="929640" y="1524"/>
                </a:lnTo>
                <a:lnTo>
                  <a:pt x="922147" y="0"/>
                </a:lnTo>
                <a:close/>
              </a:path>
              <a:path w="989329" h="638809">
                <a:moveTo>
                  <a:pt x="943483" y="603377"/>
                </a:moveTo>
                <a:lnTo>
                  <a:pt x="932815" y="609600"/>
                </a:lnTo>
                <a:lnTo>
                  <a:pt x="928243" y="611124"/>
                </a:lnTo>
                <a:lnTo>
                  <a:pt x="923544" y="611124"/>
                </a:lnTo>
                <a:lnTo>
                  <a:pt x="918972" y="612521"/>
                </a:lnTo>
                <a:lnTo>
                  <a:pt x="970429" y="612521"/>
                </a:lnTo>
                <a:lnTo>
                  <a:pt x="975487" y="606552"/>
                </a:lnTo>
                <a:lnTo>
                  <a:pt x="975487" y="605028"/>
                </a:lnTo>
                <a:lnTo>
                  <a:pt x="941959" y="605028"/>
                </a:lnTo>
                <a:lnTo>
                  <a:pt x="943483" y="603377"/>
                </a:lnTo>
                <a:close/>
              </a:path>
              <a:path w="989329" h="638809">
                <a:moveTo>
                  <a:pt x="45847" y="603377"/>
                </a:moveTo>
                <a:lnTo>
                  <a:pt x="47244" y="605028"/>
                </a:lnTo>
                <a:lnTo>
                  <a:pt x="49149" y="605028"/>
                </a:lnTo>
                <a:lnTo>
                  <a:pt x="45847" y="603377"/>
                </a:lnTo>
                <a:close/>
              </a:path>
              <a:path w="989329" h="638809">
                <a:moveTo>
                  <a:pt x="980421" y="597281"/>
                </a:moveTo>
                <a:lnTo>
                  <a:pt x="949579" y="597281"/>
                </a:lnTo>
                <a:lnTo>
                  <a:pt x="948055" y="598932"/>
                </a:lnTo>
                <a:lnTo>
                  <a:pt x="941959" y="605028"/>
                </a:lnTo>
                <a:lnTo>
                  <a:pt x="977011" y="605028"/>
                </a:lnTo>
                <a:lnTo>
                  <a:pt x="977011" y="603377"/>
                </a:lnTo>
                <a:lnTo>
                  <a:pt x="980421" y="597281"/>
                </a:lnTo>
                <a:close/>
              </a:path>
              <a:path w="989329" h="638809">
                <a:moveTo>
                  <a:pt x="38100" y="597281"/>
                </a:moveTo>
                <a:lnTo>
                  <a:pt x="39751" y="598932"/>
                </a:lnTo>
                <a:lnTo>
                  <a:pt x="38993" y="598038"/>
                </a:lnTo>
                <a:lnTo>
                  <a:pt x="38100" y="597281"/>
                </a:lnTo>
                <a:close/>
              </a:path>
              <a:path w="989329" h="638809">
                <a:moveTo>
                  <a:pt x="38993" y="598038"/>
                </a:moveTo>
                <a:lnTo>
                  <a:pt x="39751" y="598932"/>
                </a:lnTo>
                <a:lnTo>
                  <a:pt x="40048" y="598932"/>
                </a:lnTo>
                <a:lnTo>
                  <a:pt x="38993" y="598038"/>
                </a:lnTo>
                <a:close/>
              </a:path>
              <a:path w="989329" h="638809">
                <a:moveTo>
                  <a:pt x="948553" y="598323"/>
                </a:moveTo>
                <a:lnTo>
                  <a:pt x="947955" y="598932"/>
                </a:lnTo>
                <a:lnTo>
                  <a:pt x="948553" y="598323"/>
                </a:lnTo>
                <a:close/>
              </a:path>
              <a:path w="989329" h="638809">
                <a:moveTo>
                  <a:pt x="949579" y="597281"/>
                </a:moveTo>
                <a:lnTo>
                  <a:pt x="948553" y="598323"/>
                </a:lnTo>
                <a:lnTo>
                  <a:pt x="948055" y="598932"/>
                </a:lnTo>
                <a:lnTo>
                  <a:pt x="949579" y="597281"/>
                </a:lnTo>
                <a:close/>
              </a:path>
              <a:path w="989329" h="638809">
                <a:moveTo>
                  <a:pt x="955547" y="589788"/>
                </a:moveTo>
                <a:lnTo>
                  <a:pt x="948553" y="598323"/>
                </a:lnTo>
                <a:lnTo>
                  <a:pt x="949579" y="597281"/>
                </a:lnTo>
                <a:lnTo>
                  <a:pt x="980421" y="597281"/>
                </a:lnTo>
                <a:lnTo>
                  <a:pt x="982980" y="592709"/>
                </a:lnTo>
                <a:lnTo>
                  <a:pt x="954151" y="592709"/>
                </a:lnTo>
                <a:lnTo>
                  <a:pt x="955547" y="589788"/>
                </a:lnTo>
                <a:close/>
              </a:path>
              <a:path w="989329" h="638809">
                <a:moveTo>
                  <a:pt x="38352" y="597281"/>
                </a:moveTo>
                <a:lnTo>
                  <a:pt x="38100" y="597281"/>
                </a:lnTo>
                <a:lnTo>
                  <a:pt x="38993" y="598038"/>
                </a:lnTo>
                <a:lnTo>
                  <a:pt x="38352" y="597281"/>
                </a:lnTo>
                <a:close/>
              </a:path>
              <a:path w="989329" h="638809">
                <a:moveTo>
                  <a:pt x="32004" y="589788"/>
                </a:moveTo>
                <a:lnTo>
                  <a:pt x="33655" y="592709"/>
                </a:lnTo>
                <a:lnTo>
                  <a:pt x="32811" y="590741"/>
                </a:lnTo>
                <a:lnTo>
                  <a:pt x="32004" y="589788"/>
                </a:lnTo>
                <a:close/>
              </a:path>
              <a:path w="989329" h="638809">
                <a:moveTo>
                  <a:pt x="32811" y="590741"/>
                </a:moveTo>
                <a:lnTo>
                  <a:pt x="33655" y="592709"/>
                </a:lnTo>
                <a:lnTo>
                  <a:pt x="34478" y="592709"/>
                </a:lnTo>
                <a:lnTo>
                  <a:pt x="32811" y="590741"/>
                </a:lnTo>
                <a:close/>
              </a:path>
              <a:path w="989329" h="638809">
                <a:moveTo>
                  <a:pt x="983289" y="45720"/>
                </a:moveTo>
                <a:lnTo>
                  <a:pt x="954151" y="45720"/>
                </a:lnTo>
                <a:lnTo>
                  <a:pt x="960247" y="56388"/>
                </a:lnTo>
                <a:lnTo>
                  <a:pt x="961644" y="60960"/>
                </a:lnTo>
                <a:lnTo>
                  <a:pt x="963168" y="65532"/>
                </a:lnTo>
                <a:lnTo>
                  <a:pt x="963168" y="569849"/>
                </a:lnTo>
                <a:lnTo>
                  <a:pt x="961644" y="574421"/>
                </a:lnTo>
                <a:lnTo>
                  <a:pt x="961644" y="579120"/>
                </a:lnTo>
                <a:lnTo>
                  <a:pt x="958722" y="583692"/>
                </a:lnTo>
                <a:lnTo>
                  <a:pt x="954151" y="592709"/>
                </a:lnTo>
                <a:lnTo>
                  <a:pt x="982980" y="592709"/>
                </a:lnTo>
                <a:lnTo>
                  <a:pt x="986155" y="585089"/>
                </a:lnTo>
                <a:lnTo>
                  <a:pt x="987679" y="577596"/>
                </a:lnTo>
                <a:lnTo>
                  <a:pt x="989076" y="571500"/>
                </a:lnTo>
                <a:lnTo>
                  <a:pt x="989076" y="65532"/>
                </a:lnTo>
                <a:lnTo>
                  <a:pt x="987679" y="59309"/>
                </a:lnTo>
                <a:lnTo>
                  <a:pt x="984504" y="51689"/>
                </a:lnTo>
                <a:lnTo>
                  <a:pt x="983289" y="45720"/>
                </a:lnTo>
                <a:close/>
              </a:path>
              <a:path w="989329" h="638809">
                <a:moveTo>
                  <a:pt x="32403" y="589788"/>
                </a:moveTo>
                <a:lnTo>
                  <a:pt x="32004" y="589788"/>
                </a:lnTo>
                <a:lnTo>
                  <a:pt x="32811" y="590741"/>
                </a:lnTo>
                <a:lnTo>
                  <a:pt x="32403" y="589788"/>
                </a:lnTo>
                <a:close/>
              </a:path>
              <a:path w="989329" h="638809">
                <a:moveTo>
                  <a:pt x="33655" y="45720"/>
                </a:moveTo>
                <a:lnTo>
                  <a:pt x="32004" y="48641"/>
                </a:lnTo>
                <a:lnTo>
                  <a:pt x="32459" y="48110"/>
                </a:lnTo>
                <a:lnTo>
                  <a:pt x="33655" y="45720"/>
                </a:lnTo>
                <a:close/>
              </a:path>
              <a:path w="989329" h="638809">
                <a:moveTo>
                  <a:pt x="32459" y="48110"/>
                </a:moveTo>
                <a:lnTo>
                  <a:pt x="32004" y="48641"/>
                </a:lnTo>
                <a:lnTo>
                  <a:pt x="32194" y="48641"/>
                </a:lnTo>
                <a:lnTo>
                  <a:pt x="32459" y="48110"/>
                </a:lnTo>
                <a:close/>
              </a:path>
              <a:path w="989329" h="638809">
                <a:moveTo>
                  <a:pt x="948055" y="39624"/>
                </a:moveTo>
                <a:lnTo>
                  <a:pt x="955547" y="48641"/>
                </a:lnTo>
                <a:lnTo>
                  <a:pt x="954151" y="45720"/>
                </a:lnTo>
                <a:lnTo>
                  <a:pt x="983289" y="45720"/>
                </a:lnTo>
                <a:lnTo>
                  <a:pt x="982980" y="44196"/>
                </a:lnTo>
                <a:lnTo>
                  <a:pt x="981203" y="41021"/>
                </a:lnTo>
                <a:lnTo>
                  <a:pt x="949579" y="41021"/>
                </a:lnTo>
                <a:lnTo>
                  <a:pt x="948055" y="39624"/>
                </a:lnTo>
                <a:close/>
              </a:path>
              <a:path w="989329" h="638809">
                <a:moveTo>
                  <a:pt x="34513" y="45720"/>
                </a:moveTo>
                <a:lnTo>
                  <a:pt x="33655" y="45720"/>
                </a:lnTo>
                <a:lnTo>
                  <a:pt x="32459" y="48110"/>
                </a:lnTo>
                <a:lnTo>
                  <a:pt x="34513" y="45720"/>
                </a:lnTo>
                <a:close/>
              </a:path>
              <a:path w="989329" h="638809">
                <a:moveTo>
                  <a:pt x="39751" y="39624"/>
                </a:moveTo>
                <a:lnTo>
                  <a:pt x="38100" y="41021"/>
                </a:lnTo>
                <a:lnTo>
                  <a:pt x="39622" y="39772"/>
                </a:lnTo>
                <a:lnTo>
                  <a:pt x="39751" y="39624"/>
                </a:lnTo>
                <a:close/>
              </a:path>
              <a:path w="989329" h="638809">
                <a:moveTo>
                  <a:pt x="39622" y="39772"/>
                </a:moveTo>
                <a:lnTo>
                  <a:pt x="38100" y="41021"/>
                </a:lnTo>
                <a:lnTo>
                  <a:pt x="38550" y="41021"/>
                </a:lnTo>
                <a:lnTo>
                  <a:pt x="39622" y="39772"/>
                </a:lnTo>
                <a:close/>
              </a:path>
              <a:path w="989329" h="638809">
                <a:moveTo>
                  <a:pt x="977011" y="33528"/>
                </a:moveTo>
                <a:lnTo>
                  <a:pt x="941959" y="33528"/>
                </a:lnTo>
                <a:lnTo>
                  <a:pt x="949579" y="41021"/>
                </a:lnTo>
                <a:lnTo>
                  <a:pt x="981203" y="41021"/>
                </a:lnTo>
                <a:lnTo>
                  <a:pt x="977011" y="33528"/>
                </a:lnTo>
                <a:close/>
              </a:path>
              <a:path w="989329" h="638809">
                <a:moveTo>
                  <a:pt x="39804" y="39624"/>
                </a:moveTo>
                <a:lnTo>
                  <a:pt x="39622" y="39772"/>
                </a:lnTo>
                <a:lnTo>
                  <a:pt x="39804" y="39624"/>
                </a:lnTo>
                <a:close/>
              </a:path>
              <a:path w="989329" h="638809">
                <a:moveTo>
                  <a:pt x="48514" y="33528"/>
                </a:moveTo>
                <a:lnTo>
                  <a:pt x="47244" y="33528"/>
                </a:lnTo>
                <a:lnTo>
                  <a:pt x="45847" y="35052"/>
                </a:lnTo>
                <a:lnTo>
                  <a:pt x="48514" y="33528"/>
                </a:lnTo>
                <a:close/>
              </a:path>
              <a:path w="989329" h="638809">
                <a:moveTo>
                  <a:pt x="970249" y="25781"/>
                </a:moveTo>
                <a:lnTo>
                  <a:pt x="920622" y="25781"/>
                </a:lnTo>
                <a:lnTo>
                  <a:pt x="925068" y="27432"/>
                </a:lnTo>
                <a:lnTo>
                  <a:pt x="929640" y="27432"/>
                </a:lnTo>
                <a:lnTo>
                  <a:pt x="934212" y="30353"/>
                </a:lnTo>
                <a:lnTo>
                  <a:pt x="943483" y="35052"/>
                </a:lnTo>
                <a:lnTo>
                  <a:pt x="941959" y="33528"/>
                </a:lnTo>
                <a:lnTo>
                  <a:pt x="975487" y="33528"/>
                </a:lnTo>
                <a:lnTo>
                  <a:pt x="975487" y="31877"/>
                </a:lnTo>
                <a:lnTo>
                  <a:pt x="970249" y="25781"/>
                </a:lnTo>
                <a:close/>
              </a:path>
            </a:pathLst>
          </a:custGeom>
          <a:solidFill>
            <a:srgbClr val="806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7" name="object 111"/>
          <p:cNvSpPr/>
          <p:nvPr/>
        </p:nvSpPr>
        <p:spPr>
          <a:xfrm>
            <a:off x="7762680" y="5206680"/>
            <a:ext cx="6865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11160">
              <a:lnSpc>
                <a:spcPct val="100000"/>
              </a:lnSpc>
              <a:spcBef>
                <a:spcPts val="88"/>
              </a:spcBef>
            </a:pP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970" spc="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RRO</a:t>
            </a:r>
            <a:r>
              <a:rPr b="0" lang="en-US" sz="970" spc="-4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970" spc="-1" strike="noStrike">
                <a:solidFill>
                  <a:srgbClr val="000000"/>
                </a:solidFill>
                <a:latin typeface="Calibri"/>
              </a:rPr>
              <a:t>&amp;</a:t>
            </a:r>
            <a:r>
              <a:rPr b="0" lang="en-US" sz="97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9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ldNum" idx="16"/>
          </p:nvPr>
        </p:nvSpPr>
        <p:spPr>
          <a:xfrm>
            <a:off x="12452760" y="3400920"/>
            <a:ext cx="47844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2320" indent="0" algn="r">
              <a:lnSpc>
                <a:spcPts val="1151"/>
              </a:lnSpc>
              <a:buNone/>
              <a:defRPr b="0" lang="en-US" sz="97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marL="22320" indent="0" algn="r">
              <a:lnSpc>
                <a:spcPts val="1151"/>
              </a:lnSpc>
              <a:buNone/>
            </a:pPr>
            <a:fld id="{6BC10F29-B3D4-40A2-A661-93CFF5E71B2A}" type="slidenum">
              <a:rPr b="0" lang="en-US" sz="97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97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625040" y="869760"/>
            <a:ext cx="8426160" cy="1195920"/>
          </a:xfrm>
          <a:prstGeom prst="rect">
            <a:avLst/>
          </a:prstGeom>
          <a:noFill/>
          <a:ln w="0">
            <a:noFill/>
          </a:ln>
        </p:spPr>
        <p:txBody>
          <a:bodyPr lIns="0" rIns="0" tIns="11160" bIns="0" anchor="ctr">
            <a:noAutofit/>
          </a:bodyPr>
          <a:p>
            <a:pPr marL="12240" indent="0" algn="ctr">
              <a:lnSpc>
                <a:spcPct val="100000"/>
              </a:lnSpc>
              <a:spcBef>
                <a:spcPts val="88"/>
              </a:spcBef>
              <a:buNone/>
            </a:pPr>
            <a:r>
              <a:rPr b="1" lang="en-US" sz="3890" spc="-4" strike="noStrike">
                <a:solidFill>
                  <a:srgbClr val="000000"/>
                </a:solidFill>
                <a:latin typeface="Garamond"/>
              </a:rPr>
              <a:t>Alexandria, VA </a:t>
            </a:r>
            <a:br>
              <a:rPr sz="3890"/>
            </a:br>
            <a:r>
              <a:rPr b="1" lang="en-US" sz="3890" spc="-4" strike="noStrike">
                <a:solidFill>
                  <a:srgbClr val="000000"/>
                </a:solidFill>
                <a:latin typeface="Garamond"/>
              </a:rPr>
              <a:t>Process Tiered Review</a:t>
            </a:r>
            <a:endParaRPr b="0" lang="en-US" sz="389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ldNum" idx="17"/>
          </p:nvPr>
        </p:nvSpPr>
        <p:spPr>
          <a:xfrm>
            <a:off x="12452760" y="3400920"/>
            <a:ext cx="478440" cy="39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2320" indent="0" algn="r">
              <a:lnSpc>
                <a:spcPts val="1151"/>
              </a:lnSpc>
              <a:buNone/>
              <a:defRPr b="0" lang="en-US" sz="970" spc="-1" strike="noStrike">
                <a:solidFill>
                  <a:srgbClr val="888888"/>
                </a:solidFill>
                <a:latin typeface="Times New Roman"/>
              </a:defRPr>
            </a:lvl1pPr>
          </a:lstStyle>
          <a:p>
            <a:pPr marL="22320" indent="0" algn="r">
              <a:lnSpc>
                <a:spcPts val="1151"/>
              </a:lnSpc>
              <a:buNone/>
            </a:pPr>
            <a:fld id="{CD30027D-73F9-4589-A46A-AB3C5243E6AD}" type="slidenum">
              <a:rPr b="0" lang="en-US" sz="970" spc="-1" strike="noStrike">
                <a:solidFill>
                  <a:srgbClr val="888888"/>
                </a:solidFill>
                <a:latin typeface="Times New Roman"/>
              </a:rPr>
              <a:t>&lt;number&gt;</a:t>
            </a:fld>
            <a:endParaRPr b="0" lang="en-US" sz="9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112"/>
          <p:cNvSpPr/>
          <p:nvPr/>
        </p:nvSpPr>
        <p:spPr>
          <a:xfrm>
            <a:off x="1968480" y="2495520"/>
            <a:ext cx="8523360" cy="26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52000" indent="-252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5 Year Program Clearance 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655560" indent="-252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Inline with Con Plan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655560" indent="-252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Site Specific review on limited basis for: 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2" marL="1059120" indent="-252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Home Rehab and Homeownership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655560" indent="-252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Includes PHA projects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655560" indent="-252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EA for Rental Development by Non Profits and PHA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6"/>
          <p:cNvGrpSpPr/>
          <p:nvPr/>
        </p:nvGrpSpPr>
        <p:grpSpPr>
          <a:xfrm>
            <a:off x="-16920" y="0"/>
            <a:ext cx="12230640" cy="6855840"/>
            <a:chOff x="-16920" y="0"/>
            <a:chExt cx="12230640" cy="6855840"/>
          </a:xfrm>
        </p:grpSpPr>
        <p:pic>
          <p:nvPicPr>
            <p:cNvPr id="693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88520" cy="68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Rectangle 8"/>
            <p:cNvSpPr/>
            <p:nvPr/>
          </p:nvSpPr>
          <p:spPr>
            <a:xfrm>
              <a:off x="2328480" y="1540800"/>
              <a:ext cx="7543440" cy="383508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Picture 9" descr=""/>
            <p:cNvPicPr/>
            <p:nvPr/>
          </p:nvPicPr>
          <p:blipFill>
            <a:blip r:embed="rId3"/>
            <a:stretch/>
          </p:blipFill>
          <p:spPr>
            <a:xfrm>
              <a:off x="-1692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10" descr=""/>
            <p:cNvPicPr/>
            <p:nvPr/>
          </p:nvPicPr>
          <p:blipFill>
            <a:blip r:embed="rId4"/>
            <a:stretch/>
          </p:blipFill>
          <p:spPr>
            <a:xfrm>
              <a:off x="9736200" y="31474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97" name="Straight Connector 12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  <p:sp useBgFill="1">
        <p:nvSpPr>
          <p:cNvPr id="698" name="Rectangle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2192040" y="1400040"/>
            <a:ext cx="7807680" cy="4103640"/>
          </a:xfrm>
          <a:prstGeom prst="rect">
            <a:avLst/>
          </a:prstGeom>
          <a:solidFill>
            <a:schemeClr val="tx2">
              <a:lumMod val="90000"/>
              <a:lumOff val="10000"/>
            </a:schemeClr>
          </a:solidFill>
          <a:ln>
            <a:noFill/>
          </a:ln>
          <a:effectLst>
            <a:outerShdw algn="t" blurRad="114480" dir="5400000" dist="127080" rotWithShape="0" sx="99000" sy="99000">
              <a:srgbClr val="000000">
                <a:alpha val="40000"/>
              </a:srgbClr>
            </a:outerShdw>
          </a:effectLst>
          <a:scene3d>
            <a:camera prst="orthographicFront"/>
            <a:lightRig dir="t" rig="twoPt"/>
          </a:scene3d>
          <a:sp3d contourW="6350">
            <a:bevelT prst="coolSlant" w="12700" h="0"/>
            <a:contourClr>
              <a:schemeClr val="tx2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aramond"/>
            </a:endParaRPr>
          </a:p>
        </p:txBody>
      </p:sp>
      <p:sp>
        <p:nvSpPr>
          <p:cNvPr id="700" name="Rectangle 18"/>
          <p:cNvSpPr/>
          <p:nvPr/>
        </p:nvSpPr>
        <p:spPr>
          <a:xfrm>
            <a:off x="2328480" y="1540800"/>
            <a:ext cx="7543440" cy="3835080"/>
          </a:xfrm>
          <a:prstGeom prst="rect">
            <a:avLst/>
          </a:prstGeom>
          <a:noFill/>
          <a:ln w="15875">
            <a:solidFill>
              <a:srgbClr val="83992a"/>
            </a:solidFill>
            <a:miter/>
          </a:ln>
          <a:effectLst>
            <a:innerShdw blurRad="25400" dir="13500000" dist="12700">
              <a:srgbClr val="000000">
                <a:alpha val="45000"/>
              </a:srgbClr>
            </a:inn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20"/>
          <p:cNvGrpSpPr/>
          <p:nvPr/>
        </p:nvGrpSpPr>
        <p:grpSpPr>
          <a:xfrm>
            <a:off x="0" y="3123720"/>
            <a:ext cx="12230640" cy="659160"/>
            <a:chOff x="0" y="3123720"/>
            <a:chExt cx="12230640" cy="659160"/>
          </a:xfrm>
        </p:grpSpPr>
        <p:sp>
          <p:nvSpPr>
            <p:cNvPr id="702" name="Rounded Rectangle 17"/>
            <p:cNvSpPr/>
            <p:nvPr/>
          </p:nvSpPr>
          <p:spPr>
            <a:xfrm>
              <a:off x="2448000" y="312372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703" name="Picture 22" descr=""/>
            <p:cNvPicPr/>
            <p:nvPr/>
          </p:nvPicPr>
          <p:blipFill>
            <a:blip r:embed="rId5"/>
            <a:stretch/>
          </p:blipFill>
          <p:spPr>
            <a:xfrm>
              <a:off x="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ounded Rectangle 20"/>
            <p:cNvSpPr/>
            <p:nvPr/>
          </p:nvSpPr>
          <p:spPr>
            <a:xfrm>
              <a:off x="9734760" y="3124800"/>
              <a:ext cx="45360" cy="658080"/>
            </a:xfrm>
            <a:prstGeom prst="roundRect">
              <a:avLst>
                <a:gd name="adj" fmla="val 50000"/>
              </a:avLst>
            </a:prstGeom>
            <a:solidFill>
              <a:schemeClr val="tx2">
                <a:alpha val="55000"/>
              </a:schemeClr>
            </a:solidFill>
            <a:ln w="9525">
              <a:noFill/>
            </a:ln>
            <a:effectLst>
              <a:innerShdw blurRad="114300">
                <a:srgbClr val="000000">
                  <a:alpha val="48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aramond"/>
              </a:endParaRPr>
            </a:p>
          </p:txBody>
        </p:sp>
        <p:pic>
          <p:nvPicPr>
            <p:cNvPr id="705" name="Picture 24" descr=""/>
            <p:cNvPicPr/>
            <p:nvPr/>
          </p:nvPicPr>
          <p:blipFill>
            <a:blip r:embed="rId6"/>
            <a:stretch/>
          </p:blipFill>
          <p:spPr>
            <a:xfrm>
              <a:off x="9753120" y="314568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623680" y="3024360"/>
            <a:ext cx="6815160" cy="151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1160"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ENSURE </a:t>
            </a:r>
            <a:r>
              <a:rPr b="0" lang="en-US" sz="3400" spc="-4" strike="noStrike">
                <a:solidFill>
                  <a:srgbClr val="ffffff"/>
                </a:solidFill>
                <a:latin typeface="Garamond"/>
              </a:rPr>
              <a:t>PUBLIC  </a:t>
            </a:r>
            <a:r>
              <a:rPr b="0" lang="en-US" sz="3400" spc="-58" strike="noStrike">
                <a:solidFill>
                  <a:srgbClr val="ffffff"/>
                </a:solidFill>
                <a:latin typeface="Garamond"/>
              </a:rPr>
              <a:t>PARTICIPATION </a:t>
            </a:r>
            <a:r>
              <a:rPr b="0" lang="en-US" sz="3400" spc="-4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US" sz="3400" spc="-63" strike="noStrike">
                <a:solidFill>
                  <a:srgbClr val="ffffff"/>
                </a:solidFill>
                <a:latin typeface="Garamond"/>
              </a:rPr>
              <a:t>NEPA  </a:t>
            </a:r>
            <a:r>
              <a:rPr b="0" lang="en-US" sz="3400" spc="-4" strike="noStrike">
                <a:solidFill>
                  <a:srgbClr val="ffffff"/>
                </a:solidFill>
                <a:latin typeface="Garamond"/>
              </a:rPr>
              <a:t>DECISION-MAKING</a:t>
            </a:r>
            <a:r>
              <a:rPr b="0" lang="en-US" sz="3400" spc="-46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PROCESS</a:t>
            </a:r>
            <a:endParaRPr b="0" lang="en-US" sz="34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707" name="Straight Connector 26"/>
          <p:cNvCxnSpPr/>
          <p:nvPr/>
        </p:nvCxnSpPr>
        <p:spPr>
          <a:xfrm>
            <a:off x="2692080" y="3521880"/>
            <a:ext cx="6816240" cy="360"/>
          </a:xfrm>
          <a:prstGeom prst="straightConnector1">
            <a:avLst/>
          </a:prstGeom>
          <a:ln>
            <a:solidFill>
              <a:srgbClr val="83992a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942200" y="736200"/>
            <a:ext cx="78728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Reason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for Public</a:t>
            </a:r>
            <a:r>
              <a:rPr b="1" lang="en-US" sz="4400" spc="1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articipa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9" name="object 3"/>
          <p:cNvSpPr/>
          <p:nvPr/>
        </p:nvSpPr>
        <p:spPr>
          <a:xfrm>
            <a:off x="1852560" y="2567160"/>
            <a:ext cx="9749160" cy="30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8480" bIns="0" anchor="t">
            <a:spAutoFit/>
          </a:bodyPr>
          <a:p>
            <a:pPr marL="313920" indent="-302400">
              <a:lnSpc>
                <a:spcPct val="70000"/>
              </a:lnSpc>
              <a:spcBef>
                <a:spcPts val="1327"/>
              </a:spcBef>
              <a:buClr>
                <a:srgbClr val="000000"/>
              </a:buClr>
              <a:buSzPct val="69000"/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D tells us IT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27"/>
              </a:spcBef>
              <a:tabLst>
                <a:tab algn="l" pos="313200"/>
                <a:tab algn="l" pos="313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70000"/>
              </a:lnSpc>
              <a:spcBef>
                <a:spcPts val="1327"/>
              </a:spcBef>
              <a:buClr>
                <a:srgbClr val="000000"/>
              </a:buClr>
              <a:buSzPct val="69000"/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is a public righ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 NE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"/>
              </a:spcBef>
              <a:tabLst>
                <a:tab algn="l" pos="313200"/>
                <a:tab algn="l" pos="313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70000"/>
              </a:lnSpc>
              <a:buClr>
                <a:srgbClr val="000000"/>
              </a:buClr>
              <a:buSzPct val="69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Public inp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 improve project</a:t>
            </a:r>
            <a:r>
              <a:rPr b="0" lang="en-US" sz="280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3512"/>
              </a:lnSpc>
              <a:spcBef>
                <a:spcPts val="3305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reso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dif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stop </a:t>
            </a: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</a:t>
            </a:r>
            <a:r>
              <a:rPr b="0" lang="en-US" sz="2800" spc="-4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7640" y="908640"/>
            <a:ext cx="105368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305280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art 58 Includes 3 </a:t>
            </a:r>
            <a:r>
              <a:rPr b="1" lang="en-US" sz="4400" spc="-58" strike="noStrike">
                <a:solidFill>
                  <a:srgbClr val="262626"/>
                </a:solidFill>
                <a:latin typeface="Garamond"/>
              </a:rPr>
              <a:t>Types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ublic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 Noti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1" name="object 3"/>
          <p:cNvSpPr/>
          <p:nvPr/>
        </p:nvSpPr>
        <p:spPr>
          <a:xfrm>
            <a:off x="2101680" y="2543760"/>
            <a:ext cx="8946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t">
            <a:spAutoFit/>
          </a:bodyPr>
          <a:p>
            <a:pPr marL="313920" indent="-302400">
              <a:lnSpc>
                <a:spcPts val="2860"/>
              </a:lnSpc>
              <a:spcBef>
                <a:spcPts val="445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Notice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Intent to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r>
              <a:rPr b="0" lang="en-US" sz="2640" spc="-8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of 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Funds”</a:t>
            </a:r>
            <a:r>
              <a:rPr b="0" lang="en-US" sz="264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(NOI/RROF)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47"/>
              </a:spcBef>
              <a:buClr>
                <a:srgbClr val="000000"/>
              </a:buClr>
              <a:buFont typeface="Symbol" charset="2"/>
              <a:buChar char=""/>
              <a:tabLst>
                <a:tab algn="l" pos="66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quired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jects that are</a:t>
            </a:r>
            <a:r>
              <a:rPr b="0" lang="en-US" sz="230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spcBef>
                <a:spcPts val="278"/>
              </a:spcBef>
              <a:buClr>
                <a:srgbClr val="000000"/>
              </a:buClr>
              <a:buFont typeface="Symbol" charset="2"/>
              <a:buChar char=""/>
              <a:tabLst>
                <a:tab algn="l" pos="66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quired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jects that require an EA or</a:t>
            </a:r>
            <a:r>
              <a:rPr b="0" lang="en-US" sz="2300" spc="-18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860"/>
              </a:lnSpc>
              <a:spcBef>
                <a:spcPts val="663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Notice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of “Finding of No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Significant</a:t>
            </a:r>
            <a:r>
              <a:rPr b="0" lang="en-US" sz="2640" spc="-7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Impact”  (FONSI)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marL="414720">
              <a:lnSpc>
                <a:spcPct val="100000"/>
              </a:lnSpc>
              <a:spcBef>
                <a:spcPts val="247"/>
              </a:spcBef>
              <a:tabLst>
                <a:tab algn="l" pos="313200"/>
                <a:tab algn="l" pos="313920"/>
              </a:tabLst>
            </a:pPr>
            <a:r>
              <a:rPr b="0" lang="en-US" sz="2300" spc="-673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2300" spc="-21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quired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2300" spc="-174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303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Combined NOI/RROF and FONSI</a:t>
            </a:r>
            <a:r>
              <a:rPr b="0" lang="en-US" sz="264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marL="667440" indent="-252720">
              <a:lnSpc>
                <a:spcPts val="248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ay be used for </a:t>
            </a:r>
            <a:r>
              <a:rPr b="0" lang="en-US" sz="2300" spc="-55" strike="noStrike">
                <a:solidFill>
                  <a:srgbClr val="000000"/>
                </a:solidFill>
                <a:latin typeface="Times New Roman"/>
              </a:rPr>
              <a:t>EA’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not for projects that are  </a:t>
            </a:r>
            <a:r>
              <a:rPr b="0" lang="en-US" sz="2300" spc="-49" strike="noStrike">
                <a:solidFill>
                  <a:srgbClr val="000000"/>
                </a:solidFill>
                <a:latin typeface="Times New Roman"/>
              </a:rPr>
              <a:t>CES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10320" y="1049760"/>
            <a:ext cx="11375280" cy="11559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95660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3600" spc="-4" strike="noStrike">
                <a:solidFill>
                  <a:srgbClr val="262626"/>
                </a:solidFill>
                <a:latin typeface="Garamond"/>
              </a:rPr>
              <a:t>Notice </a:t>
            </a:r>
            <a:r>
              <a:rPr b="1" lang="en-US" sz="3600" spc="-9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3600" spc="-4" strike="noStrike">
                <a:solidFill>
                  <a:srgbClr val="262626"/>
                </a:solidFill>
                <a:latin typeface="Garamond"/>
              </a:rPr>
              <a:t>Intent to </a:t>
            </a:r>
            <a:r>
              <a:rPr b="1" lang="en-US" sz="3600" spc="-9" strike="noStrike">
                <a:solidFill>
                  <a:srgbClr val="262626"/>
                </a:solidFill>
                <a:latin typeface="Garamond"/>
              </a:rPr>
              <a:t>Request </a:t>
            </a:r>
            <a:r>
              <a:rPr b="1" lang="en-US" sz="3600" spc="-4" strike="noStrike">
                <a:solidFill>
                  <a:srgbClr val="262626"/>
                </a:solidFill>
                <a:latin typeface="Garamond"/>
              </a:rPr>
              <a:t>Release  of </a:t>
            </a:r>
            <a:r>
              <a:rPr b="1" lang="en-US" sz="3600" spc="-9" strike="noStrike">
                <a:solidFill>
                  <a:srgbClr val="262626"/>
                </a:solidFill>
                <a:latin typeface="Garamond"/>
              </a:rPr>
              <a:t>Funds </a:t>
            </a:r>
            <a:r>
              <a:rPr b="1" lang="en-US" sz="3600" spc="-4" strike="noStrike">
                <a:solidFill>
                  <a:srgbClr val="262626"/>
                </a:solidFill>
                <a:latin typeface="Garamond"/>
              </a:rPr>
              <a:t>[§</a:t>
            </a:r>
            <a:r>
              <a:rPr b="1" lang="en-US" sz="3600" spc="2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3600" spc="-4" strike="noStrike">
                <a:solidFill>
                  <a:srgbClr val="262626"/>
                </a:solidFill>
                <a:latin typeface="Garamond"/>
              </a:rPr>
              <a:t>58.70]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054880" y="2725920"/>
            <a:ext cx="847116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88920" bIns="0" anchor="t">
            <a:noAutofit/>
          </a:bodyPr>
          <a:p>
            <a:pPr marL="324000" indent="-302400">
              <a:lnSpc>
                <a:spcPts val="2540"/>
              </a:lnSpc>
              <a:spcBef>
                <a:spcPts val="703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24000"/>
                <a:tab algn="l" pos="324360"/>
              </a:tabLst>
            </a:pP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NOI/RROF must be disseminated and  published/posted in the manner described  in §58.43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&amp;</a:t>
            </a:r>
            <a:r>
              <a:rPr b="0" lang="en-US" sz="2400" spc="-1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§58.45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324000" indent="-302400">
              <a:lnSpc>
                <a:spcPct val="8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24000"/>
                <a:tab algn="l" pos="324360"/>
              </a:tabLst>
            </a:pP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The RE must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not sign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the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Request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for 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Release of Funds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and Certification  (RROF/C –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rm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HUD-7015.15)--before  the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ose of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required </a:t>
            </a: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local public</a:t>
            </a:r>
            <a:r>
              <a:rPr b="0" lang="en-US" sz="2400" spc="-120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comment  period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marL="324000" indent="-302400">
              <a:lnSpc>
                <a:spcPts val="254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324000"/>
                <a:tab algn="l" pos="324360"/>
              </a:tabLst>
            </a:pP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NOI/RROF must follow </a:t>
            </a:r>
            <a:r>
              <a:rPr b="0" lang="en-US" sz="2400" spc="-9" strike="noStrike">
                <a:solidFill>
                  <a:srgbClr val="262626"/>
                </a:solidFill>
                <a:latin typeface="Garamond"/>
              </a:rPr>
              <a:t>HUD’s 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recommended notice template</a:t>
            </a:r>
            <a:r>
              <a:rPr b="0" lang="en-US" sz="2400" spc="-58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2400" spc="-4" strike="noStrike">
                <a:solidFill>
                  <a:srgbClr val="262626"/>
                </a:solidFill>
                <a:latin typeface="Garamond"/>
              </a:rPr>
              <a:t>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120400" y="837000"/>
            <a:ext cx="878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FONSI Notices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[§</a:t>
            </a:r>
            <a:r>
              <a:rPr b="1" lang="en-US" sz="4400" spc="5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58.43(b)(1)-(2)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5" name="object 3"/>
          <p:cNvSpPr/>
          <p:nvPr/>
        </p:nvSpPr>
        <p:spPr>
          <a:xfrm>
            <a:off x="2752920" y="2466720"/>
            <a:ext cx="677736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1480" bIns="0" anchor="t">
            <a:spAutoFit/>
          </a:bodyPr>
          <a:p>
            <a:pPr marL="313920" indent="-302400">
              <a:lnSpc>
                <a:spcPts val="2577"/>
              </a:lnSpc>
              <a:spcBef>
                <a:spcPts val="405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  <a:tab algn="l" pos="4027680"/>
              </a:tabLst>
            </a:pP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FONSI notices are intended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make the public  aware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the findings and notify them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right 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review and</a:t>
            </a:r>
            <a:r>
              <a:rPr b="0" lang="en-US" sz="2380" spc="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2380" spc="12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ERR and</a:t>
            </a:r>
            <a:r>
              <a:rPr b="0" lang="en-US" sz="2380" spc="-32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313200"/>
                <a:tab algn="l" pos="313920"/>
                <a:tab algn="l" pos="4027680"/>
              </a:tabLst>
            </a:pPr>
            <a:endParaRPr b="0" lang="en-US" sz="322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577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Must follow </a:t>
            </a:r>
            <a:r>
              <a:rPr b="0" lang="en-US" sz="2380" spc="-9" strike="noStrike">
                <a:solidFill>
                  <a:srgbClr val="000000"/>
                </a:solidFill>
                <a:latin typeface="Arial"/>
              </a:rPr>
              <a:t>HUD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recommended FONSI notice  template</a:t>
            </a:r>
            <a:r>
              <a:rPr b="0" lang="en-US" sz="2380" spc="-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313200"/>
                <a:tab algn="l" pos="313920"/>
              </a:tabLst>
            </a:pPr>
            <a:endParaRPr b="0" lang="en-US" sz="322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577"/>
              </a:lnSpc>
              <a:spcBef>
                <a:spcPts val="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Public comments must be considered and  responded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before the </a:t>
            </a:r>
            <a:r>
              <a:rPr b="0" lang="en-US" sz="2380" spc="-9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submits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380" spc="-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RROF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91320" y="531360"/>
            <a:ext cx="8471160" cy="20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76104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FONSI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Notices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Must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be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Sent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to  Interested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Groups</a:t>
            </a:r>
            <a:r>
              <a:rPr b="1" lang="en-US" sz="4400" spc="1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[§58.43(a)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7" name="object 3"/>
          <p:cNvSpPr/>
          <p:nvPr/>
        </p:nvSpPr>
        <p:spPr>
          <a:xfrm>
            <a:off x="2192400" y="2526480"/>
            <a:ext cx="8872200" cy="35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85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Local news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313200"/>
                <a:tab algn="l" pos="313920"/>
              </a:tabLst>
            </a:pP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Appropriate tribal, local, state and federal agencies (i.e. 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there are wetland or wildlife impacts, send to</a:t>
            </a:r>
            <a:r>
              <a:rPr b="0" lang="en-US" sz="1940" spc="100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USFWS)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1862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Local HUD 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Field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US" sz="1940" spc="2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9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313200"/>
                <a:tab algn="l" pos="313920"/>
              </a:tabLst>
            </a:pP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Environmental groups or individuals with known 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interest in 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area or</a:t>
            </a:r>
            <a:r>
              <a:rPr b="0" lang="en-US" sz="1940" spc="15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"/>
              </a:spcBef>
              <a:tabLst>
                <a:tab algn="l" pos="313200"/>
                <a:tab algn="l" pos="313920"/>
              </a:tabLst>
            </a:pP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  <a:tab algn="l" pos="63226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Regu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en-US" sz="1940" spc="12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15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40" spc="-9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es with</a:t>
            </a:r>
            <a:r>
              <a:rPr b="0" lang="en-US" sz="1940" spc="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Kn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wn</a:t>
            </a:r>
            <a:r>
              <a:rPr b="0" lang="en-US" sz="1940" spc="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in Pro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40" spc="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t  Area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30240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  <a:tab algn="l" pos="63226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Like State SHPO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"/>
              </a:spcBef>
              <a:tabLst>
                <a:tab algn="l" pos="313200"/>
                <a:tab algn="l" pos="313920"/>
                <a:tab algn="l" pos="6322680"/>
              </a:tabLst>
            </a:pPr>
            <a:endParaRPr b="0" lang="en-US" sz="1979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Regional </a:t>
            </a:r>
            <a:r>
              <a:rPr b="0" lang="en-US" sz="1940" spc="-9" strike="noStrike">
                <a:solidFill>
                  <a:srgbClr val="000000"/>
                </a:solidFill>
                <a:latin typeface="Arial"/>
              </a:rPr>
              <a:t>Office </a:t>
            </a:r>
            <a:r>
              <a:rPr b="0" lang="en-US" sz="194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the Environmental Protection</a:t>
            </a:r>
            <a:r>
              <a:rPr b="0" lang="en-US" sz="1940" spc="-26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Arial"/>
              </a:rPr>
              <a:t>Agency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7840" y="485280"/>
            <a:ext cx="8471160" cy="202212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348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What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is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the </a:t>
            </a:r>
            <a:r>
              <a:rPr b="1" lang="en-US" sz="4400" spc="-72" strike="noStrike">
                <a:solidFill>
                  <a:srgbClr val="262626"/>
                </a:solidFill>
                <a:latin typeface="Garamond"/>
              </a:rPr>
              <a:t>Value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f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a High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Quality 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nvironmental</a:t>
            </a:r>
            <a:r>
              <a:rPr b="1" lang="en-US" sz="4400" spc="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Review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object 3"/>
          <p:cNvSpPr/>
          <p:nvPr/>
        </p:nvSpPr>
        <p:spPr>
          <a:xfrm>
            <a:off x="2677320" y="2467080"/>
            <a:ext cx="835380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560" bIns="0" anchor="t">
            <a:spAutoFit/>
          </a:bodyPr>
          <a:p>
            <a:pPr marL="313920" indent="-302400">
              <a:lnSpc>
                <a:spcPts val="2673"/>
              </a:lnSpc>
              <a:spcBef>
                <a:spcPts val="41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dentifies and either avoids or mitigates  environmental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impact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at harm: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03560">
              <a:lnSpc>
                <a:spcPct val="100000"/>
              </a:lnSpc>
              <a:spcBef>
                <a:spcPts val="252"/>
              </a:spcBef>
              <a:buClr>
                <a:srgbClr val="000000"/>
              </a:buClr>
              <a:buSzPct val="75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Our</a:t>
            </a:r>
            <a:r>
              <a:rPr b="0" lang="en-US" sz="247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beneficiarie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03560">
              <a:lnSpc>
                <a:spcPct val="100000"/>
              </a:lnSpc>
              <a:spcBef>
                <a:spcPts val="295"/>
              </a:spcBef>
              <a:buClr>
                <a:srgbClr val="000000"/>
              </a:buClr>
              <a:buSzPct val="75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Our</a:t>
            </a:r>
            <a:r>
              <a:rPr b="0" lang="en-US" sz="2470" spc="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03560">
              <a:lnSpc>
                <a:spcPct val="100000"/>
              </a:lnSpc>
              <a:spcBef>
                <a:spcPts val="295"/>
              </a:spcBef>
              <a:buClr>
                <a:srgbClr val="000000"/>
              </a:buClr>
              <a:buSzPct val="75000"/>
              <a:buFont typeface="StarSymbol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urrounding</a:t>
            </a:r>
            <a:r>
              <a:rPr b="0" lang="en-US" sz="247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Results in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quality</a:t>
            </a:r>
            <a:r>
              <a:rPr b="0" lang="en-US" sz="247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ecures the value of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47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59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Avoid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monitoring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finding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70" spc="-4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100000"/>
              </a:lnSpc>
              <a:spcBef>
                <a:spcPts val="59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defense against litigation that could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top 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02120" y="889200"/>
            <a:ext cx="1124136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86912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ombined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NOI/RROF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and FONSI 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Notices</a:t>
            </a:r>
            <a:r>
              <a:rPr b="0" lang="en-US" sz="4400" spc="7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4400" spc="-4" strike="noStrike">
                <a:solidFill>
                  <a:srgbClr val="262626"/>
                </a:solidFill>
                <a:latin typeface="Garamond"/>
              </a:rPr>
              <a:t>[§58.43(b)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9" name="object 3"/>
          <p:cNvSpPr/>
          <p:nvPr/>
        </p:nvSpPr>
        <p:spPr>
          <a:xfrm>
            <a:off x="2792520" y="2769120"/>
            <a:ext cx="64605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313920" indent="-3024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Arial"/>
              </a:rPr>
              <a:t>FONSI </a:t>
            </a:r>
            <a:r>
              <a:rPr b="0" lang="en-US" sz="2830" spc="-4" strike="noStrike">
                <a:solidFill>
                  <a:srgbClr val="000000"/>
                </a:solidFill>
                <a:latin typeface="Arial"/>
              </a:rPr>
              <a:t>notices can be combined</a:t>
            </a:r>
            <a:r>
              <a:rPr b="0" lang="en-US" sz="2830" spc="-8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30" spc="-1" strike="noStrike">
                <a:solidFill>
                  <a:srgbClr val="000000"/>
                </a:solidFill>
                <a:latin typeface="Arial"/>
              </a:rPr>
              <a:t>with  </a:t>
            </a:r>
            <a:r>
              <a:rPr b="0" lang="en-US" sz="2830" spc="-35" strike="noStrike">
                <a:solidFill>
                  <a:srgbClr val="000000"/>
                </a:solidFill>
                <a:latin typeface="Arial"/>
              </a:rPr>
              <a:t>NOI/RROF, </a:t>
            </a:r>
            <a:r>
              <a:rPr b="0" lang="en-US" sz="2830" spc="-4" strike="noStrike">
                <a:solidFill>
                  <a:srgbClr val="000000"/>
                </a:solidFill>
                <a:latin typeface="Arial"/>
              </a:rPr>
              <a:t>but notice</a:t>
            </a:r>
            <a:r>
              <a:rPr b="0" lang="en-US" sz="2830" spc="-18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30" spc="-4" strike="noStrike">
                <a:solidFill>
                  <a:srgbClr val="000000"/>
                </a:solidFill>
                <a:latin typeface="Arial"/>
              </a:rPr>
              <a:t>must: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66744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Arial"/>
              </a:rPr>
              <a:t>Indicate </a:t>
            </a:r>
            <a:r>
              <a:rPr b="0" lang="en-US" sz="2470" spc="-1" strike="noStrike">
                <a:solidFill>
                  <a:srgbClr val="000000"/>
                </a:solidFill>
                <a:latin typeface="Arial"/>
              </a:rPr>
              <a:t>notice meets </a:t>
            </a:r>
            <a:r>
              <a:rPr b="0" lang="en-US" sz="2470" spc="-4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2470" spc="-1" strike="noStrike">
                <a:solidFill>
                  <a:srgbClr val="000000"/>
                </a:solidFill>
                <a:latin typeface="Arial"/>
              </a:rPr>
              <a:t>separate  procedural</a:t>
            </a:r>
            <a:r>
              <a:rPr b="0" lang="en-US" sz="2470" spc="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70" spc="-4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66744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Arial"/>
              </a:rPr>
              <a:t>Advise </a:t>
            </a:r>
            <a:r>
              <a:rPr b="0" lang="en-US" sz="2470" spc="-1" strike="noStrike">
                <a:solidFill>
                  <a:srgbClr val="000000"/>
                </a:solidFill>
                <a:latin typeface="Arial"/>
              </a:rPr>
              <a:t>public to specify </a:t>
            </a:r>
            <a:r>
              <a:rPr b="0" lang="en-US" sz="2470" spc="-4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2470" spc="-1" strike="noStrike">
                <a:solidFill>
                  <a:srgbClr val="000000"/>
                </a:solidFill>
                <a:latin typeface="Arial"/>
              </a:rPr>
              <a:t>notice their  </a:t>
            </a:r>
            <a:r>
              <a:rPr b="0" lang="en-US" sz="2470" spc="-4" strike="noStrike">
                <a:solidFill>
                  <a:srgbClr val="000000"/>
                </a:solidFill>
                <a:latin typeface="Arial"/>
              </a:rPr>
              <a:t>comments</a:t>
            </a:r>
            <a:r>
              <a:rPr b="0" lang="en-US" sz="2470" spc="12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16520" y="782640"/>
            <a:ext cx="847116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08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ublication versus</a:t>
            </a:r>
            <a:r>
              <a:rPr b="1" lang="en-US" sz="4400" spc="-3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ost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1080" indent="0" algn="ctr">
              <a:lnSpc>
                <a:spcPct val="100000"/>
              </a:lnSpc>
              <a:buNone/>
            </a:pPr>
            <a:r>
              <a:rPr b="0" lang="en-US" sz="4400" spc="-4" strike="noStrike">
                <a:solidFill>
                  <a:srgbClr val="262626"/>
                </a:solidFill>
                <a:latin typeface="Garamond"/>
              </a:rPr>
              <a:t>§58.43(a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1" name="object 3"/>
          <p:cNvSpPr/>
          <p:nvPr/>
        </p:nvSpPr>
        <p:spPr>
          <a:xfrm>
            <a:off x="2801520" y="2527560"/>
            <a:ext cx="67129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720" bIns="0" anchor="t">
            <a:spAutoFit/>
          </a:bodyPr>
          <a:p>
            <a:pPr marL="313920" indent="-302400">
              <a:lnSpc>
                <a:spcPts val="2631"/>
              </a:lnSpc>
              <a:spcBef>
                <a:spcPts val="714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ublish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FONSI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newspaper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general  circulation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740" spc="-15" strike="noStrike">
                <a:solidFill>
                  <a:srgbClr val="000000"/>
                </a:solidFill>
                <a:latin typeface="Arial"/>
              </a:rPr>
              <a:t>affected</a:t>
            </a:r>
            <a:r>
              <a:rPr b="0" lang="en-US" sz="2740" spc="100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7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313200"/>
                <a:tab algn="l" pos="313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631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ostings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must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US" sz="2740" spc="-9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Arial"/>
              </a:rPr>
              <a:t>prominently displayed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ublic buildings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within the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2740" spc="140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7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"/>
              </a:spcBef>
              <a:tabLst>
                <a:tab algn="l" pos="313200"/>
                <a:tab algn="l" pos="313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631"/>
              </a:lnSpc>
              <a:spcBef>
                <a:spcPts val="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Posting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be consistent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"Citizen 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articipation"</a:t>
            </a:r>
            <a:r>
              <a:rPr b="0" lang="en-US" sz="2740" spc="46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7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object 2"/>
          <p:cNvGraphicFramePr/>
          <p:nvPr/>
        </p:nvGraphicFramePr>
        <p:xfrm>
          <a:off x="2397960" y="2151720"/>
          <a:ext cx="7524360" cy="4236120"/>
        </p:xfrm>
        <a:graphic>
          <a:graphicData uri="http://schemas.openxmlformats.org/drawingml/2006/table">
            <a:tbl>
              <a:tblPr/>
              <a:tblGrid>
                <a:gridCol w="2820960"/>
                <a:gridCol w="2008440"/>
                <a:gridCol w="2694960"/>
              </a:tblGrid>
              <a:tr h="642600">
                <a:tc>
                  <a:txBody>
                    <a:bodyPr lIns="0" rIns="0" tIns="36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"/>
                        </a:spcBef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6280">
                        <a:lnSpc>
                          <a:spcPts val="2840"/>
                        </a:lnSpc>
                      </a:pPr>
                      <a:r>
                        <a:rPr b="1" lang="en-US" sz="2100" spc="-7" strike="noStrike">
                          <a:solidFill>
                            <a:srgbClr val="000000"/>
                          </a:solidFill>
                          <a:latin typeface="Arial"/>
                        </a:rPr>
                        <a:t>Notice</a:t>
                      </a:r>
                      <a:r>
                        <a:rPr b="1" lang="en-US" sz="2100" spc="-15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55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bfaf8"/>
                    </a:solidFill>
                  </a:tcPr>
                </a:tc>
                <a:tc gridSpan="2">
                  <a:txBody>
                    <a:bodyPr lIns="0" rIns="0" tIns="1080" bIns="0" anchor="t">
                      <a:noAutofit/>
                    </a:bodyPr>
                    <a:p>
                      <a:pPr marL="1651680" indent="-703080">
                        <a:lnSpc>
                          <a:spcPts val="2880"/>
                        </a:lnSpc>
                        <a:spcBef>
                          <a:spcPts val="11"/>
                        </a:spcBef>
                        <a:tabLst>
                          <a:tab algn="l" pos="0"/>
                        </a:tabLst>
                      </a:pPr>
                      <a:r>
                        <a:rPr b="1" lang="en-US" sz="2100" spc="-7" strike="noStrike">
                          <a:solidFill>
                            <a:srgbClr val="000000"/>
                          </a:solidFill>
                          <a:latin typeface="Arial"/>
                        </a:rPr>
                        <a:t>Public Comment</a:t>
                      </a:r>
                      <a:r>
                        <a:rPr b="1" lang="en-US" sz="2100" spc="-52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7" strike="noStrike">
                          <a:solidFill>
                            <a:srgbClr val="000000"/>
                          </a:solidFill>
                          <a:latin typeface="Arial"/>
                        </a:rPr>
                        <a:t>Period  Requiremen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bfa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760" bIns="0" anchor="t">
                      <a:noAutofit/>
                    </a:bodyPr>
                    <a:p>
                      <a:pPr marL="123120" algn="ctr">
                        <a:lnSpc>
                          <a:spcPts val="2840"/>
                        </a:lnSpc>
                        <a:spcBef>
                          <a:spcPts val="215"/>
                        </a:spcBef>
                      </a:pPr>
                      <a:r>
                        <a:rPr b="1" lang="en-US" sz="2100" spc="-7" strike="noStrike">
                          <a:solidFill>
                            <a:srgbClr val="000000"/>
                          </a:solidFill>
                          <a:latin typeface="Arial"/>
                        </a:rPr>
                        <a:t>Publish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3760" bIns="0" anchor="t">
                      <a:noAutofit/>
                    </a:bodyPr>
                    <a:p>
                      <a:pPr marL="124920" algn="ctr">
                        <a:lnSpc>
                          <a:spcPts val="2840"/>
                        </a:lnSpc>
                        <a:spcBef>
                          <a:spcPts val="215"/>
                        </a:spcBef>
                      </a:pPr>
                      <a:r>
                        <a:rPr b="1" lang="en-US" sz="2100" spc="-7" strike="noStrike">
                          <a:solidFill>
                            <a:srgbClr val="000000"/>
                          </a:solidFill>
                          <a:latin typeface="Arial"/>
                        </a:rPr>
                        <a:t>Posted/Mail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0" rIns="0" tIns="2160" bIns="0" anchor="t">
                      <a:noAutofit/>
                    </a:bodyPr>
                    <a:p>
                      <a:pPr marL="290880">
                        <a:lnSpc>
                          <a:spcPts val="2401"/>
                        </a:lnSpc>
                        <a:spcBef>
                          <a:spcPts val="20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ce of Finding of</a:t>
                      </a:r>
                      <a:r>
                        <a:rPr b="0" lang="en-US" sz="1800" spc="-140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 Significant Impact  (FONS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0600" algn="ctr">
                        <a:lnSpc>
                          <a:spcPts val="2356"/>
                        </a:lnSpc>
                        <a:spcBef>
                          <a:spcPts val="6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1800" spc="-2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7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120" algn="ctr">
                        <a:lnSpc>
                          <a:spcPts val="2356"/>
                        </a:lnSpc>
                        <a:spcBef>
                          <a:spcPts val="6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1800" spc="-2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0" rIns="0" tIns="2520" bIns="0" anchor="t">
                      <a:noAutofit/>
                    </a:bodyPr>
                    <a:p>
                      <a:pPr marL="290880">
                        <a:lnSpc>
                          <a:spcPts val="2401"/>
                        </a:lnSpc>
                        <a:spcBef>
                          <a:spcPts val="26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ce of Intent </a:t>
                      </a:r>
                      <a:r>
                        <a:rPr b="0" lang="en-US" sz="1800" spc="-7" strike="noStrike">
                          <a:solidFill>
                            <a:srgbClr val="000000"/>
                          </a:solidFill>
                          <a:latin typeface="Arial"/>
                        </a:rPr>
                        <a:t>t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lease</a:t>
                      </a:r>
                      <a:r>
                        <a:rPr b="0" lang="en-US" sz="1800" spc="-12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 Funds</a:t>
                      </a:r>
                      <a:r>
                        <a:rPr b="0" lang="en-US" sz="1800" spc="-6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I/RRO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2240" algn="ctr">
                        <a:lnSpc>
                          <a:spcPts val="2356"/>
                        </a:lnSpc>
                        <a:spcBef>
                          <a:spcPts val="6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800" spc="-2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120" algn="ctr">
                        <a:lnSpc>
                          <a:spcPts val="2356"/>
                        </a:lnSpc>
                        <a:spcBef>
                          <a:spcPts val="6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2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0" rIns="0" tIns="2520" bIns="0" anchor="t">
                      <a:noAutofit/>
                    </a:bodyPr>
                    <a:p>
                      <a:pPr marL="290880" indent="-63000">
                        <a:lnSpc>
                          <a:spcPts val="2401"/>
                        </a:lnSpc>
                        <a:spcBef>
                          <a:spcPts val="26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urrent or</a:t>
                      </a:r>
                      <a:r>
                        <a:rPr b="0" lang="en-US" sz="1800" spc="-120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 No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64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"/>
                        </a:spcBef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1160" algn="ctr">
                        <a:lnSpc>
                          <a:spcPts val="2330"/>
                        </a:lnSpc>
                        <a:spcBef>
                          <a:spcPts val="6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1800" spc="-2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"/>
                        </a:spcBef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120" algn="ctr">
                        <a:lnSpc>
                          <a:spcPts val="2330"/>
                        </a:lnSpc>
                        <a:spcBef>
                          <a:spcPts val="6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1800" spc="-2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45720" y="608040"/>
            <a:ext cx="82879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75852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0" lang="en-US" sz="4400" spc="-9" strike="noStrike">
                <a:solidFill>
                  <a:srgbClr val="262626"/>
                </a:solidFill>
                <a:latin typeface="Garamond"/>
              </a:rPr>
              <a:t>Summary </a:t>
            </a:r>
            <a:r>
              <a:rPr b="0" lang="en-US" sz="4400" spc="-4" strike="noStrike">
                <a:solidFill>
                  <a:srgbClr val="262626"/>
                </a:solidFill>
                <a:latin typeface="Garamond"/>
              </a:rPr>
              <a:t>Of Public Notice </a:t>
            </a:r>
            <a:r>
              <a:rPr b="0" lang="en-US" sz="4400" spc="-9" strike="noStrike">
                <a:solidFill>
                  <a:srgbClr val="262626"/>
                </a:solidFill>
                <a:latin typeface="Garamond"/>
              </a:rPr>
              <a:t>and  </a:t>
            </a:r>
            <a:r>
              <a:rPr b="0" lang="en-US" sz="4400" spc="-4" strike="noStrike">
                <a:solidFill>
                  <a:srgbClr val="262626"/>
                </a:solidFill>
                <a:latin typeface="Garamond"/>
              </a:rPr>
              <a:t>Public </a:t>
            </a:r>
            <a:r>
              <a:rPr b="0" lang="en-US" sz="4400" spc="-9" strike="noStrike">
                <a:solidFill>
                  <a:srgbClr val="262626"/>
                </a:solidFill>
                <a:latin typeface="Garamond"/>
              </a:rPr>
              <a:t>Comment</a:t>
            </a:r>
            <a:r>
              <a:rPr b="0" lang="en-US" sz="4400" spc="2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0" lang="en-US" sz="4400" spc="-4" strike="noStrike">
                <a:solidFill>
                  <a:srgbClr val="262626"/>
                </a:solidFill>
                <a:latin typeface="Garamond"/>
              </a:rPr>
              <a:t>Peri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217680" y="920160"/>
            <a:ext cx="68738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1720080"/>
              </a:tabLst>
            </a:pPr>
            <a:r>
              <a:rPr b="1" lang="en-US" sz="4400" spc="-18" strike="noStrike">
                <a:solidFill>
                  <a:srgbClr val="262626"/>
                </a:solidFill>
                <a:latin typeface="Garamond"/>
              </a:rPr>
              <a:t>Timing</a:t>
            </a:r>
            <a:r>
              <a:rPr b="1" lang="en-US" sz="4400" spc="-18" strike="noStrike">
                <a:solidFill>
                  <a:srgbClr val="262626"/>
                </a:solidFill>
                <a:latin typeface="Garamond"/>
              </a:rPr>
              <a:t>	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&amp;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ounting</a:t>
            </a:r>
            <a:r>
              <a:rPr b="1" lang="en-US" sz="4400" spc="-32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Day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5" name="object 3"/>
          <p:cNvSpPr/>
          <p:nvPr/>
        </p:nvSpPr>
        <p:spPr>
          <a:xfrm>
            <a:off x="864000" y="2438640"/>
            <a:ext cx="1072908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60" bIns="0" anchor="t">
            <a:spAutoFit/>
          </a:bodyPr>
          <a:p>
            <a:pPr marL="316080" indent="-30492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Symbol" charset="2"/>
              <a:buChar char=""/>
              <a:tabLst>
                <a:tab algn="l" pos="316080"/>
                <a:tab algn="l" pos="31644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Counted in calendar</a:t>
            </a:r>
            <a:r>
              <a:rPr b="0" lang="en-US" sz="1770" spc="-58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"/>
              </a:spcBef>
              <a:tabLst>
                <a:tab algn="l" pos="316080"/>
                <a:tab algn="l" pos="316440"/>
              </a:tabLst>
            </a:pP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 marL="316080" indent="-304920">
              <a:lnSpc>
                <a:spcPts val="1695"/>
              </a:lnSpc>
              <a:spcBef>
                <a:spcPts val="3"/>
              </a:spcBef>
              <a:buClr>
                <a:srgbClr val="000000"/>
              </a:buClr>
              <a:buFont typeface="Symbol" charset="2"/>
              <a:buChar char=""/>
              <a:tabLst>
                <a:tab algn="l" pos="316080"/>
                <a:tab algn="l" pos="31644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First day of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the time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period begins at 12:01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local time on</a:t>
            </a:r>
            <a:r>
              <a:rPr b="0" lang="en-US" sz="1770" spc="-245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the 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day following publication or posting. </a:t>
            </a:r>
            <a:r>
              <a:rPr b="0" lang="en-US" sz="1770" spc="-15" strike="noStrike">
                <a:solidFill>
                  <a:srgbClr val="000000"/>
                </a:solidFill>
                <a:latin typeface="Arial"/>
              </a:rPr>
              <a:t>(Time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Periods</a:t>
            </a:r>
            <a:r>
              <a:rPr b="0" lang="en-US" sz="1770" spc="-11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§58.21)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316080"/>
                <a:tab algn="l" pos="316440"/>
              </a:tabLst>
            </a:pPr>
            <a:endParaRPr b="0" lang="en-US" sz="1850" spc="-1" strike="noStrike">
              <a:solidFill>
                <a:srgbClr val="000000"/>
              </a:solidFill>
              <a:latin typeface="Arial"/>
            </a:endParaRPr>
          </a:p>
          <a:p>
            <a:pPr marL="316080" indent="-3049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16080"/>
                <a:tab algn="l" pos="31644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RE starts counting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day </a:t>
            </a:r>
            <a:r>
              <a:rPr b="0" lang="en-US" sz="177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1770" spc="-19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316080"/>
                <a:tab algn="l" pos="316440"/>
              </a:tabLst>
            </a:pP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6080" indent="-30492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16080"/>
                <a:tab algn="l" pos="316440"/>
              </a:tabLst>
            </a:pP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last day of comment period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falls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on Sat,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Sun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770" spc="-134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8" strike="noStrike">
                <a:solidFill>
                  <a:srgbClr val="000000"/>
                </a:solidFill>
                <a:latin typeface="Arial"/>
              </a:rPr>
              <a:t>Holiday, 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accept comments through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following business</a:t>
            </a:r>
            <a:r>
              <a:rPr b="0" lang="en-US" sz="1770" spc="-15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316080"/>
                <a:tab algn="l" pos="316440"/>
              </a:tabLst>
            </a:pP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6080" indent="-304920">
              <a:lnSpc>
                <a:spcPct val="8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16080"/>
                <a:tab algn="l" pos="31644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RE may extend comment period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any reason, but</a:t>
            </a:r>
            <a:r>
              <a:rPr b="0" lang="en-US" sz="1770" spc="-185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must 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extend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as needed per</a:t>
            </a:r>
            <a:r>
              <a:rPr b="0" lang="en-US" sz="1770" spc="-66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§58.46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"/>
              </a:spcBef>
              <a:tabLst>
                <a:tab algn="l" pos="316080"/>
                <a:tab algn="l" pos="316440"/>
              </a:tabLst>
            </a:pP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 marL="316080" indent="-304920">
              <a:lnSpc>
                <a:spcPts val="1695"/>
              </a:lnSpc>
              <a:spcBef>
                <a:spcPts val="3"/>
              </a:spcBef>
              <a:buClr>
                <a:srgbClr val="ff0000"/>
              </a:buClr>
              <a:buFont typeface="Symbol" charset="2"/>
              <a:buChar char=""/>
              <a:tabLst>
                <a:tab algn="l" pos="316080"/>
                <a:tab algn="l" pos="316440"/>
              </a:tabLst>
            </a:pPr>
            <a:r>
              <a:rPr b="0" lang="en-US" sz="1770" spc="-1" strike="noStrike">
                <a:solidFill>
                  <a:srgbClr val="ff0000"/>
                </a:solidFill>
                <a:latin typeface="Arial"/>
              </a:rPr>
              <a:t>RE Signs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and submits RROF/C day </a:t>
            </a:r>
            <a:r>
              <a:rPr b="0" lang="en-US" sz="177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last day</a:t>
            </a:r>
            <a:r>
              <a:rPr b="0" lang="en-US" sz="1770" spc="-23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of  comment period (the “on or about”</a:t>
            </a:r>
            <a:r>
              <a:rPr b="0" lang="en-US" sz="1770" spc="-148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date)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56960" y="455760"/>
            <a:ext cx="1023264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272988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Example: </a:t>
            </a:r>
            <a:r>
              <a:rPr b="1" lang="en-US" sz="4400" spc="-41" strike="noStrike">
                <a:solidFill>
                  <a:srgbClr val="262626"/>
                </a:solidFill>
                <a:latin typeface="Garamond"/>
              </a:rPr>
              <a:t>RE’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15-day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Comment 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eri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727" name="object 3"/>
          <p:cNvGraphicFramePr/>
          <p:nvPr/>
        </p:nvGraphicFramePr>
        <p:xfrm>
          <a:off x="2734200" y="1680840"/>
          <a:ext cx="6508440" cy="4111200"/>
        </p:xfrm>
        <a:graphic>
          <a:graphicData uri="http://schemas.openxmlformats.org/drawingml/2006/table">
            <a:tbl>
              <a:tblPr/>
              <a:tblGrid>
                <a:gridCol w="925560"/>
                <a:gridCol w="931680"/>
                <a:gridCol w="931680"/>
                <a:gridCol w="931680"/>
                <a:gridCol w="931680"/>
                <a:gridCol w="931680"/>
                <a:gridCol w="924480"/>
              </a:tblGrid>
              <a:tr h="343080">
                <a:tc>
                  <a:txBody>
                    <a:bodyPr lIns="0" rIns="0" tIns="27360" bIns="0" anchor="t">
                      <a:noAutofit/>
                    </a:bodyPr>
                    <a:p>
                      <a:pPr marL="85680">
                        <a:lnSpc>
                          <a:spcPct val="100000"/>
                        </a:lnSpc>
                        <a:spcBef>
                          <a:spcPts val="244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736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44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736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44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736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44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736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44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736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44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736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44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348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</a:t>
                      </a:r>
                      <a:r>
                        <a:rPr b="0" lang="en-US" sz="1800" spc="-66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7" strike="noStrike">
                          <a:solidFill>
                            <a:srgbClr val="ff0000"/>
                          </a:solidFill>
                          <a:latin typeface="Arial"/>
                        </a:rPr>
                        <a:t>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bff"/>
                    </a:solidFill>
                  </a:tcPr>
                </a:tc>
                <a:tc>
                  <a:txBody>
                    <a:bodyPr lIns="0" rIns="0" tIns="3348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720">
                        <a:lnSpc>
                          <a:spcPct val="100000"/>
                        </a:lnSpc>
                        <a:spcBef>
                          <a:spcPts val="400"/>
                        </a:spcBef>
                      </a:pPr>
                      <a:r>
                        <a:rPr b="1" lang="en-US" sz="1400" spc="-7" strike="noStrike">
                          <a:solidFill>
                            <a:srgbClr val="548ed4"/>
                          </a:solidFill>
                          <a:latin typeface="Arial"/>
                        </a:rPr>
                        <a:t>Day</a:t>
                      </a:r>
                      <a:r>
                        <a:rPr b="1" lang="en-US" sz="1400" spc="-15" strike="noStrike">
                          <a:solidFill>
                            <a:srgbClr val="548ed4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7" strike="noStrike">
                          <a:solidFill>
                            <a:srgbClr val="548ed4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348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348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0" rIns="0" tIns="32400" bIns="0" anchor="t">
                      <a:noAutofit/>
                    </a:bodyPr>
                    <a:p>
                      <a:pPr marL="8496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55" strike="noStrike">
                          <a:solidFill>
                            <a:srgbClr val="9933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0" rIns="0" tIns="32400" bIns="0" anchor="t">
                      <a:noAutofit/>
                    </a:bodyPr>
                    <a:p>
                      <a:pPr marL="8496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1" lang="en-US" sz="1800" spc="-1" strike="noStrike">
                          <a:solidFill>
                            <a:srgbClr val="993366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720">
                        <a:lnSpc>
                          <a:spcPct val="100000"/>
                        </a:lnSpc>
                        <a:spcBef>
                          <a:spcPts val="400"/>
                        </a:spcBef>
                      </a:pPr>
                      <a:r>
                        <a:rPr b="1" lang="en-US" sz="1400" spc="-7" strike="noStrike">
                          <a:solidFill>
                            <a:srgbClr val="548ed4"/>
                          </a:solidFill>
                          <a:latin typeface="Arial"/>
                        </a:rPr>
                        <a:t>Day</a:t>
                      </a:r>
                      <a:r>
                        <a:rPr b="1" lang="en-US" sz="1400" spc="-15" strike="noStrike">
                          <a:solidFill>
                            <a:srgbClr val="548ed4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7" strike="noStrike">
                          <a:solidFill>
                            <a:srgbClr val="548ed4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800" spc="-32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720">
                        <a:lnSpc>
                          <a:spcPct val="100000"/>
                        </a:lnSpc>
                        <a:spcBef>
                          <a:spcPts val="14"/>
                        </a:spcBef>
                      </a:pPr>
                      <a:r>
                        <a:rPr b="1" lang="en-US" sz="1400" spc="-12" strike="noStrike">
                          <a:solidFill>
                            <a:srgbClr val="ff0000"/>
                          </a:solidFill>
                          <a:latin typeface="Arial"/>
                        </a:rPr>
                        <a:t>RROF/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ebff"/>
                    </a:solidFill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0" rIns="0" tIns="32400" bIns="0" anchor="t">
                      <a:noAutofit/>
                    </a:bodyPr>
                    <a:p>
                      <a:pPr marL="8496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0" rIns="0" tIns="32400" bIns="0" anchor="t">
                      <a:noAutofit/>
                    </a:bodyPr>
                    <a:p>
                      <a:pPr marL="8496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288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32400" bIns="0" anchor="t">
                      <a:noAutofit/>
                    </a:bodyPr>
                    <a:p>
                      <a:pPr marL="90720">
                        <a:lnSpc>
                          <a:spcPct val="100000"/>
                        </a:lnSpc>
                        <a:spcBef>
                          <a:spcPts val="289"/>
                        </a:spcBef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8" name="object 4"/>
          <p:cNvSpPr/>
          <p:nvPr/>
        </p:nvSpPr>
        <p:spPr>
          <a:xfrm>
            <a:off x="9853920" y="2679480"/>
            <a:ext cx="807840" cy="127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59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7960" y="715320"/>
            <a:ext cx="993060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35828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24" strike="noStrike">
                <a:solidFill>
                  <a:srgbClr val="262626"/>
                </a:solidFill>
                <a:latin typeface="Garamond"/>
              </a:rPr>
              <a:t>Time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Delay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for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Exceptional 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Circumstances</a:t>
            </a:r>
            <a:r>
              <a:rPr b="1" lang="en-US" sz="4400" spc="2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[§58.46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0" name="object 3"/>
          <p:cNvSpPr/>
          <p:nvPr/>
        </p:nvSpPr>
        <p:spPr>
          <a:xfrm>
            <a:off x="2895120" y="2440800"/>
            <a:ext cx="60879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120" bIns="0" anchor="t">
            <a:spAutoFit/>
          </a:bodyPr>
          <a:p>
            <a:pPr marL="313920" indent="-302400">
              <a:lnSpc>
                <a:spcPts val="3053"/>
              </a:lnSpc>
              <a:spcBef>
                <a:spcPts val="473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FONSI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comment period should</a:t>
            </a:r>
            <a:r>
              <a:rPr b="0" lang="en-US" sz="2830" spc="-97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be  extended </a:t>
            </a:r>
            <a:r>
              <a:rPr b="0" lang="en-US" sz="283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30 days</a:t>
            </a:r>
            <a:r>
              <a:rPr b="0" lang="en-US" sz="2830" spc="-5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30" spc="-4" strike="noStrike">
                <a:solidFill>
                  <a:srgbClr val="000000"/>
                </a:solidFill>
                <a:latin typeface="Times New Roman"/>
              </a:rPr>
              <a:t>when:</a:t>
            </a:r>
            <a:endParaRPr b="0" lang="en-US" sz="283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03560">
              <a:lnSpc>
                <a:spcPts val="2673"/>
              </a:lnSpc>
              <a:spcBef>
                <a:spcPts val="590"/>
              </a:spcBef>
              <a:buClr>
                <a:srgbClr val="000000"/>
              </a:buClr>
              <a:buFont typeface="Times New Roman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trong public interest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03560">
              <a:lnSpc>
                <a:spcPct val="100000"/>
              </a:lnSpc>
              <a:spcBef>
                <a:spcPts val="252"/>
              </a:spcBef>
              <a:buClr>
                <a:srgbClr val="000000"/>
              </a:buClr>
              <a:buFont typeface="Times New Roman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e Project is</a:t>
            </a:r>
            <a:r>
              <a:rPr b="0" lang="en-US" sz="2470" spc="1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controversial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03560">
              <a:lnSpc>
                <a:spcPts val="2673"/>
              </a:lnSpc>
              <a:spcBef>
                <a:spcPts val="626"/>
              </a:spcBef>
              <a:buClr>
                <a:srgbClr val="000000"/>
              </a:buClr>
              <a:buFont typeface="Times New Roman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e Project i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similar to other projects 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normally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requiring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470" spc="2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70" spc="-9" strike="noStrike">
                <a:solidFill>
                  <a:srgbClr val="000000"/>
                </a:solidFill>
                <a:latin typeface="Times New Roman"/>
              </a:rPr>
              <a:t>EIS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  <a:p>
            <a:pPr lvl="1" marL="817920" indent="-403560">
              <a:lnSpc>
                <a:spcPts val="2665"/>
              </a:lnSpc>
              <a:spcBef>
                <a:spcPts val="590"/>
              </a:spcBef>
              <a:buClr>
                <a:srgbClr val="000000"/>
              </a:buClr>
              <a:buFont typeface="Times New Roman"/>
              <a:buChar char="—"/>
              <a:tabLst>
                <a:tab algn="l" pos="817560"/>
                <a:tab algn="l" pos="817920"/>
              </a:tabLst>
            </a:pP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The Project is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unique and </a:t>
            </a:r>
            <a:r>
              <a:rPr b="0" lang="en-US" sz="2470" spc="-4" strike="noStrike">
                <a:solidFill>
                  <a:srgbClr val="000000"/>
                </a:solidFill>
                <a:latin typeface="Times New Roman"/>
              </a:rPr>
              <a:t>without  </a:t>
            </a:r>
            <a:r>
              <a:rPr b="0" lang="en-US" sz="2470" spc="-1" strike="noStrike">
                <a:solidFill>
                  <a:srgbClr val="000000"/>
                </a:solidFill>
                <a:latin typeface="Times New Roman"/>
              </a:rPr>
              <a:t>precedent</a:t>
            </a:r>
            <a:endParaRPr b="0" lang="en-US" sz="2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12000" y="900000"/>
            <a:ext cx="97063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568880" indent="0" algn="ctr">
              <a:lnSpc>
                <a:spcPct val="100000"/>
              </a:lnSpc>
              <a:spcBef>
                <a:spcPts val="85"/>
              </a:spcBef>
              <a:buNone/>
              <a:tabLst>
                <a:tab algn="l" pos="0"/>
              </a:tabLst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Shortened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Timeframes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for  Emergencies</a:t>
            </a:r>
            <a:r>
              <a:rPr b="1" lang="en-US" sz="4400" spc="15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[§58.33]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2" name="object 3"/>
          <p:cNvSpPr/>
          <p:nvPr/>
        </p:nvSpPr>
        <p:spPr>
          <a:xfrm>
            <a:off x="1269360" y="2391840"/>
            <a:ext cx="101563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8920" bIns="0" anchor="t">
            <a:spAutoFit/>
          </a:bodyPr>
          <a:p>
            <a:pPr marL="313920" indent="-302400">
              <a:lnSpc>
                <a:spcPts val="2540"/>
              </a:lnSpc>
              <a:spcBef>
                <a:spcPts val="703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</a:tabLst>
            </a:pPr>
            <a:r>
              <a:rPr b="0" lang="en-US" sz="2640" spc="-55" strike="noStrike">
                <a:solidFill>
                  <a:srgbClr val="000000"/>
                </a:solidFill>
                <a:latin typeface="Times New Roman"/>
              </a:rPr>
              <a:t>Taking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n action that has a significant </a:t>
            </a:r>
            <a:r>
              <a:rPr b="0" lang="en-US" sz="2640" spc="-15" strike="noStrike">
                <a:solidFill>
                  <a:srgbClr val="000000"/>
                </a:solidFill>
                <a:latin typeface="Times New Roman"/>
              </a:rPr>
              <a:t>effect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on  the environment during an </a:t>
            </a:r>
            <a:r>
              <a:rPr b="0" lang="en-US" sz="2640" spc="-26" strike="noStrike">
                <a:solidFill>
                  <a:srgbClr val="000000"/>
                </a:solidFill>
                <a:latin typeface="Times New Roman"/>
              </a:rPr>
              <a:t>emergency,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disaster  or imminent threat – the RE must follow 40  CFR </a:t>
            </a:r>
            <a:r>
              <a:rPr b="0" lang="en-US" sz="2640" spc="-32" strike="noStrike">
                <a:solidFill>
                  <a:srgbClr val="000000"/>
                </a:solidFill>
                <a:latin typeface="Times New Roman"/>
              </a:rPr>
              <a:t>1506.11</a:t>
            </a:r>
            <a:r>
              <a:rPr b="0" lang="en-US" sz="2640" spc="-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313200"/>
                <a:tab algn="l" pos="313920"/>
              </a:tabLst>
            </a:pPr>
            <a:endParaRPr b="0" lang="en-US" sz="3309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2540"/>
              </a:lnSpc>
              <a:spcBef>
                <a:spcPts val="3"/>
              </a:spcBef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 declared emergency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40" spc="-7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a  need for action to protect </a:t>
            </a:r>
            <a:r>
              <a:rPr b="0" lang="en-US" sz="264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64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40" spc="-4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64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80000"/>
              </a:lnSpc>
              <a:spcBef>
                <a:spcPts val="581"/>
              </a:spcBef>
              <a:buClr>
                <a:srgbClr val="000000"/>
              </a:buClr>
              <a:buFont typeface="Symbol" charset="2"/>
              <a:buChar char=""/>
              <a:tabLst>
                <a:tab algn="l" pos="66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I/RROF and FONSI can be published  simultaneously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ubmission of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ROF/C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to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UD/Sta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7440" indent="-25272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66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tices must state</a:t>
            </a:r>
            <a:r>
              <a:rPr b="0" lang="en-US" sz="2300" spc="-32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19880" indent="-201600">
              <a:lnSpc>
                <a:spcPts val="2330"/>
              </a:lnSpc>
              <a:spcBef>
                <a:spcPts val="3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10198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Funds are needed for a declared</a:t>
            </a:r>
            <a:r>
              <a:rPr b="0" lang="en-US" sz="1940" spc="63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mergency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2" marL="1019880" indent="-201600"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101988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omments can b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sen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 the RE and</a:t>
            </a:r>
            <a:r>
              <a:rPr b="0" lang="en-US" sz="1940" spc="60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HUD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50680" y="812880"/>
            <a:ext cx="477216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Notice</a:t>
            </a:r>
            <a:r>
              <a:rPr b="1" lang="en-US" sz="4400" spc="-24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4" name="object 3"/>
          <p:cNvSpPr/>
          <p:nvPr/>
        </p:nvSpPr>
        <p:spPr>
          <a:xfrm>
            <a:off x="1838160" y="2471400"/>
            <a:ext cx="9243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5720" bIns="0" anchor="t">
            <a:spAutoFit/>
          </a:bodyPr>
          <a:p>
            <a:pPr marL="448200" indent="-437040">
              <a:lnSpc>
                <a:spcPct val="70000"/>
              </a:lnSpc>
              <a:spcBef>
                <a:spcPts val="1069"/>
              </a:spcBef>
              <a:buClr>
                <a:srgbClr val="000000"/>
              </a:buClr>
              <a:buFont typeface="Symbol" charset="2"/>
              <a:buChar char=""/>
              <a:tabLst>
                <a:tab algn="l" pos="447840"/>
                <a:tab algn="l" pos="448200"/>
              </a:tabLst>
            </a:pP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ublishing: Copy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ublication and proof  of</a:t>
            </a:r>
            <a:r>
              <a:rPr b="0" lang="en-US" sz="274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7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"/>
              </a:spcBef>
              <a:tabLst>
                <a:tab algn="l" pos="447840"/>
                <a:tab algn="l" pos="448200"/>
              </a:tabLst>
            </a:pPr>
            <a:endParaRPr b="0" lang="en-US" sz="3140" spc="-1" strike="noStrike">
              <a:solidFill>
                <a:srgbClr val="000000"/>
              </a:solidFill>
              <a:latin typeface="Arial"/>
            </a:endParaRPr>
          </a:p>
          <a:p>
            <a:pPr marL="448200" indent="-43704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448200"/>
              </a:tabLst>
            </a:pP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Posting: Copy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of posted notice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and  signed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statement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740" spc="8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74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437040">
              <a:lnSpc>
                <a:spcPts val="2435"/>
              </a:lnSpc>
              <a:buClr>
                <a:srgbClr val="000000"/>
              </a:buClr>
              <a:buFont typeface="Times New Roman"/>
              <a:buChar char="—"/>
              <a:tabLst>
                <a:tab algn="l" pos="801360"/>
                <a:tab algn="l" pos="801720"/>
              </a:tabLst>
            </a:pP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Posting</a:t>
            </a:r>
            <a:r>
              <a:rPr b="0" lang="en-US" sz="2380" spc="-26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437040">
              <a:lnSpc>
                <a:spcPts val="2718"/>
              </a:lnSpc>
              <a:buClr>
                <a:srgbClr val="000000"/>
              </a:buClr>
              <a:buFont typeface="Times New Roman"/>
              <a:buChar char="—"/>
              <a:tabLst>
                <a:tab algn="l" pos="801360"/>
                <a:tab algn="l" pos="801720"/>
              </a:tabLst>
            </a:pP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Duration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 posting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"/>
              </a:spcBef>
              <a:tabLst>
                <a:tab algn="l" pos="801360"/>
                <a:tab algn="l" pos="801720"/>
              </a:tabLst>
            </a:pPr>
            <a:endParaRPr b="0" lang="en-US" sz="2250" spc="-1" strike="noStrike">
              <a:solidFill>
                <a:srgbClr val="000000"/>
              </a:solidFill>
              <a:latin typeface="Arial"/>
            </a:endParaRPr>
          </a:p>
          <a:p>
            <a:pPr marL="447840" indent="-436320">
              <a:lnSpc>
                <a:spcPts val="3141"/>
              </a:lnSpc>
              <a:spcBef>
                <a:spcPts val="3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448200"/>
              </a:tabLst>
            </a:pPr>
            <a:r>
              <a:rPr b="0" lang="en-US" sz="2740" spc="-9" strike="noStrike">
                <a:solidFill>
                  <a:srgbClr val="000000"/>
                </a:solidFill>
                <a:latin typeface="Arial"/>
              </a:rPr>
              <a:t>Mailing</a:t>
            </a:r>
            <a:r>
              <a:rPr b="0" lang="en-US" sz="2740" spc="2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40" spc="-4" strike="noStrike">
                <a:solidFill>
                  <a:srgbClr val="000000"/>
                </a:solidFill>
                <a:latin typeface="Arial"/>
              </a:rPr>
              <a:t>(dissemination):</a:t>
            </a:r>
            <a:endParaRPr b="0" lang="en-US" sz="274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437040">
              <a:lnSpc>
                <a:spcPts val="2577"/>
              </a:lnSpc>
              <a:buClr>
                <a:srgbClr val="000000"/>
              </a:buClr>
              <a:buFont typeface="Times New Roman"/>
              <a:buChar char="—"/>
              <a:tabLst>
                <a:tab algn="l" pos="801360"/>
                <a:tab algn="l" pos="801720"/>
              </a:tabLst>
            </a:pP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437040">
              <a:lnSpc>
                <a:spcPts val="2718"/>
              </a:lnSpc>
              <a:buClr>
                <a:srgbClr val="000000"/>
              </a:buClr>
              <a:buFont typeface="Times New Roman"/>
              <a:buChar char="—"/>
              <a:tabLst>
                <a:tab algn="l" pos="801360"/>
                <a:tab algn="l" pos="801720"/>
              </a:tabLst>
            </a:pPr>
            <a:r>
              <a:rPr b="0" lang="en-US" sz="2380" spc="-4" strike="noStrike">
                <a:solidFill>
                  <a:srgbClr val="000000"/>
                </a:solidFill>
                <a:latin typeface="Arial"/>
              </a:rPr>
              <a:t>Mailing</a:t>
            </a:r>
            <a:r>
              <a:rPr b="0" lang="en-US" sz="2380" spc="-9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8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18720" y="758880"/>
            <a:ext cx="785340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Key Pointers for Public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Noti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6" name="object 3"/>
          <p:cNvSpPr/>
          <p:nvPr/>
        </p:nvSpPr>
        <p:spPr>
          <a:xfrm>
            <a:off x="1518480" y="2624400"/>
            <a:ext cx="97477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120" bIns="0" anchor="t">
            <a:spAutoFit/>
          </a:bodyPr>
          <a:p>
            <a:pPr marL="313920" indent="-302400">
              <a:lnSpc>
                <a:spcPts val="1905"/>
              </a:lnSpc>
              <a:spcBef>
                <a:spcPts val="332"/>
              </a:spcBef>
              <a:buClr>
                <a:srgbClr val="000000"/>
              </a:buClr>
              <a:buFont typeface="Symbol" charset="2"/>
              <a:buChar char=""/>
              <a:tabLst>
                <a:tab algn="l" pos="313200"/>
                <a:tab algn="l" pos="313920"/>
                <a:tab algn="l" pos="109584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Use HUD-recommended template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public  notice.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minimum content -</a:t>
            </a:r>
            <a:r>
              <a:rPr b="0" lang="en-US" sz="1770" spc="-13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may add language, </a:t>
            </a:r>
            <a:r>
              <a:rPr b="1" i="1" lang="en-US" sz="1770" spc="-1" strike="noStrike">
                <a:solidFill>
                  <a:srgbClr val="000000"/>
                </a:solidFill>
                <a:latin typeface="Arial"/>
              </a:rPr>
              <a:t>but do not</a:t>
            </a:r>
            <a:r>
              <a:rPr b="1" i="1" lang="en-US" sz="1770" spc="-126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77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tabLst>
                <a:tab algn="l" pos="313200"/>
                <a:tab algn="l" pos="313920"/>
                <a:tab algn="l" pos="1095840"/>
              </a:tabLst>
            </a:pP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 marL="313200" indent="-302040">
              <a:lnSpc>
                <a:spcPts val="2013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770" spc="-15" strike="noStrike">
                <a:solidFill>
                  <a:srgbClr val="000000"/>
                </a:solidFill>
                <a:latin typeface="Arial"/>
              </a:rPr>
              <a:t>Triple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dates before</a:t>
            </a:r>
            <a:r>
              <a:rPr b="0" lang="en-US" sz="1770" spc="-9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publishing/posting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 marL="313920">
              <a:lnSpc>
                <a:spcPts val="2013"/>
              </a:lnSpc>
              <a:tabLst>
                <a:tab algn="l" pos="313200"/>
                <a:tab algn="l" pos="31392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including submission date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770" spc="-94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HUD/State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"/>
              </a:spcBef>
              <a:tabLst>
                <a:tab algn="l" pos="313200"/>
                <a:tab algn="l" pos="313920"/>
              </a:tabLst>
            </a:pPr>
            <a:endParaRPr b="0" lang="en-US" sz="238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Describe project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fully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and concisely</a:t>
            </a:r>
            <a:r>
              <a:rPr b="0" lang="en-US" sz="1770" spc="-11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including  environmental issues and</a:t>
            </a:r>
            <a:r>
              <a:rPr b="0" lang="en-US" sz="1770" spc="-75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mitigation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"/>
              </a:spcBef>
              <a:tabLst>
                <a:tab algn="l" pos="313200"/>
                <a:tab algn="l" pos="313920"/>
              </a:tabLst>
            </a:pPr>
            <a:endParaRPr b="0" lang="en-US" sz="221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Use common language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project location</a:t>
            </a:r>
            <a:r>
              <a:rPr b="0" lang="en-US" sz="1770" spc="-143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Elm St,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not “Parcel</a:t>
            </a:r>
            <a:r>
              <a:rPr b="0" lang="en-US" sz="1770" spc="-97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#0100-45095”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"/>
              </a:spcBef>
              <a:tabLst>
                <a:tab algn="l" pos="313200"/>
                <a:tab algn="l" pos="313920"/>
              </a:tabLst>
            </a:pP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 marL="313920" indent="-302400">
              <a:lnSpc>
                <a:spcPts val="1695"/>
              </a:lnSpc>
              <a:buClr>
                <a:srgbClr val="000000"/>
              </a:buClr>
              <a:buFont typeface="Arial"/>
              <a:buChar char="•"/>
              <a:tabLst>
                <a:tab algn="l" pos="313200"/>
                <a:tab algn="l" pos="313920"/>
              </a:tabLst>
            </a:pP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Notice must provide </a:t>
            </a:r>
            <a:r>
              <a:rPr b="0" lang="en-US" sz="1770" spc="-9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Arial"/>
              </a:rPr>
              <a:t>RE’s </a:t>
            </a:r>
            <a:r>
              <a:rPr b="0" lang="en-US" sz="177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Arial"/>
              </a:rPr>
              <a:t>address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receipt</a:t>
            </a:r>
            <a:r>
              <a:rPr b="0" lang="en-US" sz="1770" spc="-160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of  comment </a:t>
            </a:r>
            <a:r>
              <a:rPr b="0" lang="en-US" sz="1770" spc="-4" strike="noStrike">
                <a:solidFill>
                  <a:srgbClr val="000000"/>
                </a:solidFill>
                <a:latin typeface="Arial"/>
              </a:rPr>
              <a:t>(e.g.,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not public housing agency or  other grant</a:t>
            </a:r>
            <a:r>
              <a:rPr b="0" lang="en-US" sz="1770" spc="-58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70" spc="-1" strike="noStrike">
                <a:solidFill>
                  <a:srgbClr val="000000"/>
                </a:solidFill>
                <a:latin typeface="Arial"/>
              </a:rPr>
              <a:t>Recipient)</a:t>
            </a:r>
            <a:endParaRPr b="0" lang="en-US" sz="17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30280" y="788760"/>
            <a:ext cx="73753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9" strike="noStrike">
                <a:solidFill>
                  <a:srgbClr val="262626"/>
                </a:solidFill>
                <a:latin typeface="Garamond"/>
              </a:rPr>
              <a:t>HUD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Part 58 Review</a:t>
            </a:r>
            <a:r>
              <a:rPr b="1" lang="en-US" sz="4400" spc="7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15" strike="noStrike">
                <a:solidFill>
                  <a:srgbClr val="262626"/>
                </a:solidFill>
                <a:latin typeface="Garamond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object 3"/>
          <p:cNvSpPr/>
          <p:nvPr/>
        </p:nvSpPr>
        <p:spPr>
          <a:xfrm>
            <a:off x="2133360" y="2293560"/>
            <a:ext cx="912420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3840" bIns="0" anchor="t">
            <a:spAutoFit/>
          </a:bodyPr>
          <a:p>
            <a:pPr marL="414720" indent="-40356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Evaluate Projects </a:t>
            </a:r>
            <a:r>
              <a:rPr b="0" lang="en-US" sz="291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Not</a:t>
            </a:r>
            <a:r>
              <a:rPr b="0" lang="en-US" sz="2910" spc="-32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 </a:t>
            </a:r>
            <a:r>
              <a:rPr b="0" lang="en-US" sz="2910" spc="-1" strike="noStrike" u="heavy">
                <a:solidFill>
                  <a:srgbClr val="000000"/>
                </a:solidFill>
                <a:uFill>
                  <a:solidFill>
                    <a:srgbClr val="000000"/>
                  </a:solidFill>
                </a:uFill>
                <a:latin typeface="Times New Roman"/>
              </a:rPr>
              <a:t>Funds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>
              <a:lnSpc>
                <a:spcPct val="100000"/>
              </a:lnSpc>
              <a:spcBef>
                <a:spcPts val="890"/>
              </a:spcBef>
              <a:buClr>
                <a:srgbClr val="000000"/>
              </a:buClr>
              <a:buFont typeface="Arial"/>
              <a:buChar char="•"/>
              <a:tabLst>
                <a:tab algn="l" pos="414000"/>
                <a:tab algn="l" pos="414720"/>
              </a:tabLst>
            </a:pP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Reviews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910" spc="-1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evaluate: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  <a:p>
            <a:pPr lvl="1" marL="1072080" indent="-252720">
              <a:lnSpc>
                <a:spcPct val="100000"/>
              </a:lnSpc>
              <a:spcBef>
                <a:spcPts val="14"/>
              </a:spcBef>
              <a:buClr>
                <a:srgbClr val="000000"/>
              </a:buClr>
              <a:buFont typeface="StarSymbol"/>
              <a:buChar char="—"/>
              <a:tabLst>
                <a:tab algn="l" pos="1072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2300" spc="-4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72080" indent="-252720">
              <a:lnSpc>
                <a:spcPct val="100000"/>
              </a:lnSpc>
              <a:buClr>
                <a:srgbClr val="000000"/>
              </a:buClr>
              <a:buFont typeface="StarSymbol"/>
              <a:buChar char="—"/>
              <a:tabLst>
                <a:tab algn="l" pos="1072440"/>
              </a:tabLst>
            </a:pP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r>
              <a:rPr b="0" lang="en-US" sz="230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72080" indent="-252720">
              <a:lnSpc>
                <a:spcPct val="100000"/>
              </a:lnSpc>
              <a:buClr>
                <a:srgbClr val="000000"/>
              </a:buClr>
              <a:buFont typeface="StarSymbol"/>
              <a:buChar char="—"/>
              <a:tabLst>
                <a:tab algn="l" pos="1072440"/>
              </a:tabLst>
            </a:pP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r>
              <a:rPr b="0" lang="en-US" sz="2300" spc="-35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4" strike="noStrike">
                <a:solidFill>
                  <a:srgbClr val="000000"/>
                </a:solidFill>
                <a:latin typeface="Times New Roman"/>
              </a:rPr>
              <a:t>impa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720" indent="-403560" algn="just">
              <a:lnSpc>
                <a:spcPts val="2798"/>
              </a:lnSpc>
              <a:spcBef>
                <a:spcPts val="1548"/>
              </a:spcBef>
              <a:buClr>
                <a:srgbClr val="000000"/>
              </a:buClr>
              <a:buFont typeface="Arial"/>
              <a:buChar char="•"/>
              <a:tabLst>
                <a:tab algn="l" pos="414720"/>
              </a:tabLst>
            </a:pP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Cannot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“piggyback” on </a:t>
            </a:r>
            <a:r>
              <a:rPr b="0" lang="en-US" sz="2910" spc="-66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reviews  from other state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federal agencies in  lieu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of a HUD Part 58 </a:t>
            </a:r>
            <a:r>
              <a:rPr b="0" lang="en-US" sz="2910" spc="-32" strike="noStrike">
                <a:solidFill>
                  <a:srgbClr val="000000"/>
                </a:solidFill>
                <a:latin typeface="Times New Roman"/>
              </a:rPr>
              <a:t>review,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unless 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formal </a:t>
            </a:r>
            <a:r>
              <a:rPr b="0" lang="en-US" sz="2910" spc="-72" strike="noStrike">
                <a:solidFill>
                  <a:srgbClr val="000000"/>
                </a:solidFill>
                <a:latin typeface="Times New Roman"/>
              </a:rPr>
              <a:t>NEPA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lead or  </a:t>
            </a:r>
            <a:r>
              <a:rPr b="0" lang="en-US" sz="2910" spc="-1" strike="noStrike">
                <a:solidFill>
                  <a:srgbClr val="000000"/>
                </a:solidFill>
                <a:latin typeface="Times New Roman"/>
              </a:rPr>
              <a:t>cooperating agency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agreement in</a:t>
            </a:r>
            <a:r>
              <a:rPr b="0" lang="en-US" sz="2910" spc="-8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10" spc="-4" strike="noStrike">
                <a:solidFill>
                  <a:srgbClr val="000000"/>
                </a:solidFill>
                <a:latin typeface="Times New Roman"/>
              </a:rPr>
              <a:t>place.</a:t>
            </a:r>
            <a:endParaRPr b="0" lang="en-US" sz="29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44040" y="758160"/>
            <a:ext cx="65836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marL="11160" indent="0" algn="ctr">
              <a:lnSpc>
                <a:spcPct val="100000"/>
              </a:lnSpc>
              <a:spcBef>
                <a:spcPts val="85"/>
              </a:spcBef>
              <a:buNone/>
            </a:pP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Importance 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of Early</a:t>
            </a:r>
            <a:r>
              <a:rPr b="1" lang="en-US" sz="4400" spc="-1" strike="noStrike">
                <a:solidFill>
                  <a:srgbClr val="262626"/>
                </a:solidFill>
                <a:latin typeface="Garamond"/>
              </a:rPr>
              <a:t> </a:t>
            </a:r>
            <a:r>
              <a:rPr b="1" lang="en-US" sz="4400" spc="-4" strike="noStrike">
                <a:solidFill>
                  <a:srgbClr val="262626"/>
                </a:solidFill>
                <a:latin typeface="Garamond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object 5"/>
          <p:cNvSpPr/>
          <p:nvPr/>
        </p:nvSpPr>
        <p:spPr>
          <a:xfrm>
            <a:off x="10085400" y="6149160"/>
            <a:ext cx="78120" cy="1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>
              <a:lnSpc>
                <a:spcPts val="1049"/>
              </a:lnSpc>
            </a:pPr>
            <a:r>
              <a:rPr b="0" lang="en-US" sz="880" spc="-4" strike="noStrike">
                <a:solidFill>
                  <a:srgbClr val="888888"/>
                </a:solidFill>
                <a:latin typeface="Times New Roman"/>
              </a:rPr>
              <a:t>6</a:t>
            </a:r>
            <a:endParaRPr b="0" lang="en-US" sz="8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3"/>
          <p:cNvSpPr/>
          <p:nvPr/>
        </p:nvSpPr>
        <p:spPr>
          <a:xfrm>
            <a:off x="1933560" y="2444760"/>
            <a:ext cx="815148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 marL="263880" indent="-252720">
              <a:lnSpc>
                <a:spcPts val="2285"/>
              </a:lnSpc>
              <a:spcBef>
                <a:spcPts val="374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263520"/>
                <a:tab algn="l" pos="26388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Ensures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lanning and decisions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reflect environmental 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263520"/>
                <a:tab algn="l" pos="263880"/>
              </a:tabLst>
            </a:pPr>
            <a:r>
              <a:rPr b="0" lang="en-US" sz="2120" spc="-32" strike="noStrike">
                <a:solidFill>
                  <a:srgbClr val="000000"/>
                </a:solidFill>
                <a:latin typeface="Times New Roman"/>
              </a:rPr>
              <a:t>Avoids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roject delays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ct val="100000"/>
              </a:lnSpc>
              <a:spcBef>
                <a:spcPts val="1338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263520"/>
                <a:tab algn="l" pos="263880"/>
              </a:tabLst>
            </a:pP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Heads </a:t>
            </a:r>
            <a:r>
              <a:rPr b="0" lang="en-US" sz="2120" spc="-18" strike="noStrike">
                <a:solidFill>
                  <a:srgbClr val="000000"/>
                </a:solidFill>
                <a:latin typeface="Times New Roman"/>
              </a:rPr>
              <a:t>off </a:t>
            </a: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otential conflicts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marL="263880" indent="-252720">
              <a:lnSpc>
                <a:spcPts val="2529"/>
              </a:lnSpc>
              <a:spcBef>
                <a:spcPts val="1332"/>
              </a:spcBef>
              <a:buClr>
                <a:srgbClr val="000000"/>
              </a:buClr>
              <a:buSzPct val="115000"/>
              <a:buFont typeface="Symbol" charset="2"/>
              <a:buChar char=""/>
              <a:tabLst>
                <a:tab algn="l" pos="263520"/>
                <a:tab algn="l" pos="263880"/>
              </a:tabLst>
            </a:pPr>
            <a:r>
              <a:rPr b="0" lang="en-US" sz="2120" spc="-1" strike="noStrike">
                <a:solidFill>
                  <a:srgbClr val="000000"/>
                </a:solidFill>
                <a:latin typeface="Times New Roman"/>
              </a:rPr>
              <a:t>Procedural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Reasons</a:t>
            </a:r>
            <a:r>
              <a:rPr b="0" lang="en-US" sz="2120" spc="-26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20" spc="-4" strike="noStrike">
                <a:solidFill>
                  <a:srgbClr val="000000"/>
                </a:solidFill>
                <a:latin typeface="Times New Roman"/>
              </a:rPr>
              <a:t>(§58.22):</a:t>
            </a:r>
            <a:endParaRPr b="0" lang="en-US" sz="212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51720">
              <a:lnSpc>
                <a:spcPct val="88000"/>
              </a:lnSpc>
              <a:spcBef>
                <a:spcPts val="303"/>
              </a:spcBef>
              <a:buClr>
                <a:srgbClr val="000000"/>
              </a:buClr>
              <a:buSzPct val="114000"/>
              <a:buFont typeface="StarSymbol"/>
              <a:buChar char="—"/>
              <a:tabLst>
                <a:tab algn="l" pos="76716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commi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HUD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unds pri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 Release of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unds 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51720" algn="just">
              <a:lnSpc>
                <a:spcPct val="89000"/>
              </a:lnSpc>
              <a:spcBef>
                <a:spcPts val="261"/>
              </a:spcBef>
              <a:buClr>
                <a:srgbClr val="000000"/>
              </a:buClr>
              <a:buSzPct val="114000"/>
              <a:buFont typeface="StarSymbol"/>
              <a:buChar char="—"/>
              <a:tabLst>
                <a:tab algn="l" pos="76716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commi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non-HUD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funds pri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RROF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approval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ctivity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roject would have an adverse environmental 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impac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limi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choice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reasonable</a:t>
            </a:r>
            <a:r>
              <a:rPr b="0" lang="en-US" sz="1940" spc="38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lternatives.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  <a:p>
            <a:pPr lvl="1" marL="766440" indent="-351720">
              <a:lnSpc>
                <a:spcPct val="88000"/>
              </a:lnSpc>
              <a:spcBef>
                <a:spcPts val="286"/>
              </a:spcBef>
              <a:buClr>
                <a:srgbClr val="000000"/>
              </a:buClr>
              <a:buSzPct val="114000"/>
              <a:buFont typeface="StarSymbol"/>
              <a:buChar char="—"/>
              <a:tabLst>
                <a:tab algn="l" pos="767160"/>
              </a:tabLst>
            </a:pP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For projects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not requiring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1940" spc="-35" strike="noStrike">
                <a:solidFill>
                  <a:srgbClr val="000000"/>
                </a:solidFill>
                <a:latin typeface="Times New Roman"/>
              </a:rPr>
              <a:t>RROF,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environmental review  </a:t>
            </a:r>
            <a:r>
              <a:rPr b="0" lang="en-US" sz="1940" spc="-9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be completed before start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activity </a:t>
            </a:r>
            <a:r>
              <a:rPr b="0" lang="en-US" sz="194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1940" spc="69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40" spc="-4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9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ganic">
  <a:themeElements>
    <a:clrScheme name="Organic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ganic">
  <a:themeElements>
    <a:clrScheme name="Organic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ganic">
  <a:themeElements>
    <a:clrScheme name="Organic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rganic">
  <a:themeElements>
    <a:clrScheme name="Organic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rganic">
  <a:themeElements>
    <a:clrScheme name="Organic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  <Words>4220</Words>
  <Paragraphs>6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7T22:41:18Z</dcterms:created>
  <dc:creator>Eric Keeler</dc:creator>
  <dc:description/>
  <dc:language>en-US</dc:language>
  <cp:lastModifiedBy>Eric Keeler</cp:lastModifiedBy>
  <dcterms:modified xsi:type="dcterms:W3CDTF">2019-01-18T21:54:01Z</dcterms:modified>
  <cp:revision>35</cp:revision>
  <dc:subject/>
  <dc:title>Environmental Review Session NCDA 2019   Legislative Conferenc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78</vt:r8>
  </property>
</Properties>
</file>