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472-C176-424C-8CC5-6F088F7C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AB1-71B9-427C-93A3-4CCC1B25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6D2-39A1-4C17-8D66-466E6213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B1D-64C9-45F8-9F91-DE084281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9161-5B67-4872-BB25-231FFFD0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320C-2619-44C0-84F6-52939961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1605-A09C-4EA2-B787-84CC8A42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5B0C-0AEA-46B5-88EB-7126CABB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8FC3-6729-44B1-A2B7-C37DE6CB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3DF2-AEF1-4845-A03A-B6639DD0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020B-5633-4AFD-BC63-D5FFECC7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DEC-15E2-4FBD-82AA-536040BD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FAE3-C013-4603-8B2E-65086B3A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E784-3DA5-4D47-BDAE-295674B6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93E3-74D5-492D-982C-3C926EE1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0DDC-597C-4B65-A3FE-B3624221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1E35-44A0-43CA-BD81-E0AA207D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126-3F92-4929-8018-0BBB47DB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107-F313-4048-A9D2-D13C5DC0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EB3-75BE-475C-9A05-97987002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D40-9C05-47E7-A1B6-9A4F96CF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2F5-4B09-4B7D-8FDF-5DE2D662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7E7-CF68-4E55-84BA-8FB2F40F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58A-D49B-41B0-B1E2-1AF063DA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2f"/>
            </a:gs>
            <a:gs pos="100000">
              <a:srgbClr val="7e7e7e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 hidden="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 hidden="1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6105600" y="0"/>
            <a:ext cx="3038040" cy="6857640"/>
          </a:xfrm>
          <a:custGeom>
            <a:avLst/>
            <a:gdLst>
              <a:gd name="textAreaLeft" fmla="*/ 0 w 3038040"/>
              <a:gd name="textAreaRight" fmla="*/ 3038400 w 30380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600" spc="-1" strike="noStrike" cap="all">
                <a:solidFill>
                  <a:srgbClr val="a1d4e6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B211B9-8EFB-436B-B073-51C51AC266D0}" type="slidenum">
              <a:rPr b="0" lang="en-US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74856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8E3B3B-49EB-4BAE-9AFC-830AD17D01D7}" type="slidenum">
              <a:rPr b="0" lang="en-US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hudexchange.info/programs/environmental-review/federal-related-laws-and-authorities/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3.epa.gov/airquality/greenbook/mapnmpoll.html" TargetMode="External"/><Relationship Id="rId2" Type="http://schemas.openxmlformats.org/officeDocument/2006/relationships/hyperlink" Target="https://www3.epa.gov/airquality/greenbook/ancl.html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faa.gov/airports/planning_capacity/passenger_allcargo_stats/passenger/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coast.noaa.gov/czm/mystate/" TargetMode="Externa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fws.gov/endangered/" TargetMode="External"/><Relationship Id="rId2" Type="http://schemas.openxmlformats.org/officeDocument/2006/relationships/hyperlink" Target="https://www.fisheries.noaa.gov/species-directory/threatened-endangered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ebsoilsurvey.nrcs.usda.gov/app/" TargetMode="External"/><Relationship Id="rId2" Type="http://schemas.openxmlformats.org/officeDocument/2006/relationships/hyperlink" Target="https://www.usgs.gov/core-science-systems/ngp/tnm-delivery/" TargetMode="External"/><Relationship Id="rId3" Type="http://schemas.openxmlformats.org/officeDocument/2006/relationships/hyperlink" Target="https://www.nrcs.usda.gov/Internet/FSE_DOCUMENTS/stelprdb1045394.pdf" TargetMode="External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fema.gov/national-flood-insurance-program-community-status-book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pa.maps.arcgis.com/apps/webappviewer/index.html?id=9ebb047ba3ec41ada1877155fe31356b" TargetMode="Externa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nps.gov/subjects/rivers/nationwide-rivers-inventory.htm" TargetMode="Externa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hudexchange.info/environmental-review/asd-calculator/" TargetMode="External"/><Relationship Id="rId2" Type="http://schemas.openxmlformats.org/officeDocument/2006/relationships/hyperlink" Target="https://programs.iowadnr.gov/tanks/pages/advanced.aspx" TargetMode="External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msc.fema.gov/portal/home" TargetMode="External"/><Relationship Id="rId2" Type="http://schemas.openxmlformats.org/officeDocument/2006/relationships/hyperlink" Target="https://www.hudexchange.info/resource/3190/floodplain-management-8-step-decision-making-process/" TargetMode="External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www.epa.gov/emefdata/em4ef.home" TargetMode="External"/><Relationship Id="rId2" Type="http://schemas.openxmlformats.org/officeDocument/2006/relationships/hyperlink" Target="https://echo.epa.gov/" TargetMode="External"/><Relationship Id="rId3" Type="http://schemas.openxmlformats.org/officeDocument/2006/relationships/hyperlink" Target="https://programs.iowadnr.gov/contaminatedsites/" TargetMode="External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www.fws.gov/wetlands/data/Mapper.html" TargetMode="External"/><Relationship Id="rId2" Type="http://schemas.openxmlformats.org/officeDocument/2006/relationships/hyperlink" Target="https://www.hudexchange.info/resource/3190/floodplain-management-8-step-decision-making-process/" TargetMode="External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www.epa.gov/ejscreen" TargetMode="External"/><Relationship Id="rId2" Type="http://schemas.openxmlformats.org/officeDocument/2006/relationships/hyperlink" Target="https://factfinder.census.gov/faces/nav/jsf/pages/searchresults.xhtml?refresh=t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npgallery.nps.gov/nrhp" TargetMode="External"/><Relationship Id="rId2" Type="http://schemas.openxmlformats.org/officeDocument/2006/relationships/hyperlink" Target="https://websoilsurvey.sc.egov.usda.gov/App/HomePage.htm" TargetMode="External"/><Relationship Id="rId3" Type="http://schemas.openxmlformats.org/officeDocument/2006/relationships/hyperlink" Target="https://www.nps.gov/tps/standards/rehabilitation.htm" TargetMode="External"/><Relationship Id="rId4" Type="http://schemas.openxmlformats.org/officeDocument/2006/relationships/hyperlink" Target="http://ncshpo.org/directory/" TargetMode="External"/><Relationship Id="rId5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s://www.hudexchange.info/resources/documents/When-to-Consult-with-Tribes-Under-Section-106-Checklist.pdf" TargetMode="External"/><Relationship Id="rId2" Type="http://schemas.openxmlformats.org/officeDocument/2006/relationships/hyperlink" Target="https://www.hudexchange.info/environmental-review/historic-preservation/tribal-consultation/" TargetMode="External"/><Relationship Id="rId3" Type="http://schemas.openxmlformats.org/officeDocument/2006/relationships/hyperlink" Target="https://egis.hud.gov/tdat/" TargetMode="External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www.hudexchange.info/resource/313/hud-noise-guidebook/" TargetMode="External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s://www.faa.gov/airports/planning_capacity/passenger_allcargo_stats/passenger/" TargetMode="External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s://iowadot.gov/maps/digital-maps/traffic-maps/county" TargetMode="External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s://safetydata.fra.dot.gov/OfficeofSafety/publicsite/crossing/xingqryloc.aspx" TargetMode="External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s://www.hudexchange.info/programs/environmental-review/dnl-calculator/" TargetMode="External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mailto:hjohnson@ci.davenport.ia.us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hudexchange.info/programs/environmental-review/orientation-to-environmental-reviews/#part-58-flowchart" TargetMode="External"/><Relationship Id="rId2" Type="http://schemas.openxmlformats.org/officeDocument/2006/relationships/hyperlink" Target="https://www.hudexchange.info/programs/environmental-review/orientation-to-environmental-reviews/#part-58-flowchar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hudexchange.info/programs/environmental-review/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hudexchange.info/programs/environmental-review/orientation-to-environmental-reviews/#level-of-review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600" spc="-1" strike="noStrike" cap="all">
                <a:solidFill>
                  <a:srgbClr val="a1d4e6"/>
                </a:solidFill>
                <a:latin typeface="Franklin Gothic Book"/>
              </a:rPr>
              <a:t>Resources for</a:t>
            </a:r>
            <a:br>
              <a:rPr sz="4600"/>
            </a:br>
            <a:r>
              <a:rPr b="1" lang="en-US" sz="4600" spc="-1" strike="noStrike" cap="all">
                <a:solidFill>
                  <a:srgbClr val="a1d4e6"/>
                </a:solidFill>
                <a:latin typeface="Franklin Gothic Book"/>
              </a:rPr>
              <a:t>Environmental Review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33080" y="1544760"/>
            <a:ext cx="64796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Community Development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ter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23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</a:t>
            </a:r>
            <a:r>
              <a:rPr b="0" lang="en-US" sz="4600" spc="-1" strike="noStrike" u="sng">
                <a:solidFill>
                  <a:srgbClr val="ffffff"/>
                </a:solidFill>
                <a:uFillTx/>
                <a:latin typeface="Franklin Gothic Book"/>
              </a:rPr>
              <a:t>BEST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little known HUD Resource!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lated laws/authorities pag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1400" indent="-3664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od overview of each of the topic ar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1400" indent="-3664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ed guidance on each topic area to determine if the requirements app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1400" indent="-3664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of types of documentation that must be in the ER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1400" indent="-3664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nks to EXCELLENT worksheets on each law/author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1400" indent="-3664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ww.hudexchange.info/programs/environmental-review/federal-related-laws-and-authorities/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ings to think about: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390600" indent="-35676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ier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45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you tier already, and a law/authority will not apply for ANY of your projects, consider putting it in the tier 1 review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34560" indent="-237600">
              <a:lnSpc>
                <a:spcPct val="100000"/>
              </a:lnSpc>
              <a:spcBef>
                <a:spcPts val="479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, no Coastal Barrier Resources in Iowa – will NEVER apply to our projects, why check it every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34560" indent="-237600">
              <a:lnSpc>
                <a:spcPct val="100000"/>
              </a:lnSpc>
              <a:spcBef>
                <a:spcPts val="479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do this, recheck all sources at the start of each year in case of chan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0600" indent="-35676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cation/Distance based item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45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 local GIS Maps for: Historic, trains, major roads, tanks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45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you do this, update the shapefiles AT LEAST every ye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et’s look at a cute picture: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906732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’s the last picture you’re going to see in the this! (sorr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507960" y="1447920"/>
            <a:ext cx="812772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ets get started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sy” laws/authoriti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90600" indent="-35676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s that are essentially just records checks, have yes/no answers, and have big databases available to research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45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ir 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45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irport Hazar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45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astal Zones management/Coastal Barrier Resour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45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dangered Spec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45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rmland Prot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45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lood Insur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45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le Source Aquif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1400" indent="-2545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ld &amp; Scenic Riv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ir Qualit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PA non-attainment area websi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p: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ww3.epa.gov/airquality/greenbook/mapnmpoll.htm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: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s://www3.epa.gov/airquality/greenbook/ancl.htm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irport Hazard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413280" indent="-3776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Note: this regulation deals with crash hazards only, airport noise is addressed separately under the noise regula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3280" indent="-3776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p showing distance from military/civilian air fields (from google maps/GIS, etc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3280" indent="-3776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within 15,000 ft/3,000 ft, clear zones/layout plan maps (from airport websites/official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3280" indent="-3776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A passenger/cargo websit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3280" indent="-3776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Calibri"/>
                <a:hlinkClick r:id="rId1"/>
              </a:rPr>
              <a:t>https://www.faa.gov/airports/planning_capacity/passenger_allcargo_stats/passenger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astal Zone Management/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astal Barrier Resourc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90960" indent="-357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(Iowa is not known for its beaches – I won’t be much help to you on this!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90960" indent="-357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se are two different laws/authorities, but the records check starts in the same plac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90960" indent="-357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ional Oceanic &amp; Atmospheric Administration Coastal Zone Management Program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coast.noaa.gov/czm/mystate/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ndangered Speci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sh and Wildlife Service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ww.fws.gov/endangered/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AA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s://www.fisheries.noaa.gov/species-directory/threatened-endangere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armland Protec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DA Web Soil Survey Maps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ebsoilsurvey.nrcs.usda.gov/app/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GS National Map for urban overlay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s://www.usgs.gov/core-science-systems/ngp/tnm-delivery/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541"/>
              </a:spcBef>
              <a:buClr>
                <a:srgbClr val="6ea0b0"/>
              </a:buClr>
              <a:buSzPct val="90000"/>
              <a:buFont typeface="Arial"/>
              <a:buChar char="•"/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DA Land Evaluation and Site Assessment (if necessary) </a:t>
            </a:r>
            <a:r>
              <a:rPr b="0" lang="en-US" sz="27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https://www.nrcs.usda.gov/Internet/FSE_DOCUMENTS/stelprdb1045394.pdf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(reference rating criteria at 7 CFR 658.5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lood Insuranc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Note: Flood Insurance requirements are separate from/additional to floodplain manage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 of the 58.6 requirements specific to HUD – not part of NEP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ional Flood Insurance Program Community Status Book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ww.fema.gov/national-flood-insurance-program-community-status-book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is this presentation about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413280" indent="-3776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a step-by step guide to HOW to do an Environmental Review (sorry!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3280" indent="-3776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help on HEROS (not sorry!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3280" indent="-3776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a review of regulations (really not sorry!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3280" indent="-3776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a collection of resources and tools to use to complete every statutory checklist item in the Environmental Review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0280" indent="-26928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ere to find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0280" indent="-26928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to document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ole Source Aquifer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UD/EPA Sole Source Aquifer Map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epa.maps.arcgis.com/apps/webappviewer/index.html?id=9ebb047ba3ec41ada1877155fe31356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ild/Scenic River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termine if the project i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thin 1 mile of a designated riv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-20 miles upstream of a designated riv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 miles downstream of a designated riv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cated on a tributary of a designated riv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ional Park Service National River Inven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ww.nps.gov/subjects/rivers/nationwide-rivers-inventory.ht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alfway There…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lex laws/authoriti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s that have easy records checks, but may also require secondary/local sources, and may trigger calculations (but HUD provides calculators to help) 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losive/Flammable Facil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loodplain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te Contamin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tlands Prot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plosive/Flammable Faciliti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349560" indent="-3193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p location/distance of above ground tanks (GIS, Google maps, etc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9560" indent="-3193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HUD Acceptable Separation Distance calculator for each tank within 1 mile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ww.hudexchange.info/environmental-review/asd-calculator/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9560" indent="-3193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y have State/City resources to get required information on tanks: permit department, DNR, State EPA, 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9560" indent="-3193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– Iowa: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s://programs.iowadnr.gov/tanks/pages/advanced.aspx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loodplain Manage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415440" indent="-3794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NOTE: Floodplain management is separate from/additional to Flood Insurance requir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5440" indent="-3794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MA maps (FIRMs FIRMettes) (not just screenshot, need map/panel numbers)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msc.fema.gov/portal/hom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5440" indent="-3794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unmapped areas, contact State DNR or HUD for assistan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5440" indent="-3794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 Step Process for proposed projects in a floodplain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s://www.hudexchange.info/resource/3190/floodplain-management-8-step-decision-making-process/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te Contamina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401400" indent="-3664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Federal complianc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1400" indent="-3664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PA website enviromapper/envirofa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1400" indent="-3664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ww.epa.gov/emefdata/em4ef.home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1400" indent="-3664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PA enforcement/compliance: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s://echo.epa.gov/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1400" indent="-3664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State compliance- check with your own state EPA/DNR/Finance Authority/Economic Development Authority. You need a contaminated site list/Leaking Underground Tank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1400" indent="-3664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- Iowa: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https://programs.iowadnr.gov/contaminatedsites/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1400" indent="-3664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nborn maps (location varies, usually online at local or State librar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etlands Protec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 Fish &amp; Wildlife National Wetlands Inventory Mapper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ww.fws.gov/wetlands/data/Mapper.htm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in a wetland, triggers 8 Step Process, same as if it were in a floodplain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s://www.hudexchange.info/resource/3190/floodplain-management-8-step-decision-making-process/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K, I lied: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906732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ou need one more to get you through the hard one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07960" y="1371600"/>
            <a:ext cx="812772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aved The Best For Last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nsive” laws/authoriti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s that have multiple sources, are arguably somewhat subjective, require outside consultations/extended timeframes, or may trigger additional calculations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vironmental Just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storic Preserv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ise Abatement/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nvironmental Justic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403560" indent="-3686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PA Environmental Justice Screening To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3560" indent="-3686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ww.epa.gov/ejscree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(can get both map and report versi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3560" indent="-3686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nsus statistics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s://factfinder.census.gov/faces/nav/jsf/pages/searchresults.xhtml?refresh=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3560" indent="-3686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 local sources: Housing Needs Assessment, Analysis of Impediments, 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are the Laws and Authorities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34304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454320" indent="-45432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ional Historic Preservation Act (1966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ld and Scenic Rivers Act (1968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ean Air Act (1970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astal Zone  Management Act (1972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ise Control Act (1972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dangered Species Act (1973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960" indent="0">
              <a:lnSpc>
                <a:spcPct val="9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495680" y="1600200"/>
            <a:ext cx="4723920" cy="52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fe Drinking Water Act (1974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loodplain &amp; Wetlands Management (1977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rmland Protection Policy Act (1981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UD Environ. Criteria &amp; Standards (1984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vironmental Justice E.O. (1994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41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7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istoric Preservation (Section 106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379440" indent="-346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ional Park Service National Register of Historic Places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npgallery.nps.gov/nrhp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79440" indent="-346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DA Historic Soil Survey maps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s://websoilsurvey.sc.egov.usda.gov/App/HomePage.ht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79440" indent="-346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retary of the Interior Standards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https://www.nps.gov/tps/standards/rehabilitation.ht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79440" indent="-346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 Historic Inventory from State Historic Preservation Office (nationwide contact list: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4"/>
              </a:rPr>
              <a:t>http://ncshpo.org/directory/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79440" indent="-346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storic aerial maps (GIS/google maps/librari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79440" indent="-346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storic Sanborn maps/historic photos (location varies, usually online at local or State libr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istoric Preservation (Tribal Consult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lvl="1" marL="274320" indent="-27432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5000"/>
              <a:buFont typeface="Wingdings 2" charset="2"/>
              <a:buChar char=""/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UD “When to Consult With Tribes” Checklist </a:t>
            </a:r>
            <a:r>
              <a:rPr b="0" lang="en-US" sz="25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ww.hudexchange.info/resources/documents/When-to-Consult-with-Tribes-Under-Section-106-Checklist.pdf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5000"/>
              <a:buFont typeface="Wingdings 2" charset="2"/>
              <a:buChar char=""/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UD Tribal Consultation Guidance </a:t>
            </a:r>
            <a:r>
              <a:rPr b="0" lang="en-US" sz="25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s://www.hudexchange.info/environmental-review/historic-preservation/tribal-consultation/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lnSpc>
                <a:spcPct val="80000"/>
              </a:lnSpc>
              <a:spcBef>
                <a:spcPts val="519"/>
              </a:spcBef>
              <a:buClr>
                <a:srgbClr val="6ea0b0"/>
              </a:buClr>
              <a:buSzPct val="85000"/>
              <a:buFont typeface="Wingdings 2" charset="2"/>
              <a:buChar char=""/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ribal Consultation Directory </a:t>
            </a:r>
            <a:r>
              <a:rPr b="0" lang="en-US" sz="26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https://egis.hud.gov/tdat/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oise Abatement/Control (General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marL="385560" indent="-3520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p showing distances from EACH of these features (google maps/GIS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2760" indent="-25128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,000 feet from major/busy ro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2760" indent="-25128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,000 feet from railw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2760" indent="-25128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00 feet from stop 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2760" indent="-25128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5 miles of air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5560" indent="-3520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asure from the “noise assessment location” (NAL): 6.5 feet in front of the façade of the building that is nearest the source of noi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560" indent="-3520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UD Noise Guidebook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ww.hudexchange.info/resource/313/hud-noise-guidebook/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oise Abatement/Control (Airports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Note – this deals with noise from airports, crash hazards are under a different regula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within 15 miles of an airpor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3280" indent="-3776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irport enplanement info info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ww.faa.gov/airports/planning_capacity/passenger_allcargo_stats/passenger/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3280" indent="-37764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irport noise contour maps (if needed for airports with more than 9,000 enplanements within 15 miles): from airport website and/or administrat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oise Abatement/Control (Roads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within 1,000 ft of roadwa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4120" indent="-3510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ffic counts (a/k/a Average Daily Trips or ADT) from City/County streets department or State DOT (example: Iowa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iowadot.gov/maps/digital-maps/traffic-maps/count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4120" indent="-3510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ight fraction if ADT: if no firm info available from City/County/State sources, assume 15% of AD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4120" indent="-3510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tance to stop signs: GIS/Google ma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4120" indent="-3510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eed limit: city/state maps if available, otherwise make a site vis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4120" indent="-3510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oad Gradient: city/county/state maps, if available, otherwise GIS/Google/USGS topographic ma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4120" indent="-3510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roads that don’t have vehicle type counts, check what your state DOT uses as defaults by road type (see next slide for Iowa exampl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oise Abatement/Control (Roads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owa DOT Road Count Defaults (note may be different by state – check with State DO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 rot="5400000">
            <a:off x="3368880" y="615960"/>
            <a:ext cx="2209320" cy="76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oise Abatement/Control (Railroads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there is a railroad within 3,000 fee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960" indent="-381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deral Railroad Administration rail crossing inventory </a:t>
            </a: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safetydata.fra.dot.gov/OfficeofSafety/publicsite/crossing/xingqryloc.aspx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960" indent="-381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website doesn’t say how many cars/engines per train, try to contact railroad. If no response default to 50 cars/2 engines (note – this is our guidance – your HUD office may be differen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oise Abatement/Control (Calculation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ce you have data for airports, roads, railroads, enter into HUD’s online calculator to get Day/Night Nois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ww.hudexchange.info/programs/environmental-review/dnl-calculator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this number to complete HUD checklist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at was exhausting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rcRect l="0" t="0" r="0" b="17627"/>
          <a:stretch/>
        </p:blipFill>
        <p:spPr>
          <a:xfrm>
            <a:off x="2074320" y="1295280"/>
            <a:ext cx="499500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Questions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ther Johns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munity Development Resources Manag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venport, Iow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johnson@ci.davenport.ia.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63-888-200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etermine the Level of Review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67480" y="5638680"/>
            <a:ext cx="13712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Link to HUD flowchart PDF: </a:t>
            </a:r>
            <a:r>
              <a:rPr b="0" lang="en-US" sz="8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ww.hudexchange.info/programs/environmental-review/orientation-to-environmental-reviews/#</a:t>
            </a:r>
            <a:r>
              <a:rPr b="0" lang="en-US" sz="8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part-58-flowchart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X:\ADMINISTRATION\NCDA\2019 ER Panel\Part-58-Flowchart.jpg"/>
          <p:cNvPicPr/>
          <p:nvPr/>
        </p:nvPicPr>
        <p:blipFill>
          <a:blip r:embed="rId3"/>
          <a:srcRect l="0" t="9649" r="0" b="1419"/>
          <a:stretch/>
        </p:blipFill>
        <p:spPr>
          <a:xfrm>
            <a:off x="2057400" y="1066680"/>
            <a:ext cx="496548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is the Statutory Checklist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s just a list of all the laws/authoriti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Users\H19123\AppData\Local\Microsoft\Windows\Temporary Internet Files\Content.Outlook\RA5V7Y2I\4128_NA_Page_3_Top.jpg"/>
          <p:cNvPicPr/>
          <p:nvPr/>
        </p:nvPicPr>
        <p:blipFill>
          <a:blip r:embed="rId1"/>
          <a:stretch/>
        </p:blipFill>
        <p:spPr>
          <a:xfrm>
            <a:off x="152280" y="2133720"/>
            <a:ext cx="9143640" cy="52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ow do I comply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426960" indent="-389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ou have THREE jobs to do for EACH law/authorit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7828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ke a decision: Yes the project is in compliance/No the project isn’t is in compli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7828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ke a Statement: The project is/is not in compliance with the law/authority AND why you believe this is tru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7828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urce documentation supporting your decision: maps, screenshots, photos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6960" indent="-389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s not that hard, if you know where to look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on’t be afraid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416160" indent="-38016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is A LOT of information – don’t try to write it all down, it will be on the NCDA website after the confere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6160" indent="-38016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is probably more information than most projects ne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960" indent="-27144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e. if the project exceeds minimum distance requirements, you don’t have to calculate noise level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960" indent="-27144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 just want you to have the resources IF you need them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UD Resourc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in environmental review pag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mple notices and for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coming training/webina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ent CPD notices/memos regarding 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ww.hudexchange.info/programs/environmental-review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re HUD Resourc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o to Environmental Review pag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as great quick links to regs and cit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nks to sample forma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s://www.hudexchange.info/programs/environmental-review/orientation-to-environmental-reviews/#level-of-review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chnic">
  <a:themeElements>
    <a:clrScheme name="Technic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chnic">
  <a:themeElements>
    <a:clrScheme name="Technic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1999</TotalTime>
  <Application>LibreOffice/7.4.7.2$Linux_X86_64 LibreOffice_project/40$Build-2</Application>
  <AppVersion>15.0000</AppVersion>
  <Words>1739</Words>
  <Paragraphs>232</Paragraphs>
  <Company>City of Davenpor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6T14:57:47Z</dcterms:created>
  <dc:creator>Johnson, Heather</dc:creator>
  <dc:description/>
  <dc:language>en-US</dc:language>
  <cp:lastModifiedBy>MELISSA HORR</cp:lastModifiedBy>
  <dcterms:modified xsi:type="dcterms:W3CDTF">2019-01-18T18:19:35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9</vt:r8>
  </property>
</Properties>
</file>