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C33B0A-C20A-40F4-8BAB-31C0316C7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m I and why am I qualified to talk about 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05AF0-7BDF-4F6B-91C3-B431E92F49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– WHY DO WE C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17420E-0126-4285-BB99-62B09DE8BA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!! How each di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06591-C47A-4B4D-A688-68AF7256C0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en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673247-7787-4B4E-9827-43CBE46E31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A00-1674-49B7-9DCE-CFCD328B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52C-A93C-4126-B741-D1C10734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D14-E134-49FD-8AD9-783CB14D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0B-9587-4F82-BE3E-B02A8ACA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D1E-12CB-455E-BA18-61AF8C6F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348-2C50-4009-B60C-DA2F2B9C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939C-1C42-48D7-9AAF-0B8586E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2B2F-C157-4195-B1BF-79598BCC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0B69-2F1B-4AC2-9F9B-7B468681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1B0-0E84-4BFA-987B-EE0738BB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A43D-18D4-488E-9398-5CE9150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873-775A-44BD-8D16-8D48B55E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017-12CA-48C3-8DF1-656F429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31E8-E359-421D-87F1-F1B87FA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9563-FAD2-4A12-B10A-7C16959D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3DF-AD3F-44BE-AAC6-9BA7408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134-396F-4092-90EF-1A48F7E4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3E0-F103-4E57-9919-8AD9870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050-4653-4279-BD42-F6FD6E4F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2C0-06ED-4BC5-968C-56F620CD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4A2-2876-4356-90D2-CB360F8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B0B-1D04-43F3-86BD-9CEC398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4E8-4AFB-4748-A04E-69693236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1C1-2098-4A98-A9E2-149E32C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ffordable-housing-3-2.jpg"/>
          <p:cNvPicPr/>
          <p:nvPr/>
        </p:nvPicPr>
        <p:blipFill>
          <a:blip r:embed="rId2"/>
          <a:stretch/>
        </p:blipFill>
        <p:spPr>
          <a:xfrm>
            <a:off x="1989720" y="274680"/>
            <a:ext cx="5079600" cy="1130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14280" y="5935680"/>
            <a:ext cx="820440" cy="82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589CCFA-F09D-4766-92C8-474DC2408A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ffordable-housing-3-2.jpg"/>
          <p:cNvPicPr/>
          <p:nvPr/>
        </p:nvPicPr>
        <p:blipFill>
          <a:blip r:embed="rId2"/>
          <a:stretch/>
        </p:blipFill>
        <p:spPr>
          <a:xfrm>
            <a:off x="1989720" y="274680"/>
            <a:ext cx="5079600" cy="1130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314280" y="5935680"/>
            <a:ext cx="820440" cy="82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CC52D56-691A-4DD8-B0EC-947FE1D8BD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emcnannay@cityofcaldwell.org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74440"/>
            <a:ext cx="7772040" cy="43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ensus Based        Stakeholder Engagement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long with a few lessons lear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engagement  along the way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zabeth McNann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dwell, Idah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23, 201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CONSENS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from Merriam-Web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General agreement / Unani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The judgment arrived at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roup solidarity in sentiment and beli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at mean in prac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nsus based engagement is a decision making process that seeks broad agreement among participating stakeholders. Group working towards a general agreement on goals and subsequent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stakeholders exercise a level of discretion and self awareness during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449000"/>
            <a:ext cx="8229240" cy="49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? - Stakehol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voices in the room are heard with “equal” 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Strong personalities cannot dominate conversation, needs assessment, goal setting and prioritiz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atives of small &amp; large organizations/potential subrecipients, city/county staff, appointed officials and any other interested stakeholders participate in the process on an equal ba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It doesn’t matter if you are an introvert or extrove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EVERYONE FEELS HE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nsus based stakeholder engagement requires strong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of the plann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ongoing success, requires a commitment to listen to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meeting contact, survey</a:t>
            </a:r>
            <a:r>
              <a:rPr b="0" lang="is-I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ight this look like in real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s on where you are in your process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Consolidated Plan, AI Annual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subject to your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s Learned in Community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ness of public meetings – think less traditional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 you host meetings – I’m about to tell on mysel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feed them – the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just use other $$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do you do with the information provided and comments recei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u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ZABETH MCNANN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BG PROGRAM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DWELL, 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cnannay@cityofcaldwell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  <Words>309</Words>
  <Paragraphs>57</Paragraphs>
  <Company>Resource Consultant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4:01:21Z</dcterms:created>
  <dc:creator>Elizabeth McNannay</dc:creator>
  <dc:description/>
  <dc:language>en-US</dc:language>
  <cp:lastModifiedBy>Elizabeth McNannay</cp:lastModifiedBy>
  <dcterms:modified xsi:type="dcterms:W3CDTF">2019-01-18T23:55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