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5D94-E970-4FFB-811F-FE98E9929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4443-7A64-4841-B69A-92213037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0711-FC0D-4B6B-8D2D-8B87B260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BC4C-9C48-4041-A1D2-FEE40EB4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4789-18BA-4849-8FAC-EF2DBF84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582B-E633-40B8-85E9-4AC7EE56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8958-CD6C-405F-B042-60AA51F1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695E-2C0A-4363-B3A5-C15D871F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36B4-96E2-48B4-A861-4C74FB34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C53D-B540-4F02-A1F5-571E8964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246B-2E63-4BCE-A35A-EB449E45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B813-60ED-45B0-9108-222DD5B5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53DD-143C-427E-B413-A5C5B9F5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EAAF-C385-495A-AA47-24CE272B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8AC1-3425-46E0-9763-CCF995B8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EACC-BA3C-4A71-ADCB-97C430E1E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554A-13E1-41CE-83A1-0DBF62812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AEA99-BE66-4C7B-BD2B-0209AD64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C5ABB-15A5-4836-AA4B-A1973A79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C6747-B77A-45E9-91E3-FA93732D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37432-5C7B-4ADE-969F-D9FC03FA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7258A-1E4B-498D-AD52-11FB8B5A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5CF3-5F7B-44EF-A70B-5278AAAE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94A84-6566-41A9-9A28-3BF6AD38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944C9-3D1C-4BDC-A5CB-2024D9AD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85F12-42FE-4CBA-9EF6-A357CB1B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07CB5-8881-4675-99D8-0DD3BDEE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D64FF-F7C7-4298-B5CB-49D9582C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580CE-4721-4FF8-9A1C-0CA638CBD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2EAA1-CFA5-48F7-A395-8BA405306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D35F-82DB-43C0-BA26-850B795F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FE8D-92B9-465C-901D-5CB8F2FB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17BC-FCAE-483F-999B-B4C2A1B7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DA56-39E6-44E5-A626-DFB37FC9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6EFB-66F5-4CFC-9A9A-70BC1C26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43D6-14AC-44DE-842C-7BCFE06E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BABF66-FA3F-424A-974E-A897EBD11E3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9880" y="457200"/>
            <a:ext cx="39319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183280" y="987480"/>
            <a:ext cx="617184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839880" y="2057400"/>
            <a:ext cx="393192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dit Master text sty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609E9D-7841-4618-B7CD-23F9BEEADFA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0D859B-8B5C-4101-8D09-86C06666F4B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ommons.wikimedia.org/wiki/File:Wikimedia_Conference_Berlin_-_Developer_meeting_(7700).jpg" TargetMode="External"/><Relationship Id="rId3" Type="http://schemas.openxmlformats.org/officeDocument/2006/relationships/hyperlink" Target="https://creativecommons.org/licenses/by-sa/3.0/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est Practices in Community Engagement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9 NCDA Winter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hington 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nuary 22-25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9880" y="457200"/>
            <a:ext cx="39319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Content Placeholder 6" descr=""/>
          <p:cNvPicPr/>
          <p:nvPr/>
        </p:nvPicPr>
        <p:blipFill>
          <a:blip r:embed="rId1"/>
          <a:stretch/>
        </p:blipFill>
        <p:spPr>
          <a:xfrm>
            <a:off x="5183280" y="645840"/>
            <a:ext cx="6427440" cy="51886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9880" y="2057400"/>
            <a:ext cx="393192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inuous CD proces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ner with non-traditional sources/group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gage people with different abilitie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5183280" y="5628600"/>
            <a:ext cx="60825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This Photo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by Unknown Author is licensed under 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5437800" y="6095880"/>
            <a:ext cx="6268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oto of community members around a circular table working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ontinuous 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537920"/>
            <a:ext cx="1051524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endar your opportunities for CE year-aroun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ce between community consultation and public hearing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g, borrow, cite and give credit if you stea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doesn’t have to be you (or government)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 to wherever the opportunities are; leverage resources you don’t 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63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Target: broader commun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297440"/>
            <a:ext cx="105152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ty Scoop – summer festivals with invitation to share ice cream and City programs and policies initiativ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ited to participate in the Area Agency on Aging and Seattle/King County Housing Development Consortium’s Senior Housing Needs foru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or's holds "telephone town hall" for public input on housing affordability, growth management and density planning, HALA recommendations; ATT conference line for up to 200 caller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rata (private technology software developer focused on "open data“) innovations think tank; University of Washington research on “micro-segregation” by race in Seattle neighborho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Target: protected classes and constitu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410840"/>
            <a:ext cx="1051524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19600" indent="-219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ttle Housing Authority public housing residents; multiple outreach events and resident council discussions in each housing commun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600" indent="-219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thwest Universal Design Council will “Walk-, Stroll- &amp; Roll-Ability: Designing a Pedestrian Network for All”.  Invitation to present on equity issues for people with physical impairments as part of prioritizing City-wide infrastructure improvements (with Dept. of Transportation, Office of Long Range Planning, Office of Housing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600" indent="-219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ce and Social Justice committees throughout City Departments; link to client advisory group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600" indent="-219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ttle Office of Civil Rights community survey; periodic assessment of experience of people in community experiencing discrimination in many 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Target:  stakeholders/regional part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602360"/>
            <a:ext cx="10515240" cy="489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tizens advisory committees; planning sessions across the City as part of the Housing Affordability and Livability Agenda (HALA) for over two years; led to adoption of inclusionary zoning Ordina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mal and informal neighborhoods meetings as part of the update to the City’s Comprehensive Growth Management Pla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D sponsored Region X Forum focusing on the Assessment of Fair Housing and impact of regional issues driving housing affordability; presentations and peer to peer consul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Non-traditional partnershi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503360"/>
            <a:ext cx="10515240" cy="49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tes Foundation – research on community involvement in schools initi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will co-sponsored public benefits fair, minority community outreach program students and civil rights education presentation (including fair hous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a Agencies on Ag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ttle Planning Commission and architects round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ighborhood Council advocacy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thwest Justic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versity of Washington – Evans School of Public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9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Engage People with Different Abil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392480"/>
            <a:ext cx="10515240" cy="51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187920" indent="-187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rst do no harm…have you thought about the barriers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7920" indent="-187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sk the experts…first. Inventory your local resources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7920" indent="-187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ust how many people are we talking about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7920" indent="-187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ere and how do you hold opportunities for engagement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7920" indent="-187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eparation of materials and use of accessible mediums. Notice this presentation style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7920" indent="-187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ow can digital tools (Skype, online forums) help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Target:  People with Different Abil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364760"/>
            <a:ext cx="10515240" cy="51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29320" indent="-229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ty Commission for People with Different Abilities working on Comprehensive Growth Management Plan and links to Assessment of Fair Housing and ConPla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9320" indent="-229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training on ADA compliance with City and advocacy groups like Lighthouse for the Blind, Deaf and Hearing Impairment groups and disAbilities Rights Washington legal advocat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9320" indent="-229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thwest Universal Design Council, U.S Access Board, and City Commission public meeting on infrastructure and architectural design that is accessible for al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9320" indent="-229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ttle Library – consultation on production of Braille summary of Con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  <Words>237</Words>
  <Paragraphs>5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6T23:12:30Z</dcterms:created>
  <dc:creator>Rhinehart, Debra</dc:creator>
  <dc:description/>
  <dc:language>en-US</dc:language>
  <cp:lastModifiedBy>Rhinehart, Debra</cp:lastModifiedBy>
  <dcterms:modified xsi:type="dcterms:W3CDTF">2019-01-18T23:06:55Z</dcterms:modified>
  <cp:revision>14</cp:revision>
  <dc:subject/>
  <dc:title>Community Engagement Exampl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9</vt:r8>
  </property>
</Properties>
</file>