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58400" cy="77724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B1B8E-F095-4E09-BA5A-5735B67C4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26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81B058-6FA8-49A2-9CCD-73EDD3E1FC42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azon completed in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rate at The Corazon is currently $1610 per month for a 550 sq. ft. 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 units at 60% MFI and below ($903 per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aza Saltillo TOD, and Imagine Austin corridor and adjacent to urban 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3184C-5293-4AD4-BDAD-DC3ECD479AB9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ove - 1098 rental and 579 ownership units anticipated at buil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 may realize up to ~$13m in reimbursements including (fee waivers and annual property tax re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began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1 rental units at or below 60% MFI and 46 rental units at or below 80% M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 CLT units sold to households at or below 80% M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ffordable ownership units set to be completed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opportunity area along an Imagine Austin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2DC90F-B1FD-4467-B963-DAE2F29143E4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eller PUD – previous Municipal airport (~700 ac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velopment began in 2004, approximately 80 percent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4m square feet of office, 650k square feet of retail, 4,600 residential units, and 140 acres of parks and trails expected at buil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25 percent of completed rental and ownership units are affordable (581 rental units from 30 – 80% MFI and 394 ownership units at 80% M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and along Imagine Austin center and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and funding used include TIF, S.M.A.R.T. Housing fee waivers, gap financing, and LIHTC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52EEE7-76E4-4930-896E-80C7C25C3B0C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0D6308-9558-4BEB-A7F8-D88C8B186200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C3F45-443E-49C3-BF18-AA4A9ADF1AEA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CDE7D-ECB5-43B5-B26E-90D3CE9CDEBE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F5E499-77F1-4B7B-9924-30033B4F5D82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27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758E98-3255-40F8-8F6F-8C5D045A4DE0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3198A-0A23-454A-A10D-AE73ADA78BAF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by Council on April 13,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F4104-6AAE-4DF5-81AA-23806E0F159E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strategies/actions in the Austin Strategic Housing Plan fit in one of 5 identified key community value categ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 the importance of undertaking these strategies in a coordinated manner for the maximum positive impact toward addressing Austin’s affordability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3A2C18-EC18-4F88-BF11-9150B92364BA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development incentive programs only anticipated to contribute a small portion to the larger goal (~2,500 units) over the next 1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3EE3F-8956-4FA3-9BE5-C40888C882E7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Incentives work in two way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incentives are an important tool given Austin’s political context within the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88A269-78C3-4764-BC06-9CB9A201301C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0BB5A4-D909-4B44-BF57-40C279A49619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79600" y="1163520"/>
            <a:ext cx="4063680" cy="3141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2720" y="4479480"/>
            <a:ext cx="5617080" cy="366552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bonnet Studios Completed in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.7m GO Bond &amp; $294k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7 units at 50% MFI and below w/ 6 PSH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Opportunity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ustin and High Frequency Transit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978360" y="8843400"/>
            <a:ext cx="3043440" cy="46548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D51910-48DE-472A-87D1-8342C3341518}" type="slidenum">
              <a:rPr b="0" lang="en-US" sz="11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AD4-FCD4-41A6-92BE-9D46FD48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825732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360" y="4323600"/>
            <a:ext cx="825732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3CC-92C2-4F0C-86DA-E3E5B17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36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180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F9E-7022-4AC8-AC62-04A41D4D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2160" y="202968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4320" y="202968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360" y="432360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2160" y="432360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4320" y="432360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2B9-B527-45AF-B85B-0F8B81F9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FC5E-C546-41D9-8043-D8EA17E2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360" y="2029680"/>
            <a:ext cx="8257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3989-D1D2-40F9-B668-091E216D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8257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B2F3-260D-45BA-BB46-30925F3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392C-DC4F-4972-AB69-D91E1F24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E95-7A91-4D27-9DB6-A265A56A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2960" y="749520"/>
            <a:ext cx="859248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3C2D-0018-4225-8A83-80E7FA6A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36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7AC0-7ABD-4BA7-B917-2F0DF9B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360" y="2029680"/>
            <a:ext cx="8257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A86-D10E-4572-AF1C-D9E7D0A9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180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6B46-F821-43CA-8AE0-7A4EF264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360" y="4323600"/>
            <a:ext cx="825732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A2B0-4AF2-4CA7-B410-98718FC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825732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360" y="4323600"/>
            <a:ext cx="825732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8111-82D5-4C86-BF85-6CE5F347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36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180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73C3-8C71-411A-B316-50361F03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2160" y="202968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84320" y="202968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360" y="432360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2160" y="432360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84320" y="4323600"/>
            <a:ext cx="265860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CB9-1450-4C96-B228-E1814A38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8257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C37-3C99-4DC8-AB3A-749C30DC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3ED-E920-40C2-B0A2-1540F9C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A30-133F-48C5-9DE2-6DF8A8D5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2960" y="749520"/>
            <a:ext cx="8592480" cy="28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A80-39F2-44EE-9BE6-0AFE931F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36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E82-6B1A-43CC-839F-DB64339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1800" y="432360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270-701B-42A6-ABDD-FBFC4F8A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36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2029680"/>
            <a:ext cx="40294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360" y="4323600"/>
            <a:ext cx="825732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B75-AFD6-47B0-BA3D-CF3B42C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2960" y="749520"/>
            <a:ext cx="8592480" cy="6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360" y="2029680"/>
            <a:ext cx="8257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20000" y="7228440"/>
            <a:ext cx="3218400" cy="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02920" y="7228440"/>
            <a:ext cx="2313000" cy="3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A78D4721-EF6E-4A27-84ED-C41037B23247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160" y="3139560"/>
            <a:ext cx="8674920" cy="20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rgbClr val="4f647d"/>
                </a:solidFill>
                <a:latin typeface="Rockwell"/>
              </a:rPr>
              <a:t>Click to edit Master title sty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6160" y="5201280"/>
            <a:ext cx="867492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640" spc="-1" strike="noStrike">
                <a:solidFill>
                  <a:srgbClr val="000000"/>
                </a:solidFill>
                <a:latin typeface="Rockwell"/>
              </a:rPr>
              <a:t>Click to edit Master text styles</a:t>
            </a:r>
            <a:endParaRPr b="0" lang="en-US" sz="26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228440"/>
            <a:ext cx="23130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0000" y="7228440"/>
            <a:ext cx="3218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463680" y="7180560"/>
            <a:ext cx="275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6FFE363-6A47-4415-91F4-77926753FAB5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ustintexas.gov/department/housing" TargetMode="External"/><Relationship Id="rId2" Type="http://schemas.openxmlformats.org/officeDocument/2006/relationships/hyperlink" Target="http://www.austintexas.gov/department/housing" TargetMode="External"/><Relationship Id="rId3" Type="http://schemas.openxmlformats.org/officeDocument/2006/relationships/hyperlink" Target="http://www.austintexas.gov/department/housing" TargetMode="External"/><Relationship Id="rId4" Type="http://schemas.openxmlformats.org/officeDocument/2006/relationships/hyperlink" Target="http://www.austintexas.gov/housingblueprint" TargetMode="External"/><Relationship Id="rId5" Type="http://schemas.openxmlformats.org/officeDocument/2006/relationships/hyperlink" Target="http://www.austintexas.gov/housingblueprint" TargetMode="External"/><Relationship Id="rId6" Type="http://schemas.openxmlformats.org/officeDocument/2006/relationships/hyperlink" Target="http://www.austintexas.gov/housingblueprint" TargetMode="External"/><Relationship Id="rId7" Type="http://schemas.openxmlformats.org/officeDocument/2006/relationships/hyperlink" Target="http://www.austintexas.gov/page/development-incentives-and-agreements" TargetMode="External"/><Relationship Id="rId8" Type="http://schemas.openxmlformats.org/officeDocument/2006/relationships/hyperlink" Target="http://www.austintexas.gov/page/development-incentives-and-agreements" TargetMode="External"/><Relationship Id="rId9" Type="http://schemas.openxmlformats.org/officeDocument/2006/relationships/hyperlink" Target="http://www.austintexas.gov/page/development-incentives-and-agreements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rosie.truelove@austintexas.go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ject 6"/>
          <p:cNvSpPr/>
          <p:nvPr/>
        </p:nvSpPr>
        <p:spPr>
          <a:xfrm>
            <a:off x="152280" y="7162920"/>
            <a:ext cx="9677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880" bIns="0" anchor="t">
            <a:spAutoFit/>
          </a:bodyPr>
          <a:p>
            <a:pPr marL="12600">
              <a:lnSpc>
                <a:spcPct val="100000"/>
              </a:lnSpc>
              <a:spcBef>
                <a:spcPts val="519"/>
              </a:spcBef>
            </a:pPr>
            <a:r>
              <a:rPr b="0" lang="en-US" sz="2400" spc="-1" strike="noStrike">
                <a:solidFill>
                  <a:srgbClr val="a65a26"/>
                </a:solidFill>
                <a:latin typeface="Rockwell"/>
              </a:rPr>
              <a:t>National Community Development Association </a:t>
            </a:r>
            <a:r>
              <a:rPr b="0" lang="en-US" sz="2400" spc="-1" strike="noStrike">
                <a:solidFill>
                  <a:srgbClr val="a75b25"/>
                </a:solidFill>
                <a:latin typeface="Wingdings 2"/>
              </a:rPr>
              <a:t></a:t>
            </a:r>
            <a:r>
              <a:rPr b="0" lang="en-US" sz="2400" spc="-1" strike="noStrike">
                <a:solidFill>
                  <a:srgbClr val="a65a26"/>
                </a:solidFill>
                <a:latin typeface="Rockwell"/>
              </a:rPr>
              <a:t> January 23-25,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7"/>
          <p:cNvSpPr/>
          <p:nvPr/>
        </p:nvSpPr>
        <p:spPr>
          <a:xfrm>
            <a:off x="0" y="220680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52280" y="143280"/>
            <a:ext cx="86101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600">
              <a:lnSpc>
                <a:spcPts val="3699"/>
              </a:lnSpc>
            </a:pPr>
            <a:r>
              <a:rPr b="0" lang="en-US" sz="3200" spc="-7" strike="noStrike">
                <a:solidFill>
                  <a:srgbClr val="4f647d"/>
                </a:solidFill>
                <a:latin typeface="Rockwell"/>
              </a:rPr>
              <a:t>CITY OF AU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699"/>
              </a:lnSpc>
            </a:pPr>
            <a:r>
              <a:rPr b="0" lang="en-US" sz="3200" spc="-7" strike="noStrike">
                <a:solidFill>
                  <a:srgbClr val="4f647d"/>
                </a:solidFill>
                <a:latin typeface="Rockwell"/>
              </a:rPr>
              <a:t>NEIGHBORHOOD HOUSING AND COMMUNITY DEVELOPMENT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3699"/>
              </a:lnSpc>
            </a:pPr>
            <a:r>
              <a:rPr b="0" lang="en-US" sz="3200" spc="-15" strike="noStrike">
                <a:solidFill>
                  <a:srgbClr val="a65a26"/>
                </a:solidFill>
                <a:latin typeface="Rockwell"/>
              </a:rPr>
              <a:t>Development Incentiv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rcRect l="1785" t="1961" r="1785" b="977"/>
          <a:stretch/>
        </p:blipFill>
        <p:spPr>
          <a:xfrm>
            <a:off x="6324480" y="2506320"/>
            <a:ext cx="3580920" cy="46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2280" y="2506320"/>
            <a:ext cx="601956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" y="15228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Density Bonus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ldNum" idx="18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3B50259D-C7BE-4BCD-811D-D7A1E6C07D01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bject 3"/>
          <p:cNvSpPr/>
          <p:nvPr/>
        </p:nvSpPr>
        <p:spPr>
          <a:xfrm>
            <a:off x="108720" y="1066680"/>
            <a:ext cx="5105160" cy="75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13 separate polic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First policy adopted in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Income restrictions vary by poli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40 year (rental) and 99 year (ownership) affordability peri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Fee-in-lieu permitted in some circumst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2300" spc="-1" strike="noStrike" u="sng">
                <a:solidFill>
                  <a:srgbClr val="4f647d"/>
                </a:solidFill>
                <a:uFillTx/>
                <a:latin typeface="Franklin Gothic Book"/>
              </a:rPr>
              <a:t>Key Takeaw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Only used in active submark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Base zoning as or more important than bon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Zoning entitlements insufficient if other development regulations prevent use (i.e. compatibility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No direct fiscal impact to taxpay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5214240" y="1064520"/>
            <a:ext cx="4658760" cy="2845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8730000" y="3858120"/>
            <a:ext cx="129492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Coraz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Table 9"/>
          <p:cNvGraphicFramePr/>
          <p:nvPr/>
        </p:nvGraphicFramePr>
        <p:xfrm>
          <a:off x="5590080" y="5430240"/>
          <a:ext cx="3910320" cy="759960"/>
        </p:xfrm>
        <a:graphic>
          <a:graphicData uri="http://schemas.openxmlformats.org/drawingml/2006/table">
            <a:tbl>
              <a:tblPr/>
              <a:tblGrid>
                <a:gridCol w="1303200"/>
                <a:gridCol w="1303200"/>
                <a:gridCol w="1303200"/>
              </a:tblGrid>
              <a:tr h="3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ee-in-L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$2,945,7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49" name="TextBox 10"/>
          <p:cNvSpPr/>
          <p:nvPr/>
        </p:nvSpPr>
        <p:spPr>
          <a:xfrm>
            <a:off x="5828760" y="4966200"/>
            <a:ext cx="34012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4f647d"/>
                </a:solidFill>
                <a:latin typeface="Franklin Gothic Book"/>
              </a:rPr>
              <a:t>5-yr Production Snapsh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ject 7"/>
          <p:cNvSpPr/>
          <p:nvPr/>
        </p:nvSpPr>
        <p:spPr>
          <a:xfrm>
            <a:off x="0" y="77040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" y="15228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Planned Unit Develop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19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9402C52C-1220-44E0-A69D-C7F04FE6DF10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bject 3"/>
          <p:cNvSpPr/>
          <p:nvPr/>
        </p:nvSpPr>
        <p:spPr>
          <a:xfrm>
            <a:off x="167760" y="990720"/>
            <a:ext cx="495252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Project must demonstrate superiori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Affordability requirements vary by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Final requirements ultimately determined by City Counci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2300" spc="-1" strike="noStrike" u="sng">
                <a:solidFill>
                  <a:srgbClr val="4f647d"/>
                </a:solidFill>
                <a:uFillTx/>
                <a:latin typeface="Franklin Gothic Book"/>
              </a:rPr>
              <a:t>Key Takeaw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Highly politicized but flexible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Long timelines for build 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120640" y="990720"/>
            <a:ext cx="4626360" cy="28904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8366760" y="3881160"/>
            <a:ext cx="142596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The Gro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Table 8"/>
          <p:cNvGraphicFramePr/>
          <p:nvPr/>
        </p:nvGraphicFramePr>
        <p:xfrm>
          <a:off x="6136920" y="5412600"/>
          <a:ext cx="2784600" cy="759960"/>
        </p:xfrm>
        <a:graphic>
          <a:graphicData uri="http://schemas.openxmlformats.org/drawingml/2006/table">
            <a:tbl>
              <a:tblPr/>
              <a:tblGrid>
                <a:gridCol w="1392120"/>
                <a:gridCol w="1392120"/>
              </a:tblGrid>
              <a:tr h="3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Fee-in-Li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,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$1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7" name="TextBox 9"/>
          <p:cNvSpPr/>
          <p:nvPr/>
        </p:nvSpPr>
        <p:spPr>
          <a:xfrm>
            <a:off x="5828760" y="4966200"/>
            <a:ext cx="3401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4f647d"/>
                </a:solidFill>
                <a:latin typeface="Franklin Gothic Book"/>
              </a:rPr>
              <a:t>20-yr Proj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7"/>
          <p:cNvSpPr/>
          <p:nvPr/>
        </p:nvSpPr>
        <p:spPr>
          <a:xfrm>
            <a:off x="0" y="71784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Master Development Agre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20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F8AC0156-1FBF-419A-876C-BB23AAD7CD76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bject 3"/>
          <p:cNvSpPr/>
          <p:nvPr/>
        </p:nvSpPr>
        <p:spPr>
          <a:xfrm>
            <a:off x="152280" y="1066680"/>
            <a:ext cx="48002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Affordability requirements vary by agre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2300" spc="-1" strike="noStrike" u="sng">
                <a:solidFill>
                  <a:srgbClr val="4f647d"/>
                </a:solidFill>
                <a:uFillTx/>
                <a:latin typeface="Franklin Gothic Book"/>
              </a:rPr>
              <a:t>Key Takeaw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Good tool for re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Almost always coupled with other incentives (public funding, land donation, zoning, fee waivers, tax incentives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Can be highly politic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4785840" cy="3011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6629400" y="4075560"/>
            <a:ext cx="3207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Mueller PU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Table 8"/>
          <p:cNvGraphicFramePr/>
          <p:nvPr/>
        </p:nvGraphicFramePr>
        <p:xfrm>
          <a:off x="5828760" y="5412600"/>
          <a:ext cx="3401280" cy="759960"/>
        </p:xfrm>
        <a:graphic>
          <a:graphicData uri="http://schemas.openxmlformats.org/drawingml/2006/table">
            <a:tbl>
              <a:tblPr/>
              <a:tblGrid>
                <a:gridCol w="1700640"/>
                <a:gridCol w="1700640"/>
              </a:tblGrid>
              <a:tr h="3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65" name="TextBox 9"/>
          <p:cNvSpPr/>
          <p:nvPr/>
        </p:nvSpPr>
        <p:spPr>
          <a:xfrm>
            <a:off x="5828760" y="4966200"/>
            <a:ext cx="34012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4f647d"/>
                </a:solidFill>
                <a:latin typeface="Franklin Gothic Book"/>
              </a:rPr>
              <a:t>5-yr Production Snapsh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7"/>
          <p:cNvSpPr/>
          <p:nvPr/>
        </p:nvSpPr>
        <p:spPr>
          <a:xfrm>
            <a:off x="0" y="76608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8928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Num" idx="21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D48CDE37-A833-44EC-B137-64A9361E4535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bject 3"/>
          <p:cNvSpPr/>
          <p:nvPr/>
        </p:nvSpPr>
        <p:spPr>
          <a:xfrm>
            <a:off x="152280" y="990720"/>
            <a:ext cx="9905760" cy="70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Multiple layers of incentives work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Incentives work well to leverage the for-profit market and create affordable housing in mixed income, high opportunity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Working with for-profit partners has unique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Good working relationships and communication across departments is in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Monitoring staff capacity must be sufficient to evidence ongoing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7"/>
          <p:cNvSpPr/>
          <p:nvPr/>
        </p:nvSpPr>
        <p:spPr>
          <a:xfrm>
            <a:off x="0" y="72144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8928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Num" idx="22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558257F0-3F37-457C-86E5-A7166A97CE4D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bject 3"/>
          <p:cNvSpPr/>
          <p:nvPr/>
        </p:nvSpPr>
        <p:spPr>
          <a:xfrm>
            <a:off x="152280" y="990720"/>
            <a:ext cx="9586440" cy="67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Policymakers must prioritize community benefits and policy tradeoffs when crafting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Policymakers should minimize the number of different variations of policies, or at least have consistency across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Ability to easily update policies to respond to market changes is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Community benefits should be calibrated such that the cost to provide each is 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7"/>
          <p:cNvSpPr/>
          <p:nvPr/>
        </p:nvSpPr>
        <p:spPr>
          <a:xfrm>
            <a:off x="0" y="72144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8928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Ongoing Initia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23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2CCFA6BD-3268-4FC3-BDC6-431C15F47BFB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bject 3"/>
          <p:cNvSpPr/>
          <p:nvPr/>
        </p:nvSpPr>
        <p:spPr>
          <a:xfrm>
            <a:off x="156600" y="1117800"/>
            <a:ext cx="9586440" cy="34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Bluepr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Land Development Code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Existing density bonus policies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S.M.A.R.T. Housing overh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7"/>
          <p:cNvSpPr/>
          <p:nvPr/>
        </p:nvSpPr>
        <p:spPr>
          <a:xfrm>
            <a:off x="0" y="81000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6880" y="1143000"/>
            <a:ext cx="883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f462b"/>
              </a:buClr>
              <a:buFont typeface="Arial"/>
              <a:buChar char="•"/>
            </a:pP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1"/>
              </a:rPr>
              <a:t>http</a:t>
            </a: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2"/>
              </a:rPr>
              <a:t>://</a:t>
            </a: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3"/>
              </a:rPr>
              <a:t>www.austintexas.gov/department/hou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f462b"/>
              </a:buClr>
              <a:buFont typeface="Arial"/>
              <a:buChar char="•"/>
            </a:pP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4"/>
              </a:rPr>
              <a:t>http</a:t>
            </a: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5"/>
              </a:rPr>
              <a:t>://</a:t>
            </a: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6"/>
              </a:rPr>
              <a:t>www.austintexas.gov/housingblue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f462b"/>
              </a:buClr>
              <a:buFont typeface="Arial"/>
              <a:buChar char="•"/>
            </a:pP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7"/>
              </a:rPr>
              <a:t>http</a:t>
            </a: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8"/>
              </a:rPr>
              <a:t>://</a:t>
            </a:r>
            <a:r>
              <a:rPr b="0" lang="en-US" sz="2800" spc="-1" strike="noStrike" u="sng">
                <a:solidFill>
                  <a:srgbClr val="a75b25"/>
                </a:solidFill>
                <a:uFillTx/>
                <a:latin typeface="Rockwell"/>
                <a:hlinkClick r:id="rId9"/>
              </a:rPr>
              <a:t>www.austintexas.gov/page/development-incentives-and-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Num" idx="24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C7CA346F-6162-432D-ABDA-54FE784FB7CE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bject 2"/>
          <p:cNvSpPr/>
          <p:nvPr/>
        </p:nvSpPr>
        <p:spPr>
          <a:xfrm>
            <a:off x="76320" y="152280"/>
            <a:ext cx="9089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Links for Mor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7"/>
          <p:cNvSpPr/>
          <p:nvPr/>
        </p:nvSpPr>
        <p:spPr>
          <a:xfrm>
            <a:off x="0" y="81000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bject 3"/>
          <p:cNvSpPr/>
          <p:nvPr/>
        </p:nvSpPr>
        <p:spPr>
          <a:xfrm>
            <a:off x="385920" y="4038480"/>
            <a:ext cx="943416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Rosie Truelove,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Neighborhood Housing and Community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City of Au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 u="sng">
                <a:solidFill>
                  <a:srgbClr val="a75b25"/>
                </a:solidFill>
                <a:uFillTx/>
                <a:latin typeface="Franklin Gothic Book"/>
                <a:hlinkClick r:id="rId1"/>
              </a:rPr>
              <a:t>rosie.truelove@austintexa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512-974-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Num" idx="25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9CA440E2-812D-4444-A6D7-8ED6DA9E43BD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745640" y="152280"/>
            <a:ext cx="671472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3320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10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BCF41591-4B54-4F08-9E58-815265D82A1C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154440" y="787680"/>
            <a:ext cx="822924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200000"/>
              </a:lnSpc>
              <a:spcBef>
                <a:spcPts val="99"/>
              </a:spcBef>
              <a:buClr>
                <a:srgbClr val="a75b25"/>
              </a:buClr>
              <a:buFont typeface="Calibri"/>
              <a:buAutoNum type="arabicPeriod"/>
            </a:pPr>
            <a:r>
              <a:rPr b="0" lang="en-US" sz="2900" spc="-1" strike="noStrike">
                <a:solidFill>
                  <a:srgbClr val="a75b25"/>
                </a:solidFill>
                <a:latin typeface="Franklin Gothic Book"/>
              </a:rPr>
              <a:t>Strategic Housing Bluepr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200000"/>
              </a:lnSpc>
              <a:spcBef>
                <a:spcPts val="99"/>
              </a:spcBef>
              <a:buClr>
                <a:srgbClr val="a75b25"/>
              </a:buClr>
              <a:buFont typeface="Calibri"/>
              <a:buAutoNum type="arabicPeriod"/>
            </a:pPr>
            <a:r>
              <a:rPr b="0" lang="en-US" sz="2900" spc="-1" strike="noStrike">
                <a:solidFill>
                  <a:srgbClr val="a75b25"/>
                </a:solidFill>
                <a:latin typeface="Franklin Gothic Book"/>
              </a:rPr>
              <a:t>Development Incentive Programs Overview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200000"/>
              </a:lnSpc>
              <a:spcBef>
                <a:spcPts val="99"/>
              </a:spcBef>
              <a:buClr>
                <a:srgbClr val="a75b25"/>
              </a:buClr>
              <a:buFont typeface="Calibri"/>
              <a:buAutoNum type="arabicPeriod"/>
            </a:pPr>
            <a:r>
              <a:rPr b="0" lang="en-US" sz="2900" spc="-1" strike="noStrike">
                <a:solidFill>
                  <a:srgbClr val="a75b25"/>
                </a:solidFill>
                <a:latin typeface="Franklin Gothic Book"/>
              </a:rPr>
              <a:t>Lessons Learn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200000"/>
              </a:lnSpc>
              <a:spcBef>
                <a:spcPts val="99"/>
              </a:spcBef>
              <a:buClr>
                <a:srgbClr val="a75b25"/>
              </a:buClr>
              <a:buFont typeface="Calibri"/>
              <a:buAutoNum type="arabicPeriod"/>
            </a:pPr>
            <a:r>
              <a:rPr b="0" lang="en-US" sz="2900" spc="-1" strike="noStrike">
                <a:solidFill>
                  <a:srgbClr val="a75b25"/>
                </a:solidFill>
                <a:latin typeface="Franklin Gothic Book"/>
              </a:rPr>
              <a:t>Ongoing Initi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7"/>
          <p:cNvSpPr/>
          <p:nvPr/>
        </p:nvSpPr>
        <p:spPr>
          <a:xfrm>
            <a:off x="0" y="71028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640" y="19188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Strategic Housing Bluepr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11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42E19C48-3EDF-48A1-9FE0-3E2E3C9BF9AB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bject 3"/>
          <p:cNvSpPr/>
          <p:nvPr/>
        </p:nvSpPr>
        <p:spPr>
          <a:xfrm>
            <a:off x="139320" y="1063800"/>
            <a:ext cx="9753120" cy="72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Adopted in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Highlights community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Sets community production/preservati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Household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Geographic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Access to tran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High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Identifies strategies to achiev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Implementation Plan currently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7"/>
          <p:cNvSpPr/>
          <p:nvPr/>
        </p:nvSpPr>
        <p:spPr>
          <a:xfrm>
            <a:off x="-12960" y="80280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757440"/>
            <a:ext cx="79790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700" spc="-15" strike="noStrike">
                <a:solidFill>
                  <a:srgbClr val="4f647d"/>
                </a:solidFill>
                <a:latin typeface="Rockwell"/>
              </a:rPr>
              <a:t>HOUSING BLUEPRINT GOAL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bject 4"/>
          <p:cNvSpPr/>
          <p:nvPr/>
        </p:nvSpPr>
        <p:spPr>
          <a:xfrm>
            <a:off x="914400" y="1596600"/>
            <a:ext cx="8229240" cy="126720"/>
          </a:xfrm>
          <a:custGeom>
            <a:avLst/>
            <a:gdLst>
              <a:gd name="textAreaLeft" fmla="*/ 0 w 8229240"/>
              <a:gd name="textAreaRight" fmla="*/ 8229600 w 8229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085920" cy="397764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04" name="PlaceHolder 2"/>
          <p:cNvSpPr>
            <a:spLocks noGrp="1"/>
          </p:cNvSpPr>
          <p:nvPr>
            <p:ph type="sldNum" idx="12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E91B5768-909F-4E8A-966E-EB39DDE4C629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bject 5"/>
          <p:cNvSpPr/>
          <p:nvPr/>
        </p:nvSpPr>
        <p:spPr>
          <a:xfrm>
            <a:off x="4343400" y="2202840"/>
            <a:ext cx="5304240" cy="4578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77787c"/>
              </a:solidFill>
              <a:latin typeface="Calibri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32440" y="6168960"/>
            <a:ext cx="38498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5f462b"/>
                </a:solidFill>
                <a:latin typeface="Rockwell"/>
              </a:rPr>
              <a:t>The </a:t>
            </a:r>
            <a:r>
              <a:rPr b="1" lang="en-US" sz="2000" spc="-7" strike="noStrike">
                <a:solidFill>
                  <a:srgbClr val="5f462b"/>
                </a:solidFill>
                <a:latin typeface="Rockwell"/>
              </a:rPr>
              <a:t>Blueprint </a:t>
            </a:r>
            <a:r>
              <a:rPr b="1" lang="en-US" sz="2000" spc="-1" strike="noStrike">
                <a:solidFill>
                  <a:srgbClr val="5f462b"/>
                </a:solidFill>
                <a:latin typeface="Rockwell"/>
              </a:rPr>
              <a:t>calls </a:t>
            </a:r>
            <a:r>
              <a:rPr b="1" lang="en-US" sz="2000" spc="-7" strike="noStrike">
                <a:solidFill>
                  <a:srgbClr val="5f462b"/>
                </a:solidFill>
                <a:latin typeface="Rockwell"/>
              </a:rPr>
              <a:t>for 60,000 affordable units below  80% MFI over the next 1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193720" y="6734880"/>
            <a:ext cx="25034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    ▪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hanges to the Land Development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s://350.org/wp-content/uploads/2015/01/350-toc-icon-justice-300x300.png"/>
          <p:cNvPicPr/>
          <p:nvPr/>
        </p:nvPicPr>
        <p:blipFill>
          <a:blip r:embed="rId1"/>
          <a:stretch/>
        </p:blipFill>
        <p:spPr>
          <a:xfrm>
            <a:off x="441720" y="2977560"/>
            <a:ext cx="1010880" cy="101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s://cdn0.iconfinder.com/data/icons/business-3-3/512/investment_invest_growth-512.png"/>
          <p:cNvPicPr/>
          <p:nvPr/>
        </p:nvPicPr>
        <p:blipFill>
          <a:blip r:embed="rId2"/>
          <a:stretch/>
        </p:blipFill>
        <p:spPr>
          <a:xfrm>
            <a:off x="441720" y="40010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megaicons.net/static/img/icons_sizes/8/178/256/charts-mind-map-icon.png"/>
          <p:cNvPicPr/>
          <p:nvPr/>
        </p:nvPicPr>
        <p:blipFill>
          <a:blip r:embed="rId3"/>
          <a:stretch/>
        </p:blipFill>
        <p:spPr>
          <a:xfrm>
            <a:off x="533160" y="5176080"/>
            <a:ext cx="801360" cy="801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:\JT\ICONS\bus.jpg.png"/>
          <p:cNvPicPr/>
          <p:nvPr/>
        </p:nvPicPr>
        <p:blipFill>
          <a:blip r:embed="rId4"/>
          <a:stretch/>
        </p:blipFill>
        <p:spPr>
          <a:xfrm>
            <a:off x="487800" y="6616440"/>
            <a:ext cx="458280" cy="45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tretch/>
        </p:blipFill>
        <p:spPr>
          <a:xfrm>
            <a:off x="471960" y="6118560"/>
            <a:ext cx="489600" cy="48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"/>
          <p:cNvPicPr/>
          <p:nvPr/>
        </p:nvPicPr>
        <p:blipFill>
          <a:blip r:embed="rId6"/>
          <a:stretch/>
        </p:blipFill>
        <p:spPr>
          <a:xfrm>
            <a:off x="969480" y="6089400"/>
            <a:ext cx="498240" cy="49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"/>
          <p:cNvPicPr/>
          <p:nvPr/>
        </p:nvPicPr>
        <p:blipFill>
          <a:blip r:embed="rId7"/>
          <a:stretch/>
        </p:blipFill>
        <p:spPr>
          <a:xfrm>
            <a:off x="985680" y="6620760"/>
            <a:ext cx="453960" cy="4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"/>
          <p:cNvPicPr/>
          <p:nvPr/>
        </p:nvPicPr>
        <p:blipFill>
          <a:blip r:embed="rId8"/>
          <a:stretch/>
        </p:blipFill>
        <p:spPr>
          <a:xfrm>
            <a:off x="507600" y="2057400"/>
            <a:ext cx="1055520" cy="1055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ldNum" idx="13"/>
          </p:nvPr>
        </p:nvSpPr>
        <p:spPr>
          <a:xfrm>
            <a:off x="10410120" y="8127000"/>
            <a:ext cx="302760" cy="20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32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935E105-0CCF-4903-B4E1-85A0F97CB3D9}" type="slidenum">
              <a:rPr b="1" lang="en-US" sz="132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2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400" y="36000"/>
            <a:ext cx="79790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b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700" spc="-15" strike="noStrike">
                <a:solidFill>
                  <a:srgbClr val="4f647d"/>
                </a:solidFill>
                <a:latin typeface="Rockwell"/>
              </a:rPr>
              <a:t>BLUEPRINT COMMUNITY VALU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bject 4"/>
          <p:cNvSpPr/>
          <p:nvPr/>
        </p:nvSpPr>
        <p:spPr>
          <a:xfrm>
            <a:off x="914400" y="1596600"/>
            <a:ext cx="8229240" cy="126720"/>
          </a:xfrm>
          <a:custGeom>
            <a:avLst/>
            <a:gdLst>
              <a:gd name="textAreaLeft" fmla="*/ 0 w 8229240"/>
              <a:gd name="textAreaRight" fmla="*/ 8229600 w 8229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1661760" y="2187720"/>
            <a:ext cx="7558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0462a"/>
                </a:solidFill>
                <a:latin typeface="Rockwell"/>
              </a:rPr>
              <a:t>Prevent Households from Being Priced Out of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1661760" y="3108600"/>
            <a:ext cx="7786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0462a"/>
                </a:solidFill>
                <a:latin typeface="Rockwell"/>
              </a:rPr>
              <a:t>Foster Equitable, Integrated and Diverse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1661760" y="4088160"/>
            <a:ext cx="7558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0462a"/>
                </a:solidFill>
                <a:latin typeface="Rockwell"/>
              </a:rPr>
              <a:t>Invest in Housing for Those Most in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1641600" y="4972320"/>
            <a:ext cx="757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0462a"/>
                </a:solidFill>
                <a:latin typeface="Rockwell"/>
              </a:rPr>
              <a:t>Create New and Affordable Housing Choices for All Austinites in All Parts of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1641600" y="6203160"/>
            <a:ext cx="75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0462a"/>
                </a:solidFill>
                <a:latin typeface="Rockwell"/>
              </a:rPr>
              <a:t>Help Austinites Reduce their Househol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9448920" y="7162920"/>
            <a:ext cx="2754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5560">
              <a:lnSpc>
                <a:spcPct val="100000"/>
              </a:lnSpc>
              <a:spcBef>
                <a:spcPts val="11"/>
              </a:spcBef>
            </a:pPr>
            <a:r>
              <a:rPr b="1" lang="en-US" sz="1600" spc="-1" strike="noStrike">
                <a:solidFill>
                  <a:srgbClr val="939598"/>
                </a:solidFill>
                <a:latin typeface="Rockwel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Num" idx="14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0DD24AB5-1010-43BD-901E-09DAC3A52254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rcRect l="0" t="0" r="0" b="2985"/>
          <a:stretch/>
        </p:blipFill>
        <p:spPr>
          <a:xfrm>
            <a:off x="2362320" y="199080"/>
            <a:ext cx="5420880" cy="74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Development Incentive 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ldNum" idx="15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7AEA6480-007F-4666-9B95-559A2C163904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bject 3"/>
          <p:cNvSpPr/>
          <p:nvPr/>
        </p:nvSpPr>
        <p:spPr>
          <a:xfrm>
            <a:off x="132840" y="1103040"/>
            <a:ext cx="96062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 algn="ctr"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Development Incentives provide additional relief to mission driven affordable housing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1" lang="en-US" sz="3200" spc="-1" strike="noStrike">
                <a:solidFill>
                  <a:srgbClr val="a75b25"/>
                </a:solidFill>
                <a:latin typeface="Franklin Gothic Boo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99"/>
              </a:spcBef>
            </a:pPr>
            <a:r>
              <a:rPr b="0" lang="en-US" sz="3200" spc="-1" strike="noStrike">
                <a:solidFill>
                  <a:srgbClr val="a75b25"/>
                </a:solidFill>
                <a:latin typeface="Franklin Gothic Book"/>
              </a:rPr>
              <a:t>Promote participation by for-profit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7"/>
          <p:cNvSpPr/>
          <p:nvPr/>
        </p:nvSpPr>
        <p:spPr>
          <a:xfrm>
            <a:off x="0" y="80280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Program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Num" idx="16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40BF70CD-AC63-4F02-8815-10F59D95BAD9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bject 3"/>
          <p:cNvSpPr/>
          <p:nvPr/>
        </p:nvSpPr>
        <p:spPr>
          <a:xfrm>
            <a:off x="132840" y="1103040"/>
            <a:ext cx="9087120" cy="73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a75b25"/>
                </a:solidFill>
                <a:latin typeface="Franklin Gothic Book"/>
              </a:rPr>
              <a:t>S.M.A.R.T. Housing </a:t>
            </a:r>
            <a:r>
              <a:rPr b="0" lang="en-US" sz="2800" spc="-1" strike="noStrike">
                <a:solidFill>
                  <a:srgbClr val="a75b25"/>
                </a:solidFill>
                <a:latin typeface="Franklin Gothic Book"/>
              </a:rPr>
              <a:t>– fee waiver program that incentivizes housing that is safe, mixed income, accessible, reasonably priced, and transit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a75b25"/>
                </a:solidFill>
                <a:latin typeface="Franklin Gothic Book"/>
              </a:rPr>
              <a:t>Density Bonus Programs and Planned Unit Developments </a:t>
            </a:r>
            <a:r>
              <a:rPr b="0" lang="en-US" sz="2800" spc="-1" strike="noStrike">
                <a:solidFill>
                  <a:srgbClr val="a75b25"/>
                </a:solidFill>
                <a:latin typeface="Franklin Gothic Book"/>
              </a:rPr>
              <a:t>– provides enhanced entitlements and waives certain development regulations in exchange for affordable housing and other community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a75b25"/>
                </a:solidFill>
                <a:latin typeface="Franklin Gothic Book"/>
              </a:rPr>
              <a:t>Master Development Agreements </a:t>
            </a:r>
            <a:r>
              <a:rPr b="0" lang="en-US" sz="2800" spc="-1" strike="noStrike">
                <a:solidFill>
                  <a:srgbClr val="a75b25"/>
                </a:solidFill>
                <a:latin typeface="Franklin Gothic Book"/>
              </a:rPr>
              <a:t>– agreements that typically provide a package of incentives to developers in exchange for developing projects that provide a range of community benefits and implement a maste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7"/>
          <p:cNvSpPr/>
          <p:nvPr/>
        </p:nvSpPr>
        <p:spPr>
          <a:xfrm>
            <a:off x="0" y="76572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64520"/>
            <a:ext cx="8229240" cy="13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lang="en-US" sz="3600" spc="-1" strike="noStrike">
                <a:solidFill>
                  <a:srgbClr val="4f647d"/>
                </a:solidFill>
                <a:latin typeface="Rockwell"/>
              </a:rPr>
              <a:t>S.M.A.R.T. Hou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Num" idx="17"/>
          </p:nvPr>
        </p:nvSpPr>
        <p:spPr>
          <a:xfrm>
            <a:off x="9463680" y="7180560"/>
            <a:ext cx="275400" cy="2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>
              <a:lnSpc>
                <a:spcPct val="100000"/>
              </a:lnSpc>
              <a:spcBef>
                <a:spcPts val="11"/>
              </a:spcBef>
              <a:buNone/>
              <a:defRPr b="1" lang="en-US" sz="1600" spc="-1" strike="noStrike">
                <a:solidFill>
                  <a:srgbClr val="939598"/>
                </a:solidFill>
                <a:latin typeface="Rockwell"/>
              </a:defRPr>
            </a:lvl1pPr>
          </a:lstStyle>
          <a:p>
            <a:pPr marL="25560" indent="0">
              <a:lnSpc>
                <a:spcPct val="100000"/>
              </a:lnSpc>
              <a:spcBef>
                <a:spcPts val="11"/>
              </a:spcBef>
              <a:buNone/>
            </a:pPr>
            <a:fld id="{D43B8128-1467-4DD0-A2B9-A2305DCC92B2}" type="slidenum">
              <a:rPr b="1" lang="en-US" sz="1600" spc="-1" strike="noStrike">
                <a:solidFill>
                  <a:srgbClr val="939598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bject 3"/>
          <p:cNvSpPr/>
          <p:nvPr/>
        </p:nvSpPr>
        <p:spPr>
          <a:xfrm>
            <a:off x="152280" y="1020240"/>
            <a:ext cx="487656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Established in 20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  <a:ea typeface="Tahoma"/>
              </a:rPr>
              <a:t>Serves households ≤ 80% 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5720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  <a:ea typeface="Tahoma"/>
              </a:rPr>
              <a:t>Short affordability peri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1" lang="en-US" sz="2300" spc="-1" strike="noStrike" u="sng">
                <a:solidFill>
                  <a:srgbClr val="4f647d"/>
                </a:solidFill>
                <a:uFillTx/>
                <a:latin typeface="Franklin Gothic Book"/>
                <a:ea typeface="Tahoma"/>
              </a:rPr>
              <a:t>Key Takeaw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99"/>
              </a:spcBef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  <a:ea typeface="Tahoma"/>
              </a:rPr>
              <a:t>Expedited permitting is valu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  <a:ea typeface="Tahoma"/>
              </a:rPr>
              <a:t>Fee waivers not sufficient to incentivize particip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99"/>
              </a:spcBef>
              <a:buClr>
                <a:srgbClr val="a75b25"/>
              </a:buClr>
              <a:buFont typeface="Arial"/>
              <a:buChar char="•"/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  <a:ea typeface="Tahoma"/>
              </a:rPr>
              <a:t>Almost always coupled with public funding or other incen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5174640" y="1020240"/>
            <a:ext cx="4709880" cy="2712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7391520" y="3733920"/>
            <a:ext cx="26452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a75b25"/>
                </a:solidFill>
                <a:latin typeface="Franklin Gothic Book"/>
              </a:rPr>
              <a:t>Bluebonnet Stud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Table 4"/>
          <p:cNvGraphicFramePr/>
          <p:nvPr/>
        </p:nvGraphicFramePr>
        <p:xfrm>
          <a:off x="5828760" y="5412600"/>
          <a:ext cx="3401280" cy="759960"/>
        </p:xfrm>
        <a:graphic>
          <a:graphicData uri="http://schemas.openxmlformats.org/drawingml/2006/table">
            <a:tbl>
              <a:tblPr/>
              <a:tblGrid>
                <a:gridCol w="1700640"/>
                <a:gridCol w="1700640"/>
              </a:tblGrid>
              <a:tr h="35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a75b25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,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41" name="TextBox 7"/>
          <p:cNvSpPr/>
          <p:nvPr/>
        </p:nvSpPr>
        <p:spPr>
          <a:xfrm>
            <a:off x="5828760" y="4966200"/>
            <a:ext cx="340128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4f647d"/>
                </a:solidFill>
                <a:latin typeface="Franklin Gothic Book"/>
              </a:rPr>
              <a:t>5-yr Production Snapsh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7"/>
          <p:cNvSpPr/>
          <p:nvPr/>
        </p:nvSpPr>
        <p:spPr>
          <a:xfrm>
            <a:off x="0" y="737640"/>
            <a:ext cx="10058040" cy="155160"/>
          </a:xfrm>
          <a:custGeom>
            <a:avLst/>
            <a:gdLst>
              <a:gd name="textAreaLeft" fmla="*/ 0 w 10058040"/>
              <a:gd name="textAreaRight" fmla="*/ 10058400 w 10058040"/>
              <a:gd name="textAreaTop" fmla="*/ 0 h 155160"/>
              <a:gd name="textAreaBottom" fmla="*/ 155520 h 155160"/>
            </a:gdLst>
            <a:ahLst/>
            <a:rect l="textAreaLeft" t="textAreaTop" r="textAreaRight" b="textAreaBottom"/>
            <a:pathLst>
              <a:path w="8229600" h="127000">
                <a:moveTo>
                  <a:pt x="0" y="127000"/>
                </a:moveTo>
                <a:lnTo>
                  <a:pt x="8229600" y="127000"/>
                </a:lnTo>
                <a:lnTo>
                  <a:pt x="8229600" y="0"/>
                </a:lnTo>
                <a:lnTo>
                  <a:pt x="0" y="0"/>
                </a:lnTo>
                <a:lnTo>
                  <a:pt x="0" y="127000"/>
                </a:lnTo>
                <a:close/>
              </a:path>
            </a:pathLst>
          </a:custGeom>
          <a:solidFill>
            <a:srgbClr val="4f6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a75b25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6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a75b25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a75b25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4[[fn=Wood Type]]</Template>
  <TotalTime>3005</TotalTime>
  <Application>LibreOffice/7.4.7.2$Linux_X86_64 LibreOffice_project/40$Build-2</Application>
  <AppVersion>15.0000</AppVersion>
  <Words>1015</Words>
  <Paragraphs>2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9T16:41:12Z</dcterms:created>
  <dc:creator>Tomko, Jonathan</dc:creator>
  <dc:description/>
  <dc:language>en-US</dc:language>
  <cp:lastModifiedBy>Truelove, Rosie</cp:lastModifiedBy>
  <cp:lastPrinted>2018-12-28T15:00:31Z</cp:lastPrinted>
  <dcterms:modified xsi:type="dcterms:W3CDTF">2019-01-15T16:11:45Z</dcterms:modified>
  <cp:revision>2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08-08T00:00:00Z</vt:filetime>
  </property>
  <property fmtid="{D5CDD505-2E9C-101B-9397-08002B2CF9AE}" pid="3" name="Creator">
    <vt:lpwstr>Adobe InDesign CC 13.1 (Windows)</vt:lpwstr>
  </property>
  <property fmtid="{D5CDD505-2E9C-101B-9397-08002B2CF9AE}" pid="4" name="LastSaved">
    <vt:filetime>2018-09-19T00:00:00Z</vt:filetime>
  </property>
  <property fmtid="{D5CDD505-2E9C-101B-9397-08002B2CF9AE}" pid="5" name="Notes">
    <vt:r8>16</vt:r8>
  </property>
  <property fmtid="{D5CDD505-2E9C-101B-9397-08002B2CF9AE}" pid="6" name="PresentationFormat">
    <vt:lpwstr>Custom</vt:lpwstr>
  </property>
  <property fmtid="{D5CDD505-2E9C-101B-9397-08002B2CF9AE}" pid="7" name="Slides">
    <vt:r8>17</vt:r8>
  </property>
</Properties>
</file>