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Mental Health Crisis Services Utilization
Top 4 Programs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barChart>
        <c:barDir val="col"/>
        <c:grouping val="clustered"/>
        <c:varyColors val="0"/>
        <c:ser>
          <c:idx val="0"/>
          <c:order val="0"/>
          <c:spPr>
            <a:solidFill>
              <a:srgbClr val="f09415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ffffff"/>
                    </a:solidFill>
                    <a:latin typeface="Trebuchet MS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"/>
                <c:pt idx="0">
                  <c:v>12 Months Prior to Housing</c:v>
                </c:pt>
                <c:pt idx="1">
                  <c:v>12 Months in Housing First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627</c:v>
                </c:pt>
                <c:pt idx="1">
                  <c:v>88</c:v>
                </c:pt>
              </c:numCache>
            </c:numRef>
          </c:val>
        </c:ser>
        <c:gapWidth val="219"/>
        <c:overlap val="-27"/>
        <c:axId val="49708035"/>
        <c:axId val="45269797"/>
      </c:barChart>
      <c:catAx>
        <c:axId val="49708035"/>
        <c:scaling>
          <c:orientation val="minMax"/>
        </c:scaling>
        <c:delete val="0"/>
        <c:axPos val="b"/>
        <c:numFmt formatCode="General" sourceLinked="0"/>
        <c:majorTickMark val="none"/>
        <c:minorTickMark val="none"/>
        <c:tickLblPos val="nextTo"/>
        <c:spPr>
          <a:ln w="9360">
            <a:solidFill>
              <a:srgbClr val="ffffff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ffffff"/>
                </a:solidFill>
                <a:latin typeface="Trebuchet MS"/>
              </a:defRPr>
            </a:pPr>
          </a:p>
        </c:txPr>
        <c:crossAx val="45269797"/>
        <c:crosses val="autoZero"/>
        <c:auto val="1"/>
        <c:lblAlgn val="ctr"/>
        <c:lblOffset val="100"/>
        <c:noMultiLvlLbl val="0"/>
      </c:catAx>
      <c:valAx>
        <c:axId val="45269797"/>
        <c:scaling>
          <c:orientation val="minMax"/>
        </c:scaling>
        <c:delete val="0"/>
        <c:axPos val="l"/>
        <c:majorGridlines>
          <c:spPr>
            <a:ln w="9360">
              <a:solidFill>
                <a:srgbClr val="ffffff"/>
              </a:solidFill>
              <a:round/>
            </a:ln>
          </c:spPr>
        </c:majorGridlines>
        <c:numFmt formatCode="General" sourceLinked="0"/>
        <c:majorTickMark val="none"/>
        <c:minorTickMark val="none"/>
        <c:tickLblPos val="nextTo"/>
        <c:spPr>
          <a:ln w="9360">
            <a:noFill/>
          </a:ln>
        </c:spPr>
        <c:txPr>
          <a:bodyPr/>
          <a:lstStyle/>
          <a:p>
            <a:pPr>
              <a:defRPr b="0" sz="900" spc="-1" strike="noStrike">
                <a:solidFill>
                  <a:srgbClr val="ffffff"/>
                </a:solidFill>
                <a:latin typeface="Trebuchet MS"/>
              </a:defRPr>
            </a:pPr>
          </a:p>
        </c:txPr>
        <c:crossAx val="49708035"/>
        <c:crosses val="autoZero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solidFill>
      <a:srgbClr val="000000"/>
    </a:solidFill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Mental Health Crisis Services Costs
Top 4 Programs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barChart>
        <c:barDir val="col"/>
        <c:grouping val="clustered"/>
        <c:varyColors val="0"/>
        <c:ser>
          <c:idx val="0"/>
          <c:order val="0"/>
          <c:spPr>
            <a:solidFill>
              <a:srgbClr val="f09415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ffffff"/>
                    </a:solidFill>
                    <a:latin typeface="Trebuchet MS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"/>
                <c:pt idx="0">
                  <c:v>12 Months Prior to Housing</c:v>
                </c:pt>
                <c:pt idx="1">
                  <c:v>12 Months in Housing First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860985</c:v>
                </c:pt>
                <c:pt idx="1">
                  <c:v>146347</c:v>
                </c:pt>
              </c:numCache>
            </c:numRef>
          </c:val>
        </c:ser>
        <c:gapWidth val="219"/>
        <c:overlap val="-27"/>
        <c:axId val="93043505"/>
        <c:axId val="87599335"/>
      </c:barChart>
      <c:catAx>
        <c:axId val="93043505"/>
        <c:scaling>
          <c:orientation val="minMax"/>
        </c:scaling>
        <c:delete val="0"/>
        <c:axPos val="b"/>
        <c:numFmt formatCode="General" sourceLinked="0"/>
        <c:majorTickMark val="none"/>
        <c:minorTickMark val="none"/>
        <c:tickLblPos val="nextTo"/>
        <c:spPr>
          <a:ln w="9360">
            <a:solidFill>
              <a:srgbClr val="ffffff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ffffff"/>
                </a:solidFill>
                <a:latin typeface="Trebuchet MS"/>
              </a:defRPr>
            </a:pPr>
          </a:p>
        </c:txPr>
        <c:crossAx val="87599335"/>
        <c:crosses val="autoZero"/>
        <c:auto val="1"/>
        <c:lblAlgn val="ctr"/>
        <c:lblOffset val="100"/>
        <c:noMultiLvlLbl val="0"/>
      </c:catAx>
      <c:valAx>
        <c:axId val="87599335"/>
        <c:scaling>
          <c:orientation val="minMax"/>
        </c:scaling>
        <c:delete val="0"/>
        <c:axPos val="l"/>
        <c:majorGridlines>
          <c:spPr>
            <a:ln w="9360">
              <a:solidFill>
                <a:srgbClr val="ffffff"/>
              </a:solidFill>
              <a:round/>
            </a:ln>
          </c:spPr>
        </c:majorGridlines>
        <c:numFmt formatCode="\$#,##0" sourceLinked="0"/>
        <c:majorTickMark val="none"/>
        <c:minorTickMark val="none"/>
        <c:tickLblPos val="nextTo"/>
        <c:spPr>
          <a:ln w="9360">
            <a:noFill/>
          </a:ln>
        </c:spPr>
        <c:txPr>
          <a:bodyPr/>
          <a:lstStyle/>
          <a:p>
            <a:pPr>
              <a:defRPr b="0" sz="900" spc="-1" strike="noStrike">
                <a:solidFill>
                  <a:srgbClr val="ffffff"/>
                </a:solidFill>
                <a:latin typeface="Trebuchet MS"/>
              </a:defRPr>
            </a:pPr>
          </a:p>
        </c:txPr>
        <c:crossAx val="93043505"/>
        <c:crosses val="autoZero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solidFill>
      <a:srgbClr val="000000"/>
    </a:solidFill>
    <a:ln w="0">
      <a:noFill/>
    </a:ln>
  </c:spPr>
</c:chartSpace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715C338F-313F-4ABD-8E74-D9988DAB01AA}" type="doc">
      <dgm:prSet loTypeId="urn:microsoft.com/office/officeart/2005/8/layout/default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en-US"/>
        </a:p>
      </dgm:t>
    </dgm:pt>
    <dgm:pt modelId="{20332DC3-BC8E-4679-A67D-5C3163F4BBB9}">
      <dgm:prSet phldrT="[Text]" custT="1"/>
      <dgm:spPr>
        <a:solidFill>
          <a:schemeClr val="accent1">
            <a:lumMod val="40000"/>
            <a:lumOff val="60000"/>
          </a:schemeClr>
        </a:solidFill>
      </dgm:spPr>
      <dgm:t>
        <a:bodyPr/>
        <a:lstStyle/>
        <a:p>
          <a:r>
            <a:rPr lang="en-US" sz="1600" b="1" dirty="0" err="1">
              <a:solidFill>
                <a:schemeClr val="bg1"/>
              </a:solidFill>
            </a:rPr>
            <a:t>CoC</a:t>
          </a:r>
          <a:r>
            <a:rPr lang="en-US" sz="1600" b="1" dirty="0">
              <a:solidFill>
                <a:schemeClr val="bg1"/>
              </a:solidFill>
            </a:rPr>
            <a:t> Board of Directors    (meets quarterly)</a:t>
          </a:r>
        </a:p>
      </dgm:t>
    </dgm:pt>
    <dgm:pt modelId="{703918DF-E0E2-429F-BFA6-54ADD75A4225}" type="parTrans" cxnId="{72F60386-5DA0-446A-9904-D546078AC78B}">
      <dgm:prSet/>
      <dgm:spPr/>
      <dgm:t>
        <a:bodyPr/>
        <a:lstStyle/>
        <a:p>
          <a:endParaRPr lang="en-US"/>
        </a:p>
      </dgm:t>
    </dgm:pt>
    <dgm:pt modelId="{1098F593-666F-46CE-9A12-E7756A166CB8}" type="sibTrans" cxnId="{72F60386-5DA0-446A-9904-D546078AC78B}">
      <dgm:prSet/>
      <dgm:spPr/>
      <dgm:t>
        <a:bodyPr/>
        <a:lstStyle/>
        <a:p>
          <a:endParaRPr lang="en-US"/>
        </a:p>
      </dgm:t>
    </dgm:pt>
    <dgm:pt modelId="{91C32FE0-390D-4FC8-9F91-24918878F1FF}">
      <dgm:prSet phldrT="[Text]"/>
      <dgm:spPr/>
      <dgm:t>
        <a:bodyPr/>
        <a:lstStyle/>
        <a:p>
          <a:r>
            <a:rPr lang="en-US" b="1" dirty="0">
              <a:solidFill>
                <a:schemeClr val="bg1"/>
              </a:solidFill>
            </a:rPr>
            <a:t>Funded Agency Collaborative         (meets monthly)</a:t>
          </a:r>
        </a:p>
      </dgm:t>
    </dgm:pt>
    <dgm:pt modelId="{21676E53-2957-4EB9-B6B9-ECEAF8FA90A7}" type="parTrans" cxnId="{771F41FD-F1A3-4AF3-AEB3-FE1D4352BBBB}">
      <dgm:prSet/>
      <dgm:spPr/>
      <dgm:t>
        <a:bodyPr/>
        <a:lstStyle/>
        <a:p>
          <a:endParaRPr lang="en-US"/>
        </a:p>
      </dgm:t>
    </dgm:pt>
    <dgm:pt modelId="{1C5CCBD3-776C-403B-B924-7BF67F6F8986}" type="sibTrans" cxnId="{771F41FD-F1A3-4AF3-AEB3-FE1D4352BBBB}">
      <dgm:prSet/>
      <dgm:spPr/>
      <dgm:t>
        <a:bodyPr/>
        <a:lstStyle/>
        <a:p>
          <a:endParaRPr lang="en-US"/>
        </a:p>
      </dgm:t>
    </dgm:pt>
    <dgm:pt modelId="{1BDC05C5-9413-4CDE-BFAC-327D224E5165}">
      <dgm:prSet phldrT="[Text]"/>
      <dgm:spPr/>
      <dgm:t>
        <a:bodyPr/>
        <a:lstStyle/>
        <a:p>
          <a:r>
            <a:rPr lang="en-US" b="1" dirty="0">
              <a:solidFill>
                <a:schemeClr val="bg1"/>
              </a:solidFill>
            </a:rPr>
            <a:t>NOFA/System Improvement Committee                            (meets 1</a:t>
          </a:r>
          <a:r>
            <a:rPr lang="en-US" b="1" baseline="30000" dirty="0">
              <a:solidFill>
                <a:schemeClr val="bg1"/>
              </a:solidFill>
            </a:rPr>
            <a:t>st</a:t>
          </a:r>
          <a:r>
            <a:rPr lang="en-US" b="1" dirty="0">
              <a:solidFill>
                <a:schemeClr val="bg1"/>
              </a:solidFill>
            </a:rPr>
            <a:t> and 3</a:t>
          </a:r>
          <a:r>
            <a:rPr lang="en-US" b="1" baseline="30000" dirty="0">
              <a:solidFill>
                <a:schemeClr val="bg1"/>
              </a:solidFill>
            </a:rPr>
            <a:t>rd</a:t>
          </a:r>
          <a:r>
            <a:rPr lang="en-US" b="1" dirty="0">
              <a:solidFill>
                <a:schemeClr val="bg1"/>
              </a:solidFill>
            </a:rPr>
            <a:t> Mondays) </a:t>
          </a:r>
        </a:p>
      </dgm:t>
    </dgm:pt>
    <dgm:pt modelId="{43DCD1DF-66D6-4EC5-BFDA-58895417B491}" type="parTrans" cxnId="{FBA09F39-3C6E-41F3-B915-B109FA35513D}">
      <dgm:prSet/>
      <dgm:spPr/>
      <dgm:t>
        <a:bodyPr/>
        <a:lstStyle/>
        <a:p>
          <a:endParaRPr lang="en-US"/>
        </a:p>
      </dgm:t>
    </dgm:pt>
    <dgm:pt modelId="{CF3F95AC-DAAB-44CF-AB37-BEB00813409C}" type="sibTrans" cxnId="{FBA09F39-3C6E-41F3-B915-B109FA35513D}">
      <dgm:prSet/>
      <dgm:spPr/>
      <dgm:t>
        <a:bodyPr/>
        <a:lstStyle/>
        <a:p>
          <a:endParaRPr lang="en-US"/>
        </a:p>
      </dgm:t>
    </dgm:pt>
    <dgm:pt modelId="{6D4B11DC-4C5A-4E60-8910-D04068A47CA6}">
      <dgm:prSet phldrT="[Text]"/>
      <dgm:spPr/>
      <dgm:t>
        <a:bodyPr/>
        <a:lstStyle/>
        <a:p>
          <a:r>
            <a:rPr lang="en-US" b="1" dirty="0">
              <a:solidFill>
                <a:schemeClr val="bg1"/>
              </a:solidFill>
            </a:rPr>
            <a:t>Coordinated Entry Leadership Team                                 (meets monthly)</a:t>
          </a:r>
        </a:p>
      </dgm:t>
    </dgm:pt>
    <dgm:pt modelId="{E6EB2E32-EA2F-4A02-8CD5-15AF5F6AFEC4}" type="parTrans" cxnId="{0D5BD1F2-C3BF-4287-A4B3-845CA4C49893}">
      <dgm:prSet/>
      <dgm:spPr/>
      <dgm:t>
        <a:bodyPr/>
        <a:lstStyle/>
        <a:p>
          <a:endParaRPr lang="en-US"/>
        </a:p>
      </dgm:t>
    </dgm:pt>
    <dgm:pt modelId="{54E48901-C01D-471F-B0BD-40A094F2CADF}" type="sibTrans" cxnId="{0D5BD1F2-C3BF-4287-A4B3-845CA4C49893}">
      <dgm:prSet/>
      <dgm:spPr/>
      <dgm:t>
        <a:bodyPr/>
        <a:lstStyle/>
        <a:p>
          <a:endParaRPr lang="en-US"/>
        </a:p>
      </dgm:t>
    </dgm:pt>
    <dgm:pt modelId="{92CD93E6-0A68-4A31-A749-2137A27AB54A}">
      <dgm:prSet phldrT="[Text]"/>
      <dgm:spPr/>
      <dgm:t>
        <a:bodyPr/>
        <a:lstStyle/>
        <a:p>
          <a:r>
            <a:rPr lang="en-US" b="1" dirty="0" err="1">
              <a:solidFill>
                <a:schemeClr val="bg1"/>
              </a:solidFill>
            </a:rPr>
            <a:t>CoC</a:t>
          </a:r>
          <a:r>
            <a:rPr lang="en-US" b="1" dirty="0">
              <a:solidFill>
                <a:schemeClr val="bg1"/>
              </a:solidFill>
            </a:rPr>
            <a:t> Full Body Membership         (meets every-other month)  </a:t>
          </a:r>
        </a:p>
      </dgm:t>
    </dgm:pt>
    <dgm:pt modelId="{C0B25E64-FEE5-4B38-8DD6-FCDE352EDFD0}" type="parTrans" cxnId="{CD9068D2-9208-46CB-A32E-BBD45088163A}">
      <dgm:prSet/>
      <dgm:spPr/>
      <dgm:t>
        <a:bodyPr/>
        <a:lstStyle/>
        <a:p>
          <a:endParaRPr lang="en-US"/>
        </a:p>
      </dgm:t>
    </dgm:pt>
    <dgm:pt modelId="{9CFBB67A-B5FB-4CE7-BBC7-D02745793A47}" type="sibTrans" cxnId="{CD9068D2-9208-46CB-A32E-BBD45088163A}">
      <dgm:prSet/>
      <dgm:spPr/>
      <dgm:t>
        <a:bodyPr/>
        <a:lstStyle/>
        <a:p>
          <a:endParaRPr lang="en-US"/>
        </a:p>
      </dgm:t>
    </dgm:pt>
    <dgm:pt modelId="{7F6DC640-A162-4F45-A449-B994A03CE49D}">
      <dgm:prSet phldrT="[Text]"/>
      <dgm:spPr>
        <a:solidFill>
          <a:schemeClr val="accent1">
            <a:lumMod val="40000"/>
            <a:lumOff val="60000"/>
          </a:schemeClr>
        </a:solidFill>
      </dgm:spPr>
      <dgm:t>
        <a:bodyPr/>
        <a:lstStyle/>
        <a:p>
          <a:r>
            <a:rPr lang="en-US" b="1" dirty="0">
              <a:solidFill>
                <a:schemeClr val="bg1"/>
              </a:solidFill>
            </a:rPr>
            <a:t>City of Milwaukee</a:t>
          </a:r>
        </a:p>
        <a:p>
          <a:r>
            <a:rPr lang="en-US" b="1" dirty="0">
              <a:solidFill>
                <a:schemeClr val="bg1"/>
              </a:solidFill>
            </a:rPr>
            <a:t>Community Development Grants Administration </a:t>
          </a:r>
        </a:p>
        <a:p>
          <a:r>
            <a:rPr lang="en-US" b="1" dirty="0">
              <a:solidFill>
                <a:schemeClr val="bg1"/>
              </a:solidFill>
            </a:rPr>
            <a:t>(Lead Agency/Collaborative Applicant for the </a:t>
          </a:r>
          <a:r>
            <a:rPr lang="en-US" b="1" dirty="0" err="1">
              <a:solidFill>
                <a:schemeClr val="bg1"/>
              </a:solidFill>
            </a:rPr>
            <a:t>CoC</a:t>
          </a:r>
          <a:r>
            <a:rPr lang="en-US" b="1" dirty="0">
              <a:solidFill>
                <a:schemeClr val="bg1"/>
              </a:solidFill>
            </a:rPr>
            <a:t>) </a:t>
          </a:r>
        </a:p>
      </dgm:t>
    </dgm:pt>
    <dgm:pt modelId="{F1C266F1-BC2D-4A07-A8A7-C53A4A08AA26}" type="parTrans" cxnId="{29287451-34E6-4E23-935D-F62B93F933B5}">
      <dgm:prSet/>
      <dgm:spPr/>
      <dgm:t>
        <a:bodyPr/>
        <a:lstStyle/>
        <a:p>
          <a:endParaRPr lang="en-US"/>
        </a:p>
      </dgm:t>
    </dgm:pt>
    <dgm:pt modelId="{D6A53C3E-288B-4E0C-82AC-6413757F320D}" type="sibTrans" cxnId="{29287451-34E6-4E23-935D-F62B93F933B5}">
      <dgm:prSet/>
      <dgm:spPr/>
      <dgm:t>
        <a:bodyPr/>
        <a:lstStyle/>
        <a:p>
          <a:endParaRPr lang="en-US"/>
        </a:p>
      </dgm:t>
    </dgm:pt>
    <dgm:pt modelId="{0C59D327-6155-451E-87EE-B846203DAB99}" type="pres">
      <dgm:prSet presAssocID="{715C338F-313F-4ABD-8E74-D9988DAB01AA}" presName="diagram" presStyleCnt="0">
        <dgm:presLayoutVars>
          <dgm:dir/>
          <dgm:resizeHandles val="exact"/>
        </dgm:presLayoutVars>
      </dgm:prSet>
      <dgm:spPr/>
      <dgm:t>
        <a:bodyPr/>
        <a:lstStyle/>
        <a:p>
          <a:endParaRPr lang="en-US"/>
        </a:p>
      </dgm:t>
    </dgm:pt>
    <dgm:pt modelId="{0AABB7C1-7B4B-4F00-9094-E1C7D55E3031}" type="pres">
      <dgm:prSet presAssocID="{20332DC3-BC8E-4679-A67D-5C3163F4BBB9}" presName="node" presStyleLbl="node1" presStyleIdx="0" presStyleCnt="6" custScaleX="23692" custScaleY="9149" custLinFactNeighborX="29972" custLinFactNeighborY="3208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E96FA14E-F0E5-40B7-A3B3-993F205BE047}" type="pres">
      <dgm:prSet presAssocID="{1098F593-666F-46CE-9A12-E7756A166CB8}" presName="sibTrans" presStyleCnt="0"/>
      <dgm:spPr/>
    </dgm:pt>
    <dgm:pt modelId="{C7E468AC-E8A6-4B44-A70A-05A1166134E8}" type="pres">
      <dgm:prSet presAssocID="{91C32FE0-390D-4FC8-9F91-24918878F1FF}" presName="node" presStyleLbl="node1" presStyleIdx="1" presStyleCnt="6" custScaleX="22114" custScaleY="16159" custLinFactNeighborX="8080" custLinFactNeighborY="31482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4124E0D6-BEDA-435C-B64E-6FE1E53DB2BC}" type="pres">
      <dgm:prSet presAssocID="{1C5CCBD3-776C-403B-B924-7BF67F6F8986}" presName="sibTrans" presStyleCnt="0"/>
      <dgm:spPr/>
    </dgm:pt>
    <dgm:pt modelId="{B0D67AD5-D287-46DA-93FB-DAE3E189A45F}" type="pres">
      <dgm:prSet presAssocID="{1BDC05C5-9413-4CDE-BFAC-327D224E5165}" presName="node" presStyleLbl="node1" presStyleIdx="2" presStyleCnt="6" custScaleX="22360" custScaleY="16093" custLinFactNeighborX="-257" custLinFactNeighborY="31808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A38EB0B0-B363-44E6-B92F-4DC782ABD067}" type="pres">
      <dgm:prSet presAssocID="{CF3F95AC-DAAB-44CF-AB37-BEB00813409C}" presName="sibTrans" presStyleCnt="0"/>
      <dgm:spPr/>
    </dgm:pt>
    <dgm:pt modelId="{D27993BA-C600-4F98-B5C6-9533B523D1D8}" type="pres">
      <dgm:prSet presAssocID="{6D4B11DC-4C5A-4E60-8910-D04068A47CA6}" presName="node" presStyleLbl="node1" presStyleIdx="3" presStyleCnt="6" custScaleX="22853" custScaleY="15977" custLinFactNeighborX="723" custLinFactNeighborY="-870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91C4FADC-1F43-429F-8546-9A3B6A7B52DC}" type="pres">
      <dgm:prSet presAssocID="{54E48901-C01D-471F-B0BD-40A094F2CADF}" presName="sibTrans" presStyleCnt="0"/>
      <dgm:spPr/>
    </dgm:pt>
    <dgm:pt modelId="{5357FDDB-670D-4069-B3C1-A12787FA2094}" type="pres">
      <dgm:prSet presAssocID="{92CD93E6-0A68-4A31-A749-2137A27AB54A}" presName="node" presStyleLbl="node1" presStyleIdx="4" presStyleCnt="6" custScaleX="20962" custScaleY="15980" custLinFactNeighborX="-7664" custLinFactNeighborY="-949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A6E98815-8CBD-4025-A151-B092C425EEE9}" type="pres">
      <dgm:prSet presAssocID="{9CFBB67A-B5FB-4CE7-BBC7-D02745793A47}" presName="sibTrans" presStyleCnt="0"/>
      <dgm:spPr/>
    </dgm:pt>
    <dgm:pt modelId="{4566E613-89D2-4BEA-B505-F4DA879AE643}" type="pres">
      <dgm:prSet presAssocID="{7F6DC640-A162-4F45-A449-B994A03CE49D}" presName="node" presStyleLbl="node1" presStyleIdx="5" presStyleCnt="6" custScaleX="36849" custScaleY="14847" custLinFactNeighborX="-33423" custLinFactNeighborY="-43071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</dgm:ptLst>
  <dgm:cxnLst>
    <dgm:cxn modelId="{FBA09F39-3C6E-41F3-B915-B109FA35513D}" srcId="{715C338F-313F-4ABD-8E74-D9988DAB01AA}" destId="{1BDC05C5-9413-4CDE-BFAC-327D224E5165}" srcOrd="2" destOrd="0" parTransId="{43DCD1DF-66D6-4EC5-BFDA-58895417B491}" sibTransId="{CF3F95AC-DAAB-44CF-AB37-BEB00813409C}"/>
    <dgm:cxn modelId="{3CF55166-F615-4E74-9D5F-6602CC2B852C}" type="presOf" srcId="{6D4B11DC-4C5A-4E60-8910-D04068A47CA6}" destId="{D27993BA-C600-4F98-B5C6-9533B523D1D8}" srcOrd="0" destOrd="0" presId="urn:microsoft.com/office/officeart/2005/8/layout/default"/>
    <dgm:cxn modelId="{60B93D76-E568-47A2-B926-C75B32770A8B}" type="presOf" srcId="{7F6DC640-A162-4F45-A449-B994A03CE49D}" destId="{4566E613-89D2-4BEA-B505-F4DA879AE643}" srcOrd="0" destOrd="0" presId="urn:microsoft.com/office/officeart/2005/8/layout/default"/>
    <dgm:cxn modelId="{CD9068D2-9208-46CB-A32E-BBD45088163A}" srcId="{715C338F-313F-4ABD-8E74-D9988DAB01AA}" destId="{92CD93E6-0A68-4A31-A749-2137A27AB54A}" srcOrd="4" destOrd="0" parTransId="{C0B25E64-FEE5-4B38-8DD6-FCDE352EDFD0}" sibTransId="{9CFBB67A-B5FB-4CE7-BBC7-D02745793A47}"/>
    <dgm:cxn modelId="{5DEEBB34-3B6B-4477-B773-DC39CE46954D}" type="presOf" srcId="{91C32FE0-390D-4FC8-9F91-24918878F1FF}" destId="{C7E468AC-E8A6-4B44-A70A-05A1166134E8}" srcOrd="0" destOrd="0" presId="urn:microsoft.com/office/officeart/2005/8/layout/default"/>
    <dgm:cxn modelId="{8EDA36B1-942E-4432-A2A5-BCD578BD8351}" type="presOf" srcId="{715C338F-313F-4ABD-8E74-D9988DAB01AA}" destId="{0C59D327-6155-451E-87EE-B846203DAB99}" srcOrd="0" destOrd="0" presId="urn:microsoft.com/office/officeart/2005/8/layout/default"/>
    <dgm:cxn modelId="{7F2E0588-84E9-4416-B599-1DA951325508}" type="presOf" srcId="{92CD93E6-0A68-4A31-A749-2137A27AB54A}" destId="{5357FDDB-670D-4069-B3C1-A12787FA2094}" srcOrd="0" destOrd="0" presId="urn:microsoft.com/office/officeart/2005/8/layout/default"/>
    <dgm:cxn modelId="{29287451-34E6-4E23-935D-F62B93F933B5}" srcId="{715C338F-313F-4ABD-8E74-D9988DAB01AA}" destId="{7F6DC640-A162-4F45-A449-B994A03CE49D}" srcOrd="5" destOrd="0" parTransId="{F1C266F1-BC2D-4A07-A8A7-C53A4A08AA26}" sibTransId="{D6A53C3E-288B-4E0C-82AC-6413757F320D}"/>
    <dgm:cxn modelId="{771F41FD-F1A3-4AF3-AEB3-FE1D4352BBBB}" srcId="{715C338F-313F-4ABD-8E74-D9988DAB01AA}" destId="{91C32FE0-390D-4FC8-9F91-24918878F1FF}" srcOrd="1" destOrd="0" parTransId="{21676E53-2957-4EB9-B6B9-ECEAF8FA90A7}" sibTransId="{1C5CCBD3-776C-403B-B924-7BF67F6F8986}"/>
    <dgm:cxn modelId="{72F60386-5DA0-446A-9904-D546078AC78B}" srcId="{715C338F-313F-4ABD-8E74-D9988DAB01AA}" destId="{20332DC3-BC8E-4679-A67D-5C3163F4BBB9}" srcOrd="0" destOrd="0" parTransId="{703918DF-E0E2-429F-BFA6-54ADD75A4225}" sibTransId="{1098F593-666F-46CE-9A12-E7756A166CB8}"/>
    <dgm:cxn modelId="{8AE563D2-9850-49D3-983C-E1AA22701DF7}" type="presOf" srcId="{20332DC3-BC8E-4679-A67D-5C3163F4BBB9}" destId="{0AABB7C1-7B4B-4F00-9094-E1C7D55E3031}" srcOrd="0" destOrd="0" presId="urn:microsoft.com/office/officeart/2005/8/layout/default"/>
    <dgm:cxn modelId="{0D5BD1F2-C3BF-4287-A4B3-845CA4C49893}" srcId="{715C338F-313F-4ABD-8E74-D9988DAB01AA}" destId="{6D4B11DC-4C5A-4E60-8910-D04068A47CA6}" srcOrd="3" destOrd="0" parTransId="{E6EB2E32-EA2F-4A02-8CD5-15AF5F6AFEC4}" sibTransId="{54E48901-C01D-471F-B0BD-40A094F2CADF}"/>
    <dgm:cxn modelId="{A8CC7CAD-8FC5-4E22-BFFF-7082CF6381AB}" type="presOf" srcId="{1BDC05C5-9413-4CDE-BFAC-327D224E5165}" destId="{B0D67AD5-D287-46DA-93FB-DAE3E189A45F}" srcOrd="0" destOrd="0" presId="urn:microsoft.com/office/officeart/2005/8/layout/default"/>
    <dgm:cxn modelId="{ABF44C82-9FE2-404C-8D10-373DDA71A1F5}" type="presParOf" srcId="{0C59D327-6155-451E-87EE-B846203DAB99}" destId="{0AABB7C1-7B4B-4F00-9094-E1C7D55E3031}" srcOrd="0" destOrd="0" presId="urn:microsoft.com/office/officeart/2005/8/layout/default"/>
    <dgm:cxn modelId="{46FBD5DF-0BC8-46B5-8DFF-D88DEEC22F84}" type="presParOf" srcId="{0C59D327-6155-451E-87EE-B846203DAB99}" destId="{E96FA14E-F0E5-40B7-A3B3-993F205BE047}" srcOrd="1" destOrd="0" presId="urn:microsoft.com/office/officeart/2005/8/layout/default"/>
    <dgm:cxn modelId="{E3F8AED2-C474-4845-88F1-1EE497704727}" type="presParOf" srcId="{0C59D327-6155-451E-87EE-B846203DAB99}" destId="{C7E468AC-E8A6-4B44-A70A-05A1166134E8}" srcOrd="2" destOrd="0" presId="urn:microsoft.com/office/officeart/2005/8/layout/default"/>
    <dgm:cxn modelId="{F9D75F6B-B17A-44A5-9446-47982056C5B6}" type="presParOf" srcId="{0C59D327-6155-451E-87EE-B846203DAB99}" destId="{4124E0D6-BEDA-435C-B64E-6FE1E53DB2BC}" srcOrd="3" destOrd="0" presId="urn:microsoft.com/office/officeart/2005/8/layout/default"/>
    <dgm:cxn modelId="{13438D3D-9BFB-40BB-882A-47CDFBE65914}" type="presParOf" srcId="{0C59D327-6155-451E-87EE-B846203DAB99}" destId="{B0D67AD5-D287-46DA-93FB-DAE3E189A45F}" srcOrd="4" destOrd="0" presId="urn:microsoft.com/office/officeart/2005/8/layout/default"/>
    <dgm:cxn modelId="{2B06D5C3-01F6-49B0-B12B-21D98B36F147}" type="presParOf" srcId="{0C59D327-6155-451E-87EE-B846203DAB99}" destId="{A38EB0B0-B363-44E6-B92F-4DC782ABD067}" srcOrd="5" destOrd="0" presId="urn:microsoft.com/office/officeart/2005/8/layout/default"/>
    <dgm:cxn modelId="{402A44B1-926C-4508-B920-16B92C820826}" type="presParOf" srcId="{0C59D327-6155-451E-87EE-B846203DAB99}" destId="{D27993BA-C600-4F98-B5C6-9533B523D1D8}" srcOrd="6" destOrd="0" presId="urn:microsoft.com/office/officeart/2005/8/layout/default"/>
    <dgm:cxn modelId="{0BDD6552-89BE-4FF5-AC84-D5F3859A10EF}" type="presParOf" srcId="{0C59D327-6155-451E-87EE-B846203DAB99}" destId="{91C4FADC-1F43-429F-8546-9A3B6A7B52DC}" srcOrd="7" destOrd="0" presId="urn:microsoft.com/office/officeart/2005/8/layout/default"/>
    <dgm:cxn modelId="{0B771ABF-3726-464E-B3BC-A30622234F08}" type="presParOf" srcId="{0C59D327-6155-451E-87EE-B846203DAB99}" destId="{5357FDDB-670D-4069-B3C1-A12787FA2094}" srcOrd="8" destOrd="0" presId="urn:microsoft.com/office/officeart/2005/8/layout/default"/>
    <dgm:cxn modelId="{CEBC0BD6-A166-46E3-82F5-C9F94F692489}" type="presParOf" srcId="{0C59D327-6155-451E-87EE-B846203DAB99}" destId="{A6E98815-8CBD-4025-A151-B092C425EEE9}" srcOrd="9" destOrd="0" presId="urn:microsoft.com/office/officeart/2005/8/layout/default"/>
    <dgm:cxn modelId="{BC53333E-1071-4A95-AF2E-FF2BCEDABBDC}" type="presParOf" srcId="{0C59D327-6155-451E-87EE-B846203DAB99}" destId="{4566E613-89D2-4BEA-B505-F4DA879AE643}" srcOrd="10" destOrd="0" presId="urn:microsoft.com/office/officeart/2005/8/layout/default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0AABB7C1-7B4B-4F00-9094-E1C7D55E3031}">
      <dsp:nvSpPr>
        <dsp:cNvPr id="0" name=""/>
        <dsp:cNvSpPr/>
      </dsp:nvSpPr>
      <dsp:spPr>
        <a:xfrm>
          <a:off x="4224304" y="1161830"/>
          <a:ext cx="2762172" cy="639991"/>
        </a:xfrm>
        <a:prstGeom prst="rect">
          <a:avLst/>
        </a:prstGeom>
        <a:solidFill>
          <a:schemeClr val="accent1">
            <a:lumMod val="40000"/>
            <a:lumOff val="6000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60960" tIns="60960" rIns="60960" bIns="60960" numCol="1" spcCol="1270" anchor="ctr" anchorCtr="0">
          <a:noAutofit/>
        </a:bodyPr>
        <a:lstStyle/>
        <a:p>
          <a:pPr lvl="0" algn="ctr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600" b="1" kern="1200" dirty="0" err="1">
              <a:solidFill>
                <a:schemeClr val="bg1"/>
              </a:solidFill>
            </a:rPr>
            <a:t>CoC</a:t>
          </a:r>
          <a:r>
            <a:rPr lang="en-US" sz="1600" b="1" kern="1200" dirty="0">
              <a:solidFill>
                <a:schemeClr val="bg1"/>
              </a:solidFill>
            </a:rPr>
            <a:t> Board of Directors    (meets quarterly)</a:t>
          </a:r>
        </a:p>
      </dsp:txBody>
      <dsp:txXfrm>
        <a:off x="4224304" y="1161830"/>
        <a:ext cx="2762172" cy="639991"/>
      </dsp:txXfrm>
    </dsp:sp>
    <dsp:sp modelId="{C7E468AC-E8A6-4B44-A70A-05A1166134E8}">
      <dsp:nvSpPr>
        <dsp:cNvPr id="0" name=""/>
        <dsp:cNvSpPr/>
      </dsp:nvSpPr>
      <dsp:spPr>
        <a:xfrm>
          <a:off x="5600027" y="2894472"/>
          <a:ext cx="2578198" cy="1130354"/>
        </a:xfrm>
        <a:prstGeom prst="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53340" tIns="53340" rIns="53340" bIns="53340" numCol="1" spcCol="1270" anchor="ctr" anchorCtr="0">
          <a:noAutofit/>
        </a:bodyPr>
        <a:lstStyle/>
        <a:p>
          <a:pPr lvl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400" b="1" kern="1200" dirty="0">
              <a:solidFill>
                <a:schemeClr val="bg1"/>
              </a:solidFill>
            </a:rPr>
            <a:t>Funded Agency Collaborative         (meets monthly)</a:t>
          </a:r>
        </a:p>
      </dsp:txBody>
      <dsp:txXfrm>
        <a:off x="5600027" y="2894472"/>
        <a:ext cx="2578198" cy="1130354"/>
      </dsp:txXfrm>
    </dsp:sp>
    <dsp:sp modelId="{B0D67AD5-D287-46DA-93FB-DAE3E189A45F}">
      <dsp:nvSpPr>
        <dsp:cNvPr id="0" name=""/>
        <dsp:cNvSpPr/>
      </dsp:nvSpPr>
      <dsp:spPr>
        <a:xfrm>
          <a:off x="8372110" y="2919585"/>
          <a:ext cx="2606879" cy="1125738"/>
        </a:xfrm>
        <a:prstGeom prst="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53340" tIns="53340" rIns="53340" bIns="53340" numCol="1" spcCol="1270" anchor="ctr" anchorCtr="0">
          <a:noAutofit/>
        </a:bodyPr>
        <a:lstStyle/>
        <a:p>
          <a:pPr lvl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400" b="1" kern="1200" dirty="0">
              <a:solidFill>
                <a:schemeClr val="bg1"/>
              </a:solidFill>
            </a:rPr>
            <a:t>NOFA/System Improvement Committee                            (meets 1</a:t>
          </a:r>
          <a:r>
            <a:rPr lang="en-US" sz="1400" b="1" kern="1200" baseline="30000" dirty="0">
              <a:solidFill>
                <a:schemeClr val="bg1"/>
              </a:solidFill>
            </a:rPr>
            <a:t>st</a:t>
          </a:r>
          <a:r>
            <a:rPr lang="en-US" sz="1400" b="1" kern="1200" dirty="0">
              <a:solidFill>
                <a:schemeClr val="bg1"/>
              </a:solidFill>
            </a:rPr>
            <a:t> and 3</a:t>
          </a:r>
          <a:r>
            <a:rPr lang="en-US" sz="1400" b="1" kern="1200" baseline="30000" dirty="0">
              <a:solidFill>
                <a:schemeClr val="bg1"/>
              </a:solidFill>
            </a:rPr>
            <a:t>rd</a:t>
          </a:r>
          <a:r>
            <a:rPr lang="en-US" sz="1400" b="1" kern="1200" dirty="0">
              <a:solidFill>
                <a:schemeClr val="bg1"/>
              </a:solidFill>
            </a:rPr>
            <a:t> Mondays) </a:t>
          </a:r>
        </a:p>
      </dsp:txBody>
      <dsp:txXfrm>
        <a:off x="8372110" y="2919585"/>
        <a:ext cx="2606879" cy="1125738"/>
      </dsp:txXfrm>
    </dsp:sp>
    <dsp:sp modelId="{D27993BA-C600-4F98-B5C6-9533B523D1D8}">
      <dsp:nvSpPr>
        <dsp:cNvPr id="0" name=""/>
        <dsp:cNvSpPr/>
      </dsp:nvSpPr>
      <dsp:spPr>
        <a:xfrm>
          <a:off x="85708" y="2927711"/>
          <a:ext cx="2664356" cy="1117623"/>
        </a:xfrm>
        <a:prstGeom prst="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53340" tIns="53340" rIns="53340" bIns="53340" numCol="1" spcCol="1270" anchor="ctr" anchorCtr="0">
          <a:noAutofit/>
        </a:bodyPr>
        <a:lstStyle/>
        <a:p>
          <a:pPr lvl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400" b="1" kern="1200" dirty="0">
              <a:solidFill>
                <a:schemeClr val="bg1"/>
              </a:solidFill>
            </a:rPr>
            <a:t>Coordinated Entry Leadership Team                                 (meets monthly)</a:t>
          </a:r>
        </a:p>
      </dsp:txBody>
      <dsp:txXfrm>
        <a:off x="85708" y="2927711"/>
        <a:ext cx="2664356" cy="1117623"/>
      </dsp:txXfrm>
    </dsp:sp>
    <dsp:sp modelId="{5357FDDB-670D-4069-B3C1-A12787FA2094}">
      <dsp:nvSpPr>
        <dsp:cNvPr id="0" name=""/>
        <dsp:cNvSpPr/>
      </dsp:nvSpPr>
      <dsp:spPr>
        <a:xfrm>
          <a:off x="2938119" y="2922080"/>
          <a:ext cx="2443890" cy="1117833"/>
        </a:xfrm>
        <a:prstGeom prst="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53340" tIns="53340" rIns="53340" bIns="53340" numCol="1" spcCol="1270" anchor="ctr" anchorCtr="0">
          <a:noAutofit/>
        </a:bodyPr>
        <a:lstStyle/>
        <a:p>
          <a:pPr lvl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400" b="1" kern="1200" dirty="0" err="1">
              <a:solidFill>
                <a:schemeClr val="bg1"/>
              </a:solidFill>
            </a:rPr>
            <a:t>CoC</a:t>
          </a:r>
          <a:r>
            <a:rPr lang="en-US" sz="1400" b="1" kern="1200" dirty="0">
              <a:solidFill>
                <a:schemeClr val="bg1"/>
              </a:solidFill>
            </a:rPr>
            <a:t> Full Body Membership         (meets every-other month)  </a:t>
          </a:r>
        </a:p>
      </dsp:txBody>
      <dsp:txXfrm>
        <a:off x="2938119" y="2922080"/>
        <a:ext cx="2443890" cy="1117833"/>
      </dsp:txXfrm>
    </dsp:sp>
    <dsp:sp modelId="{4566E613-89D2-4BEA-B505-F4DA879AE643}">
      <dsp:nvSpPr>
        <dsp:cNvPr id="0" name=""/>
        <dsp:cNvSpPr/>
      </dsp:nvSpPr>
      <dsp:spPr>
        <a:xfrm>
          <a:off x="3544720" y="15188"/>
          <a:ext cx="4296104" cy="1038577"/>
        </a:xfrm>
        <a:prstGeom prst="rect">
          <a:avLst/>
        </a:prstGeom>
        <a:solidFill>
          <a:schemeClr val="accent1">
            <a:lumMod val="40000"/>
            <a:lumOff val="6000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53340" tIns="53340" rIns="53340" bIns="53340" numCol="1" spcCol="1270" anchor="ctr" anchorCtr="0">
          <a:noAutofit/>
        </a:bodyPr>
        <a:lstStyle/>
        <a:p>
          <a:pPr lvl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400" b="1" kern="1200" dirty="0">
              <a:solidFill>
                <a:schemeClr val="bg1"/>
              </a:solidFill>
            </a:rPr>
            <a:t>City of Milwaukee</a:t>
          </a:r>
        </a:p>
        <a:p>
          <a:pPr lvl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400" b="1" kern="1200" dirty="0">
              <a:solidFill>
                <a:schemeClr val="bg1"/>
              </a:solidFill>
            </a:rPr>
            <a:t>Community Development Grants Administration </a:t>
          </a:r>
        </a:p>
        <a:p>
          <a:pPr lvl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400" b="1" kern="1200" dirty="0">
              <a:solidFill>
                <a:schemeClr val="bg1"/>
              </a:solidFill>
            </a:rPr>
            <a:t>(Lead Agency/Collaborative Applicant for the </a:t>
          </a:r>
          <a:r>
            <a:rPr lang="en-US" sz="1400" b="1" kern="1200" dirty="0" err="1">
              <a:solidFill>
                <a:schemeClr val="bg1"/>
              </a:solidFill>
            </a:rPr>
            <a:t>CoC</a:t>
          </a:r>
          <a:r>
            <a:rPr lang="en-US" sz="1400" b="1" kern="1200" dirty="0">
              <a:solidFill>
                <a:schemeClr val="bg1"/>
              </a:solidFill>
            </a:rPr>
            <a:t>) </a:t>
          </a:r>
        </a:p>
      </dsp:txBody>
      <dsp:txXfrm>
        <a:off x="3544720" y="15188"/>
        <a:ext cx="4296104" cy="1038577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default">
  <dgm:title val=""/>
  <dgm:desc val=""/>
  <dgm:catLst>
    <dgm:cat type="list" pri="4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6" srcId="0" destId="1" srcOrd="0" destOrd="0"/>
        <dgm:cxn modelId="7" srcId="0" destId="2" srcOrd="1" destOrd="0"/>
        <dgm:cxn modelId="8" srcId="0" destId="3" srcOrd="2" destOrd="0"/>
        <dgm:cxn modelId="9" srcId="0" destId="4" srcOrd="3" destOrd="0"/>
        <dgm:cxn modelId="10" srcId="0" destId="5" srcOrd="4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  <dgm:pt modelId="5"/>
        <dgm:pt modelId="6"/>
      </dgm:ptLst>
      <dgm:cxnLst>
        <dgm:cxn modelId="7" srcId="0" destId="1" srcOrd="0" destOrd="0"/>
        <dgm:cxn modelId="8" srcId="0" destId="2" srcOrd="1" destOrd="0"/>
        <dgm:cxn modelId="9" srcId="0" destId="3" srcOrd="2" destOrd="0"/>
        <dgm:cxn modelId="10" srcId="0" destId="4" srcOrd="3" destOrd="0"/>
        <dgm:cxn modelId="11" srcId="0" destId="5" srcOrd="4" destOrd="0"/>
        <dgm:cxn modelId="12" srcId="0" destId="6" srcOrd="5" destOrd="0"/>
      </dgm:cxnLst>
      <dgm:bg/>
      <dgm:whole/>
    </dgm:dataModel>
  </dgm:clrData>
  <dgm:layoutNode name="diagram">
    <dgm:varLst>
      <dgm:dir/>
      <dgm:resizeHandles val="exact"/>
    </dgm:varLst>
    <dgm:choose name="Name0">
      <dgm:if name="Name1" func="var" arg="dir" op="equ" val="norm">
        <dgm:alg type="snake">
          <dgm:param type="grDir" val="tL"/>
          <dgm:param type="flowDir" val="row"/>
          <dgm:param type="contDir" val="sameDir"/>
          <dgm:param type="off" val="ctr"/>
        </dgm:alg>
      </dgm:if>
      <dgm:else name="Name2">
        <dgm:alg type="snake">
          <dgm:param type="grDir" val="tR"/>
          <dgm:param type="flowDir" val="row"/>
          <dgm:param type="contDir" val="sameDir"/>
          <dgm:param type="off" val="ct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node" refType="w"/>
      <dgm:constr type="h" for="ch" forName="node" refType="w" refFor="ch" refForName="node" fact="0.6"/>
      <dgm:constr type="w" for="ch" forName="sibTrans" refType="w" refFor="ch" refForName="node" fact="0.1"/>
      <dgm:constr type="sp" refType="w" refFor="ch" refForName="sibTrans"/>
      <dgm:constr type="primFontSz" for="ch" forName="node" op="equ" val="65"/>
    </dgm:constrLst>
    <dgm:ruleLst/>
    <dgm:forEach name="Name3" axis="ch" ptType="node">
      <dgm:layoutNode name="node">
        <dgm:varLst>
          <dgm:bulletEnabled val="1"/>
        </dgm:varLst>
        <dgm:alg type="tx"/>
        <dgm:shape xmlns:r="http://schemas.openxmlformats.org/officeDocument/2006/relationships" type="rect" r:blip="">
          <dgm:adjLst/>
        </dgm:shape>
        <dgm:presOf axis="desOrSelf" ptType="node"/>
        <dgm:constrLst>
          <dgm:constr type="lMarg" refType="primFontSz" fact="0.3"/>
          <dgm:constr type="rMarg" refType="primFontSz" fact="0.3"/>
          <dgm:constr type="tMarg" refType="primFontSz" fact="0.3"/>
          <dgm:constr type="bMarg" refType="primFontSz" fact="0.3"/>
        </dgm:constrLst>
        <dgm:ruleLst>
          <dgm:rule type="primFontSz" val="5" fact="NaN" max="NaN"/>
        </dgm:ruleLst>
      </dgm:layoutNode>
      <dgm:forEach name="Name4" axis="followSib" ptType="sibTrans" cnt="1">
        <dgm:layoutNode name="sibTran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21F1-2616-4203-8075-C30F5EB7E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0400" y="753120"/>
            <a:ext cx="9613440" cy="108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0400" y="2336760"/>
            <a:ext cx="961344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0400" y="4216680"/>
            <a:ext cx="961344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AA8A-9EDB-471E-8C9F-C323331CA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400" y="753120"/>
            <a:ext cx="9613440" cy="108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400" y="2336760"/>
            <a:ext cx="469116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606640" y="2336760"/>
            <a:ext cx="469116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0400" y="4216680"/>
            <a:ext cx="469116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06640" y="4216680"/>
            <a:ext cx="469116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ABE9-D49B-4A7A-B6B4-57EE7A895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0400" y="753120"/>
            <a:ext cx="9613440" cy="108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0400" y="233676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30840" y="233676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181280" y="233676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0400" y="421668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30840" y="421668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7181280" y="421668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F26B-2B58-4894-A174-B37B08CE2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FAB28-1360-449F-99E6-9A2DFC6DC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0400" y="753120"/>
            <a:ext cx="9613440" cy="108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0400" y="2336760"/>
            <a:ext cx="961344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343C5-0C8C-4192-97F4-EFFE2392C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0400" y="753120"/>
            <a:ext cx="9613440" cy="108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0400" y="2336760"/>
            <a:ext cx="961344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03DCD-558F-4024-8EA4-D09B25348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0400" y="753120"/>
            <a:ext cx="9613440" cy="108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0400" y="2336760"/>
            <a:ext cx="469116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606640" y="2336760"/>
            <a:ext cx="469116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D41D6-9DB6-4F85-8E13-023AF1E54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0400" y="753120"/>
            <a:ext cx="9613440" cy="108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F9D98-3261-4EFC-898D-783CAE585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0400" y="753120"/>
            <a:ext cx="9613440" cy="501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724ED-DA1E-42C8-95F3-7097FBBD9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0400" y="753120"/>
            <a:ext cx="9613440" cy="108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0400" y="2336760"/>
            <a:ext cx="469116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606640" y="2336760"/>
            <a:ext cx="469116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0400" y="4216680"/>
            <a:ext cx="469116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BA2E4-F728-42C7-9DA3-CC642135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0400" y="753120"/>
            <a:ext cx="9613440" cy="108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0400" y="2336760"/>
            <a:ext cx="961344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7757-0743-4B0A-BDC6-2109ED0F7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0400" y="753120"/>
            <a:ext cx="9613440" cy="108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0400" y="2336760"/>
            <a:ext cx="469116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06640" y="2336760"/>
            <a:ext cx="469116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606640" y="4216680"/>
            <a:ext cx="469116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D533B-89B2-45D9-A861-C1221F16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0400" y="753120"/>
            <a:ext cx="9613440" cy="108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0400" y="2336760"/>
            <a:ext cx="469116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06640" y="2336760"/>
            <a:ext cx="469116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0400" y="4216680"/>
            <a:ext cx="961344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DA358-52E3-409B-A26B-659D3758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0400" y="753120"/>
            <a:ext cx="9613440" cy="108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0400" y="2336760"/>
            <a:ext cx="961344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0400" y="4216680"/>
            <a:ext cx="961344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B7F5B-F16E-4F53-B541-1F4D7C668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0400" y="753120"/>
            <a:ext cx="9613440" cy="108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0400" y="2336760"/>
            <a:ext cx="469116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606640" y="2336760"/>
            <a:ext cx="469116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0400" y="4216680"/>
            <a:ext cx="469116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606640" y="4216680"/>
            <a:ext cx="469116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957F0-F2E9-40B4-AC45-AF3B80BC5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0400" y="753120"/>
            <a:ext cx="9613440" cy="108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0400" y="233676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30840" y="233676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7181280" y="233676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0400" y="421668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30840" y="421668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7181280" y="421668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AA3CF-B7C9-4F59-BC38-EAA47F105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400" y="753120"/>
            <a:ext cx="9613440" cy="108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0400" y="2336760"/>
            <a:ext cx="961344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6AAF-F410-4B5A-8960-92CF9D189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400" y="753120"/>
            <a:ext cx="9613440" cy="108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400" y="2336760"/>
            <a:ext cx="469116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06640" y="2336760"/>
            <a:ext cx="469116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2EC3-7C04-42FF-9DB7-FD64584B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0400" y="753120"/>
            <a:ext cx="9613440" cy="108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7C6F-C1BA-4EC0-83C7-0D559285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0400" y="753120"/>
            <a:ext cx="9613440" cy="501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8545-D601-49A4-9F70-556D179FB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0400" y="753120"/>
            <a:ext cx="9613440" cy="108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0400" y="2336760"/>
            <a:ext cx="469116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606640" y="2336760"/>
            <a:ext cx="469116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0400" y="4216680"/>
            <a:ext cx="469116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F695-9AB3-4260-A085-F2F87BED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0400" y="753120"/>
            <a:ext cx="9613440" cy="108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0400" y="2336760"/>
            <a:ext cx="469116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06640" y="2336760"/>
            <a:ext cx="469116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06640" y="4216680"/>
            <a:ext cx="469116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9C2C-2E65-4C83-BC39-82F0F5DA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0400" y="753120"/>
            <a:ext cx="9613440" cy="108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0400" y="2336760"/>
            <a:ext cx="469116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06640" y="2336760"/>
            <a:ext cx="469116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0400" y="4216680"/>
            <a:ext cx="961344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08D6-47BB-4F07-8B32-E4AC41BA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34000"/>
          </a:blip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hashOverlay-FullResolve.png"/>
          <p:cNvPicPr/>
          <p:nvPr/>
        </p:nvPicPr>
        <p:blipFill>
          <a:blip r:embed="rId3">
            <a:alphaModFix amt="10000"/>
          </a:blip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6" descr="HD-ShadowLong.png"/>
          <p:cNvPicPr/>
          <p:nvPr/>
        </p:nvPicPr>
        <p:blipFill>
          <a:blip r:embed="rId4"/>
          <a:stretch/>
        </p:blipFill>
        <p:spPr>
          <a:xfrm>
            <a:off x="0" y="4242960"/>
            <a:ext cx="8967600" cy="275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7" descr="HD-ShadowShort.png"/>
          <p:cNvPicPr/>
          <p:nvPr/>
        </p:nvPicPr>
        <p:blipFill>
          <a:blip r:embed="rId5"/>
          <a:stretch/>
        </p:blipFill>
        <p:spPr>
          <a:xfrm>
            <a:off x="9111600" y="4243680"/>
            <a:ext cx="3076920" cy="276480"/>
          </a:xfrm>
          <a:prstGeom prst="rect">
            <a:avLst/>
          </a:prstGeom>
          <a:ln w="0">
            <a:noFill/>
          </a:ln>
        </p:spPr>
      </p:pic>
      <p:sp>
        <p:nvSpPr>
          <p:cNvPr id="3" name="Rectangle 8"/>
          <p:cNvSpPr/>
          <p:nvPr/>
        </p:nvSpPr>
        <p:spPr>
          <a:xfrm>
            <a:off x="0" y="2590200"/>
            <a:ext cx="8967600" cy="1659960"/>
          </a:xfrm>
          <a:prstGeom prst="rect">
            <a:avLst/>
          </a:prstGeom>
          <a:solidFill>
            <a:schemeClr val="bg1">
              <a:lumMod val="85000"/>
              <a:lumOff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9111600" y="2590200"/>
            <a:ext cx="3076920" cy="165996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400" y="2733840"/>
            <a:ext cx="8143920" cy="137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</a:pPr>
            <a:r>
              <a:rPr b="0" lang="en-US" sz="5400" spc="-1" strike="noStrike">
                <a:solidFill>
                  <a:srgbClr val="ffffff"/>
                </a:solidFill>
                <a:latin typeface="Trebuchet MS"/>
              </a:rPr>
              <a:t>Click to edit Master title style</a:t>
            </a:r>
            <a:endParaRPr b="0" lang="en-US" sz="5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7551000" y="593604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5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680400" y="5936040"/>
            <a:ext cx="6870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9255240" y="2750400"/>
            <a:ext cx="1171440" cy="135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79A11466-11F5-4779-9005-187B000D8804}" type="slidenum">
              <a:rPr b="0" lang="en-US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34000"/>
          </a:blip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6" descr="hashOverlay-FullResolve.png"/>
          <p:cNvPicPr/>
          <p:nvPr/>
        </p:nvPicPr>
        <p:blipFill>
          <a:blip r:embed="rId3">
            <a:alphaModFix amt="10000"/>
          </a:blip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HD-ShadowLong.png"/>
          <p:cNvPicPr/>
          <p:nvPr/>
        </p:nvPicPr>
        <p:blipFill>
          <a:blip r:embed="rId4"/>
          <a:stretch/>
        </p:blipFill>
        <p:spPr>
          <a:xfrm>
            <a:off x="0" y="1970280"/>
            <a:ext cx="10437480" cy="320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HD-ShadowShort.png"/>
          <p:cNvPicPr/>
          <p:nvPr/>
        </p:nvPicPr>
        <p:blipFill>
          <a:blip r:embed="rId5"/>
          <a:stretch/>
        </p:blipFill>
        <p:spPr>
          <a:xfrm>
            <a:off x="10585800" y="1971360"/>
            <a:ext cx="1602720" cy="144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6"/>
          <p:cNvSpPr/>
          <p:nvPr/>
        </p:nvSpPr>
        <p:spPr>
          <a:xfrm>
            <a:off x="0" y="609480"/>
            <a:ext cx="10437480" cy="1368000"/>
          </a:xfrm>
          <a:prstGeom prst="rect">
            <a:avLst/>
          </a:prstGeom>
          <a:solidFill>
            <a:schemeClr val="bg1">
              <a:lumMod val="85000"/>
              <a:lumOff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0585800" y="609480"/>
            <a:ext cx="1602720" cy="136800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0400" y="753120"/>
            <a:ext cx="9613440" cy="108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Master title style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0400" y="2336760"/>
            <a:ext cx="961344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Master text styles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ird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Fourth level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Fifth level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7551000" y="593604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5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680400" y="5936040"/>
            <a:ext cx="6870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10729440" y="753120"/>
            <a:ext cx="115380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B2AA5AD9-F62D-457E-9481-D1AC168BF492}" type="slidenum">
              <a:rPr b="0" lang="en-US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chart" Target="../charts/chart2.xml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0400" y="2715120"/>
            <a:ext cx="8143920" cy="139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</a:pPr>
            <a:r>
              <a:rPr b="0" lang="en-US" sz="5400" spc="-1" strike="noStrike">
                <a:solidFill>
                  <a:srgbClr val="ffffff"/>
                </a:solidFill>
                <a:latin typeface="Trebuchet MS"/>
              </a:rPr>
              <a:t>Milwaukee CoC WI-501</a:t>
            </a:r>
            <a:br>
              <a:rPr sz="5400"/>
            </a:b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tructure and Best Practices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620120" y="4419360"/>
            <a:ext cx="4343040" cy="13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JAMES MAT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irec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ilwaukee County Housing Divi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CoCHeader.tif"/>
          <p:cNvPicPr/>
          <p:nvPr/>
        </p:nvPicPr>
        <p:blipFill>
          <a:blip r:embed="rId1"/>
          <a:stretch/>
        </p:blipFill>
        <p:spPr>
          <a:xfrm>
            <a:off x="0" y="2558880"/>
            <a:ext cx="12191760" cy="1703520"/>
          </a:xfrm>
          <a:prstGeom prst="rect">
            <a:avLst/>
          </a:prstGeom>
          <a:ln w="0">
            <a:noFill/>
          </a:ln>
        </p:spPr>
      </p:pic>
      <p:sp>
        <p:nvSpPr>
          <p:cNvPr id="95" name="TextBox 4"/>
          <p:cNvSpPr/>
          <p:nvPr/>
        </p:nvSpPr>
        <p:spPr>
          <a:xfrm>
            <a:off x="7034040" y="1014480"/>
            <a:ext cx="502884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5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RAFAEL ACEVEDO J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C Grant Compliance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ity of Milwauk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0400" y="753120"/>
            <a:ext cx="9613440" cy="108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Housing First Works!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0440" y="2348280"/>
            <a:ext cx="961344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melessness - a housing problem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using is right to which all individuals are entitled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ovide permanent, independent housing without prerequisites for treatmen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ffering </a:t>
            </a: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(but not insisting on)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ther suppor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move major obstacles to obtaining and maintaining housing for the chronically homeless population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pportunity to secure housing rather than having to “earn” i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9680" y="672840"/>
            <a:ext cx="9793800" cy="12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Plan to end chronic homelessness 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0400" y="2336760"/>
            <a:ext cx="9613440" cy="43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How can we succeed?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Housing Subsidy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ase Management Service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Additional Supportive Housing Development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Outreach &amp; Staffing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oordination of resource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ide range of community partner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30760" y="753120"/>
            <a:ext cx="10063080" cy="108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Total Homeless Individuals in Milwaukee County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23" name="Content Placeholder 5" descr=""/>
          <p:cNvPicPr/>
          <p:nvPr/>
        </p:nvPicPr>
        <p:blipFill>
          <a:blip r:embed="rId1"/>
          <a:stretch/>
        </p:blipFill>
        <p:spPr>
          <a:xfrm>
            <a:off x="230760" y="2117160"/>
            <a:ext cx="10442880" cy="452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0400" y="753120"/>
            <a:ext cx="9613440" cy="108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Behavioral Health Cost Savings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3720" y="2206440"/>
            <a:ext cx="2968560" cy="397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Housing First residents utilized crisis mental health services significantly less during their first year in housing.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Compared to the previous year spent homeless, during their first 12 months in housing, Housing First resident utilized 539 fewer mental health crisis services resulting in a cost savings of more than $714,600.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graphicFrame>
        <p:nvGraphicFramePr>
          <p:cNvPr id="126" name="Chart 4"/>
          <p:cNvGraphicFramePr/>
          <p:nvPr/>
        </p:nvGraphicFramePr>
        <p:xfrm>
          <a:off x="243720" y="4035960"/>
          <a:ext cx="4432680" cy="26337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127" name="Chart 5"/>
          <p:cNvGraphicFramePr/>
          <p:nvPr/>
        </p:nvGraphicFramePr>
        <p:xfrm>
          <a:off x="4831560" y="3665880"/>
          <a:ext cx="4361400" cy="30038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128" name="Rectangle 6"/>
          <p:cNvSpPr/>
          <p:nvPr/>
        </p:nvSpPr>
        <p:spPr>
          <a:xfrm>
            <a:off x="4746960" y="2242080"/>
            <a:ext cx="2709360" cy="11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Top 4 Utilized Program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Crisis Mob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Det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Psychiatric Crisis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Inpatient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2"/>
          <p:cNvSpPr/>
          <p:nvPr/>
        </p:nvSpPr>
        <p:spPr>
          <a:xfrm>
            <a:off x="9193320" y="3666600"/>
            <a:ext cx="2873520" cy="11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Previous Year: 627 episodes; $860,98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Year in Housing: 88 episodes; $146,3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5"/>
          <p:cNvSpPr/>
          <p:nvPr/>
        </p:nvSpPr>
        <p:spPr>
          <a:xfrm>
            <a:off x="9503640" y="5167800"/>
            <a:ext cx="2253240" cy="1063080"/>
          </a:xfrm>
          <a:prstGeom prst="rect">
            <a:avLst/>
          </a:prstGeom>
          <a:solidFill>
            <a:schemeClr val="accent5">
              <a:lumMod val="20000"/>
              <a:lumOff val="80000"/>
            </a:schemeClr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42 additional programs were utilized at lesser r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0400" y="753120"/>
            <a:ext cx="9613440" cy="108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HMO Case Example using Housing Firs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0400" y="2336760"/>
            <a:ext cx="10935000" cy="43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08800" indent="-208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1" lang="en-US" sz="2900" spc="-1" strike="noStrike">
                <a:solidFill>
                  <a:srgbClr val="000000"/>
                </a:solidFill>
                <a:latin typeface="Trebuchet MS"/>
              </a:rPr>
              <a:t>In 2017 prior to housing placement:</a:t>
            </a:r>
            <a:endParaRPr b="0" lang="en-US" sz="2900" spc="-1" strike="noStrike">
              <a:solidFill>
                <a:srgbClr val="ffffff"/>
              </a:solidFill>
              <a:latin typeface="Trebuchet MS"/>
            </a:endParaRPr>
          </a:p>
          <a:p>
            <a:pPr marL="208800" indent="-208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200+ ER contacts in 2017, sometimes 2x on the same day (25 ER contacts in Dec/2017 </a:t>
            </a: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    alone)</a:t>
            </a:r>
            <a:endParaRPr b="0" lang="en-US" sz="2900" spc="-1" strike="noStrike">
              <a:solidFill>
                <a:srgbClr val="ffffff"/>
              </a:solidFill>
              <a:latin typeface="Trebuchet MS"/>
            </a:endParaRPr>
          </a:p>
          <a:p>
            <a:pPr marL="208800" indent="-208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13 inpatient admissions including 2 admissions to CRC (total of 54 bed days)</a:t>
            </a:r>
            <a:endParaRPr b="0" lang="en-US" sz="2900" spc="-1" strike="noStrike">
              <a:solidFill>
                <a:srgbClr val="ffffff"/>
              </a:solidFill>
              <a:latin typeface="Trebuchet MS"/>
            </a:endParaRPr>
          </a:p>
          <a:p>
            <a:pPr marL="208800" indent="-208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4 ER contacts from Jan 1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rebuchet MS"/>
              </a:rPr>
              <a:t>st</a:t>
            </a: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 to 4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rebuchet MS"/>
              </a:rPr>
              <a:t>th</a:t>
            </a: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, 2018 (one daily).</a:t>
            </a:r>
            <a:endParaRPr b="0" lang="en-US" sz="2900" spc="-1" strike="noStrike">
              <a:solidFill>
                <a:srgbClr val="ffffff"/>
              </a:solidFill>
              <a:latin typeface="Trebuchet MS"/>
            </a:endParaRPr>
          </a:p>
          <a:p>
            <a:pPr marL="208800" indent="-208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Member street homeless for 4+ years; minimal shelter contact during that time.</a:t>
            </a:r>
            <a:endParaRPr b="0" lang="en-US" sz="29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ffffff"/>
              </a:solidFill>
              <a:latin typeface="Trebuchet MS"/>
            </a:endParaRPr>
          </a:p>
          <a:p>
            <a:pPr marL="208800" indent="-208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rebuchet MS"/>
              </a:rPr>
              <a:t>In 2018 post Housing First</a:t>
            </a:r>
            <a:endParaRPr b="0" lang="en-US" sz="2900" spc="-1" strike="noStrike">
              <a:solidFill>
                <a:srgbClr val="ffffff"/>
              </a:solidFill>
              <a:latin typeface="Trebuchet MS"/>
            </a:endParaRPr>
          </a:p>
          <a:p>
            <a:pPr marL="208800" indent="-208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ER contacts after placement in Thurgood Marshall Apts: 13 (only 1 ER visit in Feb/2018)</a:t>
            </a:r>
            <a:endParaRPr b="0" lang="en-US" sz="2900" spc="-1" strike="noStrike">
              <a:solidFill>
                <a:srgbClr val="ffffff"/>
              </a:solidFill>
              <a:latin typeface="Trebuchet MS"/>
            </a:endParaRPr>
          </a:p>
          <a:p>
            <a:pPr marL="208800" indent="-208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1 inpatient admission </a:t>
            </a:r>
            <a:endParaRPr b="0" lang="en-US" sz="2900" spc="-1" strike="noStrike">
              <a:solidFill>
                <a:srgbClr val="ffffff"/>
              </a:solidFill>
              <a:latin typeface="Trebuchet MS"/>
            </a:endParaRPr>
          </a:p>
          <a:p>
            <a:pPr marL="208800" indent="-208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Member is engaged in Targeted Case Management program as well as  BH Case Mgt. services</a:t>
            </a:r>
            <a:endParaRPr b="0" lang="en-US" sz="2900" spc="-1" strike="noStrike">
              <a:solidFill>
                <a:srgbClr val="ffffff"/>
              </a:solidFill>
              <a:latin typeface="Trebuchet MS"/>
            </a:endParaRPr>
          </a:p>
          <a:p>
            <a:pPr marL="208800" indent="-208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Member remains engaged in BH Case Mgt. services and has regular meetings in his new apartment.</a:t>
            </a:r>
            <a:endParaRPr b="0" lang="en-US" sz="29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0400" y="753120"/>
            <a:ext cx="9613440" cy="108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ontact Information </a:t>
            </a: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0680" y="2147400"/>
            <a:ext cx="10823400" cy="45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Rafael Acevedo Jr.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rebuchet MS"/>
              </a:rPr>
              <a:t>CoC Grant Compliance Manager 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rebuchet MS"/>
              </a:rPr>
              <a:t>City of Milwaukee Continuum of Care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rebuchet MS"/>
              </a:rPr>
              <a:t>414-286-5548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rebuchet MS"/>
              </a:rPr>
              <a:t>racevedo@Milwaukee.gov                                  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rebuchet MS"/>
              </a:rPr>
              <a:t>Website: www.milwaukeecoc.org (sign up for our newsletter) 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rebuchet MS"/>
              </a:rPr>
              <a:t>Follow us on https://www.facebook.com/milwaukeecoc  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James Mathy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Director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Milwaukee County Housing Division   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414-278-5106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James.Mathy@milwaukeecountywi.gov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Website: https://county.milwaukee.gov/EN/DHHS/Housing 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0400" y="753120"/>
            <a:ext cx="9613440" cy="108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Wisconsin HUD-recognized Continuum of Care Layout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7240" y="2369880"/>
            <a:ext cx="11327040" cy="4105080"/>
          </a:xfrm>
          <a:prstGeom prst="rect">
            <a:avLst/>
          </a:prstGeom>
          <a:blipFill rotWithShape="0">
            <a:blip r:embed="rId1">
              <a:alphaModFix amt="0"/>
            </a:blip>
            <a:tile tx="0" ty="0" sx="100000" sy="100000" algn="tl"/>
          </a:blipFill>
          <a:ln w="0">
            <a:noFill/>
          </a:ln>
        </p:spPr>
        <p:txBody>
          <a:bodyPr anchor="t">
            <a:normAutofit fontScale="92000"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e State of Wisconsin is divided into 4 separate HUD-recognized CoCs.   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68184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Milwaukee County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68184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Racine County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68184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ane County (Madison – State Capital) 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68184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Balance of State – remaining 69 counties  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45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27160" indent="-22716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Each CoC has its own leadership, governance structure, committees/workgroups, coordinated entry system, policies, and funding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27160" indent="-22716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Monthly conference calls with all four CoC’s leaders! 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27160" indent="-22716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Each CoC shares the same statewide HMIS system, HMIS governance, and HMIS Lead organization. (Institute for Community Alliance - ICA) 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0400" y="753120"/>
            <a:ext cx="9613440" cy="108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WI Interagency Council on Homelessness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0400" y="2336760"/>
            <a:ext cx="961344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e Wisconsin Interagency Council on Homelessness (ICH) was created by Act 74 in 2017.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s new Act allowed the State to hire a Director to manage the Council.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e ICH consists of thirteen members: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Governor or Lieutenant Governor serving as the chairperson.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ight secretaries or directors of executive branch agencies.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 representative from each Wisconsin CoC: Milwaukee County, Dane County, Racine County, and the Balance of State.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10760" y="753120"/>
            <a:ext cx="9883080" cy="108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WI Statewide Action Plan to End Homelessness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01" name="Content Placeholder 3" descr=""/>
          <p:cNvPicPr/>
          <p:nvPr/>
        </p:nvPicPr>
        <p:blipFill>
          <a:blip r:embed="rId1"/>
          <a:stretch/>
        </p:blipFill>
        <p:spPr>
          <a:xfrm>
            <a:off x="8230320" y="2336760"/>
            <a:ext cx="3327840" cy="42757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7"/>
          <p:cNvSpPr/>
          <p:nvPr/>
        </p:nvSpPr>
        <p:spPr>
          <a:xfrm>
            <a:off x="242640" y="2215080"/>
            <a:ext cx="609552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he plan’s release provides a roadmap for future funding initiatives, legislation, and collaborative effor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he plan specifically calls for $3.75 million in new state spending annually. This would more than double the state’s current investment in direct housing assistance for homeless individual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WI will start the new year with a new Governor, eight new Secretaries, and new Director of the Council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he report can be found at: https://doa.wi.gov/Pages/AboutDOA/ICH.asp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0400" y="753120"/>
            <a:ext cx="9613440" cy="108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Funding for Homelessness Services 2019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41360" y="2056680"/>
            <a:ext cx="10967760" cy="458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City of Milwaukee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Community Development Grants Administration (CDGA)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Fund 19 Homeless Providers 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City of Milwaukee =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15.1 Million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Milwaukee County Housing Division =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3.5 Million 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900" spc="-1" strike="noStrike">
              <a:solidFill>
                <a:srgbClr val="ffffff"/>
              </a:solidFill>
              <a:latin typeface="Trebuchet MS"/>
            </a:endParaRPr>
          </a:p>
          <a:p>
            <a:pPr marL="207360" indent="-207360">
              <a:lnSpc>
                <a:spcPct val="107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Calibri"/>
              </a:rPr>
              <a:t>Milwaukee Continuum of Care 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Calibri"/>
              </a:rPr>
              <a:t>(CoC) 10.7 million dollars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Calibri"/>
              </a:rPr>
              <a:t> for Permanent Supportive Housing/Rapid Re-Housing, Coordinated Entry, and Homeless Management Information System (HMIS). </a:t>
            </a:r>
            <a:endParaRPr b="0" lang="en-US" sz="1900" spc="-1" strike="noStrike">
              <a:solidFill>
                <a:srgbClr val="ffffff"/>
              </a:solidFill>
              <a:latin typeface="Trebuchet MS"/>
            </a:endParaRPr>
          </a:p>
          <a:p>
            <a:pPr marL="207360" indent="-207360">
              <a:lnSpc>
                <a:spcPct val="107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Calibri"/>
              </a:rPr>
              <a:t>Emergency Solutions Grant 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Calibri"/>
              </a:rPr>
              <a:t>(ESG) 1.3 million dollars in Federal and $700,000 from State of WI.</a:t>
            </a:r>
            <a:endParaRPr b="0" lang="en-US" sz="1900" spc="-1" strike="noStrike">
              <a:solidFill>
                <a:srgbClr val="ffffff"/>
              </a:solidFill>
              <a:latin typeface="Trebuchet MS"/>
            </a:endParaRPr>
          </a:p>
          <a:p>
            <a:pPr marL="207360" indent="-207360">
              <a:lnSpc>
                <a:spcPct val="107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Calibri"/>
              </a:rPr>
              <a:t>Community Development Block Grant 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Calibri"/>
              </a:rPr>
              <a:t>(CDBG) 1.3 million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Calibri"/>
              </a:rPr>
              <a:t> dollars for shelters, TH/RRH Component Project, Case Management, and Coordinated Entry.  </a:t>
            </a:r>
            <a:endParaRPr b="0" lang="en-US" sz="1900" spc="-1" strike="noStrike">
              <a:solidFill>
                <a:srgbClr val="ffffff"/>
              </a:solidFill>
              <a:latin typeface="Trebuchet MS"/>
            </a:endParaRPr>
          </a:p>
          <a:p>
            <a:pPr marL="207360" indent="-207360">
              <a:lnSpc>
                <a:spcPct val="107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Calibri"/>
              </a:rPr>
              <a:t>HOME Investment Partnership 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Calibri"/>
              </a:rPr>
              <a:t>(HOME) $400,000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Calibri"/>
              </a:rPr>
              <a:t> for Tenant Based Rental Assistance (TBRA) for individuals experiencing Homelessness (Milwaukee County Housing Division). </a:t>
            </a:r>
            <a:endParaRPr b="0" lang="en-US" sz="1900" spc="-1" strike="noStrike">
              <a:solidFill>
                <a:srgbClr val="ffffff"/>
              </a:solidFill>
              <a:latin typeface="Trebuchet MS"/>
            </a:endParaRPr>
          </a:p>
          <a:p>
            <a:pPr marL="207360" indent="-207360">
              <a:lnSpc>
                <a:spcPct val="107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Calibri"/>
              </a:rPr>
              <a:t>Housing Opportunities for Persons with AIDS 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Calibri"/>
              </a:rPr>
              <a:t>(HOPWA) - $700,000.</a:t>
            </a:r>
            <a:endParaRPr b="0" lang="en-US" sz="1900" spc="-1" strike="noStrike">
              <a:solidFill>
                <a:srgbClr val="ffffff"/>
              </a:solidFill>
              <a:latin typeface="Trebuchet MS"/>
            </a:endParaRPr>
          </a:p>
          <a:p>
            <a:pPr marL="207360" indent="-207360">
              <a:lnSpc>
                <a:spcPct val="107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Calibri"/>
              </a:rPr>
              <a:t>Milwaukee County Tax Levy – 3.5 Million for various housing and homeless services </a:t>
            </a:r>
            <a:endParaRPr b="0" lang="en-US" sz="19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0400" y="753120"/>
            <a:ext cx="9613440" cy="108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Milwaukee Population 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0400" y="2257920"/>
            <a:ext cx="9613440" cy="412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rebuchet MS"/>
              </a:rPr>
              <a:t>City/County of Milwaukee population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Milwaukee, Wisconsin Population 2018. Milwaukee is the largest city in Wisconsin and the 30th most populous city in the country. Milwaukee has a population exceeding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rebuchet MS"/>
              </a:rPr>
              <a:t>600,000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. Milwaukee County population is near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rebuchet MS"/>
              </a:rPr>
              <a:t>1 million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.  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rebuchet MS"/>
              </a:rPr>
              <a:t>Racial Background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White: 44.8% (non-Hispanic: 37%)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frican American: 40.0%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Hispanic or Latino of any race: 17.3%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sian: 3.5%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wo or more races: 3.4%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merican Indian and Alaska Native: 0.8%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Native Hawaiian and Pacific Islander: 0.1%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0400" y="753120"/>
            <a:ext cx="9613440" cy="108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Milwaukee CoC Sructure 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2854915188"/>
              </p:ext>
            </p:extLst>
          </p:nvPr>
        </p:nvGraphicFramePr>
        <p:xfrm>
          <a:off x="246960" y="2059560"/>
          <a:ext cx="11738520" cy="479808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108" name="Bent-Up Arrow 4"/>
          <p:cNvSpPr/>
          <p:nvPr/>
        </p:nvSpPr>
        <p:spPr>
          <a:xfrm rot="10800000">
            <a:off x="1334880" y="3328560"/>
            <a:ext cx="3072240" cy="1540080"/>
          </a:xfrm>
          <a:prstGeom prst="bentUpArrow">
            <a:avLst>
              <a:gd name="adj1" fmla="val 25000"/>
              <a:gd name="adj2" fmla="val 25000"/>
              <a:gd name="adj3" fmla="val 25000"/>
            </a:avLst>
          </a:prstGeom>
          <a:solidFill>
            <a:srgbClr val="f09415"/>
          </a:solidFill>
          <a:ln>
            <a:solidFill>
              <a:srgbClr val="b16d0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109" name="Bent-Up Arrow 5"/>
          <p:cNvSpPr/>
          <p:nvPr/>
        </p:nvSpPr>
        <p:spPr>
          <a:xfrm flipV="1">
            <a:off x="7283880" y="3369240"/>
            <a:ext cx="3121920" cy="1499040"/>
          </a:xfrm>
          <a:prstGeom prst="bentUpArrow">
            <a:avLst>
              <a:gd name="adj1" fmla="val 25000"/>
              <a:gd name="adj2" fmla="val 30462"/>
              <a:gd name="adj3" fmla="val 25000"/>
            </a:avLst>
          </a:prstGeom>
          <a:solidFill>
            <a:srgbClr val="f09415"/>
          </a:solidFill>
          <a:ln>
            <a:solidFill>
              <a:srgbClr val="b16d0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110" name="Down Arrow 6"/>
          <p:cNvSpPr/>
          <p:nvPr/>
        </p:nvSpPr>
        <p:spPr>
          <a:xfrm>
            <a:off x="4605120" y="3948120"/>
            <a:ext cx="609120" cy="831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09415"/>
          </a:solidFill>
          <a:ln>
            <a:solidFill>
              <a:srgbClr val="b16d0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111" name="Down Arrow 7"/>
          <p:cNvSpPr/>
          <p:nvPr/>
        </p:nvSpPr>
        <p:spPr>
          <a:xfrm>
            <a:off x="6598800" y="3948120"/>
            <a:ext cx="609120" cy="831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09415"/>
          </a:solidFill>
          <a:ln>
            <a:solidFill>
              <a:srgbClr val="b16d0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0400" y="753120"/>
            <a:ext cx="9613440" cy="108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Milwaukee CoC Board of Directors/Committees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0400" y="2115000"/>
            <a:ext cx="4261320" cy="459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en-US" sz="1700" spc="-1" strike="noStrike" u="sng">
                <a:solidFill>
                  <a:srgbClr val="0d0d0d"/>
                </a:solidFill>
                <a:uFillTx/>
                <a:latin typeface="Trebuchet MS"/>
              </a:rPr>
              <a:t>Board of Directors </a:t>
            </a:r>
            <a:endParaRPr b="0" lang="en-US" sz="1700" spc="-1" strike="noStrike">
              <a:solidFill>
                <a:srgbClr val="ffffff"/>
              </a:solidFill>
              <a:latin typeface="Trebuchet MS"/>
            </a:endParaRPr>
          </a:p>
          <a:p>
            <a:pPr marL="281520" indent="-281520">
              <a:lnSpc>
                <a:spcPct val="90000"/>
              </a:lnSpc>
              <a:spcBef>
                <a:spcPts val="1001"/>
              </a:spcBef>
              <a:buClr>
                <a:srgbClr val="0d0d0d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US" sz="1700" spc="-1" strike="noStrike">
                <a:solidFill>
                  <a:srgbClr val="0d0d0d"/>
                </a:solidFill>
                <a:latin typeface="Trebuchet MS"/>
              </a:rPr>
              <a:t>Police Department</a:t>
            </a:r>
            <a:endParaRPr b="0" lang="en-US" sz="1700" spc="-1" strike="noStrike">
              <a:solidFill>
                <a:srgbClr val="ffffff"/>
              </a:solidFill>
              <a:latin typeface="Trebuchet MS"/>
            </a:endParaRPr>
          </a:p>
          <a:p>
            <a:pPr marL="281520" indent="-281520">
              <a:lnSpc>
                <a:spcPct val="90000"/>
              </a:lnSpc>
              <a:spcBef>
                <a:spcPts val="1001"/>
              </a:spcBef>
              <a:buClr>
                <a:srgbClr val="0d0d0d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US" sz="1700" spc="-1" strike="noStrike">
                <a:solidFill>
                  <a:srgbClr val="0d0d0d"/>
                </a:solidFill>
                <a:latin typeface="Trebuchet MS"/>
              </a:rPr>
              <a:t>County Sheriff Department </a:t>
            </a:r>
            <a:endParaRPr b="0" lang="en-US" sz="1700" spc="-1" strike="noStrike">
              <a:solidFill>
                <a:srgbClr val="ffffff"/>
              </a:solidFill>
              <a:latin typeface="Trebuchet MS"/>
            </a:endParaRPr>
          </a:p>
          <a:p>
            <a:pPr marL="281520" indent="-281520">
              <a:lnSpc>
                <a:spcPct val="90000"/>
              </a:lnSpc>
              <a:spcBef>
                <a:spcPts val="1001"/>
              </a:spcBef>
              <a:buClr>
                <a:srgbClr val="0d0d0d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US" sz="1700" spc="-1" strike="noStrike">
                <a:solidFill>
                  <a:srgbClr val="0d0d0d"/>
                </a:solidFill>
                <a:latin typeface="Trebuchet MS"/>
              </a:rPr>
              <a:t>Milwaukee County Behavioral Health </a:t>
            </a:r>
            <a:endParaRPr b="0" lang="en-US" sz="1700" spc="-1" strike="noStrike">
              <a:solidFill>
                <a:srgbClr val="ffffff"/>
              </a:solidFill>
              <a:latin typeface="Trebuchet MS"/>
            </a:endParaRPr>
          </a:p>
          <a:p>
            <a:pPr marL="281520" indent="-281520">
              <a:lnSpc>
                <a:spcPct val="90000"/>
              </a:lnSpc>
              <a:spcBef>
                <a:spcPts val="1001"/>
              </a:spcBef>
              <a:buClr>
                <a:srgbClr val="0d0d0d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US" sz="1700" spc="-1" strike="noStrike">
                <a:solidFill>
                  <a:srgbClr val="0d0d0d"/>
                </a:solidFill>
                <a:latin typeface="Trebuchet MS"/>
              </a:rPr>
              <a:t>Local Universities </a:t>
            </a:r>
            <a:endParaRPr b="0" lang="en-US" sz="1700" spc="-1" strike="noStrike">
              <a:solidFill>
                <a:srgbClr val="ffffff"/>
              </a:solidFill>
              <a:latin typeface="Trebuchet MS"/>
            </a:endParaRPr>
          </a:p>
          <a:p>
            <a:pPr marL="281520" indent="-281520">
              <a:lnSpc>
                <a:spcPct val="90000"/>
              </a:lnSpc>
              <a:spcBef>
                <a:spcPts val="1001"/>
              </a:spcBef>
              <a:buClr>
                <a:srgbClr val="0d0d0d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US" sz="1700" spc="-1" strike="noStrike">
                <a:solidFill>
                  <a:srgbClr val="0d0d0d"/>
                </a:solidFill>
                <a:latin typeface="Trebuchet MS"/>
              </a:rPr>
              <a:t>Hospitals</a:t>
            </a:r>
            <a:endParaRPr b="0" lang="en-US" sz="1700" spc="-1" strike="noStrike">
              <a:solidFill>
                <a:srgbClr val="ffffff"/>
              </a:solidFill>
              <a:latin typeface="Trebuchet MS"/>
            </a:endParaRPr>
          </a:p>
          <a:p>
            <a:pPr marL="281520" indent="-281520">
              <a:lnSpc>
                <a:spcPct val="90000"/>
              </a:lnSpc>
              <a:spcBef>
                <a:spcPts val="1001"/>
              </a:spcBef>
              <a:buClr>
                <a:srgbClr val="0d0d0d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US" sz="1700" spc="-1" strike="noStrike">
                <a:solidFill>
                  <a:srgbClr val="0d0d0d"/>
                </a:solidFill>
                <a:latin typeface="Trebuchet MS"/>
              </a:rPr>
              <a:t>County DA Office</a:t>
            </a:r>
            <a:endParaRPr b="0" lang="en-US" sz="1700" spc="-1" strike="noStrike">
              <a:solidFill>
                <a:srgbClr val="ffffff"/>
              </a:solidFill>
              <a:latin typeface="Trebuchet MS"/>
            </a:endParaRPr>
          </a:p>
          <a:p>
            <a:pPr marL="281520" indent="-281520">
              <a:lnSpc>
                <a:spcPct val="90000"/>
              </a:lnSpc>
              <a:spcBef>
                <a:spcPts val="1001"/>
              </a:spcBef>
              <a:buClr>
                <a:srgbClr val="0d0d0d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US" sz="1700" spc="-1" strike="noStrike">
                <a:solidFill>
                  <a:srgbClr val="0d0d0d"/>
                </a:solidFill>
                <a:latin typeface="Trebuchet MS"/>
              </a:rPr>
              <a:t>City Attorney’s Office</a:t>
            </a:r>
            <a:endParaRPr b="0" lang="en-US" sz="1700" spc="-1" strike="noStrike">
              <a:solidFill>
                <a:srgbClr val="ffffff"/>
              </a:solidFill>
              <a:latin typeface="Trebuchet MS"/>
            </a:endParaRPr>
          </a:p>
          <a:p>
            <a:pPr marL="281520" indent="-281520">
              <a:lnSpc>
                <a:spcPct val="90000"/>
              </a:lnSpc>
              <a:spcBef>
                <a:spcPts val="1001"/>
              </a:spcBef>
              <a:buClr>
                <a:srgbClr val="0d0d0d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US" sz="1700" spc="-1" strike="noStrike">
                <a:solidFill>
                  <a:srgbClr val="0d0d0d"/>
                </a:solidFill>
                <a:latin typeface="Trebuchet MS"/>
              </a:rPr>
              <a:t>Housing Developers</a:t>
            </a:r>
            <a:endParaRPr b="0" lang="en-US" sz="1700" spc="-1" strike="noStrike">
              <a:solidFill>
                <a:srgbClr val="ffffff"/>
              </a:solidFill>
              <a:latin typeface="Trebuchet MS"/>
            </a:endParaRPr>
          </a:p>
          <a:p>
            <a:pPr marL="281520" indent="-281520">
              <a:lnSpc>
                <a:spcPct val="90000"/>
              </a:lnSpc>
              <a:spcBef>
                <a:spcPts val="1001"/>
              </a:spcBef>
              <a:buClr>
                <a:srgbClr val="0d0d0d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US" sz="1700" spc="-1" strike="noStrike">
                <a:solidFill>
                  <a:srgbClr val="0d0d0d"/>
                </a:solidFill>
                <a:latin typeface="Trebuchet MS"/>
              </a:rPr>
              <a:t>Providers (Non-Funding Voting Member) </a:t>
            </a:r>
            <a:endParaRPr b="0" lang="en-US" sz="1700" spc="-1" strike="noStrike">
              <a:solidFill>
                <a:srgbClr val="ffffff"/>
              </a:solidFill>
              <a:latin typeface="Trebuchet MS"/>
            </a:endParaRPr>
          </a:p>
          <a:p>
            <a:pPr lvl="1" marL="732240" indent="-281520">
              <a:lnSpc>
                <a:spcPct val="90000"/>
              </a:lnSpc>
              <a:spcBef>
                <a:spcPts val="499"/>
              </a:spcBef>
              <a:buClr>
                <a:srgbClr val="0d0d0d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700" spc="-1" strike="noStrike">
                <a:solidFill>
                  <a:srgbClr val="0d0d0d"/>
                </a:solidFill>
                <a:latin typeface="Trebuchet MS"/>
              </a:rPr>
              <a:t>HMIS Lead</a:t>
            </a:r>
            <a:endParaRPr b="0" lang="en-US" sz="1700" spc="-1" strike="noStrike">
              <a:solidFill>
                <a:srgbClr val="ffffff"/>
              </a:solidFill>
              <a:latin typeface="Trebuchet MS"/>
            </a:endParaRPr>
          </a:p>
          <a:p>
            <a:pPr lvl="1" marL="732240" indent="-281520">
              <a:lnSpc>
                <a:spcPct val="90000"/>
              </a:lnSpc>
              <a:spcBef>
                <a:spcPts val="499"/>
              </a:spcBef>
              <a:buClr>
                <a:srgbClr val="0d0d0d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700" spc="-1" strike="noStrike">
                <a:solidFill>
                  <a:srgbClr val="0d0d0d"/>
                </a:solidFill>
                <a:latin typeface="Trebuchet MS"/>
              </a:rPr>
              <a:t>Coordinated Entry Lead</a:t>
            </a:r>
            <a:endParaRPr b="0" lang="en-US" sz="1700" spc="-1" strike="noStrike">
              <a:solidFill>
                <a:srgbClr val="ffffff"/>
              </a:solidFill>
              <a:latin typeface="Trebuchet MS"/>
            </a:endParaRPr>
          </a:p>
          <a:p>
            <a:pPr lvl="1" marL="732240" indent="-281520">
              <a:lnSpc>
                <a:spcPct val="90000"/>
              </a:lnSpc>
              <a:spcBef>
                <a:spcPts val="499"/>
              </a:spcBef>
              <a:buClr>
                <a:srgbClr val="0d0d0d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700" spc="-1" strike="noStrike">
                <a:solidFill>
                  <a:srgbClr val="0d0d0d"/>
                </a:solidFill>
                <a:latin typeface="Trebuchet MS"/>
              </a:rPr>
              <a:t>Shelter Task Force Representative</a:t>
            </a:r>
            <a:endParaRPr b="0" lang="en-US" sz="1700" spc="-1" strike="noStrike">
              <a:solidFill>
                <a:srgbClr val="ffffff"/>
              </a:solidFill>
              <a:latin typeface="Trebuchet MS"/>
            </a:endParaRPr>
          </a:p>
          <a:p>
            <a:pPr lvl="1" marL="732240" indent="-281520">
              <a:lnSpc>
                <a:spcPct val="90000"/>
              </a:lnSpc>
              <a:spcBef>
                <a:spcPts val="499"/>
              </a:spcBef>
              <a:buClr>
                <a:srgbClr val="0d0d0d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700" spc="-1" strike="noStrike">
                <a:solidFill>
                  <a:srgbClr val="0d0d0d"/>
                </a:solidFill>
                <a:latin typeface="Trebuchet MS"/>
              </a:rPr>
              <a:t>Provider Representative</a:t>
            </a:r>
            <a:endParaRPr b="0" lang="en-US" sz="1700" spc="-1" strike="noStrike">
              <a:solidFill>
                <a:srgbClr val="ffffff"/>
              </a:solidFill>
              <a:latin typeface="Trebuchet MS"/>
            </a:endParaRPr>
          </a:p>
          <a:p>
            <a:pPr marL="281520" indent="-281520">
              <a:lnSpc>
                <a:spcPct val="90000"/>
              </a:lnSpc>
              <a:spcBef>
                <a:spcPts val="1001"/>
              </a:spcBef>
              <a:buClr>
                <a:srgbClr val="0d0d0d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US" sz="1700" spc="-1" strike="noStrike">
                <a:solidFill>
                  <a:srgbClr val="0d0d0d"/>
                </a:solidFill>
                <a:latin typeface="Trebuchet MS"/>
              </a:rPr>
              <a:t>At Large (2) </a:t>
            </a:r>
            <a:endParaRPr b="0" lang="en-US" sz="1700" spc="-1" strike="noStrike">
              <a:solidFill>
                <a:srgbClr val="ffffff"/>
              </a:solidFill>
              <a:latin typeface="Trebuchet MS"/>
            </a:endParaRPr>
          </a:p>
          <a:p>
            <a:pPr marL="281520" indent="-281520">
              <a:lnSpc>
                <a:spcPct val="90000"/>
              </a:lnSpc>
              <a:spcBef>
                <a:spcPts val="1001"/>
              </a:spcBef>
              <a:buClr>
                <a:srgbClr val="0d0d0d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US" sz="1700" spc="-1" strike="noStrike">
                <a:solidFill>
                  <a:srgbClr val="0d0d0d"/>
                </a:solidFill>
                <a:latin typeface="Trebuchet MS"/>
              </a:rPr>
              <a:t>Formerly Homeless</a:t>
            </a:r>
            <a:endParaRPr b="0" lang="en-US" sz="1700" spc="-1" strike="noStrike">
              <a:solidFill>
                <a:srgbClr val="ffffff"/>
              </a:solidFill>
              <a:latin typeface="Trebuchet MS"/>
            </a:endParaRPr>
          </a:p>
          <a:p>
            <a:pPr marL="281520" indent="-281520">
              <a:lnSpc>
                <a:spcPct val="90000"/>
              </a:lnSpc>
              <a:spcBef>
                <a:spcPts val="1001"/>
              </a:spcBef>
              <a:buClr>
                <a:srgbClr val="0d0d0d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US" sz="1700" spc="-1" strike="noStrike">
                <a:solidFill>
                  <a:srgbClr val="0d0d0d"/>
                </a:solidFill>
                <a:latin typeface="Trebuchet MS"/>
              </a:rPr>
              <a:t>Mayor’s Office </a:t>
            </a:r>
            <a:endParaRPr b="0" lang="en-US" sz="1700" spc="-1" strike="noStrike">
              <a:solidFill>
                <a:srgbClr val="ffffff"/>
              </a:solidFill>
              <a:latin typeface="Trebuchet MS"/>
            </a:endParaRPr>
          </a:p>
          <a:p>
            <a:pPr marL="281520" indent="-281520">
              <a:lnSpc>
                <a:spcPct val="90000"/>
              </a:lnSpc>
              <a:spcBef>
                <a:spcPts val="1001"/>
              </a:spcBef>
              <a:buClr>
                <a:srgbClr val="0d0d0d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US" sz="1700" spc="-1" strike="noStrike">
                <a:solidFill>
                  <a:srgbClr val="0d0d0d"/>
                </a:solidFill>
                <a:latin typeface="Trebuchet MS"/>
              </a:rPr>
              <a:t>Alderwomen</a:t>
            </a:r>
            <a:endParaRPr b="0" lang="en-US" sz="1700" spc="-1" strike="noStrike">
              <a:solidFill>
                <a:srgbClr val="ffffff"/>
              </a:solidFill>
              <a:latin typeface="Trebuchet MS"/>
            </a:endParaRPr>
          </a:p>
          <a:p>
            <a:pPr marL="281520" indent="-281520">
              <a:lnSpc>
                <a:spcPct val="90000"/>
              </a:lnSpc>
              <a:spcBef>
                <a:spcPts val="1001"/>
              </a:spcBef>
              <a:buClr>
                <a:srgbClr val="0d0d0d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US" sz="1700" spc="-1" strike="noStrike">
                <a:solidFill>
                  <a:srgbClr val="0d0d0d"/>
                </a:solidFill>
                <a:latin typeface="Trebuchet MS"/>
              </a:rPr>
              <a:t>County Supervisor </a:t>
            </a:r>
            <a:endParaRPr b="0" lang="en-US" sz="17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Content Placeholder 2"/>
          <p:cNvSpPr/>
          <p:nvPr/>
        </p:nvSpPr>
        <p:spPr>
          <a:xfrm>
            <a:off x="6000840" y="2115000"/>
            <a:ext cx="392796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53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r>
              <a:rPr b="1" lang="en-US" sz="2500" spc="-1" strike="noStrike" u="sng">
                <a:solidFill>
                  <a:srgbClr val="0d0d0d"/>
                </a:solidFill>
                <a:uFillTx/>
                <a:latin typeface="Trebuchet MS"/>
              </a:rPr>
              <a:t>CoC Committe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600" indent="-318600">
              <a:lnSpc>
                <a:spcPct val="90000"/>
              </a:lnSpc>
              <a:spcBef>
                <a:spcPts val="1001"/>
              </a:spcBef>
              <a:buClr>
                <a:srgbClr val="0d0d0d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rebuchet MS"/>
              </a:rPr>
              <a:t>Move-On Initi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600" indent="-318600">
              <a:lnSpc>
                <a:spcPct val="90000"/>
              </a:lnSpc>
              <a:spcBef>
                <a:spcPts val="1001"/>
              </a:spcBef>
              <a:buClr>
                <a:srgbClr val="0d0d0d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rebuchet MS"/>
              </a:rPr>
              <a:t>Eviction Prevention Task For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600" indent="-318600">
              <a:lnSpc>
                <a:spcPct val="90000"/>
              </a:lnSpc>
              <a:spcBef>
                <a:spcPts val="1001"/>
              </a:spcBef>
              <a:buClr>
                <a:srgbClr val="0d0d0d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rebuchet MS"/>
              </a:rPr>
              <a:t>Income Workgrou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600" indent="-318600">
              <a:lnSpc>
                <a:spcPct val="90000"/>
              </a:lnSpc>
              <a:spcBef>
                <a:spcPts val="1001"/>
              </a:spcBef>
              <a:buClr>
                <a:srgbClr val="0d0d0d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rebuchet MS"/>
              </a:rPr>
              <a:t>Unmet Needs Workgrou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600" indent="-318600">
              <a:lnSpc>
                <a:spcPct val="90000"/>
              </a:lnSpc>
              <a:spcBef>
                <a:spcPts val="1001"/>
              </a:spcBef>
              <a:buClr>
                <a:srgbClr val="0d0d0d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rebuchet MS"/>
              </a:rPr>
              <a:t>Outreach Workers Committee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600" indent="-318600">
              <a:lnSpc>
                <a:spcPct val="90000"/>
              </a:lnSpc>
              <a:spcBef>
                <a:spcPts val="1001"/>
              </a:spcBef>
              <a:buClr>
                <a:srgbClr val="0d0d0d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rebuchet MS"/>
              </a:rPr>
              <a:t>HMIS Workgrou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600" indent="-318600">
              <a:lnSpc>
                <a:spcPct val="90000"/>
              </a:lnSpc>
              <a:spcBef>
                <a:spcPts val="1001"/>
              </a:spcBef>
              <a:buClr>
                <a:srgbClr val="0d0d0d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rebuchet MS"/>
              </a:rPr>
              <a:t>Youth Initi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600" indent="-318600">
              <a:lnSpc>
                <a:spcPct val="90000"/>
              </a:lnSpc>
              <a:spcBef>
                <a:spcPts val="1001"/>
              </a:spcBef>
              <a:buClr>
                <a:srgbClr val="0d0d0d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rebuchet MS"/>
              </a:rPr>
              <a:t>DV Task For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600" indent="-318600">
              <a:lnSpc>
                <a:spcPct val="90000"/>
              </a:lnSpc>
              <a:spcBef>
                <a:spcPts val="1001"/>
              </a:spcBef>
              <a:buClr>
                <a:srgbClr val="0d0d0d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rebuchet MS"/>
              </a:rPr>
              <a:t>Veteran Initi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600" indent="-318600">
              <a:lnSpc>
                <a:spcPct val="90000"/>
              </a:lnSpc>
              <a:spcBef>
                <a:spcPts val="1001"/>
              </a:spcBef>
              <a:buClr>
                <a:srgbClr val="0d0d0d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rebuchet MS"/>
              </a:rPr>
              <a:t>Family Initi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600" indent="-318600">
              <a:lnSpc>
                <a:spcPct val="90000"/>
              </a:lnSpc>
              <a:spcBef>
                <a:spcPts val="1001"/>
              </a:spcBef>
              <a:buClr>
                <a:srgbClr val="0d0d0d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rebuchet MS"/>
              </a:rPr>
              <a:t>Chronic Initi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600" indent="-318600">
              <a:lnSpc>
                <a:spcPct val="90000"/>
              </a:lnSpc>
              <a:spcBef>
                <a:spcPts val="1001"/>
              </a:spcBef>
              <a:buClr>
                <a:srgbClr val="0d0d0d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rebuchet MS"/>
              </a:rPr>
              <a:t>Permanent Housing Case Managers Mee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600" indent="-318600">
              <a:lnSpc>
                <a:spcPct val="90000"/>
              </a:lnSpc>
              <a:spcBef>
                <a:spcPts val="1001"/>
              </a:spcBef>
              <a:buClr>
                <a:srgbClr val="0d0d0d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rebuchet MS"/>
              </a:rPr>
              <a:t>Project Homeless Connect Committe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600" indent="-318600">
              <a:lnSpc>
                <a:spcPct val="90000"/>
              </a:lnSpc>
              <a:spcBef>
                <a:spcPts val="1001"/>
              </a:spcBef>
              <a:buClr>
                <a:srgbClr val="0d0d0d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rebuchet MS"/>
              </a:rPr>
              <a:t>Point-In-Time Committe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600" indent="-318600">
              <a:lnSpc>
                <a:spcPct val="90000"/>
              </a:lnSpc>
              <a:spcBef>
                <a:spcPts val="1001"/>
              </a:spcBef>
              <a:buClr>
                <a:srgbClr val="0d0d0d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rebuchet MS"/>
              </a:rPr>
              <a:t>Shelter and Transitional Housing Task For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600" indent="-318600">
              <a:lnSpc>
                <a:spcPct val="90000"/>
              </a:lnSpc>
              <a:spcBef>
                <a:spcPts val="1001"/>
              </a:spcBef>
              <a:buClr>
                <a:srgbClr val="0d0d0d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rebuchet MS"/>
              </a:rPr>
              <a:t>Consumer Advisory Committe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600" indent="-318600">
              <a:lnSpc>
                <a:spcPct val="90000"/>
              </a:lnSpc>
              <a:spcBef>
                <a:spcPts val="1001"/>
              </a:spcBef>
              <a:buClr>
                <a:srgbClr val="0d0d0d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rebuchet MS"/>
              </a:rPr>
              <a:t>SOAR Collabor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0400" y="753120"/>
            <a:ext cx="9613440" cy="108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Prevention Works!  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12760" y="2063520"/>
            <a:ext cx="7032240" cy="45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Recommendations from the report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enant &amp; Landlord Resource Center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ebsite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all Center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obile Services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inancial Support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report can be found on the WI Policy Forum website.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rebuchet MS"/>
              </a:rPr>
              <a:t>https://wispolicyforum.org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160480" y="2243160"/>
            <a:ext cx="3434760" cy="444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Berlin">
  <a:themeElements>
    <a:clrScheme name="Berlin">
      <a:dk1>
        <a:srgbClr val="000000"/>
      </a:dk1>
      <a:lt1>
        <a:srgbClr val="ffffff"/>
      </a:lt1>
      <a:dk2>
        <a:srgbClr val="9d360e"/>
      </a:dk2>
      <a:lt2>
        <a:srgbClr val="e7e6e6"/>
      </a:lt2>
      <a:accent1>
        <a:srgbClr val="f09415"/>
      </a:accent1>
      <a:accent2>
        <a:srgbClr val="c1b56b"/>
      </a:accent2>
      <a:accent3>
        <a:srgbClr val="4baf73"/>
      </a:accent3>
      <a:accent4>
        <a:srgbClr val="5aa6c0"/>
      </a:accent4>
      <a:accent5>
        <a:srgbClr val="d17df9"/>
      </a:accent5>
      <a:accent6>
        <a:srgbClr val="fa7e5c"/>
      </a:accent6>
      <a:hlink>
        <a:srgbClr val="ffae3e"/>
      </a:hlink>
      <a:folHlink>
        <a:srgbClr val="fcc77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Berlin">
  <a:themeElements>
    <a:clrScheme name="Berlin">
      <a:dk1>
        <a:srgbClr val="000000"/>
      </a:dk1>
      <a:lt1>
        <a:srgbClr val="ffffff"/>
      </a:lt1>
      <a:dk2>
        <a:srgbClr val="9d360e"/>
      </a:dk2>
      <a:lt2>
        <a:srgbClr val="e7e6e6"/>
      </a:lt2>
      <a:accent1>
        <a:srgbClr val="f09415"/>
      </a:accent1>
      <a:accent2>
        <a:srgbClr val="c1b56b"/>
      </a:accent2>
      <a:accent3>
        <a:srgbClr val="4baf73"/>
      </a:accent3>
      <a:accent4>
        <a:srgbClr val="5aa6c0"/>
      </a:accent4>
      <a:accent5>
        <a:srgbClr val="d17df9"/>
      </a:accent5>
      <a:accent6>
        <a:srgbClr val="fa7e5c"/>
      </a:accent6>
      <a:hlink>
        <a:srgbClr val="ffae3e"/>
      </a:hlink>
      <a:folHlink>
        <a:srgbClr val="fcc77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Berlin</Template>
  <TotalTime>17372</TotalTime>
  <Application>LibreOffice/7.4.7.2$Linux_X86_64 LibreOffice_project/40$Build-2</Application>
  <AppVersion>15.0000</AppVersion>
  <Words>904</Words>
  <Paragraphs>177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10T16:28:11Z</dcterms:created>
  <dc:creator>Acevedo Jr, Rafael</dc:creator>
  <dc:description/>
  <dc:language>en-US</dc:language>
  <cp:lastModifiedBy>Acevedo Jr, Rafael</cp:lastModifiedBy>
  <cp:lastPrinted>2019-01-18T16:35:18Z</cp:lastPrinted>
  <dcterms:modified xsi:type="dcterms:W3CDTF">2019-01-18T17:39:56Z</dcterms:modified>
  <cp:revision>101</cp:revision>
  <dc:subject/>
  <dc:title>Milwaukee CoC WI-501 Structure and Best Practic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Widescreen</vt:lpwstr>
  </property>
  <property fmtid="{D5CDD505-2E9C-101B-9397-08002B2CF9AE}" pid="3" name="Slides">
    <vt:r8>15</vt:r8>
  </property>
</Properties>
</file>