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9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548-56B0-4C5F-B381-E0327D1F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7A7-86F8-4A77-AD18-B538F8E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94E-AF42-4844-8978-CEB2A391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598-616A-48DC-A8BA-B69AAA89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925F-441D-4B91-B08C-87C160A4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6DC2-11DE-4E56-9BDA-09F6C3CC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6739-9AF0-4AC2-AD73-0F2CD35F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D64C-18DD-4948-815B-831BE29A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AAB8-5DEC-4F6E-BF6C-0F0F8135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122480"/>
            <a:ext cx="77720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F27C-C825-4C65-9628-BF166328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BFF8-AAAA-4F52-8BE4-C634642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0AA-668F-4902-9314-899767F5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385-ADED-4ADB-93CF-E585E68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7D34-5688-4A31-9826-014E4E29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3EB-D282-478E-892D-CC01083D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17BE-E96C-4C6E-86AA-84A877EC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FCF1-AE61-4387-995A-D0BC97EB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42E0-7F4F-4999-9DBF-9A229747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5DCA-1BAD-4B3F-A5AC-DB6D4E6E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7DF2-2D79-4F05-A330-1CF52894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58E9-BE01-4105-B624-DFC44A9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49C5-AD1D-4A08-B4E0-A2E7236B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357-7293-4341-8B15-33088AD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122480"/>
            <a:ext cx="77720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1FF7-15EB-4D50-B080-157C97A3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8E06-C548-4D9C-8D75-44F595A9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5094-DCE8-43EB-962F-F6F5B8E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D3F2-DDCC-481C-BB79-BF08DF1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6AD2-2669-4289-A455-E75CE879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05958-84CC-45F6-94D5-2C5F5953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B2C5-06E3-46DE-AE7E-13885B89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5C4-DCBF-4C67-BA9A-D8BEC78D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BDB-E72E-4012-AB51-9E1B6EB2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22480"/>
            <a:ext cx="77720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31C-00B5-4700-B5B5-5937EF46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28A-4D9C-4887-959C-6109E93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546-4B3A-4CA5-9EA8-AEE0C7D1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C71-26BC-4C18-83C8-163DF9FD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012CD0-98C2-49C9-B7FB-E716B61AAE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31067D-C4B8-4937-9E1B-7E8402F84D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31D910-A72E-4FC8-A55E-0CD806A606B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tammy.stratz@ci.wausau.wi.us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icture 4"/>
          <p:cNvSpPr/>
          <p:nvPr/>
        </p:nvSpPr>
        <p:spPr>
          <a:xfrm>
            <a:off x="1822680" y="3233520"/>
            <a:ext cx="5436360" cy="3624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38880"/>
            <a:ext cx="9069480" cy="105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900" spc="-1" strike="noStrike">
                <a:solidFill>
                  <a:srgbClr val="000000"/>
                </a:solidFill>
                <a:latin typeface="Calibri Light"/>
              </a:rPr>
              <a:t>City of Wausau, Wisconsin</a:t>
            </a:r>
            <a:br>
              <a:rPr sz="44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73160" y="4070520"/>
            <a:ext cx="8723160" cy="19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6200" spc="-1" strike="noStrike">
                <a:solidFill>
                  <a:srgbClr val="a50021"/>
                </a:solidFill>
                <a:latin typeface="Calibri"/>
              </a:rPr>
              <a:t>Community Development Block Grant Funding –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6200" spc="-1" strike="noStrike">
                <a:solidFill>
                  <a:srgbClr val="a50021"/>
                </a:solidFill>
                <a:latin typeface="Calibri"/>
              </a:rPr>
              <a:t>Let’s get timely!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3305880" y="252720"/>
            <a:ext cx="245808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4599720" y="2364120"/>
            <a:ext cx="4391640" cy="4350960"/>
          </a:xfrm>
          <a:prstGeom prst="rect">
            <a:avLst/>
          </a:prstGeom>
          <a:ln w="0">
            <a:solidFill>
              <a:srgbClr val="ffff00"/>
            </a:solidFill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685800" y="352800"/>
            <a:ext cx="10570320" cy="120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Where is Wausa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703920" y="3930120"/>
            <a:ext cx="824760" cy="694440"/>
          </a:xfrm>
          <a:prstGeom prst="ellipse">
            <a:avLst/>
          </a:prstGeom>
          <a:noFill/>
          <a:ln w="3810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239400" y="1762920"/>
            <a:ext cx="40932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Located in the middle of Wisconsi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opulation of just over 39,000*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The principal city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Metropolitan Statistica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Content Placeholder 2"/>
          <p:cNvSpPr/>
          <p:nvPr/>
        </p:nvSpPr>
        <p:spPr>
          <a:xfrm>
            <a:off x="119520" y="1286280"/>
            <a:ext cx="889596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7000"/>
          </a:bodyPr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vious 4 years allocations were $550,000 - $580,000/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ublic Service activities = 10 - 15% of annual allocation (max. $85,000/yr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t $580,000 – the timeliness threshold is $870,00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nual revolving loan fund = $150,000 - $200,000/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anuary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tart date, timeliness pulled November 2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585520" y="340200"/>
            <a:ext cx="39722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DBG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Image result for community block grant wisconsin images"/>
          <p:cNvPicPr/>
          <p:nvPr/>
        </p:nvPicPr>
        <p:blipFill>
          <a:blip r:embed="rId1"/>
          <a:stretch/>
        </p:blipFill>
        <p:spPr>
          <a:xfrm>
            <a:off x="4161960" y="5160600"/>
            <a:ext cx="4482360" cy="15116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563760" y="712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Funding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320" y="1204920"/>
            <a:ext cx="8887320" cy="38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Public Service Activities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at benefit income qualifying households/individual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Housing activities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at benefit income qualifying    household/individual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Public Facility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rojects that benefit an income qualifying census trac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Image result for public park facility images"/>
          <p:cNvPicPr/>
          <p:nvPr/>
        </p:nvPicPr>
        <p:blipFill>
          <a:blip r:embed="rId1"/>
          <a:stretch/>
        </p:blipFill>
        <p:spPr>
          <a:xfrm>
            <a:off x="5833800" y="4589640"/>
            <a:ext cx="3138840" cy="206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51640" y="4528440"/>
            <a:ext cx="2756160" cy="212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3223080" y="4589640"/>
            <a:ext cx="2210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585000" y="0"/>
            <a:ext cx="997560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using project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3320" y="1073520"/>
            <a:ext cx="88902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1" marL="613080" indent="-204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Rehab of foreclosed propertie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021680" indent="-204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Partner with local lenders/realtor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021680" indent="-204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Partner with local government for tax delinquent propertie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021680" indent="-204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Bigger expenses than normal rehab projec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613080" indent="-204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Loan vs. grants for rehab and/or downpayment loan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021680" indent="-204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Have a forgivable portion of project if performed as agreed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021680" indent="-204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an a portion of the project be a gran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54320" y="5099400"/>
            <a:ext cx="2344320" cy="1758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357000" y="5083560"/>
            <a:ext cx="2365560" cy="1774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6411960" y="5083560"/>
            <a:ext cx="23796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685800" y="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Public Facility projects/part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183240" y="1007640"/>
            <a:ext cx="649152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ngineering Department for Street/Sidewalk Reconstruction; Lighting projec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arks Department for playground equipment upgrade – ADA compliance – pop-up park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PW – alley reconstruction projects, neighborhood projec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Listen to coworkers on what they are working on – maybe it would fit into a CDBG projec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6223320" y="2818800"/>
            <a:ext cx="2706120" cy="202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 rot="5400000">
            <a:off x="6638760" y="4830840"/>
            <a:ext cx="2177280" cy="1632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6656760" y="921600"/>
            <a:ext cx="1933200" cy="21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751680" y="7380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Reprogramming fund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7720" y="1157040"/>
            <a:ext cx="5353560" cy="42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Large Revolving Loan Funds balances – reprogram into a public facility or economic development project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Older, unused funds – how long do you hold on to it before finding a new us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" descr="Riverfront Aerial"/>
          <p:cNvPicPr/>
          <p:nvPr/>
        </p:nvPicPr>
        <p:blipFill>
          <a:blip r:embed="rId1"/>
          <a:stretch/>
        </p:blipFill>
        <p:spPr>
          <a:xfrm>
            <a:off x="1897920" y="4700160"/>
            <a:ext cx="5216040" cy="195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 flipH="1">
            <a:off x="5445720" y="1399680"/>
            <a:ext cx="3571560" cy="29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685800" y="1303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0800" y="1288440"/>
            <a:ext cx="8658360" cy="354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Does the project fit into your current Action Plan? – Amending isn’t as scary as you think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Plan, Plan, Plan!  Get potential projects ready to move forward while you wait for public comment period, HUD approvals, funding, etc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193120" y="3967920"/>
            <a:ext cx="4757040" cy="267588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5680" y="221040"/>
            <a:ext cx="591264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6000" spc="-1" strike="noStrike">
                <a:solidFill>
                  <a:srgbClr val="000000"/>
                </a:solidFill>
                <a:latin typeface="Calibri Light"/>
              </a:rPr>
              <a:t>Any questions??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3800" y="1476360"/>
            <a:ext cx="6476040" cy="32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ammy Stratz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ommunity Development Manag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407 Grant Stree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Wausau, W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715-261-668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ammy.stratz@ci.wausau.wi.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rcRect l="17092" t="0" r="16424" b="0"/>
          <a:stretch/>
        </p:blipFill>
        <p:spPr>
          <a:xfrm>
            <a:off x="179640" y="5133240"/>
            <a:ext cx="1668240" cy="1722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2342880" y="5242320"/>
            <a:ext cx="1532520" cy="1542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4663440" y="5170320"/>
            <a:ext cx="1574640" cy="154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5"/>
          <a:stretch/>
        </p:blipFill>
        <p:spPr>
          <a:xfrm>
            <a:off x="6733440" y="5242320"/>
            <a:ext cx="200700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 Them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802</TotalTime>
  <Application>LibreOffice/7.4.7.2$Linux_X86_64 LibreOffice_project/40$Build-2</Application>
  <AppVersion>15.0000</AppVersion>
  <Words>329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15:25:24Z</dcterms:created>
  <dc:creator>Tammy Stratz</dc:creator>
  <dc:description/>
  <dc:language>en-US</dc:language>
  <cp:lastModifiedBy>Tammy Stratz</cp:lastModifiedBy>
  <dcterms:modified xsi:type="dcterms:W3CDTF">2019-01-18T14:25:38Z</dcterms:modified>
  <cp:revision>28</cp:revision>
  <dc:subject/>
  <dc:title>City of Wausa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