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4750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750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6094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475080"/>
            <a:ext cx="25023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4750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609480"/>
            <a:ext cx="37926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475080"/>
            <a:ext cx="777204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3843360"/>
            <a:ext cx="9143640" cy="314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8229600" y="6102360"/>
            <a:ext cx="761760" cy="75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6600"/>
                </a:solidFill>
                <a:latin typeface="AGaramond Bold"/>
              </a:rPr>
              <a:t>Click to edit Master title style</a:t>
            </a:r>
            <a:endParaRPr b="0" lang="en-US" sz="44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Futura Bold"/>
              </a:rPr>
              <a:t>Edit Master text styles</a:t>
            </a: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Futura Bold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Futura Bol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utura Bol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utura Bol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3843360"/>
            <a:ext cx="9143640" cy="3141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3"/>
          <a:stretch/>
        </p:blipFill>
        <p:spPr>
          <a:xfrm>
            <a:off x="8229600" y="6102360"/>
            <a:ext cx="761760" cy="75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Futura Bold"/>
              </a:rPr>
              <a:t>Edit Master text styles</a:t>
            </a: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Futura Bold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Futura Bol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utura Bol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Futura Bol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8000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OMMUNITY DEVELOPMENT COMMISSION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OF THE COUNTY OF LOS ANGELES</a:t>
            </a:r>
            <a:br>
              <a:rPr sz="2200"/>
            </a:br>
            <a:br>
              <a:rPr sz="300"/>
            </a:b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700 W. Main St., Alhambra CA 91801 </a:t>
            </a:r>
            <a:r>
              <a:rPr b="1" lang="en-US" sz="1400" spc="-1" strike="noStrike" u="sng">
                <a:solidFill>
                  <a:srgbClr val="006699"/>
                </a:solidFill>
                <a:uFillTx/>
                <a:latin typeface="Arial"/>
              </a:rPr>
              <a:t>www.lacdc.org</a:t>
            </a:r>
            <a:br>
              <a:rPr sz="2000"/>
            </a:br>
            <a:endParaRPr b="0" lang="en-US" sz="1400" spc="-1" strike="noStrike">
              <a:solidFill>
                <a:schemeClr val="accent2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2362320" y="3505320"/>
            <a:ext cx="4495320" cy="1142640"/>
            <a:chOff x="2362320" y="3505320"/>
            <a:chExt cx="4495320" cy="1142640"/>
          </a:xfrm>
        </p:grpSpPr>
        <p:sp>
          <p:nvSpPr>
            <p:cNvPr id="82" name="Rectangle 6"/>
            <p:cNvSpPr/>
            <p:nvPr/>
          </p:nvSpPr>
          <p:spPr>
            <a:xfrm>
              <a:off x="2362320" y="3505320"/>
              <a:ext cx="4495320" cy="11426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800" spc="-1" strike="noStrike" u="sng">
                <a:solidFill>
                  <a:schemeClr val="accent2"/>
                </a:solidFill>
                <a:uFillTx/>
                <a:latin typeface="Arial"/>
              </a:endParaRPr>
            </a:p>
          </p:txBody>
        </p:sp>
        <p:pic>
          <p:nvPicPr>
            <p:cNvPr id="83" name="Picture 7" descr="Empowering-Families"/>
            <p:cNvPicPr/>
            <p:nvPr/>
          </p:nvPicPr>
          <p:blipFill>
            <a:blip r:embed="rId1"/>
            <a:stretch/>
          </p:blipFill>
          <p:spPr>
            <a:xfrm>
              <a:off x="5746680" y="3554640"/>
              <a:ext cx="104400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8" descr="Supporting-Local-Economies"/>
            <p:cNvPicPr/>
            <p:nvPr/>
          </p:nvPicPr>
          <p:blipFill>
            <a:blip r:embed="rId2"/>
            <a:stretch/>
          </p:blipFill>
          <p:spPr>
            <a:xfrm>
              <a:off x="3524400" y="3554640"/>
              <a:ext cx="104400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9" descr="Strenghthening-Neighborhood"/>
            <p:cNvPicPr/>
            <p:nvPr/>
          </p:nvPicPr>
          <p:blipFill>
            <a:blip r:embed="rId3"/>
            <a:stretch/>
          </p:blipFill>
          <p:spPr>
            <a:xfrm>
              <a:off x="2413440" y="3554640"/>
              <a:ext cx="1051200" cy="10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0" descr="Promoting-Individual-Achiev"/>
            <p:cNvPicPr/>
            <p:nvPr/>
          </p:nvPicPr>
          <p:blipFill>
            <a:blip r:embed="rId4"/>
            <a:stretch/>
          </p:blipFill>
          <p:spPr>
            <a:xfrm>
              <a:off x="4635720" y="3554640"/>
              <a:ext cx="1044000" cy="10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WordArt 17"/>
          <p:cNvSpPr txBox="1"/>
          <p:nvPr/>
        </p:nvSpPr>
        <p:spPr>
          <a:xfrm>
            <a:off x="1219320" y="2057400"/>
            <a:ext cx="6953040" cy="676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ln w="0">
                  <a:noFill/>
                </a:ln>
                <a:solidFill>
                  <a:srgbClr val="006699"/>
                </a:solidFill>
                <a:uFillTx/>
                <a:latin typeface="Impact"/>
              </a:rPr>
              <a:t>It's About Timeliness!</a:t>
            </a:r>
            <a:endParaRPr b="0" lang="en-US" sz="4400" spc="-1" strike="noStrike">
              <a:ln w="0">
                <a:noFill/>
              </a:ln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143000" y="39625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1" descr=""/>
          <p:cNvPicPr/>
          <p:nvPr/>
        </p:nvPicPr>
        <p:blipFill>
          <a:blip r:embed="rId5"/>
          <a:srcRect l="6306" t="19418" r="45781" b="72244"/>
          <a:stretch/>
        </p:blipFill>
        <p:spPr>
          <a:xfrm>
            <a:off x="1828800" y="533520"/>
            <a:ext cx="5438520" cy="72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6"/>
          <a:stretch/>
        </p:blipFill>
        <p:spPr>
          <a:xfrm>
            <a:off x="279720" y="5867280"/>
            <a:ext cx="1878480" cy="105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9920" y="15228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s to a Successful and “Low-Grief” Recapture Process</a:t>
            </a: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Written policy that clearly identifies process and deadline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Notify agencies early and frequently of expenditure statu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Warn agency executive management of impending deadline and implication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Allow an appeals process before recapturing fund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Include peers on appeals panel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ample Tracking Report</a:t>
            </a:r>
            <a:endParaRPr b="0" lang="en-US" sz="4400" spc="-1" strike="noStrike">
              <a:solidFill>
                <a:schemeClr val="accent2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rcRect l="2778" t="14689" r="19999" b="58031"/>
          <a:stretch/>
        </p:blipFill>
        <p:spPr>
          <a:xfrm>
            <a:off x="228600" y="1295280"/>
            <a:ext cx="8686440" cy="35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s to a Successful and “Low-Grief” Recapture Process – Cont’d</a:t>
            </a: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2510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Build flexibility into potential outcomes from appeals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Allow exchange of funds between citie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No recapture based on successful appeal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Partial recapture based on circumstance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Deferred recapture with promise to expend by deadline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Futura Bold"/>
              </a:rPr>
              <a:t>Full recapture – “Frequent Flyer”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Futura Bold"/>
              </a:rPr>
              <a:t>Have a method to recapture that won’t disrupt existing project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ome Other Ideas</a:t>
            </a:r>
            <a:endParaRPr b="0" lang="en-US" sz="3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2"/>
                </a:solidFill>
                <a:latin typeface="Futura Bold"/>
              </a:rPr>
              <a:t>Set up a revolving grant fund for subreceipients to free up excess money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2"/>
                </a:solidFill>
                <a:latin typeface="Futura Bold"/>
              </a:rPr>
              <a:t>Functions like a mini Section 108 loan program without interest costs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2"/>
                </a:solidFill>
                <a:latin typeface="Futura Bold"/>
              </a:rPr>
              <a:t>Excess money from subrecipients put in, to be borrowed by others with a more immediate need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2"/>
                </a:solidFill>
                <a:latin typeface="Futura Bold"/>
              </a:rPr>
              <a:t>Money repaid by future allocations – our participating cities receive annual formula allocations and repay from this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Futura Bold"/>
              </a:rPr>
              <a:t>…</a:t>
            </a:r>
            <a:r>
              <a:rPr b="0" lang="en-US" sz="3200" spc="-1" strike="noStrike">
                <a:solidFill>
                  <a:schemeClr val="accent2">
                    <a:lumMod val="50000"/>
                  </a:schemeClr>
                </a:solidFill>
                <a:latin typeface="Futura Bold"/>
              </a:rPr>
              <a:t>And a Couple More</a:t>
            </a: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2"/>
                </a:solidFill>
                <a:latin typeface="Futura Bold"/>
              </a:rPr>
              <a:t>Contribute Excess Funding to Priority Efforts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2"/>
                </a:solidFill>
                <a:latin typeface="Futura Bold"/>
              </a:rPr>
              <a:t>Participating cities can contribute excess funds directly homeless programs that we operate to help with that regional effort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2"/>
                </a:solidFill>
                <a:latin typeface="Futura Bold"/>
              </a:rPr>
              <a:t>Properly manage any revolving loan funds to make sure the amount of funds in the pool match the level of loan activity. 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4572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ith These Tools and a Little Luck…</a:t>
            </a:r>
            <a:endParaRPr b="0" lang="en-US" sz="3600" spc="-1" strike="noStrike">
              <a:solidFill>
                <a:schemeClr val="accent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9722" t="23459" r="14966" b="26920"/>
          <a:stretch/>
        </p:blipFill>
        <p:spPr>
          <a:xfrm>
            <a:off x="228600" y="1447920"/>
            <a:ext cx="8610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1219320"/>
            <a:ext cx="9143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0000ff"/>
                </a:solidFill>
                <a:latin typeface="Impact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380880"/>
            <a:ext cx="868644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439"/>
              </a:spcBef>
            </a:pPr>
            <a:endParaRPr b="1" lang="en-US" sz="2200" spc="-1" strike="noStrike">
              <a:solidFill>
                <a:srgbClr val="000066"/>
              </a:solidFill>
              <a:latin typeface="AvantGarde Md BT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1981080" y="2438280"/>
            <a:ext cx="5028840" cy="1066320"/>
            <a:chOff x="1981080" y="2438280"/>
            <a:chExt cx="5028840" cy="1066320"/>
          </a:xfrm>
        </p:grpSpPr>
        <p:sp>
          <p:nvSpPr>
            <p:cNvPr id="124" name="Rectangle 7"/>
            <p:cNvSpPr/>
            <p:nvPr/>
          </p:nvSpPr>
          <p:spPr>
            <a:xfrm>
              <a:off x="1981080" y="2438280"/>
              <a:ext cx="5028840" cy="10663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800" spc="-1" strike="noStrike" u="sng">
                <a:solidFill>
                  <a:schemeClr val="accent2"/>
                </a:solidFill>
                <a:uFillTx/>
                <a:latin typeface="Arial"/>
              </a:endParaRPr>
            </a:p>
          </p:txBody>
        </p:sp>
        <p:pic>
          <p:nvPicPr>
            <p:cNvPr id="125" name="Picture 8" descr="Empowering-Families"/>
            <p:cNvPicPr/>
            <p:nvPr/>
          </p:nvPicPr>
          <p:blipFill>
            <a:blip r:embed="rId1"/>
            <a:stretch/>
          </p:blipFill>
          <p:spPr>
            <a:xfrm>
              <a:off x="5767560" y="2484360"/>
              <a:ext cx="11682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Supporting-Local-Economies"/>
            <p:cNvPicPr/>
            <p:nvPr/>
          </p:nvPicPr>
          <p:blipFill>
            <a:blip r:embed="rId2"/>
            <a:stretch/>
          </p:blipFill>
          <p:spPr>
            <a:xfrm>
              <a:off x="3281400" y="2484360"/>
              <a:ext cx="11682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Strenghthening-Neighborhood"/>
            <p:cNvPicPr/>
            <p:nvPr/>
          </p:nvPicPr>
          <p:blipFill>
            <a:blip r:embed="rId3"/>
            <a:stretch/>
          </p:blipFill>
          <p:spPr>
            <a:xfrm>
              <a:off x="2038320" y="2484360"/>
              <a:ext cx="11761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1" descr="Promoting-Individual-Achiev"/>
            <p:cNvPicPr/>
            <p:nvPr/>
          </p:nvPicPr>
          <p:blipFill>
            <a:blip r:embed="rId4"/>
            <a:stretch/>
          </p:blipFill>
          <p:spPr>
            <a:xfrm>
              <a:off x="4524480" y="2484360"/>
              <a:ext cx="1168200" cy="9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Rectangle 14"/>
          <p:cNvSpPr/>
          <p:nvPr/>
        </p:nvSpPr>
        <p:spPr>
          <a:xfrm>
            <a:off x="3421080" y="6302520"/>
            <a:ext cx="3088800" cy="21960"/>
          </a:xfrm>
          <a:prstGeom prst="rect">
            <a:avLst/>
          </a:prstGeom>
          <a:solidFill>
            <a:srgbClr val="ffffff"/>
          </a:solidFill>
          <a:ln w="0">
            <a:solidFill>
              <a:srgbClr val="f8f8f8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 u="sng">
              <a:solidFill>
                <a:schemeClr val="accent2"/>
              </a:solidFill>
              <a:uFillTx/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038320" y="3762720"/>
            <a:ext cx="5151240" cy="26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cc"/>
                </a:solidFill>
                <a:latin typeface="Brush Script MT"/>
              </a:rPr>
              <a:t>We Build Better Lives &amp; Better Neighborh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cc"/>
                </a:solidFill>
                <a:latin typeface="Brush Script MT"/>
              </a:rPr>
              <a:t>Scott.Stevenson@lacd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5"/>
          <a:stretch/>
        </p:blipFill>
        <p:spPr>
          <a:xfrm>
            <a:off x="380880" y="5702400"/>
            <a:ext cx="2133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10120" cy="99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ome Facts About L.A. County</a:t>
            </a:r>
            <a:endParaRPr b="0" lang="en-US" sz="36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0064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74600" indent="-174600" algn="just">
              <a:lnSpc>
                <a:spcPct val="80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chemeClr val="accent2"/>
                </a:solidFill>
                <a:latin typeface="Arial"/>
              </a:rPr>
              <a:t>The largest Urban County program in the nation in terms of dollars…$23.4M currently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0" algn="just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-174600" algn="just">
              <a:lnSpc>
                <a:spcPct val="80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/>
                </a:solidFill>
                <a:latin typeface="Arial"/>
              </a:rPr>
              <a:t>Large number of subrecipients…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1" marL="682560" indent="-393840" algn="just">
              <a:lnSpc>
                <a:spcPct val="80000"/>
              </a:lnSpc>
              <a:spcBef>
                <a:spcPts val="47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48 participating small citie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682560" indent="-393840" algn="just">
              <a:lnSpc>
                <a:spcPct val="80000"/>
              </a:lnSpc>
              <a:spcBef>
                <a:spcPts val="47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25 non-profit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682560" indent="-393840" algn="just">
              <a:lnSpc>
                <a:spcPct val="80000"/>
              </a:lnSpc>
              <a:spcBef>
                <a:spcPts val="47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10 County Departments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68256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-174600" algn="just">
              <a:lnSpc>
                <a:spcPct val="80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/>
                </a:solidFill>
                <a:latin typeface="Arial"/>
              </a:rPr>
              <a:t>$4.6M Admin budget, 23 staff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indent="0" algn="just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-174600" algn="just">
              <a:lnSpc>
                <a:spcPct val="80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/>
                </a:solidFill>
                <a:latin typeface="Arial"/>
              </a:rPr>
              <a:t>Timely every year but one in 35 years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0" algn="just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17460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Futura Bold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172200" y="2919600"/>
            <a:ext cx="2430720" cy="17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0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fective Grant Administration =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meliness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cc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Strong administrative structure puts everybody on the same page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cc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Clearly defined cycle calendared from planning through expenditure of funds – communicated internally and externally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cc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Delineate and communicate policies and procedures and give them teeth!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cc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Regular recurrent training for subrecipients on grant management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fective Grant Administration =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meliness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velop system to “flag” slow projects early on (before IDIS does) – look for administrative warning signs.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ild project timelines into contracts, monitor through performance reporting.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y to track as close as possible to real time – is annual monitoring after the fact enough?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sider in-progress monitoring to track progress.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sure that agencies are “capable” from the start and able to handle the rigors of grant funding.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voke a “use-it-or-lose-it” mentality through penalty budgeting or recapture policies.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785960"/>
            <a:ext cx="80769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If a subrecipient doesn’t have capacity, they won’t be able to effectively spend the money!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New agencies need to be reviewed for program/financial capacity </a:t>
            </a:r>
            <a:r>
              <a:rPr b="1" i="1" lang="en-US" sz="2400" spc="-1" strike="noStrike">
                <a:solidFill>
                  <a:schemeClr val="accent2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 the contract is let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Have a structured process in place that allows feedback to make corrections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Be able to discern between critical and minor concerns to move forward with contract</a:t>
            </a:r>
            <a:r>
              <a:rPr b="1" lang="en-US" sz="2800" spc="-1" strike="noStrike">
                <a:solidFill>
                  <a:schemeClr val="accent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1314" t="21876" r="63816" b="61719"/>
          <a:stretch/>
        </p:blipFill>
        <p:spPr>
          <a:xfrm>
            <a:off x="1905120" y="743400"/>
            <a:ext cx="4669560" cy="990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731880" y="142200"/>
            <a:ext cx="657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Capacity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pacity Reviews (cont’d)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Conduct capacity reviews to cover both program and financial capacity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Program Capacity – What to look for…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Adequate method for collecting client documents and data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Organized filing systems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Minimum equipment needed to conduct business with you – scanners, copiers, computers, high speed internet access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Financial Capacity – Accounting System Review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Double-entry accounting system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1" lang="en-US" sz="2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Internal controls, separation of duties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General ledger with separate cost centers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Tracking of program income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chemeClr val="accent2"/>
                </a:solidFill>
                <a:latin typeface="Arial"/>
              </a:rPr>
              <a:t>Regular reconciliation of bank statements</a:t>
            </a:r>
            <a:endParaRPr b="0" lang="en-US" sz="2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0006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hecklists allow consistency</a:t>
            </a:r>
            <a:endParaRPr b="0" lang="en-US" sz="3200" spc="-1" strike="noStrike">
              <a:solidFill>
                <a:schemeClr val="accent2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25001" t="11721" r="25001" b="29687"/>
          <a:stretch/>
        </p:blipFill>
        <p:spPr>
          <a:xfrm>
            <a:off x="1562040" y="1066680"/>
            <a:ext cx="609552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45784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utura Bold"/>
            </a:endParaRPr>
          </a:p>
        </p:txBody>
      </p:sp>
      <p:pic>
        <p:nvPicPr>
          <p:cNvPr id="106" name="Picture 5" descr="County-Seal"/>
          <p:cNvPicPr/>
          <p:nvPr/>
        </p:nvPicPr>
        <p:blipFill>
          <a:blip r:embed="rId1"/>
          <a:stretch/>
        </p:blipFill>
        <p:spPr>
          <a:xfrm>
            <a:off x="0" y="5948280"/>
            <a:ext cx="990360" cy="985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rcRect l="5624" t="16405" r="5001" b="8594"/>
          <a:stretch/>
        </p:blipFill>
        <p:spPr>
          <a:xfrm>
            <a:off x="0" y="152280"/>
            <a:ext cx="9143640" cy="6933960"/>
          </a:xfrm>
          <a:prstGeom prst="rect">
            <a:avLst/>
          </a:prstGeom>
          <a:ln w="762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5784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66"/>
                </a:solidFill>
                <a:latin typeface="AGaramond Bold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AGaramond Bold"/>
              </a:rPr>
              <a:t>Use it or lose it” – Recapturing Funds</a:t>
            </a:r>
            <a:endParaRPr b="0" lang="en-US" sz="28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457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rticipating cities receive about half of Urban County allocation for their project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 Policy developed when HUD made timeliness more stringent through sanctions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ught “buy-in” to policy by having a city work group assist with policy development.</a:t>
            </a: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rrot – recaptured funds would be redistributed to “timely” cities on a competitive basis.</a:t>
            </a:r>
            <a:endParaRPr b="0" lang="en-US" sz="2400" spc="-1" strike="noStrike">
              <a:solidFill>
                <a:srgbClr val="000000"/>
              </a:solidFill>
              <a:latin typeface="Futura Bold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utura Bold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249" t="13282" r="64374" b="71095"/>
          <a:stretch/>
        </p:blipFill>
        <p:spPr>
          <a:xfrm>
            <a:off x="2133720" y="762120"/>
            <a:ext cx="4800240" cy="10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  <Words>672</Words>
  <Paragraphs>84</Paragraphs>
  <Company>Pacific Visions Communication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0:26:55Z</dcterms:created>
  <dc:creator>MIS</dc:creator>
  <dc:description/>
  <dc:language>en-US</dc:language>
  <cp:lastModifiedBy>Scott Stevenson</cp:lastModifiedBy>
  <dcterms:modified xsi:type="dcterms:W3CDTF">2019-01-16T18:06:34Z</dcterms:modified>
  <cp:revision>1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6</vt:r8>
  </property>
</Properties>
</file>