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047-CCF7-40A6-B4AA-1F1D4990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FD6-E522-4A0F-ADAB-0682731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E11-7C1C-4685-ADE2-8629127F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B29-2A01-4A88-A5BD-15490FE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AAE-8CDC-48D5-9A0B-4C89296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3A0-23AB-41E2-BB2A-9696A3F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D1A-49ED-4873-8CE9-DB0473E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145-2516-435D-9DB4-54414AB6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B4E-F840-4E43-82E5-F814F96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731-0309-442E-B4BF-D7C0C096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59C-3137-421D-BF1A-7BF06BA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B8F-518A-484F-97E9-A23B83D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2B324B2-520F-47FA-ACFC-C595F343CA80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2965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960"/>
            </a:br>
            <a:endParaRPr b="0" lang="en-US" sz="3959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959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759" spc="-1" strike="noStrike">
                <a:solidFill>
                  <a:schemeClr val="dk1"/>
                </a:solidFill>
                <a:latin typeface="Garamond"/>
                <a:ea typeface="Garamond"/>
              </a:rPr>
              <a:t>2019 </a:t>
            </a:r>
            <a:r>
              <a:rPr b="1" lang="en-US" sz="3400" spc="-1" strike="noStrike">
                <a:solidFill>
                  <a:schemeClr val="dk1"/>
                </a:solidFill>
                <a:latin typeface="Garamond"/>
                <a:ea typeface="Garamond"/>
              </a:rPr>
              <a:t>NCDA Winter Legislative, Policy and Professional Development Meeting 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dk1"/>
                </a:solidFill>
                <a:latin typeface="Garamond"/>
                <a:ea typeface="Garamond"/>
              </a:rPr>
              <a:t>Washington,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960"/>
            </a:br>
            <a:br>
              <a:rPr sz="3960"/>
            </a:br>
            <a:r>
              <a:rPr b="1" lang="en-US" sz="3000" spc="-1" strike="noStrike">
                <a:solidFill>
                  <a:schemeClr val="dk1"/>
                </a:solidFill>
                <a:latin typeface="Garamond"/>
                <a:ea typeface="Garamond"/>
              </a:rPr>
              <a:t>@NCDAonline</a:t>
            </a:r>
            <a:br>
              <a:rPr sz="3000"/>
            </a:br>
            <a:r>
              <a:rPr b="1" lang="en-US" sz="3000" spc="-1" strike="noStrike">
                <a:solidFill>
                  <a:schemeClr val="dk1"/>
                </a:solidFill>
                <a:latin typeface="Garamond"/>
                <a:ea typeface="Garamond"/>
              </a:rPr>
              <a:t>#NCDA2019DC</a:t>
            </a:r>
            <a:r>
              <a:rPr b="1" lang="en-US" sz="3959" spc="-1" strike="noStrike">
                <a:solidFill>
                  <a:schemeClr val="dk1"/>
                </a:solidFill>
                <a:latin typeface="Garamond"/>
                <a:ea typeface="Garamond"/>
              </a:rPr>
              <a:t> </a:t>
            </a:r>
            <a:endParaRPr b="0" lang="en-US" sz="3959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Google Shape;85;p13" descr=""/>
          <p:cNvPicPr/>
          <p:nvPr/>
        </p:nvPicPr>
        <p:blipFill>
          <a:blip r:embed="rId1"/>
          <a:stretch/>
        </p:blipFill>
        <p:spPr>
          <a:xfrm>
            <a:off x="967320" y="199440"/>
            <a:ext cx="7490520" cy="1897920"/>
          </a:xfrm>
          <a:prstGeom prst="rect">
            <a:avLst/>
          </a:prstGeom>
          <a:ln w="0">
            <a:noFill/>
          </a:ln>
        </p:spPr>
      </p:pic>
      <p:pic>
        <p:nvPicPr>
          <p:cNvPr id="42" name="Google Shape;86;p13" descr="Image result for facebook and twitter"/>
          <p:cNvPicPr/>
          <p:nvPr/>
        </p:nvPicPr>
        <p:blipFill>
          <a:blip r:embed="rId2"/>
          <a:stretch/>
        </p:blipFill>
        <p:spPr>
          <a:xfrm>
            <a:off x="1594440" y="5584680"/>
            <a:ext cx="129492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LISSA HORR</dc:creator>
  <dc:description/>
  <dc:language>en-US</dc:language>
  <cp:lastModifiedBy>MELISSA HORR</cp:lastModifiedBy>
  <dcterms:modified xsi:type="dcterms:W3CDTF">2019-01-15T15:53:38Z</dcterms:modified>
  <cp:revision>2</cp:revision>
  <dc:subject/>
  <dc:title>2019 NCDA Winter Legislative, Policy and Professional Development Meeting – Washington, DC   @NCDAonline #NCDA2019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</vt:r8>
  </property>
</Properties>
</file>