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0C9-AB72-4F93-8360-D5819DEB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87A-AE08-49D5-B1A8-72688A9A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423-7CA5-4B20-A290-C5ADDA12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F24-754B-4640-A0A3-2403C64B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CD45-E6B1-42D9-80E2-74546300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57D-BBFB-4FD8-9CE5-7DDA6DCB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023-CA07-4E2F-AA35-BA1D707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F84-1370-4B80-BD16-888B87D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6101-F7A8-443C-A970-F64B50E3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68F-09C5-48B5-A8F8-6940D79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5F7-9620-4C77-B346-E592684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C4E-8FF4-4A43-BEA9-AA3972F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C4E1-FF32-45AD-ACDF-ECE2801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B00B-48D8-432A-85D7-4C04143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4E62-30F7-4E9A-B98F-D46BF0D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3C8-8A3A-4251-82ED-E8252A4A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1178-7386-4A99-84A6-39F4BFBF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E51-E930-47CB-985E-0340078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84A-8DF7-4C11-9D81-9E1E103B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AEA-E152-495E-A28D-5DA8B58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57A-4394-4C27-8454-9D821EA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A09-210C-45DE-B0B8-E9B058BE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4E1-E6E3-403D-ABD5-C6041C7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153-3559-4AFE-BFA6-FA3F49B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9dc4"/>
            </a:gs>
            <a:gs pos="100000">
              <a:srgbClr val="003a4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7A7050-11B7-43C7-8EC5-5BE0E197C1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9dc4"/>
            </a:gs>
            <a:gs pos="100000">
              <a:srgbClr val="003a4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4CC93-BE53-4ECF-A74F-C3F9E242AE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tephanieb@coj.ne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_qu6sxvHiAhVrS98KHfOYAzcQjRx6BAgBEAU&amp;url=https://www.kissclipart.com/business-people-cartoon-png-clipart-businessperson-c5epwj/&amp;psig=AOvVaw0PaLCm3QJ-09Nl38nZ4n5z&amp;ust=156089632013875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ik3cPfxfHiAhUIVN8KHUvQBdMQjRx6BAgBEAU&amp;url=https://www.sccpre.cat/show/ioRoTmh_chatting-for-infographic-icon-cafe-women-clipart-business/&amp;psig=AOvVaw1EtVaYsZcAfFuS4MMA9wJq&amp;ust=156089622555477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924320" cy="27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 cap="all">
                <a:solidFill>
                  <a:srgbClr val="ffffff"/>
                </a:solidFill>
                <a:latin typeface="Calibri"/>
              </a:rPr>
              <a:t>Citizen participation </a:t>
            </a:r>
            <a:br>
              <a:rPr sz="4900"/>
            </a:br>
            <a:r>
              <a:rPr b="1" lang="en-US" sz="4900" spc="-1" strike="noStrike" cap="all">
                <a:solidFill>
                  <a:srgbClr val="ffffff"/>
                </a:solidFill>
                <a:latin typeface="Calibri"/>
              </a:rPr>
              <a:t>best practic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June 19, 2019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ephanie Burch, Directo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ighborhoods Depart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ity of Jacksonville, F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314840" cy="196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1C-0E0B-4FFC-89CC-F150FEAC4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tact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phanie Burch, Direc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ighborhoods Depart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y of Jacksonvi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04-255-8902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stephanieb@coj.n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7251-75E0-422E-B664-2D6BC4C90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itizen Participat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343040" cy="47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 form of public engagement where participants receive new information on a topic and through discussion and deliberation jointly prioritize or agree on ideas or recommendations to inform the decisions of local official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xamples include providing information on the budget, comprehensive plan update, housing strategy, etc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6" descr="See the source image"/>
          <p:cNvPicPr/>
          <p:nvPr/>
        </p:nvPicPr>
        <p:blipFill>
          <a:blip r:embed="rId1"/>
          <a:stretch/>
        </p:blipFill>
        <p:spPr>
          <a:xfrm>
            <a:off x="5029200" y="1447920"/>
            <a:ext cx="3733560" cy="47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AB7D-F04C-4475-A2F4-4D517C817C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Should We Do I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91120" y="1371600"/>
            <a:ext cx="4647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o better identify the public’s values, ideas and recommendation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elp residents better understand an issue and its impacts and to see the government’s challenges as their challenges as well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o improve local agency decision-making and action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Generate more community buy-in and support for local agency decision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See the source image"/>
          <p:cNvPicPr/>
          <p:nvPr/>
        </p:nvPicPr>
        <p:blipFill>
          <a:blip r:embed="rId1"/>
          <a:stretch/>
        </p:blipFill>
        <p:spPr>
          <a:xfrm>
            <a:off x="304920" y="1451880"/>
            <a:ext cx="388584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F4E2-07F7-4FFF-9DAD-E1379D1AF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Should We Do I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1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rlier, informed deliberation by residents will often provide a better chance for more civil conversations and problem solving than public hearings will produ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ster project implem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re trust in each other and in local govern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igher rates of community participation and lead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C:\Users\StephanieB\AppData\Local\Microsoft\Windows\Temporary Internet Files\Content.IE5\H3MQJS7Z\P1000382[1].jpg"/>
          <p:cNvPicPr/>
          <p:nvPr/>
        </p:nvPicPr>
        <p:blipFill>
          <a:blip r:embed="rId1"/>
          <a:stretch/>
        </p:blipFill>
        <p:spPr>
          <a:xfrm>
            <a:off x="1143000" y="3352680"/>
            <a:ext cx="6933960" cy="335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AD6-C425-4D4D-BE02-454303AFC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Is Your Audi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05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identify who you are trying to re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are their interests and how do they connect to the project or policy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dentify community values and commonly held principles or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k stakeholders about their preference regarding commun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 connections and relationships among audiences and individu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See the source image"/>
          <p:cNvPicPr/>
          <p:nvPr/>
        </p:nvPicPr>
        <p:blipFill>
          <a:blip r:embed="rId1"/>
          <a:stretch/>
        </p:blipFill>
        <p:spPr>
          <a:xfrm>
            <a:off x="5562720" y="1676520"/>
            <a:ext cx="3372840" cy="44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59A3-B3FA-44B5-AC9A-AB0E698F0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ols To Reach Your Audi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55272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create your communication plan that integrates both traditional and online outl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7760" indent="-27216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paper, Radio, T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7760" indent="-27216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line – social media, blogs, online journal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7760" indent="-27216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ail distribution l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7760" indent="-27216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blic meetings/events – town halls and neighborhood mee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7760" indent="-27216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lendar for the decision-making process – set key milestones, events, and different news opportunities (i.e., project launch, funding is secured, when proposals are received, project is complete, etc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See the source image"/>
          <p:cNvPicPr/>
          <p:nvPr/>
        </p:nvPicPr>
        <p:blipFill>
          <a:blip r:embed="rId1"/>
          <a:stretch/>
        </p:blipFill>
        <p:spPr>
          <a:xfrm>
            <a:off x="7027200" y="2514600"/>
            <a:ext cx="1985040" cy="25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A838-E0A1-48F5-9D8B-EE91CCAF4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ols To Reach Your Audi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396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er multiple opportunities for the public to communicate back to the agency (i.e., surveys, online forums and meeting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how progress, new information or actions as proactively and quickly as possi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llow up on commitments ma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ognize partners and say THANK YOU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Image result for free business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600200"/>
            <a:ext cx="4419360" cy="44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12E-B697-432F-AB80-463087260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ose Hard to Reach Populations…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Millenial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88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42720" indent="-34272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technology!  Try a telephone town hall, webinars with online chat capability, facebook l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4272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et them where they are – college campuses, coffee shops, the gym, volunteer ev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4272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ld “office hours” at public libra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4272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vide the info in a fast-paced environment – we need to produce info that is relevant, quick, and in a way that provides an ROI for thei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4272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to present the info in a modern way to show that we understand their viewpoint and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Image result for free business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6280" y="1676520"/>
            <a:ext cx="3847680" cy="44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7F79-9E3A-4C57-BAFF-EC5C9A2CC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fter Citizen Particip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ther data through surveys, interviews,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 what you d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 what happe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k for feedback from stakehold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te opportunities for ongoing commun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low up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A64-DFE7-49D6-95B7-DCE417F48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  <Words>494</Words>
  <Paragraphs>61</Paragraphs>
  <Company>City of Jacksonvill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8T14:16:57Z</dcterms:created>
  <dc:creator>SBurch</dc:creator>
  <dc:description/>
  <dc:language>en-US</dc:language>
  <cp:lastModifiedBy>Encore</cp:lastModifiedBy>
  <dcterms:modified xsi:type="dcterms:W3CDTF">2019-06-19T16:40:58Z</dcterms:modified>
  <cp:revision>49</cp:revision>
  <dc:subject/>
  <dc:title>City of Jacksonville NEIGHBORHOODS  DEPART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