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B594BD-11DC-4352-9B64-AFFB1A4B7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6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2E3688-562B-48E1-AC1A-0EA37B0797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CD8-A268-47F2-AA18-605D3AB9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012-970F-458D-B3D8-16C1947F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CF9-CCAA-40FD-85D0-9F0E9E45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9EA-8210-469F-B032-88333F09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9F1C-B273-47F3-A866-70C1C142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8BEA-8131-492B-9B26-22EAED07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C23F-27A6-409A-935F-3C3E40B3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9CC2-3667-4894-B30F-88BDD6C3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6ADD-07EA-4874-A539-75C4EB0E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7C80-36E5-469D-A4AF-E792C4B3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F80-3F12-4FE1-A469-033450E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1D4-C4AA-486D-B722-C736214B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3C64-44EF-4274-99BD-5E3FFD3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E7EB-CE9E-4407-97E7-8582F63F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A586-EB5C-403C-8DD6-A3FDA6D0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BEA7-4ECA-4BF3-A3B8-2DDB0FEC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EBC1-7BCF-42D5-8EF0-33D241D5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2D26-93F6-4F62-AFD8-D0BF5757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5779-DCDB-478C-80E3-C208D783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2EBD-F834-419C-BA83-2134F8E6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DEA2-3F51-49DC-998B-200978BC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37BF-8BC1-45CD-869E-A110D50C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ECA-5E19-4868-A1D7-6350B9CD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08AB-8FAA-4F22-8266-6C462CDE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748AB-28EA-49F8-9835-AF0C339F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3C4A-411C-4C34-A19B-A486D7C5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5D27-3A90-4C9A-B25C-748C0D19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7E47-5417-409E-BD90-0C0C1AA5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18097-3F21-43AA-9799-64BFE113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E4F1-157D-4EA6-B2F1-A837D032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ABEE-BAA5-4194-9E3C-FCB5271C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0C50-EAF4-4C8F-A62B-832CB79B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B50F-1F02-45DE-B4B5-3F8C765F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F5E-6007-4705-81ED-013DDFF0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32D0C-BF2F-4E0D-83A0-6D61D000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423AE-8A55-4B98-A142-645CF9F4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5BA7-29DB-4ACF-95F4-D80F6CC3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148D4-0794-480A-97E6-EB6158E5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DE7A-A097-438E-8FAB-03645B10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4D78-AA9A-4D9B-9303-386AD73D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1AEA-35FF-4CD6-BF7A-FAEED59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AB9F-9D25-4B23-9942-C8F30BFD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DABD-3FEE-47FB-8E0A-41377132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A5D-C62D-483F-9357-C975DFA7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308-07F1-4611-BFE4-E300B9B8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3E7-E576-4D1B-B398-A80E51D2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4F4-BC66-4211-AC0F-19D355D5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AC5-107A-4ED2-8F86-4FA8C03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" name="Picture 2" descr="C:\Users\pbaracaldo\Pictures\swoosh_rgb-orange.png"/>
          <p:cNvPicPr/>
          <p:nvPr/>
        </p:nvPicPr>
        <p:blipFill>
          <a:blip r:embed="rId2"/>
          <a:stretch/>
        </p:blipFill>
        <p:spPr>
          <a:xfrm>
            <a:off x="484560" y="1194120"/>
            <a:ext cx="4882680" cy="443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" descr="C:\Users\pbaracaldo\Downloads\sun-bird_rgb.png"/>
          <p:cNvPicPr/>
          <p:nvPr/>
        </p:nvPicPr>
        <p:blipFill>
          <a:blip r:embed="rId3"/>
          <a:stretch/>
        </p:blipFill>
        <p:spPr>
          <a:xfrm>
            <a:off x="8229600" y="6013800"/>
            <a:ext cx="650880" cy="64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Click to edit Master title style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D690A8C-481E-4339-98E1-9526AEF65DC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8595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95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8595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95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8595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47" name="Picture 2" descr="C:\Users\pbaracaldo\Pictures\swoosh_rgb-orange.png"/>
          <p:cNvPicPr/>
          <p:nvPr/>
        </p:nvPicPr>
        <p:blipFill>
          <a:blip r:embed="rId2"/>
          <a:stretch/>
        </p:blipFill>
        <p:spPr>
          <a:xfrm>
            <a:off x="484560" y="1194120"/>
            <a:ext cx="4882680" cy="443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baracaldo\Downloads\sun-bird_rgb.png"/>
          <p:cNvPicPr/>
          <p:nvPr/>
        </p:nvPicPr>
        <p:blipFill>
          <a:blip r:embed="rId3"/>
          <a:stretch/>
        </p:blipFill>
        <p:spPr>
          <a:xfrm>
            <a:off x="8229600" y="6013800"/>
            <a:ext cx="650880" cy="640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Click to edit Master title style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Click to edit Master text styles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90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Fourth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Fifth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BD6DBC3-5346-4C66-A856-94C9290FEDA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92" name="Picture 2" descr="C:\Users\pbaracaldo\Pictures\swoosh_rgb-orange.png"/>
          <p:cNvPicPr/>
          <p:nvPr/>
        </p:nvPicPr>
        <p:blipFill>
          <a:blip r:embed="rId2"/>
          <a:stretch/>
        </p:blipFill>
        <p:spPr>
          <a:xfrm>
            <a:off x="484560" y="1194120"/>
            <a:ext cx="4882680" cy="44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pbaracaldo\Downloads\sun-bird_rgb.png"/>
          <p:cNvPicPr/>
          <p:nvPr/>
        </p:nvPicPr>
        <p:blipFill>
          <a:blip r:embed="rId3"/>
          <a:stretch/>
        </p:blipFill>
        <p:spPr>
          <a:xfrm>
            <a:off x="8229600" y="6013800"/>
            <a:ext cx="650880" cy="640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Click to edit Master title style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Click to edit Master text styles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90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Fourth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Fifth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4648320" y="1673280"/>
            <a:ext cx="403812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Click to edit Master text styles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90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Fourth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Fifth level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26B8F65-930A-4C3A-A161-AEF908FBD9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A161C0-D328-4806-BDB2-4D306F47A0B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Best Practices for Citizen Participation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1219320" y="4114800"/>
            <a:ext cx="36572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Marcy Esbjerg,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Community Development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Pasco County, 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6908400" y="380880"/>
            <a:ext cx="2209680" cy="102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152280" y="5638680"/>
            <a:ext cx="2866680" cy="10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Why Citizen Participation?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7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89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381600" indent="-1522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6"/>
                </a:solidFill>
                <a:latin typeface="Arial"/>
              </a:rPr>
              <a:t>It’s required!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381600" indent="-1522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Citizen Participation Plan – at least two public hearings per year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381600" indent="-1522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5 year Consolidated Plan , Action Plan, AFH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2" marL="610560" indent="-1522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90000"/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24 CFR 91.100, 91.105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2" marL="610560" indent="-1522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90000"/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Includes 30 days of public comment  &amp; consultation with agencies, other local governments, etc.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381600" indent="-1522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We have the ‘community’ in CDBG!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381600" indent="-1522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6"/>
                </a:solidFill>
                <a:latin typeface="Arial"/>
              </a:rPr>
              <a:t>It’s good practice!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271440" y="5562720"/>
            <a:ext cx="2866680" cy="10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What’s Changed?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040" cy="26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Background as a planner – maybe nothing!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Public Hearing and Public Comment period - 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Consultation – eCon Planning Suite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Assessment of Fair Housing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Continuum of Care – people with lived experience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71440" y="5486400"/>
            <a:ext cx="2866680" cy="108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mesbjerg\AppData\Local\Microsoft\Windows\Temporary Internet Files\Content.IE5\AT6NCN74\check_mark_and_box_by_babylonica[1].jpg"/>
          <p:cNvPicPr/>
          <p:nvPr/>
        </p:nvPicPr>
        <p:blipFill>
          <a:blip r:embed="rId2"/>
          <a:stretch/>
        </p:blipFill>
        <p:spPr>
          <a:xfrm>
            <a:off x="6781680" y="2190600"/>
            <a:ext cx="12189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Principle # 1 – Go to the people!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Don’t expect the people we serve to come to a formal City or County meeting or hearing!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Find events, meetings, activities already scheduled and invite yourself!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Maybe not a ‘public hearing’ but rather – citizen participation!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pic>
        <p:nvPicPr>
          <p:cNvPr id="196" name="Picture 14" descr="C:\Users\mesbjerg\AppData\Local\Microsoft\Windows\Temporary Internet Files\Content.IE5\ZEDR8FB2\Sep-29-community-meeting[1].jpg"/>
          <p:cNvPicPr/>
          <p:nvPr/>
        </p:nvPicPr>
        <p:blipFill>
          <a:blip r:embed="rId1"/>
          <a:stretch/>
        </p:blipFill>
        <p:spPr>
          <a:xfrm>
            <a:off x="5105520" y="3809880"/>
            <a:ext cx="3454200" cy="2143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C:\Users\mesbjerg\AppData\Local\Microsoft\Windows\Temporary Internet Files\Content.IE5\SWB3N7F1\FEMA_-_43595_-_Buttonwoods_Community_Center_public_meeting[1].jpg"/>
          <p:cNvPicPr/>
          <p:nvPr/>
        </p:nvPicPr>
        <p:blipFill>
          <a:blip r:embed="rId2"/>
          <a:stretch/>
        </p:blipFill>
        <p:spPr>
          <a:xfrm>
            <a:off x="457200" y="4114800"/>
            <a:ext cx="4555080" cy="1676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"/>
          <p:cNvPicPr/>
          <p:nvPr/>
        </p:nvPicPr>
        <p:blipFill>
          <a:blip r:embed="rId3"/>
          <a:stretch/>
        </p:blipFill>
        <p:spPr>
          <a:xfrm>
            <a:off x="6278400" y="533520"/>
            <a:ext cx="2865240" cy="10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Principle #2 – Consider different participation styles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What’s top on the list of biggest stress or fear – public speaking! 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Everyone learns differently and expresses themselves differently.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Consider some unique options to get feedback: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Small groups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Voting with stickers or money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Moving people around in groups (stand here if you are in favor of….)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79"/>
              </a:spcBef>
              <a:buClr>
                <a:srgbClr val="58595b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Writing on sticky notes – in your own language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3040" y="5772240"/>
            <a:ext cx="2866680" cy="10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Principle # 3 – Recruit others to help!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Get trained or recruit an outside facilitator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Rely on college students or AmeriCorps members for outreach and engagement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Use social media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Work with existing networks and community leaders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chemeClr val="accent6"/>
                </a:solidFill>
                <a:latin typeface="Arial"/>
              </a:rPr>
              <a:t>Ask yourself – who’s missing?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0880" y="5772240"/>
            <a:ext cx="2866680" cy="10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3520" y="76320"/>
            <a:ext cx="786600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chemeClr val="accent2"/>
                </a:solidFill>
                <a:latin typeface="Calibri Light"/>
              </a:rPr>
              <a:t>Spectrum of Citizen Engagement</a:t>
            </a:r>
            <a:br>
              <a:rPr sz="1100"/>
            </a:br>
            <a:r>
              <a:rPr b="0" lang="en-US" sz="1100" spc="-1" strike="noStrike">
                <a:solidFill>
                  <a:schemeClr val="accent2"/>
                </a:solidFill>
                <a:latin typeface="Calibri Light"/>
              </a:rPr>
              <a:t>International Association for Public Particip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3"/>
          <p:cNvSpPr/>
          <p:nvPr/>
        </p:nvSpPr>
        <p:spPr>
          <a:xfrm>
            <a:off x="1244880" y="1812960"/>
            <a:ext cx="532080" cy="709560"/>
          </a:xfrm>
          <a:prstGeom prst="ellipse">
            <a:avLst/>
          </a:prstGeom>
          <a:solidFill>
            <a:schemeClr val="bg1"/>
          </a:solidFill>
          <a:ln w="5715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" name="Straight Arrow Connector 5"/>
          <p:cNvCxnSpPr/>
          <p:nvPr/>
        </p:nvCxnSpPr>
        <p:spPr>
          <a:xfrm flipV="1">
            <a:off x="1924200" y="1616040"/>
            <a:ext cx="153720" cy="265320"/>
          </a:xfrm>
          <a:prstGeom prst="straightConnector1">
            <a:avLst/>
          </a:prstGeom>
          <a:ln w="38100">
            <a:solidFill>
              <a:srgbClr val="5b9bd5"/>
            </a:solidFill>
            <a:tailEnd len="med" type="triangle" w="med"/>
          </a:ln>
        </p:spPr>
      </p:cxnSp>
      <p:cxnSp>
        <p:nvCxnSpPr>
          <p:cNvPr id="208" name="Straight Arrow Connector 7"/>
          <p:cNvCxnSpPr/>
          <p:nvPr/>
        </p:nvCxnSpPr>
        <p:spPr>
          <a:xfrm flipV="1">
            <a:off x="1623960" y="1447560"/>
            <a:ext cx="63720" cy="301320"/>
          </a:xfrm>
          <a:prstGeom prst="straightConnector1">
            <a:avLst/>
          </a:prstGeom>
          <a:ln w="38100">
            <a:solidFill>
              <a:srgbClr val="5b9bd5"/>
            </a:solidFill>
            <a:tailEnd len="med" type="triangle" w="med"/>
          </a:ln>
        </p:spPr>
      </p:cxnSp>
      <p:cxnSp>
        <p:nvCxnSpPr>
          <p:cNvPr id="209" name="Straight Arrow Connector 10"/>
          <p:cNvCxnSpPr/>
          <p:nvPr/>
        </p:nvCxnSpPr>
        <p:spPr>
          <a:xfrm flipH="1" flipV="1">
            <a:off x="1308240" y="1447560"/>
            <a:ext cx="90720" cy="301320"/>
          </a:xfrm>
          <a:prstGeom prst="straightConnector1">
            <a:avLst/>
          </a:prstGeom>
          <a:ln w="38100">
            <a:solidFill>
              <a:srgbClr val="5b9bd5"/>
            </a:solidFill>
            <a:tailEnd len="med" type="triangle" w="med"/>
          </a:ln>
        </p:spPr>
      </p:cxnSp>
      <p:cxnSp>
        <p:nvCxnSpPr>
          <p:cNvPr id="210" name="Straight Arrow Connector 14"/>
          <p:cNvCxnSpPr/>
          <p:nvPr/>
        </p:nvCxnSpPr>
        <p:spPr>
          <a:xfrm flipH="1" flipV="1">
            <a:off x="850320" y="1571400"/>
            <a:ext cx="177840" cy="290520"/>
          </a:xfrm>
          <a:prstGeom prst="straightConnector1">
            <a:avLst/>
          </a:prstGeom>
          <a:ln w="38100">
            <a:solidFill>
              <a:srgbClr val="5b9bd5"/>
            </a:solidFill>
            <a:tailEnd len="med" type="triangle" w="med"/>
          </a:ln>
        </p:spPr>
      </p:cxnSp>
      <p:sp>
        <p:nvSpPr>
          <p:cNvPr id="211" name="Oval 16"/>
          <p:cNvSpPr/>
          <p:nvPr/>
        </p:nvSpPr>
        <p:spPr>
          <a:xfrm>
            <a:off x="2075400" y="123696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Oval 17"/>
          <p:cNvSpPr/>
          <p:nvPr/>
        </p:nvSpPr>
        <p:spPr>
          <a:xfrm>
            <a:off x="1679400" y="108396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Oval 18"/>
          <p:cNvSpPr/>
          <p:nvPr/>
        </p:nvSpPr>
        <p:spPr>
          <a:xfrm>
            <a:off x="1200240" y="105372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Oval 19"/>
          <p:cNvSpPr/>
          <p:nvPr/>
        </p:nvSpPr>
        <p:spPr>
          <a:xfrm>
            <a:off x="633960" y="125532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3000960" y="1874880"/>
            <a:ext cx="532080" cy="709560"/>
          </a:xfrm>
          <a:prstGeom prst="ellipse">
            <a:avLst/>
          </a:prstGeom>
          <a:solidFill>
            <a:schemeClr val="bg1"/>
          </a:solidFill>
          <a:ln w="5715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Oval 23"/>
          <p:cNvSpPr/>
          <p:nvPr/>
        </p:nvSpPr>
        <p:spPr>
          <a:xfrm>
            <a:off x="3811680" y="135720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Oval 24"/>
          <p:cNvSpPr/>
          <p:nvPr/>
        </p:nvSpPr>
        <p:spPr>
          <a:xfrm>
            <a:off x="3453120" y="118908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Oval 25"/>
          <p:cNvSpPr/>
          <p:nvPr/>
        </p:nvSpPr>
        <p:spPr>
          <a:xfrm>
            <a:off x="3029040" y="117648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Oval 26"/>
          <p:cNvSpPr/>
          <p:nvPr/>
        </p:nvSpPr>
        <p:spPr>
          <a:xfrm>
            <a:off x="2600280" y="133704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0" name="Straight Arrow Connector 27"/>
          <p:cNvCxnSpPr/>
          <p:nvPr/>
        </p:nvCxnSpPr>
        <p:spPr>
          <a:xfrm flipH="1">
            <a:off x="3693600" y="1715040"/>
            <a:ext cx="204840" cy="239760"/>
          </a:xfrm>
          <a:prstGeom prst="straightConnector1">
            <a:avLst/>
          </a:prstGeom>
          <a:ln w="38100">
            <a:solidFill>
              <a:srgbClr val="5b9bd5"/>
            </a:solidFill>
            <a:tailEnd len="med" type="triangle" w="med"/>
          </a:ln>
        </p:spPr>
      </p:cxnSp>
      <p:cxnSp>
        <p:nvCxnSpPr>
          <p:cNvPr id="221" name="Straight Arrow Connector 31"/>
          <p:cNvCxnSpPr/>
          <p:nvPr/>
        </p:nvCxnSpPr>
        <p:spPr>
          <a:xfrm flipH="1">
            <a:off x="3445560" y="1549800"/>
            <a:ext cx="110880" cy="276120"/>
          </a:xfrm>
          <a:prstGeom prst="straightConnector1">
            <a:avLst/>
          </a:prstGeom>
          <a:ln w="38100">
            <a:solidFill>
              <a:srgbClr val="5b9bd5"/>
            </a:solidFill>
            <a:tailEnd len="med" type="triangle" w="med"/>
          </a:ln>
        </p:spPr>
      </p:cxnSp>
      <p:cxnSp>
        <p:nvCxnSpPr>
          <p:cNvPr id="222" name="Straight Arrow Connector 35"/>
          <p:cNvCxnSpPr/>
          <p:nvPr/>
        </p:nvCxnSpPr>
        <p:spPr>
          <a:xfrm>
            <a:off x="3150360" y="1549800"/>
            <a:ext cx="60480" cy="263520"/>
          </a:xfrm>
          <a:prstGeom prst="straightConnector1">
            <a:avLst/>
          </a:prstGeom>
          <a:ln w="38100">
            <a:solidFill>
              <a:srgbClr val="5b9bd5"/>
            </a:solidFill>
            <a:tailEnd len="med" type="triangle" w="med"/>
          </a:ln>
        </p:spPr>
      </p:cxnSp>
      <p:cxnSp>
        <p:nvCxnSpPr>
          <p:cNvPr id="223" name="Straight Arrow Connector 45"/>
          <p:cNvCxnSpPr/>
          <p:nvPr/>
        </p:nvCxnSpPr>
        <p:spPr>
          <a:xfrm>
            <a:off x="2735640" y="1715040"/>
            <a:ext cx="137880" cy="239760"/>
          </a:xfrm>
          <a:prstGeom prst="straightConnector1">
            <a:avLst/>
          </a:prstGeom>
          <a:ln w="38100">
            <a:solidFill>
              <a:srgbClr val="5b9bd5"/>
            </a:solidFill>
            <a:tailEnd len="med" type="triangle" w="med"/>
          </a:ln>
        </p:spPr>
      </p:cxnSp>
      <p:sp>
        <p:nvSpPr>
          <p:cNvPr id="224" name="Oval 50"/>
          <p:cNvSpPr/>
          <p:nvPr/>
        </p:nvSpPr>
        <p:spPr>
          <a:xfrm>
            <a:off x="4826880" y="2032560"/>
            <a:ext cx="321480" cy="456840"/>
          </a:xfrm>
          <a:prstGeom prst="ellipse">
            <a:avLst/>
          </a:prstGeom>
          <a:solidFill>
            <a:schemeClr val="bg1"/>
          </a:solidFill>
          <a:ln w="5715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Oval 51"/>
          <p:cNvSpPr/>
          <p:nvPr/>
        </p:nvSpPr>
        <p:spPr>
          <a:xfrm>
            <a:off x="5484240" y="133020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Oval 52"/>
          <p:cNvSpPr/>
          <p:nvPr/>
        </p:nvSpPr>
        <p:spPr>
          <a:xfrm>
            <a:off x="5093640" y="117396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Oval 53"/>
          <p:cNvSpPr/>
          <p:nvPr/>
        </p:nvSpPr>
        <p:spPr>
          <a:xfrm>
            <a:off x="4679640" y="120600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Oval 54"/>
          <p:cNvSpPr/>
          <p:nvPr/>
        </p:nvSpPr>
        <p:spPr>
          <a:xfrm>
            <a:off x="4284720" y="135036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9" name="Straight Arrow Connector 56"/>
          <p:cNvCxnSpPr/>
          <p:nvPr/>
        </p:nvCxnSpPr>
        <p:spPr>
          <a:xfrm flipH="1">
            <a:off x="5280480" y="1659600"/>
            <a:ext cx="250920" cy="25884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cxnSp>
        <p:nvCxnSpPr>
          <p:cNvPr id="230" name="Straight Arrow Connector 60"/>
          <p:cNvCxnSpPr/>
          <p:nvPr/>
        </p:nvCxnSpPr>
        <p:spPr>
          <a:xfrm flipH="1">
            <a:off x="5055120" y="1545120"/>
            <a:ext cx="112320" cy="35100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cxnSp>
        <p:nvCxnSpPr>
          <p:cNvPr id="231" name="Straight Arrow Connector 66"/>
          <p:cNvCxnSpPr/>
          <p:nvPr/>
        </p:nvCxnSpPr>
        <p:spPr>
          <a:xfrm>
            <a:off x="4809600" y="1564920"/>
            <a:ext cx="86760" cy="38988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cxnSp>
        <p:nvCxnSpPr>
          <p:cNvPr id="232" name="Straight Arrow Connector 69"/>
          <p:cNvCxnSpPr/>
          <p:nvPr/>
        </p:nvCxnSpPr>
        <p:spPr>
          <a:xfrm>
            <a:off x="4501080" y="1739160"/>
            <a:ext cx="186120" cy="29844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sp>
        <p:nvSpPr>
          <p:cNvPr id="233" name="Oval 71"/>
          <p:cNvSpPr/>
          <p:nvPr/>
        </p:nvSpPr>
        <p:spPr>
          <a:xfrm>
            <a:off x="6544440" y="1883160"/>
            <a:ext cx="321480" cy="456840"/>
          </a:xfrm>
          <a:prstGeom prst="ellipse">
            <a:avLst/>
          </a:prstGeom>
          <a:solidFill>
            <a:schemeClr val="bg1"/>
          </a:solidFill>
          <a:ln w="5715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Oval 72"/>
          <p:cNvSpPr/>
          <p:nvPr/>
        </p:nvSpPr>
        <p:spPr>
          <a:xfrm>
            <a:off x="6001920" y="153144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Oval 73"/>
          <p:cNvSpPr/>
          <p:nvPr/>
        </p:nvSpPr>
        <p:spPr>
          <a:xfrm>
            <a:off x="6341040" y="101700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Oval 74"/>
          <p:cNvSpPr/>
          <p:nvPr/>
        </p:nvSpPr>
        <p:spPr>
          <a:xfrm>
            <a:off x="6931080" y="104040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Oval 75"/>
          <p:cNvSpPr/>
          <p:nvPr/>
        </p:nvSpPr>
        <p:spPr>
          <a:xfrm>
            <a:off x="7254720" y="173916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38" name="Straight Arrow Connector 76"/>
          <p:cNvCxnSpPr/>
          <p:nvPr/>
        </p:nvCxnSpPr>
        <p:spPr>
          <a:xfrm flipH="1">
            <a:off x="6982920" y="2016360"/>
            <a:ext cx="251640" cy="21924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cxnSp>
        <p:nvCxnSpPr>
          <p:cNvPr id="239" name="Straight Arrow Connector 78"/>
          <p:cNvCxnSpPr/>
          <p:nvPr/>
        </p:nvCxnSpPr>
        <p:spPr>
          <a:xfrm>
            <a:off x="7147440" y="1430280"/>
            <a:ext cx="191520" cy="25776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cxnSp>
        <p:nvCxnSpPr>
          <p:cNvPr id="240" name="Straight Arrow Connector 81"/>
          <p:cNvCxnSpPr/>
          <p:nvPr/>
        </p:nvCxnSpPr>
        <p:spPr>
          <a:xfrm flipH="1" flipV="1">
            <a:off x="6567120" y="1206720"/>
            <a:ext cx="308880" cy="684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cxnSp>
        <p:nvCxnSpPr>
          <p:cNvPr id="241" name="Straight Arrow Connector 85"/>
          <p:cNvCxnSpPr/>
          <p:nvPr/>
        </p:nvCxnSpPr>
        <p:spPr>
          <a:xfrm flipH="1" flipV="1">
            <a:off x="6136560" y="1922760"/>
            <a:ext cx="263520" cy="17352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cxnSp>
        <p:nvCxnSpPr>
          <p:cNvPr id="242" name="Straight Arrow Connector 88"/>
          <p:cNvCxnSpPr/>
          <p:nvPr/>
        </p:nvCxnSpPr>
        <p:spPr>
          <a:xfrm flipV="1">
            <a:off x="6131880" y="1240200"/>
            <a:ext cx="209520" cy="22752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cxnSp>
        <p:nvCxnSpPr>
          <p:cNvPr id="243" name="Straight Arrow Connector 95"/>
          <p:cNvCxnSpPr/>
          <p:nvPr/>
        </p:nvCxnSpPr>
        <p:spPr>
          <a:xfrm flipV="1">
            <a:off x="6882480" y="1479600"/>
            <a:ext cx="100800" cy="43092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cxnSp>
        <p:nvCxnSpPr>
          <p:cNvPr id="244" name="Straight Arrow Connector 99"/>
          <p:cNvCxnSpPr/>
          <p:nvPr/>
        </p:nvCxnSpPr>
        <p:spPr>
          <a:xfrm>
            <a:off x="6527880" y="1439640"/>
            <a:ext cx="116640" cy="415440"/>
          </a:xfrm>
          <a:prstGeom prst="straightConnector1">
            <a:avLst/>
          </a:prstGeom>
          <a:ln w="38100">
            <a:solidFill>
              <a:srgbClr val="5b9bd5"/>
            </a:solidFill>
            <a:headEnd len="med" type="triangle" w="med"/>
            <a:tailEnd len="med" type="triangle" w="med"/>
          </a:ln>
        </p:spPr>
      </p:cxnSp>
      <p:sp>
        <p:nvSpPr>
          <p:cNvPr id="245" name="Oval 103"/>
          <p:cNvSpPr/>
          <p:nvPr/>
        </p:nvSpPr>
        <p:spPr>
          <a:xfrm>
            <a:off x="8201880" y="202392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Oval 104"/>
          <p:cNvSpPr/>
          <p:nvPr/>
        </p:nvSpPr>
        <p:spPr>
          <a:xfrm rot="21168000">
            <a:off x="8716680" y="170712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Oval 105"/>
          <p:cNvSpPr/>
          <p:nvPr/>
        </p:nvSpPr>
        <p:spPr>
          <a:xfrm>
            <a:off x="8510400" y="97812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Oval 106"/>
          <p:cNvSpPr/>
          <p:nvPr/>
        </p:nvSpPr>
        <p:spPr>
          <a:xfrm>
            <a:off x="7947360" y="99360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Oval 107"/>
          <p:cNvSpPr/>
          <p:nvPr/>
        </p:nvSpPr>
        <p:spPr>
          <a:xfrm>
            <a:off x="7788600" y="1597320"/>
            <a:ext cx="216360" cy="312480"/>
          </a:xfrm>
          <a:prstGeom prst="ellipse">
            <a:avLst/>
          </a:prstGeom>
          <a:solidFill>
            <a:schemeClr val="bg1"/>
          </a:solidFill>
          <a:ln w="38100"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0" name="Straight Connector 150"/>
          <p:cNvCxnSpPr>
            <a:stCxn id="245" idx="6"/>
            <a:endCxn id="246" idx="3"/>
          </p:cNvCxnSpPr>
          <p:nvPr/>
        </p:nvCxnSpPr>
        <p:spPr>
          <a:xfrm flipV="1">
            <a:off x="8418240" y="1982880"/>
            <a:ext cx="344880" cy="19764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251" name="Straight Connector 151"/>
          <p:cNvCxnSpPr/>
          <p:nvPr/>
        </p:nvCxnSpPr>
        <p:spPr>
          <a:xfrm flipH="1" flipV="1">
            <a:off x="8716320" y="1316160"/>
            <a:ext cx="108720" cy="37332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252" name="Straight Connector 153"/>
          <p:cNvCxnSpPr>
            <a:stCxn id="247" idx="2"/>
            <a:endCxn id="248" idx="6"/>
          </p:cNvCxnSpPr>
          <p:nvPr/>
        </p:nvCxnSpPr>
        <p:spPr>
          <a:xfrm flipH="1">
            <a:off x="8163720" y="1134360"/>
            <a:ext cx="347040" cy="1584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253" name="Straight Connector 158"/>
          <p:cNvCxnSpPr>
            <a:endCxn id="249" idx="5"/>
          </p:cNvCxnSpPr>
          <p:nvPr/>
        </p:nvCxnSpPr>
        <p:spPr>
          <a:xfrm flipH="1" flipV="1">
            <a:off x="7973280" y="1864440"/>
            <a:ext cx="212400" cy="31608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254" name="Straight Connector 160"/>
          <p:cNvCxnSpPr>
            <a:endCxn id="248" idx="3"/>
          </p:cNvCxnSpPr>
          <p:nvPr/>
        </p:nvCxnSpPr>
        <p:spPr>
          <a:xfrm flipV="1">
            <a:off x="7896600" y="1260720"/>
            <a:ext cx="82440" cy="35604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graphicFrame>
        <p:nvGraphicFramePr>
          <p:cNvPr id="255" name="Table 166"/>
          <p:cNvGraphicFramePr/>
          <p:nvPr/>
        </p:nvGraphicFramePr>
        <p:xfrm>
          <a:off x="33480" y="3108960"/>
          <a:ext cx="9019800" cy="3175560"/>
        </p:xfrm>
        <a:graphic>
          <a:graphicData uri="http://schemas.openxmlformats.org/drawingml/2006/table">
            <a:tbl>
              <a:tblPr/>
              <a:tblGrid>
                <a:gridCol w="1054800"/>
                <a:gridCol w="1599120"/>
                <a:gridCol w="1771920"/>
                <a:gridCol w="1567800"/>
                <a:gridCol w="1498320"/>
                <a:gridCol w="1527120"/>
              </a:tblGrid>
              <a:tr h="37080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rovide balanced and objective inform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Obtain feedback on analysis, issues, alternatives, and decis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Work with the public to make sure that concerns and aspirations are considered and understo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artner with the public in each aspect of the decision-mak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lace final decision-making in the hands of the publi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37080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ROM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 will keep you informed.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 will listen to and acknowledge your concerns.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 will work with you to ensure your concerns and aspirations are directly reflected in the decisions made.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 will look to you for advice and innovation and incorporate this in decisions as much as possible.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 will implement what you decide.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</a:tr>
              <a:tr h="370800">
                <a:tc>
                  <a:txBody>
                    <a:bodyPr lIns="68400" rIns="6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ebsite &amp; eNe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osters &amp; Fly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E-mails &amp; Social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Brochures &amp; Newslet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urveys &amp; Focus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ublic Hearings &amp; Town Hal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nfluencer Intervie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orkshops &amp; Open Hou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teering Committ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taff Outre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mmunity or Co-Led Committ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alitions &amp; Partnershi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olicy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mmunity-Led Planning Effo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</a:pPr>
                      <a:r>
                        <a:rPr b="0" lang="en-US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ommunity-Hosted Foru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2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56" name="TextBox 187"/>
          <p:cNvSpPr/>
          <p:nvPr/>
        </p:nvSpPr>
        <p:spPr>
          <a:xfrm>
            <a:off x="1126800" y="2584800"/>
            <a:ext cx="946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4546a"/>
                </a:solidFill>
                <a:latin typeface="Calibri"/>
              </a:rPr>
              <a:t>IN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88"/>
          <p:cNvSpPr/>
          <p:nvPr/>
        </p:nvSpPr>
        <p:spPr>
          <a:xfrm>
            <a:off x="2849400" y="2653200"/>
            <a:ext cx="1070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4546a"/>
                </a:solidFill>
                <a:latin typeface="Calibri"/>
              </a:rPr>
              <a:t>CON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91"/>
          <p:cNvSpPr/>
          <p:nvPr/>
        </p:nvSpPr>
        <p:spPr>
          <a:xfrm>
            <a:off x="4537080" y="2601000"/>
            <a:ext cx="105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4546a"/>
                </a:solidFill>
                <a:latin typeface="Calibri"/>
              </a:rPr>
              <a:t>INV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92"/>
          <p:cNvSpPr/>
          <p:nvPr/>
        </p:nvSpPr>
        <p:spPr>
          <a:xfrm>
            <a:off x="6041160" y="2482560"/>
            <a:ext cx="1429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4546a"/>
                </a:solidFill>
                <a:latin typeface="Calibri"/>
              </a:rPr>
              <a:t>COLLABO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93"/>
          <p:cNvSpPr/>
          <p:nvPr/>
        </p:nvSpPr>
        <p:spPr>
          <a:xfrm>
            <a:off x="7812720" y="2447280"/>
            <a:ext cx="1178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4546a"/>
                </a:solidFill>
                <a:latin typeface="Calibri"/>
              </a:rPr>
              <a:t>EM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400" spc="-100" strike="noStrike">
                <a:solidFill>
                  <a:srgbClr val="58595b"/>
                </a:solidFill>
                <a:latin typeface="Arial"/>
              </a:rPr>
              <a:t>Final Thoughts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Plan how you will progress across the spectrum of citizen engagement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Take your time; be thoughtful in your approach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Celebrate small victories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df7a00"/>
              </a:buClr>
              <a:buSzPct val="8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58595b"/>
                </a:solidFill>
                <a:latin typeface="Arial"/>
              </a:rPr>
              <a:t>Be responsive to your community’s culture</a:t>
            </a:r>
            <a:endParaRPr b="0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pic>
        <p:nvPicPr>
          <p:cNvPr id="263" name="Picture 3" descr="C:\Users\mesbjerg\AppData\Local\Microsoft\Windows\Temporary Internet Files\Content.IE5\ZEDR8FB2\happy_people[1].jpg"/>
          <p:cNvPicPr/>
          <p:nvPr/>
        </p:nvPicPr>
        <p:blipFill>
          <a:blip r:embed="rId1"/>
          <a:stretch/>
        </p:blipFill>
        <p:spPr>
          <a:xfrm>
            <a:off x="2971800" y="4142520"/>
            <a:ext cx="3413520" cy="2247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2160" y="5772240"/>
            <a:ext cx="2866680" cy="108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SVP">
  <a:themeElements>
    <a:clrScheme name="OSVP Colors">
      <a:dk1>
        <a:srgbClr val="58595b"/>
      </a:dk1>
      <a:lt1>
        <a:srgbClr val="f8f8f8"/>
      </a:lt1>
      <a:dk2>
        <a:srgbClr val="f8f8f8"/>
      </a:dk2>
      <a:lt2>
        <a:srgbClr val="f3f2dc"/>
      </a:lt2>
      <a:accent1>
        <a:srgbClr val="58595b"/>
      </a:accent1>
      <a:accent2>
        <a:srgbClr val="002395"/>
      </a:accent2>
      <a:accent3>
        <a:srgbClr val="69961a"/>
      </a:accent3>
      <a:accent4>
        <a:srgbClr val="f2bc49"/>
      </a:accent4>
      <a:accent5>
        <a:srgbClr val="808da0"/>
      </a:accent5>
      <a:accent6>
        <a:srgbClr val="df7a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SVP">
  <a:themeElements>
    <a:clrScheme name="OSVP Colors">
      <a:dk1>
        <a:srgbClr val="58595b"/>
      </a:dk1>
      <a:lt1>
        <a:srgbClr val="f8f8f8"/>
      </a:lt1>
      <a:dk2>
        <a:srgbClr val="f8f8f8"/>
      </a:dk2>
      <a:lt2>
        <a:srgbClr val="f3f2dc"/>
      </a:lt2>
      <a:accent1>
        <a:srgbClr val="58595b"/>
      </a:accent1>
      <a:accent2>
        <a:srgbClr val="002395"/>
      </a:accent2>
      <a:accent3>
        <a:srgbClr val="69961a"/>
      </a:accent3>
      <a:accent4>
        <a:srgbClr val="f2bc49"/>
      </a:accent4>
      <a:accent5>
        <a:srgbClr val="808da0"/>
      </a:accent5>
      <a:accent6>
        <a:srgbClr val="df7a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SVP">
  <a:themeElements>
    <a:clrScheme name="OSVP Colors">
      <a:dk1>
        <a:srgbClr val="58595b"/>
      </a:dk1>
      <a:lt1>
        <a:srgbClr val="f8f8f8"/>
      </a:lt1>
      <a:dk2>
        <a:srgbClr val="f8f8f8"/>
      </a:dk2>
      <a:lt2>
        <a:srgbClr val="f3f2dc"/>
      </a:lt2>
      <a:accent1>
        <a:srgbClr val="58595b"/>
      </a:accent1>
      <a:accent2>
        <a:srgbClr val="002395"/>
      </a:accent2>
      <a:accent3>
        <a:srgbClr val="69961a"/>
      </a:accent3>
      <a:accent4>
        <a:srgbClr val="f2bc49"/>
      </a:accent4>
      <a:accent5>
        <a:srgbClr val="808da0"/>
      </a:accent5>
      <a:accent6>
        <a:srgbClr val="df7a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8f8f8"/>
      </a:dk2>
      <a:lt2>
        <a:srgbClr val="f3f2dc"/>
      </a:lt2>
      <a:accent1>
        <a:srgbClr val="58595b"/>
      </a:accent1>
      <a:accent2>
        <a:srgbClr val="002395"/>
      </a:accent2>
      <a:accent3>
        <a:srgbClr val="69961a"/>
      </a:accent3>
      <a:accent4>
        <a:srgbClr val="f2bc49"/>
      </a:accent4>
      <a:accent5>
        <a:srgbClr val="808da0"/>
      </a:accent5>
      <a:accent6>
        <a:srgbClr val="df7a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 Template</Template>
  <TotalTime>1390</TotalTime>
  <Application>LibreOffice/7.4.7.2$Linux_X86_64 LibreOffice_project/40$Build-2</Application>
  <AppVersion>15.0000</AppVersion>
  <Words>488</Words>
  <Paragraphs>85</Paragraphs>
  <Company>Pasco County BO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5T14:52:44Z</dcterms:created>
  <dc:creator>Hilary L. Bruno</dc:creator>
  <dc:description/>
  <dc:language>en-US</dc:language>
  <cp:lastModifiedBy>Melissa Horr</cp:lastModifiedBy>
  <cp:lastPrinted>2019-06-06T16:10:18Z</cp:lastPrinted>
  <dcterms:modified xsi:type="dcterms:W3CDTF">2019-06-18T14:03:01Z</dcterms:modified>
  <cp:revision>42</cp:revision>
  <dc:subject/>
  <dc:title>Anderson Hou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8</vt:r8>
  </property>
</Properties>
</file>