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3716000" cy="10287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3EC5E-E017-46F1-8FDD-0A1375AF1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4"/>
          </p:nvPr>
        </p:nvSpPr>
        <p:spPr>
          <a:xfrm>
            <a:off x="0" y="8761680"/>
            <a:ext cx="545040" cy="464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Museo Sans For Del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C45631-1D35-40AD-9E89-5751C6315FCD}" type="slidenum">
              <a:rPr b="0" lang="en-US" sz="1100" spc="-1" strike="noStrike">
                <a:solidFill>
                  <a:srgbClr val="000000"/>
                </a:solidFill>
                <a:latin typeface="Museo Sans For Dell"/>
                <a:ea typeface="+mn-e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5"/>
          </p:nvPr>
        </p:nvSpPr>
        <p:spPr>
          <a:xfrm>
            <a:off x="568800" y="8761680"/>
            <a:ext cx="2336400" cy="464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Museo Sans For Dell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Museo Sans For Dell"/>
                <a:ea typeface="+mn-ea"/>
              </a:rPr>
              <a:t>Confidential - Preliminary DRAF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552312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1136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5928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03276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85928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903276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71400" y="5805000"/>
            <a:ext cx="961524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01136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552312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01136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5928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3276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85928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03276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71400" y="5805000"/>
            <a:ext cx="961524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01136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552312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01136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928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03276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85928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903276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71400" y="5805000"/>
            <a:ext cx="961524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01136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552312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01136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928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032760" y="240696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85928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9032760" y="5523120"/>
            <a:ext cx="39744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71400" y="5805000"/>
            <a:ext cx="961524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11360" y="552312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11360" y="2406960"/>
            <a:ext cx="602388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5523120"/>
            <a:ext cx="123440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Straight Connector 7"/>
          <p:cNvCxnSpPr/>
          <p:nvPr/>
        </p:nvCxnSpPr>
        <p:spPr>
          <a:xfrm>
            <a:off x="685800" y="9258120"/>
            <a:ext cx="12344760" cy="360"/>
          </a:xfrm>
          <a:prstGeom prst="straightConnector1">
            <a:avLst/>
          </a:prstGeom>
          <a:ln w="9525">
            <a:solidFill>
              <a:srgbClr val="aaaaaa"/>
            </a:solidFill>
            <a:round/>
          </a:ln>
        </p:spPr>
      </p:cxnSp>
      <p:sp>
        <p:nvSpPr>
          <p:cNvPr id="1" name="TextBox 8" hidden="1"/>
          <p:cNvSpPr/>
          <p:nvPr/>
        </p:nvSpPr>
        <p:spPr>
          <a:xfrm>
            <a:off x="12458880" y="9655920"/>
            <a:ext cx="571320" cy="2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3716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B626102-448C-4C53-B1C0-E650A4712194}" type="slidenum">
              <a:rPr b="0" lang="en-US" sz="1350" spc="-1" strike="noStrike">
                <a:solidFill>
                  <a:srgbClr val="aaaaaa"/>
                </a:solidFill>
                <a:latin typeface="Arial"/>
              </a:rPr>
              <a:t>&lt;number&gt;</a:t>
            </a:fld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685800" y="9524520"/>
            <a:ext cx="328680" cy="4960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2" hidden="1"/>
          <p:cNvSpPr/>
          <p:nvPr/>
        </p:nvSpPr>
        <p:spPr>
          <a:xfrm>
            <a:off x="0" y="0"/>
            <a:ext cx="13715640" cy="57132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37160" rIns="137160" tIns="68400" bIns="68400" anchor="ctr">
            <a:noAutofit/>
          </a:bodyPr>
          <a:p>
            <a:pPr algn="ctr">
              <a:lnSpc>
                <a:spcPct val="100000"/>
              </a:lnSpc>
            </a:pPr>
            <a:endParaRPr b="0" lang="en-US" sz="27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43480" y="4677120"/>
            <a:ext cx="894240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chemeClr val="accent6"/>
                </a:solidFill>
                <a:latin typeface="Arial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543480" y="6858000"/>
            <a:ext cx="892872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5"/>
                </a:solidFill>
                <a:latin typeface="Arial"/>
              </a:rPr>
              <a:t>Click to edit Master Subtitle styles</a:t>
            </a:r>
            <a:endParaRPr b="0" lang="en-US" sz="3000" spc="-1" strike="noStrike">
              <a:solidFill>
                <a:schemeClr val="accent5"/>
              </a:solidFill>
              <a:latin typeface="Arial"/>
            </a:endParaRPr>
          </a:p>
        </p:txBody>
      </p:sp>
      <p:cxnSp>
        <p:nvCxnSpPr>
          <p:cNvPr id="6" name="Straight Connector 11"/>
          <p:cNvCxnSpPr/>
          <p:nvPr/>
        </p:nvCxnSpPr>
        <p:spPr>
          <a:xfrm>
            <a:off x="671400" y="3886200"/>
            <a:ext cx="12373200" cy="360"/>
          </a:xfrm>
          <a:prstGeom prst="straightConnector1">
            <a:avLst/>
          </a:prstGeom>
          <a:ln>
            <a:solidFill>
              <a:srgbClr val="aaaaaa"/>
            </a:solidFill>
            <a:round/>
          </a:ln>
        </p:spPr>
      </p:cxn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800280" y="1028880"/>
            <a:ext cx="4440600" cy="2051280"/>
          </a:xfrm>
          <a:prstGeom prst="rect">
            <a:avLst/>
          </a:prstGeom>
          <a:ln w="0">
            <a:noFill/>
          </a:ln>
        </p:spPr>
      </p:pic>
      <p:cxnSp>
        <p:nvCxnSpPr>
          <p:cNvPr id="8" name="Straight Connector 9"/>
          <p:cNvCxnSpPr/>
          <p:nvPr/>
        </p:nvCxnSpPr>
        <p:spPr>
          <a:xfrm>
            <a:off x="685800" y="9258120"/>
            <a:ext cx="12344760" cy="360"/>
          </a:xfrm>
          <a:prstGeom prst="straightConnector1">
            <a:avLst/>
          </a:prstGeom>
          <a:ln w="9525">
            <a:solidFill>
              <a:srgbClr val="aaaaaa"/>
            </a:solidFill>
            <a:round/>
          </a:ln>
        </p:spPr>
      </p:cxnSp>
      <p:sp>
        <p:nvSpPr>
          <p:cNvPr id="9" name="Rectangle 1"/>
          <p:cNvSpPr/>
          <p:nvPr/>
        </p:nvSpPr>
        <p:spPr>
          <a:xfrm>
            <a:off x="0" y="0"/>
            <a:ext cx="13715640" cy="57132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37160" rIns="137160" tIns="68400" bIns="68400" anchor="ctr">
            <a:noAutofit/>
          </a:bodyPr>
          <a:p>
            <a:pPr algn="ctr">
              <a:lnSpc>
                <a:spcPct val="100000"/>
              </a:lnSpc>
            </a:pPr>
            <a:endParaRPr b="0" lang="en-US" sz="27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Straight Connector 7"/>
          <p:cNvCxnSpPr/>
          <p:nvPr/>
        </p:nvCxnSpPr>
        <p:spPr>
          <a:xfrm>
            <a:off x="685800" y="9258120"/>
            <a:ext cx="12344760" cy="360"/>
          </a:xfrm>
          <a:prstGeom prst="straightConnector1">
            <a:avLst/>
          </a:prstGeom>
          <a:ln w="9525">
            <a:solidFill>
              <a:srgbClr val="aaaaaa"/>
            </a:solidFill>
            <a:round/>
          </a:ln>
        </p:spPr>
      </p:cxnSp>
      <p:sp>
        <p:nvSpPr>
          <p:cNvPr id="47" name="TextBox 8"/>
          <p:cNvSpPr/>
          <p:nvPr/>
        </p:nvSpPr>
        <p:spPr>
          <a:xfrm>
            <a:off x="12458880" y="9655920"/>
            <a:ext cx="571320" cy="2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3716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011567CF-F300-4055-8E61-43C26D7AE849}" type="slidenum">
              <a:rPr b="0" lang="en-US" sz="1350" spc="-1" strike="noStrike">
                <a:solidFill>
                  <a:srgbClr val="aaaaaa"/>
                </a:solidFill>
                <a:latin typeface="Arial"/>
              </a:rPr>
              <a:t>&lt;number&gt;</a:t>
            </a:fld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685800" y="9524520"/>
            <a:ext cx="328680" cy="496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2"/>
          <p:cNvSpPr/>
          <p:nvPr/>
        </p:nvSpPr>
        <p:spPr>
          <a:xfrm>
            <a:off x="0" y="0"/>
            <a:ext cx="13715640" cy="57132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37160" rIns="137160" tIns="68400" bIns="68400" anchor="ctr">
            <a:noAutofit/>
          </a:bodyPr>
          <a:p>
            <a:pPr algn="ctr">
              <a:lnSpc>
                <a:spcPct val="100000"/>
              </a:lnSpc>
            </a:pPr>
            <a:endParaRPr b="0" lang="en-US" sz="27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4760" y="731520"/>
            <a:ext cx="12357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chemeClr val="accent6"/>
                </a:solidFill>
                <a:latin typeface="Arial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44760" y="2286000"/>
            <a:ext cx="12357720" cy="67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56760" indent="-35676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</a:pPr>
            <a:r>
              <a:rPr b="0" lang="en-US" sz="3300" spc="-1" strike="noStrike">
                <a:solidFill>
                  <a:schemeClr val="accent5"/>
                </a:solidFill>
                <a:latin typeface="Arial"/>
              </a:rPr>
              <a:t>Click to edit Master text styles</a:t>
            </a:r>
            <a:endParaRPr b="0" lang="en-US" sz="3300" spc="-1" strike="noStrike">
              <a:solidFill>
                <a:schemeClr val="accent5"/>
              </a:solidFill>
              <a:latin typeface="Arial"/>
            </a:endParaRPr>
          </a:p>
          <a:p>
            <a:pPr lvl="1" marL="864000" indent="-356760">
              <a:lnSpc>
                <a:spcPct val="100000"/>
              </a:lnSpc>
              <a:spcBef>
                <a:spcPts val="541"/>
              </a:spcBef>
              <a:spcAft>
                <a:spcPts val="323"/>
              </a:spcAft>
              <a:buClr>
                <a:srgbClr val="c30e2f"/>
              </a:buClr>
              <a:buFont typeface="Arial"/>
              <a:buChar char="–"/>
            </a:pPr>
            <a:r>
              <a:rPr b="0" lang="en-US" sz="2700" spc="-1" strike="noStrike">
                <a:solidFill>
                  <a:schemeClr val="accent5"/>
                </a:solidFill>
                <a:latin typeface="Arial"/>
              </a:rPr>
              <a:t>Second level</a:t>
            </a:r>
            <a:endParaRPr b="0" lang="en-US" sz="2700" spc="-1" strike="noStrike">
              <a:solidFill>
                <a:schemeClr val="accent5"/>
              </a:solidFill>
              <a:latin typeface="Arial"/>
            </a:endParaRPr>
          </a:p>
          <a:p>
            <a:pPr lvl="2" marL="1536120" indent="-35676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Clr>
                <a:srgbClr val="c30e2f"/>
              </a:buClr>
              <a:buFont typeface="Museo Sans For Dell 300"/>
              <a:buChar char="›"/>
            </a:pPr>
            <a:r>
              <a:rPr b="0" lang="en-US" sz="2400" spc="-1" strike="noStrike">
                <a:solidFill>
                  <a:schemeClr val="accent5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chemeClr val="accent5"/>
              </a:solidFill>
              <a:latin typeface="Arial"/>
            </a:endParaRPr>
          </a:p>
          <a:p>
            <a:pPr lvl="3" marL="2071080" indent="-356760">
              <a:lnSpc>
                <a:spcPct val="100000"/>
              </a:lnSpc>
              <a:spcBef>
                <a:spcPts val="505"/>
              </a:spcBef>
              <a:spcAft>
                <a:spcPts val="252"/>
              </a:spcAft>
              <a:buClr>
                <a:srgbClr val="c30e2f"/>
              </a:buClr>
              <a:buFont typeface="Arial"/>
              <a:buChar char="»"/>
            </a:pPr>
            <a:r>
              <a:rPr b="0" lang="en-US" sz="2100" spc="-1" strike="noStrike">
                <a:solidFill>
                  <a:schemeClr val="accent5"/>
                </a:solidFill>
                <a:latin typeface="Arial"/>
              </a:rPr>
              <a:t>Fourth level</a:t>
            </a:r>
            <a:endParaRPr b="0" lang="en-US" sz="2100" spc="-1" strike="noStrike">
              <a:solidFill>
                <a:schemeClr val="accent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8" name="Straight Connector 7"/>
          <p:cNvCxnSpPr/>
          <p:nvPr/>
        </p:nvCxnSpPr>
        <p:spPr>
          <a:xfrm>
            <a:off x="685800" y="9258120"/>
            <a:ext cx="12344760" cy="360"/>
          </a:xfrm>
          <a:prstGeom prst="straightConnector1">
            <a:avLst/>
          </a:prstGeom>
          <a:ln w="9525">
            <a:solidFill>
              <a:srgbClr val="aaaaaa"/>
            </a:solidFill>
            <a:round/>
          </a:ln>
        </p:spPr>
      </p:cxnSp>
      <p:sp>
        <p:nvSpPr>
          <p:cNvPr id="89" name="TextBox 8"/>
          <p:cNvSpPr/>
          <p:nvPr/>
        </p:nvSpPr>
        <p:spPr>
          <a:xfrm>
            <a:off x="12458880" y="9655920"/>
            <a:ext cx="571320" cy="2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3716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587C2888-89AF-4067-A5A2-0984771EB494}" type="slidenum">
              <a:rPr b="0" lang="en-US" sz="1350" spc="-1" strike="noStrike">
                <a:solidFill>
                  <a:srgbClr val="aaaaaa"/>
                </a:solidFill>
                <a:latin typeface="Arial"/>
              </a:rPr>
              <a:t>&lt;number&gt;</a:t>
            </a:fld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685800" y="9524520"/>
            <a:ext cx="328680" cy="496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2"/>
          <p:cNvSpPr/>
          <p:nvPr/>
        </p:nvSpPr>
        <p:spPr>
          <a:xfrm>
            <a:off x="0" y="0"/>
            <a:ext cx="13715640" cy="57132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37160" rIns="137160" tIns="68400" bIns="68400" anchor="ctr">
            <a:noAutofit/>
          </a:bodyPr>
          <a:p>
            <a:pPr algn="ctr">
              <a:lnSpc>
                <a:spcPct val="100000"/>
              </a:lnSpc>
            </a:pPr>
            <a:endParaRPr b="0" lang="en-US" sz="27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4760" y="731520"/>
            <a:ext cx="12357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chemeClr val="accent6"/>
                </a:solidFill>
                <a:latin typeface="Arial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44760" y="3429000"/>
            <a:ext cx="12357720" cy="565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56760" indent="-35676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</a:pPr>
            <a:r>
              <a:rPr b="0" lang="en-US" sz="3300" spc="-1" strike="noStrike">
                <a:solidFill>
                  <a:schemeClr val="accent5"/>
                </a:solidFill>
                <a:latin typeface="Arial"/>
              </a:rPr>
              <a:t>Click to edit Master text styles</a:t>
            </a:r>
            <a:endParaRPr b="0" lang="en-US" sz="3300" spc="-1" strike="noStrike">
              <a:solidFill>
                <a:schemeClr val="accent5"/>
              </a:solidFill>
              <a:latin typeface="Arial"/>
            </a:endParaRPr>
          </a:p>
          <a:p>
            <a:pPr lvl="1" marL="864000" indent="-356760">
              <a:lnSpc>
                <a:spcPct val="100000"/>
              </a:lnSpc>
              <a:spcBef>
                <a:spcPts val="541"/>
              </a:spcBef>
              <a:spcAft>
                <a:spcPts val="323"/>
              </a:spcAft>
              <a:buClr>
                <a:srgbClr val="c30e2f"/>
              </a:buClr>
              <a:buFont typeface="Arial"/>
              <a:buChar char="–"/>
            </a:pPr>
            <a:r>
              <a:rPr b="0" lang="en-US" sz="2700" spc="-1" strike="noStrike">
                <a:solidFill>
                  <a:schemeClr val="accent5"/>
                </a:solidFill>
                <a:latin typeface="Arial"/>
              </a:rPr>
              <a:t>Second level</a:t>
            </a:r>
            <a:endParaRPr b="0" lang="en-US" sz="2700" spc="-1" strike="noStrike">
              <a:solidFill>
                <a:schemeClr val="accent5"/>
              </a:solidFill>
              <a:latin typeface="Arial"/>
            </a:endParaRPr>
          </a:p>
          <a:p>
            <a:pPr lvl="2" marL="1536120" indent="-35676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Clr>
                <a:srgbClr val="c30e2f"/>
              </a:buClr>
              <a:buFont typeface="Museo Sans For Dell 300"/>
              <a:buChar char="›"/>
            </a:pPr>
            <a:r>
              <a:rPr b="0" lang="en-US" sz="2400" spc="-1" strike="noStrike">
                <a:solidFill>
                  <a:schemeClr val="accent5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chemeClr val="accent5"/>
              </a:solidFill>
              <a:latin typeface="Arial"/>
            </a:endParaRPr>
          </a:p>
          <a:p>
            <a:pPr lvl="3" marL="2071080" indent="-356760">
              <a:lnSpc>
                <a:spcPct val="100000"/>
              </a:lnSpc>
              <a:spcBef>
                <a:spcPts val="505"/>
              </a:spcBef>
              <a:spcAft>
                <a:spcPts val="252"/>
              </a:spcAft>
              <a:buClr>
                <a:srgbClr val="c30e2f"/>
              </a:buClr>
              <a:buFont typeface="Arial"/>
              <a:buChar char="»"/>
            </a:pPr>
            <a:r>
              <a:rPr b="0" lang="en-US" sz="2100" spc="-1" strike="noStrike">
                <a:solidFill>
                  <a:schemeClr val="accent5"/>
                </a:solidFill>
                <a:latin typeface="Arial"/>
              </a:rPr>
              <a:t>Fourth level</a:t>
            </a:r>
            <a:endParaRPr b="0" lang="en-US" sz="2100" spc="-1" strike="noStrike">
              <a:solidFill>
                <a:schemeClr val="accent5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644760" y="2244960"/>
            <a:ext cx="12357720" cy="106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/>
                </a:solidFill>
                <a:latin typeface="Arial"/>
              </a:rPr>
              <a:t>Click to edit Master text styles</a:t>
            </a:r>
            <a:endParaRPr b="0" lang="en-US" sz="2400" spc="-1" strike="noStrike">
              <a:solidFill>
                <a:schemeClr val="accent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85800" y="9527040"/>
            <a:ext cx="454320" cy="49356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Connector 6"/>
          <p:cNvCxnSpPr/>
          <p:nvPr/>
        </p:nvCxnSpPr>
        <p:spPr>
          <a:xfrm>
            <a:off x="685800" y="9258120"/>
            <a:ext cx="12344760" cy="3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sp>
        <p:nvSpPr>
          <p:cNvPr id="133" name="TextBox 11" hidden="1"/>
          <p:cNvSpPr/>
          <p:nvPr/>
        </p:nvSpPr>
        <p:spPr>
          <a:xfrm>
            <a:off x="12458880" y="9655920"/>
            <a:ext cx="571320" cy="2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3716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55911AD-1081-4046-A8DE-2EBCA436B02B}" type="slidenum">
              <a:rPr b="0" lang="en-US" sz="135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71400" y="5805000"/>
            <a:ext cx="9615240" cy="1509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  <a:ea typeface="Arial"/>
              </a:rPr>
              <a:t>Click to edit Contact inform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693360" y="4548240"/>
            <a:ext cx="419364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68400" bIns="68400" anchor="t">
            <a:spAutoFit/>
          </a:bodyPr>
          <a:p>
            <a:pPr>
              <a:lnSpc>
                <a:spcPct val="9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Museo For Dell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Straight Connector 11"/>
          <p:cNvCxnSpPr/>
          <p:nvPr/>
        </p:nvCxnSpPr>
        <p:spPr>
          <a:xfrm>
            <a:off x="671400" y="3886200"/>
            <a:ext cx="12373200" cy="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37" name="Straight Connector 12"/>
          <p:cNvCxnSpPr/>
          <p:nvPr/>
        </p:nvCxnSpPr>
        <p:spPr>
          <a:xfrm>
            <a:off x="685800" y="9258120"/>
            <a:ext cx="12344760" cy="3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800280" y="1028880"/>
            <a:ext cx="4440600" cy="2007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2406960"/>
            <a:ext cx="123440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Museo Sans For Del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Museo Sans For Del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Museo Sans For D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useo Sans For Del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Museo Sans For D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useo Sans For Del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Museo Sans For D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useo Sans For D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SHANETTEE@PLANO.GOV" TargetMode="External"/><Relationship Id="rId2" Type="http://schemas.openxmlformats.org/officeDocument/2006/relationships/hyperlink" Target="mailto:NEVANS@PLANO.GOV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677120"/>
            <a:ext cx="1195236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chemeClr val="accent6"/>
                </a:solidFill>
                <a:latin typeface="Arial"/>
              </a:rPr>
              <a:t>CAPER Best Practices – </a:t>
            </a:r>
            <a:br>
              <a:rPr sz="6000"/>
            </a:br>
            <a:r>
              <a:rPr b="1" lang="en-US" sz="6000" spc="-1" strike="noStrike">
                <a:solidFill>
                  <a:schemeClr val="accent6"/>
                </a:solidFill>
                <a:latin typeface="Arial"/>
              </a:rPr>
              <a:t>City of Plano, T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8191440"/>
            <a:ext cx="10338480" cy="12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None/>
              <a:tabLst>
                <a:tab algn="l" pos="0"/>
              </a:tabLst>
            </a:pPr>
            <a:r>
              <a:rPr b="1" lang="en-US" sz="2480" spc="-1" strike="noStrike">
                <a:solidFill>
                  <a:srgbClr val="808080"/>
                </a:solidFill>
                <a:latin typeface="Arial"/>
              </a:rPr>
              <a:t>Shanette Eaden, Housing and Community Services Manager</a:t>
            </a:r>
            <a:endParaRPr b="0" lang="en-US" sz="2480" spc="-1" strike="noStrike">
              <a:solidFill>
                <a:schemeClr val="accent5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None/>
              <a:tabLst>
                <a:tab algn="l" pos="0"/>
              </a:tabLst>
            </a:pPr>
            <a:r>
              <a:rPr b="1" lang="en-US" sz="2480" spc="-1" strike="noStrike">
                <a:solidFill>
                  <a:srgbClr val="808080"/>
                </a:solidFill>
                <a:latin typeface="Arial"/>
              </a:rPr>
              <a:t>Natalie Evans, Grants Analyst</a:t>
            </a:r>
            <a:endParaRPr b="0" lang="en-US" sz="2480" spc="-1" strike="noStrike">
              <a:solidFill>
                <a:schemeClr val="accent5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1219320" y="6202080"/>
            <a:ext cx="1074384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chemeClr val="accent6"/>
                </a:solidFill>
                <a:latin typeface="Arial"/>
              </a:rPr>
              <a:t>National Community Development Association Annual Conference Jacksonville, Flori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chemeClr val="accent6"/>
                </a:solidFill>
                <a:latin typeface="Arial"/>
              </a:rPr>
              <a:t>June 19, 201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5120" y="952560"/>
            <a:ext cx="898488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800" spc="-1" strike="noStrike">
                <a:solidFill>
                  <a:schemeClr val="accent6"/>
                </a:solidFill>
                <a:latin typeface="Arial"/>
              </a:rPr>
              <a:t>Demographics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Content Placeholder 4" descr=""/>
          <p:cNvPicPr/>
          <p:nvPr/>
        </p:nvPicPr>
        <p:blipFill>
          <a:blip r:embed="rId1"/>
          <a:stretch/>
        </p:blipFill>
        <p:spPr>
          <a:xfrm>
            <a:off x="1523880" y="2540880"/>
            <a:ext cx="10959840" cy="52333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3595320" y="8017920"/>
            <a:ext cx="6504480" cy="10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57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780" spc="-1" strike="noStrike">
                <a:solidFill>
                  <a:srgbClr val="c00000"/>
                </a:solidFill>
                <a:latin typeface="Arial"/>
              </a:rPr>
              <a:t>HUD Allocations</a:t>
            </a:r>
            <a:endParaRPr b="0" lang="en-US" sz="278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80" spc="-1" strike="noStrike">
                <a:solidFill>
                  <a:srgbClr val="c00000"/>
                </a:solidFill>
                <a:latin typeface="Arial"/>
              </a:rPr>
              <a:t>CDBG: $1.3 M   HOME: $514 K</a:t>
            </a:r>
            <a:endParaRPr b="0" lang="en-US" sz="278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Connector 8"/>
          <p:cNvCxnSpPr/>
          <p:nvPr/>
        </p:nvCxnSpPr>
        <p:spPr>
          <a:xfrm>
            <a:off x="6847560" y="8724600"/>
            <a:ext cx="360" cy="270000"/>
          </a:xfrm>
          <a:prstGeom prst="straightConnector1">
            <a:avLst/>
          </a:prstGeom>
          <a:ln w="44450">
            <a:solidFill>
              <a:srgbClr val="0a2c74"/>
            </a:solidFill>
            <a:round/>
          </a:ln>
        </p:spPr>
      </p:cxnSp>
    </p:spTree>
  </p:cSld>
  <mc:AlternateContent>
    <mc:Choice Requires="p14">
      <p:transition p14:dur="1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95480" y="1104840"/>
            <a:ext cx="898488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800" spc="-1" strike="noStrike">
                <a:solidFill>
                  <a:schemeClr val="accent6"/>
                </a:solidFill>
                <a:latin typeface="Arial"/>
              </a:rPr>
              <a:t>CAPER “MUST DOs”</a:t>
            </a:r>
            <a:br>
              <a:rPr sz="4200"/>
            </a:br>
            <a:r>
              <a:rPr b="1" lang="en-US" sz="1979" spc="-1" strike="noStrike">
                <a:solidFill>
                  <a:schemeClr val="accent6"/>
                </a:solidFill>
                <a:latin typeface="Arial"/>
              </a:rPr>
              <a:t>(As provided by HUD’s Office of Block Grant Assistance)</a:t>
            </a:r>
            <a:endParaRPr b="0" lang="en-US" sz="19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629080"/>
            <a:ext cx="12357720" cy="699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None/>
              <a:tabLst>
                <a:tab algn="l" pos="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Complete the below checklist before creating the CAPER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864000" indent="-35676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Ensure AAP is marked as “Review Complete”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864000" indent="-35676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Enter all amendments in IDIS, submit and ensure marked as “Review Complete”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864000" indent="-35676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Ensure AAP includes correct projects (associated with activities AND correct PY)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864000" indent="-35676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Enter all accomplishments data in IDIS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marL="507600" indent="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None/>
              <a:tabLst>
                <a:tab algn="l" pos="0"/>
              </a:tabLst>
            </a:pP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42600" y="723960"/>
            <a:ext cx="12357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800" spc="-1" strike="noStrike">
                <a:solidFill>
                  <a:schemeClr val="accent6"/>
                </a:solidFill>
                <a:latin typeface="Arial"/>
              </a:rPr>
              <a:t>Data Analysis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6280" y="2095560"/>
            <a:ext cx="12164040" cy="68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49560" indent="-34956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</a:pPr>
            <a:r>
              <a:rPr b="1" lang="en-US" sz="4700" spc="-1" strike="noStrike">
                <a:solidFill>
                  <a:srgbClr val="002060"/>
                </a:solidFill>
                <a:latin typeface="Arial"/>
              </a:rPr>
              <a:t>Run your HUD reports</a:t>
            </a:r>
            <a:endParaRPr b="0" lang="en-US" sz="4700" spc="-1" strike="noStrike">
              <a:solidFill>
                <a:schemeClr val="accent5"/>
              </a:solidFill>
              <a:latin typeface="Arial"/>
            </a:endParaRPr>
          </a:p>
          <a:p>
            <a:pPr lvl="2" marL="1505160" indent="-34956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Clr>
                <a:srgbClr val="c30e2f"/>
              </a:buClr>
              <a:buFont typeface="Wingdings" charset="2"/>
              <a:buChar char=""/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PR03 – CDBG Activity Summary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2" marL="1505160" indent="-34956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Clr>
                <a:srgbClr val="c30e2f"/>
              </a:buClr>
              <a:buFont typeface="Wingdings" charset="2"/>
              <a:buChar char=""/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PR 22 – Status of HOME Activities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2" marL="1505160" indent="-34956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Clr>
                <a:srgbClr val="c30e2f"/>
              </a:buClr>
              <a:buFont typeface="Wingdings" charset="2"/>
              <a:buChar char=""/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PR 26 – Financial Summary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None/>
              <a:tabLst>
                <a:tab algn="l" pos="0"/>
              </a:tabLst>
            </a:pP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marL="349560" indent="-34956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Look for Accomplishment Data w/o Goals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2" marL="1505160" indent="-34956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Clr>
                <a:srgbClr val="c30e2f"/>
              </a:buClr>
              <a:buFont typeface="Wingdings" charset="2"/>
              <a:buChar char="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Is the matrix code aligned with the Goal Indicator? 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2" marL="1505160" indent="-349560">
              <a:lnSpc>
                <a:spcPct val="100000"/>
              </a:lnSpc>
              <a:spcBef>
                <a:spcPts val="575"/>
              </a:spcBef>
              <a:spcAft>
                <a:spcPts val="289"/>
              </a:spcAft>
              <a:buClr>
                <a:srgbClr val="c30e2f"/>
              </a:buClr>
              <a:buFont typeface="Wingdings" charset="2"/>
              <a:buChar char="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Do you have legitimate accomplishments that occurred during the program year, but are not associated with current goals?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44760" y="731520"/>
            <a:ext cx="12357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800" spc="-1" strike="noStrike">
                <a:solidFill>
                  <a:schemeClr val="accent6"/>
                </a:solidFill>
                <a:latin typeface="Arial"/>
              </a:rPr>
              <a:t>Explain the Year</a:t>
            </a:r>
            <a:br>
              <a:rPr sz="4200"/>
            </a:b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38360"/>
            <a:ext cx="12357720" cy="75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Highlight the successes and “opportunities for improvement” 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1078920" indent="-57168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"/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Why didn’t you hit your annual goal and will you make it over the course of your 5-Year Conplan? 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1078920" indent="-57168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"/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What helped you successfully complete the goals you accomplished?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marL="507600" indent="0">
              <a:lnSpc>
                <a:spcPct val="100000"/>
              </a:lnSpc>
              <a:spcBef>
                <a:spcPts val="400"/>
              </a:spcBef>
              <a:spcAft>
                <a:spcPts val="323"/>
              </a:spcAft>
              <a:buNone/>
              <a:tabLst>
                <a:tab algn="l" pos="0"/>
              </a:tabLst>
            </a:pPr>
            <a:endParaRPr b="0" lang="en-US" sz="2000" spc="-1" strike="noStrike">
              <a:solidFill>
                <a:schemeClr val="accent5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Write in-depth about activities undertaken that are not associated with a numeric goal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1078920" indent="-57168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CoC activities are important, so write in-depth about activities undertaken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1078920" indent="-57168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Collaboration with other cities or the local PHA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4760" y="731520"/>
            <a:ext cx="1235772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800" spc="-1" strike="noStrike">
                <a:solidFill>
                  <a:schemeClr val="accent6"/>
                </a:solidFill>
                <a:latin typeface="Arial"/>
              </a:rPr>
              <a:t>Use the Narrative Sections</a:t>
            </a:r>
            <a:br>
              <a:rPr sz="4200"/>
            </a:b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2171880"/>
            <a:ext cx="12357720" cy="72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57168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Write about changes made that may affect the way a goal is reported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1078920" indent="-57168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"/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Households vs. Individuals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marL="507600" indent="0">
              <a:lnSpc>
                <a:spcPct val="100000"/>
              </a:lnSpc>
              <a:spcBef>
                <a:spcPts val="400"/>
              </a:spcBef>
              <a:spcAft>
                <a:spcPts val="323"/>
              </a:spcAft>
              <a:buNone/>
              <a:tabLst>
                <a:tab algn="l" pos="0"/>
              </a:tabLst>
            </a:pPr>
            <a:endParaRPr b="0" lang="en-US" sz="2000" spc="-1" strike="noStrike">
              <a:solidFill>
                <a:schemeClr val="accent5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Non-HUD funds leveraged to meet overall ConPlan Goals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lvl="1" marL="1078920" indent="-57168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800" spc="-1" strike="noStrike">
                <a:solidFill>
                  <a:srgbClr val="002060"/>
                </a:solidFill>
                <a:latin typeface="Arial"/>
              </a:rPr>
              <a:t>Do you have other money that helps low-to-moderate income persons? 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marL="507600" indent="0">
              <a:lnSpc>
                <a:spcPct val="100000"/>
              </a:lnSpc>
              <a:spcBef>
                <a:spcPts val="400"/>
              </a:spcBef>
              <a:spcAft>
                <a:spcPts val="323"/>
              </a:spcAft>
              <a:buNone/>
              <a:tabLst>
                <a:tab algn="l" pos="0"/>
              </a:tabLst>
            </a:pPr>
            <a:endParaRPr b="0" lang="en-US" sz="2000" spc="-1" strike="noStrike">
              <a:solidFill>
                <a:schemeClr val="accent5"/>
              </a:solidFill>
              <a:latin typeface="Arial"/>
            </a:endParaRPr>
          </a:p>
          <a:p>
            <a:pPr lvl="1" marL="1078920" indent="-571680">
              <a:lnSpc>
                <a:spcPct val="100000"/>
              </a:lnSpc>
              <a:spcBef>
                <a:spcPts val="760"/>
              </a:spcBef>
              <a:spcAft>
                <a:spcPts val="323"/>
              </a:spcAft>
              <a:buClr>
                <a:srgbClr val="c30e2f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Arial"/>
              </a:rPr>
              <a:t>Activities undertaken that HUD may not know about that still help meet the need of your residents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None/>
              <a:tabLst>
                <a:tab algn="l" pos="0"/>
              </a:tabLst>
            </a:pP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723960"/>
            <a:ext cx="11201040" cy="12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6"/>
                </a:solidFill>
                <a:latin typeface="Arial"/>
              </a:rPr>
              <a:t>Summarize your Accomplishments with Pi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77680" y="3086280"/>
            <a:ext cx="4840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56760" indent="-35676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</a:pPr>
            <a:r>
              <a:rPr b="1" lang="en-US" sz="3800" spc="-1" strike="noStrike">
                <a:solidFill>
                  <a:schemeClr val="accent6"/>
                </a:solidFill>
                <a:latin typeface="Arial"/>
              </a:rPr>
              <a:t>Give your residents a quick snap early!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  <a:p>
            <a:pPr marL="356760" indent="-356760">
              <a:lnSpc>
                <a:spcPct val="100000"/>
              </a:lnSpc>
              <a:spcBef>
                <a:spcPts val="720"/>
              </a:spcBef>
              <a:spcAft>
                <a:spcPts val="360"/>
              </a:spcAft>
              <a:buClr>
                <a:srgbClr val="c30e2f"/>
              </a:buClr>
              <a:buFont typeface="Arial"/>
              <a:buChar char="•"/>
            </a:pPr>
            <a:r>
              <a:rPr b="1" lang="en-US" sz="3800" spc="-1" strike="noStrike">
                <a:solidFill>
                  <a:schemeClr val="accent6"/>
                </a:solidFill>
                <a:latin typeface="Arial"/>
              </a:rPr>
              <a:t>Let pictures speak for what will not be read.</a:t>
            </a:r>
            <a:endParaRPr b="0" lang="en-US" sz="3800" spc="-1" strike="noStrike">
              <a:solidFill>
                <a:schemeClr val="accent5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7696080" y="2324160"/>
            <a:ext cx="5032440" cy="6833520"/>
          </a:xfrm>
          <a:prstGeom prst="rect">
            <a:avLst/>
          </a:prstGeom>
          <a:ln w="0">
            <a:noFill/>
          </a:ln>
        </p:spPr>
      </p:pic>
      <p:sp>
        <p:nvSpPr>
          <p:cNvPr id="200" name="Right Arrow 4"/>
          <p:cNvSpPr/>
          <p:nvPr/>
        </p:nvSpPr>
        <p:spPr>
          <a:xfrm>
            <a:off x="5878440" y="4610160"/>
            <a:ext cx="1676160" cy="914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00678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210360"/>
            <a:ext cx="11734560" cy="1509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hanette Eaden –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Arial"/>
                <a:ea typeface="Arial"/>
                <a:hlinkClick r:id="rId1"/>
              </a:rPr>
              <a:t>SHANETTEE@PLANO.GOV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Natalie Evans – </a:t>
            </a:r>
            <a:r>
              <a:rPr b="0" lang="en-US" sz="4000" spc="-1" strike="noStrike" u="sng">
                <a:solidFill>
                  <a:srgbClr val="0070c0"/>
                </a:solidFill>
                <a:uFillTx/>
                <a:latin typeface="Arial"/>
                <a:ea typeface="Arial"/>
                <a:hlinkClick r:id="rId2"/>
              </a:rPr>
              <a:t>NEVANS@PLANO.GOV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Master PowerPointPlanoLogo1920x1080">
  <a:themeElements>
    <a:clrScheme name="Plano Color Palette">
      <a:dk1>
        <a:srgbClr val="000000"/>
      </a:dk1>
      <a:lt1>
        <a:srgbClr val="ffffff"/>
      </a:lt1>
      <a:dk2>
        <a:srgbClr val="c30e2f"/>
      </a:dk2>
      <a:lt2>
        <a:srgbClr val="aaaaaa"/>
      </a:lt2>
      <a:accent1>
        <a:srgbClr val="008cb9"/>
      </a:accent1>
      <a:accent2>
        <a:srgbClr val="7daf34"/>
      </a:accent2>
      <a:accent3>
        <a:srgbClr val="db9301"/>
      </a:accent3>
      <a:accent4>
        <a:srgbClr val="b4278f"/>
      </a:accent4>
      <a:accent5>
        <a:srgbClr val="5c5f64"/>
      </a:accent5>
      <a:accent6>
        <a:srgbClr val="0a2c74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ster PowerPointPlanoLogo1920x1080">
  <a:themeElements>
    <a:clrScheme name="Plano Color Palette">
      <a:dk1>
        <a:srgbClr val="000000"/>
      </a:dk1>
      <a:lt1>
        <a:srgbClr val="ffffff"/>
      </a:lt1>
      <a:dk2>
        <a:srgbClr val="c30e2f"/>
      </a:dk2>
      <a:lt2>
        <a:srgbClr val="aaaaaa"/>
      </a:lt2>
      <a:accent1>
        <a:srgbClr val="008cb9"/>
      </a:accent1>
      <a:accent2>
        <a:srgbClr val="7daf34"/>
      </a:accent2>
      <a:accent3>
        <a:srgbClr val="db9301"/>
      </a:accent3>
      <a:accent4>
        <a:srgbClr val="b4278f"/>
      </a:accent4>
      <a:accent5>
        <a:srgbClr val="5c5f64"/>
      </a:accent5>
      <a:accent6>
        <a:srgbClr val="0a2c74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ster PowerPointPlanoLogo1920x1080">
  <a:themeElements>
    <a:clrScheme name="Plano Color Palette">
      <a:dk1>
        <a:srgbClr val="000000"/>
      </a:dk1>
      <a:lt1>
        <a:srgbClr val="ffffff"/>
      </a:lt1>
      <a:dk2>
        <a:srgbClr val="c30e2f"/>
      </a:dk2>
      <a:lt2>
        <a:srgbClr val="aaaaaa"/>
      </a:lt2>
      <a:accent1>
        <a:srgbClr val="008cb9"/>
      </a:accent1>
      <a:accent2>
        <a:srgbClr val="7daf34"/>
      </a:accent2>
      <a:accent3>
        <a:srgbClr val="db9301"/>
      </a:accent3>
      <a:accent4>
        <a:srgbClr val="b4278f"/>
      </a:accent4>
      <a:accent5>
        <a:srgbClr val="5c5f64"/>
      </a:accent5>
      <a:accent6>
        <a:srgbClr val="0a2c74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aster PowerPointPlanoLogo1920x1080BLUE">
  <a:themeElements>
    <a:clrScheme name="Plano Color Palette">
      <a:dk1>
        <a:srgbClr val="000000"/>
      </a:dk1>
      <a:lt1>
        <a:srgbClr val="ffffff"/>
      </a:lt1>
      <a:dk2>
        <a:srgbClr val="c30e2f"/>
      </a:dk2>
      <a:lt2>
        <a:srgbClr val="aaaaaa"/>
      </a:lt2>
      <a:accent1>
        <a:srgbClr val="008cb9"/>
      </a:accent1>
      <a:accent2>
        <a:srgbClr val="7daf34"/>
      </a:accent2>
      <a:accent3>
        <a:srgbClr val="db9301"/>
      </a:accent3>
      <a:accent4>
        <a:srgbClr val="b4278f"/>
      </a:accent4>
      <a:accent5>
        <a:srgbClr val="5c5f64"/>
      </a:accent5>
      <a:accent6>
        <a:srgbClr val="0a2c74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30e2f"/>
      </a:dk2>
      <a:lt2>
        <a:srgbClr val="aaaaaa"/>
      </a:lt2>
      <a:accent1>
        <a:srgbClr val="008cb9"/>
      </a:accent1>
      <a:accent2>
        <a:srgbClr val="7daf34"/>
      </a:accent2>
      <a:accent3>
        <a:srgbClr val="db9301"/>
      </a:accent3>
      <a:accent4>
        <a:srgbClr val="b4278f"/>
      </a:accent4>
      <a:accent5>
        <a:srgbClr val="5c5f64"/>
      </a:accent5>
      <a:accent6>
        <a:srgbClr val="0a2c74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ster PowerPointPlanoLogo1920x1080</Template>
  <TotalTime>0</TotalTime>
  <Application>LibreOffice/7.4.7.2$Linux_X86_64 LibreOffice_project/40$Build-2</Application>
  <AppVersion>15.0000</AppVersion>
  <Words>323</Words>
  <Paragraphs>4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16:22:52Z</dcterms:created>
  <dc:creator/>
  <dc:description/>
  <dc:language>en-US</dc:language>
  <cp:lastModifiedBy/>
  <dcterms:modified xsi:type="dcterms:W3CDTF">2019-06-19T17:33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8</vt:r8>
  </property>
</Properties>
</file>