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2192000" cy="6858000"/>
  <p:notesSz cx="7010400" cy="929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CCFAE9-CF90-4B3F-A79A-AC8981261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4960" cy="31366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0920" y="4473720"/>
            <a:ext cx="5608080" cy="3660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10"/>
          </p:nvPr>
        </p:nvSpPr>
        <p:spPr>
          <a:xfrm>
            <a:off x="3970800" y="8830080"/>
            <a:ext cx="3037320" cy="46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EEB343-2E71-461A-8C76-D54CBE2AD5E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4960" cy="3136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920" y="4473720"/>
            <a:ext cx="5608080" cy="3660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19"/>
          </p:nvPr>
        </p:nvSpPr>
        <p:spPr>
          <a:xfrm>
            <a:off x="3970800" y="8830080"/>
            <a:ext cx="3037320" cy="46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DACAC1-2EFF-41B4-ADD6-C5D2AAD146D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4960" cy="3136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920" y="4473720"/>
            <a:ext cx="5608080" cy="3660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20"/>
          </p:nvPr>
        </p:nvSpPr>
        <p:spPr>
          <a:xfrm>
            <a:off x="3970800" y="8830080"/>
            <a:ext cx="3037320" cy="46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9B6814-E75C-4802-A73E-A3BF1F58EA0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4960" cy="3136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920" y="4473720"/>
            <a:ext cx="5608080" cy="3660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21"/>
          </p:nvPr>
        </p:nvSpPr>
        <p:spPr>
          <a:xfrm>
            <a:off x="3970800" y="8830080"/>
            <a:ext cx="3037320" cy="46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23742D-BC90-4E7C-9DA8-865BC114317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4960" cy="3136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920" y="4473720"/>
            <a:ext cx="5608080" cy="3660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22"/>
          </p:nvPr>
        </p:nvSpPr>
        <p:spPr>
          <a:xfrm>
            <a:off x="3970800" y="8830080"/>
            <a:ext cx="3037320" cy="46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08DA51-0C6C-40F6-A91A-3710626DAB6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4960" cy="3136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920" y="4473720"/>
            <a:ext cx="5608080" cy="3660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23"/>
          </p:nvPr>
        </p:nvSpPr>
        <p:spPr>
          <a:xfrm>
            <a:off x="3970800" y="8830080"/>
            <a:ext cx="3037320" cy="46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4AC6E2-45D0-4D62-AA65-524743A9629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4960" cy="3136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920" y="4473720"/>
            <a:ext cx="5608080" cy="3660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24"/>
          </p:nvPr>
        </p:nvSpPr>
        <p:spPr>
          <a:xfrm>
            <a:off x="3970800" y="8830080"/>
            <a:ext cx="3037320" cy="46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4B1346-2459-47FE-B0EC-EDA94FB7776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4960" cy="3136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920" y="4473720"/>
            <a:ext cx="5608080" cy="3660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25"/>
          </p:nvPr>
        </p:nvSpPr>
        <p:spPr>
          <a:xfrm>
            <a:off x="3970800" y="8830080"/>
            <a:ext cx="3037320" cy="46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0E0321-0411-4627-AB09-32B76755B97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4960" cy="31366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0920" y="4473720"/>
            <a:ext cx="5608080" cy="3660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11"/>
          </p:nvPr>
        </p:nvSpPr>
        <p:spPr>
          <a:xfrm>
            <a:off x="3970800" y="8830080"/>
            <a:ext cx="3037320" cy="46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6209AE-4552-4F41-A669-EDE6D147CA7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4960" cy="31366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0920" y="4473720"/>
            <a:ext cx="5608080" cy="3660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2"/>
          </p:nvPr>
        </p:nvSpPr>
        <p:spPr>
          <a:xfrm>
            <a:off x="3970800" y="8830080"/>
            <a:ext cx="3037320" cy="46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48DA5B-49FF-4417-BD0F-AB5E07E80A7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4960" cy="31366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0920" y="4473720"/>
            <a:ext cx="5608080" cy="3660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13"/>
          </p:nvPr>
        </p:nvSpPr>
        <p:spPr>
          <a:xfrm>
            <a:off x="3970800" y="8830080"/>
            <a:ext cx="3037320" cy="46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487C4D-D199-4698-A3D8-2B22A441BBD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4960" cy="3136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920" y="4473720"/>
            <a:ext cx="5608080" cy="3660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14"/>
          </p:nvPr>
        </p:nvSpPr>
        <p:spPr>
          <a:xfrm>
            <a:off x="3970800" y="8830080"/>
            <a:ext cx="3037320" cy="46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611FB1-6254-4B02-BB02-B578AD2A424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4960" cy="3136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920" y="4473720"/>
            <a:ext cx="5608080" cy="3660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15"/>
          </p:nvPr>
        </p:nvSpPr>
        <p:spPr>
          <a:xfrm>
            <a:off x="3970800" y="8830080"/>
            <a:ext cx="3037320" cy="46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2CA363-BB11-4715-A992-6E76729229E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4960" cy="3136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920" y="4473720"/>
            <a:ext cx="5608080" cy="3660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16"/>
          </p:nvPr>
        </p:nvSpPr>
        <p:spPr>
          <a:xfrm>
            <a:off x="3970800" y="8830080"/>
            <a:ext cx="3037320" cy="46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674B36-C13A-4A85-B24E-FFC89DA0294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4960" cy="3136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920" y="4473720"/>
            <a:ext cx="5608080" cy="3660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17"/>
          </p:nvPr>
        </p:nvSpPr>
        <p:spPr>
          <a:xfrm>
            <a:off x="3970800" y="8830080"/>
            <a:ext cx="3037320" cy="46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4FF2C8-08BC-499E-B4B0-6D3A7336711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4960" cy="3136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920" y="4473720"/>
            <a:ext cx="5608080" cy="3660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18"/>
          </p:nvPr>
        </p:nvSpPr>
        <p:spPr>
          <a:xfrm>
            <a:off x="3970800" y="8830080"/>
            <a:ext cx="3037320" cy="46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88D393-2CC2-434F-8E99-11E0BF9D6F9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DB1F-500D-48DC-A9E6-E26AA594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C40D-4518-4655-92C7-643FFA1B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5E6-3986-4408-82D8-770446D7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D78A-5A3F-496B-9BE2-6715CEFB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BD67-3887-4572-BA47-80978208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D5F4-77D8-4527-ABE7-E6BC9F60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364A-1CDC-4042-8275-26734E19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6714-EB30-4025-9B5E-C2823A88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FAF8-77FF-4C55-882D-04907E3B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D983-AE46-4937-98E5-BE81368B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BA68-1C56-452D-A7FF-17E5CC1D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75A-A7A1-4B74-918B-8941D200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87E8-EC80-4076-854F-4C54E7CB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8B04-4F7A-44B8-BAA7-6D91996F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C9B3-4447-45BA-8039-047CD6BB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1978-5D08-4693-A5FD-7C3B02CA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711D-F700-4E50-B9F0-FA7ECF3F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D8A-995D-4A85-BDB1-CED6DC88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95A-D7E2-4FF6-9F66-2485B3FE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F80-8FB7-4104-9AA3-FF1C7B35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977-771D-4FEE-8210-A5F9FA9A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CA9D-7DF5-47A4-81A5-0C510C65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CA1-A4A8-4E4E-AD82-1DE49189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9B0-4536-487D-8A05-123AA2FB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295E49-B006-45AA-8B6E-293AFD37366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6F3842-88B9-48CA-9063-9EEEF22E150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mhorr@quincyma.gov" TargetMode="External"/><Relationship Id="rId2" Type="http://schemas.openxmlformats.org/officeDocument/2006/relationships/hyperlink" Target="https://www.linkedin.com/in/quincymelissah" TargetMode="External"/><Relationship Id="rId3" Type="http://schemas.openxmlformats.org/officeDocument/2006/relationships/hyperlink" Target="https://www.linkedin.com/in/quincymelissah" TargetMode="External"/><Relationship Id="rId4" Type="http://schemas.openxmlformats.org/officeDocument/2006/relationships/hyperlink" Target="https://www.linkedin.com/in/quincymelissah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4520160" y="5398200"/>
            <a:ext cx="3292200" cy="1234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2767680" y="5539680"/>
            <a:ext cx="1085040" cy="1092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8397360" y="5460480"/>
            <a:ext cx="947520" cy="11718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1060200" y="599040"/>
            <a:ext cx="102117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44546a"/>
                </a:solidFill>
                <a:latin typeface="Calibri"/>
              </a:rPr>
              <a:t>CDBG Public Services Best Practice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4800" spc="-1" strike="noStrike">
                <a:solidFill>
                  <a:srgbClr val="44546a"/>
                </a:solidFill>
                <a:latin typeface="Calibri"/>
              </a:rPr>
              <a:t>Strategies for </a:t>
            </a:r>
            <a:r>
              <a:rPr b="1" i="1" lang="en-US" sz="4800" spc="-1" strike="noStrike">
                <a:solidFill>
                  <a:srgbClr val="44546a"/>
                </a:solidFill>
                <a:latin typeface="Calibri"/>
              </a:rPr>
              <a:t>two-way communica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4800" spc="-1" strike="noStrike">
                <a:solidFill>
                  <a:srgbClr val="44546a"/>
                </a:solidFill>
                <a:latin typeface="Calibri"/>
              </a:rPr>
              <a:t>with grantees and the commun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481400" y="3502080"/>
            <a:ext cx="9226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ented by: Melissa Pond, City of Quincy Department of Planning &amp; Community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ne 19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chemeClr val="accent5">
                    <a:lumMod val="50000"/>
                  </a:schemeClr>
                </a:solidFill>
                <a:latin typeface="Calibri Light"/>
              </a:rPr>
              <a:t>Summary of </a:t>
            </a:r>
            <a:r>
              <a:rPr b="1" i="1" lang="en-US" sz="4400" spc="-1" strike="noStrike">
                <a:solidFill>
                  <a:schemeClr val="accent5">
                    <a:lumMod val="50000"/>
                  </a:schemeClr>
                </a:solidFill>
                <a:latin typeface="Calibri Light"/>
              </a:rPr>
              <a:t>Playing by the Rules </a:t>
            </a:r>
            <a:r>
              <a:rPr b="1" lang="en-US" sz="4400" spc="-1" strike="noStrike">
                <a:solidFill>
                  <a:schemeClr val="accent5">
                    <a:lumMod val="50000"/>
                  </a:schemeClr>
                </a:solidFill>
                <a:latin typeface="Calibri Light"/>
              </a:rPr>
              <a:t>(HUD, 200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using Federal funds, the cardinal rule is: documentation… If your activities, personnel, expenditures, and results are not documented properly, from the Federal Government’s perspective, you have not done your job, regardless of accomplishments” (p vi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chemeClr val="accent5">
                    <a:lumMod val="50000"/>
                  </a:schemeClr>
                </a:solidFill>
                <a:latin typeface="Calibri Light"/>
              </a:rPr>
              <a:t>Summary of </a:t>
            </a:r>
            <a:r>
              <a:rPr b="1" i="1" lang="en-US" sz="4400" spc="-1" strike="noStrike">
                <a:solidFill>
                  <a:schemeClr val="accent5">
                    <a:lumMod val="50000"/>
                  </a:schemeClr>
                </a:solidFill>
                <a:latin typeface="Calibri Light"/>
              </a:rPr>
              <a:t>Playing by the Rules </a:t>
            </a:r>
            <a:r>
              <a:rPr b="1" lang="en-US" sz="4400" spc="-1" strike="noStrike">
                <a:solidFill>
                  <a:schemeClr val="accent5">
                    <a:lumMod val="50000"/>
                  </a:schemeClr>
                </a:solidFill>
                <a:latin typeface="Calibri Light"/>
              </a:rPr>
              <a:t>(HUD, 200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07360" indent="-20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nancial Management 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Procurement and Contracting 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Property Managemen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Record Keeping and Reporting  Requirements 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414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chemeClr val="accent5">
                    <a:lumMod val="50000"/>
                  </a:schemeClr>
                </a:solidFill>
                <a:latin typeface="Calibri Light"/>
              </a:rPr>
              <a:t>Asian Senior Cen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773640" y="1392840"/>
            <a:ext cx="100580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58400" y="20232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44546a"/>
                </a:solidFill>
                <a:latin typeface="Calibri Light"/>
              </a:rPr>
              <a:t>Counseling Ag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841400" y="1285920"/>
            <a:ext cx="89492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1180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44546a"/>
                </a:solidFill>
                <a:latin typeface="Calibri Light"/>
              </a:rPr>
              <a:t>LMA Neighborhood Cen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Content Placeholder 5" descr=""/>
          <p:cNvPicPr/>
          <p:nvPr/>
        </p:nvPicPr>
        <p:blipFill>
          <a:blip r:embed="rId1"/>
          <a:stretch/>
        </p:blipFill>
        <p:spPr>
          <a:xfrm>
            <a:off x="1901880" y="1092960"/>
            <a:ext cx="8064720" cy="55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24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chemeClr val="accent5">
                    <a:lumMod val="50000"/>
                  </a:schemeClr>
                </a:solidFill>
                <a:latin typeface="Calibri Light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121400"/>
            <a:ext cx="10515240" cy="55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03864"/>
              </a:buClr>
              <a:buFont typeface="Arial"/>
              <a:buChar char="•"/>
            </a:pPr>
            <a:r>
              <a:rPr b="0" lang="en-US" sz="36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Increase Diversity of Applicants /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Ensure Public Services Match Community Nee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203864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Specific Key Questions in the RF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203864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Annual Community Development Symposi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203864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Participating in Local Collaborative Networ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0386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Maximize Monitoring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203864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Summary of Playing by the Rules: A Handbook for CDBG Subrecipients on Administrative Systems (HUD, 2005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203864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3 Program Examples of Monitoring by Document Reque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4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chemeClr val="accent5">
                    <a:lumMod val="50000"/>
                  </a:schemeClr>
                </a:solidFill>
                <a:latin typeface="Calibri Light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121400"/>
            <a:ext cx="10515240" cy="55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Melissa Po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Principal Plann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City of Quincy, M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en-US" sz="3200" spc="-1" strike="noStrike" u="sng">
                <a:solidFill>
                  <a:schemeClr val="accent5">
                    <a:lumMod val="50000"/>
                  </a:schemeClr>
                </a:solidFill>
                <a:uFillTx/>
                <a:latin typeface="Calibri"/>
                <a:hlinkClick r:id="rId1"/>
              </a:rPr>
              <a:t>mhorr@quincyma.gov</a:t>
            </a:r>
            <a:r>
              <a:rPr b="0" i="1" lang="en-US" sz="32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617-376-105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LinkedIn: </a:t>
            </a:r>
            <a:r>
              <a:rPr b="0" lang="en-US" sz="32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s</a:t>
            </a:r>
            <a:r>
              <a:rPr b="0" lang="en-US" sz="32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://</a:t>
            </a:r>
            <a:r>
              <a:rPr b="0" lang="en-US" sz="3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linkedin.com/in/quincymelissa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4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chemeClr val="accent5">
                    <a:lumMod val="50000"/>
                  </a:schemeClr>
                </a:solidFill>
                <a:latin typeface="Calibri Light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121400"/>
            <a:ext cx="10515240" cy="55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03864"/>
              </a:buClr>
              <a:buFont typeface="Arial"/>
              <a:buChar char="•"/>
            </a:pPr>
            <a:r>
              <a:rPr b="0" lang="en-US" sz="36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Increase Diversity of Applicants /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Ensure Public Services Match Community Nee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203864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Specific Key Questions in the RF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203864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Annual Community Development Symposi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203864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Participating in Local Collaborative Networ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0386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Maximize Monitoring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203864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Summary of Playing by the Rules: A Handbook for CDBG Subrecipients on Administrative Systems (HUD, 2005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203864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en-US" sz="32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3 Program Examples of Monitoring by Document Reque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222a35"/>
                </a:solidFill>
                <a:latin typeface="Calibri Light"/>
              </a:rPr>
              <a:t>Specific Key Questions in the RF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9080" y="1709640"/>
            <a:ext cx="109267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222a35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222a35"/>
                </a:solidFill>
                <a:latin typeface="Calibri"/>
              </a:rPr>
              <a:t>Need Statemen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222a35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222a35"/>
                </a:solidFill>
                <a:latin typeface="Calibri"/>
              </a:rPr>
              <a:t>SMART Indicator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222a35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222a35"/>
                </a:solidFill>
                <a:latin typeface="Calibri"/>
              </a:rPr>
              <a:t>Empowermen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222a35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222a35"/>
                </a:solidFill>
                <a:latin typeface="Calibri"/>
              </a:rPr>
              <a:t>Outreach and Accessibilit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222a35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222a35"/>
                </a:solidFill>
                <a:latin typeface="Calibri"/>
              </a:rPr>
              <a:t>Community Collabora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222a35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222a35"/>
                </a:solidFill>
                <a:latin typeface="Calibri"/>
              </a:rPr>
              <a:t>Copy of Client Outreach Materi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0" descr=""/>
          <p:cNvPicPr/>
          <p:nvPr/>
        </p:nvPicPr>
        <p:blipFill>
          <a:blip r:embed="rId1"/>
          <a:stretch/>
        </p:blipFill>
        <p:spPr>
          <a:xfrm>
            <a:off x="7050960" y="1578600"/>
            <a:ext cx="45248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chemeClr val="accent5">
                    <a:lumMod val="50000"/>
                  </a:schemeClr>
                </a:solidFill>
                <a:latin typeface="Calibri Light"/>
              </a:rPr>
              <a:t>Annual Community Development Symposiu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353240"/>
            <a:ext cx="1051524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222a35"/>
                </a:solidFill>
                <a:latin typeface="Calibri"/>
              </a:rPr>
              <a:t>Engagement tool to bring together public service agencies for a region-wide dialogue on a specific topic related to community develop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994680" y="2325600"/>
            <a:ext cx="10358640" cy="42760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1001880" y="5802120"/>
            <a:ext cx="1573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20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rcRect l="17158" t="13998" r="14150" b="0"/>
          <a:stretch/>
        </p:blipFill>
        <p:spPr>
          <a:xfrm>
            <a:off x="73080" y="124560"/>
            <a:ext cx="7680600" cy="6851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"/>
          <p:cNvSpPr/>
          <p:nvPr/>
        </p:nvSpPr>
        <p:spPr>
          <a:xfrm>
            <a:off x="7872840" y="124560"/>
            <a:ext cx="4318560" cy="62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222a35"/>
                </a:solidFill>
                <a:latin typeface="Calibri"/>
              </a:rPr>
              <a:t>Symposium Topics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22a35"/>
              </a:buClr>
              <a:buFont typeface="Arial"/>
              <a:buChar char="•"/>
            </a:pPr>
            <a:r>
              <a:rPr b="0" lang="en-US" sz="2900" spc="-1" strike="noStrike">
                <a:solidFill>
                  <a:srgbClr val="222a35"/>
                </a:solidFill>
                <a:latin typeface="Calibri"/>
              </a:rPr>
              <a:t>Five Year Plan (2009, 2014, 2019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22a35"/>
              </a:buClr>
              <a:buFont typeface="Arial"/>
              <a:buChar char="•"/>
            </a:pPr>
            <a:r>
              <a:rPr b="0" lang="en-US" sz="2900" spc="-1" strike="noStrike">
                <a:solidFill>
                  <a:srgbClr val="222a35"/>
                </a:solidFill>
                <a:latin typeface="Calibri"/>
              </a:rPr>
              <a:t>Inclusion &amp; Disabilities (2018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22a35"/>
              </a:buClr>
              <a:buFont typeface="Arial"/>
              <a:buChar char="•"/>
            </a:pPr>
            <a:r>
              <a:rPr b="0" lang="en-US" sz="2900" spc="-1" strike="noStrike">
                <a:solidFill>
                  <a:srgbClr val="222a35"/>
                </a:solidFill>
                <a:latin typeface="Calibri"/>
              </a:rPr>
              <a:t>Literacy &amp; Screen Time (2017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22a35"/>
              </a:buClr>
              <a:buFont typeface="Arial"/>
              <a:buChar char="•"/>
            </a:pPr>
            <a:r>
              <a:rPr b="0" lang="en-US" sz="2900" spc="-1" strike="noStrike">
                <a:solidFill>
                  <a:srgbClr val="222a35"/>
                </a:solidFill>
                <a:latin typeface="Calibri"/>
              </a:rPr>
              <a:t>Childhood Health &amp; Wellness (2016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22a35"/>
              </a:buClr>
              <a:buFont typeface="Arial"/>
              <a:buChar char="•"/>
            </a:pPr>
            <a:r>
              <a:rPr b="0" lang="en-US" sz="2900" spc="-1" strike="noStrike">
                <a:solidFill>
                  <a:srgbClr val="222a35"/>
                </a:solidFill>
                <a:latin typeface="Calibri"/>
              </a:rPr>
              <a:t>Social Media (2013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22a35"/>
              </a:buClr>
              <a:buFont typeface="Arial"/>
              <a:buChar char="•"/>
            </a:pPr>
            <a:r>
              <a:rPr b="0" lang="en-US" sz="2900" spc="-1" strike="noStrike">
                <a:solidFill>
                  <a:srgbClr val="222a35"/>
                </a:solidFill>
                <a:latin typeface="Calibri"/>
              </a:rPr>
              <a:t>Opportunity Index (2012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22a35"/>
              </a:buClr>
              <a:buFont typeface="Arial"/>
              <a:buChar char="•"/>
            </a:pPr>
            <a:r>
              <a:rPr b="0" lang="en-US" sz="2900" spc="-1" strike="noStrike">
                <a:solidFill>
                  <a:srgbClr val="222a35"/>
                </a:solidFill>
                <a:latin typeface="Calibri"/>
              </a:rPr>
              <a:t>Outcome Measurement (2011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22a35"/>
              </a:buClr>
              <a:buFont typeface="Arial"/>
              <a:buChar char="•"/>
            </a:pPr>
            <a:r>
              <a:rPr b="0" lang="en-US" sz="2900" spc="-1" strike="noStrike">
                <a:solidFill>
                  <a:srgbClr val="222a35"/>
                </a:solidFill>
                <a:latin typeface="Calibri"/>
              </a:rPr>
              <a:t>Volunteerism (2010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chemeClr val="accent5">
                    <a:lumMod val="50000"/>
                  </a:schemeClr>
                </a:solidFill>
                <a:latin typeface="Calibri Light"/>
              </a:rPr>
              <a:t>Participating in Local Collaborative Network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ordinated Family and Community Engagement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y Health Network Alli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th Shore Hunger Networ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Image result for family black and white png"/>
          <p:cNvPicPr/>
          <p:nvPr/>
        </p:nvPicPr>
        <p:blipFill>
          <a:blip r:embed="rId1"/>
          <a:stretch/>
        </p:blipFill>
        <p:spPr>
          <a:xfrm>
            <a:off x="331560" y="1617480"/>
            <a:ext cx="805320" cy="667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mage result for hunger black and white png"/>
          <p:cNvPicPr/>
          <p:nvPr/>
        </p:nvPicPr>
        <p:blipFill>
          <a:blip r:embed="rId2"/>
          <a:stretch/>
        </p:blipFill>
        <p:spPr>
          <a:xfrm>
            <a:off x="374040" y="3768480"/>
            <a:ext cx="720720" cy="723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Image result for health black and white png"/>
          <p:cNvPicPr/>
          <p:nvPr/>
        </p:nvPicPr>
        <p:blipFill>
          <a:blip r:embed="rId3"/>
          <a:stretch/>
        </p:blipFill>
        <p:spPr>
          <a:xfrm>
            <a:off x="451440" y="2569320"/>
            <a:ext cx="643320" cy="763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4"/>
          <a:stretch/>
        </p:blipFill>
        <p:spPr>
          <a:xfrm>
            <a:off x="7120440" y="2905200"/>
            <a:ext cx="3961800" cy="29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222a35"/>
                </a:solidFill>
                <a:latin typeface="Calibri Light"/>
              </a:rPr>
              <a:t>Coordinated Family and Community Engagement (CFCE)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898720" y="1833480"/>
            <a:ext cx="639432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222a35"/>
                </a:solidFill>
                <a:latin typeface="Calibri Light"/>
              </a:rPr>
              <a:t>Community Health Network Allia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5" descr=""/>
          <p:cNvPicPr/>
          <p:nvPr/>
        </p:nvPicPr>
        <p:blipFill>
          <a:blip r:embed="rId1"/>
          <a:stretch/>
        </p:blipFill>
        <p:spPr>
          <a:xfrm>
            <a:off x="2521800" y="1332000"/>
            <a:ext cx="714852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222a35"/>
                </a:solidFill>
                <a:latin typeface="Calibri Light"/>
              </a:rPr>
              <a:t>South Shore Hunger Networ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Content Placeholder 7" descr="Certificate of Recognition SSHN [Compatibility Mode] - Word"/>
          <p:cNvPicPr/>
          <p:nvPr/>
        </p:nvPicPr>
        <p:blipFill>
          <a:blip r:embed="rId1"/>
          <a:srcRect l="34792" t="27603" r="17410" b="12719"/>
          <a:stretch/>
        </p:blipFill>
        <p:spPr>
          <a:xfrm>
            <a:off x="2587680" y="1690560"/>
            <a:ext cx="7168680" cy="4881960"/>
          </a:xfrm>
          <a:prstGeom prst="rect">
            <a:avLst/>
          </a:prstGeom>
          <a:ln cap="sq" w="2286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</TotalTime>
  <Application>LibreOffice/7.4.7.2$Linux_X86_64 LibreOffice_project/40$Build-2</Application>
  <AppVersion>15.0000</AppVersion>
  <Words>418</Words>
  <Paragraphs>90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9T15:10:56Z</dcterms:created>
  <dc:creator>MELISSA HORR</dc:creator>
  <dc:description/>
  <dc:language>en-US</dc:language>
  <cp:lastModifiedBy>MELISSA HORR</cp:lastModifiedBy>
  <cp:lastPrinted>2019-06-11T16:33:27Z</cp:lastPrinted>
  <dcterms:modified xsi:type="dcterms:W3CDTF">2019-06-13T19:51:39Z</dcterms:modified>
  <cp:revision>1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6</vt:r8>
  </property>
  <property fmtid="{D5CDD505-2E9C-101B-9397-08002B2CF9AE}" pid="3" name="PresentationFormat">
    <vt:lpwstr>Widescreen</vt:lpwstr>
  </property>
  <property fmtid="{D5CDD505-2E9C-101B-9397-08002B2CF9AE}" pid="4" name="Slides">
    <vt:r8>16</vt:r8>
  </property>
</Properties>
</file>