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FFD-850A-48F1-B922-E218A6AF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4440" y="459828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3D3-8E8E-4A6A-ABBC-0AE42D26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0900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E16B-27DA-4E3C-B333-7702EB1B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5036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78592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444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5036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78592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C4B-590C-48B2-A2F9-9F5B8CEB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C891-060B-4A4E-B59E-93970FE5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14440" y="3742200"/>
            <a:ext cx="779580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9278-2BD1-4CDA-BCCB-55F574AB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779580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B5EA-1BE2-4F0B-8313-D1802B3B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4E4B-3097-4C38-8100-C7B58590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A020-E6BC-49C0-81EF-CAA33939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1229400"/>
            <a:ext cx="7795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8AF6-95EC-4A51-95F6-69B6D50F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F0AC-C410-4284-B33A-BDB40C34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14440" y="3742200"/>
            <a:ext cx="779580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7765-7468-4F7E-88B8-E7DA2765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0900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4FB5-06DB-4BBE-9831-9692C80E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3A0F-2EF2-4623-95C0-6ADAAA47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4440" y="459828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E7B9-044B-44C0-8A16-AD52FC90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0900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D1DF-D63D-4D38-A262-9BDB4ABF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5036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8592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444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5036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8592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4A8F-5932-4062-8BF1-B568FD75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CE282-8D89-4D17-AF9E-1452B071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14440" y="3742200"/>
            <a:ext cx="779580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5001E-BB75-42FA-854B-1434242C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779580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774AB-F73B-463C-A49A-6151C891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2198-FD19-466F-A804-25A35431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1AD87-9625-4ECD-AD10-94FA5828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779580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30E-38A0-4574-BDBF-5196872A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14440" y="1229400"/>
            <a:ext cx="7795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FF5D5-3568-4F90-B5B4-1AF43358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F4CDD-6467-4344-A6B3-B2669FFF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0900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670E5-ADFB-4769-8CE8-C61785B8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08B5-8DC0-4C8E-9D9C-AC746330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4440" y="459828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06726-1B61-4192-85F9-5767660B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0900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3782-F07E-46F9-8590-07E8F600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5036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78592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444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15036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78592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A5F0F-8ACF-47BE-B38D-C851F614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F9BAC-4C7D-409A-8632-AE797E9A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14440" y="3742200"/>
            <a:ext cx="779580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BC55D-BF35-4EA4-8FEA-A7E85609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779580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EFE1D-60B2-4F62-9B92-0DE0E10A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0B9C-E978-406D-B2F9-10909452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299CA-180A-4760-AD04-4F7AADC7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58E17-A19D-4170-9491-B5BBFA5C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14440" y="1229400"/>
            <a:ext cx="7795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BB652-4DFC-4915-8554-F6738A87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F5D44-6EEC-4D63-85F0-89C6F5E9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0900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4594D-2D66-4DB5-8542-C4F756FA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4F275-92FE-472F-AC3B-0E277071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440" y="459828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CA808-338F-4BF8-B26E-2091EF7D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0900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3CB0A-D5E0-4D80-BDBA-435F3D98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15036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8592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1444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15036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78592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3B842-63B8-4312-A23A-745B4BDE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4252B-16FE-4ACE-986A-D4CA17A0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ACB-3482-4F83-A662-CF6B231B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14440" y="3742200"/>
            <a:ext cx="779580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E7303-972C-4866-84CD-3896B1D7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779580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514BC-C370-4AEB-B500-40130AF9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FF5DF-DAA6-4FB3-B45A-5BF4B2DC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B5104-2C09-4245-B7E8-9DB6A243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14440" y="1229400"/>
            <a:ext cx="7795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A1942-B7BE-4F56-B7C0-A6423E07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73323-8C1D-45F3-BE09-DF77C85B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0900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A0A39-09D7-42E0-BA3D-2CF6A651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82582-4669-494B-8765-1F21775A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4440" y="459828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8ED01-6890-4DEE-9B5F-39C10421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0900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AD5BA-DA7D-46DF-A423-7030ADE2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514440" y="1229400"/>
            <a:ext cx="7795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CD0-27F8-46E6-B7ED-0DB21F79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15036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78592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1444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15036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78592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14345-DECA-4F6D-83BB-0A8FF238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41CED-CB4B-4825-8B9C-49FDEAF8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514440" y="3742200"/>
            <a:ext cx="779580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652C0-D5F7-482D-B471-DA707879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779580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F44BC-4AE5-4C24-9B96-5484ABD1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F052C-0BE6-4D06-AC5E-DD06E56E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DDA69-F3A9-4F41-8893-CA81EA76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514440" y="1229400"/>
            <a:ext cx="7795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26461-BF5C-4834-AF8A-665BC2B4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C8A8B-AAF6-4185-A8EE-0538F0DC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0900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5B28D-4E89-4369-8FD4-46B1015A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6DA80-67CB-4A80-9709-52ED880B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E39-8CA6-4D4D-9338-C6957974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4440" y="459828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0F1BE-FD0C-47A4-8E85-7606157C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0900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D06F9-F157-41D3-89BA-CB6DD565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5036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785920" y="374220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1444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15036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785920" y="4598280"/>
            <a:ext cx="25099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98C1E-40E9-460D-8AD4-29DB2046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16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9000" y="459828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A8D-361F-44B6-85BC-D18F3D5E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09000" y="3742200"/>
            <a:ext cx="380412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4440" y="4598280"/>
            <a:ext cx="7795800" cy="7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4F9-B2F5-4BA8-B02E-5A4F4A0B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9"/>
          <p:cNvGrpSpPr/>
          <p:nvPr/>
        </p:nvGrpSpPr>
        <p:grpSpPr>
          <a:xfrm>
            <a:off x="-19080" y="0"/>
            <a:ext cx="9003600" cy="6643800"/>
            <a:chOff x="-19080" y="0"/>
            <a:chExt cx="9003600" cy="6643800"/>
          </a:xfrm>
        </p:grpSpPr>
        <p:sp useBgFill="1">
          <p:nvSpPr>
            <p:cNvPr id="2" name="Rectangle 10"/>
            <p:cNvSpPr/>
            <p:nvPr/>
          </p:nvSpPr>
          <p:spPr>
            <a:xfrm>
              <a:off x="0" y="0"/>
              <a:ext cx="89845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2"/>
            <p:cNvSpPr/>
            <p:nvPr/>
          </p:nvSpPr>
          <p:spPr>
            <a:xfrm>
              <a:off x="0" y="5600160"/>
              <a:ext cx="877968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-19080" y="0"/>
              <a:ext cx="8829720" cy="641916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icture 7" descr="Brickwork-SD-R1acrop.jpg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 useBgFill="1">
        <p:nvSpPr>
          <p:cNvPr id="6" name="Freeform 12"/>
          <p:cNvSpPr/>
          <p:nvPr/>
        </p:nvSpPr>
        <p:spPr>
          <a:xfrm>
            <a:off x="-8640" y="-16920"/>
            <a:ext cx="8754120" cy="6451200"/>
          </a:xfrm>
          <a:custGeom>
            <a:avLst/>
            <a:gdLst>
              <a:gd name="textAreaLeft" fmla="*/ 0 w 8754120"/>
              <a:gd name="textAreaRight" fmla="*/ 8754480 w 8754120"/>
              <a:gd name="textAreaTop" fmla="*/ 0 h 6451200"/>
              <a:gd name="textAreaBottom" fmla="*/ 6451560 h 6451200"/>
            </a:gdLst>
            <a:ahLst/>
            <a:rect l="textAreaLeft" t="textAreaTop" r="textAreaRight" b="textAreaBottom"/>
            <a:pathLst>
              <a:path w="8754534" h="6451600">
                <a:moveTo>
                  <a:pt x="8373534" y="0"/>
                </a:moveTo>
                <a:lnTo>
                  <a:pt x="8754534" y="5994400"/>
                </a:lnTo>
                <a:lnTo>
                  <a:pt x="0" y="6451600"/>
                </a:lnTo>
                <a:lnTo>
                  <a:pt x="0" y="0"/>
                </a:lnTo>
                <a:lnTo>
                  <a:pt x="8373534" y="0"/>
                </a:lnTo>
                <a:close/>
              </a:path>
            </a:pathLst>
          </a:custGeom>
          <a:ln>
            <a:noFill/>
          </a:ln>
          <a:effectLst>
            <a:outerShdw algn="tl" blurRad="98280" dir="4391803" dist="75963" rotWithShape="0">
              <a:srgbClr val="000000">
                <a:alpha val="68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22"/>
          <p:cNvSpPr/>
          <p:nvPr/>
        </p:nvSpPr>
        <p:spPr>
          <a:xfrm>
            <a:off x="-10440" y="4444920"/>
            <a:ext cx="8464320" cy="1715400"/>
          </a:xfrm>
          <a:custGeom>
            <a:avLst/>
            <a:gdLst>
              <a:gd name="textAreaLeft" fmla="*/ 0 w 8464320"/>
              <a:gd name="textAreaRight" fmla="*/ 8464680 w 8464320"/>
              <a:gd name="textAreaTop" fmla="*/ 0 h 1715400"/>
              <a:gd name="textAreaBottom" fmla="*/ 1715760 h 1715400"/>
            </a:gdLst>
            <a:ahLst/>
            <a:rect l="textAreaLeft" t="textAreaTop" r="textAreaRight" b="textAreaBottom"/>
            <a:pathLst>
              <a:path w="8428428" h="1878553">
                <a:moveTo>
                  <a:pt x="0" y="438229"/>
                </a:moveTo>
                <a:lnTo>
                  <a:pt x="8343246" y="0"/>
                </a:lnTo>
                <a:lnTo>
                  <a:pt x="8428428" y="1424838"/>
                </a:lnTo>
                <a:lnTo>
                  <a:pt x="7515" y="1878553"/>
                </a:lnTo>
                <a:lnTo>
                  <a:pt x="0" y="438229"/>
                </a:lnTo>
                <a:close/>
              </a:path>
            </a:pathLst>
          </a:custGeom>
          <a:gradFill rotWithShape="0">
            <a:gsLst>
              <a:gs pos="0">
                <a:srgbClr val="b80e0f"/>
              </a:gs>
              <a:gs pos="100000">
                <a:srgbClr val="5c0707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28"/>
          <p:cNvSpPr/>
          <p:nvPr/>
        </p:nvSpPr>
        <p:spPr>
          <a:xfrm>
            <a:off x="-2880" y="0"/>
            <a:ext cx="5810760" cy="321120"/>
          </a:xfrm>
          <a:custGeom>
            <a:avLst/>
            <a:gdLst>
              <a:gd name="textAreaLeft" fmla="*/ 0 w 5810760"/>
              <a:gd name="textAreaRight" fmla="*/ 5811120 w 5810760"/>
              <a:gd name="textAreaTop" fmla="*/ 0 h 321120"/>
              <a:gd name="textAreaBottom" fmla="*/ 321480 h 321120"/>
            </a:gdLst>
            <a:ahLst/>
            <a:rect l="textAreaLeft" t="textAreaTop" r="textAreaRight" b="textAreaBottom"/>
            <a:pathLst>
              <a:path w="5811235" h="321615">
                <a:moveTo>
                  <a:pt x="0" y="0"/>
                </a:moveTo>
                <a:lnTo>
                  <a:pt x="5811235" y="0"/>
                </a:lnTo>
                <a:lnTo>
                  <a:pt x="1" y="321615"/>
                </a:lnTo>
                <a:cubicBezTo>
                  <a:pt x="1" y="214410"/>
                  <a:pt x="0" y="107205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b80e0f"/>
              </a:gs>
              <a:gs pos="100000">
                <a:srgbClr val="5c0707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29"/>
          <p:cNvSpPr/>
          <p:nvPr/>
        </p:nvSpPr>
        <p:spPr>
          <a:xfrm rot="21420000">
            <a:off x="-170640" y="212760"/>
            <a:ext cx="8480160" cy="5745600"/>
          </a:xfrm>
          <a:custGeom>
            <a:avLst/>
            <a:gdLst>
              <a:gd name="textAreaLeft" fmla="*/ 0 w 8480160"/>
              <a:gd name="textAreaRight" fmla="*/ 8480520 w 8480160"/>
              <a:gd name="textAreaTop" fmla="*/ 0 h 5745600"/>
              <a:gd name="textAreaBottom" fmla="*/ 5745960 h 5745600"/>
            </a:gdLst>
            <a:ahLst/>
            <a:rect l="textAreaLeft" t="textAreaTop" r="textAreaRight" b="textAreaBottom"/>
            <a:pathLst>
              <a:path w="11307378" h="5746008">
                <a:moveTo>
                  <a:pt x="11270997" y="0"/>
                </a:moveTo>
                <a:lnTo>
                  <a:pt x="11307378" y="5746008"/>
                </a:lnTo>
                <a:lnTo>
                  <a:pt x="1" y="5743137"/>
                </a:lnTo>
              </a:path>
            </a:pathLst>
          </a:custGeom>
          <a:noFill/>
          <a:ln w="82550">
            <a:solidFill>
              <a:srgbClr val="000000">
                <a:lumMod val="50000"/>
                <a:lumOff val="50000"/>
              </a:srgbClr>
            </a:solidFill>
            <a:miter/>
          </a:ln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 rot="21420000">
            <a:off x="451080" y="668160"/>
            <a:ext cx="7533000" cy="276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7200" spc="-1" strike="noStrike" cap="all">
                <a:solidFill>
                  <a:schemeClr val="accent1"/>
                </a:solidFill>
                <a:latin typeface="Impact"/>
              </a:rPr>
              <a:t>Click to edit Master title style</a:t>
            </a:r>
            <a:endParaRPr b="0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 rot="21420000">
            <a:off x="3668760" y="4714200"/>
            <a:ext cx="4607280" cy="94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4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 rot="21420000">
            <a:off x="-11880" y="4954680"/>
            <a:ext cx="2986560" cy="91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 rot="21420000">
            <a:off x="7401240" y="3819600"/>
            <a:ext cx="6800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400" spc="-1" strike="noStrike" cap="all">
                <a:solidFill>
                  <a:srgbClr val="40404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FD1A02-FF4D-465D-81FC-B868844B72A1}" type="slidenum">
              <a:rPr b="0" lang="en-US" sz="2400" spc="-1" strike="noStrike" cap="all">
                <a:solidFill>
                  <a:srgbClr val="404040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5-Point Star 32"/>
          <p:cNvSpPr/>
          <p:nvPr/>
        </p:nvSpPr>
        <p:spPr>
          <a:xfrm rot="21420000">
            <a:off x="3121920" y="5056920"/>
            <a:ext cx="515160" cy="515160"/>
          </a:xfrm>
          <a:prstGeom prst="star5">
            <a:avLst>
              <a:gd name="adj" fmla="val 26693"/>
              <a:gd name="hf" fmla="val 105146"/>
              <a:gd name="vf" fmla="val 110557"/>
            </a:avLst>
          </a:prstGeom>
          <a:solidFill>
            <a:schemeClr val="tx1">
              <a:alpha val="40000"/>
            </a:schemeClr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 cap="all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9"/>
          <p:cNvGrpSpPr/>
          <p:nvPr/>
        </p:nvGrpSpPr>
        <p:grpSpPr>
          <a:xfrm>
            <a:off x="-19080" y="0"/>
            <a:ext cx="9003600" cy="6643800"/>
            <a:chOff x="-19080" y="0"/>
            <a:chExt cx="9003600" cy="6643800"/>
          </a:xfrm>
        </p:grpSpPr>
        <p:sp useBgFill="1">
          <p:nvSpPr>
            <p:cNvPr id="54" name="Rectangle 10"/>
            <p:cNvSpPr/>
            <p:nvPr/>
          </p:nvSpPr>
          <p:spPr>
            <a:xfrm>
              <a:off x="0" y="0"/>
              <a:ext cx="89845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2"/>
            <p:cNvSpPr/>
            <p:nvPr/>
          </p:nvSpPr>
          <p:spPr>
            <a:xfrm>
              <a:off x="0" y="5600160"/>
              <a:ext cx="877968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1"/>
            <p:cNvSpPr/>
            <p:nvPr/>
          </p:nvSpPr>
          <p:spPr>
            <a:xfrm>
              <a:off x="-19080" y="0"/>
              <a:ext cx="8829720" cy="641916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dt" idx="4"/>
          </p:nvPr>
        </p:nvSpPr>
        <p:spPr>
          <a:xfrm>
            <a:off x="5473440" y="5757480"/>
            <a:ext cx="28382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5"/>
          </p:nvPr>
        </p:nvSpPr>
        <p:spPr>
          <a:xfrm>
            <a:off x="514440" y="5757480"/>
            <a:ext cx="41245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6"/>
          </p:nvPr>
        </p:nvSpPr>
        <p:spPr>
          <a:xfrm>
            <a:off x="4715280" y="5757480"/>
            <a:ext cx="6800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B6D7DB7-4730-4A9E-8C05-B130D565B740}" type="slidenum">
              <a: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 cap="all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9"/>
          <p:cNvGrpSpPr/>
          <p:nvPr/>
        </p:nvGrpSpPr>
        <p:grpSpPr>
          <a:xfrm>
            <a:off x="-19080" y="0"/>
            <a:ext cx="9003600" cy="6643800"/>
            <a:chOff x="-19080" y="0"/>
            <a:chExt cx="9003600" cy="6643800"/>
          </a:xfrm>
        </p:grpSpPr>
        <p:sp useBgFill="1">
          <p:nvSpPr>
            <p:cNvPr id="100" name="Rectangle 10"/>
            <p:cNvSpPr/>
            <p:nvPr/>
          </p:nvSpPr>
          <p:spPr>
            <a:xfrm>
              <a:off x="0" y="0"/>
              <a:ext cx="89845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0" y="5600160"/>
              <a:ext cx="877968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-19080" y="0"/>
              <a:ext cx="8829720" cy="641916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 cap="all">
                <a:solidFill>
                  <a:schemeClr val="accent1"/>
                </a:solidFill>
                <a:latin typeface="Impac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09480" y="2160720"/>
            <a:ext cx="3087720" cy="388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Edit Master text styles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600" spc="-1" strike="noStrike" cap="all">
                <a:solidFill>
                  <a:srgbClr val="000000"/>
                </a:solidFill>
                <a:latin typeface="Impact"/>
              </a:rPr>
              <a:t>Second level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Third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200" spc="-1" strike="noStrike" cap="all">
                <a:solidFill>
                  <a:srgbClr val="000000"/>
                </a:solidFill>
                <a:latin typeface="Impact"/>
              </a:rPr>
              <a:t>Fourth level</a:t>
            </a:r>
            <a:endParaRPr b="0" lang="en-US" sz="1200" spc="-1" strike="noStrike" cap="all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200" spc="-1" strike="noStrike" cap="all">
                <a:solidFill>
                  <a:srgbClr val="000000"/>
                </a:solidFill>
                <a:latin typeface="Impact"/>
              </a:rPr>
              <a:t>Fifth level</a:t>
            </a:r>
            <a:endParaRPr b="0" lang="en-US" sz="12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body"/>
          </p:nvPr>
        </p:nvSpPr>
        <p:spPr>
          <a:xfrm>
            <a:off x="3869280" y="2160720"/>
            <a:ext cx="3087720" cy="388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Edit Master text styles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600" spc="-1" strike="noStrike" cap="all">
                <a:solidFill>
                  <a:srgbClr val="000000"/>
                </a:solidFill>
                <a:latin typeface="Impact"/>
              </a:rPr>
              <a:t>Second level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Third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200" spc="-1" strike="noStrike" cap="all">
                <a:solidFill>
                  <a:srgbClr val="000000"/>
                </a:solidFill>
                <a:latin typeface="Impact"/>
              </a:rPr>
              <a:t>Fourth level</a:t>
            </a:r>
            <a:endParaRPr b="0" lang="en-US" sz="1200" spc="-1" strike="noStrike" cap="all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200" spc="-1" strike="noStrike" cap="all">
                <a:solidFill>
                  <a:srgbClr val="000000"/>
                </a:solidFill>
                <a:latin typeface="Impact"/>
              </a:rPr>
              <a:t>Fifth level</a:t>
            </a:r>
            <a:endParaRPr b="0" lang="en-US" sz="12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7"/>
          </p:nvPr>
        </p:nvSpPr>
        <p:spPr>
          <a:xfrm>
            <a:off x="5473440" y="5757480"/>
            <a:ext cx="28382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514440" y="5757480"/>
            <a:ext cx="41245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4715280" y="5757480"/>
            <a:ext cx="6800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9223AB3-933F-4F21-83E1-7C8BBB90678B}" type="slidenum">
              <a: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9"/>
          <p:cNvGrpSpPr/>
          <p:nvPr/>
        </p:nvGrpSpPr>
        <p:grpSpPr>
          <a:xfrm>
            <a:off x="-19080" y="0"/>
            <a:ext cx="9003600" cy="6643800"/>
            <a:chOff x="-19080" y="0"/>
            <a:chExt cx="9003600" cy="6643800"/>
          </a:xfrm>
        </p:grpSpPr>
        <p:sp useBgFill="1">
          <p:nvSpPr>
            <p:cNvPr id="147" name="Rectangle 10"/>
            <p:cNvSpPr/>
            <p:nvPr/>
          </p:nvSpPr>
          <p:spPr>
            <a:xfrm>
              <a:off x="0" y="0"/>
              <a:ext cx="89845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0" y="5600160"/>
              <a:ext cx="877968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-19080" y="0"/>
              <a:ext cx="8829720" cy="641916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 cap="all">
                <a:solidFill>
                  <a:schemeClr val="accent1"/>
                </a:solidFill>
                <a:latin typeface="Impac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14440" y="2063520"/>
            <a:ext cx="7797240" cy="33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Edit Master text styles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Second level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600" spc="-1" strike="noStrike" cap="all">
                <a:solidFill>
                  <a:srgbClr val="000000"/>
                </a:solidFill>
                <a:latin typeface="Impact"/>
              </a:rPr>
              <a:t>Third level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Fourth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Fifth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473440" y="5757480"/>
            <a:ext cx="28382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14440" y="5757480"/>
            <a:ext cx="41245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715280" y="5757480"/>
            <a:ext cx="6800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9A8EF72-D092-4F76-8DEF-19FD063D085E}" type="slidenum">
              <a: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9"/>
          <p:cNvGrpSpPr/>
          <p:nvPr/>
        </p:nvGrpSpPr>
        <p:grpSpPr>
          <a:xfrm>
            <a:off x="-19080" y="0"/>
            <a:ext cx="9003600" cy="6643800"/>
            <a:chOff x="-19080" y="0"/>
            <a:chExt cx="9003600" cy="6643800"/>
          </a:xfrm>
        </p:grpSpPr>
        <p:sp useBgFill="1">
          <p:nvSpPr>
            <p:cNvPr id="193" name="Rectangle 10"/>
            <p:cNvSpPr/>
            <p:nvPr/>
          </p:nvSpPr>
          <p:spPr>
            <a:xfrm>
              <a:off x="0" y="0"/>
              <a:ext cx="89845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0" y="5600160"/>
              <a:ext cx="877968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"/>
            <p:cNvSpPr/>
            <p:nvPr/>
          </p:nvSpPr>
          <p:spPr>
            <a:xfrm>
              <a:off x="-19080" y="0"/>
              <a:ext cx="8829720" cy="641916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1498680"/>
            <a:ext cx="2790000" cy="127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2000" spc="-1" strike="noStrike" cap="all">
                <a:solidFill>
                  <a:schemeClr val="accent1"/>
                </a:solidFill>
                <a:latin typeface="Impact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3571200" y="514800"/>
            <a:ext cx="3385800" cy="55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Edit Master text styles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Second level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600" spc="-1" strike="noStrike" cap="all">
                <a:solidFill>
                  <a:srgbClr val="000000"/>
                </a:solidFill>
                <a:latin typeface="Impact"/>
              </a:rPr>
              <a:t>Third level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Fourth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Fifth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body"/>
          </p:nvPr>
        </p:nvSpPr>
        <p:spPr>
          <a:xfrm>
            <a:off x="609480" y="2777040"/>
            <a:ext cx="2790000" cy="25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Edit Master text styles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dt" idx="13"/>
          </p:nvPr>
        </p:nvSpPr>
        <p:spPr>
          <a:xfrm>
            <a:off x="5473440" y="5757480"/>
            <a:ext cx="28382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514440" y="5757480"/>
            <a:ext cx="41245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715280" y="5757480"/>
            <a:ext cx="6800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C47EAA4-AC5D-43DF-8A4D-147A1B40C7E1}" type="slidenum">
              <a: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Brickwork-SD-R1acrop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9"/>
          <p:cNvGrpSpPr/>
          <p:nvPr/>
        </p:nvGrpSpPr>
        <p:grpSpPr>
          <a:xfrm>
            <a:off x="-19080" y="0"/>
            <a:ext cx="9003600" cy="6643800"/>
            <a:chOff x="-19080" y="0"/>
            <a:chExt cx="9003600" cy="6643800"/>
          </a:xfrm>
        </p:grpSpPr>
        <p:sp useBgFill="1">
          <p:nvSpPr>
            <p:cNvPr id="240" name="Rectangle 10"/>
            <p:cNvSpPr/>
            <p:nvPr/>
          </p:nvSpPr>
          <p:spPr>
            <a:xfrm>
              <a:off x="0" y="0"/>
              <a:ext cx="89845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"/>
            <p:cNvSpPr/>
            <p:nvPr/>
          </p:nvSpPr>
          <p:spPr>
            <a:xfrm>
              <a:off x="0" y="5600160"/>
              <a:ext cx="877968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"/>
            <p:cNvSpPr/>
            <p:nvPr/>
          </p:nvSpPr>
          <p:spPr>
            <a:xfrm>
              <a:off x="-19080" y="0"/>
              <a:ext cx="8829720" cy="6419160"/>
            </a:xfrm>
            <a:custGeom>
              <a:avLst/>
              <a:gdLst>
                <a:gd name="textAreaLeft" fmla="*/ 0 w 8829720"/>
                <a:gd name="textAreaRight" fmla="*/ 8830080 w 882972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 cap="all">
                <a:solidFill>
                  <a:schemeClr val="accent1"/>
                </a:solidFill>
                <a:latin typeface="Impact"/>
              </a:rPr>
              <a:t>Click to edit Master title style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514440" y="3742200"/>
            <a:ext cx="7795800" cy="163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 cap="all">
                <a:solidFill>
                  <a:srgbClr val="808080"/>
                </a:solidFill>
                <a:latin typeface="Impact"/>
              </a:rPr>
              <a:t>Edit Master text styles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5473440" y="5757480"/>
            <a:ext cx="28382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14440" y="5757480"/>
            <a:ext cx="41245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4715280" y="5757480"/>
            <a:ext cx="6800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97F7C9A-070F-431D-B3E9-D9DFA0F5023F}" type="slidenum">
              <a:rPr b="0" lang="en-US" sz="28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 rot="21420000">
            <a:off x="451080" y="668160"/>
            <a:ext cx="7533000" cy="276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0000"/>
          </a:bodyPr>
          <a:p>
            <a:pPr indent="0" algn="r">
              <a:lnSpc>
                <a:spcPct val="90000"/>
              </a:lnSpc>
              <a:buNone/>
            </a:pPr>
            <a:br>
              <a:rPr sz="7200"/>
            </a:br>
            <a:r>
              <a:rPr b="0" lang="en-US" sz="7200" spc="-1" strike="noStrike" cap="all">
                <a:solidFill>
                  <a:schemeClr val="accent1"/>
                </a:solidFill>
                <a:latin typeface="Impact"/>
              </a:rPr>
              <a:t> </a:t>
            </a:r>
            <a:br>
              <a:rPr sz="7200"/>
            </a:br>
            <a:br>
              <a:rPr sz="7200"/>
            </a:br>
            <a:r>
              <a:rPr b="0" lang="en-US" sz="7200" spc="-1" strike="noStrike" cap="all">
                <a:solidFill>
                  <a:schemeClr val="accent1"/>
                </a:solidFill>
                <a:latin typeface="Impact"/>
              </a:rPr>
              <a:t> 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 rot="21420000">
            <a:off x="554040" y="3446640"/>
            <a:ext cx="7511760" cy="5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400" spc="-1" strike="noStrike" cap="all">
                <a:solidFill>
                  <a:srgbClr val="808080"/>
                </a:solidFill>
                <a:latin typeface="Impact"/>
              </a:rPr>
              <a:t>Small Grant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400" spc="-1" strike="noStrike" cap="all">
                <a:solidFill>
                  <a:srgbClr val="808080"/>
                </a:solidFill>
                <a:latin typeface="Impact"/>
              </a:rPr>
              <a:t>City of Muskegon, Michi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400" spc="-1" strike="noStrike" cap="all">
                <a:solidFill>
                  <a:srgbClr val="808080"/>
                </a:solidFill>
                <a:latin typeface="Impact"/>
              </a:rPr>
              <a:t>Oneata Bai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https://s3.amazonaws.com/uploads.webconnex.com/13923/ncda%2050th%20anniver-ary%20jax%20logo-%2004-30-2019.jpg?1556636794074"/>
          <p:cNvPicPr/>
          <p:nvPr/>
        </p:nvPicPr>
        <p:blipFill>
          <a:blip r:embed="rId1"/>
          <a:stretch/>
        </p:blipFill>
        <p:spPr>
          <a:xfrm>
            <a:off x="2178720" y="1910160"/>
            <a:ext cx="4457520" cy="11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2286000" y="1109160"/>
            <a:ext cx="4571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5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3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" descr="image001"/>
          <p:cNvPicPr/>
          <p:nvPr/>
        </p:nvPicPr>
        <p:blipFill>
          <a:blip r:embed="rId1"/>
          <a:stretch/>
        </p:blipFill>
        <p:spPr>
          <a:xfrm>
            <a:off x="3607560" y="1889640"/>
            <a:ext cx="1928520" cy="2782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 rot="21420000">
            <a:off x="451080" y="668160"/>
            <a:ext cx="7533000" cy="276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7200" spc="-1" strike="noStrike" cap="all">
                <a:solidFill>
                  <a:schemeClr val="accent1"/>
                </a:solidFill>
                <a:latin typeface="Impact"/>
              </a:rPr>
              <a:t>4 Key Ways</a:t>
            </a:r>
            <a:endParaRPr b="0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 rot="21420000">
            <a:off x="530640" y="3446640"/>
            <a:ext cx="7511760" cy="5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400" spc="-1" strike="noStrike" cap="all">
                <a:solidFill>
                  <a:srgbClr val="808080"/>
                </a:solidFill>
                <a:latin typeface="Impact"/>
              </a:rPr>
              <a:t>Use Neighborhood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400" spc="-1" strike="noStrike" cap="all">
                <a:solidFill>
                  <a:srgbClr val="808080"/>
                </a:solidFill>
                <a:latin typeface="Impact"/>
              </a:rPr>
              <a:t>Other Department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400" spc="-1" strike="noStrike" cap="all">
                <a:solidFill>
                  <a:srgbClr val="808080"/>
                </a:solidFill>
                <a:latin typeface="Impact"/>
              </a:rPr>
              <a:t>Identify Outside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400" spc="-1" strike="noStrike" cap="all">
                <a:solidFill>
                  <a:srgbClr val="808080"/>
                </a:solidFill>
                <a:latin typeface="Impact"/>
              </a:rPr>
              <a:t>Partner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" descr=""/>
          <p:cNvPicPr/>
          <p:nvPr/>
        </p:nvPicPr>
        <p:blipFill>
          <a:blip r:embed="rId1"/>
          <a:stretch/>
        </p:blipFill>
        <p:spPr>
          <a:xfrm rot="10800000">
            <a:off x="651600" y="1220760"/>
            <a:ext cx="8024040" cy="44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347520" cy="132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 cap="all">
                <a:solidFill>
                  <a:schemeClr val="accent1"/>
                </a:solidFill>
                <a:latin typeface="Impact"/>
              </a:rPr>
              <a:t>Neighborhoods Funded with General Fund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2160720"/>
            <a:ext cx="3087720" cy="388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marL="209880" indent="-20988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1</a:t>
            </a:r>
            <a:r>
              <a:rPr b="0" lang="en-US" sz="1800" spc="-1" strike="noStrike" baseline="30000" cap="all">
                <a:solidFill>
                  <a:srgbClr val="000000"/>
                </a:solidFill>
                <a:latin typeface="Impact"/>
              </a:rPr>
              <a:t>st</a:t>
            </a: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 of the Month NAM meetings 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marL="209880" indent="-20988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Neighborhoods hold monthly or quarterly meetings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marL="209880" indent="-20988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Newsletters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marL="209880" indent="-20988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Dumpster Events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marL="209880" indent="-20988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Board meetings required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marL="209880" indent="-20988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National Night Out participation is required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marL="209880" indent="-20988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$ 1,500 Annually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</a:pP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869280" y="2160720"/>
            <a:ext cx="3087720" cy="388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Additional Events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Youth Activities Supported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City Event Participation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FACEBOOK  Advertisement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$700 - $3,000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ADOPT a City Lot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Paint City Fire Hydrants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Fundraising 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marL="214560" indent="-21456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1800" spc="-1" strike="noStrike" cap="all">
                <a:solidFill>
                  <a:srgbClr val="000000"/>
                </a:solidFill>
                <a:latin typeface="Impact"/>
              </a:rPr>
              <a:t>$250 - $37,500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400" spc="-1" strike="noStrike" cap="all">
                <a:solidFill>
                  <a:schemeClr val="accent1"/>
                </a:solidFill>
                <a:latin typeface="Impact"/>
              </a:rPr>
              <a:t>Other City Department Staff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7797240" cy="33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Planning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CODE ENFORCEMENT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Inspections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BLIGHT FIGHT- Demolitions/Board Ups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Engineering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TREETS/Sidewalks/Parks/Public Works Facilities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Clerks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FACEBOOK Advertising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Information 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	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WEBSITE 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1498680"/>
            <a:ext cx="3157200" cy="127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 cap="all">
                <a:solidFill>
                  <a:srgbClr val="ff0000"/>
                </a:solidFill>
                <a:latin typeface="Impact"/>
              </a:rPr>
              <a:t>Outside Sources/Grant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571200" y="514800"/>
            <a:ext cx="3385800" cy="55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DTE – Energy Efficient program through our local gas company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tate of Michigan grant through the Dept. of Health &amp; Human Services </a:t>
            </a:r>
            <a:r>
              <a:rPr b="0" i="1" lang="en-US" sz="2000" spc="-1" strike="noStrike" cap="all">
                <a:solidFill>
                  <a:srgbClr val="000000"/>
                </a:solidFill>
                <a:latin typeface="Impact"/>
              </a:rPr>
              <a:t>Medicaid</a:t>
            </a: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 Lead Grant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Muskegon County Senior Millage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Community Foundation Grant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19240" indent="-21924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Donors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480" y="2777040"/>
            <a:ext cx="2790000" cy="25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9000"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100" spc="-1" strike="noStrike" cap="all">
                <a:solidFill>
                  <a:srgbClr val="000000"/>
                </a:solidFill>
                <a:latin typeface="Impact"/>
              </a:rPr>
              <a:t>DTE Program</a:t>
            </a:r>
            <a:r>
              <a:rPr b="0" lang="en-US" sz="2100" spc="-1" strike="noStrike" cap="all">
                <a:solidFill>
                  <a:srgbClr val="000000"/>
                </a:solidFill>
                <a:latin typeface="Impact"/>
              </a:rPr>
              <a:t>	</a:t>
            </a:r>
            <a:endParaRPr b="0" lang="en-US" sz="21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100" spc="-1" strike="noStrike" cap="all">
                <a:solidFill>
                  <a:srgbClr val="000000"/>
                </a:solidFill>
                <a:latin typeface="Impact"/>
              </a:rPr>
              <a:t>DHHS CHIP Grant</a:t>
            </a:r>
            <a:endParaRPr b="0" lang="en-US" sz="21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100" spc="-1" strike="noStrike" cap="all">
                <a:solidFill>
                  <a:srgbClr val="000000"/>
                </a:solidFill>
                <a:latin typeface="Impact"/>
              </a:rPr>
              <a:t>County Millage</a:t>
            </a:r>
            <a:endParaRPr b="0" lang="en-US" sz="21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100" spc="-1" strike="noStrike" cap="all">
                <a:solidFill>
                  <a:srgbClr val="000000"/>
                </a:solidFill>
                <a:latin typeface="Impact"/>
              </a:rPr>
              <a:t>Community Foundation</a:t>
            </a:r>
            <a:endParaRPr b="0" lang="en-US" sz="21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100" spc="-1" strike="noStrike" cap="all">
                <a:solidFill>
                  <a:srgbClr val="000000"/>
                </a:solidFill>
                <a:latin typeface="Impact"/>
              </a:rPr>
              <a:t>Philanthropic Donors</a:t>
            </a:r>
            <a:endParaRPr b="0" lang="en-US" sz="21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1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72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 cap="all">
                <a:solidFill>
                  <a:srgbClr val="00b0f0"/>
                </a:solidFill>
                <a:latin typeface="Impact"/>
              </a:rPr>
              <a:t>Regional Partnerships with other Grantee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2063520"/>
            <a:ext cx="7797240" cy="33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Consolidated Plans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Fair Housing Activities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Analysis of Impediment Studies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Housing Studies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Public Meetings/Hearings/Comments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14440" y="685800"/>
            <a:ext cx="7795800" cy="319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 cap="all">
                <a:solidFill>
                  <a:schemeClr val="accent1"/>
                </a:solidFill>
                <a:latin typeface="Impact"/>
              </a:rPr>
              <a:t>Questions-</a:t>
            </a:r>
            <a:r>
              <a:rPr b="0" lang="en-US" sz="5400" spc="-1" strike="noStrike" cap="all">
                <a:solidFill>
                  <a:schemeClr val="accent1"/>
                </a:solidFill>
                <a:latin typeface="Impact"/>
              </a:rPr>
              <a:t>	</a:t>
            </a:r>
            <a:r>
              <a:rPr b="0" lang="en-US" sz="5400" spc="-1" strike="noStrike" cap="all">
                <a:solidFill>
                  <a:schemeClr val="accent1"/>
                </a:solidFill>
                <a:latin typeface="Impact"/>
              </a:rPr>
              <a:t>Comments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14440" y="3742200"/>
            <a:ext cx="7795800" cy="163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80808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ain Event">
  <a:themeElements>
    <a:clrScheme name="Main Event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ain Event">
  <a:themeElements>
    <a:clrScheme name="Main Event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ain Event">
  <a:themeElements>
    <a:clrScheme name="Main Event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ain Event">
  <a:themeElements>
    <a:clrScheme name="Main Event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Main Event">
  <a:themeElements>
    <a:clrScheme name="Main Event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Main Event">
  <a:themeElements>
    <a:clrScheme name="Main Event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27[[fn=Main Event]]</Template>
  <TotalTime>1503</TotalTime>
  <Application>LibreOffice/7.4.7.2$Linux_X86_64 LibreOffice_project/40$Build-2</Application>
  <AppVersion>15.0000</AppVersion>
  <Words>151</Words>
  <Paragraphs>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6-12T20:08:00Z</dcterms:created>
  <dc:creator>Oneata Bailey</dc:creator>
  <dc:description/>
  <dc:language>en-US</dc:language>
  <cp:lastModifiedBy>Melissa Horr</cp:lastModifiedBy>
  <dcterms:modified xsi:type="dcterms:W3CDTF">2019-06-18T14:19:14Z</dcterms:modified>
  <cp:revision>16</cp:revision>
  <dc:subject/>
  <dc:title>     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