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hdphoto1.wdp" ContentType="image/vnd.ms-photo"/>
  <Override PartName="/ppt/media/image8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6051BF94-11B4-4909-ACFE-EAE77BD76837}" type="doc">
      <dgm:prSet loTypeId="urn:microsoft.com/office/officeart/2008/layout/NameandTitleOrganizationalChart" loCatId="hierarchy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en-US"/>
        </a:p>
      </dgm:t>
    </dgm:pt>
    <dgm:pt modelId="{0D9B1AA7-CAC9-482F-BC16-AB374CF3584F}">
      <dgm:prSet phldrT="[Text]"/>
      <dgm:spPr/>
      <dgm:t>
        <a:bodyPr/>
        <a:lstStyle/>
        <a:p>
          <a:r>
            <a:rPr lang="en-US" b="1" dirty="0" smtClean="0">
              <a:ln>
                <a:noFill/>
              </a:ln>
              <a:effectLst>
                <a:outerShdw blurRad="38100" dist="38100" dir="2700000" algn="tl">
                  <a:srgbClr val="000000">
                    <a:alpha val="43137"/>
                  </a:srgbClr>
                </a:outerShdw>
              </a:effectLst>
            </a:rPr>
            <a:t>Director of Planning &amp; Development</a:t>
          </a:r>
          <a:endParaRPr lang="en-US" b="1" dirty="0">
            <a:ln>
              <a:noFill/>
            </a:ln>
            <a:effectLst>
              <a:outerShdw blurRad="38100" dist="38100" dir="2700000" algn="tl">
                <a:srgbClr val="000000">
                  <a:alpha val="43137"/>
                </a:srgbClr>
              </a:outerShdw>
            </a:effectLst>
          </a:endParaRPr>
        </a:p>
      </dgm:t>
    </dgm:pt>
    <dgm:pt modelId="{97FDE2D6-8A9E-48FE-8A03-A3D4556B51B6}" type="parTrans" cxnId="{A7D6E2E4-35B7-4FB7-A02B-55EBB13045AD}">
      <dgm:prSet/>
      <dgm:spPr/>
      <dgm:t>
        <a:bodyPr/>
        <a:lstStyle/>
        <a:p>
          <a:endParaRPr lang="en-US"/>
        </a:p>
      </dgm:t>
    </dgm:pt>
    <dgm:pt modelId="{6EED7B93-E6F6-4B50-812E-9F924F90D347}" type="sibTrans" cxnId="{A7D6E2E4-35B7-4FB7-A02B-55EBB13045AD}">
      <dgm:prSet/>
      <dgm:spPr/>
      <dgm:t>
        <a:bodyPr/>
        <a:lstStyle/>
        <a:p>
          <a:pPr algn="ctr"/>
          <a:r>
            <a:rPr lang="en-US" dirty="0" smtClean="0"/>
            <a:t>City Operating</a:t>
          </a:r>
          <a:endParaRPr lang="en-US" dirty="0"/>
        </a:p>
      </dgm:t>
    </dgm:pt>
    <dgm:pt modelId="{F76992DC-ABB6-492C-99D1-86DFFC62277E}">
      <dgm:prSet phldrT="[Text]"/>
      <dgm:spPr>
        <a:solidFill>
          <a:srgbClr val="0070C0"/>
        </a:solidFill>
      </dgm:spPr>
      <dgm:t>
        <a:bodyPr/>
        <a:lstStyle/>
        <a:p>
          <a:r>
            <a:rPr lang="en-US" b="1" dirty="0" smtClean="0">
              <a:effectLst>
                <a:outerShdw blurRad="38100" dist="38100" dir="2700000" algn="tl">
                  <a:srgbClr val="000000">
                    <a:alpha val="43137"/>
                  </a:srgbClr>
                </a:outerShdw>
              </a:effectLst>
            </a:rPr>
            <a:t>Community Development Administrator</a:t>
          </a:r>
          <a:endParaRPr lang="en-US" b="1" dirty="0">
            <a:effectLst>
              <a:outerShdw blurRad="38100" dist="38100" dir="2700000" algn="tl">
                <a:srgbClr val="000000">
                  <a:alpha val="43137"/>
                </a:srgbClr>
              </a:outerShdw>
            </a:effectLst>
          </a:endParaRPr>
        </a:p>
      </dgm:t>
    </dgm:pt>
    <dgm:pt modelId="{26692D86-3107-444B-B466-B1040A21D4E4}" type="parTrans" cxnId="{A2CE18E3-88E2-449E-8C74-F5AA92DCF7A1}">
      <dgm:prSet/>
      <dgm:spPr/>
      <dgm:t>
        <a:bodyPr/>
        <a:lstStyle/>
        <a:p>
          <a:endParaRPr lang="en-US"/>
        </a:p>
      </dgm:t>
    </dgm:pt>
    <dgm:pt modelId="{C352B8D3-F9C2-4C71-B8A2-98414276E92B}" type="sibTrans" cxnId="{A2CE18E3-88E2-449E-8C74-F5AA92DCF7A1}">
      <dgm:prSet/>
      <dgm:spPr/>
      <dgm:t>
        <a:bodyPr/>
        <a:lstStyle/>
        <a:p>
          <a:pPr algn="ctr"/>
          <a:r>
            <a:rPr lang="en-US" dirty="0" smtClean="0"/>
            <a:t>CDBG</a:t>
          </a:r>
          <a:endParaRPr lang="en-US" dirty="0"/>
        </a:p>
      </dgm:t>
    </dgm:pt>
    <dgm:pt modelId="{74555DCE-D8DB-44DE-9182-D3AC72B74F51}">
      <dgm:prSet phldrT="[Text]"/>
      <dgm:spPr/>
      <dgm:t>
        <a:bodyPr/>
        <a:lstStyle/>
        <a:p>
          <a:r>
            <a:rPr lang="en-US" b="1" dirty="0" smtClean="0">
              <a:effectLst>
                <a:outerShdw blurRad="38100" dist="38100" dir="2700000" algn="tl">
                  <a:srgbClr val="000000">
                    <a:alpha val="43137"/>
                  </a:srgbClr>
                </a:outerShdw>
              </a:effectLst>
            </a:rPr>
            <a:t>Economic Development Planner</a:t>
          </a:r>
          <a:endParaRPr lang="en-US" b="1" dirty="0">
            <a:effectLst>
              <a:outerShdw blurRad="38100" dist="38100" dir="2700000" algn="tl">
                <a:srgbClr val="000000">
                  <a:alpha val="43137"/>
                </a:srgbClr>
              </a:outerShdw>
            </a:effectLst>
          </a:endParaRPr>
        </a:p>
      </dgm:t>
    </dgm:pt>
    <dgm:pt modelId="{0AD7F8DA-3ED7-400B-A1A7-89BE4379F92C}" type="parTrans" cxnId="{5458A1FE-DEA2-4B82-9304-ED1AF49F15D5}">
      <dgm:prSet/>
      <dgm:spPr/>
      <dgm:t>
        <a:bodyPr/>
        <a:lstStyle/>
        <a:p>
          <a:endParaRPr lang="en-US"/>
        </a:p>
      </dgm:t>
    </dgm:pt>
    <dgm:pt modelId="{40852540-1F81-42E3-B764-38402935AB03}" type="sibTrans" cxnId="{5458A1FE-DEA2-4B82-9304-ED1AF49F15D5}">
      <dgm:prSet/>
      <dgm:spPr/>
      <dgm:t>
        <a:bodyPr/>
        <a:lstStyle/>
        <a:p>
          <a:pPr algn="ctr"/>
          <a:r>
            <a:rPr lang="en-US" dirty="0" smtClean="0"/>
            <a:t>City Operating</a:t>
          </a:r>
          <a:endParaRPr lang="en-US" dirty="0"/>
        </a:p>
      </dgm:t>
    </dgm:pt>
    <dgm:pt modelId="{33F52F90-E9CA-4EAB-8B14-1B7E4873193B}">
      <dgm:prSet phldrT="[Text]"/>
      <dgm:spPr/>
      <dgm:t>
        <a:bodyPr/>
        <a:lstStyle/>
        <a:p>
          <a:r>
            <a:rPr lang="en-US" b="1" dirty="0" smtClean="0">
              <a:effectLst>
                <a:outerShdw blurRad="38100" dist="38100" dir="2700000" algn="tl">
                  <a:srgbClr val="000000">
                    <a:alpha val="43137"/>
                  </a:srgbClr>
                </a:outerShdw>
              </a:effectLst>
            </a:rPr>
            <a:t>Senior Planner</a:t>
          </a:r>
          <a:endParaRPr lang="en-US" b="1" dirty="0">
            <a:effectLst>
              <a:outerShdw blurRad="38100" dist="38100" dir="2700000" algn="tl">
                <a:srgbClr val="000000">
                  <a:alpha val="43137"/>
                </a:srgbClr>
              </a:outerShdw>
            </a:effectLst>
          </a:endParaRPr>
        </a:p>
      </dgm:t>
    </dgm:pt>
    <dgm:pt modelId="{0C395F36-3AB0-443F-BF1B-15D4F9E342A5}" type="parTrans" cxnId="{1A6E1D27-1664-4F33-A6E4-334930656A72}">
      <dgm:prSet/>
      <dgm:spPr/>
      <dgm:t>
        <a:bodyPr/>
        <a:lstStyle/>
        <a:p>
          <a:endParaRPr lang="en-US"/>
        </a:p>
      </dgm:t>
    </dgm:pt>
    <dgm:pt modelId="{FF2F0B71-E900-4842-A419-CCD33BE11BFB}" type="sibTrans" cxnId="{1A6E1D27-1664-4F33-A6E4-334930656A72}">
      <dgm:prSet/>
      <dgm:spPr/>
      <dgm:t>
        <a:bodyPr/>
        <a:lstStyle/>
        <a:p>
          <a:pPr algn="ctr"/>
          <a:r>
            <a:rPr lang="en-US" dirty="0" smtClean="0"/>
            <a:t>City Operating</a:t>
          </a:r>
          <a:endParaRPr lang="en-US" dirty="0"/>
        </a:p>
      </dgm:t>
    </dgm:pt>
    <dgm:pt modelId="{8C6E727B-BB27-4601-964B-E04488349DB3}">
      <dgm:prSet phldrT="[Text]"/>
      <dgm:spPr>
        <a:solidFill>
          <a:srgbClr val="0070C0"/>
        </a:solidFill>
      </dgm:spPr>
      <dgm:t>
        <a:bodyPr/>
        <a:lstStyle/>
        <a:p>
          <a:r>
            <a:rPr lang="en-US" b="1" dirty="0" smtClean="0">
              <a:effectLst>
                <a:outerShdw blurRad="38100" dist="38100" dir="2700000" algn="tl">
                  <a:srgbClr val="000000">
                    <a:alpha val="43137"/>
                  </a:srgbClr>
                </a:outerShdw>
              </a:effectLst>
            </a:rPr>
            <a:t>(2) Housing Specialist</a:t>
          </a:r>
          <a:endParaRPr lang="en-US" b="1" dirty="0">
            <a:effectLst>
              <a:outerShdw blurRad="38100" dist="38100" dir="2700000" algn="tl">
                <a:srgbClr val="000000">
                  <a:alpha val="43137"/>
                </a:srgbClr>
              </a:outerShdw>
            </a:effectLst>
          </a:endParaRPr>
        </a:p>
      </dgm:t>
    </dgm:pt>
    <dgm:pt modelId="{5F2BEFD8-DE93-4A04-9671-28D36533B7DE}" type="parTrans" cxnId="{5C17736D-166E-45E6-8073-2DB913177B03}">
      <dgm:prSet/>
      <dgm:spPr/>
      <dgm:t>
        <a:bodyPr/>
        <a:lstStyle/>
        <a:p>
          <a:endParaRPr lang="en-US"/>
        </a:p>
      </dgm:t>
    </dgm:pt>
    <dgm:pt modelId="{F502D780-D3C2-49CA-8C35-15EDC2F8DD82}" type="sibTrans" cxnId="{5C17736D-166E-45E6-8073-2DB913177B03}">
      <dgm:prSet/>
      <dgm:spPr/>
      <dgm:t>
        <a:bodyPr/>
        <a:lstStyle/>
        <a:p>
          <a:pPr algn="ctr"/>
          <a:r>
            <a:rPr lang="en-US" dirty="0" smtClean="0"/>
            <a:t>CDBG/HOME</a:t>
          </a:r>
          <a:endParaRPr lang="en-US" dirty="0"/>
        </a:p>
      </dgm:t>
    </dgm:pt>
    <dgm:pt modelId="{36FFE057-F616-4C17-A7D1-1C178643AA94}">
      <dgm:prSet phldrT="[Text]" custT="1"/>
      <dgm:spPr>
        <a:solidFill>
          <a:srgbClr val="00B0F0"/>
        </a:solidFill>
      </dgm:spPr>
      <dgm:t>
        <a:bodyPr anchor="ctr" anchorCtr="1"/>
        <a:lstStyle/>
        <a:p>
          <a:r>
            <a:rPr lang="en-US" sz="900" b="1" dirty="0" smtClean="0">
              <a:effectLst>
                <a:outerShdw blurRad="38100" dist="38100" dir="2700000" algn="tl">
                  <a:srgbClr val="000000">
                    <a:alpha val="43137"/>
                  </a:srgbClr>
                </a:outerShdw>
              </a:effectLst>
            </a:rPr>
            <a:t>Neighborhood Housing Development Associate</a:t>
          </a:r>
          <a:endParaRPr lang="en-US" sz="900" b="1" dirty="0">
            <a:effectLst>
              <a:outerShdw blurRad="38100" dist="38100" dir="2700000" algn="tl">
                <a:srgbClr val="000000">
                  <a:alpha val="43137"/>
                </a:srgbClr>
              </a:outerShdw>
            </a:effectLst>
          </a:endParaRPr>
        </a:p>
      </dgm:t>
    </dgm:pt>
    <dgm:pt modelId="{EA42148A-84F1-4EBC-92D2-4F3356A0DF53}" type="parTrans" cxnId="{E27D63D7-8C28-4AC4-8AF8-9F32F835AFBC}">
      <dgm:prSet/>
      <dgm:spPr/>
      <dgm:t>
        <a:bodyPr/>
        <a:lstStyle/>
        <a:p>
          <a:endParaRPr lang="en-US"/>
        </a:p>
      </dgm:t>
    </dgm:pt>
    <dgm:pt modelId="{10E02276-FB89-4125-9FFB-CB159CB5D46A}" type="sibTrans" cxnId="{E27D63D7-8C28-4AC4-8AF8-9F32F835AFBC}">
      <dgm:prSet/>
      <dgm:spPr/>
      <dgm:t>
        <a:bodyPr/>
        <a:lstStyle/>
        <a:p>
          <a:pPr algn="ctr"/>
          <a:r>
            <a:rPr lang="en-US" dirty="0" smtClean="0"/>
            <a:t>TIF/CDBG</a:t>
          </a:r>
          <a:endParaRPr lang="en-US" dirty="0"/>
        </a:p>
      </dgm:t>
    </dgm:pt>
    <dgm:pt modelId="{79BF75C3-7093-4377-A8D1-843A3ADDB773}">
      <dgm:prSet phldrT="[Text]" custT="1"/>
      <dgm:spPr>
        <a:solidFill>
          <a:srgbClr val="00B0F0"/>
        </a:solidFill>
      </dgm:spPr>
      <dgm:t>
        <a:bodyPr/>
        <a:lstStyle/>
        <a:p>
          <a:r>
            <a:rPr lang="en-US" sz="1000" b="1" dirty="0" smtClean="0">
              <a:effectLst>
                <a:outerShdw blurRad="38100" dist="38100" dir="2700000" algn="tl">
                  <a:srgbClr val="000000">
                    <a:alpha val="43137"/>
                  </a:srgbClr>
                </a:outerShdw>
              </a:effectLst>
            </a:rPr>
            <a:t>Program</a:t>
          </a:r>
          <a:r>
            <a:rPr lang="en-US" sz="700" b="1" dirty="0" smtClean="0">
              <a:effectLst>
                <a:outerShdw blurRad="38100" dist="38100" dir="2700000" algn="tl">
                  <a:srgbClr val="000000">
                    <a:alpha val="43137"/>
                  </a:srgbClr>
                </a:outerShdw>
              </a:effectLst>
            </a:rPr>
            <a:t> </a:t>
          </a:r>
          <a:r>
            <a:rPr lang="en-US" sz="1000" b="1" dirty="0" smtClean="0">
              <a:effectLst>
                <a:outerShdw blurRad="38100" dist="38100" dir="2700000" algn="tl">
                  <a:srgbClr val="000000">
                    <a:alpha val="43137"/>
                  </a:srgbClr>
                </a:outerShdw>
              </a:effectLst>
            </a:rPr>
            <a:t>Coordinator</a:t>
          </a:r>
          <a:endParaRPr lang="en-US" sz="1000" b="1" dirty="0">
            <a:effectLst>
              <a:outerShdw blurRad="38100" dist="38100" dir="2700000" algn="tl">
                <a:srgbClr val="000000">
                  <a:alpha val="43137"/>
                </a:srgbClr>
              </a:outerShdw>
            </a:effectLst>
          </a:endParaRPr>
        </a:p>
      </dgm:t>
    </dgm:pt>
    <dgm:pt modelId="{1E245ACB-5C92-49F7-B312-98DD70F2E9C3}" type="parTrans" cxnId="{B72B54C4-D2BD-481F-B5D7-A19013DDA98C}">
      <dgm:prSet/>
      <dgm:spPr/>
      <dgm:t>
        <a:bodyPr/>
        <a:lstStyle/>
        <a:p>
          <a:endParaRPr lang="en-US"/>
        </a:p>
      </dgm:t>
    </dgm:pt>
    <dgm:pt modelId="{21E2366A-7E7C-40A8-91B2-37A7DF13657C}" type="sibTrans" cxnId="{B72B54C4-D2BD-481F-B5D7-A19013DDA98C}">
      <dgm:prSet/>
      <dgm:spPr>
        <a:noFill/>
        <a:ln>
          <a:noFill/>
        </a:ln>
      </dgm:spPr>
      <dgm:t>
        <a:bodyPr/>
        <a:lstStyle/>
        <a:p>
          <a:endParaRPr lang="en-US"/>
        </a:p>
      </dgm:t>
    </dgm:pt>
    <dgm:pt modelId="{BACA52B9-FBA2-4270-95BC-A8BA219B1CFB}">
      <dgm:prSet phldrT="[Text]"/>
      <dgm:spPr/>
      <dgm:t>
        <a:bodyPr/>
        <a:lstStyle/>
        <a:p>
          <a:r>
            <a:rPr lang="en-US" b="1" dirty="0" smtClean="0">
              <a:effectLst>
                <a:outerShdw blurRad="38100" dist="38100" dir="2700000" algn="tl">
                  <a:srgbClr val="000000">
                    <a:alpha val="43137"/>
                  </a:srgbClr>
                </a:outerShdw>
              </a:effectLst>
            </a:rPr>
            <a:t>Associate Planner</a:t>
          </a:r>
          <a:endParaRPr lang="en-US" b="1" dirty="0">
            <a:effectLst>
              <a:outerShdw blurRad="38100" dist="38100" dir="2700000" algn="tl">
                <a:srgbClr val="000000">
                  <a:alpha val="43137"/>
                </a:srgbClr>
              </a:outerShdw>
            </a:effectLst>
          </a:endParaRPr>
        </a:p>
      </dgm:t>
    </dgm:pt>
    <dgm:pt modelId="{F47887B5-DB77-4B69-B2E6-15ECAF351DFC}" type="parTrans" cxnId="{B8F1FBD9-CFC8-475A-93E8-7C77E7F01B23}">
      <dgm:prSet/>
      <dgm:spPr/>
      <dgm:t>
        <a:bodyPr/>
        <a:lstStyle/>
        <a:p>
          <a:endParaRPr lang="en-US"/>
        </a:p>
      </dgm:t>
    </dgm:pt>
    <dgm:pt modelId="{8C8BF78F-500D-455A-808B-3D762CD2321E}" type="sibTrans" cxnId="{B8F1FBD9-CFC8-475A-93E8-7C77E7F01B23}">
      <dgm:prSet/>
      <dgm:spPr/>
      <dgm:t>
        <a:bodyPr/>
        <a:lstStyle/>
        <a:p>
          <a:pPr algn="ctr"/>
          <a:r>
            <a:rPr lang="en-US" dirty="0" smtClean="0"/>
            <a:t>City Operating</a:t>
          </a:r>
          <a:endParaRPr lang="en-US" dirty="0"/>
        </a:p>
      </dgm:t>
    </dgm:pt>
    <dgm:pt modelId="{8117C2A7-4CF1-48F5-ACC9-849B4147D470}">
      <dgm:prSet phldrT="[Text]"/>
      <dgm:spPr>
        <a:noFill/>
        <a:ln>
          <a:noFill/>
        </a:ln>
      </dgm:spPr>
      <dgm:t>
        <a:bodyPr/>
        <a:lstStyle/>
        <a:p>
          <a:endParaRPr lang="en-US" dirty="0"/>
        </a:p>
      </dgm:t>
    </dgm:pt>
    <dgm:pt modelId="{E89E60A4-7D94-43A3-A64A-4E6C353986E1}" type="parTrans" cxnId="{5A1C3CCD-49E9-447E-BB7C-B99763111ED2}">
      <dgm:prSet/>
      <dgm:spPr/>
      <dgm:t>
        <a:bodyPr/>
        <a:lstStyle/>
        <a:p>
          <a:endParaRPr lang="en-US"/>
        </a:p>
      </dgm:t>
    </dgm:pt>
    <dgm:pt modelId="{E5415851-D99F-428A-9B83-71B49563F219}" type="sibTrans" cxnId="{5A1C3CCD-49E9-447E-BB7C-B99763111ED2}">
      <dgm:prSet/>
      <dgm:spPr/>
      <dgm:t>
        <a:bodyPr/>
        <a:lstStyle/>
        <a:p>
          <a:pPr algn="ctr"/>
          <a:r>
            <a:rPr lang="en-US" dirty="0" smtClean="0"/>
            <a:t>CDBG/TIF</a:t>
          </a:r>
          <a:endParaRPr lang="en-US" dirty="0"/>
        </a:p>
      </dgm:t>
    </dgm:pt>
    <dgm:pt modelId="{C407AFB1-F66E-4663-9933-6E5E782D67CF}">
      <dgm:prSet phldrT="[Text]" custT="1"/>
      <dgm:spPr/>
      <dgm:t>
        <a:bodyPr/>
        <a:lstStyle/>
        <a:p>
          <a:r>
            <a:rPr lang="en-US" sz="1000" b="1" dirty="0" smtClean="0">
              <a:effectLst>
                <a:outerShdw blurRad="38100" dist="38100" dir="2700000" algn="tl">
                  <a:srgbClr val="000000">
                    <a:alpha val="43137"/>
                  </a:srgbClr>
                </a:outerShdw>
              </a:effectLst>
            </a:rPr>
            <a:t>Environmental Sustainability Planner</a:t>
          </a:r>
          <a:endParaRPr lang="en-US" sz="1000" b="1" dirty="0">
            <a:effectLst>
              <a:outerShdw blurRad="38100" dist="38100" dir="2700000" algn="tl">
                <a:srgbClr val="000000">
                  <a:alpha val="43137"/>
                </a:srgbClr>
              </a:outerShdw>
            </a:effectLst>
          </a:endParaRPr>
        </a:p>
      </dgm:t>
    </dgm:pt>
    <dgm:pt modelId="{E09C90AC-5571-4D68-A48F-563CCB04C74D}" type="parTrans" cxnId="{67C53106-10AC-46E4-BF64-49D00A2F4F48}">
      <dgm:prSet/>
      <dgm:spPr/>
      <dgm:t>
        <a:bodyPr/>
        <a:lstStyle/>
        <a:p>
          <a:endParaRPr lang="en-US"/>
        </a:p>
      </dgm:t>
    </dgm:pt>
    <dgm:pt modelId="{858D9B0F-86B4-492B-85B4-5A76B0CAA758}" type="sibTrans" cxnId="{67C53106-10AC-46E4-BF64-49D00A2F4F48}">
      <dgm:prSet/>
      <dgm:spPr/>
      <dgm:t>
        <a:bodyPr/>
        <a:lstStyle/>
        <a:p>
          <a:pPr algn="ctr"/>
          <a:r>
            <a:rPr lang="en-US" dirty="0" smtClean="0"/>
            <a:t>City Operating</a:t>
          </a:r>
          <a:endParaRPr lang="en-US" dirty="0"/>
        </a:p>
      </dgm:t>
    </dgm:pt>
    <dgm:pt modelId="{08A8DD54-CDAC-460A-A12E-82AE6263222B}">
      <dgm:prSet phldrT="[Text]" custT="1"/>
      <dgm:spPr>
        <a:solidFill>
          <a:schemeClr val="accent2"/>
        </a:solidFill>
      </dgm:spPr>
      <dgm:t>
        <a:bodyPr/>
        <a:lstStyle/>
        <a:p>
          <a:r>
            <a:rPr lang="en-US" sz="1000" b="1" dirty="0" smtClean="0">
              <a:effectLst>
                <a:outerShdw blurRad="38100" dist="38100" dir="2700000" algn="tl">
                  <a:srgbClr val="000000">
                    <a:alpha val="43137"/>
                  </a:srgbClr>
                </a:outerShdw>
              </a:effectLst>
            </a:rPr>
            <a:t>Clerk Steno III</a:t>
          </a:r>
          <a:endParaRPr lang="en-US" sz="1000" b="1" dirty="0">
            <a:effectLst>
              <a:outerShdw blurRad="38100" dist="38100" dir="2700000" algn="tl">
                <a:srgbClr val="000000">
                  <a:alpha val="43137"/>
                </a:srgbClr>
              </a:outerShdw>
            </a:effectLst>
          </a:endParaRPr>
        </a:p>
      </dgm:t>
    </dgm:pt>
    <dgm:pt modelId="{9DA3520F-5A81-40CD-B30C-BD5C13A0C15E}" type="parTrans" cxnId="{BF3C4DAA-224A-49D5-A64D-BF04B0B8D385}">
      <dgm:prSet/>
      <dgm:spPr/>
      <dgm:t>
        <a:bodyPr/>
        <a:lstStyle/>
        <a:p>
          <a:endParaRPr lang="en-US"/>
        </a:p>
      </dgm:t>
    </dgm:pt>
    <dgm:pt modelId="{1C8E8B27-98E0-42A0-B815-C9FCBB49F2BF}" type="sibTrans" cxnId="{BF3C4DAA-224A-49D5-A64D-BF04B0B8D385}">
      <dgm:prSet/>
      <dgm:spPr/>
      <dgm:t>
        <a:bodyPr/>
        <a:lstStyle/>
        <a:p>
          <a:pPr algn="ctr"/>
          <a:r>
            <a:rPr lang="en-US" dirty="0" smtClean="0"/>
            <a:t>City/CDBG</a:t>
          </a:r>
          <a:endParaRPr lang="en-US" dirty="0"/>
        </a:p>
      </dgm:t>
    </dgm:pt>
    <dgm:pt modelId="{0A920B55-6C29-4F8B-AAD5-BC36F6B2BA07}" type="pres">
      <dgm:prSet presAssocID="{6051BF94-11B4-4909-ACFE-EAE77BD76837}" presName="hierChild1" presStyleCnt="0">
        <dgm:presLayoutVars>
          <dgm:orgChart val="1"/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en-US"/>
        </a:p>
      </dgm:t>
    </dgm:pt>
    <dgm:pt modelId="{8E764F52-EF97-45FC-813A-06E6F43F43D5}" type="pres">
      <dgm:prSet presAssocID="{0D9B1AA7-CAC9-482F-BC16-AB374CF3584F}" presName="hierRoot1" presStyleCnt="0">
        <dgm:presLayoutVars>
          <dgm:hierBranch val="init"/>
        </dgm:presLayoutVars>
      </dgm:prSet>
      <dgm:spPr/>
    </dgm:pt>
    <dgm:pt modelId="{BF29D45D-8D77-4930-AED5-D8205CFE6140}" type="pres">
      <dgm:prSet presAssocID="{0D9B1AA7-CAC9-482F-BC16-AB374CF3584F}" presName="rootComposite1" presStyleCnt="0"/>
      <dgm:spPr/>
    </dgm:pt>
    <dgm:pt modelId="{1AEE194E-9DB1-4A43-BD89-8B8EBDF93D28}" type="pres">
      <dgm:prSet presAssocID="{0D9B1AA7-CAC9-482F-BC16-AB374CF3584F}" presName="rootText1" presStyleLbl="node0" presStyleIdx="0" presStyleCnt="2" custLinFactNeighborX="-14932" custLinFactNeighborY="-69750">
        <dgm:presLayoutVars>
          <dgm:chMax/>
          <dgm:chPref val="3"/>
        </dgm:presLayoutVars>
      </dgm:prSet>
      <dgm:spPr/>
      <dgm:t>
        <a:bodyPr/>
        <a:lstStyle/>
        <a:p>
          <a:endParaRPr lang="en-US"/>
        </a:p>
      </dgm:t>
    </dgm:pt>
    <dgm:pt modelId="{5D631930-9636-4D6A-A9A0-A9B44E6D58CE}" type="pres">
      <dgm:prSet presAssocID="{0D9B1AA7-CAC9-482F-BC16-AB374CF3584F}" presName="titleText1" presStyleLbl="fgAcc0" presStyleIdx="0" presStyleCnt="2" custLinFactY="-96577" custLinFactNeighborX="-18596" custLinFactNeighborY="-100000">
        <dgm:presLayoutVars>
          <dgm:chMax val="0"/>
          <dgm:chPref val="0"/>
        </dgm:presLayoutVars>
      </dgm:prSet>
      <dgm:spPr/>
      <dgm:t>
        <a:bodyPr/>
        <a:lstStyle/>
        <a:p>
          <a:endParaRPr lang="en-US"/>
        </a:p>
      </dgm:t>
    </dgm:pt>
    <dgm:pt modelId="{CC0383FD-8C86-4AA8-80E8-050B978EAE40}" type="pres">
      <dgm:prSet presAssocID="{0D9B1AA7-CAC9-482F-BC16-AB374CF3584F}" presName="rootConnector1" presStyleLbl="node1" presStyleIdx="0" presStyleCnt="9"/>
      <dgm:spPr/>
      <dgm:t>
        <a:bodyPr/>
        <a:lstStyle/>
        <a:p>
          <a:endParaRPr lang="en-US"/>
        </a:p>
      </dgm:t>
    </dgm:pt>
    <dgm:pt modelId="{944D984D-EC3E-4819-937A-09DC83CA063F}" type="pres">
      <dgm:prSet presAssocID="{0D9B1AA7-CAC9-482F-BC16-AB374CF3584F}" presName="hierChild2" presStyleCnt="0"/>
      <dgm:spPr/>
    </dgm:pt>
    <dgm:pt modelId="{1B2A69DA-A7A7-433D-B99C-61BC03DBCE83}" type="pres">
      <dgm:prSet presAssocID="{26692D86-3107-444B-B466-B1040A21D4E4}" presName="Name37" presStyleLbl="parChTrans1D2" presStyleIdx="0" presStyleCnt="5"/>
      <dgm:spPr/>
      <dgm:t>
        <a:bodyPr/>
        <a:lstStyle/>
        <a:p>
          <a:endParaRPr lang="en-US"/>
        </a:p>
      </dgm:t>
    </dgm:pt>
    <dgm:pt modelId="{67B0FFA4-B3B7-411C-A46A-6FD47AE05424}" type="pres">
      <dgm:prSet presAssocID="{F76992DC-ABB6-492C-99D1-86DFFC62277E}" presName="hierRoot2" presStyleCnt="0">
        <dgm:presLayoutVars>
          <dgm:hierBranch val="init"/>
        </dgm:presLayoutVars>
      </dgm:prSet>
      <dgm:spPr/>
    </dgm:pt>
    <dgm:pt modelId="{39BCBE9E-5276-4C43-8409-3CDC77614712}" type="pres">
      <dgm:prSet presAssocID="{F76992DC-ABB6-492C-99D1-86DFFC62277E}" presName="rootComposite" presStyleCnt="0"/>
      <dgm:spPr/>
    </dgm:pt>
    <dgm:pt modelId="{30011A53-772C-4802-B692-B28C8A080509}" type="pres">
      <dgm:prSet presAssocID="{F76992DC-ABB6-492C-99D1-86DFFC62277E}" presName="rootText" presStyleLbl="node1" presStyleIdx="0" presStyleCnt="9" custLinFactNeighborY="-63524">
        <dgm:presLayoutVars>
          <dgm:chMax/>
          <dgm:chPref val="3"/>
        </dgm:presLayoutVars>
      </dgm:prSet>
      <dgm:spPr/>
      <dgm:t>
        <a:bodyPr/>
        <a:lstStyle/>
        <a:p>
          <a:endParaRPr lang="en-US"/>
        </a:p>
      </dgm:t>
    </dgm:pt>
    <dgm:pt modelId="{A21C8828-9199-42BE-AD44-FF794D6DF675}" type="pres">
      <dgm:prSet presAssocID="{F76992DC-ABB6-492C-99D1-86DFFC62277E}" presName="titleText2" presStyleLbl="fgAcc1" presStyleIdx="0" presStyleCnt="9" custLinFactY="-44078" custLinFactNeighborX="3723" custLinFactNeighborY="-100000">
        <dgm:presLayoutVars>
          <dgm:chMax val="0"/>
          <dgm:chPref val="0"/>
        </dgm:presLayoutVars>
      </dgm:prSet>
      <dgm:spPr/>
      <dgm:t>
        <a:bodyPr/>
        <a:lstStyle/>
        <a:p>
          <a:endParaRPr lang="en-US"/>
        </a:p>
      </dgm:t>
    </dgm:pt>
    <dgm:pt modelId="{AD97956D-FACC-4136-BE0A-AE323C1B5669}" type="pres">
      <dgm:prSet presAssocID="{F76992DC-ABB6-492C-99D1-86DFFC62277E}" presName="rootConnector" presStyleLbl="node2" presStyleIdx="0" presStyleCnt="0"/>
      <dgm:spPr/>
      <dgm:t>
        <a:bodyPr/>
        <a:lstStyle/>
        <a:p>
          <a:endParaRPr lang="en-US"/>
        </a:p>
      </dgm:t>
    </dgm:pt>
    <dgm:pt modelId="{091CECE8-A44B-43E5-BD64-E19A42DD3C7F}" type="pres">
      <dgm:prSet presAssocID="{F76992DC-ABB6-492C-99D1-86DFFC62277E}" presName="hierChild4" presStyleCnt="0"/>
      <dgm:spPr/>
    </dgm:pt>
    <dgm:pt modelId="{410C45C9-34CB-4CE5-BB3B-B59C9C45690F}" type="pres">
      <dgm:prSet presAssocID="{1E245ACB-5C92-49F7-B312-98DD70F2E9C3}" presName="Name37" presStyleLbl="parChTrans1D3" presStyleIdx="0" presStyleCnt="4"/>
      <dgm:spPr/>
      <dgm:t>
        <a:bodyPr/>
        <a:lstStyle/>
        <a:p>
          <a:endParaRPr lang="en-US"/>
        </a:p>
      </dgm:t>
    </dgm:pt>
    <dgm:pt modelId="{1A557A63-30BE-4BF3-8246-3CC9199E8B84}" type="pres">
      <dgm:prSet presAssocID="{79BF75C3-7093-4377-A8D1-843A3ADDB773}" presName="hierRoot2" presStyleCnt="0">
        <dgm:presLayoutVars>
          <dgm:hierBranch val="init"/>
        </dgm:presLayoutVars>
      </dgm:prSet>
      <dgm:spPr/>
    </dgm:pt>
    <dgm:pt modelId="{293F80A7-64CC-4751-A1D5-F093777948AC}" type="pres">
      <dgm:prSet presAssocID="{79BF75C3-7093-4377-A8D1-843A3ADDB773}" presName="rootComposite" presStyleCnt="0"/>
      <dgm:spPr/>
    </dgm:pt>
    <dgm:pt modelId="{9CD46C41-FE71-4C0E-B160-9F2A23B7F503}" type="pres">
      <dgm:prSet presAssocID="{79BF75C3-7093-4377-A8D1-843A3ADDB773}" presName="rootText" presStyleLbl="node1" presStyleIdx="1" presStyleCnt="9" custLinFactX="100000" custLinFactNeighborX="196212" custLinFactNeighborY="-44491">
        <dgm:presLayoutVars>
          <dgm:chMax/>
          <dgm:chPref val="3"/>
        </dgm:presLayoutVars>
      </dgm:prSet>
      <dgm:spPr/>
      <dgm:t>
        <a:bodyPr/>
        <a:lstStyle/>
        <a:p>
          <a:endParaRPr lang="en-US"/>
        </a:p>
      </dgm:t>
    </dgm:pt>
    <dgm:pt modelId="{EFF48FF9-E975-4C2C-96AD-0D60D52E6CF4}" type="pres">
      <dgm:prSet presAssocID="{79BF75C3-7093-4377-A8D1-843A3ADDB773}" presName="titleText2" presStyleLbl="fgAcc1" presStyleIdx="1" presStyleCnt="9" custLinFactX="-100000" custLinFactY="167936" custLinFactNeighborX="-118756" custLinFactNeighborY="200000">
        <dgm:presLayoutVars>
          <dgm:chMax val="0"/>
          <dgm:chPref val="0"/>
        </dgm:presLayoutVars>
      </dgm:prSet>
      <dgm:spPr/>
      <dgm:t>
        <a:bodyPr/>
        <a:lstStyle/>
        <a:p>
          <a:endParaRPr lang="en-US"/>
        </a:p>
      </dgm:t>
    </dgm:pt>
    <dgm:pt modelId="{29C5BE76-CB83-4C36-AE38-979FFAA81C0C}" type="pres">
      <dgm:prSet presAssocID="{79BF75C3-7093-4377-A8D1-843A3ADDB773}" presName="rootConnector" presStyleLbl="node3" presStyleIdx="0" presStyleCnt="0"/>
      <dgm:spPr/>
      <dgm:t>
        <a:bodyPr/>
        <a:lstStyle/>
        <a:p>
          <a:endParaRPr lang="en-US"/>
        </a:p>
      </dgm:t>
    </dgm:pt>
    <dgm:pt modelId="{65E52C6B-7DC5-4113-88D4-BBB8A82AFC02}" type="pres">
      <dgm:prSet presAssocID="{79BF75C3-7093-4377-A8D1-843A3ADDB773}" presName="hierChild4" presStyleCnt="0"/>
      <dgm:spPr/>
    </dgm:pt>
    <dgm:pt modelId="{4A7F5E4D-DABA-4798-90F6-B89A30D306A5}" type="pres">
      <dgm:prSet presAssocID="{79BF75C3-7093-4377-A8D1-843A3ADDB773}" presName="hierChild5" presStyleCnt="0"/>
      <dgm:spPr/>
    </dgm:pt>
    <dgm:pt modelId="{19818489-B454-4371-8B9F-F23A59189F26}" type="pres">
      <dgm:prSet presAssocID="{5F2BEFD8-DE93-4A04-9671-28D36533B7DE}" presName="Name37" presStyleLbl="parChTrans1D3" presStyleIdx="1" presStyleCnt="4"/>
      <dgm:spPr/>
      <dgm:t>
        <a:bodyPr/>
        <a:lstStyle/>
        <a:p>
          <a:endParaRPr lang="en-US"/>
        </a:p>
      </dgm:t>
    </dgm:pt>
    <dgm:pt modelId="{B2F74041-A29E-436C-ABBC-3DCD2CDB8ED8}" type="pres">
      <dgm:prSet presAssocID="{8C6E727B-BB27-4601-964B-E04488349DB3}" presName="hierRoot2" presStyleCnt="0">
        <dgm:presLayoutVars>
          <dgm:hierBranch val="init"/>
        </dgm:presLayoutVars>
      </dgm:prSet>
      <dgm:spPr/>
    </dgm:pt>
    <dgm:pt modelId="{2F72C8C1-9B21-4FF9-8B70-5CA866B27726}" type="pres">
      <dgm:prSet presAssocID="{8C6E727B-BB27-4601-964B-E04488349DB3}" presName="rootComposite" presStyleCnt="0"/>
      <dgm:spPr/>
    </dgm:pt>
    <dgm:pt modelId="{69F90016-61C0-4944-8E02-F08455CEB24E}" type="pres">
      <dgm:prSet presAssocID="{8C6E727B-BB27-4601-964B-E04488349DB3}" presName="rootText" presStyleLbl="node1" presStyleIdx="2" presStyleCnt="9" custLinFactX="-23019" custLinFactNeighborX="-100000" custLinFactNeighborY="-44491">
        <dgm:presLayoutVars>
          <dgm:chMax/>
          <dgm:chPref val="3"/>
        </dgm:presLayoutVars>
      </dgm:prSet>
      <dgm:spPr/>
      <dgm:t>
        <a:bodyPr/>
        <a:lstStyle/>
        <a:p>
          <a:endParaRPr lang="en-US"/>
        </a:p>
      </dgm:t>
    </dgm:pt>
    <dgm:pt modelId="{B9CD9D11-9101-4154-A4F7-72B75711DEE4}" type="pres">
      <dgm:prSet presAssocID="{8C6E727B-BB27-4601-964B-E04488349DB3}" presName="titleText2" presStyleLbl="fgAcc1" presStyleIdx="2" presStyleCnt="9" custLinFactX="-34531" custLinFactY="-21745" custLinFactNeighborX="-100000" custLinFactNeighborY="-100000">
        <dgm:presLayoutVars>
          <dgm:chMax val="0"/>
          <dgm:chPref val="0"/>
        </dgm:presLayoutVars>
      </dgm:prSet>
      <dgm:spPr/>
      <dgm:t>
        <a:bodyPr/>
        <a:lstStyle/>
        <a:p>
          <a:endParaRPr lang="en-US"/>
        </a:p>
      </dgm:t>
    </dgm:pt>
    <dgm:pt modelId="{F390441F-A4D7-4214-8519-1F32849BD652}" type="pres">
      <dgm:prSet presAssocID="{8C6E727B-BB27-4601-964B-E04488349DB3}" presName="rootConnector" presStyleLbl="node3" presStyleIdx="0" presStyleCnt="0"/>
      <dgm:spPr/>
      <dgm:t>
        <a:bodyPr/>
        <a:lstStyle/>
        <a:p>
          <a:endParaRPr lang="en-US"/>
        </a:p>
      </dgm:t>
    </dgm:pt>
    <dgm:pt modelId="{29E392A7-422D-465F-A002-4C723E2EBC88}" type="pres">
      <dgm:prSet presAssocID="{8C6E727B-BB27-4601-964B-E04488349DB3}" presName="hierChild4" presStyleCnt="0"/>
      <dgm:spPr/>
    </dgm:pt>
    <dgm:pt modelId="{63AA0C30-4289-4B68-A1DF-3818C05A4C57}" type="pres">
      <dgm:prSet presAssocID="{8C6E727B-BB27-4601-964B-E04488349DB3}" presName="hierChild5" presStyleCnt="0"/>
      <dgm:spPr/>
    </dgm:pt>
    <dgm:pt modelId="{F0F84D2A-5A94-42E5-A9F9-853EF203CD46}" type="pres">
      <dgm:prSet presAssocID="{EA42148A-84F1-4EBC-92D2-4F3356A0DF53}" presName="Name37" presStyleLbl="parChTrans1D3" presStyleIdx="2" presStyleCnt="4"/>
      <dgm:spPr/>
      <dgm:t>
        <a:bodyPr/>
        <a:lstStyle/>
        <a:p>
          <a:endParaRPr lang="en-US"/>
        </a:p>
      </dgm:t>
    </dgm:pt>
    <dgm:pt modelId="{4DAE9CDC-E7FC-443A-AB19-016F24B797F7}" type="pres">
      <dgm:prSet presAssocID="{36FFE057-F616-4C17-A7D1-1C178643AA94}" presName="hierRoot2" presStyleCnt="0">
        <dgm:presLayoutVars>
          <dgm:hierBranch val="init"/>
        </dgm:presLayoutVars>
      </dgm:prSet>
      <dgm:spPr/>
    </dgm:pt>
    <dgm:pt modelId="{4AEF4F82-61F2-4304-99E5-446733D4B98C}" type="pres">
      <dgm:prSet presAssocID="{36FFE057-F616-4C17-A7D1-1C178643AA94}" presName="rootComposite" presStyleCnt="0"/>
      <dgm:spPr/>
    </dgm:pt>
    <dgm:pt modelId="{5170FD78-ADBF-4D81-B518-E7E31B304626}" type="pres">
      <dgm:prSet presAssocID="{36FFE057-F616-4C17-A7D1-1C178643AA94}" presName="rootText" presStyleLbl="node1" presStyleIdx="3" presStyleCnt="9" custScaleY="126170" custLinFactX="-17679" custLinFactNeighborX="-100000" custLinFactNeighborY="-55641">
        <dgm:presLayoutVars>
          <dgm:chMax/>
          <dgm:chPref val="3"/>
        </dgm:presLayoutVars>
      </dgm:prSet>
      <dgm:spPr/>
      <dgm:t>
        <a:bodyPr/>
        <a:lstStyle/>
        <a:p>
          <a:endParaRPr lang="en-US"/>
        </a:p>
      </dgm:t>
    </dgm:pt>
    <dgm:pt modelId="{A2F708CF-82CC-41FF-90B0-8B8A73D7AF1D}" type="pres">
      <dgm:prSet presAssocID="{36FFE057-F616-4C17-A7D1-1C178643AA94}" presName="titleText2" presStyleLbl="fgAcc1" presStyleIdx="3" presStyleCnt="9" custLinFactX="-10782" custLinFactY="-6061" custLinFactNeighborX="-100000" custLinFactNeighborY="-100000">
        <dgm:presLayoutVars>
          <dgm:chMax val="0"/>
          <dgm:chPref val="0"/>
        </dgm:presLayoutVars>
      </dgm:prSet>
      <dgm:spPr/>
      <dgm:t>
        <a:bodyPr/>
        <a:lstStyle/>
        <a:p>
          <a:endParaRPr lang="en-US"/>
        </a:p>
      </dgm:t>
    </dgm:pt>
    <dgm:pt modelId="{F0FA1AEA-E520-4925-B872-18FFCF0A02E8}" type="pres">
      <dgm:prSet presAssocID="{36FFE057-F616-4C17-A7D1-1C178643AA94}" presName="rootConnector" presStyleLbl="node3" presStyleIdx="0" presStyleCnt="0"/>
      <dgm:spPr/>
      <dgm:t>
        <a:bodyPr/>
        <a:lstStyle/>
        <a:p>
          <a:endParaRPr lang="en-US"/>
        </a:p>
      </dgm:t>
    </dgm:pt>
    <dgm:pt modelId="{93F1F831-755E-45AB-9389-0EE72A26F10B}" type="pres">
      <dgm:prSet presAssocID="{36FFE057-F616-4C17-A7D1-1C178643AA94}" presName="hierChild4" presStyleCnt="0"/>
      <dgm:spPr/>
    </dgm:pt>
    <dgm:pt modelId="{7845DC68-D500-44D3-B617-79B0C04E1708}" type="pres">
      <dgm:prSet presAssocID="{36FFE057-F616-4C17-A7D1-1C178643AA94}" presName="hierChild5" presStyleCnt="0"/>
      <dgm:spPr/>
    </dgm:pt>
    <dgm:pt modelId="{E9B2C4F8-411F-4B9C-9BFF-E22F75F20B0C}" type="pres">
      <dgm:prSet presAssocID="{F76992DC-ABB6-492C-99D1-86DFFC62277E}" presName="hierChild5" presStyleCnt="0"/>
      <dgm:spPr/>
    </dgm:pt>
    <dgm:pt modelId="{123FE2AB-1F39-4506-BAA3-A35256914E61}" type="pres">
      <dgm:prSet presAssocID="{0AD7F8DA-3ED7-400B-A1A7-89BE4379F92C}" presName="Name37" presStyleLbl="parChTrans1D2" presStyleIdx="1" presStyleCnt="5"/>
      <dgm:spPr/>
      <dgm:t>
        <a:bodyPr/>
        <a:lstStyle/>
        <a:p>
          <a:endParaRPr lang="en-US"/>
        </a:p>
      </dgm:t>
    </dgm:pt>
    <dgm:pt modelId="{C8757E44-BEBD-49CF-B668-AD73B8C7C7F2}" type="pres">
      <dgm:prSet presAssocID="{74555DCE-D8DB-44DE-9182-D3AC72B74F51}" presName="hierRoot2" presStyleCnt="0">
        <dgm:presLayoutVars>
          <dgm:hierBranch val="init"/>
        </dgm:presLayoutVars>
      </dgm:prSet>
      <dgm:spPr/>
    </dgm:pt>
    <dgm:pt modelId="{82165AFA-F212-4FF1-B1DC-84A3CCC275F0}" type="pres">
      <dgm:prSet presAssocID="{74555DCE-D8DB-44DE-9182-D3AC72B74F51}" presName="rootComposite" presStyleCnt="0"/>
      <dgm:spPr/>
    </dgm:pt>
    <dgm:pt modelId="{DC1611D8-1F69-4A33-90D6-5A742235087D}" type="pres">
      <dgm:prSet presAssocID="{74555DCE-D8DB-44DE-9182-D3AC72B74F51}" presName="rootText" presStyleLbl="node1" presStyleIdx="4" presStyleCnt="9" custLinFactNeighborX="-45000" custLinFactNeighborY="-63524">
        <dgm:presLayoutVars>
          <dgm:chMax/>
          <dgm:chPref val="3"/>
        </dgm:presLayoutVars>
      </dgm:prSet>
      <dgm:spPr/>
      <dgm:t>
        <a:bodyPr/>
        <a:lstStyle/>
        <a:p>
          <a:endParaRPr lang="en-US"/>
        </a:p>
      </dgm:t>
    </dgm:pt>
    <dgm:pt modelId="{E783C6D6-F044-4385-A0E1-9B2E2505919E}" type="pres">
      <dgm:prSet presAssocID="{74555DCE-D8DB-44DE-9182-D3AC72B74F51}" presName="titleText2" presStyleLbl="fgAcc1" presStyleIdx="4" presStyleCnt="9" custLinFactY="-72467" custLinFactNeighborX="-43829" custLinFactNeighborY="-100000">
        <dgm:presLayoutVars>
          <dgm:chMax val="0"/>
          <dgm:chPref val="0"/>
        </dgm:presLayoutVars>
      </dgm:prSet>
      <dgm:spPr/>
      <dgm:t>
        <a:bodyPr/>
        <a:lstStyle/>
        <a:p>
          <a:endParaRPr lang="en-US"/>
        </a:p>
      </dgm:t>
    </dgm:pt>
    <dgm:pt modelId="{A0F194D7-3B02-4CF7-B9A5-6C5804B372AA}" type="pres">
      <dgm:prSet presAssocID="{74555DCE-D8DB-44DE-9182-D3AC72B74F51}" presName="rootConnector" presStyleLbl="node2" presStyleIdx="0" presStyleCnt="0"/>
      <dgm:spPr/>
      <dgm:t>
        <a:bodyPr/>
        <a:lstStyle/>
        <a:p>
          <a:endParaRPr lang="en-US"/>
        </a:p>
      </dgm:t>
    </dgm:pt>
    <dgm:pt modelId="{198D4AF2-AD6B-4604-8E5D-FA2FEBC4FECD}" type="pres">
      <dgm:prSet presAssocID="{74555DCE-D8DB-44DE-9182-D3AC72B74F51}" presName="hierChild4" presStyleCnt="0"/>
      <dgm:spPr/>
    </dgm:pt>
    <dgm:pt modelId="{C835A317-1263-4D14-9FDE-12F70CAEF09B}" type="pres">
      <dgm:prSet presAssocID="{E89E60A4-7D94-43A3-A64A-4E6C353986E1}" presName="Name37" presStyleLbl="parChTrans1D3" presStyleIdx="3" presStyleCnt="4"/>
      <dgm:spPr/>
      <dgm:t>
        <a:bodyPr/>
        <a:lstStyle/>
        <a:p>
          <a:endParaRPr lang="en-US"/>
        </a:p>
      </dgm:t>
    </dgm:pt>
    <dgm:pt modelId="{BAEE655A-E0A2-4382-B3F4-9F92237A2FBA}" type="pres">
      <dgm:prSet presAssocID="{8117C2A7-4CF1-48F5-ACC9-849B4147D470}" presName="hierRoot2" presStyleCnt="0">
        <dgm:presLayoutVars>
          <dgm:hierBranch val="init"/>
        </dgm:presLayoutVars>
      </dgm:prSet>
      <dgm:spPr/>
    </dgm:pt>
    <dgm:pt modelId="{67FD6FDC-8EB3-401F-8CCC-C332F0D3942C}" type="pres">
      <dgm:prSet presAssocID="{8117C2A7-4CF1-48F5-ACC9-849B4147D470}" presName="rootComposite" presStyleCnt="0"/>
      <dgm:spPr/>
    </dgm:pt>
    <dgm:pt modelId="{4E29C61A-69F0-4ABF-81D0-09B054C37091}" type="pres">
      <dgm:prSet presAssocID="{8117C2A7-4CF1-48F5-ACC9-849B4147D470}" presName="rootText" presStyleLbl="node1" presStyleIdx="5" presStyleCnt="9" custLinFactX="-6274" custLinFactNeighborX="-100000" custLinFactNeighborY="-44491">
        <dgm:presLayoutVars>
          <dgm:chMax/>
          <dgm:chPref val="3"/>
        </dgm:presLayoutVars>
      </dgm:prSet>
      <dgm:spPr/>
      <dgm:t>
        <a:bodyPr/>
        <a:lstStyle/>
        <a:p>
          <a:endParaRPr lang="en-US"/>
        </a:p>
      </dgm:t>
    </dgm:pt>
    <dgm:pt modelId="{BF5F160D-AC6C-4A2F-8246-4FCF97199590}" type="pres">
      <dgm:prSet presAssocID="{8117C2A7-4CF1-48F5-ACC9-849B4147D470}" presName="titleText2" presStyleLbl="fgAcc1" presStyleIdx="5" presStyleCnt="9" custLinFactX="-12956" custLinFactY="-21745" custLinFactNeighborX="-100000" custLinFactNeighborY="-100000">
        <dgm:presLayoutVars>
          <dgm:chMax val="0"/>
          <dgm:chPref val="0"/>
        </dgm:presLayoutVars>
      </dgm:prSet>
      <dgm:spPr/>
      <dgm:t>
        <a:bodyPr/>
        <a:lstStyle/>
        <a:p>
          <a:endParaRPr lang="en-US"/>
        </a:p>
      </dgm:t>
    </dgm:pt>
    <dgm:pt modelId="{E62ED0DC-79BD-4CF4-B3E7-85B61112C3F1}" type="pres">
      <dgm:prSet presAssocID="{8117C2A7-4CF1-48F5-ACC9-849B4147D470}" presName="rootConnector" presStyleLbl="node3" presStyleIdx="0" presStyleCnt="0"/>
      <dgm:spPr/>
      <dgm:t>
        <a:bodyPr/>
        <a:lstStyle/>
        <a:p>
          <a:endParaRPr lang="en-US"/>
        </a:p>
      </dgm:t>
    </dgm:pt>
    <dgm:pt modelId="{C392DD44-F332-440A-AA14-1E5718F042F7}" type="pres">
      <dgm:prSet presAssocID="{8117C2A7-4CF1-48F5-ACC9-849B4147D470}" presName="hierChild4" presStyleCnt="0"/>
      <dgm:spPr/>
    </dgm:pt>
    <dgm:pt modelId="{5F150BD5-042C-4F81-B956-E6D71B17E018}" type="pres">
      <dgm:prSet presAssocID="{8117C2A7-4CF1-48F5-ACC9-849B4147D470}" presName="hierChild5" presStyleCnt="0"/>
      <dgm:spPr/>
    </dgm:pt>
    <dgm:pt modelId="{F37A118B-E2C2-4702-A91B-BFFB6896CB28}" type="pres">
      <dgm:prSet presAssocID="{74555DCE-D8DB-44DE-9182-D3AC72B74F51}" presName="hierChild5" presStyleCnt="0"/>
      <dgm:spPr/>
    </dgm:pt>
    <dgm:pt modelId="{FB29F1A7-5068-4776-9704-F0F4CA6F3B09}" type="pres">
      <dgm:prSet presAssocID="{0C395F36-3AB0-443F-BF1B-15D4F9E342A5}" presName="Name37" presStyleLbl="parChTrans1D2" presStyleIdx="2" presStyleCnt="5"/>
      <dgm:spPr/>
      <dgm:t>
        <a:bodyPr/>
        <a:lstStyle/>
        <a:p>
          <a:endParaRPr lang="en-US"/>
        </a:p>
      </dgm:t>
    </dgm:pt>
    <dgm:pt modelId="{47136E96-74A2-41B5-893A-97850A840220}" type="pres">
      <dgm:prSet presAssocID="{33F52F90-E9CA-4EAB-8B14-1B7E4873193B}" presName="hierRoot2" presStyleCnt="0">
        <dgm:presLayoutVars>
          <dgm:hierBranch val="init"/>
        </dgm:presLayoutVars>
      </dgm:prSet>
      <dgm:spPr/>
    </dgm:pt>
    <dgm:pt modelId="{C14588CC-104E-4F56-A874-1F7059A27E1D}" type="pres">
      <dgm:prSet presAssocID="{33F52F90-E9CA-4EAB-8B14-1B7E4873193B}" presName="rootComposite" presStyleCnt="0"/>
      <dgm:spPr/>
    </dgm:pt>
    <dgm:pt modelId="{B12B54A2-5BE2-4426-A1E5-9D0A84D70936}" type="pres">
      <dgm:prSet presAssocID="{33F52F90-E9CA-4EAB-8B14-1B7E4873193B}" presName="rootText" presStyleLbl="node1" presStyleIdx="6" presStyleCnt="9" custLinFactNeighborX="85249" custLinFactNeighborY="-63524">
        <dgm:presLayoutVars>
          <dgm:chMax/>
          <dgm:chPref val="3"/>
        </dgm:presLayoutVars>
      </dgm:prSet>
      <dgm:spPr/>
      <dgm:t>
        <a:bodyPr/>
        <a:lstStyle/>
        <a:p>
          <a:endParaRPr lang="en-US"/>
        </a:p>
      </dgm:t>
    </dgm:pt>
    <dgm:pt modelId="{0848633D-D36B-41DC-BCA6-798868514AD7}" type="pres">
      <dgm:prSet presAssocID="{33F52F90-E9CA-4EAB-8B14-1B7E4873193B}" presName="titleText2" presStyleLbl="fgAcc1" presStyleIdx="6" presStyleCnt="9" custLinFactY="-77898" custLinFactNeighborX="97201" custLinFactNeighborY="-100000">
        <dgm:presLayoutVars>
          <dgm:chMax val="0"/>
          <dgm:chPref val="0"/>
        </dgm:presLayoutVars>
      </dgm:prSet>
      <dgm:spPr/>
      <dgm:t>
        <a:bodyPr/>
        <a:lstStyle/>
        <a:p>
          <a:endParaRPr lang="en-US"/>
        </a:p>
      </dgm:t>
    </dgm:pt>
    <dgm:pt modelId="{2B0327E0-4FF7-4AF2-A828-A1ECA9B92EDD}" type="pres">
      <dgm:prSet presAssocID="{33F52F90-E9CA-4EAB-8B14-1B7E4873193B}" presName="rootConnector" presStyleLbl="node2" presStyleIdx="0" presStyleCnt="0"/>
      <dgm:spPr/>
      <dgm:t>
        <a:bodyPr/>
        <a:lstStyle/>
        <a:p>
          <a:endParaRPr lang="en-US"/>
        </a:p>
      </dgm:t>
    </dgm:pt>
    <dgm:pt modelId="{2C034A36-69E0-41BE-B0F9-A11730A3D115}" type="pres">
      <dgm:prSet presAssocID="{33F52F90-E9CA-4EAB-8B14-1B7E4873193B}" presName="hierChild4" presStyleCnt="0"/>
      <dgm:spPr/>
    </dgm:pt>
    <dgm:pt modelId="{126E9934-C8A2-4E78-BE64-9AFEA610A575}" type="pres">
      <dgm:prSet presAssocID="{33F52F90-E9CA-4EAB-8B14-1B7E4873193B}" presName="hierChild5" presStyleCnt="0"/>
      <dgm:spPr/>
    </dgm:pt>
    <dgm:pt modelId="{6836D6BC-02A8-4345-90A3-7C12EDF850E8}" type="pres">
      <dgm:prSet presAssocID="{F47887B5-DB77-4B69-B2E6-15ECAF351DFC}" presName="Name37" presStyleLbl="parChTrans1D2" presStyleIdx="3" presStyleCnt="5"/>
      <dgm:spPr/>
      <dgm:t>
        <a:bodyPr/>
        <a:lstStyle/>
        <a:p>
          <a:endParaRPr lang="en-US"/>
        </a:p>
      </dgm:t>
    </dgm:pt>
    <dgm:pt modelId="{CA38D683-3A19-4F95-9520-9174288ACEBF}" type="pres">
      <dgm:prSet presAssocID="{BACA52B9-FBA2-4270-95BC-A8BA219B1CFB}" presName="hierRoot2" presStyleCnt="0">
        <dgm:presLayoutVars>
          <dgm:hierBranch val="init"/>
        </dgm:presLayoutVars>
      </dgm:prSet>
      <dgm:spPr/>
    </dgm:pt>
    <dgm:pt modelId="{45F73C8B-D45B-4713-9A36-C832D7C2683D}" type="pres">
      <dgm:prSet presAssocID="{BACA52B9-FBA2-4270-95BC-A8BA219B1CFB}" presName="rootComposite" presStyleCnt="0"/>
      <dgm:spPr/>
    </dgm:pt>
    <dgm:pt modelId="{38981D83-9005-448D-AFA0-90EA705601BF}" type="pres">
      <dgm:prSet presAssocID="{BACA52B9-FBA2-4270-95BC-A8BA219B1CFB}" presName="rootText" presStyleLbl="node1" presStyleIdx="7" presStyleCnt="9" custLinFactNeighborX="-65565" custLinFactNeighborY="98137">
        <dgm:presLayoutVars>
          <dgm:chMax/>
          <dgm:chPref val="3"/>
        </dgm:presLayoutVars>
      </dgm:prSet>
      <dgm:spPr/>
      <dgm:t>
        <a:bodyPr/>
        <a:lstStyle/>
        <a:p>
          <a:endParaRPr lang="en-US"/>
        </a:p>
      </dgm:t>
    </dgm:pt>
    <dgm:pt modelId="{7F5E27C3-DBD6-4169-827B-CDD457B5FC97}" type="pres">
      <dgm:prSet presAssocID="{BACA52B9-FBA2-4270-95BC-A8BA219B1CFB}" presName="titleText2" presStyleLbl="fgAcc1" presStyleIdx="7" presStyleCnt="9" custLinFactY="131441" custLinFactNeighborX="-70910" custLinFactNeighborY="200000">
        <dgm:presLayoutVars>
          <dgm:chMax val="0"/>
          <dgm:chPref val="0"/>
        </dgm:presLayoutVars>
      </dgm:prSet>
      <dgm:spPr/>
      <dgm:t>
        <a:bodyPr/>
        <a:lstStyle/>
        <a:p>
          <a:endParaRPr lang="en-US"/>
        </a:p>
      </dgm:t>
    </dgm:pt>
    <dgm:pt modelId="{AE235C6C-910C-4793-9BC6-D031AD79B580}" type="pres">
      <dgm:prSet presAssocID="{BACA52B9-FBA2-4270-95BC-A8BA219B1CFB}" presName="rootConnector" presStyleLbl="node2" presStyleIdx="0" presStyleCnt="0"/>
      <dgm:spPr/>
      <dgm:t>
        <a:bodyPr/>
        <a:lstStyle/>
        <a:p>
          <a:endParaRPr lang="en-US"/>
        </a:p>
      </dgm:t>
    </dgm:pt>
    <dgm:pt modelId="{9F1C54CC-ADCC-443C-98AE-28CB805A4898}" type="pres">
      <dgm:prSet presAssocID="{BACA52B9-FBA2-4270-95BC-A8BA219B1CFB}" presName="hierChild4" presStyleCnt="0"/>
      <dgm:spPr/>
    </dgm:pt>
    <dgm:pt modelId="{47D6F45A-6BDB-4790-92B6-776B443F8EAA}" type="pres">
      <dgm:prSet presAssocID="{BACA52B9-FBA2-4270-95BC-A8BA219B1CFB}" presName="hierChild5" presStyleCnt="0"/>
      <dgm:spPr/>
    </dgm:pt>
    <dgm:pt modelId="{C5C7A43C-16E0-4BFD-A3AF-D938B04A7260}" type="pres">
      <dgm:prSet presAssocID="{E09C90AC-5571-4D68-A48F-563CCB04C74D}" presName="Name37" presStyleLbl="parChTrans1D2" presStyleIdx="4" presStyleCnt="5"/>
      <dgm:spPr/>
      <dgm:t>
        <a:bodyPr/>
        <a:lstStyle/>
        <a:p>
          <a:endParaRPr lang="en-US"/>
        </a:p>
      </dgm:t>
    </dgm:pt>
    <dgm:pt modelId="{262D742C-D6F5-4F51-98D5-01BB123F8AE1}" type="pres">
      <dgm:prSet presAssocID="{C407AFB1-F66E-4663-9933-6E5E782D67CF}" presName="hierRoot2" presStyleCnt="0">
        <dgm:presLayoutVars>
          <dgm:hierBranch val="init"/>
        </dgm:presLayoutVars>
      </dgm:prSet>
      <dgm:spPr/>
    </dgm:pt>
    <dgm:pt modelId="{15B984D3-D3AF-4CDC-84CE-4ED6D40DF3B3}" type="pres">
      <dgm:prSet presAssocID="{C407AFB1-F66E-4663-9933-6E5E782D67CF}" presName="rootComposite" presStyleCnt="0"/>
      <dgm:spPr/>
    </dgm:pt>
    <dgm:pt modelId="{F8073174-8745-4F36-A79D-FA574B920482}" type="pres">
      <dgm:prSet presAssocID="{C407AFB1-F66E-4663-9933-6E5E782D67CF}" presName="rootText" presStyleLbl="node1" presStyleIdx="8" presStyleCnt="9" custLinFactNeighborX="-35317" custLinFactNeighborY="91887">
        <dgm:presLayoutVars>
          <dgm:chMax/>
          <dgm:chPref val="3"/>
        </dgm:presLayoutVars>
      </dgm:prSet>
      <dgm:spPr/>
      <dgm:t>
        <a:bodyPr/>
        <a:lstStyle/>
        <a:p>
          <a:endParaRPr lang="en-US"/>
        </a:p>
      </dgm:t>
    </dgm:pt>
    <dgm:pt modelId="{AB3BBE7A-1FF3-4F7F-B229-646A7EFF1D6C}" type="pres">
      <dgm:prSet presAssocID="{C407AFB1-F66E-4663-9933-6E5E782D67CF}" presName="titleText2" presStyleLbl="fgAcc1" presStyleIdx="8" presStyleCnt="9" custLinFactY="126794" custLinFactNeighborX="-33070" custLinFactNeighborY="200000">
        <dgm:presLayoutVars>
          <dgm:chMax val="0"/>
          <dgm:chPref val="0"/>
        </dgm:presLayoutVars>
      </dgm:prSet>
      <dgm:spPr/>
      <dgm:t>
        <a:bodyPr/>
        <a:lstStyle/>
        <a:p>
          <a:endParaRPr lang="en-US"/>
        </a:p>
      </dgm:t>
    </dgm:pt>
    <dgm:pt modelId="{4B776713-0618-4420-829F-350181B2A267}" type="pres">
      <dgm:prSet presAssocID="{C407AFB1-F66E-4663-9933-6E5E782D67CF}" presName="rootConnector" presStyleLbl="node2" presStyleIdx="0" presStyleCnt="0"/>
      <dgm:spPr/>
      <dgm:t>
        <a:bodyPr/>
        <a:lstStyle/>
        <a:p>
          <a:endParaRPr lang="en-US"/>
        </a:p>
      </dgm:t>
    </dgm:pt>
    <dgm:pt modelId="{38808617-17BD-48BF-B23E-A7A7E045C78B}" type="pres">
      <dgm:prSet presAssocID="{C407AFB1-F66E-4663-9933-6E5E782D67CF}" presName="hierChild4" presStyleCnt="0"/>
      <dgm:spPr/>
    </dgm:pt>
    <dgm:pt modelId="{0E3A662E-A970-4645-A198-6E0ECC8BCDCA}" type="pres">
      <dgm:prSet presAssocID="{C407AFB1-F66E-4663-9933-6E5E782D67CF}" presName="hierChild5" presStyleCnt="0"/>
      <dgm:spPr/>
    </dgm:pt>
    <dgm:pt modelId="{E4CD365D-E962-4997-8122-F36AF9CEA643}" type="pres">
      <dgm:prSet presAssocID="{0D9B1AA7-CAC9-482F-BC16-AB374CF3584F}" presName="hierChild3" presStyleCnt="0"/>
      <dgm:spPr/>
    </dgm:pt>
    <dgm:pt modelId="{3345763F-4A83-41F4-A5DC-9752D93B96AB}" type="pres">
      <dgm:prSet presAssocID="{08A8DD54-CDAC-460A-A12E-82AE6263222B}" presName="hierRoot1" presStyleCnt="0">
        <dgm:presLayoutVars>
          <dgm:hierBranch val="init"/>
        </dgm:presLayoutVars>
      </dgm:prSet>
      <dgm:spPr/>
    </dgm:pt>
    <dgm:pt modelId="{E38E0A05-1DE5-4CD8-BBD5-90BD34DCAE3E}" type="pres">
      <dgm:prSet presAssocID="{08A8DD54-CDAC-460A-A12E-82AE6263222B}" presName="rootComposite1" presStyleCnt="0"/>
      <dgm:spPr/>
    </dgm:pt>
    <dgm:pt modelId="{7FD4DAC4-33CE-4B3E-A2E0-A08840168B47}" type="pres">
      <dgm:prSet presAssocID="{08A8DD54-CDAC-460A-A12E-82AE6263222B}" presName="rootText1" presStyleLbl="node0" presStyleIdx="1" presStyleCnt="2" custLinFactX="-100000" custLinFactY="200000" custLinFactNeighborX="-139607" custLinFactNeighborY="236287">
        <dgm:presLayoutVars>
          <dgm:chMax/>
          <dgm:chPref val="3"/>
        </dgm:presLayoutVars>
      </dgm:prSet>
      <dgm:spPr/>
      <dgm:t>
        <a:bodyPr/>
        <a:lstStyle/>
        <a:p>
          <a:endParaRPr lang="en-US"/>
        </a:p>
      </dgm:t>
    </dgm:pt>
    <dgm:pt modelId="{1F1A2B64-5583-464A-97C6-1CE18E4F6130}" type="pres">
      <dgm:prSet presAssocID="{08A8DD54-CDAC-460A-A12E-82AE6263222B}" presName="titleText1" presStyleLbl="fgAcc0" presStyleIdx="1" presStyleCnt="2" custLinFactX="-100000" custLinFactY="620587" custLinFactNeighborX="-169969" custLinFactNeighborY="700000">
        <dgm:presLayoutVars>
          <dgm:chMax val="0"/>
          <dgm:chPref val="0"/>
        </dgm:presLayoutVars>
      </dgm:prSet>
      <dgm:spPr/>
      <dgm:t>
        <a:bodyPr/>
        <a:lstStyle/>
        <a:p>
          <a:endParaRPr lang="en-US"/>
        </a:p>
      </dgm:t>
    </dgm:pt>
    <dgm:pt modelId="{7A5CBAB2-4660-4A10-AFDE-8A1A14460738}" type="pres">
      <dgm:prSet presAssocID="{08A8DD54-CDAC-460A-A12E-82AE6263222B}" presName="rootConnector1" presStyleLbl="node1" presStyleIdx="8" presStyleCnt="9"/>
      <dgm:spPr/>
      <dgm:t>
        <a:bodyPr/>
        <a:lstStyle/>
        <a:p>
          <a:endParaRPr lang="en-US"/>
        </a:p>
      </dgm:t>
    </dgm:pt>
    <dgm:pt modelId="{13B3AB81-AD51-47EE-B745-8B5CA20720EA}" type="pres">
      <dgm:prSet presAssocID="{08A8DD54-CDAC-460A-A12E-82AE6263222B}" presName="hierChild2" presStyleCnt="0"/>
      <dgm:spPr/>
    </dgm:pt>
    <dgm:pt modelId="{381F9597-71E9-48F2-8625-33326ABF426C}" type="pres">
      <dgm:prSet presAssocID="{08A8DD54-CDAC-460A-A12E-82AE6263222B}" presName="hierChild3" presStyleCnt="0"/>
      <dgm:spPr/>
    </dgm:pt>
  </dgm:ptLst>
  <dgm:cxnLst>
    <dgm:cxn modelId="{A6B6A3D1-68B1-46D2-9EF7-6779C574AF6B}" type="presOf" srcId="{F76992DC-ABB6-492C-99D1-86DFFC62277E}" destId="{AD97956D-FACC-4136-BE0A-AE323C1B5669}" srcOrd="1" destOrd="0" presId="urn:microsoft.com/office/officeart/2008/layout/NameandTitleOrganizationalChart"/>
    <dgm:cxn modelId="{1A6E1D27-1664-4F33-A6E4-334930656A72}" srcId="{0D9B1AA7-CAC9-482F-BC16-AB374CF3584F}" destId="{33F52F90-E9CA-4EAB-8B14-1B7E4873193B}" srcOrd="2" destOrd="0" parTransId="{0C395F36-3AB0-443F-BF1B-15D4F9E342A5}" sibTransId="{FF2F0B71-E900-4842-A419-CCD33BE11BFB}"/>
    <dgm:cxn modelId="{079ADE88-2717-479E-9922-7B44B6DD1A49}" type="presOf" srcId="{0AD7F8DA-3ED7-400B-A1A7-89BE4379F92C}" destId="{123FE2AB-1F39-4506-BAA3-A35256914E61}" srcOrd="0" destOrd="0" presId="urn:microsoft.com/office/officeart/2008/layout/NameandTitleOrganizationalChart"/>
    <dgm:cxn modelId="{20E37777-A86C-4696-B1F4-12E82A4EFB6E}" type="presOf" srcId="{C352B8D3-F9C2-4C71-B8A2-98414276E92B}" destId="{A21C8828-9199-42BE-AD44-FF794D6DF675}" srcOrd="0" destOrd="0" presId="urn:microsoft.com/office/officeart/2008/layout/NameandTitleOrganizationalChart"/>
    <dgm:cxn modelId="{B8F1FBD9-CFC8-475A-93E8-7C77E7F01B23}" srcId="{0D9B1AA7-CAC9-482F-BC16-AB374CF3584F}" destId="{BACA52B9-FBA2-4270-95BC-A8BA219B1CFB}" srcOrd="3" destOrd="0" parTransId="{F47887B5-DB77-4B69-B2E6-15ECAF351DFC}" sibTransId="{8C8BF78F-500D-455A-808B-3D762CD2321E}"/>
    <dgm:cxn modelId="{45E6DB76-200C-4B6D-BF42-B595DD8F4144}" type="presOf" srcId="{26692D86-3107-444B-B466-B1040A21D4E4}" destId="{1B2A69DA-A7A7-433D-B99C-61BC03DBCE83}" srcOrd="0" destOrd="0" presId="urn:microsoft.com/office/officeart/2008/layout/NameandTitleOrganizationalChart"/>
    <dgm:cxn modelId="{53994981-843A-487B-BB55-491D7AE3CE17}" type="presOf" srcId="{BACA52B9-FBA2-4270-95BC-A8BA219B1CFB}" destId="{AE235C6C-910C-4793-9BC6-D031AD79B580}" srcOrd="1" destOrd="0" presId="urn:microsoft.com/office/officeart/2008/layout/NameandTitleOrganizationalChart"/>
    <dgm:cxn modelId="{BF3C4DAA-224A-49D5-A64D-BF04B0B8D385}" srcId="{6051BF94-11B4-4909-ACFE-EAE77BD76837}" destId="{08A8DD54-CDAC-460A-A12E-82AE6263222B}" srcOrd="1" destOrd="0" parTransId="{9DA3520F-5A81-40CD-B30C-BD5C13A0C15E}" sibTransId="{1C8E8B27-98E0-42A0-B815-C9FCBB49F2BF}"/>
    <dgm:cxn modelId="{01EBE536-71C9-4674-BDC4-0F56A1CF0EC3}" type="presOf" srcId="{08A8DD54-CDAC-460A-A12E-82AE6263222B}" destId="{7A5CBAB2-4660-4A10-AFDE-8A1A14460738}" srcOrd="1" destOrd="0" presId="urn:microsoft.com/office/officeart/2008/layout/NameandTitleOrganizationalChart"/>
    <dgm:cxn modelId="{F69FB3D6-AE10-4A7C-BE94-803626F1F762}" type="presOf" srcId="{E89E60A4-7D94-43A3-A64A-4E6C353986E1}" destId="{C835A317-1263-4D14-9FDE-12F70CAEF09B}" srcOrd="0" destOrd="0" presId="urn:microsoft.com/office/officeart/2008/layout/NameandTitleOrganizationalChart"/>
    <dgm:cxn modelId="{556B34CB-9A17-47FD-82B1-25806540C698}" type="presOf" srcId="{EA42148A-84F1-4EBC-92D2-4F3356A0DF53}" destId="{F0F84D2A-5A94-42E5-A9F9-853EF203CD46}" srcOrd="0" destOrd="0" presId="urn:microsoft.com/office/officeart/2008/layout/NameandTitleOrganizationalChart"/>
    <dgm:cxn modelId="{7E002CC6-6E3C-4FDC-A560-BE3BC86571C0}" type="presOf" srcId="{C407AFB1-F66E-4663-9933-6E5E782D67CF}" destId="{F8073174-8745-4F36-A79D-FA574B920482}" srcOrd="0" destOrd="0" presId="urn:microsoft.com/office/officeart/2008/layout/NameandTitleOrganizationalChart"/>
    <dgm:cxn modelId="{3E288916-8750-4250-81E7-D782CC7FF538}" type="presOf" srcId="{F47887B5-DB77-4B69-B2E6-15ECAF351DFC}" destId="{6836D6BC-02A8-4345-90A3-7C12EDF850E8}" srcOrd="0" destOrd="0" presId="urn:microsoft.com/office/officeart/2008/layout/NameandTitleOrganizationalChart"/>
    <dgm:cxn modelId="{A2CE18E3-88E2-449E-8C74-F5AA92DCF7A1}" srcId="{0D9B1AA7-CAC9-482F-BC16-AB374CF3584F}" destId="{F76992DC-ABB6-492C-99D1-86DFFC62277E}" srcOrd="0" destOrd="0" parTransId="{26692D86-3107-444B-B466-B1040A21D4E4}" sibTransId="{C352B8D3-F9C2-4C71-B8A2-98414276E92B}"/>
    <dgm:cxn modelId="{DAB17FD1-3FA9-4768-9EAF-14FEDA7AC083}" type="presOf" srcId="{08A8DD54-CDAC-460A-A12E-82AE6263222B}" destId="{7FD4DAC4-33CE-4B3E-A2E0-A08840168B47}" srcOrd="0" destOrd="0" presId="urn:microsoft.com/office/officeart/2008/layout/NameandTitleOrganizationalChart"/>
    <dgm:cxn modelId="{E27D63D7-8C28-4AC4-8AF8-9F32F835AFBC}" srcId="{F76992DC-ABB6-492C-99D1-86DFFC62277E}" destId="{36FFE057-F616-4C17-A7D1-1C178643AA94}" srcOrd="2" destOrd="0" parTransId="{EA42148A-84F1-4EBC-92D2-4F3356A0DF53}" sibTransId="{10E02276-FB89-4125-9FFB-CB159CB5D46A}"/>
    <dgm:cxn modelId="{A03A3931-F472-4CF2-A801-5248446953CB}" type="presOf" srcId="{858D9B0F-86B4-492B-85B4-5A76B0CAA758}" destId="{AB3BBE7A-1FF3-4F7F-B229-646A7EFF1D6C}" srcOrd="0" destOrd="0" presId="urn:microsoft.com/office/officeart/2008/layout/NameandTitleOrganizationalChart"/>
    <dgm:cxn modelId="{0F5C2670-D06C-4E33-87AE-FC26AAAF755F}" type="presOf" srcId="{E5415851-D99F-428A-9B83-71B49563F219}" destId="{BF5F160D-AC6C-4A2F-8246-4FCF97199590}" srcOrd="0" destOrd="0" presId="urn:microsoft.com/office/officeart/2008/layout/NameandTitleOrganizationalChart"/>
    <dgm:cxn modelId="{5735A4E7-9446-463B-B1A9-749050102553}" type="presOf" srcId="{79BF75C3-7093-4377-A8D1-843A3ADDB773}" destId="{9CD46C41-FE71-4C0E-B160-9F2A23B7F503}" srcOrd="0" destOrd="0" presId="urn:microsoft.com/office/officeart/2008/layout/NameandTitleOrganizationalChart"/>
    <dgm:cxn modelId="{7A73D7F1-A983-40FF-8958-29F06771CAEA}" type="presOf" srcId="{74555DCE-D8DB-44DE-9182-D3AC72B74F51}" destId="{A0F194D7-3B02-4CF7-B9A5-6C5804B372AA}" srcOrd="1" destOrd="0" presId="urn:microsoft.com/office/officeart/2008/layout/NameandTitleOrganizationalChart"/>
    <dgm:cxn modelId="{C1CBFC99-6113-4F92-8730-97FE3E6C3E2F}" type="presOf" srcId="{1E245ACB-5C92-49F7-B312-98DD70F2E9C3}" destId="{410C45C9-34CB-4CE5-BB3B-B59C9C45690F}" srcOrd="0" destOrd="0" presId="urn:microsoft.com/office/officeart/2008/layout/NameandTitleOrganizationalChart"/>
    <dgm:cxn modelId="{9303A3EA-E15E-4261-816D-AFD674B8BBD9}" type="presOf" srcId="{10E02276-FB89-4125-9FFB-CB159CB5D46A}" destId="{A2F708CF-82CC-41FF-90B0-8B8A73D7AF1D}" srcOrd="0" destOrd="0" presId="urn:microsoft.com/office/officeart/2008/layout/NameandTitleOrganizationalChart"/>
    <dgm:cxn modelId="{3BDFE18B-C95A-4828-A940-BD7E139DE23B}" type="presOf" srcId="{0D9B1AA7-CAC9-482F-BC16-AB374CF3584F}" destId="{CC0383FD-8C86-4AA8-80E8-050B978EAE40}" srcOrd="1" destOrd="0" presId="urn:microsoft.com/office/officeart/2008/layout/NameandTitleOrganizationalChart"/>
    <dgm:cxn modelId="{1B8930F9-A7D0-41EA-8DF7-D360F3BEAC8D}" type="presOf" srcId="{40852540-1F81-42E3-B764-38402935AB03}" destId="{E783C6D6-F044-4385-A0E1-9B2E2505919E}" srcOrd="0" destOrd="0" presId="urn:microsoft.com/office/officeart/2008/layout/NameandTitleOrganizationalChart"/>
    <dgm:cxn modelId="{AB23EC99-8E88-4A8B-B525-D86ABDCB5A50}" type="presOf" srcId="{6051BF94-11B4-4909-ACFE-EAE77BD76837}" destId="{0A920B55-6C29-4F8B-AAD5-BC36F6B2BA07}" srcOrd="0" destOrd="0" presId="urn:microsoft.com/office/officeart/2008/layout/NameandTitleOrganizationalChart"/>
    <dgm:cxn modelId="{2BC40A0B-7BC3-4C7C-A399-502637359AE2}" type="presOf" srcId="{BACA52B9-FBA2-4270-95BC-A8BA219B1CFB}" destId="{38981D83-9005-448D-AFA0-90EA705601BF}" srcOrd="0" destOrd="0" presId="urn:microsoft.com/office/officeart/2008/layout/NameandTitleOrganizationalChart"/>
    <dgm:cxn modelId="{BD944AB0-C1F4-402E-919D-9910E27B13E2}" type="presOf" srcId="{F502D780-D3C2-49CA-8C35-15EDC2F8DD82}" destId="{B9CD9D11-9101-4154-A4F7-72B75711DEE4}" srcOrd="0" destOrd="0" presId="urn:microsoft.com/office/officeart/2008/layout/NameandTitleOrganizationalChart"/>
    <dgm:cxn modelId="{DE1E6D54-F12A-425E-8940-A60FB084F45E}" type="presOf" srcId="{E09C90AC-5571-4D68-A48F-563CCB04C74D}" destId="{C5C7A43C-16E0-4BFD-A3AF-D938B04A7260}" srcOrd="0" destOrd="0" presId="urn:microsoft.com/office/officeart/2008/layout/NameandTitleOrganizationalChart"/>
    <dgm:cxn modelId="{626CAF0C-00E3-402F-BF3A-DDEEABECF053}" type="presOf" srcId="{33F52F90-E9CA-4EAB-8B14-1B7E4873193B}" destId="{2B0327E0-4FF7-4AF2-A828-A1ECA9B92EDD}" srcOrd="1" destOrd="0" presId="urn:microsoft.com/office/officeart/2008/layout/NameandTitleOrganizationalChart"/>
    <dgm:cxn modelId="{E0527EC0-6AC5-49CF-A589-ECD4E8B69A9A}" type="presOf" srcId="{C407AFB1-F66E-4663-9933-6E5E782D67CF}" destId="{4B776713-0618-4420-829F-350181B2A267}" srcOrd="1" destOrd="0" presId="urn:microsoft.com/office/officeart/2008/layout/NameandTitleOrganizationalChart"/>
    <dgm:cxn modelId="{06217A8C-1A80-416F-BF4C-17EA67C206BD}" type="presOf" srcId="{F76992DC-ABB6-492C-99D1-86DFFC62277E}" destId="{30011A53-772C-4802-B692-B28C8A080509}" srcOrd="0" destOrd="0" presId="urn:microsoft.com/office/officeart/2008/layout/NameandTitleOrganizationalChart"/>
    <dgm:cxn modelId="{9FCEFE10-84C8-47D4-ABF7-5D43E8D8DC2D}" type="presOf" srcId="{1C8E8B27-98E0-42A0-B815-C9FCBB49F2BF}" destId="{1F1A2B64-5583-464A-97C6-1CE18E4F6130}" srcOrd="0" destOrd="0" presId="urn:microsoft.com/office/officeart/2008/layout/NameandTitleOrganizationalChart"/>
    <dgm:cxn modelId="{C1B6010C-5F95-46AB-8521-0D562B075DDF}" type="presOf" srcId="{74555DCE-D8DB-44DE-9182-D3AC72B74F51}" destId="{DC1611D8-1F69-4A33-90D6-5A742235087D}" srcOrd="0" destOrd="0" presId="urn:microsoft.com/office/officeart/2008/layout/NameandTitleOrganizationalChart"/>
    <dgm:cxn modelId="{E077C421-48F8-4DA1-9AF6-705FCA449B0D}" type="presOf" srcId="{8C6E727B-BB27-4601-964B-E04488349DB3}" destId="{F390441F-A4D7-4214-8519-1F32849BD652}" srcOrd="1" destOrd="0" presId="urn:microsoft.com/office/officeart/2008/layout/NameandTitleOrganizationalChart"/>
    <dgm:cxn modelId="{5A1C3CCD-49E9-447E-BB7C-B99763111ED2}" srcId="{74555DCE-D8DB-44DE-9182-D3AC72B74F51}" destId="{8117C2A7-4CF1-48F5-ACC9-849B4147D470}" srcOrd="0" destOrd="0" parTransId="{E89E60A4-7D94-43A3-A64A-4E6C353986E1}" sibTransId="{E5415851-D99F-428A-9B83-71B49563F219}"/>
    <dgm:cxn modelId="{5458A1FE-DEA2-4B82-9304-ED1AF49F15D5}" srcId="{0D9B1AA7-CAC9-482F-BC16-AB374CF3584F}" destId="{74555DCE-D8DB-44DE-9182-D3AC72B74F51}" srcOrd="1" destOrd="0" parTransId="{0AD7F8DA-3ED7-400B-A1A7-89BE4379F92C}" sibTransId="{40852540-1F81-42E3-B764-38402935AB03}"/>
    <dgm:cxn modelId="{9E5D5A0C-EF37-49B6-B172-40ACE8DFCA93}" type="presOf" srcId="{0D9B1AA7-CAC9-482F-BC16-AB374CF3584F}" destId="{1AEE194E-9DB1-4A43-BD89-8B8EBDF93D28}" srcOrd="0" destOrd="0" presId="urn:microsoft.com/office/officeart/2008/layout/NameandTitleOrganizationalChart"/>
    <dgm:cxn modelId="{D3ADB6D1-CD6F-4C03-B32C-17621B11488B}" type="presOf" srcId="{0C395F36-3AB0-443F-BF1B-15D4F9E342A5}" destId="{FB29F1A7-5068-4776-9704-F0F4CA6F3B09}" srcOrd="0" destOrd="0" presId="urn:microsoft.com/office/officeart/2008/layout/NameandTitleOrganizationalChart"/>
    <dgm:cxn modelId="{7E7D3DD0-4186-46AA-955E-FC5B3DB9A086}" type="presOf" srcId="{79BF75C3-7093-4377-A8D1-843A3ADDB773}" destId="{29C5BE76-CB83-4C36-AE38-979FFAA81C0C}" srcOrd="1" destOrd="0" presId="urn:microsoft.com/office/officeart/2008/layout/NameandTitleOrganizationalChart"/>
    <dgm:cxn modelId="{A7D6E2E4-35B7-4FB7-A02B-55EBB13045AD}" srcId="{6051BF94-11B4-4909-ACFE-EAE77BD76837}" destId="{0D9B1AA7-CAC9-482F-BC16-AB374CF3584F}" srcOrd="0" destOrd="0" parTransId="{97FDE2D6-8A9E-48FE-8A03-A3D4556B51B6}" sibTransId="{6EED7B93-E6F6-4B50-812E-9F924F90D347}"/>
    <dgm:cxn modelId="{B72B54C4-D2BD-481F-B5D7-A19013DDA98C}" srcId="{F76992DC-ABB6-492C-99D1-86DFFC62277E}" destId="{79BF75C3-7093-4377-A8D1-843A3ADDB773}" srcOrd="0" destOrd="0" parTransId="{1E245ACB-5C92-49F7-B312-98DD70F2E9C3}" sibTransId="{21E2366A-7E7C-40A8-91B2-37A7DF13657C}"/>
    <dgm:cxn modelId="{60B97A04-83D9-42AE-A239-8719D242CBE8}" type="presOf" srcId="{5F2BEFD8-DE93-4A04-9671-28D36533B7DE}" destId="{19818489-B454-4371-8B9F-F23A59189F26}" srcOrd="0" destOrd="0" presId="urn:microsoft.com/office/officeart/2008/layout/NameandTitleOrganizationalChart"/>
    <dgm:cxn modelId="{8F9BF265-2B6D-4868-BF39-0CB066AB2331}" type="presOf" srcId="{6EED7B93-E6F6-4B50-812E-9F924F90D347}" destId="{5D631930-9636-4D6A-A9A0-A9B44E6D58CE}" srcOrd="0" destOrd="0" presId="urn:microsoft.com/office/officeart/2008/layout/NameandTitleOrganizationalChart"/>
    <dgm:cxn modelId="{36A7ED73-ACF0-404C-88E2-66B78BB1FE99}" type="presOf" srcId="{8117C2A7-4CF1-48F5-ACC9-849B4147D470}" destId="{4E29C61A-69F0-4ABF-81D0-09B054C37091}" srcOrd="0" destOrd="0" presId="urn:microsoft.com/office/officeart/2008/layout/NameandTitleOrganizationalChart"/>
    <dgm:cxn modelId="{C92CB61F-2DDB-4314-8C51-31343B214D5E}" type="presOf" srcId="{21E2366A-7E7C-40A8-91B2-37A7DF13657C}" destId="{EFF48FF9-E975-4C2C-96AD-0D60D52E6CF4}" srcOrd="0" destOrd="0" presId="urn:microsoft.com/office/officeart/2008/layout/NameandTitleOrganizationalChart"/>
    <dgm:cxn modelId="{0AC6E806-0312-440D-8454-F826228C4DDB}" type="presOf" srcId="{36FFE057-F616-4C17-A7D1-1C178643AA94}" destId="{5170FD78-ADBF-4D81-B518-E7E31B304626}" srcOrd="0" destOrd="0" presId="urn:microsoft.com/office/officeart/2008/layout/NameandTitleOrganizationalChart"/>
    <dgm:cxn modelId="{7AEF29EB-A753-42D1-A3F3-F4BC806E94E2}" type="presOf" srcId="{33F52F90-E9CA-4EAB-8B14-1B7E4873193B}" destId="{B12B54A2-5BE2-4426-A1E5-9D0A84D70936}" srcOrd="0" destOrd="0" presId="urn:microsoft.com/office/officeart/2008/layout/NameandTitleOrganizationalChart"/>
    <dgm:cxn modelId="{AFC20BC9-CE56-4708-B69F-8C88AD9FC511}" type="presOf" srcId="{8C6E727B-BB27-4601-964B-E04488349DB3}" destId="{69F90016-61C0-4944-8E02-F08455CEB24E}" srcOrd="0" destOrd="0" presId="urn:microsoft.com/office/officeart/2008/layout/NameandTitleOrganizationalChart"/>
    <dgm:cxn modelId="{E831781C-B261-4264-AED5-51893799BCF8}" type="presOf" srcId="{FF2F0B71-E900-4842-A419-CCD33BE11BFB}" destId="{0848633D-D36B-41DC-BCA6-798868514AD7}" srcOrd="0" destOrd="0" presId="urn:microsoft.com/office/officeart/2008/layout/NameandTitleOrganizationalChart"/>
    <dgm:cxn modelId="{5C17736D-166E-45E6-8073-2DB913177B03}" srcId="{F76992DC-ABB6-492C-99D1-86DFFC62277E}" destId="{8C6E727B-BB27-4601-964B-E04488349DB3}" srcOrd="1" destOrd="0" parTransId="{5F2BEFD8-DE93-4A04-9671-28D36533B7DE}" sibTransId="{F502D780-D3C2-49CA-8C35-15EDC2F8DD82}"/>
    <dgm:cxn modelId="{955566FD-FC2D-4C75-8338-4AE3DA5AFB0E}" type="presOf" srcId="{8117C2A7-4CF1-48F5-ACC9-849B4147D470}" destId="{E62ED0DC-79BD-4CF4-B3E7-85B61112C3F1}" srcOrd="1" destOrd="0" presId="urn:microsoft.com/office/officeart/2008/layout/NameandTitleOrganizationalChart"/>
    <dgm:cxn modelId="{67C53106-10AC-46E4-BF64-49D00A2F4F48}" srcId="{0D9B1AA7-CAC9-482F-BC16-AB374CF3584F}" destId="{C407AFB1-F66E-4663-9933-6E5E782D67CF}" srcOrd="4" destOrd="0" parTransId="{E09C90AC-5571-4D68-A48F-563CCB04C74D}" sibTransId="{858D9B0F-86B4-492B-85B4-5A76B0CAA758}"/>
    <dgm:cxn modelId="{AD563BB6-7E02-4C64-BD8F-33C9C907C950}" type="presOf" srcId="{8C8BF78F-500D-455A-808B-3D762CD2321E}" destId="{7F5E27C3-DBD6-4169-827B-CDD457B5FC97}" srcOrd="0" destOrd="0" presId="urn:microsoft.com/office/officeart/2008/layout/NameandTitleOrganizationalChart"/>
    <dgm:cxn modelId="{713680A7-64E6-49F0-8B69-37030BB8A477}" type="presOf" srcId="{36FFE057-F616-4C17-A7D1-1C178643AA94}" destId="{F0FA1AEA-E520-4925-B872-18FFCF0A02E8}" srcOrd="1" destOrd="0" presId="urn:microsoft.com/office/officeart/2008/layout/NameandTitleOrganizationalChart"/>
    <dgm:cxn modelId="{439470C0-FA2E-4579-9B7D-8D90597DE2BA}" type="presParOf" srcId="{0A920B55-6C29-4F8B-AAD5-BC36F6B2BA07}" destId="{8E764F52-EF97-45FC-813A-06E6F43F43D5}" srcOrd="0" destOrd="0" presId="urn:microsoft.com/office/officeart/2008/layout/NameandTitleOrganizationalChart"/>
    <dgm:cxn modelId="{66D26C53-9DA9-4658-A232-18A024D69982}" type="presParOf" srcId="{8E764F52-EF97-45FC-813A-06E6F43F43D5}" destId="{BF29D45D-8D77-4930-AED5-D8205CFE6140}" srcOrd="0" destOrd="0" presId="urn:microsoft.com/office/officeart/2008/layout/NameandTitleOrganizationalChart"/>
    <dgm:cxn modelId="{292BDAAD-C95B-494C-970C-38811818C491}" type="presParOf" srcId="{BF29D45D-8D77-4930-AED5-D8205CFE6140}" destId="{1AEE194E-9DB1-4A43-BD89-8B8EBDF93D28}" srcOrd="0" destOrd="0" presId="urn:microsoft.com/office/officeart/2008/layout/NameandTitleOrganizationalChart"/>
    <dgm:cxn modelId="{2EB1BD36-A812-4191-90CB-B4FEB3815BD3}" type="presParOf" srcId="{BF29D45D-8D77-4930-AED5-D8205CFE6140}" destId="{5D631930-9636-4D6A-A9A0-A9B44E6D58CE}" srcOrd="1" destOrd="0" presId="urn:microsoft.com/office/officeart/2008/layout/NameandTitleOrganizationalChart"/>
    <dgm:cxn modelId="{AE8F4413-AC2A-49D2-B3D0-6B023E44954D}" type="presParOf" srcId="{BF29D45D-8D77-4930-AED5-D8205CFE6140}" destId="{CC0383FD-8C86-4AA8-80E8-050B978EAE40}" srcOrd="2" destOrd="0" presId="urn:microsoft.com/office/officeart/2008/layout/NameandTitleOrganizationalChart"/>
    <dgm:cxn modelId="{52397CC3-F6EE-43F8-A53D-B97FEA9FD680}" type="presParOf" srcId="{8E764F52-EF97-45FC-813A-06E6F43F43D5}" destId="{944D984D-EC3E-4819-937A-09DC83CA063F}" srcOrd="1" destOrd="0" presId="urn:microsoft.com/office/officeart/2008/layout/NameandTitleOrganizationalChart"/>
    <dgm:cxn modelId="{EFDEC7EA-2E36-43E6-80FA-E53D36B87C7F}" type="presParOf" srcId="{944D984D-EC3E-4819-937A-09DC83CA063F}" destId="{1B2A69DA-A7A7-433D-B99C-61BC03DBCE83}" srcOrd="0" destOrd="0" presId="urn:microsoft.com/office/officeart/2008/layout/NameandTitleOrganizationalChart"/>
    <dgm:cxn modelId="{5231A5AD-7F15-4BAC-A12A-14024CA5972C}" type="presParOf" srcId="{944D984D-EC3E-4819-937A-09DC83CA063F}" destId="{67B0FFA4-B3B7-411C-A46A-6FD47AE05424}" srcOrd="1" destOrd="0" presId="urn:microsoft.com/office/officeart/2008/layout/NameandTitleOrganizationalChart"/>
    <dgm:cxn modelId="{BFDAE6AF-A755-48B5-B3D8-1248C8E92A29}" type="presParOf" srcId="{67B0FFA4-B3B7-411C-A46A-6FD47AE05424}" destId="{39BCBE9E-5276-4C43-8409-3CDC77614712}" srcOrd="0" destOrd="0" presId="urn:microsoft.com/office/officeart/2008/layout/NameandTitleOrganizationalChart"/>
    <dgm:cxn modelId="{61634257-4440-428D-8F26-06AA90DC036F}" type="presParOf" srcId="{39BCBE9E-5276-4C43-8409-3CDC77614712}" destId="{30011A53-772C-4802-B692-B28C8A080509}" srcOrd="0" destOrd="0" presId="urn:microsoft.com/office/officeart/2008/layout/NameandTitleOrganizationalChart"/>
    <dgm:cxn modelId="{8D080704-850A-4A01-AC33-022B7BF3142A}" type="presParOf" srcId="{39BCBE9E-5276-4C43-8409-3CDC77614712}" destId="{A21C8828-9199-42BE-AD44-FF794D6DF675}" srcOrd="1" destOrd="0" presId="urn:microsoft.com/office/officeart/2008/layout/NameandTitleOrganizationalChart"/>
    <dgm:cxn modelId="{E61F128F-4686-4022-BEF1-7B89AF1CA94B}" type="presParOf" srcId="{39BCBE9E-5276-4C43-8409-3CDC77614712}" destId="{AD97956D-FACC-4136-BE0A-AE323C1B5669}" srcOrd="2" destOrd="0" presId="urn:microsoft.com/office/officeart/2008/layout/NameandTitleOrganizationalChart"/>
    <dgm:cxn modelId="{843A91BE-4FDD-4308-9160-D80D862CAE99}" type="presParOf" srcId="{67B0FFA4-B3B7-411C-A46A-6FD47AE05424}" destId="{091CECE8-A44B-43E5-BD64-E19A42DD3C7F}" srcOrd="1" destOrd="0" presId="urn:microsoft.com/office/officeart/2008/layout/NameandTitleOrganizationalChart"/>
    <dgm:cxn modelId="{D06604C8-C6F3-4426-AC2B-FD7BFAE571FE}" type="presParOf" srcId="{091CECE8-A44B-43E5-BD64-E19A42DD3C7F}" destId="{410C45C9-34CB-4CE5-BB3B-B59C9C45690F}" srcOrd="0" destOrd="0" presId="urn:microsoft.com/office/officeart/2008/layout/NameandTitleOrganizationalChart"/>
    <dgm:cxn modelId="{09C48EF6-29B8-429F-8955-4829502E628C}" type="presParOf" srcId="{091CECE8-A44B-43E5-BD64-E19A42DD3C7F}" destId="{1A557A63-30BE-4BF3-8246-3CC9199E8B84}" srcOrd="1" destOrd="0" presId="urn:microsoft.com/office/officeart/2008/layout/NameandTitleOrganizationalChart"/>
    <dgm:cxn modelId="{55DD7C0B-7EEB-4911-AFED-6FE4361797B1}" type="presParOf" srcId="{1A557A63-30BE-4BF3-8246-3CC9199E8B84}" destId="{293F80A7-64CC-4751-A1D5-F093777948AC}" srcOrd="0" destOrd="0" presId="urn:microsoft.com/office/officeart/2008/layout/NameandTitleOrganizationalChart"/>
    <dgm:cxn modelId="{A4651C67-CAFB-4CBB-BE25-AE4DD44A7CEC}" type="presParOf" srcId="{293F80A7-64CC-4751-A1D5-F093777948AC}" destId="{9CD46C41-FE71-4C0E-B160-9F2A23B7F503}" srcOrd="0" destOrd="0" presId="urn:microsoft.com/office/officeart/2008/layout/NameandTitleOrganizationalChart"/>
    <dgm:cxn modelId="{D5E383C7-4310-47BC-B091-A492A4330F4B}" type="presParOf" srcId="{293F80A7-64CC-4751-A1D5-F093777948AC}" destId="{EFF48FF9-E975-4C2C-96AD-0D60D52E6CF4}" srcOrd="1" destOrd="0" presId="urn:microsoft.com/office/officeart/2008/layout/NameandTitleOrganizationalChart"/>
    <dgm:cxn modelId="{EF505C06-71E8-4B9C-A870-3724059313C0}" type="presParOf" srcId="{293F80A7-64CC-4751-A1D5-F093777948AC}" destId="{29C5BE76-CB83-4C36-AE38-979FFAA81C0C}" srcOrd="2" destOrd="0" presId="urn:microsoft.com/office/officeart/2008/layout/NameandTitleOrganizationalChart"/>
    <dgm:cxn modelId="{2DFE11E6-FFCB-4AC4-85C9-6DDC77AA9D35}" type="presParOf" srcId="{1A557A63-30BE-4BF3-8246-3CC9199E8B84}" destId="{65E52C6B-7DC5-4113-88D4-BBB8A82AFC02}" srcOrd="1" destOrd="0" presId="urn:microsoft.com/office/officeart/2008/layout/NameandTitleOrganizationalChart"/>
    <dgm:cxn modelId="{25BD7BDD-31C5-4266-8964-20405BEDAF5A}" type="presParOf" srcId="{1A557A63-30BE-4BF3-8246-3CC9199E8B84}" destId="{4A7F5E4D-DABA-4798-90F6-B89A30D306A5}" srcOrd="2" destOrd="0" presId="urn:microsoft.com/office/officeart/2008/layout/NameandTitleOrganizationalChart"/>
    <dgm:cxn modelId="{9E30D838-F6F5-4522-A320-D2FAC6778828}" type="presParOf" srcId="{091CECE8-A44B-43E5-BD64-E19A42DD3C7F}" destId="{19818489-B454-4371-8B9F-F23A59189F26}" srcOrd="2" destOrd="0" presId="urn:microsoft.com/office/officeart/2008/layout/NameandTitleOrganizationalChart"/>
    <dgm:cxn modelId="{1506A36D-84C8-4D3F-A8EA-B92413095DF5}" type="presParOf" srcId="{091CECE8-A44B-43E5-BD64-E19A42DD3C7F}" destId="{B2F74041-A29E-436C-ABBC-3DCD2CDB8ED8}" srcOrd="3" destOrd="0" presId="urn:microsoft.com/office/officeart/2008/layout/NameandTitleOrganizationalChart"/>
    <dgm:cxn modelId="{4353D1E3-E2E9-409D-8777-1329020A0604}" type="presParOf" srcId="{B2F74041-A29E-436C-ABBC-3DCD2CDB8ED8}" destId="{2F72C8C1-9B21-4FF9-8B70-5CA866B27726}" srcOrd="0" destOrd="0" presId="urn:microsoft.com/office/officeart/2008/layout/NameandTitleOrganizationalChart"/>
    <dgm:cxn modelId="{678D9AF3-206A-48D3-8FEB-0873AD37D256}" type="presParOf" srcId="{2F72C8C1-9B21-4FF9-8B70-5CA866B27726}" destId="{69F90016-61C0-4944-8E02-F08455CEB24E}" srcOrd="0" destOrd="0" presId="urn:microsoft.com/office/officeart/2008/layout/NameandTitleOrganizationalChart"/>
    <dgm:cxn modelId="{40CEDEC5-6D26-4C7D-A3E4-7152A1FAB183}" type="presParOf" srcId="{2F72C8C1-9B21-4FF9-8B70-5CA866B27726}" destId="{B9CD9D11-9101-4154-A4F7-72B75711DEE4}" srcOrd="1" destOrd="0" presId="urn:microsoft.com/office/officeart/2008/layout/NameandTitleOrganizationalChart"/>
    <dgm:cxn modelId="{C128D537-765C-4B0C-9C42-D05CAD023A03}" type="presParOf" srcId="{2F72C8C1-9B21-4FF9-8B70-5CA866B27726}" destId="{F390441F-A4D7-4214-8519-1F32849BD652}" srcOrd="2" destOrd="0" presId="urn:microsoft.com/office/officeart/2008/layout/NameandTitleOrganizationalChart"/>
    <dgm:cxn modelId="{C654329A-63CB-41E8-B955-7BF76C93F964}" type="presParOf" srcId="{B2F74041-A29E-436C-ABBC-3DCD2CDB8ED8}" destId="{29E392A7-422D-465F-A002-4C723E2EBC88}" srcOrd="1" destOrd="0" presId="urn:microsoft.com/office/officeart/2008/layout/NameandTitleOrganizationalChart"/>
    <dgm:cxn modelId="{D651909F-2A85-4547-A361-78A79E42F12F}" type="presParOf" srcId="{B2F74041-A29E-436C-ABBC-3DCD2CDB8ED8}" destId="{63AA0C30-4289-4B68-A1DF-3818C05A4C57}" srcOrd="2" destOrd="0" presId="urn:microsoft.com/office/officeart/2008/layout/NameandTitleOrganizationalChart"/>
    <dgm:cxn modelId="{6E9667DC-F264-4D2F-8C34-B60F2F91F49A}" type="presParOf" srcId="{091CECE8-A44B-43E5-BD64-E19A42DD3C7F}" destId="{F0F84D2A-5A94-42E5-A9F9-853EF203CD46}" srcOrd="4" destOrd="0" presId="urn:microsoft.com/office/officeart/2008/layout/NameandTitleOrganizationalChart"/>
    <dgm:cxn modelId="{A6FFDC6E-6FFE-4536-89A5-3F4F1C37D094}" type="presParOf" srcId="{091CECE8-A44B-43E5-BD64-E19A42DD3C7F}" destId="{4DAE9CDC-E7FC-443A-AB19-016F24B797F7}" srcOrd="5" destOrd="0" presId="urn:microsoft.com/office/officeart/2008/layout/NameandTitleOrganizationalChart"/>
    <dgm:cxn modelId="{5153F161-0C89-4B1F-AF7F-0B12A6E5AA64}" type="presParOf" srcId="{4DAE9CDC-E7FC-443A-AB19-016F24B797F7}" destId="{4AEF4F82-61F2-4304-99E5-446733D4B98C}" srcOrd="0" destOrd="0" presId="urn:microsoft.com/office/officeart/2008/layout/NameandTitleOrganizationalChart"/>
    <dgm:cxn modelId="{6424DB49-348E-4866-B670-C85582CCB2F0}" type="presParOf" srcId="{4AEF4F82-61F2-4304-99E5-446733D4B98C}" destId="{5170FD78-ADBF-4D81-B518-E7E31B304626}" srcOrd="0" destOrd="0" presId="urn:microsoft.com/office/officeart/2008/layout/NameandTitleOrganizationalChart"/>
    <dgm:cxn modelId="{93719533-233F-43A9-B430-E40FD65B18BA}" type="presParOf" srcId="{4AEF4F82-61F2-4304-99E5-446733D4B98C}" destId="{A2F708CF-82CC-41FF-90B0-8B8A73D7AF1D}" srcOrd="1" destOrd="0" presId="urn:microsoft.com/office/officeart/2008/layout/NameandTitleOrganizationalChart"/>
    <dgm:cxn modelId="{E20B5B52-79C0-4B97-BB3B-EAB6496864BB}" type="presParOf" srcId="{4AEF4F82-61F2-4304-99E5-446733D4B98C}" destId="{F0FA1AEA-E520-4925-B872-18FFCF0A02E8}" srcOrd="2" destOrd="0" presId="urn:microsoft.com/office/officeart/2008/layout/NameandTitleOrganizationalChart"/>
    <dgm:cxn modelId="{B9F4C996-25B9-423D-ABF6-1E714A62CEBB}" type="presParOf" srcId="{4DAE9CDC-E7FC-443A-AB19-016F24B797F7}" destId="{93F1F831-755E-45AB-9389-0EE72A26F10B}" srcOrd="1" destOrd="0" presId="urn:microsoft.com/office/officeart/2008/layout/NameandTitleOrganizationalChart"/>
    <dgm:cxn modelId="{1A34489D-A09C-40B0-A3DE-0EEA69F18FF6}" type="presParOf" srcId="{4DAE9CDC-E7FC-443A-AB19-016F24B797F7}" destId="{7845DC68-D500-44D3-B617-79B0C04E1708}" srcOrd="2" destOrd="0" presId="urn:microsoft.com/office/officeart/2008/layout/NameandTitleOrganizationalChart"/>
    <dgm:cxn modelId="{92DF285F-7820-4E1A-B414-66C32A3C3FF3}" type="presParOf" srcId="{67B0FFA4-B3B7-411C-A46A-6FD47AE05424}" destId="{E9B2C4F8-411F-4B9C-9BFF-E22F75F20B0C}" srcOrd="2" destOrd="0" presId="urn:microsoft.com/office/officeart/2008/layout/NameandTitleOrganizationalChart"/>
    <dgm:cxn modelId="{7B75F08A-2EE5-4C4A-AEB9-A3E5FB215CD4}" type="presParOf" srcId="{944D984D-EC3E-4819-937A-09DC83CA063F}" destId="{123FE2AB-1F39-4506-BAA3-A35256914E61}" srcOrd="2" destOrd="0" presId="urn:microsoft.com/office/officeart/2008/layout/NameandTitleOrganizationalChart"/>
    <dgm:cxn modelId="{EAF3701E-A957-422F-B349-1D4DFEF291C0}" type="presParOf" srcId="{944D984D-EC3E-4819-937A-09DC83CA063F}" destId="{C8757E44-BEBD-49CF-B668-AD73B8C7C7F2}" srcOrd="3" destOrd="0" presId="urn:microsoft.com/office/officeart/2008/layout/NameandTitleOrganizationalChart"/>
    <dgm:cxn modelId="{F2DD9408-E3EF-48A2-8556-AE57D79C75FC}" type="presParOf" srcId="{C8757E44-BEBD-49CF-B668-AD73B8C7C7F2}" destId="{82165AFA-F212-4FF1-B1DC-84A3CCC275F0}" srcOrd="0" destOrd="0" presId="urn:microsoft.com/office/officeart/2008/layout/NameandTitleOrganizationalChart"/>
    <dgm:cxn modelId="{02C554E8-DCFA-43E8-AF58-FEBE2039A34B}" type="presParOf" srcId="{82165AFA-F212-4FF1-B1DC-84A3CCC275F0}" destId="{DC1611D8-1F69-4A33-90D6-5A742235087D}" srcOrd="0" destOrd="0" presId="urn:microsoft.com/office/officeart/2008/layout/NameandTitleOrganizationalChart"/>
    <dgm:cxn modelId="{1F66AD97-CCF9-40BE-82BF-62AE15DCD336}" type="presParOf" srcId="{82165AFA-F212-4FF1-B1DC-84A3CCC275F0}" destId="{E783C6D6-F044-4385-A0E1-9B2E2505919E}" srcOrd="1" destOrd="0" presId="urn:microsoft.com/office/officeart/2008/layout/NameandTitleOrganizationalChart"/>
    <dgm:cxn modelId="{6D3515E7-6759-452C-AFCF-E01383E88715}" type="presParOf" srcId="{82165AFA-F212-4FF1-B1DC-84A3CCC275F0}" destId="{A0F194D7-3B02-4CF7-B9A5-6C5804B372AA}" srcOrd="2" destOrd="0" presId="urn:microsoft.com/office/officeart/2008/layout/NameandTitleOrganizationalChart"/>
    <dgm:cxn modelId="{AB52A23F-475E-446C-8A90-373BC2CC0E39}" type="presParOf" srcId="{C8757E44-BEBD-49CF-B668-AD73B8C7C7F2}" destId="{198D4AF2-AD6B-4604-8E5D-FA2FEBC4FECD}" srcOrd="1" destOrd="0" presId="urn:microsoft.com/office/officeart/2008/layout/NameandTitleOrganizationalChart"/>
    <dgm:cxn modelId="{F06813BA-4A13-4C93-BC36-5DDC48F28377}" type="presParOf" srcId="{198D4AF2-AD6B-4604-8E5D-FA2FEBC4FECD}" destId="{C835A317-1263-4D14-9FDE-12F70CAEF09B}" srcOrd="0" destOrd="0" presId="urn:microsoft.com/office/officeart/2008/layout/NameandTitleOrganizationalChart"/>
    <dgm:cxn modelId="{C97AEA92-6308-40AD-AA44-8DFC8DE37B27}" type="presParOf" srcId="{198D4AF2-AD6B-4604-8E5D-FA2FEBC4FECD}" destId="{BAEE655A-E0A2-4382-B3F4-9F92237A2FBA}" srcOrd="1" destOrd="0" presId="urn:microsoft.com/office/officeart/2008/layout/NameandTitleOrganizationalChart"/>
    <dgm:cxn modelId="{E1D1B88D-38C6-4811-A3AC-EA2B01FCC8C1}" type="presParOf" srcId="{BAEE655A-E0A2-4382-B3F4-9F92237A2FBA}" destId="{67FD6FDC-8EB3-401F-8CCC-C332F0D3942C}" srcOrd="0" destOrd="0" presId="urn:microsoft.com/office/officeart/2008/layout/NameandTitleOrganizationalChart"/>
    <dgm:cxn modelId="{E72369C4-02C2-4FCE-81D4-C2D92F122188}" type="presParOf" srcId="{67FD6FDC-8EB3-401F-8CCC-C332F0D3942C}" destId="{4E29C61A-69F0-4ABF-81D0-09B054C37091}" srcOrd="0" destOrd="0" presId="urn:microsoft.com/office/officeart/2008/layout/NameandTitleOrganizationalChart"/>
    <dgm:cxn modelId="{1C78B8DA-A994-4140-801C-C216ACE2BE32}" type="presParOf" srcId="{67FD6FDC-8EB3-401F-8CCC-C332F0D3942C}" destId="{BF5F160D-AC6C-4A2F-8246-4FCF97199590}" srcOrd="1" destOrd="0" presId="urn:microsoft.com/office/officeart/2008/layout/NameandTitleOrganizationalChart"/>
    <dgm:cxn modelId="{10493841-7346-4E5C-AB8D-9D6973AF4003}" type="presParOf" srcId="{67FD6FDC-8EB3-401F-8CCC-C332F0D3942C}" destId="{E62ED0DC-79BD-4CF4-B3E7-85B61112C3F1}" srcOrd="2" destOrd="0" presId="urn:microsoft.com/office/officeart/2008/layout/NameandTitleOrganizationalChart"/>
    <dgm:cxn modelId="{4D865C12-FF48-47E6-A1E5-0DA6385F6E6F}" type="presParOf" srcId="{BAEE655A-E0A2-4382-B3F4-9F92237A2FBA}" destId="{C392DD44-F332-440A-AA14-1E5718F042F7}" srcOrd="1" destOrd="0" presId="urn:microsoft.com/office/officeart/2008/layout/NameandTitleOrganizationalChart"/>
    <dgm:cxn modelId="{1E345914-3689-4577-B530-AE4B4DF4B700}" type="presParOf" srcId="{BAEE655A-E0A2-4382-B3F4-9F92237A2FBA}" destId="{5F150BD5-042C-4F81-B956-E6D71B17E018}" srcOrd="2" destOrd="0" presId="urn:microsoft.com/office/officeart/2008/layout/NameandTitleOrganizationalChart"/>
    <dgm:cxn modelId="{20FCA49A-AC17-497E-B670-5A7305AC0FAC}" type="presParOf" srcId="{C8757E44-BEBD-49CF-B668-AD73B8C7C7F2}" destId="{F37A118B-E2C2-4702-A91B-BFFB6896CB28}" srcOrd="2" destOrd="0" presId="urn:microsoft.com/office/officeart/2008/layout/NameandTitleOrganizationalChart"/>
    <dgm:cxn modelId="{88E86CB9-82C0-4657-82E5-1EBA414096B5}" type="presParOf" srcId="{944D984D-EC3E-4819-937A-09DC83CA063F}" destId="{FB29F1A7-5068-4776-9704-F0F4CA6F3B09}" srcOrd="4" destOrd="0" presId="urn:microsoft.com/office/officeart/2008/layout/NameandTitleOrganizationalChart"/>
    <dgm:cxn modelId="{7FD82194-A65D-4EED-891F-F419F4D0AF08}" type="presParOf" srcId="{944D984D-EC3E-4819-937A-09DC83CA063F}" destId="{47136E96-74A2-41B5-893A-97850A840220}" srcOrd="5" destOrd="0" presId="urn:microsoft.com/office/officeart/2008/layout/NameandTitleOrganizationalChart"/>
    <dgm:cxn modelId="{B5132AC4-3E1F-4C7C-A63B-B5632AC089B7}" type="presParOf" srcId="{47136E96-74A2-41B5-893A-97850A840220}" destId="{C14588CC-104E-4F56-A874-1F7059A27E1D}" srcOrd="0" destOrd="0" presId="urn:microsoft.com/office/officeart/2008/layout/NameandTitleOrganizationalChart"/>
    <dgm:cxn modelId="{28ADDAE1-11F5-4330-A75F-3DE40D5E925A}" type="presParOf" srcId="{C14588CC-104E-4F56-A874-1F7059A27E1D}" destId="{B12B54A2-5BE2-4426-A1E5-9D0A84D70936}" srcOrd="0" destOrd="0" presId="urn:microsoft.com/office/officeart/2008/layout/NameandTitleOrganizationalChart"/>
    <dgm:cxn modelId="{27C80E30-3FBE-4150-92ED-AE4DDDF27F0E}" type="presParOf" srcId="{C14588CC-104E-4F56-A874-1F7059A27E1D}" destId="{0848633D-D36B-41DC-BCA6-798868514AD7}" srcOrd="1" destOrd="0" presId="urn:microsoft.com/office/officeart/2008/layout/NameandTitleOrganizationalChart"/>
    <dgm:cxn modelId="{8D216E08-3A2A-42F1-A500-4977F01D48FA}" type="presParOf" srcId="{C14588CC-104E-4F56-A874-1F7059A27E1D}" destId="{2B0327E0-4FF7-4AF2-A828-A1ECA9B92EDD}" srcOrd="2" destOrd="0" presId="urn:microsoft.com/office/officeart/2008/layout/NameandTitleOrganizationalChart"/>
    <dgm:cxn modelId="{F0FD0A5C-424E-400E-ABB3-393D0D7B1CF6}" type="presParOf" srcId="{47136E96-74A2-41B5-893A-97850A840220}" destId="{2C034A36-69E0-41BE-B0F9-A11730A3D115}" srcOrd="1" destOrd="0" presId="urn:microsoft.com/office/officeart/2008/layout/NameandTitleOrganizationalChart"/>
    <dgm:cxn modelId="{727F320D-9E19-4E80-936E-AA1A5F245126}" type="presParOf" srcId="{47136E96-74A2-41B5-893A-97850A840220}" destId="{126E9934-C8A2-4E78-BE64-9AFEA610A575}" srcOrd="2" destOrd="0" presId="urn:microsoft.com/office/officeart/2008/layout/NameandTitleOrganizationalChart"/>
    <dgm:cxn modelId="{A868BEFD-6B20-40F0-93B3-7D268DB7C9B0}" type="presParOf" srcId="{944D984D-EC3E-4819-937A-09DC83CA063F}" destId="{6836D6BC-02A8-4345-90A3-7C12EDF850E8}" srcOrd="6" destOrd="0" presId="urn:microsoft.com/office/officeart/2008/layout/NameandTitleOrganizationalChart"/>
    <dgm:cxn modelId="{9B3D84D3-2B0A-4FB3-AD91-E07721E497DC}" type="presParOf" srcId="{944D984D-EC3E-4819-937A-09DC83CA063F}" destId="{CA38D683-3A19-4F95-9520-9174288ACEBF}" srcOrd="7" destOrd="0" presId="urn:microsoft.com/office/officeart/2008/layout/NameandTitleOrganizationalChart"/>
    <dgm:cxn modelId="{D3B7BE17-B4FB-48DB-BFE9-D8ECA85C60D5}" type="presParOf" srcId="{CA38D683-3A19-4F95-9520-9174288ACEBF}" destId="{45F73C8B-D45B-4713-9A36-C832D7C2683D}" srcOrd="0" destOrd="0" presId="urn:microsoft.com/office/officeart/2008/layout/NameandTitleOrganizationalChart"/>
    <dgm:cxn modelId="{A4761D32-381A-4139-AD2B-3ADA2F8E7E5F}" type="presParOf" srcId="{45F73C8B-D45B-4713-9A36-C832D7C2683D}" destId="{38981D83-9005-448D-AFA0-90EA705601BF}" srcOrd="0" destOrd="0" presId="urn:microsoft.com/office/officeart/2008/layout/NameandTitleOrganizationalChart"/>
    <dgm:cxn modelId="{CBA89679-2F5D-4C26-82CA-36D1A683357F}" type="presParOf" srcId="{45F73C8B-D45B-4713-9A36-C832D7C2683D}" destId="{7F5E27C3-DBD6-4169-827B-CDD457B5FC97}" srcOrd="1" destOrd="0" presId="urn:microsoft.com/office/officeart/2008/layout/NameandTitleOrganizationalChart"/>
    <dgm:cxn modelId="{FAD852AE-D59E-418E-B808-3BD3F9D06BD6}" type="presParOf" srcId="{45F73C8B-D45B-4713-9A36-C832D7C2683D}" destId="{AE235C6C-910C-4793-9BC6-D031AD79B580}" srcOrd="2" destOrd="0" presId="urn:microsoft.com/office/officeart/2008/layout/NameandTitleOrganizationalChart"/>
    <dgm:cxn modelId="{B98A3C18-59A9-4574-908A-6FC6DB0D5364}" type="presParOf" srcId="{CA38D683-3A19-4F95-9520-9174288ACEBF}" destId="{9F1C54CC-ADCC-443C-98AE-28CB805A4898}" srcOrd="1" destOrd="0" presId="urn:microsoft.com/office/officeart/2008/layout/NameandTitleOrganizationalChart"/>
    <dgm:cxn modelId="{98BE2BDE-C9D5-4F8F-BDDD-4E6D02F4006E}" type="presParOf" srcId="{CA38D683-3A19-4F95-9520-9174288ACEBF}" destId="{47D6F45A-6BDB-4790-92B6-776B443F8EAA}" srcOrd="2" destOrd="0" presId="urn:microsoft.com/office/officeart/2008/layout/NameandTitleOrganizationalChart"/>
    <dgm:cxn modelId="{C9EC939B-6736-4052-A817-F6FB43BA1A00}" type="presParOf" srcId="{944D984D-EC3E-4819-937A-09DC83CA063F}" destId="{C5C7A43C-16E0-4BFD-A3AF-D938B04A7260}" srcOrd="8" destOrd="0" presId="urn:microsoft.com/office/officeart/2008/layout/NameandTitleOrganizationalChart"/>
    <dgm:cxn modelId="{9788BDA9-F664-42E3-93DA-BF83D5EA0BDC}" type="presParOf" srcId="{944D984D-EC3E-4819-937A-09DC83CA063F}" destId="{262D742C-D6F5-4F51-98D5-01BB123F8AE1}" srcOrd="9" destOrd="0" presId="urn:microsoft.com/office/officeart/2008/layout/NameandTitleOrganizationalChart"/>
    <dgm:cxn modelId="{F6570A27-58C6-4091-A3C2-2977FBDB01A7}" type="presParOf" srcId="{262D742C-D6F5-4F51-98D5-01BB123F8AE1}" destId="{15B984D3-D3AF-4CDC-84CE-4ED6D40DF3B3}" srcOrd="0" destOrd="0" presId="urn:microsoft.com/office/officeart/2008/layout/NameandTitleOrganizationalChart"/>
    <dgm:cxn modelId="{76447A7B-FF8B-4CD3-AC75-C4C3524E50FA}" type="presParOf" srcId="{15B984D3-D3AF-4CDC-84CE-4ED6D40DF3B3}" destId="{F8073174-8745-4F36-A79D-FA574B920482}" srcOrd="0" destOrd="0" presId="urn:microsoft.com/office/officeart/2008/layout/NameandTitleOrganizationalChart"/>
    <dgm:cxn modelId="{2C6BCCCB-C7C8-4857-81D4-13A44D11CB49}" type="presParOf" srcId="{15B984D3-D3AF-4CDC-84CE-4ED6D40DF3B3}" destId="{AB3BBE7A-1FF3-4F7F-B229-646A7EFF1D6C}" srcOrd="1" destOrd="0" presId="urn:microsoft.com/office/officeart/2008/layout/NameandTitleOrganizationalChart"/>
    <dgm:cxn modelId="{C71DDB1D-3657-450D-93AC-D11F2F2AA0DF}" type="presParOf" srcId="{15B984D3-D3AF-4CDC-84CE-4ED6D40DF3B3}" destId="{4B776713-0618-4420-829F-350181B2A267}" srcOrd="2" destOrd="0" presId="urn:microsoft.com/office/officeart/2008/layout/NameandTitleOrganizationalChart"/>
    <dgm:cxn modelId="{2E4DE724-2840-4876-930A-483E60BB29E6}" type="presParOf" srcId="{262D742C-D6F5-4F51-98D5-01BB123F8AE1}" destId="{38808617-17BD-48BF-B23E-A7A7E045C78B}" srcOrd="1" destOrd="0" presId="urn:microsoft.com/office/officeart/2008/layout/NameandTitleOrganizationalChart"/>
    <dgm:cxn modelId="{06EE28C4-AC8F-4D09-908E-BC40B47772AE}" type="presParOf" srcId="{262D742C-D6F5-4F51-98D5-01BB123F8AE1}" destId="{0E3A662E-A970-4645-A198-6E0ECC8BCDCA}" srcOrd="2" destOrd="0" presId="urn:microsoft.com/office/officeart/2008/layout/NameandTitleOrganizationalChart"/>
    <dgm:cxn modelId="{CFE414AF-EABC-46DB-8111-EBE35BDD39C7}" type="presParOf" srcId="{8E764F52-EF97-45FC-813A-06E6F43F43D5}" destId="{E4CD365D-E962-4997-8122-F36AF9CEA643}" srcOrd="2" destOrd="0" presId="urn:microsoft.com/office/officeart/2008/layout/NameandTitleOrganizationalChart"/>
    <dgm:cxn modelId="{829F1F91-179B-481B-8797-D2AE1BC6CBB1}" type="presParOf" srcId="{0A920B55-6C29-4F8B-AAD5-BC36F6B2BA07}" destId="{3345763F-4A83-41F4-A5DC-9752D93B96AB}" srcOrd="1" destOrd="0" presId="urn:microsoft.com/office/officeart/2008/layout/NameandTitleOrganizationalChart"/>
    <dgm:cxn modelId="{D82A26E2-8846-4226-B84C-A2CA2E67FFA3}" type="presParOf" srcId="{3345763F-4A83-41F4-A5DC-9752D93B96AB}" destId="{E38E0A05-1DE5-4CD8-BBD5-90BD34DCAE3E}" srcOrd="0" destOrd="0" presId="urn:microsoft.com/office/officeart/2008/layout/NameandTitleOrganizationalChart"/>
    <dgm:cxn modelId="{03CBDE6A-DDE3-402A-855D-340BAB904B42}" type="presParOf" srcId="{E38E0A05-1DE5-4CD8-BBD5-90BD34DCAE3E}" destId="{7FD4DAC4-33CE-4B3E-A2E0-A08840168B47}" srcOrd="0" destOrd="0" presId="urn:microsoft.com/office/officeart/2008/layout/NameandTitleOrganizationalChart"/>
    <dgm:cxn modelId="{1AD1E52F-2B71-4544-80D2-CC054B0029D4}" type="presParOf" srcId="{E38E0A05-1DE5-4CD8-BBD5-90BD34DCAE3E}" destId="{1F1A2B64-5583-464A-97C6-1CE18E4F6130}" srcOrd="1" destOrd="0" presId="urn:microsoft.com/office/officeart/2008/layout/NameandTitleOrganizationalChart"/>
    <dgm:cxn modelId="{37E9CE0A-D0C1-4F9B-8C2C-336190384F1D}" type="presParOf" srcId="{E38E0A05-1DE5-4CD8-BBD5-90BD34DCAE3E}" destId="{7A5CBAB2-4660-4A10-AFDE-8A1A14460738}" srcOrd="2" destOrd="0" presId="urn:microsoft.com/office/officeart/2008/layout/NameandTitleOrganizationalChart"/>
    <dgm:cxn modelId="{ED065878-341F-4C3C-B39B-6756DA479D0B}" type="presParOf" srcId="{3345763F-4A83-41F4-A5DC-9752D93B96AB}" destId="{13B3AB81-AD51-47EE-B745-8B5CA20720EA}" srcOrd="1" destOrd="0" presId="urn:microsoft.com/office/officeart/2008/layout/NameandTitleOrganizationalChart"/>
    <dgm:cxn modelId="{B8293AD4-528F-4CCD-849C-FEF1B457805E}" type="presParOf" srcId="{3345763F-4A83-41F4-A5DC-9752D93B96AB}" destId="{381F9597-71E9-48F2-8625-33326ABF426C}" srcOrd="2" destOrd="0" presId="urn:microsoft.com/office/officeart/2008/layout/NameandTitleOrganizationalChart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C5C7A43C-16E0-4BFD-A3AF-D938B04A7260}">
      <dsp:nvSpPr>
        <dsp:cNvPr id="0" name=""/>
        <dsp:cNvSpPr/>
      </dsp:nvSpPr>
      <dsp:spPr>
        <a:xfrm>
          <a:off x="5033984" y="1242787"/>
          <a:ext cx="3086691" cy="1113130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994756"/>
              </a:lnTo>
              <a:lnTo>
                <a:pt x="3086691" y="994756"/>
              </a:lnTo>
              <a:lnTo>
                <a:pt x="3086691" y="1113130"/>
              </a:lnTo>
            </a:path>
          </a:pathLst>
        </a:custGeom>
        <a:noFill/>
        <a:ln w="25400" cap="flat" cmpd="sng" algn="ctr">
          <a:solidFill>
            <a:schemeClr val="accent1">
              <a:shade val="6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6836D6BC-02A8-4345-90A3-7C12EDF850E8}">
      <dsp:nvSpPr>
        <dsp:cNvPr id="0" name=""/>
        <dsp:cNvSpPr/>
      </dsp:nvSpPr>
      <dsp:spPr>
        <a:xfrm>
          <a:off x="5033984" y="1242787"/>
          <a:ext cx="1475736" cy="1144837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1026463"/>
              </a:lnTo>
              <a:lnTo>
                <a:pt x="1475736" y="1026463"/>
              </a:lnTo>
              <a:lnTo>
                <a:pt x="1475736" y="1144837"/>
              </a:lnTo>
            </a:path>
          </a:pathLst>
        </a:custGeom>
        <a:noFill/>
        <a:ln w="25400" cap="flat" cmpd="sng" algn="ctr">
          <a:solidFill>
            <a:schemeClr val="accent1">
              <a:shade val="6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FB29F1A7-5068-4776-9704-F0F4CA6F3B09}">
      <dsp:nvSpPr>
        <dsp:cNvPr id="0" name=""/>
        <dsp:cNvSpPr/>
      </dsp:nvSpPr>
      <dsp:spPr>
        <a:xfrm>
          <a:off x="5033984" y="1242787"/>
          <a:ext cx="1638900" cy="324702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206328"/>
              </a:lnTo>
              <a:lnTo>
                <a:pt x="1638900" y="206328"/>
              </a:lnTo>
              <a:lnTo>
                <a:pt x="1638900" y="324702"/>
              </a:lnTo>
            </a:path>
          </a:pathLst>
        </a:custGeom>
        <a:noFill/>
        <a:ln w="25400" cap="flat" cmpd="sng" algn="ctr">
          <a:solidFill>
            <a:schemeClr val="accent1">
              <a:shade val="6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C835A317-1263-4D14-9FDE-12F70CAEF09B}">
      <dsp:nvSpPr>
        <dsp:cNvPr id="0" name=""/>
        <dsp:cNvSpPr/>
      </dsp:nvSpPr>
      <dsp:spPr>
        <a:xfrm>
          <a:off x="3481692" y="2074807"/>
          <a:ext cx="600387" cy="389674"/>
        </a:xfrm>
        <a:custGeom>
          <a:avLst/>
          <a:gdLst/>
          <a:ahLst/>
          <a:cxnLst/>
          <a:rect l="0" t="0" r="0" b="0"/>
          <a:pathLst>
            <a:path>
              <a:moveTo>
                <a:pt x="600387" y="0"/>
              </a:moveTo>
              <a:lnTo>
                <a:pt x="600387" y="271300"/>
              </a:lnTo>
              <a:lnTo>
                <a:pt x="0" y="271300"/>
              </a:lnTo>
              <a:lnTo>
                <a:pt x="0" y="389674"/>
              </a:lnTo>
            </a:path>
          </a:pathLst>
        </a:custGeom>
        <a:noFill/>
        <a:ln w="2540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123FE2AB-1F39-4506-BAA3-A35256914E61}">
      <dsp:nvSpPr>
        <dsp:cNvPr id="0" name=""/>
        <dsp:cNvSpPr/>
      </dsp:nvSpPr>
      <dsp:spPr>
        <a:xfrm>
          <a:off x="4082079" y="1242787"/>
          <a:ext cx="951904" cy="324702"/>
        </a:xfrm>
        <a:custGeom>
          <a:avLst/>
          <a:gdLst/>
          <a:ahLst/>
          <a:cxnLst/>
          <a:rect l="0" t="0" r="0" b="0"/>
          <a:pathLst>
            <a:path>
              <a:moveTo>
                <a:pt x="951904" y="0"/>
              </a:moveTo>
              <a:lnTo>
                <a:pt x="951904" y="206328"/>
              </a:lnTo>
              <a:lnTo>
                <a:pt x="0" y="206328"/>
              </a:lnTo>
              <a:lnTo>
                <a:pt x="0" y="324702"/>
              </a:lnTo>
            </a:path>
          </a:pathLst>
        </a:custGeom>
        <a:noFill/>
        <a:ln w="25400" cap="flat" cmpd="sng" algn="ctr">
          <a:solidFill>
            <a:schemeClr val="accent1">
              <a:shade val="6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F0F84D2A-5A94-42E5-A9F9-853EF203CD46}">
      <dsp:nvSpPr>
        <dsp:cNvPr id="0" name=""/>
        <dsp:cNvSpPr/>
      </dsp:nvSpPr>
      <dsp:spPr>
        <a:xfrm>
          <a:off x="1893862" y="2074807"/>
          <a:ext cx="161506" cy="333108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214734"/>
              </a:lnTo>
              <a:lnTo>
                <a:pt x="161506" y="214734"/>
              </a:lnTo>
              <a:lnTo>
                <a:pt x="161506" y="333108"/>
              </a:lnTo>
            </a:path>
          </a:pathLst>
        </a:custGeom>
        <a:noFill/>
        <a:ln w="2540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19818489-B454-4371-8B9F-F23A59189F26}">
      <dsp:nvSpPr>
        <dsp:cNvPr id="0" name=""/>
        <dsp:cNvSpPr/>
      </dsp:nvSpPr>
      <dsp:spPr>
        <a:xfrm>
          <a:off x="688472" y="2074807"/>
          <a:ext cx="1205389" cy="389674"/>
        </a:xfrm>
        <a:custGeom>
          <a:avLst/>
          <a:gdLst/>
          <a:ahLst/>
          <a:cxnLst/>
          <a:rect l="0" t="0" r="0" b="0"/>
          <a:pathLst>
            <a:path>
              <a:moveTo>
                <a:pt x="1205389" y="0"/>
              </a:moveTo>
              <a:lnTo>
                <a:pt x="1205389" y="271300"/>
              </a:lnTo>
              <a:lnTo>
                <a:pt x="0" y="271300"/>
              </a:lnTo>
              <a:lnTo>
                <a:pt x="0" y="389674"/>
              </a:lnTo>
            </a:path>
          </a:pathLst>
        </a:custGeom>
        <a:noFill/>
        <a:ln w="2540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410C45C9-34CB-4CE5-BB3B-B59C9C45690F}">
      <dsp:nvSpPr>
        <dsp:cNvPr id="0" name=""/>
        <dsp:cNvSpPr/>
      </dsp:nvSpPr>
      <dsp:spPr>
        <a:xfrm>
          <a:off x="1893862" y="2074807"/>
          <a:ext cx="1587831" cy="389674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271300"/>
              </a:lnTo>
              <a:lnTo>
                <a:pt x="1587831" y="271300"/>
              </a:lnTo>
              <a:lnTo>
                <a:pt x="1587831" y="389674"/>
              </a:lnTo>
            </a:path>
          </a:pathLst>
        </a:custGeom>
        <a:noFill/>
        <a:ln w="2540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1B2A69DA-A7A7-433D-B99C-61BC03DBCE83}">
      <dsp:nvSpPr>
        <dsp:cNvPr id="0" name=""/>
        <dsp:cNvSpPr/>
      </dsp:nvSpPr>
      <dsp:spPr>
        <a:xfrm>
          <a:off x="1893862" y="1242787"/>
          <a:ext cx="3140121" cy="324702"/>
        </a:xfrm>
        <a:custGeom>
          <a:avLst/>
          <a:gdLst/>
          <a:ahLst/>
          <a:cxnLst/>
          <a:rect l="0" t="0" r="0" b="0"/>
          <a:pathLst>
            <a:path>
              <a:moveTo>
                <a:pt x="3140121" y="0"/>
              </a:moveTo>
              <a:lnTo>
                <a:pt x="3140121" y="206328"/>
              </a:lnTo>
              <a:lnTo>
                <a:pt x="0" y="206328"/>
              </a:lnTo>
              <a:lnTo>
                <a:pt x="0" y="324702"/>
              </a:lnTo>
            </a:path>
          </a:pathLst>
        </a:custGeom>
        <a:noFill/>
        <a:ln w="25400" cap="flat" cmpd="sng" algn="ctr">
          <a:solidFill>
            <a:schemeClr val="accent1">
              <a:shade val="6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1AEE194E-9DB1-4A43-BD89-8B8EBDF93D28}">
      <dsp:nvSpPr>
        <dsp:cNvPr id="0" name=""/>
        <dsp:cNvSpPr/>
      </dsp:nvSpPr>
      <dsp:spPr>
        <a:xfrm>
          <a:off x="4544064" y="735469"/>
          <a:ext cx="979840" cy="507317"/>
        </a:xfrm>
        <a:prstGeom prst="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6350" tIns="6350" rIns="6350" bIns="71588" numCol="1" spcCol="1270" anchor="ctr" anchorCtr="0">
          <a:noAutofit/>
        </a:bodyPr>
        <a:lstStyle/>
        <a:p>
          <a:pPr lvl="0" algn="ctr" defTabSz="4445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000" b="1" kern="1200" dirty="0" smtClean="0">
              <a:ln>
                <a:noFill/>
              </a:ln>
              <a:effectLst>
                <a:outerShdw blurRad="38100" dist="38100" dir="2700000" algn="tl">
                  <a:srgbClr val="000000">
                    <a:alpha val="43137"/>
                  </a:srgbClr>
                </a:outerShdw>
              </a:effectLst>
            </a:rPr>
            <a:t>Director of Planning &amp; Development</a:t>
          </a:r>
          <a:endParaRPr lang="en-US" sz="1000" b="1" kern="1200" dirty="0">
            <a:ln>
              <a:noFill/>
            </a:ln>
            <a:effectLst>
              <a:outerShdw blurRad="38100" dist="38100" dir="2700000" algn="tl">
                <a:srgbClr val="000000">
                  <a:alpha val="43137"/>
                </a:srgbClr>
              </a:outerShdw>
            </a:effectLst>
          </a:endParaRPr>
        </a:p>
      </dsp:txBody>
      <dsp:txXfrm>
        <a:off x="4544064" y="735469"/>
        <a:ext cx="979840" cy="507317"/>
      </dsp:txXfrm>
    </dsp:sp>
    <dsp:sp modelId="{5D631930-9636-4D6A-A9A0-A9B44E6D58CE}">
      <dsp:nvSpPr>
        <dsp:cNvPr id="0" name=""/>
        <dsp:cNvSpPr/>
      </dsp:nvSpPr>
      <dsp:spPr>
        <a:xfrm>
          <a:off x="4722352" y="1151480"/>
          <a:ext cx="881856" cy="169105"/>
        </a:xfrm>
        <a:prstGeom prst="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2860" tIns="5715" rIns="22860" bIns="5715" numCol="1" spcCol="1270" anchor="ctr" anchorCtr="0">
          <a:noAutofit/>
        </a:bodyPr>
        <a:lstStyle/>
        <a:p>
          <a:pPr lvl="0" algn="ctr" defTabSz="4000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900" kern="1200" dirty="0" smtClean="0"/>
            <a:t>City Operating</a:t>
          </a:r>
          <a:endParaRPr lang="en-US" sz="900" kern="1200" dirty="0"/>
        </a:p>
      </dsp:txBody>
      <dsp:txXfrm>
        <a:off x="4722352" y="1151480"/>
        <a:ext cx="881856" cy="169105"/>
      </dsp:txXfrm>
    </dsp:sp>
    <dsp:sp modelId="{30011A53-772C-4802-B692-B28C8A080509}">
      <dsp:nvSpPr>
        <dsp:cNvPr id="0" name=""/>
        <dsp:cNvSpPr/>
      </dsp:nvSpPr>
      <dsp:spPr>
        <a:xfrm>
          <a:off x="1403942" y="1567489"/>
          <a:ext cx="979840" cy="507317"/>
        </a:xfrm>
        <a:prstGeom prst="rect">
          <a:avLst/>
        </a:prstGeom>
        <a:solidFill>
          <a:srgbClr val="0070C0"/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6350" tIns="6350" rIns="6350" bIns="71588" numCol="1" spcCol="1270" anchor="ctr" anchorCtr="0">
          <a:noAutofit/>
        </a:bodyPr>
        <a:lstStyle/>
        <a:p>
          <a:pPr lvl="0" algn="ctr" defTabSz="4445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000" b="1" kern="1200" dirty="0" smtClean="0">
              <a:effectLst>
                <a:outerShdw blurRad="38100" dist="38100" dir="2700000" algn="tl">
                  <a:srgbClr val="000000">
                    <a:alpha val="43137"/>
                  </a:srgbClr>
                </a:outerShdw>
              </a:effectLst>
            </a:rPr>
            <a:t>Community Development Administrator</a:t>
          </a:r>
          <a:endParaRPr lang="en-US" sz="1000" b="1" kern="1200" dirty="0">
            <a:effectLst>
              <a:outerShdw blurRad="38100" dist="38100" dir="2700000" algn="tl">
                <a:srgbClr val="000000">
                  <a:alpha val="43137"/>
                </a:srgbClr>
              </a:outerShdw>
            </a:effectLst>
          </a:endParaRPr>
        </a:p>
      </dsp:txBody>
      <dsp:txXfrm>
        <a:off x="1403942" y="1567489"/>
        <a:ext cx="979840" cy="507317"/>
      </dsp:txXfrm>
    </dsp:sp>
    <dsp:sp modelId="{A21C8828-9199-42BE-AD44-FF794D6DF675}">
      <dsp:nvSpPr>
        <dsp:cNvPr id="0" name=""/>
        <dsp:cNvSpPr/>
      </dsp:nvSpPr>
      <dsp:spPr>
        <a:xfrm>
          <a:off x="1632742" y="2040694"/>
          <a:ext cx="881856" cy="169105"/>
        </a:xfrm>
        <a:prstGeom prst="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5400" tIns="6350" rIns="25400" bIns="6350" numCol="1" spcCol="1270" anchor="ctr" anchorCtr="0">
          <a:noAutofit/>
        </a:bodyPr>
        <a:lstStyle/>
        <a:p>
          <a:pPr lvl="0" algn="ctr" defTabSz="4445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000" kern="1200" dirty="0" smtClean="0"/>
            <a:t>CDBG</a:t>
          </a:r>
          <a:endParaRPr lang="en-US" sz="1000" kern="1200" dirty="0"/>
        </a:p>
      </dsp:txBody>
      <dsp:txXfrm>
        <a:off x="1632742" y="2040694"/>
        <a:ext cx="881856" cy="169105"/>
      </dsp:txXfrm>
    </dsp:sp>
    <dsp:sp modelId="{9CD46C41-FE71-4C0E-B160-9F2A23B7F503}">
      <dsp:nvSpPr>
        <dsp:cNvPr id="0" name=""/>
        <dsp:cNvSpPr/>
      </dsp:nvSpPr>
      <dsp:spPr>
        <a:xfrm>
          <a:off x="2991774" y="2464482"/>
          <a:ext cx="979840" cy="507317"/>
        </a:xfrm>
        <a:prstGeom prst="rect">
          <a:avLst/>
        </a:prstGeom>
        <a:solidFill>
          <a:srgbClr val="00B0F0"/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6350" tIns="6350" rIns="6350" bIns="71588" numCol="1" spcCol="1270" anchor="ctr" anchorCtr="0">
          <a:noAutofit/>
        </a:bodyPr>
        <a:lstStyle/>
        <a:p>
          <a:pPr lvl="0" algn="ctr" defTabSz="4445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000" b="1" kern="1200" dirty="0" smtClean="0">
              <a:effectLst>
                <a:outerShdw blurRad="38100" dist="38100" dir="2700000" algn="tl">
                  <a:srgbClr val="000000">
                    <a:alpha val="43137"/>
                  </a:srgbClr>
                </a:outerShdw>
              </a:effectLst>
            </a:rPr>
            <a:t>Program</a:t>
          </a:r>
          <a:r>
            <a:rPr lang="en-US" sz="700" b="1" kern="1200" dirty="0" smtClean="0">
              <a:effectLst>
                <a:outerShdw blurRad="38100" dist="38100" dir="2700000" algn="tl">
                  <a:srgbClr val="000000">
                    <a:alpha val="43137"/>
                  </a:srgbClr>
                </a:outerShdw>
              </a:effectLst>
            </a:rPr>
            <a:t> </a:t>
          </a:r>
          <a:r>
            <a:rPr lang="en-US" sz="1000" b="1" kern="1200" dirty="0" smtClean="0">
              <a:effectLst>
                <a:outerShdw blurRad="38100" dist="38100" dir="2700000" algn="tl">
                  <a:srgbClr val="000000">
                    <a:alpha val="43137"/>
                  </a:srgbClr>
                </a:outerShdw>
              </a:effectLst>
            </a:rPr>
            <a:t>Coordinator</a:t>
          </a:r>
          <a:endParaRPr lang="en-US" sz="1000" b="1" kern="1200" dirty="0">
            <a:effectLst>
              <a:outerShdw blurRad="38100" dist="38100" dir="2700000" algn="tl">
                <a:srgbClr val="000000">
                  <a:alpha val="43137"/>
                </a:srgbClr>
              </a:outerShdw>
            </a:effectLst>
          </a:endParaRPr>
        </a:p>
      </dsp:txBody>
      <dsp:txXfrm>
        <a:off x="2991774" y="2464482"/>
        <a:ext cx="979840" cy="507317"/>
      </dsp:txXfrm>
    </dsp:sp>
    <dsp:sp modelId="{EFF48FF9-E975-4C2C-96AD-0D60D52E6CF4}">
      <dsp:nvSpPr>
        <dsp:cNvPr id="0" name=""/>
        <dsp:cNvSpPr/>
      </dsp:nvSpPr>
      <dsp:spPr>
        <a:xfrm>
          <a:off x="0" y="3706975"/>
          <a:ext cx="881856" cy="169105"/>
        </a:xfrm>
        <a:prstGeom prst="rect">
          <a:avLst/>
        </a:prstGeom>
        <a:noFill/>
        <a:ln w="25400" cap="flat" cmpd="sng" algn="ctr">
          <a:noFill/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5400" tIns="6350" rIns="25400" bIns="6350" numCol="1" spcCol="1270" anchor="ctr" anchorCtr="0">
          <a:noAutofit/>
        </a:bodyPr>
        <a:lstStyle/>
        <a:p>
          <a:pPr lvl="0" algn="r" defTabSz="4445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en-US" sz="1000" kern="1200"/>
        </a:p>
      </dsp:txBody>
      <dsp:txXfrm>
        <a:off x="0" y="3706975"/>
        <a:ext cx="881856" cy="169105"/>
      </dsp:txXfrm>
    </dsp:sp>
    <dsp:sp modelId="{69F90016-61C0-4944-8E02-F08455CEB24E}">
      <dsp:nvSpPr>
        <dsp:cNvPr id="0" name=""/>
        <dsp:cNvSpPr/>
      </dsp:nvSpPr>
      <dsp:spPr>
        <a:xfrm>
          <a:off x="198552" y="2464482"/>
          <a:ext cx="979840" cy="507317"/>
        </a:xfrm>
        <a:prstGeom prst="rect">
          <a:avLst/>
        </a:prstGeom>
        <a:solidFill>
          <a:srgbClr val="0070C0"/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6350" tIns="6350" rIns="6350" bIns="71588" numCol="1" spcCol="1270" anchor="ctr" anchorCtr="0">
          <a:noAutofit/>
        </a:bodyPr>
        <a:lstStyle/>
        <a:p>
          <a:pPr lvl="0" algn="ctr" defTabSz="4445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000" b="1" kern="1200" dirty="0" smtClean="0">
              <a:effectLst>
                <a:outerShdw blurRad="38100" dist="38100" dir="2700000" algn="tl">
                  <a:srgbClr val="000000">
                    <a:alpha val="43137"/>
                  </a:srgbClr>
                </a:outerShdw>
              </a:effectLst>
            </a:rPr>
            <a:t>(2) Housing Specialist</a:t>
          </a:r>
          <a:endParaRPr lang="en-US" sz="1000" b="1" kern="1200" dirty="0">
            <a:effectLst>
              <a:outerShdw blurRad="38100" dist="38100" dir="2700000" algn="tl">
                <a:srgbClr val="000000">
                  <a:alpha val="43137"/>
                </a:srgbClr>
              </a:outerShdw>
            </a:effectLst>
          </a:endParaRPr>
        </a:p>
      </dsp:txBody>
      <dsp:txXfrm>
        <a:off x="198552" y="2464482"/>
        <a:ext cx="979840" cy="507317"/>
      </dsp:txXfrm>
    </dsp:sp>
    <dsp:sp modelId="{B9CD9D11-9101-4154-A4F7-72B75711DEE4}">
      <dsp:nvSpPr>
        <dsp:cNvPr id="0" name=""/>
        <dsp:cNvSpPr/>
      </dsp:nvSpPr>
      <dsp:spPr>
        <a:xfrm>
          <a:off x="413540" y="2878895"/>
          <a:ext cx="881856" cy="169105"/>
        </a:xfrm>
        <a:prstGeom prst="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2860" tIns="5715" rIns="22860" bIns="5715" numCol="1" spcCol="1270" anchor="ctr" anchorCtr="0">
          <a:noAutofit/>
        </a:bodyPr>
        <a:lstStyle/>
        <a:p>
          <a:pPr lvl="0" algn="ctr" defTabSz="4000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900" kern="1200" dirty="0" smtClean="0"/>
            <a:t>CDBG/HOME</a:t>
          </a:r>
          <a:endParaRPr lang="en-US" sz="900" kern="1200" dirty="0"/>
        </a:p>
      </dsp:txBody>
      <dsp:txXfrm>
        <a:off x="413540" y="2878895"/>
        <a:ext cx="881856" cy="169105"/>
      </dsp:txXfrm>
    </dsp:sp>
    <dsp:sp modelId="{5170FD78-ADBF-4D81-B518-E7E31B304626}">
      <dsp:nvSpPr>
        <dsp:cNvPr id="0" name=""/>
        <dsp:cNvSpPr/>
      </dsp:nvSpPr>
      <dsp:spPr>
        <a:xfrm>
          <a:off x="1565448" y="2407916"/>
          <a:ext cx="979840" cy="640082"/>
        </a:xfrm>
        <a:prstGeom prst="rect">
          <a:avLst/>
        </a:prstGeom>
        <a:solidFill>
          <a:srgbClr val="00B0F0"/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5715" tIns="5715" rIns="5715" bIns="71588" numCol="1" spcCol="1270" anchor="ctr" anchorCtr="1">
          <a:noAutofit/>
        </a:bodyPr>
        <a:lstStyle/>
        <a:p>
          <a:pPr lvl="0" algn="ctr" defTabSz="4000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900" b="1" kern="1200" dirty="0" smtClean="0">
              <a:effectLst>
                <a:outerShdw blurRad="38100" dist="38100" dir="2700000" algn="tl">
                  <a:srgbClr val="000000">
                    <a:alpha val="43137"/>
                  </a:srgbClr>
                </a:outerShdw>
              </a:effectLst>
            </a:rPr>
            <a:t>Neighborhood Housing Development Associate</a:t>
          </a:r>
          <a:endParaRPr lang="en-US" sz="900" b="1" kern="1200" dirty="0">
            <a:effectLst>
              <a:outerShdw blurRad="38100" dist="38100" dir="2700000" algn="tl">
                <a:srgbClr val="000000">
                  <a:alpha val="43137"/>
                </a:srgbClr>
              </a:outerShdw>
            </a:effectLst>
          </a:endParaRPr>
        </a:p>
      </dsp:txBody>
      <dsp:txXfrm>
        <a:off x="1565448" y="2407916"/>
        <a:ext cx="979840" cy="640082"/>
      </dsp:txXfrm>
    </dsp:sp>
    <dsp:sp modelId="{A2F708CF-82CC-41FF-90B0-8B8A73D7AF1D}">
      <dsp:nvSpPr>
        <dsp:cNvPr id="0" name=""/>
        <dsp:cNvSpPr/>
      </dsp:nvSpPr>
      <dsp:spPr>
        <a:xfrm>
          <a:off x="1937545" y="2971801"/>
          <a:ext cx="881856" cy="169105"/>
        </a:xfrm>
        <a:prstGeom prst="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5400" tIns="6350" rIns="25400" bIns="6350" numCol="1" spcCol="1270" anchor="ctr" anchorCtr="0">
          <a:noAutofit/>
        </a:bodyPr>
        <a:lstStyle/>
        <a:p>
          <a:pPr lvl="0" algn="ctr" defTabSz="4445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000" kern="1200" dirty="0" smtClean="0"/>
            <a:t>TIF/CDBG</a:t>
          </a:r>
          <a:endParaRPr lang="en-US" sz="1000" kern="1200" dirty="0"/>
        </a:p>
      </dsp:txBody>
      <dsp:txXfrm>
        <a:off x="1937545" y="2971801"/>
        <a:ext cx="881856" cy="169105"/>
      </dsp:txXfrm>
    </dsp:sp>
    <dsp:sp modelId="{DC1611D8-1F69-4A33-90D6-5A742235087D}">
      <dsp:nvSpPr>
        <dsp:cNvPr id="0" name=""/>
        <dsp:cNvSpPr/>
      </dsp:nvSpPr>
      <dsp:spPr>
        <a:xfrm>
          <a:off x="3592159" y="1567489"/>
          <a:ext cx="979840" cy="507317"/>
        </a:xfrm>
        <a:prstGeom prst="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6350" tIns="6350" rIns="6350" bIns="71588" numCol="1" spcCol="1270" anchor="ctr" anchorCtr="0">
          <a:noAutofit/>
        </a:bodyPr>
        <a:lstStyle/>
        <a:p>
          <a:pPr lvl="0" algn="ctr" defTabSz="4445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000" b="1" kern="1200" dirty="0" smtClean="0">
              <a:effectLst>
                <a:outerShdw blurRad="38100" dist="38100" dir="2700000" algn="tl">
                  <a:srgbClr val="000000">
                    <a:alpha val="43137"/>
                  </a:srgbClr>
                </a:outerShdw>
              </a:effectLst>
            </a:rPr>
            <a:t>Economic Development Planner</a:t>
          </a:r>
          <a:endParaRPr lang="en-US" sz="1000" b="1" kern="1200" dirty="0">
            <a:effectLst>
              <a:outerShdw blurRad="38100" dist="38100" dir="2700000" algn="tl">
                <a:srgbClr val="000000">
                  <a:alpha val="43137"/>
                </a:srgbClr>
              </a:outerShdw>
            </a:effectLst>
          </a:endParaRPr>
        </a:p>
      </dsp:txBody>
      <dsp:txXfrm>
        <a:off x="3592159" y="1567489"/>
        <a:ext cx="979840" cy="507317"/>
      </dsp:txXfrm>
    </dsp:sp>
    <dsp:sp modelId="{E783C6D6-F044-4385-A0E1-9B2E2505919E}">
      <dsp:nvSpPr>
        <dsp:cNvPr id="0" name=""/>
        <dsp:cNvSpPr/>
      </dsp:nvSpPr>
      <dsp:spPr>
        <a:xfrm>
          <a:off x="3842547" y="1992687"/>
          <a:ext cx="881856" cy="169105"/>
        </a:xfrm>
        <a:prstGeom prst="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2860" tIns="5715" rIns="22860" bIns="5715" numCol="1" spcCol="1270" anchor="ctr" anchorCtr="0">
          <a:noAutofit/>
        </a:bodyPr>
        <a:lstStyle/>
        <a:p>
          <a:pPr lvl="0" algn="ctr" defTabSz="4000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900" kern="1200" dirty="0" smtClean="0"/>
            <a:t>City Operating</a:t>
          </a:r>
          <a:endParaRPr lang="en-US" sz="900" kern="1200" dirty="0"/>
        </a:p>
      </dsp:txBody>
      <dsp:txXfrm>
        <a:off x="3842547" y="1992687"/>
        <a:ext cx="881856" cy="169105"/>
      </dsp:txXfrm>
    </dsp:sp>
    <dsp:sp modelId="{4E29C61A-69F0-4ABF-81D0-09B054C37091}">
      <dsp:nvSpPr>
        <dsp:cNvPr id="0" name=""/>
        <dsp:cNvSpPr/>
      </dsp:nvSpPr>
      <dsp:spPr>
        <a:xfrm>
          <a:off x="2991772" y="2464482"/>
          <a:ext cx="979840" cy="507317"/>
        </a:xfrm>
        <a:prstGeom prst="rect">
          <a:avLst/>
        </a:prstGeom>
        <a:noFill/>
        <a:ln w="25400" cap="flat" cmpd="sng" algn="ctr">
          <a:noFill/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6350" tIns="6350" rIns="6350" bIns="71588" numCol="1" spcCol="1270" anchor="ctr" anchorCtr="0">
          <a:noAutofit/>
        </a:bodyPr>
        <a:lstStyle/>
        <a:p>
          <a:pPr lvl="0" algn="ctr" defTabSz="4445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en-US" sz="1000" kern="1200" dirty="0"/>
        </a:p>
      </dsp:txBody>
      <dsp:txXfrm>
        <a:off x="2991772" y="2464482"/>
        <a:ext cx="979840" cy="507317"/>
      </dsp:txXfrm>
    </dsp:sp>
    <dsp:sp modelId="{BF5F160D-AC6C-4A2F-8246-4FCF97199590}">
      <dsp:nvSpPr>
        <dsp:cNvPr id="0" name=""/>
        <dsp:cNvSpPr/>
      </dsp:nvSpPr>
      <dsp:spPr>
        <a:xfrm>
          <a:off x="3232946" y="2878895"/>
          <a:ext cx="881856" cy="169105"/>
        </a:xfrm>
        <a:prstGeom prst="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5400" tIns="6350" rIns="25400" bIns="6350" numCol="1" spcCol="1270" anchor="ctr" anchorCtr="0">
          <a:noAutofit/>
        </a:bodyPr>
        <a:lstStyle/>
        <a:p>
          <a:pPr lvl="0" algn="ctr" defTabSz="4445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000" kern="1200" dirty="0" smtClean="0"/>
            <a:t>CDBG/TIF</a:t>
          </a:r>
          <a:endParaRPr lang="en-US" sz="1000" kern="1200" dirty="0"/>
        </a:p>
      </dsp:txBody>
      <dsp:txXfrm>
        <a:off x="3232946" y="2878895"/>
        <a:ext cx="881856" cy="169105"/>
      </dsp:txXfrm>
    </dsp:sp>
    <dsp:sp modelId="{B12B54A2-5BE2-4426-A1E5-9D0A84D70936}">
      <dsp:nvSpPr>
        <dsp:cNvPr id="0" name=""/>
        <dsp:cNvSpPr/>
      </dsp:nvSpPr>
      <dsp:spPr>
        <a:xfrm>
          <a:off x="6182964" y="1567489"/>
          <a:ext cx="979840" cy="507317"/>
        </a:xfrm>
        <a:prstGeom prst="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6350" tIns="6350" rIns="6350" bIns="71588" numCol="1" spcCol="1270" anchor="ctr" anchorCtr="0">
          <a:noAutofit/>
        </a:bodyPr>
        <a:lstStyle/>
        <a:p>
          <a:pPr lvl="0" algn="ctr" defTabSz="4445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000" b="1" kern="1200" dirty="0" smtClean="0">
              <a:effectLst>
                <a:outerShdw blurRad="38100" dist="38100" dir="2700000" algn="tl">
                  <a:srgbClr val="000000">
                    <a:alpha val="43137"/>
                  </a:srgbClr>
                </a:outerShdw>
              </a:effectLst>
            </a:rPr>
            <a:t>Senior Planner</a:t>
          </a:r>
          <a:endParaRPr lang="en-US" sz="1000" b="1" kern="1200" dirty="0">
            <a:effectLst>
              <a:outerShdw blurRad="38100" dist="38100" dir="2700000" algn="tl">
                <a:srgbClr val="000000">
                  <a:alpha val="43137"/>
                </a:srgbClr>
              </a:outerShdw>
            </a:effectLst>
          </a:endParaRPr>
        </a:p>
      </dsp:txBody>
      <dsp:txXfrm>
        <a:off x="6182964" y="1567489"/>
        <a:ext cx="979840" cy="507317"/>
      </dsp:txXfrm>
    </dsp:sp>
    <dsp:sp modelId="{0848633D-D36B-41DC-BCA6-798868514AD7}">
      <dsp:nvSpPr>
        <dsp:cNvPr id="0" name=""/>
        <dsp:cNvSpPr/>
      </dsp:nvSpPr>
      <dsp:spPr>
        <a:xfrm>
          <a:off x="6400801" y="1983502"/>
          <a:ext cx="881856" cy="169105"/>
        </a:xfrm>
        <a:prstGeom prst="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2860" tIns="5715" rIns="22860" bIns="5715" numCol="1" spcCol="1270" anchor="ctr" anchorCtr="0">
          <a:noAutofit/>
        </a:bodyPr>
        <a:lstStyle/>
        <a:p>
          <a:pPr lvl="0" algn="ctr" defTabSz="4000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900" kern="1200" dirty="0" smtClean="0"/>
            <a:t>City Operating</a:t>
          </a:r>
          <a:endParaRPr lang="en-US" sz="900" kern="1200" dirty="0"/>
        </a:p>
      </dsp:txBody>
      <dsp:txXfrm>
        <a:off x="6400801" y="1983502"/>
        <a:ext cx="881856" cy="169105"/>
      </dsp:txXfrm>
    </dsp:sp>
    <dsp:sp modelId="{38981D83-9005-448D-AFA0-90EA705601BF}">
      <dsp:nvSpPr>
        <dsp:cNvPr id="0" name=""/>
        <dsp:cNvSpPr/>
      </dsp:nvSpPr>
      <dsp:spPr>
        <a:xfrm>
          <a:off x="6019800" y="2387625"/>
          <a:ext cx="979840" cy="507317"/>
        </a:xfrm>
        <a:prstGeom prst="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6350" tIns="6350" rIns="6350" bIns="71588" numCol="1" spcCol="1270" anchor="ctr" anchorCtr="0">
          <a:noAutofit/>
        </a:bodyPr>
        <a:lstStyle/>
        <a:p>
          <a:pPr lvl="0" algn="ctr" defTabSz="4445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000" b="1" kern="1200" dirty="0" smtClean="0">
              <a:effectLst>
                <a:outerShdw blurRad="38100" dist="38100" dir="2700000" algn="tl">
                  <a:srgbClr val="000000">
                    <a:alpha val="43137"/>
                  </a:srgbClr>
                </a:outerShdw>
              </a:effectLst>
            </a:rPr>
            <a:t>Associate Planner</a:t>
          </a:r>
          <a:endParaRPr lang="en-US" sz="1000" b="1" kern="1200" dirty="0">
            <a:effectLst>
              <a:outerShdw blurRad="38100" dist="38100" dir="2700000" algn="tl">
                <a:srgbClr val="000000">
                  <a:alpha val="43137"/>
                </a:srgbClr>
              </a:outerShdw>
            </a:effectLst>
          </a:endParaRPr>
        </a:p>
      </dsp:txBody>
      <dsp:txXfrm>
        <a:off x="6019800" y="2387625"/>
        <a:ext cx="979840" cy="507317"/>
      </dsp:txXfrm>
    </dsp:sp>
    <dsp:sp modelId="{7F5E27C3-DBD6-4169-827B-CDD457B5FC97}">
      <dsp:nvSpPr>
        <dsp:cNvPr id="0" name=""/>
        <dsp:cNvSpPr/>
      </dsp:nvSpPr>
      <dsp:spPr>
        <a:xfrm>
          <a:off x="6232876" y="2844825"/>
          <a:ext cx="881856" cy="169105"/>
        </a:xfrm>
        <a:prstGeom prst="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2860" tIns="5715" rIns="22860" bIns="5715" numCol="1" spcCol="1270" anchor="ctr" anchorCtr="0">
          <a:noAutofit/>
        </a:bodyPr>
        <a:lstStyle/>
        <a:p>
          <a:pPr lvl="0" algn="ctr" defTabSz="4000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900" kern="1200" dirty="0" smtClean="0"/>
            <a:t>City Operating</a:t>
          </a:r>
          <a:endParaRPr lang="en-US" sz="900" kern="1200" dirty="0"/>
        </a:p>
      </dsp:txBody>
      <dsp:txXfrm>
        <a:off x="6232876" y="2844825"/>
        <a:ext cx="881856" cy="169105"/>
      </dsp:txXfrm>
    </dsp:sp>
    <dsp:sp modelId="{F8073174-8745-4F36-A79D-FA574B920482}">
      <dsp:nvSpPr>
        <dsp:cNvPr id="0" name=""/>
        <dsp:cNvSpPr/>
      </dsp:nvSpPr>
      <dsp:spPr>
        <a:xfrm>
          <a:off x="7630755" y="2355917"/>
          <a:ext cx="979840" cy="507317"/>
        </a:xfrm>
        <a:prstGeom prst="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6350" tIns="6350" rIns="6350" bIns="71588" numCol="1" spcCol="1270" anchor="ctr" anchorCtr="0">
          <a:noAutofit/>
        </a:bodyPr>
        <a:lstStyle/>
        <a:p>
          <a:pPr lvl="0" algn="ctr" defTabSz="4445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000" b="1" kern="1200" dirty="0" smtClean="0">
              <a:effectLst>
                <a:outerShdw blurRad="38100" dist="38100" dir="2700000" algn="tl">
                  <a:srgbClr val="000000">
                    <a:alpha val="43137"/>
                  </a:srgbClr>
                </a:outerShdw>
              </a:effectLst>
            </a:rPr>
            <a:t>Environmental Sustainability Planner</a:t>
          </a:r>
          <a:endParaRPr lang="en-US" sz="1000" b="1" kern="1200" dirty="0">
            <a:effectLst>
              <a:outerShdw blurRad="38100" dist="38100" dir="2700000" algn="tl">
                <a:srgbClr val="000000">
                  <a:alpha val="43137"/>
                </a:srgbClr>
              </a:outerShdw>
            </a:effectLst>
          </a:endParaRPr>
        </a:p>
      </dsp:txBody>
      <dsp:txXfrm>
        <a:off x="7630755" y="2355917"/>
        <a:ext cx="979840" cy="507317"/>
      </dsp:txXfrm>
    </dsp:sp>
    <dsp:sp modelId="{AB3BBE7A-1FF3-4F7F-B229-646A7EFF1D6C}">
      <dsp:nvSpPr>
        <dsp:cNvPr id="0" name=""/>
        <dsp:cNvSpPr/>
      </dsp:nvSpPr>
      <dsp:spPr>
        <a:xfrm>
          <a:off x="7881143" y="2836967"/>
          <a:ext cx="881856" cy="169105"/>
        </a:xfrm>
        <a:prstGeom prst="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2860" tIns="5715" rIns="22860" bIns="5715" numCol="1" spcCol="1270" anchor="ctr" anchorCtr="0">
          <a:noAutofit/>
        </a:bodyPr>
        <a:lstStyle/>
        <a:p>
          <a:pPr lvl="0" algn="ctr" defTabSz="4000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900" kern="1200" dirty="0" smtClean="0"/>
            <a:t>City Operating</a:t>
          </a:r>
          <a:endParaRPr lang="en-US" sz="900" kern="1200" dirty="0"/>
        </a:p>
      </dsp:txBody>
      <dsp:txXfrm>
        <a:off x="7881143" y="2836967"/>
        <a:ext cx="881856" cy="169105"/>
      </dsp:txXfrm>
    </dsp:sp>
    <dsp:sp modelId="{7FD4DAC4-33CE-4B3E-A2E0-A08840168B47}">
      <dsp:nvSpPr>
        <dsp:cNvPr id="0" name=""/>
        <dsp:cNvSpPr/>
      </dsp:nvSpPr>
      <dsp:spPr>
        <a:xfrm>
          <a:off x="3657180" y="3302685"/>
          <a:ext cx="979840" cy="507317"/>
        </a:xfrm>
        <a:prstGeom prst="rect">
          <a:avLst/>
        </a:prstGeom>
        <a:solidFill>
          <a:schemeClr val="accent2"/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6350" tIns="6350" rIns="6350" bIns="71588" numCol="1" spcCol="1270" anchor="ctr" anchorCtr="0">
          <a:noAutofit/>
        </a:bodyPr>
        <a:lstStyle/>
        <a:p>
          <a:pPr lvl="0" algn="ctr" defTabSz="4445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000" b="1" kern="1200" dirty="0" smtClean="0">
              <a:effectLst>
                <a:outerShdw blurRad="38100" dist="38100" dir="2700000" algn="tl">
                  <a:srgbClr val="000000">
                    <a:alpha val="43137"/>
                  </a:srgbClr>
                </a:outerShdw>
              </a:effectLst>
            </a:rPr>
            <a:t>Clerk Steno III</a:t>
          </a:r>
          <a:endParaRPr lang="en-US" sz="1000" b="1" kern="1200" dirty="0">
            <a:effectLst>
              <a:outerShdw blurRad="38100" dist="38100" dir="2700000" algn="tl">
                <a:srgbClr val="000000">
                  <a:alpha val="43137"/>
                </a:srgbClr>
              </a:outerShdw>
            </a:effectLst>
          </a:endParaRPr>
        </a:p>
      </dsp:txBody>
      <dsp:txXfrm>
        <a:off x="3657180" y="3302685"/>
        <a:ext cx="979840" cy="507317"/>
      </dsp:txXfrm>
    </dsp:sp>
    <dsp:sp modelId="{1F1A2B64-5583-464A-97C6-1CE18E4F6130}">
      <dsp:nvSpPr>
        <dsp:cNvPr id="0" name=""/>
        <dsp:cNvSpPr/>
      </dsp:nvSpPr>
      <dsp:spPr>
        <a:xfrm>
          <a:off x="3820176" y="3717095"/>
          <a:ext cx="881856" cy="169105"/>
        </a:xfrm>
        <a:prstGeom prst="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5400" tIns="6350" rIns="25400" bIns="6350" numCol="1" spcCol="1270" anchor="ctr" anchorCtr="0">
          <a:noAutofit/>
        </a:bodyPr>
        <a:lstStyle/>
        <a:p>
          <a:pPr lvl="0" algn="ctr" defTabSz="4445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000" kern="1200" dirty="0" smtClean="0"/>
            <a:t>City/CDBG</a:t>
          </a:r>
          <a:endParaRPr lang="en-US" sz="1000" kern="1200" dirty="0"/>
        </a:p>
      </dsp:txBody>
      <dsp:txXfrm>
        <a:off x="3820176" y="3717095"/>
        <a:ext cx="881856" cy="169105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8/layout/NameandTitleOrganizationalChart">
  <dgm:title val=""/>
  <dgm:desc val=""/>
  <dgm:catLst>
    <dgm:cat type="hierarchy" pri="1250"/>
  </dgm:catLst>
  <dgm:sampData>
    <dgm:dataModel>
      <dgm:ptLst>
        <dgm:pt modelId="0" type="doc"/>
        <dgm:pt modelId="1">
          <dgm:prSet phldr="1"/>
        </dgm:pt>
        <dgm:pt modelId="2" type="asst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5" srcId="0" destId="1" srcOrd="0" destOrd="0"/>
        <dgm:cxn modelId="6" srcId="1" destId="2" srcOrd="0" destOrd="0"/>
        <dgm:cxn modelId="7" srcId="1" destId="3" srcOrd="1" destOrd="0"/>
        <dgm:cxn modelId="8" srcId="1" destId="4" srcOrd="2" destOrd="0"/>
        <dgm:cxn modelId="9" srcId="1" destId="5" srcOrd="3" destOrd="0"/>
      </dgm:cxnLst>
      <dgm:bg/>
      <dgm:whole/>
    </dgm:dataModel>
  </dgm:sampData>
  <dgm:styleData>
    <dgm:dataModel>
      <dgm:ptLst>
        <dgm:pt modelId="0" type="doc"/>
        <dgm:pt modelId="1"/>
        <dgm:pt modelId="12"/>
        <dgm:pt modelId="13"/>
      </dgm:ptLst>
      <dgm:cxnLst>
        <dgm:cxn modelId="2" srcId="0" destId="1" srcOrd="0" destOrd="0"/>
        <dgm:cxn modelId="16" srcId="1" destId="12" srcOrd="1" destOrd="0"/>
        <dgm:cxn modelId="17" srcId="1" destId="13" srcOrd="2" destOrd="0"/>
      </dgm:cxnLst>
      <dgm:bg/>
      <dgm:whole/>
    </dgm:dataModel>
  </dgm:styleData>
  <dgm:clrData>
    <dgm:dataModel>
      <dgm:ptLst>
        <dgm:pt modelId="0" type="doc"/>
        <dgm:pt modelId="1"/>
        <dgm:pt modelId="11" type="asst"/>
        <dgm:pt modelId="12"/>
        <dgm:pt modelId="13"/>
        <dgm:pt modelId="14"/>
      </dgm:ptLst>
      <dgm:cxnLst>
        <dgm:cxn modelId="2" srcId="0" destId="1" srcOrd="0" destOrd="0"/>
        <dgm:cxn modelId="15" srcId="1" destId="11" srcOrd="0" destOrd="0"/>
        <dgm:cxn modelId="16" srcId="1" destId="12" srcOrd="1" destOrd="0"/>
        <dgm:cxn modelId="17" srcId="1" destId="13" srcOrd="2" destOrd="0"/>
        <dgm:cxn modelId="18" srcId="1" destId="14" srcOrd="2" destOrd="0"/>
      </dgm:cxnLst>
      <dgm:bg/>
      <dgm:whole/>
    </dgm:dataModel>
  </dgm:clrData>
  <dgm:layoutNode name="hierChild1">
    <dgm:varLst>
      <dgm:orgChart val="1"/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des" forName="rootComposite1" refType="w" fact="10"/>
      <dgm:constr type="h" for="des" forName="rootComposite1" refType="w" refFor="des" refForName="rootComposite1" fact="0.5"/>
      <dgm:constr type="w" for="des" forName="rootComposite" refType="w" fact="10"/>
      <dgm:constr type="h" for="des" forName="rootComposite" refType="w" refFor="des" refForName="rootComposite1" fact="0.5"/>
      <dgm:constr type="w" for="des" forName="rootComposite3" refType="w" fact="10"/>
      <dgm:constr type="h" for="des" forName="rootComposite3" refType="w" refFor="des" refForName="rootComposite1" fact="0.5"/>
      <dgm:constr type="primFontSz" for="des" ptType="node" op="equ"/>
      <dgm:constr type="sp" for="des" op="equ"/>
      <dgm:constr type="sp" for="des" forName="hierRoot1" refType="w" refFor="des" refForName="rootComposite1" fact="0.21"/>
      <dgm:constr type="sp" for="des" forName="hierRoot2" refType="sp" refFor="des" refForName="hierRoot1"/>
      <dgm:constr type="sp" for="des" forName="hierRoot3" refType="sp" refFor="des" refForName="hierRoot1"/>
      <dgm:constr type="sibSp" refType="w" refFor="des" refForName="rootComposite1" fact="0.2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ibSp" for="des" forName="hierChild7" refType="sibSp"/>
      <dgm:constr type="secSibSp" refType="w" refFor="des" refForName="rootComposite1" fact="0.21"/>
      <dgm:constr type="secSibSp" for="des" forName="hierChild2" refType="secSibSp"/>
      <dgm:constr type="secSibSp" for="des" forName="hierChild3" refType="secSibSp"/>
      <dgm:constr type="secSibSp" for="des" forName="hierChild4" refType="secSibSp"/>
      <dgm:constr type="secSibSp" for="des" forName="hierChild5" refType="secSibSp"/>
      <dgm:constr type="secSibSp" for="des" forName="hierChild6" refType="secSibSp"/>
      <dgm:constr type="secSibSp" for="des" forName="hierChild7" refType="secSibSp"/>
    </dgm:constrLst>
    <dgm:ruleLst/>
    <dgm:forEach name="Name3" axis="ch">
      <dgm:forEach name="Name4" axis="self" ptType="node">
        <dgm:layoutNode name="hierRoot1">
          <dgm:varLst>
            <dgm:hierBranch val="init"/>
          </dgm:varLst>
          <dgm:choose name="Name5">
            <dgm:if name="Name6" func="var" arg="hierBranch" op="equ" val="l">
              <dgm:choose name="Name7">
                <dgm:if name="Name8" axis="ch" ptType="asst" func="cnt" op="gte" val="1">
                  <dgm:alg type="hierRoot">
                    <dgm:param type="hierAlign" val="tR"/>
                  </dgm:alg>
                  <dgm:constrLst>
                    <dgm:constr type="alignOff" val="0.65"/>
                  </dgm:constrLst>
                </dgm:if>
                <dgm:else name="Name9">
                  <dgm:alg type="hierRoot">
                    <dgm:param type="hierAlign" val="tR"/>
                  </dgm:alg>
                  <dgm:constrLst>
                    <dgm:constr type="alignOff" val="0.25"/>
                  </dgm:constrLst>
                </dgm:else>
              </dgm:choose>
            </dgm:if>
            <dgm:if name="Name10" func="var" arg="hierBranch" op="equ" val="r">
              <dgm:choose name="Name11">
                <dgm:if name="Name12" axis="ch" ptType="asst" func="cnt" op="gte" val="1">
                  <dgm:alg type="hierRoot">
                    <dgm:param type="hierAlign" val="tL"/>
                  </dgm:alg>
                  <dgm:constrLst>
                    <dgm:constr type="alignOff" val="0.65"/>
                  </dgm:constrLst>
                </dgm:if>
                <dgm:else name="Name13">
                  <dgm:alg type="hierRoot">
                    <dgm:param type="hierAlign" val="tL"/>
                  </dgm:alg>
                  <dgm:constrLst>
                    <dgm:constr type="alignOff" val="0.25"/>
                  </dgm:constrLst>
                </dgm:else>
              </dgm:choose>
            </dgm:if>
            <dgm:if name="Name14" func="var" arg="hierBranch" op="equ" val="hang">
              <dgm:alg type="hierRoot"/>
              <dgm:constrLst>
                <dgm:constr type="alignOff" val="0.65"/>
              </dgm:constrLst>
            </dgm:if>
            <dgm:else name="Name15">
              <dgm:alg type="hierRoot"/>
              <dgm:constrLst>
                <dgm:constr type="alignOff"/>
                <dgm:constr type="bendDist" for="des" ptType="parTrans" refType="sp" fact="0.5"/>
              </dgm:constrLst>
            </dgm:else>
          </dgm:choose>
          <dgm:shape xmlns:r="http://schemas.openxmlformats.org/officeDocument/2006/relationships" r:blip="">
            <dgm:adjLst/>
          </dgm:shape>
          <dgm:presOf/>
          <dgm:ruleLst/>
          <dgm:layoutNode name="rootComposite1">
            <dgm:alg type="composite"/>
            <dgm:shape xmlns:r="http://schemas.openxmlformats.org/officeDocument/2006/relationships" r:blip="">
              <dgm:adjLst/>
            </dgm:shape>
            <dgm:presOf axis="self" ptType="node" cnt="1"/>
            <dgm:choose name="Name16">
              <dgm:if name="Name17" func="var" arg="hierBranch" op="equ" val="init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 fact="0.9"/>
                  <dgm:constr type="l" for="ch" forName="titleText1" refType="w" fact="0.2"/>
                  <dgm:constr type="t" for="ch" forName="titleText1" refType="h" fact="0.7"/>
                  <dgm:constr type="w" for="ch" forName="titleText1" refType="w" fact="0.9"/>
                  <dgm:constr type="h" for="ch" forName="titleText1" refType="h" fact="0.3"/>
                  <dgm:constr type="primFontSz" for="des" forName="titleText1" refType="primFontSz" refFor="des" refForName="rootText1" op="lte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8" func="var" arg="hierBranch" op="equ" val="l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 fact="0.9"/>
                  <dgm:constr type="l" for="ch" forName="titleText1" refType="w" fact="0.2"/>
                  <dgm:constr type="t" for="ch" forName="titleText1" refType="h" fact="0.7"/>
                  <dgm:constr type="w" for="ch" forName="titleText1" refType="w" fact="0.9"/>
                  <dgm:constr type="h" for="ch" forName="titleText1" refType="h" fact="0.3"/>
                  <dgm:constr type="primFontSz" for="des" forName="titleText1" refType="primFontSz" refFor="des" refForName="rootText1" op="lte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9" func="var" arg="hierBranch" op="equ" val="r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 fact="0.9"/>
                  <dgm:constr type="l" for="ch" forName="titleText1" refType="w" fact="0.2"/>
                  <dgm:constr type="t" for="ch" forName="titleText1" refType="h" fact="0.7"/>
                  <dgm:constr type="w" for="ch" forName="titleText1" refType="w" fact="0.9"/>
                  <dgm:constr type="h" for="ch" forName="titleText1" refType="h" fact="0.3"/>
                  <dgm:constr type="primFontSz" for="des" forName="titleText1" refType="primFontSz" refFor="des" refForName="rootText1" op="lte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else name="Name20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 fact="0.9"/>
                  <dgm:constr type="l" for="ch" forName="titleText1" refType="w" fact="0.2"/>
                  <dgm:constr type="t" for="ch" forName="titleText1" refType="h" fact="0.7"/>
                  <dgm:constr type="w" for="ch" forName="titleText1" refType="w" fact="0.9"/>
                  <dgm:constr type="h" for="ch" forName="titleText1" refType="h" fact="0.3"/>
                  <dgm:constr type="primFontSz" for="des" forName="titleText1" refType="primFontSz" refFor="des" refForName="rootText1" op="lte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else>
            </dgm:choose>
            <dgm:ruleLst/>
            <dgm:layoutNode name="rootText1" styleLbl="node0">
              <dgm:varLst>
                <dgm:chMax/>
                <dgm:chPref val="3"/>
              </dgm:varLst>
              <dgm:alg type="tx"/>
              <dgm:shape xmlns:r="http://schemas.openxmlformats.org/officeDocument/2006/relationships" type="rect" r:blip="">
                <dgm:adjLst/>
              </dgm:shape>
              <dgm:presOf axis="self" ptType="node" cnt="1"/>
              <dgm:constrLst>
                <dgm:constr type="primFontSz" val="65"/>
                <dgm:constr type="lMarg" refType="primFontSz" fact="0.05"/>
                <dgm:constr type="rMarg" refType="primFontSz" fact="0.05"/>
                <dgm:constr type="tMarg" refType="primFontSz" fact="0.05"/>
                <dgm:constr type="bMarg" refType="h" fact="0.4"/>
              </dgm:constrLst>
              <dgm:ruleLst>
                <dgm:rule type="primFontSz" val="5" fact="NaN" max="NaN"/>
              </dgm:ruleLst>
            </dgm:layoutNode>
            <dgm:layoutNode name="titleText1" styleLbl="fgAcc0">
              <dgm:varLst>
                <dgm:chMax val="0"/>
                <dgm:chPref val="0"/>
              </dgm:varLst>
              <dgm:alg type="tx">
                <dgm:param type="parTxLTRAlign" val="r"/>
              </dgm:alg>
              <dgm:shape xmlns:r="http://schemas.openxmlformats.org/officeDocument/2006/relationships" type="rect" r:blip="">
                <dgm:adjLst/>
              </dgm:shape>
              <dgm:presOf axis="followSib" ptType="sibTrans" hideLastTrans="0" cnt="1"/>
              <dgm:constrLst>
                <dgm:constr type="primFontSz" val="65"/>
                <dgm:constr type="lMarg" refType="primFontSz" fact="0.2"/>
                <dgm:constr type="rMarg" refType="primFontSz" fact="0.2"/>
                <dgm:constr type="tMarg" refType="primFontSz" fact="0.05"/>
                <dgm:constr type="bMarg" refType="primFontSz" fact="0.05"/>
              </dgm:constrLst>
              <dgm:ruleLst>
                <dgm:rule type="primFontSz" val="5" fact="NaN" max="NaN"/>
              </dgm:ruleLst>
            </dgm:layoutNode>
            <dgm:layoutNode name="rootConnector1" moveWith="rootText1">
              <dgm:alg type="sp"/>
              <dgm:shape xmlns:r="http://schemas.openxmlformats.org/officeDocument/2006/relationships" type="rect" r:blip="" hideGeom="1">
                <dgm:adjLst/>
              </dgm:shape>
              <dgm:presOf axis="self" ptType="node" cnt="1"/>
              <dgm:constrLst/>
              <dgm:ruleLst/>
            </dgm:layoutNode>
          </dgm:layoutNode>
          <dgm:layoutNode name="hierChild2">
            <dgm:choose name="Name21">
              <dgm:if name="Name22" func="var" arg="hierBranch" op="equ" val="l">
                <dgm:alg type="hierChild">
                  <dgm:param type="chAlign" val="r"/>
                  <dgm:param type="linDir" val="fromT"/>
                </dgm:alg>
              </dgm:if>
              <dgm:if name="Name23" func="var" arg="hierBranch" op="equ" val="r">
                <dgm:alg type="hierChild">
                  <dgm:param type="chAlign" val="l"/>
                  <dgm:param type="linDir" val="fromT"/>
                </dgm:alg>
              </dgm:if>
              <dgm:if name="Name24" func="var" arg="hierBranch" op="equ" val="hang">
                <dgm:choose name="Name25">
                  <dgm:if name="Name26" func="var" arg="dir" op="equ" val="norm">
                    <dgm:alg type="hierChild">
                      <dgm:param type="chAlign" val="l"/>
                      <dgm:param type="linDir" val="fromL"/>
                      <dgm:param type="secChAlign" val="t"/>
                      <dgm:param type="secLinDir" val="fromT"/>
                    </dgm:alg>
                  </dgm:if>
                  <dgm:else name="Name27">
                    <dgm:alg type="hierChild">
                      <dgm:param type="chAlign" val="l"/>
                      <dgm:param type="linDir" val="fromR"/>
                      <dgm:param type="secChAlign" val="t"/>
                      <dgm:param type="secLinDir" val="fromT"/>
                    </dgm:alg>
                  </dgm:else>
                </dgm:choose>
              </dgm:if>
              <dgm:else name="Name28">
                <dgm:choose name="Name29">
                  <dgm:if name="Name30" func="var" arg="dir" op="equ" val="norm">
                    <dgm:alg type="hierChild"/>
                  </dgm:if>
                  <dgm:else name="Name31">
                    <dgm:alg type="hierChild">
                      <dgm:param type="linDir" val="fromR"/>
                    </dgm:alg>
                  </dgm:else>
                </dgm:choose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a" axis="ch" ptType="nonAsst">
              <dgm:forEach name="Name32" axis="precedSib" ptType="parTrans" st="-1" cnt="1">
                <dgm:choose name="Name33">
                  <dgm:if name="Name34" func="var" arg="hierBranch" op="equ" val="std">
                    <dgm:layoutNode name="Name35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tCtr"/>
                        <dgm:param type="bendPt" val="end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36" func="var" arg="hierBranch" op="equ" val="init">
                    <dgm:layoutNode name="Name37">
                      <dgm:choose name="Name38">
                        <dgm:if name="Name39" axis="self" func="depth" op="lte" val="2">
                          <dgm:alg type="conn">
                            <dgm:param type="connRout" val="bend"/>
                            <dgm:param type="dim" val="1D"/>
                            <dgm:param type="endSty" val="noArr"/>
                            <dgm:param type="begPts" val="bCtr"/>
                            <dgm:param type="endPts" val="tCtr"/>
                            <dgm:param type="bendPt" val="end"/>
                          </dgm:alg>
                        </dgm:if>
                        <dgm:else name="Name40">
                          <dgm:alg type="conn">
                            <dgm:param type="connRout" val="bend"/>
                            <dgm:param type="dim" val="1D"/>
                            <dgm:param type="endSty" val="noArr"/>
                            <dgm:param type="begPts" val="bCtr"/>
                            <dgm:param type="endPts" val="tCtr"/>
                            <dgm:param type="bendPt" val="end"/>
                          </dgm:alg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41" func="var" arg="hierBranch" op="equ" val="hang">
                    <dgm:layoutNode name="Name42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midL midR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else name="Name43">
                    <dgm:layoutNode name="Name44">
                      <dgm:choose name="Name45">
                        <dgm:if name="Name46" axis="self" func="depth" op="lte" val="2">
                          <dgm:choose name="Name47">
                            <dgm:if name="Name48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49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1"/>
                              </dgm:alg>
                            </dgm:else>
                          </dgm:choose>
                        </dgm:if>
                        <dgm:else name="Name50">
                          <dgm:choose name="Name51">
                            <dgm:if name="Name52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3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else>
                </dgm:choose>
              </dgm:forEach>
              <dgm:layoutNode name="hierRoot2">
                <dgm:varLst>
                  <dgm:hierBranch val="init"/>
                </dgm:varLst>
                <dgm:choose name="Name54">
                  <dgm:if name="Name55" func="var" arg="hierBranch" op="equ" val="l">
                    <dgm:choose name="Name56">
                      <dgm:if name="Name57" axis="ch" ptType="asst" func="cnt" op="gte" val="1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58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59" func="var" arg="hierBranch" op="equ" val="r">
                    <dgm:choose name="Name60">
                      <dgm:if name="Name61" axis="ch" ptType="asst" func="cnt" op="g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2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3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64" func="var" arg="hierBranch" op="equ" val="init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else name="Name65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else>
                </dgm:choose>
                <dgm:ruleLst/>
                <dgm:layoutNode name="rootComposite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66">
                    <dgm:if name="Name67" func="var" arg="hierBranch" op="equ" val="init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 fact="0.9"/>
                        <dgm:constr type="l" for="ch" forName="titleText2" refType="w" fact="0.2"/>
                        <dgm:constr type="t" for="ch" forName="titleText2" refType="h" fact="0.7"/>
                        <dgm:constr type="w" for="ch" forName="titleText2" refType="w" fact="0.9"/>
                        <dgm:constr type="h" for="ch" forName="titleText2" refType="h" fact="0.3"/>
                        <dgm:constr type="primFontSz" for="des" forName="titleText2" refType="primFontSz" refFor="des" refForName="rootText1" op="lte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68" func="var" arg="hierBranch" op="equ" val="l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 fact="0.9"/>
                        <dgm:constr type="l" for="ch" forName="titleText2" refType="w" fact="0.2"/>
                        <dgm:constr type="t" for="ch" forName="titleText2" refType="h" fact="0.7"/>
                        <dgm:constr type="w" for="ch" forName="titleText2" refType="w" fact="0.9"/>
                        <dgm:constr type="h" for="ch" forName="titleText2" refType="h" fact="0.3"/>
                        <dgm:constr type="primFontSz" for="des" forName="titleText2" refType="primFontSz" refFor="des" refForName="rootText1" op="lte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69" func="var" arg="hierBranch" op="equ" val="r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 fact="0.9"/>
                        <dgm:constr type="l" for="ch" forName="titleText2" refType="w" fact="0.2"/>
                        <dgm:constr type="t" for="ch" forName="titleText2" refType="h" fact="0.7"/>
                        <dgm:constr type="w" for="ch" forName="titleText2" refType="w" fact="0.9"/>
                        <dgm:constr type="h" for="ch" forName="titleText2" refType="h" fact="0.3"/>
                        <dgm:constr type="primFontSz" for="des" forName="titleText2" refType="primFontSz" refFor="des" refForName="rootText1" op="lte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else name="Name70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 fact="0.9"/>
                        <dgm:constr type="l" for="ch" forName="titleText2" refType="w" fact="0.2"/>
                        <dgm:constr type="t" for="ch" forName="titleText2" refType="h" fact="0.7"/>
                        <dgm:constr type="w" for="ch" forName="titleText2" refType="w" fact="0.9"/>
                        <dgm:constr type="h" for="ch" forName="titleText2" refType="h" fact="0.3"/>
                        <dgm:constr type="primFontSz" for="des" forName="titleText2" refType="primFontSz" refFor="des" refForName="rootText1" op="lte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else>
                  </dgm:choose>
                  <dgm:ruleLst/>
                  <dgm:layoutNode name="rootText" styleLbl="node1">
                    <dgm:varLst>
                      <dgm:chMax/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h" fact="0.4"/>
                    </dgm:constrLst>
                    <dgm:ruleLst>
                      <dgm:rule type="primFontSz" val="5" fact="NaN" max="NaN"/>
                    </dgm:ruleLst>
                  </dgm:layoutNode>
                  <dgm:layoutNode name="titleText2" styleLbl="fgAcc1">
                    <dgm:varLst>
                      <dgm:chMax val="0"/>
                      <dgm:chPref val="0"/>
                    </dgm:varLst>
                    <dgm:alg type="tx">
                      <dgm:param type="parTxLTRAlign" val="r"/>
                    </dgm:alg>
                    <dgm:shape xmlns:r="http://schemas.openxmlformats.org/officeDocument/2006/relationships" type="rect" r:blip="">
                      <dgm:adjLst/>
                    </dgm:shape>
                    <dgm:presOf axis="followSib" ptType="sibTrans" hideLastTrans="0" cnt="1"/>
                    <dgm:constrLst>
                      <dgm:constr type="primFontSz" val="65"/>
                      <dgm:constr type="lMarg" refType="primFontSz" fact="0.2"/>
                      <dgm:constr type="rMarg" refType="primFontSz" fact="0.2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" moveWith="rootText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4">
                  <dgm:choose name="Name71">
                    <dgm:if name="Name72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73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74" func="var" arg="hierBranch" op="equ" val="hang">
                      <dgm:choose name="Name75">
                        <dgm:if name="Name76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77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78" func="var" arg="hierBranch" op="equ" val="std">
                      <dgm:choose name="Name79">
                        <dgm:if name="Name80" func="var" arg="dir" op="equ" val="norm">
                          <dgm:alg type="hierChild"/>
                        </dgm:if>
                        <dgm:else name="Name81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82" func="var" arg="hierBranch" op="equ" val="init">
                      <dgm:choose name="Name83">
                        <dgm:if name="Name84" func="var" arg="dir" op="equ" val="norm">
                          <dgm:alg type="hierChild"/>
                        </dgm:if>
                        <dgm:else name="Name85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else name="Name86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87" ref="rep2a"/>
                </dgm:layoutNode>
                <dgm:layoutNode name="hierChild5">
                  <dgm:choose name="Name88">
                    <dgm:if name="Name89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90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91" ref="rep2b"/>
                </dgm:layoutNode>
              </dgm:layoutNode>
            </dgm:forEach>
          </dgm:layoutNode>
          <dgm:layoutNode name="hierChild3">
            <dgm:choose name="Name92">
              <dgm:if name="Name93" func="var" arg="dir" op="equ" val="norm">
                <dgm:alg type="hierChild">
                  <dgm:param type="chAlign" val="l"/>
                  <dgm:param type="linDir" val="fromL"/>
                  <dgm:param type="secChAlign" val="t"/>
                  <dgm:param type="secLinDir" val="fromT"/>
                </dgm:alg>
              </dgm:if>
              <dgm:else name="Name94">
                <dgm:alg type="hierChild">
                  <dgm:param type="chAlign" val="l"/>
                  <dgm:param type="linDir" val="fromR"/>
                  <dgm:param type="secChAlign" val="t"/>
                  <dgm:param type="secLinDir" val="fromT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b" axis="ch" ptType="asst">
              <dgm:forEach name="Name95" axis="precedSib" ptType="parTrans" st="-1" cnt="1">
                <dgm:layoutNode name="Name96">
                  <dgm:alg type="conn">
                    <dgm:param type="connRout" val="bend"/>
                    <dgm:param type="dim" val="1D"/>
                    <dgm:param type="endSty" val="noArr"/>
                    <dgm:param type="begPts" val="bCtr"/>
                    <dgm:param type="endPts" val="midL midR"/>
                  </dgm:alg>
                  <dgm:shape xmlns:r="http://schemas.openxmlformats.org/officeDocument/2006/relationships" type="conn" r:blip="" zOrderOff="-99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layoutNode name="hierRoot3">
                <dgm:varLst>
                  <dgm:hierBranch val="init"/>
                </dgm:varLst>
                <dgm:choose name="Name97">
                  <dgm:if name="Name98" func="var" arg="hierBranch" op="equ" val="l">
                    <dgm:alg type="hierRoot">
                      <dgm:param type="hierAlign" val="tR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99" func="var" arg="hierBranch" op="equ" val="r">
                    <dgm:alg type="hierRoot">
                      <dgm:param type="hierAlign" val="tL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00" func="var" arg="hierBranch" op="equ" val="hang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01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102" func="var" arg="hierBranch" op="equ" val="init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else name="Name103"/>
                </dgm:choose>
                <dgm:ruleLst/>
                <dgm:layoutNode name="rootComposite3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104">
                    <dgm:if name="Name105" func="var" arg="hierBranch" op="equ" val="init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 fact="0.9"/>
                        <dgm:constr type="l" for="ch" forName="titleText3" refType="w" fact="0.2"/>
                        <dgm:constr type="t" for="ch" forName="titleText3" refType="h" fact="0.7"/>
                        <dgm:constr type="w" for="ch" forName="titleText3" refType="w" fact="0.9"/>
                        <dgm:constr type="h" for="ch" forName="titleText3" refType="h" fact="0.3"/>
                        <dgm:constr type="primFontSz" for="des" forName="titleText3" refType="primFontSz" refFor="des" refForName="rootText3" op="lte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06" func="var" arg="hierBranch" op="equ" val="l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 fact="0.9"/>
                        <dgm:constr type="l" for="ch" forName="titleText3" refType="w" fact="0.2"/>
                        <dgm:constr type="t" for="ch" forName="titleText3" refType="h" fact="0.7"/>
                        <dgm:constr type="w" for="ch" forName="titleText3" refType="w" fact="0.9"/>
                        <dgm:constr type="h" for="ch" forName="titleText3" refType="h" fact="0.3"/>
                        <dgm:constr type="primFontSz" for="des" forName="titleText3" refType="primFontSz" refFor="des" refForName="rootText3" op="lte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07" func="var" arg="hierBranch" op="equ" val="r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 fact="0.9"/>
                        <dgm:constr type="l" for="ch" forName="titleText3" refType="w" fact="0.2"/>
                        <dgm:constr type="t" for="ch" forName="titleText3" refType="h" fact="0.7"/>
                        <dgm:constr type="w" for="ch" forName="titleText3" refType="w" fact="0.9"/>
                        <dgm:constr type="h" for="ch" forName="titleText3" refType="h" fact="0.3"/>
                        <dgm:constr type="primFontSz" for="des" forName="titleText3" refType="primFontSz" refFor="des" refForName="rootText3" op="lte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else name="Name108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 fact="0.9"/>
                        <dgm:constr type="l" for="ch" forName="titleText3" refType="w" fact="0.2"/>
                        <dgm:constr type="t" for="ch" forName="titleText3" refType="h" fact="0.7"/>
                        <dgm:constr type="w" for="ch" forName="titleText3" refType="w" fact="0.9"/>
                        <dgm:constr type="h" for="ch" forName="titleText3" refType="h" fact="0.3"/>
                        <dgm:constr type="primFontSz" for="des" forName="titleText3" refType="primFontSz" refFor="des" refForName="rootText3" op="lte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else>
                  </dgm:choose>
                  <dgm:ruleLst/>
                  <dgm:layoutNode name="rootText3" styleLbl="asst1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h" fact="0.4"/>
                    </dgm:constrLst>
                    <dgm:ruleLst>
                      <dgm:rule type="primFontSz" val="5" fact="NaN" max="NaN"/>
                    </dgm:ruleLst>
                  </dgm:layoutNode>
                  <dgm:layoutNode name="titleText3" styleLbl="fgAcc2">
                    <dgm:varLst>
                      <dgm:chMax val="0"/>
                      <dgm:chPref val="0"/>
                    </dgm:varLst>
                    <dgm:alg type="tx">
                      <dgm:param type="parTxLTRAlign" val="r"/>
                    </dgm:alg>
                    <dgm:shape xmlns:r="http://schemas.openxmlformats.org/officeDocument/2006/relationships" type="rect" r:blip="">
                      <dgm:adjLst/>
                    </dgm:shape>
                    <dgm:presOf axis="followSib" ptType="sibTrans" hideLastTrans="0" cnt="1"/>
                    <dgm:constrLst>
                      <dgm:constr type="primFontSz" val="65"/>
                      <dgm:constr type="lMarg" refType="primFontSz" fact="0.2"/>
                      <dgm:constr type="rMarg" refType="primFontSz" fact="0.2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3" moveWith="rootText1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6">
                  <dgm:choose name="Name109">
                    <dgm:if name="Name110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111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112" func="var" arg="hierBranch" op="equ" val="hang">
                      <dgm:choose name="Name113">
                        <dgm:if name="Name114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115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116" func="var" arg="hierBranch" op="equ" val="std">
                      <dgm:choose name="Name117">
                        <dgm:if name="Name118" func="var" arg="dir" op="equ" val="norm">
                          <dgm:alg type="hierChild"/>
                        </dgm:if>
                        <dgm:else name="Name119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120" func="var" arg="hierBranch" op="equ" val="init">
                      <dgm:alg type="hierChild"/>
                    </dgm:if>
                    <dgm:else name="Name121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22" ref="rep2a"/>
                </dgm:layoutNode>
                <dgm:layoutNode name="hierChild7">
                  <dgm:choose name="Name123">
                    <dgm:if name="Name124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25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26" ref="rep2b"/>
                </dgm:layoutNode>
              </dgm:layoutNode>
            </dgm:forEach>
          </dgm:layoutNode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lick to move the slide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dt" idx="16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ftr" idx="17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 type="sldNum" idx="18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7D4001-D319-4C15-A069-461CAB9898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5ACE26F-18E9-4049-8FA6-313362F5D786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1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eneva"/>
              </a:rPr>
              <a:t>Population has been stagnant since the 60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F95F2D8-79FD-4D92-89DA-B241899EFBE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8400" cy="34272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eneva"/>
              </a:rPr>
              <a:t>Population has been stagnant since the 60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eneva"/>
              </a:rPr>
              <a:t>The core and principal city of the La Crosse-Onalaska, WI-MN Metropolitan Statistical Area. This includes all of the La Crosse County and Houston County , Combined population of 135,29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eneva"/>
              </a:rPr>
              <a:t>Home of several Corp Headquarters, tourism hub for the region with a multitude of performance venues, hotels, restaurants and small busin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B148860-5D95-42A0-95D3-DCBE12AE41E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354E-AF37-4BC8-A180-9A2D8923F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7086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00200" y="2507760"/>
            <a:ext cx="70862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00200" y="3296520"/>
            <a:ext cx="70862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90AD-C7E7-4764-86A7-91FA61A0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7086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00200" y="2507760"/>
            <a:ext cx="34578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1160" y="2507760"/>
            <a:ext cx="34578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00200" y="3296520"/>
            <a:ext cx="34578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31160" y="3296520"/>
            <a:ext cx="34578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4A10-CDDB-4837-9693-2353C8A04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7086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00200" y="2507760"/>
            <a:ext cx="228168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6360" y="2507760"/>
            <a:ext cx="228168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2520" y="2507760"/>
            <a:ext cx="228168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00200" y="3296520"/>
            <a:ext cx="228168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6360" y="3296520"/>
            <a:ext cx="228168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2520" y="3296520"/>
            <a:ext cx="228168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F488-5313-49CB-825B-713CE5FD4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8AECD-A3E2-4270-8B17-A447F0B25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7086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600200" y="2507760"/>
            <a:ext cx="70862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352A2-C64F-4281-8522-43F5F60B6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7086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600200" y="2507760"/>
            <a:ext cx="70862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0164F-9F17-4C48-8C0A-20234BC75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7086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00200" y="2507760"/>
            <a:ext cx="34578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31160" y="2507760"/>
            <a:ext cx="34578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82559-79BC-4447-8D7A-5036E205B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7086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87E0D-2C83-4E93-8A04-5D1897088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600200" y="609480"/>
            <a:ext cx="7086240" cy="84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58DD0-C10D-4733-B77F-36929D12D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7086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00200" y="2507760"/>
            <a:ext cx="34578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31160" y="2507760"/>
            <a:ext cx="34578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600200" y="3296520"/>
            <a:ext cx="34578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EB927-ED0E-42C8-84E0-C727979D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7086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00200" y="2507760"/>
            <a:ext cx="70862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EBA8-344C-4B90-B34D-DDE79B101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7086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00200" y="2507760"/>
            <a:ext cx="34578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31160" y="2507760"/>
            <a:ext cx="34578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31160" y="3296520"/>
            <a:ext cx="34578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FFE26-8068-4F6A-A940-22E85E4B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7086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00200" y="2507760"/>
            <a:ext cx="34578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31160" y="2507760"/>
            <a:ext cx="34578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600200" y="3296520"/>
            <a:ext cx="70862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295AF-1F3C-4B6C-8851-4D7CF2A6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7086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00200" y="2507760"/>
            <a:ext cx="70862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600200" y="3296520"/>
            <a:ext cx="70862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DDF70-6E8F-42FE-A89C-5CAEFF135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7086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00200" y="2507760"/>
            <a:ext cx="34578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31160" y="2507760"/>
            <a:ext cx="34578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600200" y="3296520"/>
            <a:ext cx="34578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31160" y="3296520"/>
            <a:ext cx="34578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40701-6964-4E15-A584-B419D610C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7086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600200" y="2507760"/>
            <a:ext cx="228168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96360" y="2507760"/>
            <a:ext cx="228168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92520" y="2507760"/>
            <a:ext cx="228168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600200" y="3296520"/>
            <a:ext cx="228168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96360" y="3296520"/>
            <a:ext cx="228168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92520" y="3296520"/>
            <a:ext cx="228168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B0CB0-F971-4574-968C-EF59F45AC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1CF46-B94B-4CD0-91D3-AA51951EC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7086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600200" y="2507760"/>
            <a:ext cx="70862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E9610-C1E3-4C82-A15A-9C9B1A0BA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7086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600200" y="2507760"/>
            <a:ext cx="70862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C2568-4D26-4217-AC62-AC73BC07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7086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00200" y="2507760"/>
            <a:ext cx="34578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31160" y="2507760"/>
            <a:ext cx="34578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F8084-0F73-4946-BA72-8C24E2A1E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7086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69E02-E15B-40F0-A7FF-7A26EF7F8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7086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00200" y="2507760"/>
            <a:ext cx="70862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237A-F124-4168-BE49-47DFBFF2E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00200" y="609480"/>
            <a:ext cx="7086240" cy="84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7CD3C-AACA-435A-A299-9888895D3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7086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00200" y="2507760"/>
            <a:ext cx="34578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31160" y="2507760"/>
            <a:ext cx="34578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600200" y="3296520"/>
            <a:ext cx="34578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0B0C2-0DC7-42CD-BAE0-6CA6C3CD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7086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00200" y="2507760"/>
            <a:ext cx="34578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231160" y="2507760"/>
            <a:ext cx="34578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231160" y="3296520"/>
            <a:ext cx="34578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1F44B-2567-40CE-8ED1-84AA2833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7086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600200" y="2507760"/>
            <a:ext cx="34578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231160" y="2507760"/>
            <a:ext cx="34578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600200" y="3296520"/>
            <a:ext cx="70862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A6C61-A5EE-4292-98C1-80457DF1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7086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00200" y="2507760"/>
            <a:ext cx="70862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600200" y="3296520"/>
            <a:ext cx="70862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51EF8-4341-4DB3-8D48-4A0A997A1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7086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00200" y="2507760"/>
            <a:ext cx="34578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31160" y="2507760"/>
            <a:ext cx="34578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600200" y="3296520"/>
            <a:ext cx="34578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231160" y="3296520"/>
            <a:ext cx="34578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66A0A-6E1A-4B68-AB05-D7D00F03C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7086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600200" y="2507760"/>
            <a:ext cx="228168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996360" y="2507760"/>
            <a:ext cx="228168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392520" y="2507760"/>
            <a:ext cx="228168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600200" y="3296520"/>
            <a:ext cx="228168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996360" y="3296520"/>
            <a:ext cx="228168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392520" y="3296520"/>
            <a:ext cx="228168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3E104-AF37-4B0E-9E49-2E10AEE29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DC1E9-EB6A-4220-A362-0C48530C9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7086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600200" y="2507760"/>
            <a:ext cx="70862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47D0D-F1AA-4A26-A106-7AF08A0B4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7086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600200" y="2507760"/>
            <a:ext cx="70862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573EB-0FED-4D2F-97D3-4E0DC506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7086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00200" y="2507760"/>
            <a:ext cx="34578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31160" y="2507760"/>
            <a:ext cx="34578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3685-E8B0-45F4-BE03-952D66D1E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7086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600200" y="2507760"/>
            <a:ext cx="34578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231160" y="2507760"/>
            <a:ext cx="34578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0B1F0-A027-4747-860F-0B9DAE8C7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7086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C0906-61EC-4261-A949-8CF5299EF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600200" y="609480"/>
            <a:ext cx="7086240" cy="84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991FB-7D84-48D2-A689-3D7C744B1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7086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00200" y="2507760"/>
            <a:ext cx="34578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231160" y="2507760"/>
            <a:ext cx="34578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600200" y="3296520"/>
            <a:ext cx="34578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92DAB-3C2F-4E51-B6F3-E3F83C0D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7086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600200" y="2507760"/>
            <a:ext cx="34578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31160" y="2507760"/>
            <a:ext cx="34578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231160" y="3296520"/>
            <a:ext cx="34578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D28DC-1274-47AB-ACBA-88621ADE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7086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600200" y="2507760"/>
            <a:ext cx="34578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231160" y="2507760"/>
            <a:ext cx="34578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600200" y="3296520"/>
            <a:ext cx="70862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9F052-61DB-4472-976D-4FA97319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7086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00200" y="2507760"/>
            <a:ext cx="70862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600200" y="3296520"/>
            <a:ext cx="70862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2B8E7-DC01-4271-BCD4-232777DFF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7086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600200" y="2507760"/>
            <a:ext cx="34578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231160" y="2507760"/>
            <a:ext cx="34578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600200" y="3296520"/>
            <a:ext cx="34578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231160" y="3296520"/>
            <a:ext cx="34578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BA0E8-FEF3-41A8-A3AE-0279848AE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7086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600200" y="2507760"/>
            <a:ext cx="228168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996360" y="2507760"/>
            <a:ext cx="228168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392520" y="2507760"/>
            <a:ext cx="228168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600200" y="3296520"/>
            <a:ext cx="228168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996360" y="3296520"/>
            <a:ext cx="228168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392520" y="3296520"/>
            <a:ext cx="228168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C9F24-6BA5-424D-B7F2-7EA05F550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BA34F-CC85-483F-AF37-99BD5E698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7086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DB1A-4223-4B3C-9761-43358B1D3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7086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600200" y="2507760"/>
            <a:ext cx="70862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38295-3DC3-4BF0-BCDE-4A6F4D5A1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7086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600200" y="2507760"/>
            <a:ext cx="70862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18C73-25F2-4722-8A38-6F6294E5A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7086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600200" y="2507760"/>
            <a:ext cx="34578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231160" y="2507760"/>
            <a:ext cx="34578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F7866-5E70-4743-8DA6-C78CF092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7086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7E69E-0EEE-4C1D-993D-BC19524B4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1600200" y="609480"/>
            <a:ext cx="7086240" cy="84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34546-3E31-4C75-A112-272078F8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7086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600200" y="2507760"/>
            <a:ext cx="34578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231160" y="2507760"/>
            <a:ext cx="34578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600200" y="3296520"/>
            <a:ext cx="34578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B1656-582A-41F6-A91D-723941D9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7086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600200" y="2507760"/>
            <a:ext cx="34578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231160" y="2507760"/>
            <a:ext cx="34578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31160" y="3296520"/>
            <a:ext cx="34578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8ADA3-D6C3-4055-9BF9-867E17EA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7086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00200" y="2507760"/>
            <a:ext cx="34578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231160" y="2507760"/>
            <a:ext cx="34578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600200" y="3296520"/>
            <a:ext cx="70862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E4EDD-270C-46B2-B5BA-E7151266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7086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600200" y="2507760"/>
            <a:ext cx="70862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600200" y="3296520"/>
            <a:ext cx="70862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53E63-E7CD-426B-846E-00F4C4E4E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7086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600200" y="2507760"/>
            <a:ext cx="34578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231160" y="2507760"/>
            <a:ext cx="34578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600200" y="3296520"/>
            <a:ext cx="34578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5231160" y="3296520"/>
            <a:ext cx="34578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20E96-5287-4BE4-BE52-BFF576890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00200" y="609480"/>
            <a:ext cx="7086240" cy="84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12BC-D579-4290-B219-1AD240DCE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7086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600200" y="2507760"/>
            <a:ext cx="228168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996360" y="2507760"/>
            <a:ext cx="228168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392520" y="2507760"/>
            <a:ext cx="228168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1600200" y="3296520"/>
            <a:ext cx="228168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996360" y="3296520"/>
            <a:ext cx="228168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392520" y="3296520"/>
            <a:ext cx="228168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43ECA-7668-42AE-9C50-1176B9EFC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7086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00200" y="2507760"/>
            <a:ext cx="34578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1160" y="2507760"/>
            <a:ext cx="34578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00200" y="3296520"/>
            <a:ext cx="34578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DD5D-06D2-410B-B2AB-2EDA2DA8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7086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00200" y="2507760"/>
            <a:ext cx="34578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1160" y="2507760"/>
            <a:ext cx="34578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31160" y="3296520"/>
            <a:ext cx="34578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F3C0-7F39-4698-B68E-2964EA55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7086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00200" y="2507760"/>
            <a:ext cx="34578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1160" y="2507760"/>
            <a:ext cx="34578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00200" y="3296520"/>
            <a:ext cx="70862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0F4D-5927-4EAC-810B-C04C4B2A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800" spc="-1" strike="noStrike" cap="all">
                <a:solidFill>
                  <a:srgbClr val="000000"/>
                </a:solidFill>
                <a:latin typeface="Lucida Sans"/>
              </a:rPr>
              <a:t>Click to edit Master title style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7439AED-6E39-44EC-895F-689D571C6EE9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800" y="609480"/>
            <a:ext cx="5486040" cy="522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Click to edit Master title styl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828800" y="1832040"/>
            <a:ext cx="5486040" cy="3962160"/>
          </a:xfrm>
          <a:prstGeom prst="rect">
            <a:avLst/>
          </a:prstGeom>
          <a:solidFill>
            <a:srgbClr val="2d3439"/>
          </a:solidFill>
          <a:ln cap="sq" w="44280">
            <a:solidFill>
              <a:srgbClr val="ffffff"/>
            </a:solidFill>
            <a:miter/>
          </a:ln>
          <a:effectLst>
            <a:outerShdw dist="228593" dir="2700000" blurRad="190440" rotWithShape="0">
              <a:srgbClr val="000000">
                <a:alpha val="25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chemeClr val="lt1"/>
                </a:solidFill>
                <a:latin typeface="Book Antiqua"/>
              </a:rPr>
              <a:t>Click icon to add pictur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1828800" y="1166760"/>
            <a:ext cx="5486040" cy="529920"/>
          </a:xfrm>
          <a:prstGeom prst="rect">
            <a:avLst/>
          </a:prstGeom>
          <a:noFill/>
          <a:ln w="0">
            <a:noFill/>
          </a:ln>
        </p:spPr>
        <p:txBody>
          <a:bodyPr lIns="45720" rIns="4572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Click to edit Master text styles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62A5131-91DE-4146-A17C-E38784FF80A1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Master title style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Master text styl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4000" indent="-228600">
              <a:lnSpc>
                <a:spcPct val="100000"/>
              </a:lnSpc>
              <a:spcBef>
                <a:spcPts val="439"/>
              </a:spcBef>
              <a:buClr>
                <a:srgbClr val="ffffff"/>
              </a:buClr>
              <a:buSzPct val="95000"/>
              <a:buFont typeface="Wingdings" charset="2"/>
              <a:buChar char=""/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Third leve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3" marL="1353240" indent="-182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3" charset="2"/>
              <a:buChar char="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ourth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1545480" indent="-182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2" charset="2"/>
              <a:buChar char="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ifth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1E8BD92-B131-4565-A7CB-33DA00A83571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7086240" cy="18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800" spc="-1" strike="noStrike">
                <a:solidFill>
                  <a:srgbClr val="a9d856"/>
                </a:solidFill>
                <a:latin typeface="Lucida Sans"/>
              </a:rPr>
              <a:t>Click to edit Master title style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600200" y="2507760"/>
            <a:ext cx="7086240" cy="15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7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Click to edit Master text style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5629EE0-ABE6-4D01-8F38-84D825F72EBE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2200" spc="-1" strike="noStrike">
                <a:solidFill>
                  <a:srgbClr val="c0f476"/>
                </a:solidFill>
                <a:latin typeface="Lucida Sans"/>
              </a:rPr>
              <a:t>Click to edit Master title style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3007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Click to edit Master text styles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body"/>
          </p:nvPr>
        </p:nvSpPr>
        <p:spPr>
          <a:xfrm>
            <a:off x="3575160" y="272880"/>
            <a:ext cx="511128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19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Click to edit Master text style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4000" indent="-228600">
              <a:lnSpc>
                <a:spcPct val="100000"/>
              </a:lnSpc>
              <a:spcBef>
                <a:spcPts val="439"/>
              </a:spcBef>
              <a:buClr>
                <a:srgbClr val="ffffff"/>
              </a:buClr>
              <a:buSzPct val="95000"/>
              <a:buFont typeface="Wingdings" charset="2"/>
              <a:buChar char=""/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Third leve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3" marL="1353240" indent="-182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3" charset="2"/>
              <a:buChar char="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ourth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1545480" indent="-18288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Wingdings 2" charset="2"/>
              <a:buChar char=""/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ifth level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dt" idx="13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5D66E65-918D-4FEA-B2B9-F51851329EDE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microsoft.com/office/2007/relationships/hdphoto" Target="../media/hdphoto1.wdp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800" spc="-1" strike="noStrike" cap="all">
                <a:solidFill>
                  <a:srgbClr val="000000"/>
                </a:solidFill>
                <a:latin typeface="Lucida Sans"/>
              </a:rPr>
              <a:t>Small Grantee Session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3318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ara Fitzgera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ogram Coordin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ity of La Crosse, W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6026040" y="5679000"/>
            <a:ext cx="3117600" cy="11728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grand river great city logo"/>
          <p:cNvPicPr/>
          <p:nvPr/>
        </p:nvPicPr>
        <p:blipFill>
          <a:blip r:embed="rId2"/>
          <a:stretch/>
        </p:blipFill>
        <p:spPr>
          <a:xfrm>
            <a:off x="1222200" y="457200"/>
            <a:ext cx="6473520" cy="137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5400" spc="-1" strike="noStrike">
                <a:solidFill>
                  <a:srgbClr val="000000"/>
                </a:solidFill>
                <a:latin typeface="Lucida Sans"/>
              </a:rPr>
              <a:t>RL Cash Flow Analysis</a:t>
            </a:r>
            <a:endParaRPr b="0" lang="en-US" sz="5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43804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5400" spc="-1" strike="noStrike">
                <a:solidFill>
                  <a:srgbClr val="000000"/>
                </a:solidFill>
                <a:latin typeface="Lucida Sans"/>
              </a:rPr>
              <a:t>Fund Balance Sheet</a:t>
            </a:r>
            <a:endParaRPr b="0" lang="en-US" sz="5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1504080" y="990720"/>
            <a:ext cx="5963040" cy="577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5400" spc="-1" strike="noStrike">
                <a:solidFill>
                  <a:srgbClr val="000000"/>
                </a:solidFill>
                <a:latin typeface="Lucida Sans"/>
              </a:rPr>
              <a:t>Fund Balance Sheet</a:t>
            </a:r>
            <a:endParaRPr b="0" lang="en-US" sz="5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5" name="TextBox 3"/>
          <p:cNvSpPr/>
          <p:nvPr/>
        </p:nvSpPr>
        <p:spPr>
          <a:xfrm>
            <a:off x="687240" y="2362320"/>
            <a:ext cx="2887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Status of Funds Dec 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4"/>
          <p:cNvSpPr/>
          <p:nvPr/>
        </p:nvSpPr>
        <p:spPr>
          <a:xfrm>
            <a:off x="152280" y="2280240"/>
            <a:ext cx="4266720" cy="533160"/>
          </a:xfrm>
          <a:prstGeom prst="ellipse">
            <a:avLst/>
          </a:prstGeom>
          <a:noFill/>
          <a:ln>
            <a:solidFill>
              <a:srgbClr val="709319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Book Antiqua"/>
            </a:endParaRPr>
          </a:p>
        </p:txBody>
      </p:sp>
      <p:pic>
        <p:nvPicPr>
          <p:cNvPr id="247" name="Picture 3" descr=""/>
          <p:cNvPicPr/>
          <p:nvPr/>
        </p:nvPicPr>
        <p:blipFill>
          <a:blip r:embed="rId1"/>
          <a:stretch/>
        </p:blipFill>
        <p:spPr>
          <a:xfrm>
            <a:off x="228600" y="3429000"/>
            <a:ext cx="8658360" cy="938160"/>
          </a:xfrm>
          <a:prstGeom prst="rect">
            <a:avLst/>
          </a:prstGeom>
          <a:ln w="9525">
            <a:solidFill>
              <a:srgbClr val="98c723"/>
            </a:solidFill>
            <a:miter/>
          </a:ln>
        </p:spPr>
      </p:pic>
      <p:sp>
        <p:nvSpPr>
          <p:cNvPr id="248" name="Right Arrow 7"/>
          <p:cNvSpPr/>
          <p:nvPr/>
        </p:nvSpPr>
        <p:spPr>
          <a:xfrm>
            <a:off x="3809880" y="3809880"/>
            <a:ext cx="825480" cy="3045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8c723"/>
          </a:solidFill>
          <a:ln>
            <a:solidFill>
              <a:srgbClr val="709319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381520" cy="18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5400" spc="-1" strike="noStrike">
                <a:solidFill>
                  <a:srgbClr val="a9d856"/>
                </a:solidFill>
                <a:latin typeface="Lucida Sans"/>
              </a:rPr>
              <a:t>Federal Timeliness Requirements</a:t>
            </a:r>
            <a:endParaRPr b="0" lang="en-US" sz="5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80880" y="2895480"/>
            <a:ext cx="8381520" cy="67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2000"/>
          </a:bodyPr>
          <a:p>
            <a:pPr marL="644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60 days prior to end of PY EN+PI &lt; 1.5(PY Allocation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444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1" name="TextBox 3"/>
          <p:cNvSpPr/>
          <p:nvPr/>
        </p:nvSpPr>
        <p:spPr>
          <a:xfrm>
            <a:off x="762120" y="3809880"/>
            <a:ext cx="746712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Reprogram F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SBDL Funds to Replacement Housing for Acqui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Make RLF more flex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Combine RHP &amp; HRP RL so that balances can be used for 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either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Communicate  and FOLLOW UP with subrecipients regarding the importance of timely dra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800" spc="-1" strike="noStrike">
                <a:solidFill>
                  <a:srgbClr val="a9d856"/>
                </a:solidFill>
                <a:latin typeface="Lucida Sans"/>
              </a:rPr>
              <a:t>Other Helpful Tools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314840" cy="39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16160" indent="-343080">
              <a:lnSpc>
                <a:spcPct val="100000"/>
              </a:lnSpc>
              <a:spcBef>
                <a:spcPts val="479"/>
              </a:spcBef>
              <a:buClr>
                <a:srgbClr val="f9f9f9"/>
              </a:buClr>
              <a:buSzPct val="65000"/>
              <a:buFont typeface="Wingdings" charset="2"/>
              <a:buChar char=""/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Limit Funding to 5 Goals of the 5 year pla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416160" indent="-343080">
              <a:lnSpc>
                <a:spcPct val="100000"/>
              </a:lnSpc>
              <a:spcBef>
                <a:spcPts val="479"/>
              </a:spcBef>
              <a:buClr>
                <a:srgbClr val="f9f9f9"/>
              </a:buClr>
              <a:buSzPct val="65000"/>
              <a:buFont typeface="Wingdings" charset="2"/>
              <a:buChar char=""/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Service subrecipients approved for funding 2 years at a tim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416160" indent="-343080">
              <a:lnSpc>
                <a:spcPct val="100000"/>
              </a:lnSpc>
              <a:spcBef>
                <a:spcPts val="479"/>
              </a:spcBef>
              <a:buClr>
                <a:srgbClr val="f9f9f9"/>
              </a:buClr>
              <a:buSzPct val="65000"/>
              <a:buFont typeface="Wingdings" charset="2"/>
              <a:buChar char=""/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Checklis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416160" indent="-343080">
              <a:lnSpc>
                <a:spcPct val="100000"/>
              </a:lnSpc>
              <a:spcBef>
                <a:spcPts val="479"/>
              </a:spcBef>
              <a:buClr>
                <a:srgbClr val="f9f9f9"/>
              </a:buClr>
              <a:buSzPct val="65000"/>
              <a:buFont typeface="Wingdings" charset="2"/>
              <a:buChar char=""/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Templates for repetitive projec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1211760" indent="-343080">
              <a:lnSpc>
                <a:spcPct val="100000"/>
              </a:lnSpc>
              <a:spcBef>
                <a:spcPts val="439"/>
              </a:spcBef>
              <a:buClr>
                <a:srgbClr val="ffffff"/>
              </a:buClr>
              <a:buSzPct val="80000"/>
              <a:buFont typeface="Arial"/>
              <a:buChar char="•"/>
            </a:pPr>
            <a:r>
              <a:rPr b="1" lang="en-US" sz="2200" spc="-1" strike="noStrike">
                <a:solidFill>
                  <a:srgbClr val="ffffff"/>
                </a:solidFill>
                <a:latin typeface="Book Antiqua"/>
              </a:rPr>
              <a:t>Bid Specs for Replacement Housing 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1211760" indent="-343080">
              <a:lnSpc>
                <a:spcPct val="100000"/>
              </a:lnSpc>
              <a:spcBef>
                <a:spcPts val="439"/>
              </a:spcBef>
              <a:buClr>
                <a:srgbClr val="ffffff"/>
              </a:buClr>
              <a:buSzPct val="80000"/>
              <a:buFont typeface="Arial"/>
              <a:buChar char="•"/>
            </a:pPr>
            <a:r>
              <a:rPr b="1" lang="en-US" sz="2200" spc="-1" strike="noStrike">
                <a:solidFill>
                  <a:srgbClr val="ffffff"/>
                </a:solidFill>
                <a:latin typeface="Book Antiqua"/>
              </a:rPr>
              <a:t>Work Write up for Housing Rehab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1211760" indent="-343080">
              <a:lnSpc>
                <a:spcPct val="100000"/>
              </a:lnSpc>
              <a:spcBef>
                <a:spcPts val="439"/>
              </a:spcBef>
              <a:buClr>
                <a:srgbClr val="ffffff"/>
              </a:buClr>
              <a:buSzPct val="80000"/>
              <a:buFont typeface="Arial"/>
              <a:buChar char="•"/>
            </a:pPr>
            <a:r>
              <a:rPr b="1" lang="en-US" sz="2200" spc="-1" strike="noStrike">
                <a:solidFill>
                  <a:srgbClr val="ffffff"/>
                </a:solidFill>
                <a:latin typeface="Book Antiqua"/>
              </a:rPr>
              <a:t>Agreements for Subrecipients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416160" indent="-343080">
              <a:lnSpc>
                <a:spcPct val="100000"/>
              </a:lnSpc>
              <a:spcBef>
                <a:spcPts val="479"/>
              </a:spcBef>
              <a:buClr>
                <a:srgbClr val="f9f9f9"/>
              </a:buClr>
              <a:buSzPct val="65000"/>
              <a:buFont typeface="Wingdings" charset="2"/>
              <a:buChar char=""/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Don’t reinvent the wheel!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1066680"/>
            <a:ext cx="70862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5400" spc="-1" strike="noStrike">
                <a:solidFill>
                  <a:srgbClr val="a9d856"/>
                </a:solidFill>
                <a:latin typeface="Lucida Sans"/>
              </a:rPr>
              <a:t>Questions?</a:t>
            </a:r>
            <a:endParaRPr b="0" lang="en-US" sz="5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5" name="Subtitle 2"/>
          <p:cNvSpPr/>
          <p:nvPr/>
        </p:nvSpPr>
        <p:spPr>
          <a:xfrm>
            <a:off x="4800600" y="3352680"/>
            <a:ext cx="3733560" cy="22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3000"/>
          </a:bodyPr>
          <a:p>
            <a:pPr marL="73080">
              <a:lnSpc>
                <a:spcPct val="100000"/>
              </a:lnSpc>
              <a:spcBef>
                <a:spcPts val="420"/>
              </a:spcBef>
              <a:tabLst>
                <a:tab algn="l" pos="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ook Antiqua"/>
              </a:rPr>
              <a:t>Tara Fitzgeral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73080">
              <a:lnSpc>
                <a:spcPct val="100000"/>
              </a:lnSpc>
              <a:spcBef>
                <a:spcPts val="420"/>
              </a:spcBef>
              <a:tabLst>
                <a:tab algn="l" pos="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ook Antiqua"/>
              </a:rPr>
              <a:t>Program Coordinato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73080">
              <a:lnSpc>
                <a:spcPct val="100000"/>
              </a:lnSpc>
              <a:spcBef>
                <a:spcPts val="420"/>
              </a:spcBef>
              <a:tabLst>
                <a:tab algn="l" pos="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ook Antiqua"/>
              </a:rPr>
              <a:t>City of La Crosse, W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73080">
              <a:lnSpc>
                <a:spcPct val="100000"/>
              </a:lnSpc>
              <a:spcBef>
                <a:spcPts val="420"/>
              </a:spcBef>
              <a:tabLst>
                <a:tab algn="l" pos="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ook Antiqua"/>
              </a:rPr>
              <a:t>608-789-7363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73080">
              <a:lnSpc>
                <a:spcPct val="100000"/>
              </a:lnSpc>
              <a:spcBef>
                <a:spcPts val="420"/>
              </a:spcBef>
              <a:tabLst>
                <a:tab algn="l" pos="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ook Antiqua"/>
              </a:rPr>
              <a:t>fitzgeraldt@cityoflacrosse.or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73080">
              <a:lnSpc>
                <a:spcPct val="100000"/>
              </a:lnSpc>
              <a:spcBef>
                <a:spcPts val="420"/>
              </a:spcBef>
              <a:tabLst>
                <a:tab algn="l" pos="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Book Antiqua"/>
              </a:rPr>
              <a:t>www.cityoflacrosse.org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73080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" descr="C:\Users\fitzgeraldt\AppData\Local\Microsoft\Windows\INetCache\IE\W4FGU7ZL\question-mark[1].jpg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colorTemperature colorTemp="5900"/>
                    </a14:imgEffect>
                  </a14:imgLayer>
                </a14:imgProps>
              </a:ext>
            </a:extLst>
          </a:blip>
          <a:stretch/>
        </p:blipFill>
        <p:spPr>
          <a:xfrm>
            <a:off x="723960" y="2819520"/>
            <a:ext cx="2571480" cy="3428640"/>
          </a:xfrm>
          <a:prstGeom prst="rect">
            <a:avLst/>
          </a:prstGeom>
          <a:ln w="0">
            <a:noFill/>
          </a:ln>
          <a:effectLst>
            <a:glow rad="279360">
              <a:srgbClr val="a7ea00">
                <a:alpha val="40000"/>
              </a:srgbClr>
            </a:glo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5486040" cy="522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City of La Crosse, WI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rcRect l="0" t="11508" r="0" b="11508"/>
          <a:stretch/>
        </p:blipFill>
        <p:spPr>
          <a:xfrm>
            <a:off x="1828800" y="1219320"/>
            <a:ext cx="5486040" cy="3962160"/>
          </a:xfrm>
          <a:prstGeom prst="rect">
            <a:avLst/>
          </a:prstGeom>
          <a:ln cap="sq" w="44450">
            <a:solidFill>
              <a:srgbClr val="ffffff"/>
            </a:solidFill>
            <a:miter/>
          </a:ln>
          <a:effectLst>
            <a:outerShdw blurRad="190440" dir="2700000" dist="228593" sy="90000">
              <a:srgbClr val="000000">
                <a:alpha val="25000"/>
              </a:srgbClr>
            </a:outerShdw>
          </a:effectLst>
        </p:spPr>
      </p:pic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828800" y="5715000"/>
            <a:ext cx="5486040" cy="529920"/>
          </a:xfrm>
          <a:prstGeom prst="rect">
            <a:avLst/>
          </a:prstGeom>
          <a:noFill/>
          <a:ln w="0">
            <a:noFill/>
          </a:ln>
        </p:spPr>
        <p:txBody>
          <a:bodyPr lIns="45720" rIns="45720" bIns="45000" anchor="t">
            <a:noAutofit/>
          </a:bodyPr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City Population: 51,320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Wisconsin’s Largest West Coast City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Nestled between Bluffs and the Mississippi River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"/>
          <p:cNvPicPr/>
          <p:nvPr/>
        </p:nvPicPr>
        <p:blipFill>
          <a:blip r:embed="rId1"/>
          <a:srcRect l="0" t="0" r="7693" b="0"/>
          <a:stretch/>
        </p:blipFill>
        <p:spPr>
          <a:xfrm>
            <a:off x="0" y="-9360"/>
            <a:ext cx="9156240" cy="6867000"/>
          </a:xfrm>
          <a:prstGeom prst="rect">
            <a:avLst/>
          </a:prstGeom>
          <a:ln w="0">
            <a:noFill/>
          </a:ln>
        </p:spPr>
      </p:pic>
      <p:sp>
        <p:nvSpPr>
          <p:cNvPr id="221" name="TextBox 1"/>
          <p:cNvSpPr/>
          <p:nvPr/>
        </p:nvSpPr>
        <p:spPr>
          <a:xfrm>
            <a:off x="7848720" y="6400800"/>
            <a:ext cx="1066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atlem Phot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4"/>
          <p:cNvSpPr/>
          <p:nvPr/>
        </p:nvSpPr>
        <p:spPr>
          <a:xfrm>
            <a:off x="76320" y="61920"/>
            <a:ext cx="8762760" cy="66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alifornian FB"/>
              </a:rPr>
              <a:t>City Highl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alifornian FB"/>
              </a:rPr>
              <a:t>Regional technology and medical hu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Californian FB"/>
              </a:rPr>
              <a:t>Logistics Health I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Californian FB"/>
              </a:rPr>
              <a:t>Gundersen  &amp; Mayo Clinic Health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Californian FB"/>
              </a:rPr>
              <a:t>Tran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alifornian FB"/>
              </a:rPr>
              <a:t>University of Wisconsin La Cro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alifornian FB"/>
              </a:rPr>
              <a:t>Viterbo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alifornian FB"/>
              </a:rPr>
              <a:t>Western Technical Colle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4578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5200" spc="-1" strike="noStrike">
                <a:solidFill>
                  <a:srgbClr val="a9d856"/>
                </a:solidFill>
                <a:latin typeface="Lucida Sans"/>
              </a:rPr>
              <a:t>HUD Allocation for 2019</a:t>
            </a:r>
            <a:endParaRPr b="0" lang="en-US" sz="5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209680" y="2819520"/>
            <a:ext cx="4800240" cy="22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7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CDBG:  $846,162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HOME:  $300,293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1895503508"/>
              </p:ext>
            </p:extLst>
          </p:nvPr>
        </p:nvGraphicFramePr>
        <p:xfrm>
          <a:off x="0" y="533520"/>
          <a:ext cx="9143640" cy="44193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467120" cy="8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2200" spc="-1" strike="noStrike">
                <a:solidFill>
                  <a:srgbClr val="c0f476"/>
                </a:solidFill>
                <a:latin typeface="Lucida Sans"/>
              </a:rPr>
              <a:t>Planning &amp; Development Staff Budget Sources</a:t>
            </a:r>
            <a:r>
              <a:rPr b="0" lang="en-US" sz="2200" spc="-1" strike="noStrike">
                <a:solidFill>
                  <a:srgbClr val="c0f476"/>
                </a:solidFill>
                <a:latin typeface="Lucida Sans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52280" y="4876920"/>
            <a:ext cx="89150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8000"/>
          </a:bodyPr>
          <a:p>
            <a:pPr marL="271800" indent="-271800">
              <a:lnSpc>
                <a:spcPct val="100000"/>
              </a:lnSpc>
              <a:spcBef>
                <a:spcPts val="380"/>
              </a:spcBef>
              <a:buClr>
                <a:srgbClr val="f9f9f9"/>
              </a:buClr>
              <a:buSzPct val="65000"/>
              <a:buFont typeface="Arial"/>
              <a:buChar char="•"/>
            </a:pP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Diverse Funding Resources allow for staff expansion and support for program operations 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marL="271800" indent="-271800">
              <a:lnSpc>
                <a:spcPct val="100000"/>
              </a:lnSpc>
              <a:spcBef>
                <a:spcPts val="380"/>
              </a:spcBef>
              <a:buClr>
                <a:srgbClr val="f9f9f9"/>
              </a:buClr>
              <a:buSzPct val="65000"/>
              <a:buFont typeface="Arial"/>
              <a:buChar char="•"/>
            </a:pP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CDBG Admin , HOME Admin &amp; TIF Admin used for staff salaries and benefits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marL="271800" indent="-271800">
              <a:lnSpc>
                <a:spcPct val="100000"/>
              </a:lnSpc>
              <a:spcBef>
                <a:spcPts val="380"/>
              </a:spcBef>
              <a:buClr>
                <a:srgbClr val="f9f9f9"/>
              </a:buClr>
              <a:buSzPct val="65000"/>
              <a:buFont typeface="Arial"/>
              <a:buChar char="•"/>
            </a:pP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5 positions fully budgeted through the City Operating Funds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marL="271800" indent="-271800">
              <a:lnSpc>
                <a:spcPct val="100000"/>
              </a:lnSpc>
              <a:spcBef>
                <a:spcPts val="380"/>
              </a:spcBef>
              <a:buClr>
                <a:srgbClr val="f9f9f9"/>
              </a:buClr>
              <a:buSzPct val="65000"/>
              <a:buFont typeface="Arial"/>
              <a:buChar char="•"/>
            </a:pP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Up to 5 Interns per Academic Semester (GIS, Bike/Ped Planning, Heritage Preservation, Economic Development, Project Specific and Public Outreach)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4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ommunity Development Programs &amp; Funding Sources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228" name="Content Placeholder 3"/>
          <p:cNvGraphicFramePr/>
          <p:nvPr/>
        </p:nvGraphicFramePr>
        <p:xfrm>
          <a:off x="152280" y="1295280"/>
          <a:ext cx="8838720" cy="6368760"/>
        </p:xfrm>
        <a:graphic>
          <a:graphicData uri="http://schemas.openxmlformats.org/drawingml/2006/table">
            <a:tbl>
              <a:tblPr/>
              <a:tblGrid>
                <a:gridCol w="1847880"/>
                <a:gridCol w="2571120"/>
                <a:gridCol w="2209680"/>
                <a:gridCol w="2209680"/>
              </a:tblGrid>
              <a:tr h="574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chemeClr val="lt1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Book Antiqua"/>
                        </a:rPr>
                        <a:t>CDB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Book Antiqua"/>
                        </a:rPr>
                        <a:t>H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Book Antiqua"/>
                        </a:rPr>
                        <a:t>TIF/City Borrow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82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Housing Rehabilitation (LM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dea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CDBG RL - Loans up to $35,000 ($25,000 hard cost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dea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dea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deacc"/>
                    </a:solidFill>
                  </a:tcPr>
                </a:tc>
              </a:tr>
              <a:tr h="1188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Housing Renovation/ Rental Conver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Loans up to $40,000, 25% exterior, 25% owner contrib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5e7"/>
                    </a:solidFill>
                  </a:tcPr>
                </a:tc>
              </a:tr>
              <a:tr h="144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Replacement Housing New Construction &amp; Vacant Land Prog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dea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Acquisition/ Demol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dea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Constr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dea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Acquisition/ Demol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deacc"/>
                    </a:solidFill>
                  </a:tcPr>
                </a:tc>
              </a:tr>
              <a:tr h="1066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Economic Development SBDL/MOBA Gr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Book Antiqua"/>
                        </a:rPr>
                        <a:t>CDBG RL – Loans up to $200,000 or MOBA grant up to $5000 for micro busines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Book Antiqua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5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693396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5400" spc="-1" strike="noStrike">
                <a:solidFill>
                  <a:srgbClr val="a9d856"/>
                </a:solidFill>
                <a:latin typeface="Lucida Sans"/>
              </a:rPr>
              <a:t>Partnerships</a:t>
            </a:r>
            <a:endParaRPr b="0" lang="en-US" sz="5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3166560"/>
            <a:ext cx="5486040" cy="3977280"/>
          </a:xfrm>
          <a:prstGeom prst="rect">
            <a:avLst/>
          </a:prstGeom>
          <a:solidFill>
            <a:schemeClr val="accent1"/>
          </a:solidFill>
          <a:ln w="50760">
            <a:solidFill>
              <a:srgbClr val="98c723"/>
            </a:solidFill>
            <a:round/>
          </a:ln>
        </p:spPr>
        <p:txBody>
          <a:bodyPr lIns="90000" rIns="90000" tIns="45000" bIns="45000" anchor="ctr">
            <a:noAutofit/>
          </a:bodyPr>
          <a:p>
            <a:pPr marL="416160" indent="-343080">
              <a:lnSpc>
                <a:spcPct val="100000"/>
              </a:lnSpc>
              <a:spcBef>
                <a:spcPts val="641"/>
              </a:spcBef>
              <a:buClr>
                <a:srgbClr val="f9f9f9"/>
              </a:buClr>
              <a:buSzPct val="65000"/>
              <a:buFont typeface="Wingdings" charset="2"/>
              <a:buChar char="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Western Technical Colleg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416160" indent="-343080">
              <a:lnSpc>
                <a:spcPct val="100000"/>
              </a:lnSpc>
              <a:spcBef>
                <a:spcPts val="641"/>
              </a:spcBef>
              <a:buClr>
                <a:srgbClr val="f9f9f9"/>
              </a:buClr>
              <a:buSzPct val="65000"/>
              <a:buFont typeface="Wingdings" charset="2"/>
              <a:buChar char="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entral High Schoo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416160" indent="-343080">
              <a:lnSpc>
                <a:spcPct val="100000"/>
              </a:lnSpc>
              <a:spcBef>
                <a:spcPts val="641"/>
              </a:spcBef>
              <a:buClr>
                <a:srgbClr val="f9f9f9"/>
              </a:buClr>
              <a:buSzPct val="65000"/>
              <a:buFont typeface="Wingdings" charset="2"/>
              <a:buChar char="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La Crosse Promis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416160" indent="-343080">
              <a:lnSpc>
                <a:spcPct val="100000"/>
              </a:lnSpc>
              <a:spcBef>
                <a:spcPts val="641"/>
              </a:spcBef>
              <a:buClr>
                <a:srgbClr val="f9f9f9"/>
              </a:buClr>
              <a:buSzPct val="65000"/>
              <a:buFont typeface="Wingdings" charset="2"/>
              <a:buChar char="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abitat for Humanity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416160" indent="-343080">
              <a:lnSpc>
                <a:spcPct val="100000"/>
              </a:lnSpc>
              <a:spcBef>
                <a:spcPts val="641"/>
              </a:spcBef>
              <a:buClr>
                <a:srgbClr val="f9f9f9"/>
              </a:buClr>
              <a:buSzPct val="65000"/>
              <a:buFont typeface="Wingdings" charset="2"/>
              <a:buChar char="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ouleecap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2133360" cy="3152160"/>
          </a:xfrm>
          <a:prstGeom prst="rect">
            <a:avLst/>
          </a:prstGeom>
          <a:ln w="50800">
            <a:solidFill>
              <a:srgbClr val="98c723"/>
            </a:solidFill>
            <a:miter/>
          </a:ln>
        </p:spPr>
      </p:pic>
      <p:pic>
        <p:nvPicPr>
          <p:cNvPr id="232" name="Picture 3" descr=""/>
          <p:cNvPicPr/>
          <p:nvPr/>
        </p:nvPicPr>
        <p:blipFill>
          <a:blip r:embed="rId2"/>
          <a:srcRect l="4392" t="3587" r="3244" b="4281"/>
          <a:stretch/>
        </p:blipFill>
        <p:spPr>
          <a:xfrm>
            <a:off x="6172200" y="4014720"/>
            <a:ext cx="2666520" cy="2233080"/>
          </a:xfrm>
          <a:prstGeom prst="rect">
            <a:avLst/>
          </a:prstGeom>
          <a:ln w="50800">
            <a:solidFill>
              <a:srgbClr val="98c723"/>
            </a:solidFill>
            <a:miter/>
          </a:ln>
        </p:spPr>
      </p:pic>
      <p:pic>
        <p:nvPicPr>
          <p:cNvPr id="233" name="Picture 5" descr=""/>
          <p:cNvPicPr/>
          <p:nvPr/>
        </p:nvPicPr>
        <p:blipFill>
          <a:blip r:embed="rId3"/>
          <a:stretch/>
        </p:blipFill>
        <p:spPr>
          <a:xfrm>
            <a:off x="4191120" y="1447920"/>
            <a:ext cx="2971440" cy="1980720"/>
          </a:xfrm>
          <a:prstGeom prst="rect">
            <a:avLst/>
          </a:prstGeom>
          <a:ln w="50800">
            <a:solidFill>
              <a:srgbClr val="98c72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720" y="-76320"/>
            <a:ext cx="7086240" cy="18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800" spc="-1" strike="noStrike">
                <a:solidFill>
                  <a:srgbClr val="a9d856"/>
                </a:solidFill>
                <a:latin typeface="Lucida Sans"/>
              </a:rPr>
              <a:t>Federal Cross-Cutting Requirements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4205160"/>
            <a:ext cx="8152920" cy="24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403560" indent="-332640">
              <a:lnSpc>
                <a:spcPct val="100000"/>
              </a:lnSpc>
              <a:spcBef>
                <a:spcPts val="479"/>
              </a:spcBef>
              <a:buClr>
                <a:srgbClr val="f9f9f9"/>
              </a:buClr>
              <a:buSzPct val="65000"/>
              <a:buFont typeface="Wingdings" charset="2"/>
              <a:buChar char="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void Davis Bacon as much as possibl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403560" indent="-332640">
              <a:lnSpc>
                <a:spcPct val="100000"/>
              </a:lnSpc>
              <a:spcBef>
                <a:spcPts val="479"/>
              </a:spcBef>
              <a:buClr>
                <a:srgbClr val="f9f9f9"/>
              </a:buClr>
              <a:buSzPct val="65000"/>
              <a:buFont typeface="Wingdings" charset="2"/>
              <a:buChar char="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DBG Funds for acquisition and demoli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403560" indent="-332640">
              <a:lnSpc>
                <a:spcPct val="100000"/>
              </a:lnSpc>
              <a:spcBef>
                <a:spcPts val="479"/>
              </a:spcBef>
              <a:buClr>
                <a:srgbClr val="f9f9f9"/>
              </a:buClr>
              <a:buSzPct val="65000"/>
              <a:buFont typeface="Wingdings" charset="2"/>
              <a:buChar char="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OME  Funds for construction of Single Family Hom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403560" indent="-332640">
              <a:lnSpc>
                <a:spcPct val="100000"/>
              </a:lnSpc>
              <a:spcBef>
                <a:spcPts val="479"/>
              </a:spcBef>
              <a:buClr>
                <a:srgbClr val="f9f9f9"/>
              </a:buClr>
              <a:buSzPct val="65000"/>
              <a:buFont typeface="Wingdings" charset="2"/>
              <a:buChar char="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iered Environmental Review for Replacement Housing &amp; Housing Rehab Program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403560" indent="-332640">
              <a:lnSpc>
                <a:spcPct val="100000"/>
              </a:lnSpc>
              <a:spcBef>
                <a:spcPts val="479"/>
              </a:spcBef>
              <a:buClr>
                <a:srgbClr val="f9f9f9"/>
              </a:buClr>
              <a:buSzPct val="65000"/>
              <a:buFont typeface="Wingdings" charset="2"/>
              <a:buChar char="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void relocation and tenants as much as possibl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1124640" y="2076840"/>
            <a:ext cx="2532600" cy="1809000"/>
          </a:xfrm>
          <a:prstGeom prst="rect">
            <a:avLst/>
          </a:prstGeom>
          <a:ln w="50800">
            <a:solidFill>
              <a:srgbClr val="98c723"/>
            </a:solidFill>
            <a:miter/>
          </a:ln>
        </p:spPr>
      </p:pic>
      <p:pic>
        <p:nvPicPr>
          <p:cNvPr id="237" name="Picture 2" descr=""/>
          <p:cNvPicPr/>
          <p:nvPr/>
        </p:nvPicPr>
        <p:blipFill>
          <a:blip r:embed="rId2"/>
          <a:stretch/>
        </p:blipFill>
        <p:spPr>
          <a:xfrm>
            <a:off x="5486400" y="2075760"/>
            <a:ext cx="2532600" cy="1810080"/>
          </a:xfrm>
          <a:prstGeom prst="rect">
            <a:avLst/>
          </a:prstGeom>
          <a:ln w="50800">
            <a:solidFill>
              <a:srgbClr val="98c72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381520" cy="18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5400" spc="-1" strike="noStrike">
                <a:solidFill>
                  <a:srgbClr val="a9d856"/>
                </a:solidFill>
                <a:latin typeface="Lucida Sans"/>
              </a:rPr>
              <a:t>Federal Timeliness Requirements</a:t>
            </a:r>
            <a:endParaRPr b="0" lang="en-US" sz="5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880" y="3581280"/>
            <a:ext cx="8381520" cy="67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2000"/>
          </a:bodyPr>
          <a:p>
            <a:pPr marL="644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60 days prior to end of PY EN+PI &lt; 1.5(PY Allocation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444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Apex">
  <a:themeElements>
    <a:clrScheme name="Custom 2">
      <a:dk1>
        <a:srgbClr val="000000"/>
      </a:dk1>
      <a:lt1>
        <a:srgbClr val="ffffff"/>
      </a:lt1>
      <a:dk2>
        <a:srgbClr val="2d3439"/>
      </a:dk2>
      <a:lt2>
        <a:srgbClr val="e7eced"/>
      </a:lt2>
      <a:accent1>
        <a:srgbClr val="98c723"/>
      </a:accent1>
      <a:accent2>
        <a:srgbClr val="59b0b9"/>
      </a:accent2>
      <a:accent3>
        <a:srgbClr val="deae00"/>
      </a:accent3>
      <a:accent4>
        <a:srgbClr val="b77bb4"/>
      </a:accent4>
      <a:accent5>
        <a:srgbClr val="e0773c"/>
      </a:accent5>
      <a:accent6>
        <a:srgbClr val="a98d63"/>
      </a:accent6>
      <a:hlink>
        <a:srgbClr val="26cbec"/>
      </a:hlink>
      <a:folHlink>
        <a:srgbClr val="598c8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Apex">
  <a:themeElements>
    <a:clrScheme name="Custom 2">
      <a:dk1>
        <a:srgbClr val="000000"/>
      </a:dk1>
      <a:lt1>
        <a:srgbClr val="ffffff"/>
      </a:lt1>
      <a:dk2>
        <a:srgbClr val="2d3439"/>
      </a:dk2>
      <a:lt2>
        <a:srgbClr val="e7eced"/>
      </a:lt2>
      <a:accent1>
        <a:srgbClr val="98c723"/>
      </a:accent1>
      <a:accent2>
        <a:srgbClr val="59b0b9"/>
      </a:accent2>
      <a:accent3>
        <a:srgbClr val="deae00"/>
      </a:accent3>
      <a:accent4>
        <a:srgbClr val="b77bb4"/>
      </a:accent4>
      <a:accent5>
        <a:srgbClr val="e0773c"/>
      </a:accent5>
      <a:accent6>
        <a:srgbClr val="a98d63"/>
      </a:accent6>
      <a:hlink>
        <a:srgbClr val="26cbec"/>
      </a:hlink>
      <a:folHlink>
        <a:srgbClr val="598c8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Apex">
  <a:themeElements>
    <a:clrScheme name="Custom 2">
      <a:dk1>
        <a:srgbClr val="000000"/>
      </a:dk1>
      <a:lt1>
        <a:srgbClr val="ffffff"/>
      </a:lt1>
      <a:dk2>
        <a:srgbClr val="2d3439"/>
      </a:dk2>
      <a:lt2>
        <a:srgbClr val="e7eced"/>
      </a:lt2>
      <a:accent1>
        <a:srgbClr val="98c723"/>
      </a:accent1>
      <a:accent2>
        <a:srgbClr val="59b0b9"/>
      </a:accent2>
      <a:accent3>
        <a:srgbClr val="deae00"/>
      </a:accent3>
      <a:accent4>
        <a:srgbClr val="b77bb4"/>
      </a:accent4>
      <a:accent5>
        <a:srgbClr val="e0773c"/>
      </a:accent5>
      <a:accent6>
        <a:srgbClr val="a98d63"/>
      </a:accent6>
      <a:hlink>
        <a:srgbClr val="26cbec"/>
      </a:hlink>
      <a:folHlink>
        <a:srgbClr val="598c8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Apex">
  <a:themeElements>
    <a:clrScheme name="Custom 2">
      <a:dk1>
        <a:srgbClr val="000000"/>
      </a:dk1>
      <a:lt1>
        <a:srgbClr val="ffffff"/>
      </a:lt1>
      <a:dk2>
        <a:srgbClr val="2d3439"/>
      </a:dk2>
      <a:lt2>
        <a:srgbClr val="e7eced"/>
      </a:lt2>
      <a:accent1>
        <a:srgbClr val="98c723"/>
      </a:accent1>
      <a:accent2>
        <a:srgbClr val="59b0b9"/>
      </a:accent2>
      <a:accent3>
        <a:srgbClr val="deae00"/>
      </a:accent3>
      <a:accent4>
        <a:srgbClr val="b77bb4"/>
      </a:accent4>
      <a:accent5>
        <a:srgbClr val="e0773c"/>
      </a:accent5>
      <a:accent6>
        <a:srgbClr val="a98d63"/>
      </a:accent6>
      <a:hlink>
        <a:srgbClr val="26cbec"/>
      </a:hlink>
      <a:folHlink>
        <a:srgbClr val="598c8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Apex">
  <a:themeElements>
    <a:clrScheme name="Custom 2">
      <a:dk1>
        <a:srgbClr val="000000"/>
      </a:dk1>
      <a:lt1>
        <a:srgbClr val="ffffff"/>
      </a:lt1>
      <a:dk2>
        <a:srgbClr val="2d3439"/>
      </a:dk2>
      <a:lt2>
        <a:srgbClr val="e7eced"/>
      </a:lt2>
      <a:accent1>
        <a:srgbClr val="98c723"/>
      </a:accent1>
      <a:accent2>
        <a:srgbClr val="59b0b9"/>
      </a:accent2>
      <a:accent3>
        <a:srgbClr val="deae00"/>
      </a:accent3>
      <a:accent4>
        <a:srgbClr val="b77bb4"/>
      </a:accent4>
      <a:accent5>
        <a:srgbClr val="e0773c"/>
      </a:accent5>
      <a:accent6>
        <a:srgbClr val="a98d63"/>
      </a:accent6>
      <a:hlink>
        <a:srgbClr val="26cbec"/>
      </a:hlink>
      <a:folHlink>
        <a:srgbClr val="598c8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2d3439"/>
      </a:dk2>
      <a:lt2>
        <a:srgbClr val="e7eced"/>
      </a:lt2>
      <a:accent1>
        <a:srgbClr val="98c723"/>
      </a:accent1>
      <a:accent2>
        <a:srgbClr val="59b0b9"/>
      </a:accent2>
      <a:accent3>
        <a:srgbClr val="deae00"/>
      </a:accent3>
      <a:accent4>
        <a:srgbClr val="b77bb4"/>
      </a:accent4>
      <a:accent5>
        <a:srgbClr val="e0773c"/>
      </a:accent5>
      <a:accent6>
        <a:srgbClr val="a98d63"/>
      </a:accent6>
      <a:hlink>
        <a:srgbClr val="26cbec"/>
      </a:hlink>
      <a:folHlink>
        <a:srgbClr val="598c8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Elemental</Template>
  <TotalTime>1198</TotalTime>
  <Application>LibreOffice/7.4.7.2$Linux_X86_64 LibreOffice_project/40$Build-2</Application>
  <AppVersion>15.0000</AppVersion>
  <Words>513</Words>
  <Paragraphs>120</Paragraphs>
  <Company>City of La Cross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6-10T17:15:16Z</dcterms:created>
  <dc:creator>Fitzgerald, Tara</dc:creator>
  <dc:description/>
  <dc:language>en-US</dc:language>
  <cp:lastModifiedBy>Fitzgerald, Tara</cp:lastModifiedBy>
  <dcterms:modified xsi:type="dcterms:W3CDTF">2019-06-14T16:28:35Z</dcterms:modified>
  <cp:revision>55</cp:revision>
  <dc:subject/>
  <dc:title>Small Grantee Sess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On-screen Show (4:3)</vt:lpwstr>
  </property>
  <property fmtid="{D5CDD505-2E9C-101B-9397-08002B2CF9AE}" pid="4" name="Slides">
    <vt:r8>15</vt:r8>
  </property>
</Properties>
</file>