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49905-7658-4730-B6EF-A18BAF279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2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32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3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3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35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36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3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3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25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26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27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2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2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30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974760" y="-1440"/>
            <a:ext cx="304776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74760" y="8840520"/>
            <a:ext cx="304776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  <a:ea typeface="+mn-e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-1800" y="8840520"/>
            <a:ext cx="3043080" cy="468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1800" y="-1440"/>
            <a:ext cx="3043080" cy="46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+mn-e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704880"/>
            <a:ext cx="4642920" cy="3481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31680" y="4418640"/>
            <a:ext cx="5154840" cy="4193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7200" rIns="97200" tIns="50040" bIns="500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31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7738-F374-4313-B34A-41666470F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00C8-EE76-40CC-8A85-2A54455A7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B4AC-50DD-4412-8E79-1F50A79B9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C2A4-16CB-4B84-8270-B60D80D80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9CC8-05BF-41EA-90C3-854658F7E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B09B-9944-4705-A059-43AE15A05B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76B5-8118-4148-B996-5A19CC7EA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4764-2672-4DFD-A37E-0555F342FF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C449-245C-459F-8BCE-C9E5CA6FAE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119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13F5-8A23-4FD4-85AF-729263081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0DE3-FFE2-400A-89DB-F8A8061FB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2B7F-4AA8-46AA-9CF2-52A844657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8CAF-F1CD-432B-967F-951C7553AF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8068-25A5-43A0-AF0E-D5B7BEF5A4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8F8B-D7C5-469E-8CC7-8474AEDFF3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60B2-1D72-46CF-8741-4AC2B4B89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1551-C3D1-45D9-9B43-D8DD9AA6E6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5D25-0343-4E54-82F1-DEEEEC53D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0CBA-D984-4AC7-8E89-12B0D27A8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2B1-84DF-407E-8A93-6FFB61CF2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19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4156-538E-4D94-933A-FFAE7DB88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1379-27D0-47BE-A3F8-082A8AAE3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4E8A-20DE-4AB6-9105-8DF2B7DD6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1047-548F-4435-BE09-265BD2F75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over-bottom.jpg"/>
          <p:cNvPicPr/>
          <p:nvPr/>
        </p:nvPicPr>
        <p:blipFill>
          <a:blip r:embed="rId2"/>
          <a:stretch/>
        </p:blipFill>
        <p:spPr>
          <a:xfrm>
            <a:off x="0" y="4699080"/>
            <a:ext cx="9143640" cy="215856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7" descr="cover-logo.jpg"/>
          <p:cNvPicPr/>
          <p:nvPr/>
        </p:nvPicPr>
        <p:blipFill>
          <a:blip r:embed="rId3"/>
          <a:stretch/>
        </p:blipFill>
        <p:spPr>
          <a:xfrm>
            <a:off x="3979800" y="612720"/>
            <a:ext cx="1166400" cy="138240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BF46F5E5-DC6C-4595-91BF-7FFB4BCAD4C1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3"/>
          <p:cNvGrpSpPr/>
          <p:nvPr/>
        </p:nvGrpSpPr>
        <p:grpSpPr>
          <a:xfrm>
            <a:off x="7695720" y="6088680"/>
            <a:ext cx="775800" cy="775800"/>
            <a:chOff x="7695720" y="6088680"/>
            <a:chExt cx="775800" cy="775800"/>
          </a:xfrm>
        </p:grpSpPr>
        <p:sp>
          <p:nvSpPr>
            <p:cNvPr id="42" name="Oval 10"/>
            <p:cNvSpPr/>
            <p:nvPr/>
          </p:nvSpPr>
          <p:spPr>
            <a:xfrm>
              <a:off x="7695720" y="6088680"/>
              <a:ext cx="775800" cy="775800"/>
            </a:xfrm>
            <a:prstGeom prst="ellips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2" descr="HHS logo for PPT"/>
            <p:cNvPicPr/>
            <p:nvPr/>
          </p:nvPicPr>
          <p:blipFill>
            <a:blip r:embed="rId2"/>
            <a:stretch/>
          </p:blipFill>
          <p:spPr>
            <a:xfrm>
              <a:off x="7727400" y="6130080"/>
              <a:ext cx="712440" cy="6919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44" name="Group 18"/>
          <p:cNvGrpSpPr/>
          <p:nvPr/>
        </p:nvGrpSpPr>
        <p:grpSpPr>
          <a:xfrm>
            <a:off x="8462520" y="6098040"/>
            <a:ext cx="639360" cy="745920"/>
            <a:chOff x="8462520" y="6098040"/>
            <a:chExt cx="639360" cy="745920"/>
          </a:xfrm>
        </p:grpSpPr>
        <p:grpSp>
          <p:nvGrpSpPr>
            <p:cNvPr id="45" name="Group 17"/>
            <p:cNvGrpSpPr/>
            <p:nvPr/>
          </p:nvGrpSpPr>
          <p:grpSpPr>
            <a:xfrm>
              <a:off x="8462520" y="6098040"/>
              <a:ext cx="639360" cy="745920"/>
              <a:chOff x="8462520" y="6098040"/>
              <a:chExt cx="639360" cy="745920"/>
            </a:xfrm>
          </p:grpSpPr>
          <p:sp>
            <p:nvSpPr>
              <p:cNvPr id="46" name="Rectangle 10"/>
              <p:cNvSpPr/>
              <p:nvPr/>
            </p:nvSpPr>
            <p:spPr>
              <a:xfrm>
                <a:off x="8462520" y="6329880"/>
                <a:ext cx="639360" cy="514080"/>
              </a:xfrm>
              <a:prstGeom prst="rect">
                <a:avLst/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6"/>
              <p:cNvSpPr/>
              <p:nvPr/>
            </p:nvSpPr>
            <p:spPr>
              <a:xfrm>
                <a:off x="8462520" y="6098040"/>
                <a:ext cx="639360" cy="2314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Picture 15" descr="NSP logo for PPT"/>
            <p:cNvPicPr/>
            <p:nvPr/>
          </p:nvPicPr>
          <p:blipFill>
            <a:blip r:embed="rId3"/>
            <a:stretch/>
          </p:blipFill>
          <p:spPr>
            <a:xfrm>
              <a:off x="8516520" y="6163200"/>
              <a:ext cx="529920" cy="62820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49" name="Picture 4" descr="slide-top.jpg"/>
          <p:cNvPicPr/>
          <p:nvPr/>
        </p:nvPicPr>
        <p:blipFill>
          <a:blip r:embed="rId4"/>
          <a:stretch/>
        </p:blipFill>
        <p:spPr>
          <a:xfrm>
            <a:off x="0" y="0"/>
            <a:ext cx="9143640" cy="1417320"/>
          </a:xfrm>
          <a:prstGeom prst="rect">
            <a:avLst/>
          </a:prstGeom>
          <a:ln w="9525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AF6310C0-03DB-4E61-A300-564462F458B9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hudexchange.info/resources/documents/Updated-Instructions-Completing-CDBG-Financial-Summary-Report-Pr26.pdf" TargetMode="External"/><Relationship Id="rId2" Type="http://schemas.openxmlformats.org/officeDocument/2006/relationships/hyperlink" Target="https://www.hudexchange.info/programs/housing-counseling/certification/" TargetMode="External"/><Relationship Id="rId3" Type="http://schemas.openxmlformats.org/officeDocument/2006/relationships/hyperlink" Target="http://www.hudexchange.info/manage-a-program/grant-based-accounting" TargetMode="External"/><Relationship Id="rId4" Type="http://schemas.openxmlformats.org/officeDocument/2006/relationships/hyperlink" Target="https://www.hudexchange.info/resource/4891/cdbg-broadband-infrastructure-faqs/" TargetMode="External"/><Relationship Id="rId5" Type="http://schemas.openxmlformats.org/officeDocument/2006/relationships/hyperlink" Target="https://www.hudexchange.info/resources/documents/Instructions-for-Returning-Funds-to-the-Line-of-Credit-And-to-Us-Treasury.pdf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hud.gov/sites/dfiles/OCHCO/documents/18-11%20cpdn.pdf" TargetMode="External"/><Relationship Id="rId2" Type="http://schemas.openxmlformats.org/officeDocument/2006/relationships/hyperlink" Target="https://www.hud.gov/sites/dfiles/OCHCO/documents/18-04cpdn.pdf" TargetMode="External"/><Relationship Id="rId3" Type="http://schemas.openxmlformats.org/officeDocument/2006/relationships/hyperlink" Target="https://www.hud.gov/sites/dfiles/OCHCO/documents/17-14cpdn.pdf" TargetMode="External"/><Relationship Id="rId4" Type="http://schemas.openxmlformats.org/officeDocument/2006/relationships/hyperlink" Target="https://www.hud.gov/sites/dfiles/OCHCO/documents/17-09cpdn.pdf" TargetMode="External"/><Relationship Id="rId5" Type="http://schemas.openxmlformats.org/officeDocument/2006/relationships/hyperlink" Target="https://www.hud.gov/sites/documents/17-07CPDN.PDF" TargetMode="External"/><Relationship Id="rId6" Type="http://schemas.openxmlformats.org/officeDocument/2006/relationships/hyperlink" Target="https://www.hud.gov/sites/documents/17-06CPDN.PDF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hudexchange.info/community-development/cdbg-ta-products/" TargetMode="External"/><Relationship Id="rId2" Type="http://schemas.openxmlformats.org/officeDocument/2006/relationships/hyperlink" Target="https://www.hudexchange.info/programs/cdbg/project-profiles/" TargetMode="External"/><Relationship Id="rId3" Type="http://schemas.openxmlformats.org/officeDocument/2006/relationships/hyperlink" Target="https://www.hudexchange.info/programs/idis/guides/cdbg/" TargetMode="External"/><Relationship Id="rId4" Type="http://schemas.openxmlformats.org/officeDocument/2006/relationships/hyperlink" Target="https://www.hudexchange.info/trainings/wiser/" TargetMode="External"/><Relationship Id="rId5" Type="http://schemas.openxmlformats.org/officeDocument/2006/relationships/hyperlink" Target="https://www.hudexchange.info/programs/section-108/" TargetMode="External"/><Relationship Id="rId6" Type="http://schemas.openxmlformats.org/officeDocument/2006/relationships/hyperlink" Target="https://www.hudexchange.info/news/new-video-ura-overview/" TargetMode="External"/><Relationship Id="rId7" Type="http://schemas.openxmlformats.org/officeDocument/2006/relationships/hyperlink" Target="https://www.hudexchange.info/programs/consolidated-plan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60"/>
          <p:cNvSpPr/>
          <p:nvPr/>
        </p:nvSpPr>
        <p:spPr>
          <a:xfrm>
            <a:off x="450720" y="2031840"/>
            <a:ext cx="8303760" cy="3135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Swis721 BlkCn BT"/>
              </a:rPr>
              <a:t>HUD CDBG PROGRAM UPD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Swis721 BlkCn BT"/>
              </a:rPr>
              <a:t>NATIONAL COMMUNITY DEVELOPMENT ASSOCIATI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Swis721 BlkCn BT"/>
              </a:rPr>
              <a:t>JUNE, 20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W SECTION 3 RULE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Rule measures percentage of new hires who are low/very low-income persons.  Leads to churning - employers create a series of short-term or P/T jobs to meet §3 numeric hiring go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Rule would measure percentage of labor hours worked by §3 workers &amp; targeted workers - would  measure actual sustained employment over time.  Correlates with Davis-Bacon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 would still have option to report new hi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4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4972A8E5-C341-49DF-BD4B-2B370BECD343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W SECTION 3 RULE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apply to an entire project funded in whole/part with $200,000 + from any/all covered HUD programs, or with any Lead Hazard/Healthy Homes fu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lar threshold may be adjusted every 5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Benchmarks would be updated every 3 years. (Proposed initial benchmarks also published on 4/4/1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umerical benchmarks not met, recipients would submit qualitative report on efforts underta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ing via programs’ existing systems/ti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5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1CF5C6E6-AD7F-46A6-8D2D-AC2BCD3D5EEC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W SECTION 3 RULE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ed Worker Concept &amp; 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tion 3 Worker = low/very low income individual or employee of qualified busi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geted Section 3 Worker = definition varies by program &amp; statutory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.g., residents of the assisted PHA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ion 8 project, other PHA resident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3 business employees, Youthbui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participants, low/very 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e employees living in the project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e area/immediate neighborh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6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50ECB48A-2F4B-4E26-9C4C-4DF2F3942B7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2819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gt;50% of Grantees Due to Submit Next Consolidated Plan in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to Consid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b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ioid Epide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il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Z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’s remain on indefinite hold, will not affect 2020 ConPlan submiss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solidated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7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70096780-AF58-4456-97CF-9CED1C2C9BFF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ORTHCOMING CDBG GUIDANCE 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Webinars on Complying with 20% Planning + Admin cap under Grant Based Accoun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Webinar on Urban County &amp; HOME Consortia Qualification/Requal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Webinar on Code Enfor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Guidance on using Consolidated Plan/CDBG/§ 108 to support Opportunity Z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 on using CDBG for Housing (update of 2007 Not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Additional modules of IDIS On-Line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Basically CDBG On-Line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Webinars + Guidance on Consolidated Plan development/submissions for 2020 – first one is May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Local Income Survey development - On-Line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NSP – Guidance on Expending Funds/Transferring Program Income/Closing Out Gr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8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CD879E01-1E8C-4317-AB9D-5FB9C4039527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RECENT POLICY GUIDAN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APER PR-26 Report Troubleshooting Guid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1"/>
              </a:rPr>
              <a:t>https://www.hudexchange.info/resources/documents/Updated-Instructions-Completing-CDBG-Financial-Summary-Report-Pr26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Housing Counseling Certification Rule Resources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2"/>
              </a:rPr>
              <a:t>https://www.hudexchange.info/programs/housing-counseling/certification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Grant Based Accounting Webinar &amp; Materials at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3"/>
              </a:rPr>
              <a:t>www.hudexchange.info/manage-a-program/grant-based-accoun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FAQs on using CDBG funds for broadband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4"/>
              </a:rPr>
              <a:t>https://www.hudexchange.info/resource/4891/cdbg-broadband-infrastructure-faq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Returning funds to LoC, local program account, IDIS LA fund, Excess PI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5"/>
              </a:rPr>
              <a:t>https://www.hudexchange.info/resources/documents/Instructions-for-Returning-Funds-to-the-Line-of-Credit-And-to-Us-Treasury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9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0D026689-36C4-416C-9A71-AC5CEF48A5A1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THER RECENT POLICY GUIDANCE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e: Timely Distribution of State CDBG Funds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1"/>
              </a:rPr>
              <a:t>https://www.hud.gov/sites/dfiles/OCHCO/documents/18-11%20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: Supporting Envision Centers in the Con Plan process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2"/>
              </a:rPr>
              <a:t>https://www.hud.gov/sites/dfiles/OCHCO/documents/18-04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: CDBG Lump Sum Drawdown Requirements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3"/>
              </a:rPr>
              <a:t>https://www.hud.gov/sites/dfiles/OCHCO/documents/17-14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: Management of CDBG-Assisted Real Property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4"/>
              </a:rPr>
              <a:t>https://www.hud.gov/sites/dfiles/OCHCO/documents/17-09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: Using CDBG for Individual Development Accounts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5"/>
              </a:rPr>
              <a:t>https://www.hud.gov/sites/documents/17-07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CPD Notice: Using CPD formula funds for Disaster Response &amp; Recovery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Bahnschrift"/>
                <a:hlinkClick r:id="rId6"/>
              </a:rPr>
              <a:t>https://www.hud.gov/sites/documents/17-06CPD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20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1D2F13C2-44A8-40CF-B4D8-323F837E509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1120" y="114120"/>
            <a:ext cx="8317800" cy="102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OTHER USEFUL T.A. 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429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14 “Explore CDBG” TA Videos + Project Profiles: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hlinkClick r:id="rId1"/>
              </a:rPr>
              <a:t> https://www.hudexchange.info/community-development/cdbg-ta-products/</a:t>
            </a: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hlinkClick r:id="rId2"/>
              </a:rPr>
              <a:t>https://www.hudexchange.info/programs/cdbg/project-profiles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IDIS Online Training Modules: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hlinkClick r:id="rId3"/>
              </a:rPr>
              <a:t>https://www.hudexchange.info/programs/idis/guides/cdb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Web-Based Instructional System for Environmental Review (WISER):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hlinkClick r:id="rId4"/>
              </a:rPr>
              <a:t>https://www.hudexchange.info/trainings/wise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§ 108 Project Profiles, Webinars on Underwriting, IDIS reporting, Project Design, Application Process: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hlinkClick r:id="rId5"/>
              </a:rPr>
              <a:t>https://www.hudexchange.info/programs/section-108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</a:rPr>
              <a:t>Uniform Relocation Act explanatory video: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ea typeface="Calibri"/>
                <a:hlinkClick r:id="rId6"/>
              </a:rPr>
              <a:t>https://www.hudexchange.info/news/new-video-ura-overview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Bahnschrift"/>
                <a:ea typeface="Calibri"/>
              </a:rPr>
              <a:t>eConPlan Suite webinars – incorporating HTF; Best Practices: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Bahnschrift"/>
                <a:ea typeface="Times New Roman"/>
                <a:hlinkClick r:id="rId7"/>
              </a:rPr>
              <a:t>https://www.hudexchange.info/programs/consolidated-plan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21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6F905248-80C7-461F-822C-ADB141F341D5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57040" indent="-257040">
              <a:lnSpc>
                <a:spcPct val="107000"/>
              </a:lnSpc>
              <a:spcBef>
                <a:spcPts val="499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Total Investments:  $7 b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7000"/>
              </a:lnSpc>
              <a:spcBef>
                <a:spcPts val="499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Impact:  </a:t>
            </a:r>
            <a:r>
              <a:rPr b="1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54,285</a:t>
            </a: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 housing uni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7000"/>
              </a:lnSpc>
              <a:spcBef>
                <a:spcPts val="499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Program Income:  $1.83 b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7000"/>
              </a:lnSpc>
              <a:spcBef>
                <a:spcPts val="499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Remaining Grant Balance:  $240 m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7000"/>
              </a:lnSpc>
              <a:spcBef>
                <a:spcPts val="499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500" spc="-1" strike="noStrike">
                <a:solidFill>
                  <a:srgbClr val="274b6e"/>
                </a:solidFill>
                <a:latin typeface="Calibri"/>
                <a:ea typeface="Calibri"/>
              </a:rPr>
              <a:t>Out of 633 grants, 529 remain op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ighborhoo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tabilization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22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5CA541B3-031E-435D-B0AC-ED71AE8507AB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SP Accomplish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523880" y="1911960"/>
          <a:ext cx="6127920" cy="423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11960"/>
                    <a:ext cx="6127920" cy="423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Bahnschrift"/>
              </a:rPr>
              <a:t>FY19 Funding and Policy Up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Bahnschrift"/>
              </a:rPr>
              <a:t>Regulation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Bahnschrift"/>
              </a:rPr>
              <a:t>Key Topic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Section 3 Proposed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Consolidated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Section 108 Loan Guarante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Opportunity Z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Neighborhood Stabiliz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F5841943-81AF-4E67-BDC4-F616E053829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7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Programmatic issues </a:t>
            </a: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remain to be resolved (e.g. unfinished homes, aud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30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Some grantees cannot spend their original grant funds because </a:t>
            </a:r>
            <a:r>
              <a:rPr b="1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Program Income </a:t>
            </a: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must be spent fir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30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Grantees lack eligible units in </a:t>
            </a:r>
            <a:r>
              <a:rPr b="1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approved areas of greatest need</a:t>
            </a: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; target areas are difficult to ame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30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Administrative funds are diminished; </a:t>
            </a:r>
            <a:r>
              <a:rPr b="1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staff capacity </a:t>
            </a: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has moved 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30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Grantee DRGR skills are low, so budget reconciliations are difficu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30000"/>
              </a:lnSpc>
              <a:spcBef>
                <a:spcPts val="40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1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The statute has no deadline for closeout</a:t>
            </a:r>
            <a:r>
              <a:rPr b="0" lang="en-US" sz="2000" spc="-1" strike="noStrike">
                <a:solidFill>
                  <a:srgbClr val="274b6e"/>
                </a:solidFill>
                <a:latin typeface="Arial"/>
                <a:ea typeface="Calibri"/>
              </a:rPr>
              <a:t>; many grantees have ignored the progr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SP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3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82A3D1A2-6585-49C3-AAC5-C5D51AAD062B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420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274b6e"/>
                </a:solidFill>
                <a:latin typeface="Calibri"/>
                <a:ea typeface="Calibri"/>
              </a:rPr>
              <a:t>Building Grantee and Staff </a:t>
            </a:r>
            <a:r>
              <a:rPr b="1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Providing targeted Closeout TA (including personalized service facilitated by TA providers, national mini-clinics with follow up and peer-to-peer learn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Looking at Policy Fixes &amp; Op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Waiving requirement to spend PI fir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Allowing one-time transfers of PI to CDBG. Considering permitting transfers of future income strea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Investigating a simple and comprehensive way to expand target are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Reviewing the possibility of grant fund recapture as a last res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1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Engaging Our Key Stakehol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lnSpc>
                <a:spcPct val="107000"/>
              </a:lnSpc>
              <a:spcBef>
                <a:spcPts val="320"/>
              </a:spcBef>
              <a:spcAft>
                <a:spcPts val="601"/>
              </a:spcAft>
              <a:buClr>
                <a:srgbClr val="274b6e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74b6e"/>
                </a:solidFill>
                <a:latin typeface="Arial"/>
                <a:ea typeface="Calibri"/>
              </a:rPr>
              <a:t>Working with our national housing partners, state and local leaders and City Managers to heighten awareness for innovative ways to use the funds and/or closeout gr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1119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SP Opportunities &amp; Op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112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DGET/FUNDING:  FY 20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4280" y="1455480"/>
            <a:ext cx="876276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299" strike="noStrike">
                <a:solidFill>
                  <a:srgbClr val="000000"/>
                </a:solidFill>
                <a:latin typeface="Bahnschrift"/>
              </a:rPr>
              <a:t>CDBG &amp; SECTION 10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FY 2019 CDBG enacted appropriation is $3.365 bil , same as FY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-$65 mil for Indian CDBG, -$7 mil for Insular Areas CDBG = $3.293 bil for formu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Section 108 enacted loan guarantee authority is $300 million, same as FY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Contains the usual annual prohibitions and limitations on CDBG fund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  <a:ea typeface="Calibri"/>
              </a:rPr>
              <a:t>no bartering/exchanging funds among local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  <a:ea typeface="Calibri"/>
              </a:rPr>
              <a:t>20% planning + general admin  costs c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  <a:ea typeface="Calibri"/>
              </a:rPr>
              <a:t>eminent domain generally prohibited in conjunction with private for profit economic develop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  <a:ea typeface="Calibri"/>
              </a:rPr>
              <a:t>mandatory underwriting of assistance to private for-profit busin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7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952F7E24-7806-440B-AFC6-01DD4F73DAD6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1112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DGET/FUNDING:  FY 20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4280" y="1455480"/>
            <a:ext cx="876276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599" strike="noStrike">
                <a:solidFill>
                  <a:srgbClr val="000000"/>
                </a:solidFill>
                <a:latin typeface="Bahnschrift"/>
              </a:rPr>
              <a:t>CDBG &amp; SECTION 108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hnschrift"/>
              </a:rPr>
              <a:t>Formula allocations announced April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hnschrift"/>
              </a:rPr>
              <a:t>Grantees have 60 days from April 12 to submit their Action Plan/ConPlan. Grantees with PYSD 8/1 -10/1 can submit per normal sched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hnschrift"/>
              </a:rPr>
              <a:t>1211 Entitlement grantees (+ 2 from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hnschrift"/>
              </a:rPr>
              <a:t>2019 Formula uses 2012-2016 ACS data + 7/1/17 Census population estim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8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9B54F77F-24E0-4A06-BD35-64436CAC914D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112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DGET/FUNDING:  FY 20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4280" y="1455480"/>
            <a:ext cx="876276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hnschrift"/>
              </a:rPr>
              <a:t>Other progr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HOPWA  $393  m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HOME  $1.25 bil, down from $1.362 bil in FY 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ESG $280 m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All other Continuum of Care &amp; homeless demonstration programs $2.356 b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Section 202 housing for elderly $678 mil including contract renew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Section 811 housing for disabled $184.1 mil including contract renew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Housing Counseling program $50 m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hnschrift"/>
              </a:rPr>
              <a:t>Lead Hazard Reduction programs $279 m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9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53A8981A-6B30-4CBB-A878-CA464ED7909C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Y 19 POLICY UPDATE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CPD Notice 19-01: Guidance on Submitting Consolidated Plans and Annual Action Plans for Fiscal Year (FY) 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CPD Notice 19-02: Low- and Moderate-Income Summary Data Updates –new 2011-2015 ACS-based LMISD is effective 4/1/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CPD Notice 19-04:  Urban County Qualification/Requalification for FY 2020-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0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5976099B-84D7-4242-A53E-651358C11BE4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Y 19 POLICY UPDATES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0220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Revised IDIS CDBG Matrix Code Definitions Po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Additional CDBG FAQ Categories Po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FY 2019 Section 8 Income Limits Posted 4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FY 2019 HOME &amp; CDBG Income Limits Posted 6/5, effective 6/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NSP Closeout Guid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4/17 FR Notice: Request for Information on how to support Opportunity Zones </a:t>
            </a:r>
            <a:r>
              <a:rPr b="0" lang="en-US" sz="2000" spc="-1" strike="noStrike">
                <a:solidFill>
                  <a:srgbClr val="000000"/>
                </a:solidFill>
                <a:latin typeface="Bahnschrift"/>
              </a:rPr>
              <a:t>(comment period now clo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3 New IDIS On Line training modules on LMA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1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9C157D8C-4399-4379-B39D-CC5135EEB238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UTURE CDBG RULE-M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61976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Final Rule on Grant-Based Ac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CDBG Regulation Reform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100" spc="-1" strike="noStrike">
                <a:solidFill>
                  <a:srgbClr val="000000"/>
                </a:solidFill>
                <a:latin typeface="Bahnschrift"/>
              </a:rPr>
              <a:t>Support Opportunity Zon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100" spc="-1" strike="noStrike">
                <a:solidFill>
                  <a:srgbClr val="000000"/>
                </a:solidFill>
                <a:latin typeface="Bahnschrift"/>
              </a:rPr>
              <a:t>Incorporate Consolidated Plan Rule revis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100" spc="-1" strike="noStrike">
                <a:solidFill>
                  <a:srgbClr val="000000"/>
                </a:solidFill>
                <a:latin typeface="Bahnschrift"/>
              </a:rPr>
              <a:t>Incorporate Performance Measurement revis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20"/>
              </a:spcBef>
              <a:buClr>
                <a:srgbClr val="000000"/>
              </a:buClr>
              <a:buFont typeface="Courier New"/>
              <a:buChar char="o"/>
            </a:pPr>
            <a:r>
              <a:rPr b="0" lang="en-US" sz="2100" spc="-1" strike="noStrike">
                <a:solidFill>
                  <a:srgbClr val="000000"/>
                </a:solidFill>
                <a:latin typeface="Bahnschrift"/>
              </a:rPr>
              <a:t>Incorporate ideas from Moving CDBG Forwa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ahnschrift"/>
              </a:rPr>
              <a:t>This is a long term project:  Proposed rule &gt; Public comment period &gt; Final rule = 18-24 month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NSP Federal Register No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hnschrift"/>
              </a:rPr>
              <a:t>Section 3 Final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12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AAD9B7B1-7CDF-4D8C-8D42-780344322BA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3400" y="304920"/>
            <a:ext cx="80006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NEW SECTION 3 RULE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6864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d Rule Published in Federal Register on 4/4/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254061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Comment deadline was 6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Eventually Replace June 1994 Interim Rule (which remains in effect until a final rule is iss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sedes March 2015 Proposed Section 3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Implementation Approaches for Public Housing vs. Community Planning &amp; Development and other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3"/>
          </p:nvPr>
        </p:nvSpPr>
        <p:spPr>
          <a:xfrm>
            <a:off x="3476520" y="64324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lide </a:t>
            </a:r>
            <a:fld id="{B0B892A9-047D-4C13-86A7-7ADF7D338DC0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678</TotalTime>
  <Application>LibreOffice/7.4.7.2$Linux_X86_64 LibreOffice_project/40$Build-2</Application>
  <AppVersion>15.0000</AppVersion>
  <Words>1607</Words>
  <Paragraphs>264</Paragraphs>
  <Company>Housing and Urban Developmen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31T12:43:03Z</dcterms:created>
  <dc:creator>H04135</dc:creator>
  <dc:description/>
  <dc:language>en-US</dc:language>
  <cp:lastModifiedBy>Johnson, Steve</cp:lastModifiedBy>
  <cp:lastPrinted>2019-06-10T21:16:48Z</cp:lastPrinted>
  <dcterms:modified xsi:type="dcterms:W3CDTF">2019-06-12T20:54:11Z</dcterms:modified>
  <cp:revision>2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On-screen Show (4:3)</vt:lpwstr>
  </property>
  <property fmtid="{D5CDD505-2E9C-101B-9397-08002B2CF9AE}" pid="4" name="Slides">
    <vt:r8>21</vt:r8>
  </property>
  <property fmtid="{D5CDD505-2E9C-101B-9397-08002B2CF9AE}" pid="5" name="_AdHocReviewCycleID">
    <vt:r8>1932348356</vt:r8>
  </property>
  <property fmtid="{D5CDD505-2E9C-101B-9397-08002B2CF9AE}" pid="6" name="_AuthorEmail">
    <vt:lpwstr>Gloria.L.Coates@hud.gov</vt:lpwstr>
  </property>
  <property fmtid="{D5CDD505-2E9C-101B-9397-08002B2CF9AE}" pid="7" name="_AuthorEmailDisplayName">
    <vt:lpwstr>Coates, Gloria L</vt:lpwstr>
  </property>
  <property fmtid="{D5CDD505-2E9C-101B-9397-08002B2CF9AE}" pid="8" name="_EmailSubject">
    <vt:lpwstr>NCCDA Entitlement Roundtable Presentation</vt:lpwstr>
  </property>
  <property fmtid="{D5CDD505-2E9C-101B-9397-08002B2CF9AE}" pid="9" name="_NewReviewCycle">
    <vt:lpwstr/>
  </property>
</Properties>
</file>