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43300-8A4B-424D-9649-1BF21EE0C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0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A99B95-9639-4926-AED0-F11284A1F39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26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89232E-FA9C-42E5-B610-5151F8B8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7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FEF0D4-6404-49C0-8B1C-6C60B1311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8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74E9D4-0716-4963-9639-80576FC19D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9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54D19-566B-42EA-83F1-597BC8A2C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Num" idx="21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5B27FE-1691-4E55-839B-7D2D35BD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2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2E4E31-D855-46D5-8714-9871D647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3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D9FEC3-E199-4A13-805A-4D42BB65F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4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A4C976-34DA-4748-A350-B26DEB6B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36360" y="4421880"/>
            <a:ext cx="5149800" cy="4188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25"/>
          </p:nvPr>
        </p:nvSpPr>
        <p:spPr>
          <a:xfrm>
            <a:off x="3979800" y="8843760"/>
            <a:ext cx="3043080" cy="465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1F46F-486C-461B-8D73-187D00BF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21A-6B2A-415D-B7E4-8D292222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456-D594-4D2B-B464-50D9D0D3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525-141D-4171-BB98-EB62C44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500-AA9F-4A82-8B17-821087F5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DEA2-4E84-46D7-986A-CAB0179D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4A45-5C9A-496A-89BA-A166E22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F8F-DD2E-4D66-AE50-3D9C81B7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9D9C-B6A6-4BF3-8F99-92AA61C3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615-FDC4-4733-A304-76C3814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119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4CE4-6AFA-4A8D-AE68-AE8FAE42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6CE-D52A-45B1-81B8-751127E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D06-C178-4BFB-9828-A0F6708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797D-C488-4236-88EA-6BFF9C01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EA5C-0978-4120-8DFE-2182F63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EF3D-0A86-43C2-90BB-531CA37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54D-06DF-4B2E-B538-542125E5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249E-48D6-42CB-9ABD-8D0E8463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F196-E0AB-47CE-B4F2-DC3CA53E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D721-02B7-4AE1-98FD-48CB0041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DB24-CB7F-482F-BD8E-F328A80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8E72C-9F76-41F0-A6CD-0EEA9603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6AF8-3EE6-4DF6-A3A6-8E051F3A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0D2-E77A-4672-9866-45B58B59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119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4EB7-0188-4D4A-A296-C73EEA38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DCA1-F555-460D-AD05-AACE1889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59D3-C13B-45FF-8E9F-F5BA60C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FC326-657B-4C25-9996-72A6463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25D5-7F52-4B2A-98D6-EBCA88C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E991-52F4-4EDA-B4A2-3DF933B7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37C2-3A43-4E4C-BC09-892ACB7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354-2A6E-4090-9E79-52933B9D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BF7-4E1A-46F2-8E01-BDA173CD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19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CDF-4251-424D-9CD6-6E41723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46E-E3C2-432A-B6B8-D7AF3237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0A5-4404-49EC-AF67-69A0604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51D-07C2-412E-B54E-3DD078F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over-bottom.jpg"/>
          <p:cNvPicPr/>
          <p:nvPr/>
        </p:nvPicPr>
        <p:blipFill>
          <a:blip r:embed="rId2"/>
          <a:stretch/>
        </p:blipFill>
        <p:spPr>
          <a:xfrm>
            <a:off x="0" y="4699080"/>
            <a:ext cx="9143640" cy="215856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4" descr="cover-logo.jpg"/>
          <p:cNvPicPr/>
          <p:nvPr/>
        </p:nvPicPr>
        <p:blipFill>
          <a:blip r:embed="rId3"/>
          <a:stretch/>
        </p:blipFill>
        <p:spPr>
          <a:xfrm>
            <a:off x="3979800" y="612720"/>
            <a:ext cx="1166400" cy="138240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24D2AA-494B-4BA8-AF74-551FC3B9FE8D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slide-top.jpg"/>
          <p:cNvPicPr/>
          <p:nvPr/>
        </p:nvPicPr>
        <p:blipFill>
          <a:blip r:embed="rId2"/>
          <a:stretch/>
        </p:blipFill>
        <p:spPr>
          <a:xfrm>
            <a:off x="0" y="0"/>
            <a:ext cx="9143640" cy="133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slide-bottom.jpg"/>
          <p:cNvPicPr/>
          <p:nvPr/>
        </p:nvPicPr>
        <p:blipFill>
          <a:blip r:embed="rId3"/>
          <a:stretch/>
        </p:blipFill>
        <p:spPr>
          <a:xfrm>
            <a:off x="0" y="4359240"/>
            <a:ext cx="9143640" cy="2498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B22185-E8B6-4752-BC4B-62E783EBB3F2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Slide bottom bldgs"/>
          <p:cNvPicPr/>
          <p:nvPr/>
        </p:nvPicPr>
        <p:blipFill>
          <a:blip r:embed="rId2"/>
          <a:stretch/>
        </p:blipFill>
        <p:spPr>
          <a:xfrm>
            <a:off x="0" y="4346640"/>
            <a:ext cx="9143640" cy="2511000"/>
          </a:xfrm>
          <a:prstGeom prst="rect">
            <a:avLst/>
          </a:prstGeom>
          <a:ln w="9525">
            <a:noFill/>
          </a:ln>
        </p:spPr>
      </p:pic>
      <p:grpSp>
        <p:nvGrpSpPr>
          <p:cNvPr id="87" name="Group 13"/>
          <p:cNvGrpSpPr/>
          <p:nvPr/>
        </p:nvGrpSpPr>
        <p:grpSpPr>
          <a:xfrm>
            <a:off x="7334280" y="5597640"/>
            <a:ext cx="775800" cy="775800"/>
            <a:chOff x="7334280" y="5597640"/>
            <a:chExt cx="775800" cy="775800"/>
          </a:xfrm>
        </p:grpSpPr>
        <p:sp>
          <p:nvSpPr>
            <p:cNvPr id="88" name="Oval 10"/>
            <p:cNvSpPr/>
            <p:nvPr/>
          </p:nvSpPr>
          <p:spPr>
            <a:xfrm>
              <a:off x="7334280" y="5597640"/>
              <a:ext cx="775800" cy="77580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Picture 12" descr="HHS logo for PPT"/>
            <p:cNvPicPr/>
            <p:nvPr/>
          </p:nvPicPr>
          <p:blipFill>
            <a:blip r:embed="rId3"/>
            <a:stretch/>
          </p:blipFill>
          <p:spPr>
            <a:xfrm>
              <a:off x="7365960" y="5638680"/>
              <a:ext cx="712440" cy="691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8101080" y="5607000"/>
            <a:ext cx="639360" cy="745920"/>
            <a:chOff x="8101080" y="5607000"/>
            <a:chExt cx="639360" cy="74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8101080" y="5607000"/>
              <a:ext cx="639360" cy="745920"/>
              <a:chOff x="8101080" y="5607000"/>
              <a:chExt cx="639360" cy="745920"/>
            </a:xfrm>
          </p:grpSpPr>
          <p:sp>
            <p:nvSpPr>
              <p:cNvPr id="92" name="Rectangle 10"/>
              <p:cNvSpPr/>
              <p:nvPr/>
            </p:nvSpPr>
            <p:spPr>
              <a:xfrm>
                <a:off x="8101080" y="5838840"/>
                <a:ext cx="639360" cy="51408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16"/>
              <p:cNvSpPr/>
              <p:nvPr/>
            </p:nvSpPr>
            <p:spPr>
              <a:xfrm>
                <a:off x="8101080" y="5607000"/>
                <a:ext cx="639360" cy="2314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4" name="Picture 15" descr="NSP logo for PPT"/>
            <p:cNvPicPr/>
            <p:nvPr/>
          </p:nvPicPr>
          <p:blipFill>
            <a:blip r:embed="rId4"/>
            <a:stretch/>
          </p:blipFill>
          <p:spPr>
            <a:xfrm>
              <a:off x="8155080" y="5672160"/>
              <a:ext cx="529920" cy="62820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95" name="Picture 4" descr="slide-top.jpg"/>
          <p:cNvPicPr/>
          <p:nvPr/>
        </p:nvPicPr>
        <p:blipFill>
          <a:blip r:embed="rId5"/>
          <a:stretch/>
        </p:blipFill>
        <p:spPr>
          <a:xfrm>
            <a:off x="0" y="0"/>
            <a:ext cx="9143640" cy="1417320"/>
          </a:xfrm>
          <a:prstGeom prst="rect">
            <a:avLst/>
          </a:prstGeom>
          <a:ln w="9525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614B6A9F-4132-4C14-81E6-113E650F12F4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udexchange.info/home" TargetMode="External"/><Relationship Id="rId2" Type="http://schemas.openxmlformats.org/officeDocument/2006/relationships/hyperlink" Target="http://www.hudexchange.info/mailinglist/" TargetMode="External"/><Relationship Id="rId3" Type="http://schemas.openxmlformats.org/officeDocument/2006/relationships/hyperlink" Target="http://www.hudexchange.info/htf" TargetMode="External"/><Relationship Id="rId4" Type="http://schemas.openxmlformats.org/officeDocument/2006/relationships/hyperlink" Target="http://www.hudexchange.info/mailinglist/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6"/>
          <p:cNvSpPr/>
          <p:nvPr/>
        </p:nvSpPr>
        <p:spPr>
          <a:xfrm>
            <a:off x="0" y="6308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U.S. Department of Housing and Urb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080" y="2206800"/>
            <a:ext cx="8457840" cy="1361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HOME &amp; HTF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1828800" y="3399480"/>
            <a:ext cx="54860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NCDA Annu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June 20,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600" y="1445400"/>
            <a:ext cx="8457840" cy="475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Four-Year Project Completion No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perty Standards Notice and Toolk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Written Agreement Checkl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Updated Notice on Resale and Recapture Provis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2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Upcoming HOME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D41DA495-50F7-47DB-AE71-F10F191427C7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1445400"/>
            <a:ext cx="8457840" cy="475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2019 Building HOME Webinar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omebuyer Program Policies and Procedures, HUD Notice CPD 18-09 (August 2018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ebinar planned in 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-person homebuyer program training in 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HDO Opportunities in HOME Trai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Building HOME – HOME e-Learning platform unde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HOM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A2FE74E3-C743-41C8-994A-31B154AC200D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Housing Trust F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09480" y="1523880"/>
            <a:ext cx="807696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FY 2019 –  $247,666,778.80 allocated to 53 grant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Decrease of $19.1m from FY 18, increase of $28.5m over FY 17 &amp; $74.1m over FY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7 grantees received $3m minimum – down from 35 in FY 18, 28 in FY 17 &amp; 36 in FY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 Insular Areas declined al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HTF Production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609480" y="1752480"/>
            <a:ext cx="83815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596880" y="1568880"/>
            <a:ext cx="82292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25 projects completed in ID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ocated in Idaho, Kansas, Massachusetts, North Dakota, New Hampshire, South Dakota, Utah, Virginia, Vermont, West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6 rehabilit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8 new construc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1 acquisition only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441 HTF-assisted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201 projects committed/unde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36320" y="1600200"/>
            <a:ext cx="8250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HOME and HTF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65CA68F6-91C4-43CE-9B8B-0B50C3084E33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1676520"/>
            <a:ext cx="784836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mbria"/>
              </a:rPr>
              <a:t>HOME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www.hudexchange.info/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gn up for HOME listserv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www.hudexchange.info/mailinglis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mbria"/>
              </a:rPr>
              <a:t>HTF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www.hudexchange.info/h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gn up for HTF listserv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hudexchange.info/mailinglis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5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12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tion 3 requirements governed by an interim regulation since 19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UD published a proposed rule on April 4,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tended to increase effectiveness &amp; decrease administrative bu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comment period closed on Jun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4578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Section 3 Rule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FBA75E6B-BCCE-43C5-B97A-1F42242A9884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34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61880" indent="-461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OZs were designed to spur economic development by providing tax benefits to inv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UD Opportunity Zone Task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ordinate with Federal agenc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olicit ideas and feedback from stakehol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Develop strategies, including changes to HUD policies/programs to prioritize investment in OZ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dentify guidance and TA nee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Opportunit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Slide </a:t>
            </a:r>
            <a:fld id="{2A2B5720-DEF2-43A5-9E3F-81E4E7DA42FC}" type="slidenum">
              <a:rPr b="1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HOME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FY 2019 HOME = $1.25 b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$112 million (8%)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FY 2020 Administration budget was released in M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63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76320" y="6035040"/>
            <a:ext cx="2057040" cy="758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HOME Timeliness Dead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Y 2019 HUD Appropriation Act suspen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4-month commitment deadlines occurring during 2016 –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4-month CHDO reservation deadlines for funds deobligated in or would be deobligated in 2018 -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5-year expenditure deadlines in effect through FY 2014 allo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ast deadlines occur in 2019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CHDO Deadline Susp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rovision retroactive to 1/1/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ermits smaller PJs to accumulate multiple grant years to fund a CHDO project – approximates previous “cumulative average” approach to 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PJs can fund the best or highest priority CHDO projects rather than the quick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nables more complete and careful pre-commitment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564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HOME 2016 - 2018 Accomplis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FB5DCB-1749-4108-AD88-E90FA4D9B6F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Table 1"/>
          <p:cNvGraphicFramePr/>
          <p:nvPr/>
        </p:nvGraphicFramePr>
        <p:xfrm>
          <a:off x="457200" y="2362320"/>
          <a:ext cx="8229240" cy="2968920"/>
        </p:xfrm>
        <a:graphic>
          <a:graphicData uri="http://schemas.openxmlformats.org/drawingml/2006/table">
            <a:tbl>
              <a:tblPr/>
              <a:tblGrid>
                <a:gridCol w="3333960"/>
                <a:gridCol w="1223640"/>
                <a:gridCol w="1223640"/>
                <a:gridCol w="1223640"/>
                <a:gridCol w="1223640"/>
              </a:tblGrid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9 Targe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ntal Uni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0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,8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89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,7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mebuyer Uni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,0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88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,19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,35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meowner reha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7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3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6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69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tal Units Complet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8,8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0,0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4,70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9,76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2400">
                <a:tc>
                  <a:txBody>
                    <a:bodyPr lIns="118080" rIns="11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BRA Household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57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,4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30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118080" rIns="118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2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8080" marR="1180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6720" y="60332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915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Follow-Up on HOME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AHP analyzed FY 2018 data to identify cause of 31% production 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nclusion: Commitment suspension was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g per unit cost increased only $121 from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# of units in open rental projects decreased 24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# of open rental projects decreased by 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AHP expects completion numbers to rebound as the lengthened time to commitment becomes established in PJ project pip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4"/>
          </p:nvPr>
        </p:nvSpPr>
        <p:spPr>
          <a:xfrm>
            <a:off x="6858000" y="58672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D57258-2604-45CD-BCAB-B8E0FE17982E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osing Out HOME G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mbria"/>
              </a:rPr>
              <a:t>Phase 1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– close out 14 ex-PJs - </a:t>
            </a:r>
            <a:r>
              <a:rPr b="0" lang="en-US" sz="3200" spc="-1" strike="noStrike">
                <a:solidFill>
                  <a:srgbClr val="ff0000"/>
                </a:solidFill>
                <a:latin typeface="Cambria"/>
              </a:rPr>
              <a:t>compl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mbria"/>
              </a:rPr>
              <a:t>Phase 2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– close out 1992-2010 grants for PJ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 funds exp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l activities completed and units occup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 open monitoring or audit fi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UD will contact PJs that are re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59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urrently piloting the process w/6 PJs in 3 F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mbria"/>
              </a:rPr>
              <a:t>Phase 3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– closeout of 2011+ future 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6640" indent="-286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ach year after expiration of the gr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Risk Assessment &amp;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Updating HOME risk factors to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lagged activ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verage time from commitment to com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expended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Voucher re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ess reports / citizen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omprehensive revision of HOME monitoring exhi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Flagged HOME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52080" indent="-352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HOME IDIS Fl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0200" indent="-469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voluntarily Terminated - Activity not completed within 4 years of Initial Funding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322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ivity blocked in IDIS – PJ cannot access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80200" indent="-469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nal Draw for 120 days 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322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ability for PJ to set up new activities or commit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80200" indent="-469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mbria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frequent Draws for 12 months or mo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32280" indent="-352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J may enter a reason and narrative explanation to restore ability to set up new activities or commit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2080" indent="-352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Review Activities screen or IDIS PR 46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6720" y="6035040"/>
            <a:ext cx="2057040" cy="75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PD PPT Template_003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PD layout</Template>
  <TotalTime>13888</TotalTime>
  <Application>LibreOffice/7.4.7.2$Linux_X86_64 LibreOffice_project/40$Build-2</Application>
  <AppVersion>15.0000</AppVersion>
  <Words>788</Words>
  <Paragraphs>164</Paragraphs>
  <Company>U.S. Department of Housing and Urban Developmen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9:55:19Z</dcterms:created>
  <dc:creator>Clifford Taffet</dc:creator>
  <dc:description/>
  <dc:language>en-US</dc:language>
  <cp:lastModifiedBy>Renner, Caitlin O</cp:lastModifiedBy>
  <cp:lastPrinted>2019-02-25T20:32:04Z</cp:lastPrinted>
  <dcterms:modified xsi:type="dcterms:W3CDTF">2019-06-13T21:38:41Z</dcterms:modified>
  <cp:revision>633</cp:revision>
  <dc:subject/>
  <dc:title>Summary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  <property fmtid="{D5CDD505-2E9C-101B-9397-08002B2CF9AE}" pid="5" name="_NewReviewCycle">
    <vt:lpwstr/>
  </property>
</Properties>
</file>