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notesSlide4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6.wmf" ContentType="image/x-wmf"/>
  <Override PartName="/ppt/media/image7.jpeg" ContentType="image/jpeg"/>
  <Override PartName="/ppt/media/image5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F5D19C19-58DD-4AF6-AA03-1592B1F0B35F}" type="doc">
      <dgm:prSet loTypeId="urn:microsoft.com/office/officeart/2005/8/layout/default" loCatId="list" qsTypeId="urn:microsoft.com/office/officeart/2005/8/quickstyle/simple1" qsCatId="simple" csTypeId="urn:microsoft.com/office/officeart/2005/8/colors/colorful5" csCatId="colorful"/>
      <dgm:spPr/>
      <dgm:t>
        <a:bodyPr/>
        <a:lstStyle/>
        <a:p>
          <a:endParaRPr lang="en-US"/>
        </a:p>
      </dgm:t>
    </dgm:pt>
    <dgm:pt modelId="{74717F73-F473-4385-9443-1136D2B0640B}">
      <dgm:prSet/>
      <dgm:spPr/>
      <dgm:t>
        <a:bodyPr/>
        <a:lstStyle/>
        <a:p>
          <a:r>
            <a:rPr lang="en-US" dirty="0"/>
            <a:t>121 Communities- All 67 counties plus Entitlement Cities</a:t>
          </a:r>
        </a:p>
      </dgm:t>
    </dgm:pt>
    <dgm:pt modelId="{DF2C74C2-15FC-417D-BD39-097AA49FD745}" type="parTrans" cxnId="{32C21099-E240-4F03-AE9B-BD89497C6FC1}">
      <dgm:prSet/>
      <dgm:spPr/>
      <dgm:t>
        <a:bodyPr/>
        <a:lstStyle/>
        <a:p>
          <a:endParaRPr lang="en-US"/>
        </a:p>
      </dgm:t>
    </dgm:pt>
    <dgm:pt modelId="{6E8CB573-7DA1-4DD9-A9E6-E3CDC5DFFD60}" type="sibTrans" cxnId="{32C21099-E240-4F03-AE9B-BD89497C6FC1}">
      <dgm:prSet/>
      <dgm:spPr/>
      <dgm:t>
        <a:bodyPr/>
        <a:lstStyle/>
        <a:p>
          <a:endParaRPr lang="en-US"/>
        </a:p>
      </dgm:t>
    </dgm:pt>
    <dgm:pt modelId="{65940046-4F2C-40E2-8533-3138C5E0C4BC}">
      <dgm:prSet/>
      <dgm:spPr/>
      <dgm:t>
        <a:bodyPr/>
        <a:lstStyle/>
        <a:p>
          <a:r>
            <a:rPr lang="en-US"/>
            <a:t>CATALYST PROGRAM- TECHNICAL ASSISTANCE</a:t>
          </a:r>
        </a:p>
      </dgm:t>
    </dgm:pt>
    <dgm:pt modelId="{A0F94CCD-CA8F-42E4-B42D-D6C4E0ECC2FD}" type="parTrans" cxnId="{721C5484-F7AB-4CC9-9839-30825512B335}">
      <dgm:prSet/>
      <dgm:spPr/>
      <dgm:t>
        <a:bodyPr/>
        <a:lstStyle/>
        <a:p>
          <a:endParaRPr lang="en-US"/>
        </a:p>
      </dgm:t>
    </dgm:pt>
    <dgm:pt modelId="{A22DF4F1-7C1B-49E1-A165-1AD0FFE11C1F}" type="sibTrans" cxnId="{721C5484-F7AB-4CC9-9839-30825512B335}">
      <dgm:prSet/>
      <dgm:spPr/>
      <dgm:t>
        <a:bodyPr/>
        <a:lstStyle/>
        <a:p>
          <a:endParaRPr lang="en-US"/>
        </a:p>
      </dgm:t>
    </dgm:pt>
    <dgm:pt modelId="{7F5415E4-FA74-4390-83E6-2622788088BB}">
      <dgm:prSet/>
      <dgm:spPr/>
      <dgm:t>
        <a:bodyPr/>
        <a:lstStyle/>
        <a:p>
          <a:r>
            <a:rPr lang="en-US"/>
            <a:t>STATE HOUSING INITIATIVES PARTNERSHIP</a:t>
          </a:r>
        </a:p>
      </dgm:t>
    </dgm:pt>
    <dgm:pt modelId="{30BFA022-5B55-4930-9168-862C9864355E}" type="parTrans" cxnId="{3F430A1D-5EC3-4E76-8714-5BB1FF92A9D5}">
      <dgm:prSet/>
      <dgm:spPr/>
      <dgm:t>
        <a:bodyPr/>
        <a:lstStyle/>
        <a:p>
          <a:endParaRPr lang="en-US"/>
        </a:p>
      </dgm:t>
    </dgm:pt>
    <dgm:pt modelId="{CD8EBF1C-1F85-469E-ADD7-55F63647AD88}" type="sibTrans" cxnId="{3F430A1D-5EC3-4E76-8714-5BB1FF92A9D5}">
      <dgm:prSet/>
      <dgm:spPr/>
      <dgm:t>
        <a:bodyPr/>
        <a:lstStyle/>
        <a:p>
          <a:endParaRPr lang="en-US"/>
        </a:p>
      </dgm:t>
    </dgm:pt>
    <dgm:pt modelId="{605D3727-EDD2-424D-A980-8FB391336B8B}">
      <dgm:prSet/>
      <dgm:spPr/>
      <dgm:t>
        <a:bodyPr/>
        <a:lstStyle/>
        <a:p>
          <a:r>
            <a:rPr lang="en-US"/>
            <a:t>STATE APARTMENT INCENTIVE LOAN PROGRAM</a:t>
          </a:r>
        </a:p>
      </dgm:t>
    </dgm:pt>
    <dgm:pt modelId="{331AA177-5B7E-4CA8-9135-71A09F932892}" type="parTrans" cxnId="{8AE929A8-CC48-4B4C-BB7C-679B8229ACD1}">
      <dgm:prSet/>
      <dgm:spPr/>
      <dgm:t>
        <a:bodyPr/>
        <a:lstStyle/>
        <a:p>
          <a:endParaRPr lang="en-US"/>
        </a:p>
      </dgm:t>
    </dgm:pt>
    <dgm:pt modelId="{0E123881-F020-4B9F-8AB3-397B874EE463}" type="sibTrans" cxnId="{8AE929A8-CC48-4B4C-BB7C-679B8229ACD1}">
      <dgm:prSet/>
      <dgm:spPr/>
      <dgm:t>
        <a:bodyPr/>
        <a:lstStyle/>
        <a:p>
          <a:endParaRPr lang="en-US"/>
        </a:p>
      </dgm:t>
    </dgm:pt>
    <dgm:pt modelId="{8C065D94-98D9-4103-AE2D-70FA9A9918EF}">
      <dgm:prSet/>
      <dgm:spPr/>
      <dgm:t>
        <a:bodyPr/>
        <a:lstStyle/>
        <a:p>
          <a:r>
            <a:rPr lang="en-US"/>
            <a:t>HURRICANE HOUSING RECOVERY PROGRAM</a:t>
          </a:r>
        </a:p>
      </dgm:t>
    </dgm:pt>
    <dgm:pt modelId="{84489E73-E577-4E39-A01F-A07B1F1D884B}" type="parTrans" cxnId="{8E182E34-0C6E-4487-9C0F-A0BF33DBD634}">
      <dgm:prSet/>
      <dgm:spPr/>
      <dgm:t>
        <a:bodyPr/>
        <a:lstStyle/>
        <a:p>
          <a:endParaRPr lang="en-US"/>
        </a:p>
      </dgm:t>
    </dgm:pt>
    <dgm:pt modelId="{2FF4109F-D245-4D52-BA39-B1A42AB3D98B}" type="sibTrans" cxnId="{8E182E34-0C6E-4487-9C0F-A0BF33DBD634}">
      <dgm:prSet/>
      <dgm:spPr/>
      <dgm:t>
        <a:bodyPr/>
        <a:lstStyle/>
        <a:p>
          <a:endParaRPr lang="en-US"/>
        </a:p>
      </dgm:t>
    </dgm:pt>
    <dgm:pt modelId="{F11C868D-0D90-4C4A-9C57-B7BDF906BD4D}">
      <dgm:prSet/>
      <dgm:spPr/>
      <dgm:t>
        <a:bodyPr/>
        <a:lstStyle/>
        <a:p>
          <a:r>
            <a:rPr lang="en-US"/>
            <a:t>HURRICANE RENTAL LOAN PROGRAM</a:t>
          </a:r>
        </a:p>
      </dgm:t>
    </dgm:pt>
    <dgm:pt modelId="{DCBC5718-EA89-4CD0-BF1F-AD37E16B906D}" type="parTrans" cxnId="{9F5178AA-2537-462E-805E-EC29198B519D}">
      <dgm:prSet/>
      <dgm:spPr/>
      <dgm:t>
        <a:bodyPr/>
        <a:lstStyle/>
        <a:p>
          <a:endParaRPr lang="en-US"/>
        </a:p>
      </dgm:t>
    </dgm:pt>
    <dgm:pt modelId="{4E0E14F5-9FF6-43E9-B7CE-1B0E17CFABC2}" type="sibTrans" cxnId="{9F5178AA-2537-462E-805E-EC29198B519D}">
      <dgm:prSet/>
      <dgm:spPr/>
      <dgm:t>
        <a:bodyPr/>
        <a:lstStyle/>
        <a:p>
          <a:endParaRPr lang="en-US"/>
        </a:p>
      </dgm:t>
    </dgm:pt>
    <dgm:pt modelId="{265969DA-92F5-45C7-A4F3-5111FD492E39}" type="pres">
      <dgm:prSet presAssocID="{F5D19C19-58DD-4AF6-AA03-1592B1F0B35F}" presName="diagram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EDEAC5C6-D413-4974-89A0-8D2565ED67B0}" type="pres">
      <dgm:prSet presAssocID="{74717F73-F473-4385-9443-1136D2B0640B}" presName="node" presStyleLbl="node1" presStyleIdx="0" presStyleCnt="6" custLinFactNeighborX="-10587" custLinFactNeighborY="-37525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FE440155-F4B5-4628-BD04-92A8A53AAFA9}" type="pres">
      <dgm:prSet presAssocID="{6E8CB573-7DA1-4DD9-A9E6-E3CDC5DFFD60}" presName="sibTrans" presStyleCnt="0"/>
      <dgm:spPr/>
    </dgm:pt>
    <dgm:pt modelId="{2158304F-7562-49E8-A6F5-AAF146AC717C}" type="pres">
      <dgm:prSet presAssocID="{65940046-4F2C-40E2-8533-3138C5E0C4BC}" presName="node" presStyleLbl="node1" presStyleIdx="1" presStyleCnt="6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43753014-1C40-4A15-A1B4-E4B40C41131F}" type="pres">
      <dgm:prSet presAssocID="{A22DF4F1-7C1B-49E1-A165-1AD0FFE11C1F}" presName="sibTrans" presStyleCnt="0"/>
      <dgm:spPr/>
    </dgm:pt>
    <dgm:pt modelId="{EF03187B-5800-4824-8F17-CE3AAAB38D44}" type="pres">
      <dgm:prSet presAssocID="{7F5415E4-FA74-4390-83E6-2622788088BB}" presName="node" presStyleLbl="node1" presStyleIdx="2" presStyleCnt="6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EFB6A155-604C-4B59-9C50-CD1AFB37E9DF}" type="pres">
      <dgm:prSet presAssocID="{CD8EBF1C-1F85-469E-ADD7-55F63647AD88}" presName="sibTrans" presStyleCnt="0"/>
      <dgm:spPr/>
    </dgm:pt>
    <dgm:pt modelId="{F8AE02E2-B6B4-4ECF-9762-68FA1BC9B66E}" type="pres">
      <dgm:prSet presAssocID="{605D3727-EDD2-424D-A980-8FB391336B8B}" presName="node" presStyleLbl="node1" presStyleIdx="3" presStyleCnt="6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2D585293-D6AF-466E-865D-7389A6E36F8D}" type="pres">
      <dgm:prSet presAssocID="{0E123881-F020-4B9F-8AB3-397B874EE463}" presName="sibTrans" presStyleCnt="0"/>
      <dgm:spPr/>
    </dgm:pt>
    <dgm:pt modelId="{139F635E-7BBF-4445-9FA4-AC9DC2BC517F}" type="pres">
      <dgm:prSet presAssocID="{8C065D94-98D9-4103-AE2D-70FA9A9918EF}" presName="node" presStyleLbl="node1" presStyleIdx="4" presStyleCnt="6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9D774BD8-4AD6-4ED4-AFCA-15C7F589540A}" type="pres">
      <dgm:prSet presAssocID="{2FF4109F-D245-4D52-BA39-B1A42AB3D98B}" presName="sibTrans" presStyleCnt="0"/>
      <dgm:spPr/>
    </dgm:pt>
    <dgm:pt modelId="{94684B1E-1A36-4137-A259-9CEC780CEB33}" type="pres">
      <dgm:prSet presAssocID="{F11C868D-0D90-4C4A-9C57-B7BDF906BD4D}" presName="node" presStyleLbl="node1" presStyleIdx="5" presStyleCnt="6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8AE929A8-CC48-4B4C-BB7C-679B8229ACD1}" srcId="{F5D19C19-58DD-4AF6-AA03-1592B1F0B35F}" destId="{605D3727-EDD2-424D-A980-8FB391336B8B}" srcOrd="3" destOrd="0" parTransId="{331AA177-5B7E-4CA8-9135-71A09F932892}" sibTransId="{0E123881-F020-4B9F-8AB3-397B874EE463}"/>
    <dgm:cxn modelId="{1910848F-7C22-45D2-8343-48998CC41C27}" type="presOf" srcId="{F5D19C19-58DD-4AF6-AA03-1592B1F0B35F}" destId="{265969DA-92F5-45C7-A4F3-5111FD492E39}" srcOrd="0" destOrd="0" presId="urn:microsoft.com/office/officeart/2005/8/layout/default"/>
    <dgm:cxn modelId="{97989F11-7A66-415E-ABF6-6FEAB1DC7E57}" type="presOf" srcId="{7F5415E4-FA74-4390-83E6-2622788088BB}" destId="{EF03187B-5800-4824-8F17-CE3AAAB38D44}" srcOrd="0" destOrd="0" presId="urn:microsoft.com/office/officeart/2005/8/layout/default"/>
    <dgm:cxn modelId="{9F5178AA-2537-462E-805E-EC29198B519D}" srcId="{F5D19C19-58DD-4AF6-AA03-1592B1F0B35F}" destId="{F11C868D-0D90-4C4A-9C57-B7BDF906BD4D}" srcOrd="5" destOrd="0" parTransId="{DCBC5718-EA89-4CD0-BF1F-AD37E16B906D}" sibTransId="{4E0E14F5-9FF6-43E9-B7CE-1B0E17CFABC2}"/>
    <dgm:cxn modelId="{91B69999-9808-48C8-B568-D78C3354CA5C}" type="presOf" srcId="{F11C868D-0D90-4C4A-9C57-B7BDF906BD4D}" destId="{94684B1E-1A36-4137-A259-9CEC780CEB33}" srcOrd="0" destOrd="0" presId="urn:microsoft.com/office/officeart/2005/8/layout/default"/>
    <dgm:cxn modelId="{8508F1CD-07DC-4AC0-9EC3-F3D3745DD67D}" type="presOf" srcId="{74717F73-F473-4385-9443-1136D2B0640B}" destId="{EDEAC5C6-D413-4974-89A0-8D2565ED67B0}" srcOrd="0" destOrd="0" presId="urn:microsoft.com/office/officeart/2005/8/layout/default"/>
    <dgm:cxn modelId="{721C5484-F7AB-4CC9-9839-30825512B335}" srcId="{F5D19C19-58DD-4AF6-AA03-1592B1F0B35F}" destId="{65940046-4F2C-40E2-8533-3138C5E0C4BC}" srcOrd="1" destOrd="0" parTransId="{A0F94CCD-CA8F-42E4-B42D-D6C4E0ECC2FD}" sibTransId="{A22DF4F1-7C1B-49E1-A165-1AD0FFE11C1F}"/>
    <dgm:cxn modelId="{32C21099-E240-4F03-AE9B-BD89497C6FC1}" srcId="{F5D19C19-58DD-4AF6-AA03-1592B1F0B35F}" destId="{74717F73-F473-4385-9443-1136D2B0640B}" srcOrd="0" destOrd="0" parTransId="{DF2C74C2-15FC-417D-BD39-097AA49FD745}" sibTransId="{6E8CB573-7DA1-4DD9-A9E6-E3CDC5DFFD60}"/>
    <dgm:cxn modelId="{B7971978-BC8A-4400-A5B4-B07F62E27A45}" type="presOf" srcId="{8C065D94-98D9-4103-AE2D-70FA9A9918EF}" destId="{139F635E-7BBF-4445-9FA4-AC9DC2BC517F}" srcOrd="0" destOrd="0" presId="urn:microsoft.com/office/officeart/2005/8/layout/default"/>
    <dgm:cxn modelId="{3F430A1D-5EC3-4E76-8714-5BB1FF92A9D5}" srcId="{F5D19C19-58DD-4AF6-AA03-1592B1F0B35F}" destId="{7F5415E4-FA74-4390-83E6-2622788088BB}" srcOrd="2" destOrd="0" parTransId="{30BFA022-5B55-4930-9168-862C9864355E}" sibTransId="{CD8EBF1C-1F85-469E-ADD7-55F63647AD88}"/>
    <dgm:cxn modelId="{CFA91E53-A2E5-436C-B64C-737BB0327B67}" type="presOf" srcId="{65940046-4F2C-40E2-8533-3138C5E0C4BC}" destId="{2158304F-7562-49E8-A6F5-AAF146AC717C}" srcOrd="0" destOrd="0" presId="urn:microsoft.com/office/officeart/2005/8/layout/default"/>
    <dgm:cxn modelId="{E014E187-5251-4FDB-BB8C-56389E6C61BE}" type="presOf" srcId="{605D3727-EDD2-424D-A980-8FB391336B8B}" destId="{F8AE02E2-B6B4-4ECF-9762-68FA1BC9B66E}" srcOrd="0" destOrd="0" presId="urn:microsoft.com/office/officeart/2005/8/layout/default"/>
    <dgm:cxn modelId="{8E182E34-0C6E-4487-9C0F-A0BF33DBD634}" srcId="{F5D19C19-58DD-4AF6-AA03-1592B1F0B35F}" destId="{8C065D94-98D9-4103-AE2D-70FA9A9918EF}" srcOrd="4" destOrd="0" parTransId="{84489E73-E577-4E39-A01F-A07B1F1D884B}" sibTransId="{2FF4109F-D245-4D52-BA39-B1A42AB3D98B}"/>
    <dgm:cxn modelId="{A9154E5C-CF21-4F0B-B384-C61BA7770223}" type="presParOf" srcId="{265969DA-92F5-45C7-A4F3-5111FD492E39}" destId="{EDEAC5C6-D413-4974-89A0-8D2565ED67B0}" srcOrd="0" destOrd="0" presId="urn:microsoft.com/office/officeart/2005/8/layout/default"/>
    <dgm:cxn modelId="{A6E6470B-6BC5-4058-A91E-B3949729521B}" type="presParOf" srcId="{265969DA-92F5-45C7-A4F3-5111FD492E39}" destId="{FE440155-F4B5-4628-BD04-92A8A53AAFA9}" srcOrd="1" destOrd="0" presId="urn:microsoft.com/office/officeart/2005/8/layout/default"/>
    <dgm:cxn modelId="{AF9C80C2-5E84-4E75-9E5A-617385220429}" type="presParOf" srcId="{265969DA-92F5-45C7-A4F3-5111FD492E39}" destId="{2158304F-7562-49E8-A6F5-AAF146AC717C}" srcOrd="2" destOrd="0" presId="urn:microsoft.com/office/officeart/2005/8/layout/default"/>
    <dgm:cxn modelId="{B5081E70-E7F1-4F38-8AD1-C12FC0430413}" type="presParOf" srcId="{265969DA-92F5-45C7-A4F3-5111FD492E39}" destId="{43753014-1C40-4A15-A1B4-E4B40C41131F}" srcOrd="3" destOrd="0" presId="urn:microsoft.com/office/officeart/2005/8/layout/default"/>
    <dgm:cxn modelId="{8C15806B-B68E-4C08-8D62-7B3AF4951A96}" type="presParOf" srcId="{265969DA-92F5-45C7-A4F3-5111FD492E39}" destId="{EF03187B-5800-4824-8F17-CE3AAAB38D44}" srcOrd="4" destOrd="0" presId="urn:microsoft.com/office/officeart/2005/8/layout/default"/>
    <dgm:cxn modelId="{1DADD748-B8BD-41A4-BE8A-3A55CBF3137E}" type="presParOf" srcId="{265969DA-92F5-45C7-A4F3-5111FD492E39}" destId="{EFB6A155-604C-4B59-9C50-CD1AFB37E9DF}" srcOrd="5" destOrd="0" presId="urn:microsoft.com/office/officeart/2005/8/layout/default"/>
    <dgm:cxn modelId="{F2445269-3490-4310-AFF3-7CA8899804A1}" type="presParOf" srcId="{265969DA-92F5-45C7-A4F3-5111FD492E39}" destId="{F8AE02E2-B6B4-4ECF-9762-68FA1BC9B66E}" srcOrd="6" destOrd="0" presId="urn:microsoft.com/office/officeart/2005/8/layout/default"/>
    <dgm:cxn modelId="{1F731E32-E75C-46AF-AD23-87BD68D92608}" type="presParOf" srcId="{265969DA-92F5-45C7-A4F3-5111FD492E39}" destId="{2D585293-D6AF-466E-865D-7389A6E36F8D}" srcOrd="7" destOrd="0" presId="urn:microsoft.com/office/officeart/2005/8/layout/default"/>
    <dgm:cxn modelId="{C5D026B0-38A3-43BD-B907-F639E9BB2E12}" type="presParOf" srcId="{265969DA-92F5-45C7-A4F3-5111FD492E39}" destId="{139F635E-7BBF-4445-9FA4-AC9DC2BC517F}" srcOrd="8" destOrd="0" presId="urn:microsoft.com/office/officeart/2005/8/layout/default"/>
    <dgm:cxn modelId="{D92802B1-7190-46C2-9DD4-2B85F8B70079}" type="presParOf" srcId="{265969DA-92F5-45C7-A4F3-5111FD492E39}" destId="{9D774BD8-4AD6-4ED4-AFCA-15C7F589540A}" srcOrd="9" destOrd="0" presId="urn:microsoft.com/office/officeart/2005/8/layout/default"/>
    <dgm:cxn modelId="{8D443AFB-524C-4451-BF17-30E33211E824}" type="presParOf" srcId="{265969DA-92F5-45C7-A4F3-5111FD492E39}" destId="{94684B1E-1A36-4137-A259-9CEC780CEB33}" srcOrd="10" destOrd="0" presId="urn:microsoft.com/office/officeart/2005/8/layout/default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EDEAC5C6-D413-4974-89A0-8D2565ED67B0}">
      <dsp:nvSpPr>
        <dsp:cNvPr id="0" name=""/>
        <dsp:cNvSpPr/>
      </dsp:nvSpPr>
      <dsp:spPr>
        <a:xfrm>
          <a:off x="37261" y="0"/>
          <a:ext cx="3041576" cy="1824945"/>
        </a:xfrm>
        <a:prstGeom prst="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kern="1200" dirty="0"/>
            <a:t>121 Communities- All 67 counties plus Entitlement Cities</a:t>
          </a:r>
        </a:p>
      </dsp:txBody>
      <dsp:txXfrm>
        <a:off x="37261" y="0"/>
        <a:ext cx="3041576" cy="1824945"/>
      </dsp:txXfrm>
    </dsp:sp>
    <dsp:sp modelId="{2158304F-7562-49E8-A6F5-AAF146AC717C}">
      <dsp:nvSpPr>
        <dsp:cNvPr id="0" name=""/>
        <dsp:cNvSpPr/>
      </dsp:nvSpPr>
      <dsp:spPr>
        <a:xfrm>
          <a:off x="3705007" y="2691"/>
          <a:ext cx="3041576" cy="1824945"/>
        </a:xfrm>
        <a:prstGeom prst="rect">
          <a:avLst/>
        </a:prstGeom>
        <a:solidFill>
          <a:schemeClr val="accent5">
            <a:hueOff val="-1470669"/>
            <a:satOff val="-2046"/>
            <a:lumOff val="-784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kern="1200"/>
            <a:t>CATALYST PROGRAM- TECHNICAL ASSISTANCE</a:t>
          </a:r>
        </a:p>
      </dsp:txBody>
      <dsp:txXfrm>
        <a:off x="3705007" y="2691"/>
        <a:ext cx="3041576" cy="1824945"/>
      </dsp:txXfrm>
    </dsp:sp>
    <dsp:sp modelId="{EF03187B-5800-4824-8F17-CE3AAAB38D44}">
      <dsp:nvSpPr>
        <dsp:cNvPr id="0" name=""/>
        <dsp:cNvSpPr/>
      </dsp:nvSpPr>
      <dsp:spPr>
        <a:xfrm>
          <a:off x="7050741" y="2691"/>
          <a:ext cx="3041576" cy="1824945"/>
        </a:xfrm>
        <a:prstGeom prst="rect">
          <a:avLst/>
        </a:prstGeom>
        <a:solidFill>
          <a:schemeClr val="accent5">
            <a:hueOff val="-2941338"/>
            <a:satOff val="-4091"/>
            <a:lumOff val="-1569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kern="1200"/>
            <a:t>STATE HOUSING INITIATIVES PARTNERSHIP</a:t>
          </a:r>
        </a:p>
      </dsp:txBody>
      <dsp:txXfrm>
        <a:off x="7050741" y="2691"/>
        <a:ext cx="3041576" cy="1824945"/>
      </dsp:txXfrm>
    </dsp:sp>
    <dsp:sp modelId="{F8AE02E2-B6B4-4ECF-9762-68FA1BC9B66E}">
      <dsp:nvSpPr>
        <dsp:cNvPr id="0" name=""/>
        <dsp:cNvSpPr/>
      </dsp:nvSpPr>
      <dsp:spPr>
        <a:xfrm>
          <a:off x="359273" y="2131794"/>
          <a:ext cx="3041576" cy="1824945"/>
        </a:xfrm>
        <a:prstGeom prst="rect">
          <a:avLst/>
        </a:prstGeom>
        <a:solidFill>
          <a:schemeClr val="accent5">
            <a:hueOff val="-4412007"/>
            <a:satOff val="-6137"/>
            <a:lumOff val="-2353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kern="1200"/>
            <a:t>STATE APARTMENT INCENTIVE LOAN PROGRAM</a:t>
          </a:r>
        </a:p>
      </dsp:txBody>
      <dsp:txXfrm>
        <a:off x="359273" y="2131794"/>
        <a:ext cx="3041576" cy="1824945"/>
      </dsp:txXfrm>
    </dsp:sp>
    <dsp:sp modelId="{139F635E-7BBF-4445-9FA4-AC9DC2BC517F}">
      <dsp:nvSpPr>
        <dsp:cNvPr id="0" name=""/>
        <dsp:cNvSpPr/>
      </dsp:nvSpPr>
      <dsp:spPr>
        <a:xfrm>
          <a:off x="3705007" y="2131794"/>
          <a:ext cx="3041576" cy="1824945"/>
        </a:xfrm>
        <a:prstGeom prst="rect">
          <a:avLst/>
        </a:prstGeom>
        <a:solidFill>
          <a:schemeClr val="accent5">
            <a:hueOff val="-5882676"/>
            <a:satOff val="-8182"/>
            <a:lumOff val="-3138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kern="1200"/>
            <a:t>HURRICANE HOUSING RECOVERY PROGRAM</a:t>
          </a:r>
        </a:p>
      </dsp:txBody>
      <dsp:txXfrm>
        <a:off x="3705007" y="2131794"/>
        <a:ext cx="3041576" cy="1824945"/>
      </dsp:txXfrm>
    </dsp:sp>
    <dsp:sp modelId="{94684B1E-1A36-4137-A259-9CEC780CEB33}">
      <dsp:nvSpPr>
        <dsp:cNvPr id="0" name=""/>
        <dsp:cNvSpPr/>
      </dsp:nvSpPr>
      <dsp:spPr>
        <a:xfrm>
          <a:off x="7050741" y="2131794"/>
          <a:ext cx="3041576" cy="1824945"/>
        </a:xfrm>
        <a:prstGeom prst="rect">
          <a:avLst/>
        </a:prstGeom>
        <a:solidFill>
          <a:schemeClr val="accent5">
            <a:hueOff val="-7353344"/>
            <a:satOff val="-10228"/>
            <a:lumOff val="-3922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800" kern="1200"/>
            <a:t>HURRICANE RENTAL LOAN PROGRAM</a:t>
          </a:r>
        </a:p>
      </dsp:txBody>
      <dsp:txXfrm>
        <a:off x="7050741" y="2131794"/>
        <a:ext cx="3041576" cy="1824945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default">
  <dgm:title val=""/>
  <dgm:desc val=""/>
  <dgm:catLst>
    <dgm:cat type="list" pri="4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diagram">
    <dgm:varLst>
      <dgm:dir/>
      <dgm:resizeHandles val="exact"/>
    </dgm:varLst>
    <dgm:choose name="Name0">
      <dgm:if name="Name1" func="var" arg="dir" op="equ" val="norm">
        <dgm:alg type="snake">
          <dgm:param type="grDir" val="tL"/>
          <dgm:param type="flowDir" val="row"/>
          <dgm:param type="contDir" val="sameDir"/>
          <dgm:param type="off" val="ctr"/>
        </dgm:alg>
      </dgm:if>
      <dgm:else name="Name2">
        <dgm:alg type="snake">
          <dgm:param type="grDir" val="tR"/>
          <dgm:param type="flowDir" val="row"/>
          <dgm:param type="contDir" val="sameDir"/>
          <dgm:param type="off" val="ct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node" refType="w"/>
      <dgm:constr type="h" for="ch" forName="node" refType="w" refFor="ch" refForName="node" fact="0.6"/>
      <dgm:constr type="w" for="ch" forName="sibTrans" refType="w" refFor="ch" refForName="node" fact="0.1"/>
      <dgm:constr type="sp" refType="w" refFor="ch" refForName="sibTrans"/>
      <dgm:constr type="primFontSz" for="ch" forName="node" op="equ" val="65"/>
    </dgm:constrLst>
    <dgm:ruleLst/>
    <dgm:forEach name="Name3" axis="ch" ptType="node">
      <dgm:layoutNode name="node">
        <dgm:varLst>
          <dgm:bulletEnabled val="1"/>
        </dgm:varLst>
        <dgm:alg type="tx"/>
        <dgm:shape xmlns:r="http://schemas.openxmlformats.org/officeDocument/2006/relationships" type="rect" r:blip="">
          <dgm:adjLst/>
        </dgm:shape>
        <dgm:presOf axis="desOrSelf" ptType="node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forEach name="Name4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9DF1A6-39BB-47A7-A5A6-B9696EF8C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A4FD4E-B786-4F75-82FD-1115B6D20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pa Bay (Bright), Sarasota, CLT of Palm Beach, Delray Beach, Heartfelt (Habitat), Neighborhood Renaissance, South Florida CLT, Habitat for Humanity Florida Key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development: Gainesville/Alachua County, Osceola County, Charlotte Cou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0306CF-92BA-44E8-901D-CBDDDDBA937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61E6191-6C88-4840-8F1B-0FEAB7C2FB3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CB59BA-D582-496A-8CE6-25C2D14DA66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096F0F-9AD3-47E6-8C54-EEC44ECF3B0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6481F-52F3-411B-8B49-937F15A79F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FC98C-C88B-413C-AD4A-22A9A39D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9896E-6CDD-4C93-BCD5-3A87B738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FD22B-AEB7-4518-AAA0-9FF9B7B76D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39B27-25E0-4E57-BD83-A6C65F7704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469FE-0442-4F28-A198-A67991F5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5AB8A-A431-400A-A53B-A7DE5FDD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8AC72-80D7-4338-B176-23089286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05D6A-1F85-451E-AA55-F13EAB6F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67745-876A-4DC9-935F-7AE70F1C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C043C-BA29-4BE0-AB66-D9D0FD73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843AB-A09A-4B10-A3B0-E25E0291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46ED0-BEFD-4038-A958-1D831E20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5B404-E47D-44F6-89F6-F0161F0F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C1A5F-6B78-45B0-B065-0271FB36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9447B-CC77-448F-B3AB-DCE4A673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3C616-F9B5-44EF-892A-BD43A54F2E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B366-E9FD-4712-B8DB-18C8297EA1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20C5-4D6C-4077-A2CC-8D2C72CE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D941-22B7-4FC3-ADE8-5322D17E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1C55-1834-48EE-B8DA-969B9B60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F8E5-6B30-432A-A9B6-39695FD4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9C9DC-0E1F-4CC1-8865-118B378A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08B9-3FE6-4075-88EE-C6F35E28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6151-BBE7-4806-81EC-1378725F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E019-7F8B-4696-9598-5AF860BA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1709-B1F8-4612-B1ED-69DC045C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5FF8-1719-4B16-A79D-BC066584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7665-28E2-40A9-889A-AED9718B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3F68-9E8E-498B-8A8E-1DBD287380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5BBA3-4180-460F-95FC-72C2A2FF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15ED5-2487-49EF-9BA6-5E5244B3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3892C-DFE1-4C1B-9BAC-65DF9B8B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FC3F-6DDA-4183-962C-C8EED7E7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8C55C-17D4-41C7-81BC-CCD1F545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75C04-4BDC-4756-A4D4-93073531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5CB9-9141-4326-A077-15D948E6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5D230-7CA7-4C0B-BAB4-3354B66E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800B5-AA32-47A5-AA59-DD8D81CB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928B6-93C4-4C72-89FC-DB2C728C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A90F0-755E-47F8-8A25-485D3C9B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539AC-E793-4DB5-9B3E-17CB5F8A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AF26F-AA74-405D-92D8-AB3663F4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E1713-FB98-4742-93D2-0E880B31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151F0-7A52-4CF6-905F-7903A356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D4891-9636-4D22-A0F6-A16EF489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1CC40-14F8-4913-8877-831763BF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957E1-A433-4D7F-9395-B86EC83C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176400" y="5515920"/>
            <a:ext cx="11838600" cy="1591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3"/>
          <a:stretch/>
        </p:blipFill>
        <p:spPr>
          <a:xfrm>
            <a:off x="176400" y="5515920"/>
            <a:ext cx="2757960" cy="109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1076480" y="32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-1752480" y="59468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92EDAF-7EBC-4559-B7BC-5B687B79FD20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"/>
          <p:cNvPicPr/>
          <p:nvPr/>
        </p:nvPicPr>
        <p:blipFill>
          <a:blip r:embed="rId2"/>
          <a:stretch/>
        </p:blipFill>
        <p:spPr>
          <a:xfrm>
            <a:off x="176400" y="5515920"/>
            <a:ext cx="11838600" cy="1591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176400" y="5515920"/>
            <a:ext cx="2757960" cy="1090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12899d"/>
                </a:solidFill>
                <a:latin typeface="Tahoma"/>
                <a:ea typeface="Tahoma"/>
              </a:rPr>
              <a:t>Click to edit Master title sty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11076480" y="32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1752480" y="59468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A3E621-B9FD-404C-BA23-D07C56B572A8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"/>
          <p:cNvPicPr/>
          <p:nvPr/>
        </p:nvPicPr>
        <p:blipFill>
          <a:blip r:embed="rId2"/>
          <a:stretch/>
        </p:blipFill>
        <p:spPr>
          <a:xfrm>
            <a:off x="176400" y="5515920"/>
            <a:ext cx="11838600" cy="159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176400" y="5515920"/>
            <a:ext cx="2757960" cy="1090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12899d"/>
                </a:solidFill>
                <a:latin typeface="Tahoma"/>
                <a:ea typeface="Tahoma"/>
              </a:rPr>
              <a:t>Click to edit Master title sty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6172200" y="1825560"/>
            <a:ext cx="51811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5"/>
          </p:nvPr>
        </p:nvSpPr>
        <p:spPr>
          <a:xfrm>
            <a:off x="11076480" y="32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-1752480" y="59468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BA853B-761C-42DD-9ED2-1A8992861856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1b2959"/>
                </a:solidFill>
                <a:latin typeface="Franklin Gothic Medium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A7E25B-4062-44E0-B05D-6F7DA3E32818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wells@flhousing.or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object 6"/>
          <p:cNvSpPr/>
          <p:nvPr/>
        </p:nvSpPr>
        <p:spPr>
          <a:xfrm>
            <a:off x="249480" y="0"/>
            <a:ext cx="11917440" cy="5508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bject 18"/>
          <p:cNvSpPr/>
          <p:nvPr/>
        </p:nvSpPr>
        <p:spPr>
          <a:xfrm>
            <a:off x="1247400" y="139680"/>
            <a:ext cx="9754560" cy="3389760"/>
          </a:xfrm>
          <a:custGeom>
            <a:avLst/>
            <a:gdLst>
              <a:gd name="textAreaLeft" fmla="*/ 0 w 9754560"/>
              <a:gd name="textAreaRight" fmla="*/ 9754920 w 9754560"/>
              <a:gd name="textAreaTop" fmla="*/ 0 h 3389760"/>
              <a:gd name="textAreaBottom" fmla="*/ 3390120 h 3389760"/>
            </a:gdLst>
            <a:ahLst/>
            <a:rect l="textAreaLeft" t="textAreaTop" r="textAreaRight" b="textAreaBottom"/>
            <a:pathLst>
              <a:path w="8823960" h="2665729">
                <a:moveTo>
                  <a:pt x="0" y="0"/>
                </a:moveTo>
                <a:lnTo>
                  <a:pt x="8823960" y="0"/>
                </a:lnTo>
                <a:lnTo>
                  <a:pt x="8823960" y="2665476"/>
                </a:lnTo>
                <a:lnTo>
                  <a:pt x="0" y="266547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object 9"/>
          <p:cNvSpPr/>
          <p:nvPr/>
        </p:nvSpPr>
        <p:spPr>
          <a:xfrm>
            <a:off x="110520" y="3785040"/>
            <a:ext cx="12195720" cy="1826280"/>
          </a:xfrm>
          <a:custGeom>
            <a:avLst/>
            <a:gdLst>
              <a:gd name="textAreaLeft" fmla="*/ 0 w 12195720"/>
              <a:gd name="textAreaRight" fmla="*/ 12196080 w 12195720"/>
              <a:gd name="textAreaTop" fmla="*/ 0 h 1826280"/>
              <a:gd name="textAreaBottom" fmla="*/ 1826640 h 1826280"/>
            </a:gdLst>
            <a:ahLst/>
            <a:rect l="textAreaLeft" t="textAreaTop" r="textAreaRight" b="textAreaBottom"/>
            <a:pathLst>
              <a:path w="12183110" h="1965325">
                <a:moveTo>
                  <a:pt x="0" y="1964956"/>
                </a:moveTo>
                <a:lnTo>
                  <a:pt x="12182602" y="1964956"/>
                </a:lnTo>
                <a:lnTo>
                  <a:pt x="12182602" y="0"/>
                </a:lnTo>
                <a:lnTo>
                  <a:pt x="0" y="0"/>
                </a:lnTo>
                <a:lnTo>
                  <a:pt x="0" y="1964956"/>
                </a:lnTo>
                <a:close/>
              </a:path>
            </a:pathLst>
          </a:custGeom>
          <a:solidFill>
            <a:srgbClr val="0203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object 17"/>
          <p:cNvSpPr/>
          <p:nvPr/>
        </p:nvSpPr>
        <p:spPr>
          <a:xfrm>
            <a:off x="7053840" y="4585680"/>
            <a:ext cx="4642920" cy="9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just">
              <a:lnSpc>
                <a:spcPts val="2350"/>
              </a:lnSpc>
            </a:pPr>
            <a:r>
              <a:rPr b="1" lang="en-US" sz="2000" spc="43" strike="noStrike">
                <a:solidFill>
                  <a:srgbClr val="9ed3c4"/>
                </a:solidFill>
                <a:latin typeface="Century Gothic"/>
              </a:rPr>
              <a:t>FLORIDA HOUSING COAL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algn="just">
              <a:lnSpc>
                <a:spcPts val="2299"/>
              </a:lnSpc>
              <a:spcBef>
                <a:spcPts val="111"/>
              </a:spcBef>
            </a:pPr>
            <a:r>
              <a:rPr b="0" lang="en-US" sz="2000" spc="32" strike="noStrike">
                <a:solidFill>
                  <a:srgbClr val="ffffff"/>
                </a:solidFill>
                <a:latin typeface="Calibri"/>
              </a:rPr>
              <a:t>Presented by Gladys C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algn="just">
              <a:lnSpc>
                <a:spcPts val="2299"/>
              </a:lnSpc>
              <a:spcBef>
                <a:spcPts val="111"/>
              </a:spcBef>
            </a:pPr>
            <a:r>
              <a:rPr b="0" lang="en-US" sz="2000" spc="32" strike="noStrike">
                <a:solidFill>
                  <a:srgbClr val="ffffff"/>
                </a:solidFill>
                <a:latin typeface="Calibri"/>
              </a:rPr>
              <a:t>Disaster Housing Recovery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bject 16"/>
          <p:cNvSpPr/>
          <p:nvPr/>
        </p:nvSpPr>
        <p:spPr>
          <a:xfrm>
            <a:off x="710640" y="4585680"/>
            <a:ext cx="474876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2350"/>
              </a:lnSpc>
            </a:pPr>
            <a:r>
              <a:rPr b="1" lang="en-US" sz="2000" spc="-137" strike="noStrike">
                <a:solidFill>
                  <a:srgbClr val="9ed3c4"/>
                </a:solidFill>
                <a:latin typeface="Century Gothic"/>
              </a:rPr>
              <a:t>NCDA 50</a:t>
            </a:r>
            <a:r>
              <a:rPr b="1" lang="en-US" sz="2000" spc="-137" strike="noStrike" baseline="30000">
                <a:solidFill>
                  <a:srgbClr val="9ed3c4"/>
                </a:solidFill>
                <a:latin typeface="Century Gothic"/>
              </a:rPr>
              <a:t>TH</a:t>
            </a:r>
            <a:r>
              <a:rPr b="1" lang="en-US" sz="2000" spc="-137" strike="noStrike">
                <a:solidFill>
                  <a:srgbClr val="9ed3c4"/>
                </a:solidFill>
                <a:latin typeface="Century Gothic"/>
              </a:rPr>
              <a:t> ANNIVERSARY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350"/>
              </a:lnSpc>
            </a:pPr>
            <a:r>
              <a:rPr b="1" lang="en-US" sz="2000" spc="-137" strike="noStrike">
                <a:solidFill>
                  <a:srgbClr val="9ed3c4"/>
                </a:solidFill>
                <a:latin typeface="Century Gothic"/>
              </a:rPr>
              <a:t>JACKSONVILLE FLO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350"/>
              </a:lnSpc>
            </a:pPr>
            <a:r>
              <a:rPr b="1" lang="en-US" sz="2000" spc="-137" strike="noStrike">
                <a:solidFill>
                  <a:srgbClr val="9ed3c4"/>
                </a:solidFill>
                <a:latin typeface="Century Gothic"/>
              </a:rPr>
              <a:t>JUNE 21,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ts val="235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lnSpc>
                <a:spcPts val="2299"/>
              </a:lnSpc>
            </a:pPr>
            <a:r>
              <a:rPr b="0" lang="en-US" sz="2000" spc="58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ject 21"/>
          <p:cNvSpPr/>
          <p:nvPr/>
        </p:nvSpPr>
        <p:spPr>
          <a:xfrm>
            <a:off x="6081840" y="4750200"/>
            <a:ext cx="360" cy="1209960"/>
          </a:xfrm>
          <a:custGeom>
            <a:avLst/>
            <a:gdLst>
              <a:gd name="textAreaLeft" fmla="*/ 0 w 360"/>
              <a:gd name="textAreaRight" fmla="*/ 720 w 360"/>
              <a:gd name="textAreaTop" fmla="*/ 0 h 1209960"/>
              <a:gd name="textAreaBottom" fmla="*/ 1210320 h 1209960"/>
            </a:gdLst>
            <a:ahLst/>
            <a:rect l="textAreaLeft" t="textAreaTop" r="textAreaRight" b="textAreaBottom"/>
            <a:pathLst>
              <a:path w="0" h="1210310">
                <a:moveTo>
                  <a:pt x="0" y="0"/>
                </a:moveTo>
                <a:lnTo>
                  <a:pt x="0" y="1210056"/>
                </a:lnTo>
              </a:path>
            </a:pathLst>
          </a:custGeom>
          <a:noFill/>
          <a:ln w="25400">
            <a:solidFill>
              <a:srgbClr val="9ed3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4"/>
          <p:cNvSpPr/>
          <p:nvPr/>
        </p:nvSpPr>
        <p:spPr>
          <a:xfrm>
            <a:off x="1582920" y="518040"/>
            <a:ext cx="90748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FFORDABLE HOUSING DEVELOPMENT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5"/>
          <p:cNvSpPr/>
          <p:nvPr/>
        </p:nvSpPr>
        <p:spPr>
          <a:xfrm>
            <a:off x="1489680" y="2154240"/>
            <a:ext cx="8750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BEST PRACTIC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12899d"/>
                </a:solidFill>
                <a:latin typeface="Tahoma"/>
                <a:ea typeface="Tahoma"/>
              </a:rPr>
              <a:t>PREDEVELOPMENT LOA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 ACQUI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UE DILIG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EMENT AND 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0320" y="16380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12899d"/>
                </a:solidFill>
                <a:latin typeface="Tahoma"/>
                <a:ea typeface="Tahoma"/>
              </a:rPr>
              <a:t>JOINT VENTURES</a:t>
            </a:r>
            <a:r>
              <a:rPr b="0" lang="en-US" sz="5400" spc="-1" strike="noStrike">
                <a:solidFill>
                  <a:srgbClr val="12899d"/>
                </a:solidFill>
                <a:latin typeface="Tahoma"/>
                <a:ea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880" y="1253160"/>
            <a:ext cx="1129140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-develop with an experienced nonprof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-develop with an experienced for prof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es organization bring to the tabl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Development Agre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oles and Responsibilitie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veloper Fe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nagement of Support Service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8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0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05" name="Content Placeholder 3" descr="A picture containing nature, sky, water, ice&#10;&#10;Description automatically generated"/>
          <p:cNvPicPr/>
          <p:nvPr/>
        </p:nvPicPr>
        <p:blipFill>
          <a:blip r:embed="rId1">
            <a:alphaModFix amt="50000"/>
          </a:blip>
          <a:srcRect l="0" t="6097" r="0" b="899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9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ffffff"/>
                </a:solidFill>
                <a:latin typeface="Calibri Light"/>
              </a:rPr>
              <a:t>DISASTER HOUSING RECOVER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" descr="C:\Users\gillese\AppData\Local\Microsoft\Windows\INetCache\Content.Word\Rebuild_FL_primary_logo_fullcolor (002).jpg"/>
          <p:cNvPicPr/>
          <p:nvPr/>
        </p:nvPicPr>
        <p:blipFill>
          <a:blip r:embed="rId1"/>
          <a:stretch/>
        </p:blipFill>
        <p:spPr>
          <a:xfrm>
            <a:off x="2658960" y="3016080"/>
            <a:ext cx="2733480" cy="23893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19400" y="371880"/>
            <a:ext cx="915696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12899d"/>
                </a:solidFill>
                <a:latin typeface="Tahoma"/>
                <a:ea typeface="Tahoma"/>
              </a:rPr>
              <a:t>Florida Dept. of Economic Opportunity CDBG-DR  $1.4B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17200" y="1844640"/>
            <a:ext cx="3851640" cy="39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rricane Irm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BG-DR 2017 Action Plan Housing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346080" y="1844640"/>
            <a:ext cx="3851640" cy="39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Housing Repair and Replacement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Affordable Workforce Housing Construction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Land Acquisition for Affordable Workforce Hou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Voluntary Home Buyout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3600" y="21492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12899d"/>
                </a:solidFill>
                <a:latin typeface="Tahoma"/>
                <a:ea typeface="Tahoma"/>
              </a:rPr>
              <a:t>Hurricane Irm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47720" y="1257480"/>
            <a:ext cx="469620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Workforce Multifamily Construction $120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Land Acquisition $20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3 Requests for Application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onroe </a:t>
            </a:r>
            <a:endParaRPr b="0" lang="en-US" sz="31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14 MIDs</a:t>
            </a:r>
            <a:endParaRPr b="0" lang="en-US" sz="3100" spc="-1" strike="noStrike">
              <a:solidFill>
                <a:srgbClr val="000000"/>
              </a:solidFill>
              <a:latin typeface="Calibri Light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10 Zip Codes</a:t>
            </a:r>
            <a:endParaRPr b="0" lang="en-US" sz="31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13" name="Picture 2" descr="Image result for florida housing finance corporation"/>
          <p:cNvPicPr/>
          <p:nvPr/>
        </p:nvPicPr>
        <p:blipFill>
          <a:blip r:embed="rId1"/>
          <a:stretch/>
        </p:blipFill>
        <p:spPr>
          <a:xfrm>
            <a:off x="1019880" y="2401920"/>
            <a:ext cx="4420080" cy="16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12899d"/>
                </a:solidFill>
                <a:latin typeface="Tahoma"/>
                <a:ea typeface="Tahoma"/>
              </a:rPr>
              <a:t>Hurricane Micha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334920" y="1690560"/>
            <a:ext cx="4297320" cy="43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Hurricane Housing Recovery Program $65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Hurricane Rental Loan Program $50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11 Coun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Image result for florida housing finance corporation"/>
          <p:cNvPicPr/>
          <p:nvPr/>
        </p:nvPicPr>
        <p:blipFill>
          <a:blip r:embed="rId1"/>
          <a:stretch/>
        </p:blipFill>
        <p:spPr>
          <a:xfrm>
            <a:off x="1221480" y="2463840"/>
            <a:ext cx="4420080" cy="16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8960" y="0"/>
            <a:ext cx="11137680" cy="17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800" spc="-1" strike="noStrike">
                <a:solidFill>
                  <a:srgbClr val="12899d"/>
                </a:solidFill>
                <a:latin typeface="Tahoma"/>
                <a:ea typeface="Tahoma"/>
              </a:rPr>
              <a:t>DISASTER RECOVERY SYSTEMIC CHANGES: FROM SILOS TO PIPELI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76160" y="1555920"/>
            <a:ext cx="10826640" cy="46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DBG-DR- Reduce prolonged approval and planning period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EMA to State Based Mis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dvanced Funding- State Budget Stabilization Fu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atewide Disaster Housing Recovery Organization should be form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hanced mitigation year rou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643320" y="1193400"/>
            <a:ext cx="10904760" cy="44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rcRect l="62835" t="13848" r="13155" b="14863"/>
          <a:stretch/>
        </p:blipFill>
        <p:spPr>
          <a:xfrm>
            <a:off x="2993400" y="5760"/>
            <a:ext cx="6205320" cy="60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5799960" y="225000"/>
            <a:ext cx="4527720" cy="58806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12899d"/>
                </a:solidFill>
                <a:latin typeface="Tahoma"/>
                <a:ea typeface="Tahoma"/>
              </a:rPr>
              <a:t>CERTIFICATION PROGRAM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72260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NNIE M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EDDIE M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12899d"/>
                </a:solidFill>
                <a:latin typeface="Tahoma"/>
                <a:ea typeface="Tahoma"/>
              </a:rPr>
              <a:t>BEST PRACTIC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27040" y="1825560"/>
            <a:ext cx="108266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TNERSHIPS- THE HOUSING TRUST FU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NPROFIT CAPACITY BUILDING- THE JOINT VEN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USING DISASTER RECOVE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LORIDA COMMUNITY LAND TRUST INSTITU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10240" y="249120"/>
            <a:ext cx="5792760" cy="12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800" spc="-1" strike="noStrike">
                <a:solidFill>
                  <a:srgbClr val="1b2959"/>
                </a:solidFill>
                <a:latin typeface="Garamond"/>
              </a:rPr>
              <a:t>FHC Statewide </a:t>
            </a:r>
            <a:br>
              <a:rPr sz="4800"/>
            </a:br>
            <a:r>
              <a:rPr b="1" lang="en-US" sz="4800" spc="-1" strike="noStrike">
                <a:solidFill>
                  <a:srgbClr val="1b2959"/>
                </a:solidFill>
                <a:latin typeface="Garamond"/>
              </a:rPr>
              <a:t>Annual Confer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152800" y="3221280"/>
            <a:ext cx="788652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700" spc="-1" strike="noStrike">
                <a:solidFill>
                  <a:srgbClr val="7030a0"/>
                </a:solidFill>
                <a:latin typeface="Garamond"/>
              </a:rPr>
              <a:t>AUGUST 26-28, 2019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700" spc="-1" strike="noStrike">
                <a:solidFill>
                  <a:srgbClr val="0297af"/>
                </a:solidFill>
                <a:latin typeface="Garamond"/>
              </a:rPr>
              <a:t>Rosen Centre Hotel, Orlando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chemeClr val="accent1"/>
                </a:solidFill>
                <a:latin typeface="Garamond"/>
              </a:rPr>
              <a:t>www.FLHousingConference.org</a:t>
            </a:r>
            <a:br>
              <a:rPr sz="1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Garamond"/>
              </a:rPr>
              <a:t>Members Receive $200 Discou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0297af"/>
                </a:solidFill>
                <a:latin typeface="Garamond"/>
              </a:rPr>
              <a:t>To become a member, contact Johnitta Wells at </a:t>
            </a:r>
            <a:r>
              <a:rPr b="1" lang="en-US" sz="2000" spc="-1" strike="noStrike" u="sng">
                <a:solidFill>
                  <a:srgbClr val="0563c1"/>
                </a:solidFill>
                <a:uFillTx/>
                <a:latin typeface="Garamond"/>
                <a:hlinkClick r:id="rId1"/>
              </a:rPr>
              <a:t>wells@flhousing.org</a:t>
            </a:r>
            <a:r>
              <a:rPr b="1" lang="en-US" sz="2000" spc="-1" strike="noStrike">
                <a:solidFill>
                  <a:srgbClr val="7030a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3415320" y="1820160"/>
            <a:ext cx="5360760" cy="1282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"/>
          <p:cNvPicPr/>
          <p:nvPr/>
        </p:nvPicPr>
        <p:blipFill>
          <a:blip r:embed="rId3"/>
          <a:stretch/>
        </p:blipFill>
        <p:spPr>
          <a:xfrm>
            <a:off x="1621080" y="249120"/>
            <a:ext cx="3262320" cy="18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743120" y="125280"/>
            <a:ext cx="8744400" cy="58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mage result for sadowski coalition"/>
          <p:cNvPicPr/>
          <p:nvPr/>
        </p:nvPicPr>
        <p:blipFill>
          <a:blip r:embed="rId1"/>
          <a:stretch/>
        </p:blipFill>
        <p:spPr>
          <a:xfrm>
            <a:off x="268920" y="1667160"/>
            <a:ext cx="3391920" cy="2133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3661200" y="74160"/>
            <a:ext cx="8891640" cy="663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68520" y="210960"/>
            <a:ext cx="512676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200" spc="-1" strike="noStrike">
                <a:solidFill>
                  <a:srgbClr val="12899d"/>
                </a:solidFill>
                <a:latin typeface="Tahoma"/>
                <a:ea typeface="Tahoma"/>
              </a:rPr>
              <a:t>State Affordable Housing Trust Fund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63720" y="1887480"/>
            <a:ext cx="5126760" cy="378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acted 199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2 mil Documentary Stamp Surchar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location based on pop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inimum $350K per Coun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19 $328 Mill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rcRect l="4935" t="0" r="2775" b="0"/>
          <a:stretch/>
        </p:blipFill>
        <p:spPr>
          <a:xfrm>
            <a:off x="6596640" y="743760"/>
            <a:ext cx="4631400" cy="47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0800" y="327600"/>
            <a:ext cx="104511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5000" spc="-1" strike="noStrike">
                <a:solidFill>
                  <a:srgbClr val="12899d"/>
                </a:solidFill>
                <a:latin typeface="Tahoma"/>
                <a:ea typeface="Tahoma"/>
              </a:rPr>
              <a:t>STATE AND LOCAL TRUST FUNDS</a:t>
            </a:r>
            <a:r>
              <a:rPr b="0" lang="en-US" sz="5000" spc="-1" strike="noStrike">
                <a:solidFill>
                  <a:srgbClr val="12899d"/>
                </a:solidFill>
                <a:latin typeface="Tahoma"/>
                <a:ea typeface="Tahoma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1000800" y="2043720"/>
            <a:ext cx="10189800" cy="80280"/>
          </a:xfrm>
          <a:prstGeom prst="rect">
            <a:avLst/>
          </a:prstGeom>
          <a:solidFill>
            <a:schemeClr val="tx1">
              <a:lumMod val="50000"/>
              <a:lumOff val="50000"/>
              <a:alpha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88653847"/>
              </p:ext>
            </p:extLst>
          </p:nvPr>
        </p:nvGraphicFramePr>
        <p:xfrm>
          <a:off x="739440" y="2043720"/>
          <a:ext cx="10451160" cy="3958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3921120" y="-421920"/>
            <a:ext cx="7728120" cy="664668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"/>
          <p:cNvSpPr/>
          <p:nvPr/>
        </p:nvSpPr>
        <p:spPr>
          <a:xfrm>
            <a:off x="542520" y="681840"/>
            <a:ext cx="28821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ACT OF SADOWSKI TRUST FUNDS FOR ONE YEAR IF NOT SW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12899d"/>
                </a:solidFill>
                <a:latin typeface="Tahoma"/>
                <a:ea typeface="Tahoma"/>
              </a:rPr>
              <a:t>NONPROFIT CAPACITY BUILD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690560"/>
            <a:ext cx="10515240" cy="44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ical Assistance and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rida Legal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development Fu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-Developer- Joint Ven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12899d"/>
                </a:solidFill>
                <a:latin typeface="Tahoma"/>
                <a:ea typeface="Tahoma"/>
              </a:rPr>
              <a:t>Technical Assistance and Train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9720" y="1690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development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ment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ncial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ard of Directors Cap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12899d"/>
                </a:solidFill>
                <a:latin typeface="Tahoma"/>
                <a:ea typeface="Tahoma"/>
              </a:rPr>
              <a:t>FLORIDA LEGAL SERVIC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GREEMENTS AND CONTRA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TE ACQUIS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RGER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NDLORD TENANT GUID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Custom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Custom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Custom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2_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  <Words>380</Words>
  <Paragraphs>99</Paragraphs>
  <Company>Hewlett-Packard Compan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30T19:37:55Z</dcterms:created>
  <dc:creator>Katherine Gray</dc:creator>
  <dc:description/>
  <dc:language>en-US</dc:language>
  <cp:lastModifiedBy>Encore</cp:lastModifiedBy>
  <dcterms:modified xsi:type="dcterms:W3CDTF">2019-06-21T14:28:28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Widescreen</vt:lpwstr>
  </property>
  <property fmtid="{D5CDD505-2E9C-101B-9397-08002B2CF9AE}" pid="4" name="Slides">
    <vt:r8>21</vt:r8>
  </property>
</Properties>
</file>